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F31D4-E41F-4959-AD15-2F9E65B10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C291A-7479-459F-82FF-B23350AE4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67F5F-2129-49D0-92A5-C79D4C823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E7858-CF26-4805-9F60-6725E7710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87F07-E1EE-4325-B8B2-E27B8C86E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EC4F2-A1F9-4E26-8983-FDD028BDB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99D8E-E2C5-4BFE-A045-692CF4EE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387BA-B1A8-4BDC-9AE5-97F341777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23123-9033-45E0-B2F2-9C4B88A2F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2633C-ABF0-4786-8923-B0B761DEF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88E69-5657-496A-A3C9-A1A5E0F4E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CDD19-86E6-4E42-8858-B499A113F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DA9F5-577B-49B2-95D5-74AB28107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DFD69-BC5C-4BB3-9D1B-0AB315150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8797B-112A-437E-AB69-4E36E3338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3FA5A-AF2E-4CFC-8D92-60E8ADCC1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0309E-957C-44A4-8E8E-960A6DF95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68BD7-4809-4B68-8F6D-2C710377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29402-B02F-4BE2-BF2B-44B1BEBBD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BC0-3839-4AB2-BDF5-7F90295B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697-B3CA-4EEA-8D0B-A488E82C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4D8-3FCF-42CD-A03F-F3879859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C5C-9C5E-47F3-A94A-C569EA2D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6EBA-9548-4CB8-9A39-CC202950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950C-B793-4077-B4D5-30908F65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D2CE-023B-4924-BA34-2D1FB1EA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76B7-16C0-42F6-B9FD-1114164A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366F-FCBC-4A9C-9173-31E77CA3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A652-849E-4F38-9FEA-C744C497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F0C4-9C1A-4711-8298-38343DAB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138-D736-43DB-A75A-70C75848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9155-C82A-4933-8802-66F8FDFD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7094-02F1-41AC-BAE4-B5A17CB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B62D-1120-4435-B800-268A600F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4A2F-F3AE-4134-8F22-E5CAE454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8149-A466-4F43-8904-4E2ADA67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43EBA-6E1B-4A52-B162-D0D21596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A300E-7EF2-45EB-98E3-FFA32073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8CC2F-067F-4118-A047-201E6F55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9658C-4F6F-413F-AC2F-07A3A44B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D69D2-5FDE-4422-8F9C-90CB5636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68E-EDF7-42E6-A1F9-8F4A8091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25B7E-D86F-459E-87FB-93C4A479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DB9A2-F9F4-4762-A314-480CE5EB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F284D-1759-47D8-8D46-A66DC7A8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537F3-0856-4D23-A1E8-67D6AA07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4259B-B214-4298-BBA9-678C10B3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FC5AB-A5F1-40FC-91DC-75330E4E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E0196-5732-42EF-AC3D-7641233E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CA44-683F-4996-B298-35D949F2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E48CB-14CD-4A2A-A1C2-F55BE705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4B25-86AA-4249-82F0-B9B3C32F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075-57C0-497F-915D-05E18A06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1A057-A3B4-40C4-87BA-3BDF767A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09976-06DA-43C2-9A78-343536D0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E717-0BCF-4034-848E-8D992CFD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4677-57F5-417C-AF55-DAF228A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3EC4-6BDF-4909-B8F7-DF047BF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92D4-3E4E-47D7-8EE3-C01C0BBF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CF05-4545-444A-8CCD-C2A71391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A5FBB-09F2-4410-B05C-B6FF735C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B6E72-5852-4131-8484-12FF257E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87A2D-8DB6-4A6B-AFE4-84B3EAB9C4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975-A8F0-4A20-9C3A-1D5DE20A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0085B-0260-43C5-A010-1C7AA78D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8A3EF-EACD-45ED-8946-0127725F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D59B3-EDE4-424E-92A6-21AF846E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2B807-A096-4BF7-AAD9-A48014F9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304C0-8078-4B64-BC06-66011F99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E8D5C-31FC-46E6-87B9-A43D75D0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F3F93-5CBB-4ECB-984F-132C09BA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23A72-3CAC-4E05-8C50-CE21389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6D4C8-6D45-4E91-B356-21BE68F0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DDB6E-5172-4AFF-AFC2-C59B204D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F04-06C3-4B87-AB43-0B11E505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E7BED-93E1-400B-B190-8323A578E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0A7-A710-4C33-840F-94233689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A12-FFCC-48F4-B5B2-91DFA38D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CB4-1171-4528-A179-BEC2DF0C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B3712-51CB-42D0-B842-D3D50449BB6C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AF49C-817B-4441-B71A-61DB8952A6AD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737CB-9C84-4CC0-8FF8-BB15008DB55D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7740F-A106-460D-8DB4-C4CECB7E4675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A7924-0B84-46B0-B385-3CED30B8AC99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155CA-029C-4953-88A4-C952FEFA560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DB368-72C3-45DD-986D-5F983B47E7A0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91B9C-50F3-4630-9A8A-D3AD0183BC2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738680" y="1515960"/>
            <a:ext cx="21319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596A0-0983-45B2-A032-E99A9E1EC1DA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4"/>
          </p:nvPr>
        </p:nvSpPr>
        <p:spPr>
          <a:xfrm>
            <a:off x="4649760" y="5719680"/>
            <a:ext cx="641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797CE-7F56-477C-A056-3A2EE56747D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4c600"/>
                </a:solidFill>
                <a:latin typeface="Century Gothic"/>
              </a:rPr>
              <a:t>INTELLIGENCE, APTITUDE, CREATIVITY AND TALEN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084720" y="4100400"/>
            <a:ext cx="32752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FTED PUPI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ría Reinaldo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9172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CREATIV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015920" y="1773360"/>
            <a:ext cx="7443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The creative process has six ph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SPIRATION: In which you reasearch and generate many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CLARIFICATION: In which you focus on your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EVALUATION: In which you review your work and learn from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DISTILLATION: In which you decide which of your ideas to work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CUBATION: In which you leave the work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PERSPIRATION: In which you work determindly on your best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8064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GAUSSIAN CURVE VALUES OF IQ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64000" y="2420640"/>
            <a:ext cx="2989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684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t´s interesting to show you the Bell Gauss because indicates us that it is considered gifted people who are above 130 in IQ test scor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684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446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468360" y="1484280"/>
            <a:ext cx="86518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9300" spc="-1" strike="noStrike">
                <a:solidFill>
                  <a:srgbClr val="3e3d2d"/>
                </a:solidFill>
                <a:latin typeface="Cooper Black"/>
              </a:rPr>
              <a:t>SOME </a:t>
            </a:r>
            <a:r>
              <a:rPr b="0" lang="es-ES" sz="8500" spc="-1" strike="noStrike">
                <a:solidFill>
                  <a:srgbClr val="3e3d2d"/>
                </a:solidFill>
                <a:latin typeface="Cooper Black"/>
              </a:rPr>
              <a:t>CONCLUSIO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6760" y="170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94c600"/>
                </a:solidFill>
                <a:latin typeface="Century Gothic"/>
              </a:rPr>
              <a:t>ARE THERE DIFFERENCES IN THE IQ (INTELLIGENCE QUOTIENT) BETWEEN DIFFERENT HUMAN RACE?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468360" y="1436760"/>
            <a:ext cx="822960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Differences exist but can not be attributed to genetic ca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The reasons are schooling and socioeconomic level and cultural enric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An evidence is the Flynn Effect. This effect indicates that in societies increase IQ of younger generations as improving their education and quality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4c600"/>
                </a:solidFill>
                <a:latin typeface="Century Gothic"/>
              </a:rPr>
              <a:t>ARE THERE DIFFERENCES IN THE IQ BETWEEN MEN AND WOMEN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7" name="Text Box 2"/>
          <p:cNvSpPr/>
          <p:nvPr/>
        </p:nvSpPr>
        <p:spPr>
          <a:xfrm rot="20640000">
            <a:off x="407880" y="3644640"/>
            <a:ext cx="2735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There are no dif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3060720" y="2637000"/>
            <a:ext cx="471960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6247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3436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4"/>
          <p:cNvSpPr/>
          <p:nvPr/>
        </p:nvSpPr>
        <p:spPr>
          <a:xfrm rot="20040000">
            <a:off x="2120760" y="3436560"/>
            <a:ext cx="503280" cy="1079640"/>
          </a:xfrm>
          <a:custGeom>
            <a:avLst/>
            <a:gdLst>
              <a:gd name="textAreaLeft" fmla="*/ 0 w 503280"/>
              <a:gd name="textAreaRight" fmla="*/ 503640 w 503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03238" h="1079500">
                <a:moveTo>
                  <a:pt x="0" y="2031"/>
                </a:moveTo>
                <a:lnTo>
                  <a:pt x="7112" y="2031"/>
                </a:lnTo>
                <a:lnTo>
                  <a:pt x="7112" y="0"/>
                </a:lnTo>
                <a:lnTo>
                  <a:pt x="-5713" y="0"/>
                </a:lnTo>
                <a:lnTo>
                  <a:pt x="-5713" y="2031"/>
                </a:lnTo>
                <a:lnTo>
                  <a:pt x="1400" y="2031"/>
                </a:lnTo>
                <a:lnTo>
                  <a:pt x="700" y="3000"/>
                </a:lnTo>
                <a:lnTo>
                  <a:pt x="0" y="2031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d9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 rot="1560000">
            <a:off x="4475160" y="3173400"/>
            <a:ext cx="731880" cy="1054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"/>
          <p:cNvPicPr/>
          <p:nvPr/>
        </p:nvPicPr>
        <p:blipFill>
          <a:blip r:embed="rId2"/>
          <a:stretch/>
        </p:blipFill>
        <p:spPr>
          <a:xfrm rot="3660000">
            <a:off x="6356880" y="3402720"/>
            <a:ext cx="731880" cy="1054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3"/>
          <a:stretch/>
        </p:blipFill>
        <p:spPr>
          <a:xfrm rot="19827600">
            <a:off x="2151000" y="3340080"/>
            <a:ext cx="1127160" cy="1274760"/>
          </a:xfrm>
          <a:prstGeom prst="rect">
            <a:avLst/>
          </a:prstGeom>
          <a:ln w="0">
            <a:noFill/>
          </a:ln>
        </p:spPr>
      </p:pic>
      <p:sp>
        <p:nvSpPr>
          <p:cNvPr id="430" name="1 Elipse"/>
          <p:cNvSpPr/>
          <p:nvPr/>
        </p:nvSpPr>
        <p:spPr>
          <a:xfrm>
            <a:off x="566640" y="1486080"/>
            <a:ext cx="2952720" cy="186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Gothic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2 Elipse"/>
          <p:cNvSpPr/>
          <p:nvPr/>
        </p:nvSpPr>
        <p:spPr>
          <a:xfrm>
            <a:off x="3611520" y="1268280"/>
            <a:ext cx="2200320" cy="1797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AP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Elipse"/>
          <p:cNvSpPr/>
          <p:nvPr/>
        </p:nvSpPr>
        <p:spPr>
          <a:xfrm>
            <a:off x="5940360" y="1471680"/>
            <a:ext cx="2592360" cy="186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4 Rectángulo"/>
          <p:cNvSpPr/>
          <p:nvPr/>
        </p:nvSpPr>
        <p:spPr>
          <a:xfrm>
            <a:off x="2371680" y="5045040"/>
            <a:ext cx="5224680" cy="115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entury Gothic"/>
              </a:rPr>
              <a:t>TAL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872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WHAT IS…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654120" y="1989000"/>
            <a:ext cx="763272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According to the Royal Spanish Academy is defined 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INTELLIGENCE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APTITUDE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CREATIVITY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inno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e3d2d"/>
                </a:solidFill>
                <a:latin typeface="Times New Roman"/>
              </a:rPr>
              <a:t>TALENT </a:t>
            </a:r>
            <a:r>
              <a:rPr b="0" lang="es-ES" sz="32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3e3d2d"/>
                </a:solidFill>
                <a:latin typeface="Times New Roman"/>
              </a:rPr>
              <a:t> ABILITY TO UNDERSTAND, DO AND INNO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027080" y="1989000"/>
            <a:ext cx="677700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elligence has been studied from different ang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12121"/>
                </a:solidFill>
                <a:latin typeface="Times New Roman"/>
              </a:rPr>
              <a:t>Currently there are new proposals , of which I would like to speak on "The theory of multiple intelligences" by Gardner (1992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212121"/>
                </a:solidFill>
                <a:latin typeface="Century Gothic"/>
              </a:rPr>
              <a:t>"THE THEORY OF MULTIPLE INTELLIGENCES"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Gardner defines intelligence as the ability to solve problems or create products valued in a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For Gardner there is multiple intellig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These intelligences are, on the one hand, conventional intelligences and on the other hand, no-conventional intellig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12800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«CONVENTIONAL INTELLIGENCES»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1042920" y="2324160"/>
            <a:ext cx="6777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VERBAL-LINGUISTIC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To understand, write and memoriz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LOGICAL-MATHEMATICAL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Abstraction , calculation , and logical reasoning with numbers , shapes or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VISUAL-SPATIAL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To imagine and make judgments and spatial ori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728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4c600"/>
                </a:solidFill>
                <a:latin typeface="Century Gothic"/>
              </a:rPr>
              <a:t>«NO CONVENTIONAL INTELLIGENCES»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41480" y="1820880"/>
            <a:ext cx="6777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MUSIC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have a gift for sound and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BODILY-KINESTHETIC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Ability to handle body and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TERPERSON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understand, predict and empathize with the feelings and behaviors of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TRAPERSON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know and regulate their feelings and behavi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NATURALISTIC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have a gift for to know and interact with the natural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3:43:31Z</dcterms:created>
  <dc:creator>maria reinaldos</dc:creator>
  <dc:description/>
  <cp:keywords/>
  <dc:language>en-US</dc:language>
  <cp:lastModifiedBy>OEM</cp:lastModifiedBy>
  <dcterms:modified xsi:type="dcterms:W3CDTF">2015-03-02T09:17:36Z</dcterms:modified>
  <cp:revision>47</cp:revision>
  <dc:subject/>
  <dc:title>What is…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Presentación en pantalla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8</vt:r8>
  </property>
</Properties>
</file>