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E7F-9269-4D7C-9B26-395F86A5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F13-A2A4-4DAD-9902-3B5B2123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C5444-46C2-40A1-B302-43D99B9C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5666A-0556-4308-A773-3E8A736B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D2D62-DD92-4157-979C-7589170C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00DE6-69F5-477A-9854-310B9162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EAE331-DE3D-4EC8-A107-6C9EFC20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44DD9-26DB-4FAC-907F-C9F554C1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87B27-22FF-42A9-A37A-ABA63D3A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CC1F3-2A11-48DC-BF45-2F01CFEC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7C6FE-9A68-443B-A4EC-BDB4C942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FF166-E9FA-4348-97CA-7545891D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C82-74B7-4513-8D96-718DBDF9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EC81E-DC4C-4D9F-8248-D199014E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55CEC-7D89-4E83-BEBA-33033C96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275A5-5230-44D4-9D58-0A4E5590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65ED7-8782-455C-88B8-54E8536C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D4D74-96BC-4E58-996A-9013C2C3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807B3-543C-4B1D-A714-F238867C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8AC59-A1F5-44DE-8AA0-C48CC5AB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924DF8-BC3C-41EF-89BE-3E0A11A5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F605A-1012-4544-A7D7-182A20E5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6210CD-96CC-4646-9D8F-8AA07633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87D-2B27-4DE4-8173-EBA7F4B1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EA7DC-5644-435F-BFC6-D0157640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61858-77D4-46D2-9D49-7D2A622D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49E5F-CBDB-45D2-962C-6AFAD2A9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4AB0D-DCA1-4CD1-8A45-96FD47D6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88968-961A-48B4-ADF1-E5F69DB8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F2540-E66A-47C5-AFB1-980AB33C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D1F50-5DA1-409F-9962-1765B231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96297-3A5F-4439-B406-B6446046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0DECF-0E49-4318-A2BB-CE18D1F8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F4EEF-4DB8-4E23-A77D-1D3BEDA4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BCB8-6D24-4EC9-BF4F-6F53607B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32BEE-362D-4F82-9E11-893380AA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74BD4-C2AF-446D-9E86-A847B058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4707A-9DA0-4E2A-B484-5262FF8D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985D7-89E2-4CAB-8571-E3D9BA23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A5DDE-9568-4B7A-8B5D-2931116A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E0CF3-2BF0-4D74-96B0-E90878E8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00E2D-833F-4693-B21C-5D1E8BEB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83F2C-DE2A-4F87-9354-C8131C1A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898685-279D-480F-A0F7-CE65BFC6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E6CF9-5CAA-45E3-95BC-F9D73AF3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F900-1E28-42D0-806A-77661D61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A2D89-3361-44D0-AD6E-48FDA7A9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C7C80-EA4B-44B2-AE71-6250EF94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CA017-8AE7-4D7A-82ED-45615826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C5CB09-5CE2-4E74-84AA-4F07A565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197EF-4FBB-4CD2-87EA-22A2C16A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7CAE-6F7C-4D39-BE27-9CACD605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54B8-3005-4031-B226-D090D6CD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5448-E8D4-4B71-B829-39BF6FFD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66E7-11A0-4E34-839B-E06CF2E5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2BA4-58D2-4EF7-8C58-3E8AA745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FEA-D6AA-4A01-8684-3A4FA1F1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074F-BFA8-4FA6-9AFF-FEAE7565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7083-83F8-4185-A6A6-EF2C73F0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FACB-45CC-4FE3-955A-F65A0DE8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F128-D0C4-4A4B-ABA8-746927BE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4029-86E3-4AFD-A50E-EFAB7CF6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F8C03-C6FD-4577-A966-77DB499B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B96C5-3C29-4778-8C46-718ACE75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2D26-78A9-4300-9C49-B898A332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6CB32-4AA3-47CF-9286-2A58595E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C087-65EF-428E-8136-929144E9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8B21-6FA6-4FED-A109-3ACE1ED6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5D662-CFEC-44CD-A501-26EA4E86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5BEEC-D85E-44CB-B468-38F79B09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124A0-1C7B-47E6-B8DB-C93E373B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E0E74-6240-4B66-96EE-BA959570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7ED91-1F39-485E-B68B-6906D141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CE2CA-1191-4FEA-8EA7-44BDB943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FE628-7E63-4B73-8C2C-458C879E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FF197-702A-437F-8CE7-25C2DF9A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E83CB-96D9-4659-8258-DFE2FF37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73FBA-F384-4E03-BA3B-1F2F7860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82A-D62A-4E36-98CD-C7FED97C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C5C31-B6A4-4AF6-8F6E-B0922376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0646B-59AE-48E4-A3A7-C1FDA8BA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46A2-4007-4A0E-AB4F-07E19181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5AB3C-9F16-4D32-BF67-55E6AD74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784A3-731F-4991-9EDE-BDAA9880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0F2DA-F6AE-4059-8DCD-3C956CA9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60FD5-1453-4F64-8515-E12F347A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94E98-7161-49A6-8469-AAFE6B08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E24C8-ABEF-4381-A4E1-A7F5803F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35D4F-C9DB-4BE1-BB49-47692BDA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9B2-9861-4BCC-B057-0FD8EA09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4C35B-6C39-4EAF-93EA-57A1CFF4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87140-5F75-444D-A1E9-5C81BC09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C9BF6-AF31-4DCA-85E0-158BA61A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22D9A-D90B-4536-A05C-CAF00B30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7D001-08BC-4037-AB83-D11E3C26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5C7A8-BF9F-4689-B129-5CC49039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EE748-0243-4883-B865-830C2653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25279-34CE-4FF1-901E-C99C345F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9C9A1-C239-46E2-93B3-92847ABB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62284-064D-4A4A-9940-5A47D63D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3F0-6661-4807-9D78-10974465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8968C-601D-4F53-922D-4B562376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0A189-79D1-4FCC-A08F-48DFEA70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D0A7D-9D70-4699-BC75-D3F963FC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A6368-867C-4D94-8D86-D5716AFC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369A0-81FA-4DF3-A347-7FEB3644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FE6AA-181E-4E1A-AAD5-3E3F4336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DD653-9B89-4700-B1B9-02FB99E7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334B9-219A-4CF1-9799-E4FB3CE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3202C-7932-4C70-81B5-6E9B096B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15647-DEA6-42FC-AE01-30241D8A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EDF-F0BD-4411-8380-9E6436E8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28417-8975-4B03-A0B4-65956BA8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2925E-6F08-4FAF-9445-042A163A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5BA42-EEB3-4E70-80D7-33919201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37DC3-8730-4FA8-AA8D-22DC607B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BDC0A-BD1D-46A0-825B-C1EE2149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F3DA3-CE9B-4CF9-AC12-3DC9A3AA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C2D7F-F413-4F51-B126-7A346204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A4E1E-EEF8-4D67-BBE2-A69C8BE1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8E274-EFBA-419A-9785-CD1826B5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3EC83-5688-482D-BE2C-71B566A6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BBF-2459-4530-A8D1-D1D6A223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2375F-C296-4CE6-AB75-3A242D5B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815E3-ACC2-496B-B833-CC4D564A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99097-EA23-4767-BB0B-F982CB0B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1B82F-1F4F-4F60-857E-80775BD0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3BCD1-B60A-44BC-9A05-F74DF328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E25F7-8323-4B4F-B20A-093B7C9B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F06BD-E908-43E2-BF8D-DCA30DCF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3582B-FF0E-4F57-9BB9-014968F0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BDCE3-1057-4E7E-95CE-731FF880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D6BF9-A432-4C80-8309-9D28C08E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937-B6E9-41DB-8DEA-20A3578F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00E99-02F2-4DE5-9779-2055E158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E8C5B-2FA4-4D51-A359-D793A36F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92C84-D109-4471-89AE-B76EB170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82D82-9D1A-41AD-BA74-9544F489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6455F-5D84-47EE-A682-F98925A5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F9A9D-D267-47EF-9456-B4536494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3604E-29A1-456F-AE57-2448B772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56541-48FB-46B1-B72E-B1ED703B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B7AB8-397C-4136-8E0F-3F8B8386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7A54B-966B-49E2-B775-C4D87AA0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21F7-5B31-42C9-A194-346CF322C283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5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7933-1925-401C-827C-0A4D53936E7F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A8E3-D838-47CC-B723-09FB691BE035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1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5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6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7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28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DB30-3D71-4F97-81F5-B6201B98700F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1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7CB4-91D5-4714-8E2A-18DA8D2A8D5E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28D7-4B10-4364-8C0C-D4E243F9EF8E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1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3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4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5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6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8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9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0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AC72-028E-45E4-90D1-8ACA61997A24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F94E-1607-454A-9664-D42D5B98CA2F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1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4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5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6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7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29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0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8801-987D-4801-8334-1724F65EE775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A758-6876-46CF-84A5-FE51F945F367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5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E496-B5B4-424E-8136-3153C8964C3D}" type="slidenum">
              <a:rPr b="0" lang="es-E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3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5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7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F18F-8285-4E08-9831-322C7E0B1452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69236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13f9a"/>
                </a:solidFill>
                <a:latin typeface="Georgia"/>
              </a:rPr>
              <a:t>PATRICIA BLANCO CIMADEVILL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13f9a"/>
                </a:solidFill>
                <a:latin typeface="Georgia"/>
              </a:rPr>
              <a:t>LAURA FUENTES OTÍ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83d68"/>
                </a:solidFill>
                <a:latin typeface="Georgia"/>
              </a:rPr>
              <a:t>Characteristics/signs of gifted student in the classroom:</a:t>
            </a:r>
            <a:endParaRPr b="0" lang="en-US" sz="4400" spc="-1" strike="noStrike">
              <a:solidFill>
                <a:srgbClr val="c35e2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Bibliography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www.telegenio.org/faq/preguntas-frecuentes/9-caracteristicas-principales-de-los-ninos-superdotados.htm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www1.teachersfirst.com/gifted/spot.htm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www.facebook.com/l.php?u=http%3A%2F%2Fwww.aprendemas.com%2FREPORTAJES%2FP1.asp%3FReportaje%3D1313&amp;h=MAQH_J_Z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creena.educacion.navarra.es/006menu%20izquierda/PDFs/SUPERCAS.pd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dex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Defini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General chracteristic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In the class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Some autho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2" descr="C:\Users\Laura F\Desktop\child-prodigy.jpg"/>
          <p:cNvPicPr/>
          <p:nvPr/>
        </p:nvPicPr>
        <p:blipFill>
          <a:blip r:embed="rId1"/>
          <a:stretch/>
        </p:blipFill>
        <p:spPr>
          <a:xfrm>
            <a:off x="3492360" y="1638360"/>
            <a:ext cx="53276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Definition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fining the term 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gift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is no easy tas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umerous definitions have been suggested, but no single definition of giftedness is accepted by everyone or even by a majority of peop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O defines a gifted person as one who has an IQ above 130. It is estimated that 2% of children eligible to be considered gifted. Many experts agree that the right age to diagnose a gifted child is between four and eight years ol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2" descr="C:\Users\Laura F\Desktop\gifted-children.gif"/>
          <p:cNvPicPr/>
          <p:nvPr/>
        </p:nvPicPr>
        <p:blipFill>
          <a:blip r:embed="rId1"/>
          <a:stretch/>
        </p:blipFill>
        <p:spPr>
          <a:xfrm>
            <a:off x="6300720" y="5175360"/>
            <a:ext cx="26431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General characteristic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250920" y="1557360"/>
          <a:ext cx="8504280" cy="4852800"/>
        </p:xfrm>
        <a:graphic>
          <a:graphicData uri="http://schemas.openxmlformats.org/drawingml/2006/table">
            <a:tbl>
              <a:tblPr/>
              <a:tblGrid>
                <a:gridCol w="2835360"/>
                <a:gridCol w="2833560"/>
                <a:gridCol w="2835360"/>
              </a:tblGrid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Undersuppl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if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Exceptionally gif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oor motivation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oderate motivation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igh motivation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mita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rea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yssynch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ynch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yssynch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ipo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yper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mature m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rdinary mind 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arly mind 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low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rmal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Quick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eak dec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ransitory dec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rong dec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ypo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yper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4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inimum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dium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ar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         </a:t>
            </a: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 the clas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301680" y="1527120"/>
          <a:ext cx="8504280" cy="471024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Gifted Stude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u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Asks many questions and is very curiou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Possesses a large amount of informatio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good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asily gets "off task" and "off topic"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impatient when not called on in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3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earns new information quickl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Retains information easil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Masters reading skills earlier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emonstrates strong abilities in math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isplays unusual academic achieveme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Finishes classwork quick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easily bor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an become disruptive in clas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Shows strong resistance to repetitive activities and memorizatio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ompletes work quickly but slo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pic>
        <p:nvPicPr>
          <p:cNvPr id="618" name="Picture 3" descr="C:\Users\Laura F\Desktop\kindergarten-teacher5.png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          </a:t>
            </a: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 the clas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01680" y="1527120"/>
          <a:ext cx="8504280" cy="500688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51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Gifted Stude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u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53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interested in many thing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Becomes involved in a variety of activiti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motivated to try new thing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njoys a challe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May resist working on activities apart from areas of interes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eaves projects unfinish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Takes on too much and becomes overwhelm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22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Thinks independentl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xpresses unique and original opinion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self-motiv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hallenges authorit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oes not handle criticism w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oes not work well in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Uses higher level thinking skills (analysis, synthesis, evaluation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Makes connections other students don't se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onsiders unusual approaches to problem-sol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Tends to be absent-minded regarding practical detail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Forgets homework 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621" name="Picture 3" descr="C:\Users\Laura F\Desktop\kindergarten-teacher5.png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         </a:t>
            </a: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 the class…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301680" y="1527120"/>
          <a:ext cx="8504280" cy="431640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Gifted Stude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u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strong sense of justic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ikes to debate current issues and real life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an be very critical of self and oth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ikes to argue a poi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a perfectionist and expects others to be perfect as 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sophisticated sense of humo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Understands subtle humo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njoys plays on words and sat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asily gets carried away with a jok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tendency to become the "class clown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emonstrates strong expressive skill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sensitive to feelings of oth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laborates on idea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Shows skill in drama/art/music/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Sometimes perceived as a "know-it-all" by pe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sometimes "bossy" to peers in group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624" name="Picture 3" descr="C:\Users\Laura F\Desktop\kindergarten-teacher5.png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C:\Users\Laura F\Desktop\bebe-inteligente-einstein.jpg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20145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Renzulli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enzulli giftedness located at the intersection of three capacities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: intellectual ability far above the average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high task commitment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creativity high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t should be noted that there is not a unique set of characteristics that defines giftedness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aving the ability to develop the interaction between the three groups and their application in any area is what allows to identify a subject as gifted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is interaction represents the area of the central intersection of the three ring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Renzulli’s ring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pic>
        <p:nvPicPr>
          <p:cNvPr id="629" name="3 Marcador de contenido" descr="C:\Users\Laura F\Desktop\Screen shot 2011-05-19 at 10.24.08 AM.png"/>
          <p:cNvPicPr/>
          <p:nvPr/>
        </p:nvPicPr>
        <p:blipFill>
          <a:blip r:embed="rId1"/>
          <a:stretch/>
        </p:blipFill>
        <p:spPr>
          <a:xfrm>
            <a:off x="2266920" y="2133720"/>
            <a:ext cx="4462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17:03:32Z</dcterms:created>
  <dc:creator>Laura F</dc:creator>
  <dc:description/>
  <dc:language>en-US</dc:language>
  <cp:lastModifiedBy>OEM</cp:lastModifiedBy>
  <dcterms:modified xsi:type="dcterms:W3CDTF">2013-11-04T11:56:09Z</dcterms:modified>
  <cp:revision>20</cp:revision>
  <dc:subject/>
  <dc:title>Characteristics/signs of gifted student in the classroom:</dc:title>
</cp:coreProperties>
</file>