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dt" idx="1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1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FC122-9B0A-4B54-B1A2-43A217FEC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1C396-A623-4F91-8749-EA28478C2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9C32B-7F26-4195-B00B-EE6AB02ED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ADF76-1341-4CC6-B66F-9E7B75023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9F49A-82F5-4586-9D9D-C7019AB18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3519D-E520-437F-AA42-BAD6DB7F9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769D6-D09F-4708-A0D3-6689537A1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6F140-3397-40E3-B53F-A2483C674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1EE16-E5BF-4173-8C25-7B9984024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08DB3-B4F6-4708-8FA2-838CE57DE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339B8-DAA0-4006-8830-49EA8780B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78A87-4593-42AC-B918-C0A703D13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C1F9A-110D-4087-A685-FF6BA0789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1F1DF-0B35-45D0-BE4F-34D487D3C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4185D-B4F5-41D4-B104-A02896DA2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52BB5-DAAE-4365-9FC9-96BDB61FA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87638-7DCE-4ADF-976C-399AC82AB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08693-66CE-4BFD-86DF-8C09E47AF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9819C-D6A5-4339-9261-90F165667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A74-D68D-4EDC-83C6-ADC9AEF4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A30-599B-4636-895B-C7DE2860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9EE-A044-438E-B418-1F0C4238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AE1-16F6-4EA4-B3CA-D5A6476E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E6B6-DB17-4BE7-B457-E2985952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177C-111F-4317-A0D7-60089365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FB68-D1EF-4FCD-9886-4294E3E2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FC3B-A927-4CD3-AD5F-A388A187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F290-0117-47E2-AAF1-9D836EC4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7D7A-23DA-4CF2-AC96-2ABD815D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9D6F-5FD8-43E6-AF7A-01D04AFF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46D-AC85-4EB2-8FC6-4CA10B19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33B7-C4E4-4FEF-95CB-5A15CB78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1316-7370-4759-945E-EFE203C1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53C1-92AA-4139-9160-D59EC1ED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FD87-CDAB-4D3D-81AC-E75D3AC2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3BE7-27E0-4A56-B045-04D10F35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5F8D1-7C4B-4020-88EE-B9FA3707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01526-7AC7-4C40-9C67-FCC3E3AF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D924D-F3D0-41C8-9272-B3F1DC57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B4F04-63BC-4BD5-8DFF-ECCA5853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CEFE1-C328-4875-AD59-A6668184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8AC-BB80-41E0-9981-A3EF2559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6D888-9347-4284-A8A8-A9997530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3C59E-C817-4026-82D4-3BAECEED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BB1B5-0F74-4D86-9C7F-EBC1F6AA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50789-343D-4538-9174-B5CB419D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C116E-DE83-4E4D-89C3-C5BB69D3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F6512-0B24-4401-9950-DDAD2F57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1D604-B8D8-45EF-B1CD-1120B228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40CD4-C6BF-40F5-8FF0-445480B1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10056-50BE-4E01-8432-A23D11C5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0803B-7D80-45CD-90F8-E3B61435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079-4F83-46FE-B4B1-0C0C21D8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A56F0-58EE-4F87-8BCD-6613317A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03B90-A786-45A8-B8E6-50653557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0E0AB-01D0-44C2-8FD2-369A263E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B9513-915C-4F13-BA56-C4FD1B0F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B7290-A44A-4BE8-82A6-81BF38A0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C2234-ED05-43CB-97DC-F9ECA734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CE83F-CF49-4B1D-973A-6A491C41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D6E6D-BAF7-497D-B220-E4D45D52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A13A6-1661-4642-BBDB-B9311171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25A89-5100-4E7C-A8C1-BB2CD2B7E4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0FF-2A66-47F0-88A1-E258790B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6CE9B-5C89-4343-B508-028073B3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BDC2E-CB43-485A-8034-CFEAC297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345BD4-C8B5-4185-9BEF-89A6ED06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0B6AE-4C66-41EA-9E14-E9518812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09FF8-03F0-40DC-9E93-32305415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F9F29-9BB7-4077-A26D-B19CF6B4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4C1E7-8853-494E-BAFB-98B039C6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C352C-114C-48C0-B888-C7C5539B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D9E89-5AB3-429E-B712-1C37427F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DC566E-0989-4DE3-9EC4-DF319339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BD1-F5DA-4047-BCA5-E8895A21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6857AD-1792-4385-8D69-D20421293B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99A-D0AC-40C8-883B-746E7BA4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703-E6A2-45C4-ACE2-0FCA26A6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8CB-230E-40B5-B7F8-05152CBE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E0E8E-8424-49BD-8349-824459B2C013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05122-40BB-4BB3-B8A2-049F526558CD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40F92-721D-4B89-9736-CE3106D14924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E60C8-8C2C-4379-BCCA-D0D7CAA5AC3D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2A188-D082-49E1-B563-00824D157086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AE110-2D11-4000-AB24-FC7076E3AE6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F998E-303F-4F5F-A337-78E152BF176A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989E2-F86B-4E50-8EEB-00687454AA7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738680" y="1515960"/>
            <a:ext cx="21319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DB888-B91B-4999-9F8D-6D8164E1FE90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4"/>
          </p:nvPr>
        </p:nvSpPr>
        <p:spPr>
          <a:xfrm>
            <a:off x="4649760" y="5719680"/>
            <a:ext cx="6415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BC1B8-40F6-47B9-8057-F32923ABF6B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40872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4c600"/>
                </a:solidFill>
                <a:latin typeface="Century Gothic"/>
              </a:rPr>
              <a:t>INTELLIGENCE, APTITUDE, CREATIVITY AND TALENT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084720" y="4100400"/>
            <a:ext cx="32752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IFTED PUPI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ría Reinaldo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91720" y="333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CREATIVIT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015920" y="1773360"/>
            <a:ext cx="7443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The creative process has six pha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SPIRATION: In which you reasearch and generate many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CLARIFICATION: In which you focus on your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EVALUATION: In which you review your work and learn from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DISTILLATION: In which you decide which of your ideas to work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CUBATION: In which you leave the work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PERSPIRATION: In which you work determindly on your best id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8064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4c600"/>
                </a:solidFill>
                <a:latin typeface="Century Gothic"/>
              </a:rPr>
              <a:t>GAUSSIAN CURVE VALUES OF IQ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64000" y="2420640"/>
            <a:ext cx="2989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684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t´s interesting to show you the Bell Gauss because indicates us that it is considered gifted people who are above 130 in IQ test scor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684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4464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468360" y="1484280"/>
            <a:ext cx="865188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9300" spc="-1" strike="noStrike">
                <a:solidFill>
                  <a:srgbClr val="3e3d2d"/>
                </a:solidFill>
                <a:latin typeface="Cooper Black"/>
              </a:rPr>
              <a:t>SOME </a:t>
            </a:r>
            <a:r>
              <a:rPr b="0" lang="es-ES" sz="8500" spc="-1" strike="noStrike">
                <a:solidFill>
                  <a:srgbClr val="3e3d2d"/>
                </a:solidFill>
                <a:latin typeface="Cooper Black"/>
              </a:rPr>
              <a:t>CONCLUSION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96760" y="1700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94c600"/>
                </a:solidFill>
                <a:latin typeface="Century Gothic"/>
              </a:rPr>
              <a:t>ARE THERE DIFFERENCES IN THE IQ (INTELLIGENCE QUOTIENT) BETWEEN DIFFERENT HUMAN RACE?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832360" cy="35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468360" y="1436760"/>
            <a:ext cx="822960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Differences exist but can not be attributed to genetic ca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The reasons are schooling and socioeconomic level and cultural enric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An evidence is the Flynn Effect. This effect indicates that in societies increase IQ of younger generations as improving their education and quality of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4c600"/>
                </a:solidFill>
                <a:latin typeface="Century Gothic"/>
              </a:rPr>
              <a:t>ARE THERE DIFFERENCES IN THE IQ BETWEEN MEN AND WOMEN?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7" name="Text Box 2"/>
          <p:cNvSpPr/>
          <p:nvPr/>
        </p:nvSpPr>
        <p:spPr>
          <a:xfrm rot="20640000">
            <a:off x="407880" y="3644640"/>
            <a:ext cx="2735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There are no diffe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1"/>
          <a:stretch/>
        </p:blipFill>
        <p:spPr>
          <a:xfrm>
            <a:off x="3060720" y="2637000"/>
            <a:ext cx="471960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62472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" descr=""/>
          <p:cNvPicPr/>
          <p:nvPr/>
        </p:nvPicPr>
        <p:blipFill>
          <a:blip r:embed="rId1"/>
          <a:stretch/>
        </p:blipFill>
        <p:spPr>
          <a:xfrm>
            <a:off x="971640" y="1123920"/>
            <a:ext cx="73436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4"/>
          <p:cNvSpPr/>
          <p:nvPr/>
        </p:nvSpPr>
        <p:spPr>
          <a:xfrm rot="20040000">
            <a:off x="2120760" y="3436560"/>
            <a:ext cx="503280" cy="1079640"/>
          </a:xfrm>
          <a:custGeom>
            <a:avLst/>
            <a:gdLst>
              <a:gd name="textAreaLeft" fmla="*/ 0 w 503280"/>
              <a:gd name="textAreaRight" fmla="*/ 503640 w 503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03238" h="1079500">
                <a:moveTo>
                  <a:pt x="0" y="2031"/>
                </a:moveTo>
                <a:lnTo>
                  <a:pt x="7112" y="2031"/>
                </a:lnTo>
                <a:lnTo>
                  <a:pt x="7112" y="0"/>
                </a:lnTo>
                <a:lnTo>
                  <a:pt x="-5713" y="0"/>
                </a:lnTo>
                <a:lnTo>
                  <a:pt x="-5713" y="2031"/>
                </a:lnTo>
                <a:lnTo>
                  <a:pt x="1400" y="2031"/>
                </a:lnTo>
                <a:lnTo>
                  <a:pt x="700" y="3000"/>
                </a:lnTo>
                <a:lnTo>
                  <a:pt x="0" y="2031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d92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"/>
          <p:cNvPicPr/>
          <p:nvPr/>
        </p:nvPicPr>
        <p:blipFill>
          <a:blip r:embed="rId1"/>
          <a:stretch/>
        </p:blipFill>
        <p:spPr>
          <a:xfrm rot="1560000">
            <a:off x="4475160" y="3173400"/>
            <a:ext cx="731880" cy="1054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"/>
          <p:cNvPicPr/>
          <p:nvPr/>
        </p:nvPicPr>
        <p:blipFill>
          <a:blip r:embed="rId2"/>
          <a:stretch/>
        </p:blipFill>
        <p:spPr>
          <a:xfrm rot="3660000">
            <a:off x="6356880" y="3402720"/>
            <a:ext cx="731880" cy="1054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"/>
          <p:cNvPicPr/>
          <p:nvPr/>
        </p:nvPicPr>
        <p:blipFill>
          <a:blip r:embed="rId3"/>
          <a:stretch/>
        </p:blipFill>
        <p:spPr>
          <a:xfrm rot="19827600">
            <a:off x="2151000" y="3340080"/>
            <a:ext cx="1127160" cy="1274760"/>
          </a:xfrm>
          <a:prstGeom prst="rect">
            <a:avLst/>
          </a:prstGeom>
          <a:ln w="0">
            <a:noFill/>
          </a:ln>
        </p:spPr>
      </p:pic>
      <p:sp>
        <p:nvSpPr>
          <p:cNvPr id="430" name="1 Elipse"/>
          <p:cNvSpPr/>
          <p:nvPr/>
        </p:nvSpPr>
        <p:spPr>
          <a:xfrm>
            <a:off x="566640" y="1486080"/>
            <a:ext cx="2952720" cy="1868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Gothic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2 Elipse"/>
          <p:cNvSpPr/>
          <p:nvPr/>
        </p:nvSpPr>
        <p:spPr>
          <a:xfrm>
            <a:off x="3611520" y="1268280"/>
            <a:ext cx="2200320" cy="17971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AP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3 Elipse"/>
          <p:cNvSpPr/>
          <p:nvPr/>
        </p:nvSpPr>
        <p:spPr>
          <a:xfrm>
            <a:off x="5940360" y="1471680"/>
            <a:ext cx="2592360" cy="18684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Gothic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4 Rectángulo"/>
          <p:cNvSpPr/>
          <p:nvPr/>
        </p:nvSpPr>
        <p:spPr>
          <a:xfrm>
            <a:off x="2371680" y="5045040"/>
            <a:ext cx="5224680" cy="1150920"/>
          </a:xfrm>
          <a:prstGeom prst="rect">
            <a:avLst/>
          </a:prstGeom>
          <a:solidFill>
            <a:srgbClr val="ffffff"/>
          </a:solidFill>
          <a:ln w="5724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entury Gothic"/>
              </a:rPr>
              <a:t>TAL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872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WHAT IS…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654120" y="1989000"/>
            <a:ext cx="763272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According to the Royal Spanish Academy is defined a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INTELLIGENCE </a:t>
            </a:r>
            <a:r>
              <a:rPr b="0" lang="es-ES" sz="2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 ability to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APTITUDE </a:t>
            </a:r>
            <a:r>
              <a:rPr b="0" lang="es-ES" sz="2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 ability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CREATIVITY </a:t>
            </a:r>
            <a:r>
              <a:rPr b="0" lang="es-ES" sz="2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3e3d2d"/>
                </a:solidFill>
                <a:latin typeface="Times New Roman"/>
              </a:rPr>
              <a:t> ability to inno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3e3d2d"/>
                </a:solidFill>
                <a:latin typeface="Times New Roman"/>
              </a:rPr>
              <a:t>TALENT </a:t>
            </a:r>
            <a:r>
              <a:rPr b="0" lang="es-ES" sz="32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3e3d2d"/>
                </a:solidFill>
                <a:latin typeface="Times New Roman"/>
              </a:rPr>
              <a:t> ABILITY TO UNDERSTAND, DO AND INNO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4c600"/>
                </a:solidFill>
                <a:latin typeface="Century Gothic"/>
              </a:rPr>
              <a:t>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027080" y="1989000"/>
            <a:ext cx="677700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elligence has been studied from different ang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DIFFER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EVOLU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BI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212121"/>
                </a:solidFill>
                <a:latin typeface="Times New Roman"/>
              </a:rPr>
              <a:t>Currently there are new proposals , of which I would like to speak on "The theory of multiple intelligences" by Gardner (1992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212121"/>
                </a:solidFill>
                <a:latin typeface="Century Gothic"/>
              </a:rPr>
              <a:t>"THE THEORY OF MULTIPLE INTELLIGENCES"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Gardner defines intelligence as the ability to solve problems or create products valued in a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For Gardner there is multiple intellig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These intelligences are, on the one hand, conventional intelligences and on the other hand, no-conventional intellig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128000" cy="55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4c600"/>
                </a:solidFill>
                <a:latin typeface="Century Gothic"/>
              </a:rPr>
              <a:t>«CONVENTIONAL INTELLIGENCES»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1042920" y="2324160"/>
            <a:ext cx="6777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VERBAL-LINGUISTIC INTELLIGENCE </a:t>
            </a:r>
            <a:r>
              <a:rPr b="0" lang="es-E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 To understand, write and memoriz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LOGICAL-MATHEMATICAL INTELLIGENCE </a:t>
            </a:r>
            <a:r>
              <a:rPr b="0" lang="es-E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 Abstraction , calculation , and logical reasoning with numbers , shapes or symb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VISUAL-SPATIAL INTELLIGENCE </a:t>
            </a:r>
            <a:r>
              <a:rPr b="0" lang="es-E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3e3d2d"/>
                </a:solidFill>
                <a:latin typeface="Times New Roman"/>
              </a:rPr>
              <a:t> To imagine and make judgments and spatial ori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728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4c600"/>
                </a:solidFill>
                <a:latin typeface="Century Gothic"/>
              </a:rPr>
              <a:t>«NO CONVENTIONAL INTELLIGENCES»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1041480" y="1820880"/>
            <a:ext cx="6777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MUSICAL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have a gift for sound and rhy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BODILY-KINESTHETIC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Ability to handle body and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TERPERSONAL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understand, predict and empathize with the feelings and behaviors of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INTRAPERSONAL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know and regulate their feelings and behavi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buClr>
                <a:srgbClr val="94c6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NATURALISTIC INTELLIGENCE </a:t>
            </a:r>
            <a:r>
              <a:rPr b="0" lang="es-ES" sz="18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3e3d2d"/>
                </a:solidFill>
                <a:latin typeface="Times New Roman"/>
              </a:rPr>
              <a:t> To have a gift for to know and interact with the natural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 algn="just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1T13:43:31Z</dcterms:created>
  <dc:creator>maria reinaldos</dc:creator>
  <dc:description/>
  <cp:keywords/>
  <dc:language>en-US</dc:language>
  <cp:lastModifiedBy>OEM</cp:lastModifiedBy>
  <dcterms:modified xsi:type="dcterms:W3CDTF">2015-03-02T09:17:36Z</dcterms:modified>
  <cp:revision>47</cp:revision>
  <dc:subject/>
  <dc:title>What is…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Presentación en pantalla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8</vt:r8>
  </property>
</Properties>
</file>