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7AB-5F11-48E3-972E-EACA0975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3A9-A76E-44D7-ADD5-6199E506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0CE50-DFB7-434B-BC34-CC51C8C5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CFD6A-7DE5-4176-9636-E3334277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13075-9579-4AFF-AB4D-41BBFBB9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B09CE-C4C5-4308-A1FC-F019C422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96E21-EEE4-480D-AD69-B4BD3909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458CD-CFF1-464D-B3CA-F7DD278B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5890BF-F9F7-40F7-B98F-C464987B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80066-1003-4C7D-98A5-E56DA32F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0C1F7-0800-46CA-A656-872959AA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1F8D2-ADD7-4593-AD05-A55997D0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DEB-8DD1-4C5E-B687-6D4448DD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D5E09-07D8-441D-AFC0-17AA885E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052588-890D-4033-BE05-63EFEB66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6F422-4012-4DCF-84EA-74BA334F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06A5B-40E0-4D99-9F52-F207E396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A376B-99CC-4F1B-B73E-C470AAC5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6AE37-B387-4125-81E9-BAFD7C54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E7B730-920F-4DDF-9B36-AEE875A7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516D5-FB28-4CC4-B2FD-BD4E618B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BEC99-4AA1-4281-BA05-BE9ABB25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449EE-88F7-42E2-B15B-4C995410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B0C-B1C2-4B0C-A2C0-12FF59AA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4007B-4A85-4E80-AA3A-9AE4BC9F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B4E88-C980-47D5-9B00-C364CE1D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BA363-3EB2-4E16-B3C8-5DE309CB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CF761-F146-4E23-955F-38C90D55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1841C-741F-4A62-98B3-64033093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4E5F3-A2E8-46BC-8A15-7D7C2B26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7554E-6DBD-46CF-ABA1-AED0CE00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F4684-7464-4A2D-80D0-863C5437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42B39-3F59-4F40-8311-D98AA987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CE803-5A3B-429A-8790-11C02452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F8FB-EC52-496B-A464-9ED0945F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B57BD-04B9-4A29-A0E0-9E5005BE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3F1E9-28EF-439F-9C4D-BAC2A8FC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EEDDC-9855-489C-B43A-A90F70EA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77F49-C9C5-479B-B822-022E5EB4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4B401E-B27B-4361-9AA9-07575DAB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FF03E-490C-4057-9CBE-91A9AA2A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DE785-7B12-441B-9FDA-511B33E7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366FB7-2105-485F-A0AE-11222C42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256DF-CBA5-48AF-8802-73C3B3CB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7F01E-9555-4A07-AA2E-6A73CCDD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E824-E6A8-4F7C-8664-088D812D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007E50-C907-4F78-A258-F4873282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E1308-2C73-4C35-83D4-64CE75A6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298CD3-422E-4618-9062-F9F5722D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A5E006-C114-4246-A870-D2FA6722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2C7F24-A76F-4AB6-B38B-662FE12C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F7A1-E03E-4A43-920F-E16F29A5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9217-917B-4F97-BAA6-B167D7C1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3AC1-1B3A-48B8-A134-0703FA81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19BD-FFFB-41D1-B70E-003C4F4C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95D4-8FD3-4BF0-8039-4B7D8FA1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893-5D19-4541-B969-30298907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CDE3-5240-4296-B6BB-6F64FDB4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07D1-213F-4226-BE35-7F555FFD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3B9D-602A-47DA-B9F3-B2970B12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4796-37BD-4DC7-BDE4-C07FCE31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11C5-C3D5-4E75-8C8B-39A5971A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E928D-6ABE-4F0D-9CA4-FCB16B26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A8BE2-A1F5-4F5D-8D98-F47DBA1C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A058F-A5C5-4F07-ADCF-7E0C50BD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A93E-E2E8-4BEF-9F32-6D4242A6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49C0E-D6D3-4069-B318-84B0C27F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920-D8A6-49F6-9332-16CEE520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A9ECA-8D14-48ED-A2CF-41196005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4B5EB-825C-448B-B698-B17E1B77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AE841-FA67-4A5C-9F06-D47630BE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CB2FE-D0AC-4A7F-A2AA-3E8DA6DF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5B72B-15D8-4603-B59C-102A8109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1738B-0C3E-4E74-8658-8A2E6D75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ACB7-3C6A-4843-A779-4E2D2E48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D455E-13C5-42A6-8688-6ADC8CED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C66B0-5D6E-4349-8E16-C7FD0270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792E4-B84A-4362-88F2-D7D3A03D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621-9883-4CA7-9EB7-60F108B2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5D31A-C76F-4D0E-9168-BECDF267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9BA7A-A661-460B-B8BD-A67CAF56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27D4A-7B1E-42D8-87FA-6E6FDF00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655B2-1770-4C16-B176-639CC029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FD5B5-5376-41B2-BB03-A10091F4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97C45-45CE-4D8D-A28B-F64A3B6E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A6263-6CA1-4038-AFB4-E7F045AA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76877-9AAF-4CA2-AF47-0940348F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94315-DC93-4CEF-B648-88B4F0A4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26317-9A4A-4A35-92DF-FCBAAACD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21B-8493-4E3D-8FAD-4F2E645C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B11C2-A7F8-4428-9554-A1547802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0E174-0893-44D8-89DC-56F7BA5A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4F14B-F03B-4D00-8DBE-66D574CC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58733-4CEB-4FAB-B5F2-6C414A8B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EFDD4-D5F8-4F2C-921E-872F4D31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055A3-324F-4FBC-9F55-708709CE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59FC8-470F-44B5-A34C-93E72ED0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7D660-B9ED-48DA-83EF-AB9B92B2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B3D21-6432-412E-BAD8-D350A448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216F4-2B54-430B-AB9F-B02CFA1F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EE5-152E-46E1-B5A7-826E45B0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A0C1E-34D5-45F1-B356-517653EC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CB424-FE3F-40CE-9C45-D8DDFF90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961FD-93AA-4749-9213-E1992090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DA349-BE31-4CCC-B3B3-A4080C29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A05E5-7256-48BB-819F-CB35E803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B66AD-3481-4D75-A5B2-C0DDB010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68475-9F34-415F-87B2-9F2FAF19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679F7-AE44-488F-94F0-5C76E52E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7B159-16DE-48D9-9D20-DCAEA833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16605-E41B-4E38-875B-BEBB17C6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D8D-958F-4EB5-8FE5-428C05A4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05F10-CB0A-46D6-AF6B-F6B5FC32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9A7DF-F4C6-4C1B-A0B2-E0F81DA6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C3422-B0BA-4245-A36D-D0A1B5B0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0FD8F-2646-48F6-A6DB-388100CE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083E2-470C-434F-BE8D-BB4C64A0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945BC-EB6E-47C5-B90F-4E9F01D6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D2B15-7070-45F6-9D3E-A4E71853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0DB60-F97D-415B-A195-7EE9E8B1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832A1-3045-4DC8-81FC-B8BED7DA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231E2-FAF0-4077-950D-A39E2ABE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178-F6E2-4FD2-A052-57EFB520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F7DE4-1636-4AD9-9DFF-DFD545BB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DDED3-859B-493A-8315-3538A50C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9FAC7-C6B5-4357-BEB6-FFA3E89E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AD147-E4EC-46D9-9856-6E1B5E3A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694AE-660E-4891-8F11-BC8961F9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0426B-B1FE-4FFF-A6D2-CADB9C8A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B9019-06C7-4E58-BE11-0C22B5EB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F54D5-F87A-412A-9F7A-5BFEC431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7673E-8062-4D62-81F5-5FF47FE9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3F8AD-A024-49E4-9429-C227CDD6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D45-F908-4E54-9290-28155CE8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4CD2D-8C10-45C9-86CF-17C2ED84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8641D-83BA-4B13-A3C0-2C3D6CF3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060DC-4BD0-471F-B9F4-B679364C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F1593-E98A-4161-A0EE-3E69F364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DAEA5-A8C5-40E4-AFD7-2C6D183B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1E2EE-EC02-4A18-904B-78C9726D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15F93-E3EF-41E2-8E07-499DBD37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79C8B4-DA61-4F76-A570-099A8CB3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0D8FD-6967-4387-A72A-42CEB5BF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957BA-C8E5-4B5C-AA9C-9B6651B2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13F1-3FD7-481E-99D5-5A8F9F17670D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5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8F22-1210-43BF-A4A1-E889CF627064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B686-B693-48BA-A9BE-9B51C15F5885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21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5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26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27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28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DA73-C1C7-43D9-B78F-880A0ADA61DC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1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1E49-8925-4EA5-A0CC-FDAAA5B9813C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FDF0-5AA7-43C1-8CB4-56EE44A385BD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1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3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4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5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6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8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9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0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063F-1478-4897-8B2C-6C6B57A37050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b13f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C499-46F0-4249-83C9-DF4562E93366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b13f9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1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4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5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6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7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29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0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8785-2901-43AF-9E93-3AE93A023E5E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F362-E9D7-4B00-9AAA-C7D714FCEAEB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5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18E7-4740-4256-8D74-08FCD702252E}" type="slidenum">
              <a:rPr b="0" lang="es-E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23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5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7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c35e2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c35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35e2e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c66bb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e6c3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9b63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cf6da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35e2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52BC-D200-4AD0-B7CB-C59EED2F903F}" type="slidenum">
              <a:rPr b="0" lang="es-ES" sz="1600" spc="-1" strike="noStrike">
                <a:solidFill>
                  <a:srgbClr val="c35e2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69236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13f9a"/>
                </a:solidFill>
                <a:latin typeface="Georgia"/>
              </a:rPr>
              <a:t>PATRICIA BLANCO CIMADEVILL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13f9a"/>
                </a:solidFill>
                <a:latin typeface="Georgia"/>
              </a:rPr>
              <a:t>LAURA FUENTES OTÍ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83d68"/>
                </a:solidFill>
                <a:latin typeface="Georgia"/>
              </a:rPr>
              <a:t>Characteristics/signs of gifted student in the classroom:</a:t>
            </a:r>
            <a:endParaRPr b="0" lang="en-US" sz="4400" spc="-1" strike="noStrike">
              <a:solidFill>
                <a:srgbClr val="c35e2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Bibliography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www.telegenio.org/faq/preguntas-frecuentes/9-caracteristicas-principales-de-los-ninos-superdotados.htm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www1.teachersfirst.com/gifted/spot.htm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www.facebook.com/l.php?u=http%3A%2F%2Fwww.aprendemas.com%2FREPORTAJES%2FP1.asp%3FReportaje%3D1313&amp;h=MAQH_J_Z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http://creena.educacion.navarra.es/006menu%20izquierda/PDFs/SUPERCAS.pd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dex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Defini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General chracteristic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In the class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Georgia"/>
              </a:rPr>
              <a:t>Some autho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2" descr="C:\Users\Laura F\Desktop\child-prodigy.jpg"/>
          <p:cNvPicPr/>
          <p:nvPr/>
        </p:nvPicPr>
        <p:blipFill>
          <a:blip r:embed="rId1"/>
          <a:stretch/>
        </p:blipFill>
        <p:spPr>
          <a:xfrm>
            <a:off x="3492360" y="1638360"/>
            <a:ext cx="53276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Definition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fining the term 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gifte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is no easy tas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umerous definitions have been suggested, but no single definition of giftedness is accepted by everyone or even by a majority of peop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O defines a gifted person as one who has an IQ above 130. It is estimated that 2% of children eligible to be considered gifted. Many experts agree that the right age to diagnose a gifted child is between four and eight years ol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3" name="Picture 2" descr="C:\Users\Laura F\Desktop\gifted-children.gif"/>
          <p:cNvPicPr/>
          <p:nvPr/>
        </p:nvPicPr>
        <p:blipFill>
          <a:blip r:embed="rId1"/>
          <a:stretch/>
        </p:blipFill>
        <p:spPr>
          <a:xfrm>
            <a:off x="6300720" y="5175360"/>
            <a:ext cx="26431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General characteristic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250920" y="1557360"/>
          <a:ext cx="8504280" cy="4852800"/>
        </p:xfrm>
        <a:graphic>
          <a:graphicData uri="http://schemas.openxmlformats.org/drawingml/2006/table">
            <a:tbl>
              <a:tblPr/>
              <a:tblGrid>
                <a:gridCol w="2835360"/>
                <a:gridCol w="2833560"/>
                <a:gridCol w="2835360"/>
              </a:tblGrid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Undersuppl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Gif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Exceptionally gif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oor motivation for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oderate motivation for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igh motivation for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mita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rea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yssynchr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ynchr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yssynchro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ipo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yper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mature m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rdinary mind 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arly mind mat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low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rmal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Quick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eak deci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ransitory deci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trong deci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4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ypo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ypersensi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4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inimum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dium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ard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         </a:t>
            </a: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 the clas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301680" y="1527120"/>
          <a:ext cx="8504280" cy="4710240"/>
        </p:xfrm>
        <a:graphic>
          <a:graphicData uri="http://schemas.openxmlformats.org/drawingml/2006/table">
            <a:tbl>
              <a:tblPr/>
              <a:tblGrid>
                <a:gridCol w="4252680"/>
                <a:gridCol w="425160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Gifted Studen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u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7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Asks many questions and is very curiou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Possesses a large amount of informatio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good 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asily gets "off task" and "off topic"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impatient when not called on in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3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earns new information quickl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Retains information easil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Masters reading skills earlier 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emonstrates strong abilities in math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isplays unusual academic achieveme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Finishes classwork quick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easily bor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an become disruptive in clas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Shows strong resistance to repetitive activities and memorizatio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ompletes work quickly but slopp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pic>
        <p:nvPicPr>
          <p:cNvPr id="618" name="Picture 3" descr="C:\Users\Laura F\Desktop\kindergarten-teacher5.png"/>
          <p:cNvPicPr/>
          <p:nvPr/>
        </p:nvPicPr>
        <p:blipFill>
          <a:blip r:embed="rId1"/>
          <a:stretch/>
        </p:blipFill>
        <p:spPr>
          <a:xfrm>
            <a:off x="6443640" y="189000"/>
            <a:ext cx="1944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          </a:t>
            </a: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 the clas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301680" y="1527120"/>
          <a:ext cx="8504280" cy="5006880"/>
        </p:xfrm>
        <a:graphic>
          <a:graphicData uri="http://schemas.openxmlformats.org/drawingml/2006/table">
            <a:tbl>
              <a:tblPr/>
              <a:tblGrid>
                <a:gridCol w="4252680"/>
                <a:gridCol w="4251600"/>
              </a:tblGrid>
              <a:tr h="511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Gifted Studen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u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53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interested in many thing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Becomes involved in a variety of activitie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motivated to try new thing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njoys a challe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May resist working on activities apart from areas of interes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eaves projects unfinish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Takes on too much and becomes overwhelm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22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Thinks independentl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xpresses unique and original opinion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self-motiv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hallenges authorit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oes not handle criticism wel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oes not work well in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Uses higher level thinking skills (analysis, synthesis, evaluation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Makes connections other students don't se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onsiders unusual approaches to problem-sol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Tends to be absent-minded regarding practical detail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Forgets homework assign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621" name="Picture 3" descr="C:\Users\Laura F\Desktop\kindergarten-teacher5.png"/>
          <p:cNvPicPr/>
          <p:nvPr/>
        </p:nvPicPr>
        <p:blipFill>
          <a:blip r:embed="rId1"/>
          <a:stretch/>
        </p:blipFill>
        <p:spPr>
          <a:xfrm>
            <a:off x="6443640" y="189000"/>
            <a:ext cx="1944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         </a:t>
            </a: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In the class…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301680" y="1527120"/>
          <a:ext cx="8504280" cy="4316400"/>
        </p:xfrm>
        <a:graphic>
          <a:graphicData uri="http://schemas.openxmlformats.org/drawingml/2006/table">
            <a:tbl>
              <a:tblPr/>
              <a:tblGrid>
                <a:gridCol w="4252680"/>
                <a:gridCol w="4251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Gifted Studen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Bu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strong sense of justic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ikes to debate current issues and real life 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Can be very critical of self and oth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Likes to argue a poin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a perfectionist and expects others to be perfect as 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sophisticated sense of humo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Understands subtle humo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njoys plays on words and sat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asily gets carried away with a jok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Has a tendency to become the "class clown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Demonstrates strong expressive skill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sensitive to feelings of oth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Elaborates on idea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Shows skill in drama/art/music/langu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Sometimes perceived as a "know-it-all" by peer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· Is sometimes "bossy" to peers in group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624" name="Picture 3" descr="C:\Users\Laura F\Desktop\kindergarten-teacher5.png"/>
          <p:cNvPicPr/>
          <p:nvPr/>
        </p:nvPicPr>
        <p:blipFill>
          <a:blip r:embed="rId1"/>
          <a:stretch/>
        </p:blipFill>
        <p:spPr>
          <a:xfrm>
            <a:off x="6443640" y="189000"/>
            <a:ext cx="1944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C:\Users\Laura F\Desktop\bebe-inteligente-einstein.jpg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201456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Renzulli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enzulli giftedness located at the intersection of three capacities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: intellectual ability far above the average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high task commitment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nd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creativity high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It should be noted that there is not a unique set of characteristics that defines giftedness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Having the ability to develop the interaction between the three groups and their application in any area is what allows to identify a subject as gifted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is interaction represents the area of the central intersection of the three ring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c35e2e"/>
                </a:solidFill>
                <a:latin typeface="Georgia"/>
              </a:rPr>
              <a:t>Renzulli’s rings:</a:t>
            </a:r>
            <a:endParaRPr b="0" lang="en-US" sz="3300" spc="-1" strike="noStrike">
              <a:solidFill>
                <a:srgbClr val="c35e2e"/>
              </a:solidFill>
              <a:latin typeface="Georgia"/>
            </a:endParaRPr>
          </a:p>
        </p:txBody>
      </p:sp>
      <p:pic>
        <p:nvPicPr>
          <p:cNvPr id="629" name="3 Marcador de contenido" descr="C:\Users\Laura F\Desktop\Screen shot 2011-05-19 at 10.24.08 AM.png"/>
          <p:cNvPicPr/>
          <p:nvPr/>
        </p:nvPicPr>
        <p:blipFill>
          <a:blip r:embed="rId1"/>
          <a:stretch/>
        </p:blipFill>
        <p:spPr>
          <a:xfrm>
            <a:off x="2266920" y="2133720"/>
            <a:ext cx="4462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17:03:32Z</dcterms:created>
  <dc:creator>Laura F</dc:creator>
  <dc:description/>
  <dc:language>en-US</dc:language>
  <cp:lastModifiedBy>OEM</cp:lastModifiedBy>
  <dcterms:modified xsi:type="dcterms:W3CDTF">2013-11-04T11:56:09Z</dcterms:modified>
  <cp:revision>20</cp:revision>
  <dc:subject/>
  <dc:title>Characteristics/signs of gifted student in the classroom:</dc:title>
</cp:coreProperties>
</file>