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dt" idx="1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1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4C5B9-A96D-4980-BE95-C3B6C3AE6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4165E-CA92-482F-8947-F6B2A7A7F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4E331-7EF8-41D1-A4CF-5B556DC13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66CCD-14D2-4E0A-A949-97AC2C406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94AB4-BED5-44DC-B749-A74645AA1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CAF46-5AD0-42B1-91E7-9C03177B1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A38A9-9395-4E0D-B2B5-B87A33224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20EA7-8AB1-46C5-984A-681FEE6AB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73D41-9C6A-49E7-924B-38CCEFB4C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36101-AA9D-4DB4-89FF-6A0FFC4F9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FCE0E-E05A-4A9C-AE99-79CDDF56C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23EB0-A992-4285-BA7B-DC247E080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9881E-AFC1-4F1F-A187-055E4F613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8AEC4-050F-43EC-AFEC-C70680B02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3BC07-3610-499E-A24D-2CA679107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17866-6F25-4BE7-A4DC-6F9918DDC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DBAE3-B92E-4916-8E7D-4D1D21EAE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801D9-F4A5-4C65-A4A8-8AAF8CA96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D8544-B4AA-40D1-B4E4-D569744F6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63F-4B12-46C6-95E2-F7E956FD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AC2-F9C5-46EE-8B96-CC9E0091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E22-8D46-4E14-B254-297852CD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2BE-7F0D-477D-A28F-AC536BE6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89B4-9358-4CF8-91C3-74D75925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5C13-C0E0-45E7-8E25-8701CFCD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3F5E-3FAB-4002-9F03-A9ADCA32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4A7B-9AB2-4FF2-9FE1-2F9DA5D1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7C00-2253-4AD7-9770-A5FDDFDC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C85D-63A4-4CC1-9725-33F90284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719A-5777-443F-A9AF-B14EBDD4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F6B-BAC8-45DF-8DD2-49AF00D2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0E47-2F9F-44B9-B104-DEDCEE98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ABFB-03DF-46AC-AC0A-4EDCB2E6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3D3E-3D5A-4AD8-8437-BA992940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5C3F-8D2F-4758-9840-396545D6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3502-0A1A-4E23-9F8C-99CB7FD7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8E4D1-1B8E-4672-915E-B6AF5FF8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A97EC-AFD3-4770-AD9F-E33B0049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FC6FD-6925-4A7F-A784-559AC102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C3761-2495-44E7-8FEC-4649ED40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A01A4-AB66-4607-83C6-B84FD720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CF0-555D-4387-B4F2-3D9F5461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07B09-2AF9-4CA8-A643-EB44C5F3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6E531-5570-4035-A415-8FA85BAF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A14BC-CF9A-4FE0-BE5F-21A78C16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14C44-6E79-4A91-84BD-8C71D643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3C2C5-D246-4AE5-9D78-2803F530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41C15-1C49-4B42-8537-D23BE8CC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8C3AF-F90E-4E77-9D90-90FFA90A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21DEC-C8A1-45AF-AA20-528E9BCE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503C4-4E83-4E0A-A86E-7F47BEB3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91192-03DA-4620-8CC7-3EFBA653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AD3-8BFF-45E6-8D42-B296C42D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CC610-B4F0-4209-B926-A9229530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7EEA5-7730-47A2-83D8-61A6D9D8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C2C04-22F3-4C70-8117-7D954DAB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A35D6-B4C3-451C-B141-75F1DEA6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7594-BACB-4690-BD89-6990BBA3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83D72-4AD3-4417-9A56-BED1DBD2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1C14B-9451-4957-8B9A-155EAEC4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7E8F3-611D-4FD7-8CFE-E242CFEB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C769F-7FAA-4B8C-910F-AB098DA4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F972A-2647-4B84-A079-8434EC6AD6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372-8DFC-4D5E-9D8A-BBD41F42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2075D-C85B-4F1D-B3D8-FD34570C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E1C00-DCB5-48F9-B62D-B055FD8D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387EA-AA77-41E5-8BAA-27FEE781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12603E-B834-4FB1-B47E-54F31547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CD8D3-8083-4B67-B37E-52D1E56D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DD5AD-573A-4C19-95A2-B79A1B1F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2AE23-7FA2-4218-8CFE-11CAF39A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C75AB-3639-4188-9F47-46B78A8A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CB8499-50FC-4086-B422-C7D7AE0A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B2CDEF-3F61-49B7-B7C5-F8E282B8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DC1-8A17-43F1-9ABA-3F83A101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04F5B-8710-43B2-AABE-176396B28E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307-C810-4A6D-8691-EF68ACD2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21F-0D0D-4852-8FBC-F4EFA9EF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BF3-50FE-474D-81DD-4FB1374F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A1F32-BD69-4885-AE64-42FA349902B4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0AA51-C501-4E2F-8D6A-254F40E0B5A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04F0F-B5DC-469B-A0BA-937F48E710D5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70E20-0771-49EF-ACD2-E9D1C0BAB845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F4FEB-208A-4F98-9AD6-CB1B6B5DF555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D75D8-67C5-4700-B33B-620B199EE05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4BDC0-30A6-4D1B-8371-C49C31F79364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52457-FC2F-4D8D-86A0-FF8C068B2BC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738680" y="1515960"/>
            <a:ext cx="21319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4F92E-B85B-4234-863E-A7E3E9E342D9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4"/>
          </p:nvPr>
        </p:nvSpPr>
        <p:spPr>
          <a:xfrm>
            <a:off x="4649760" y="5719680"/>
            <a:ext cx="6415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4C572-94A2-4CB0-BFA6-86BB2EDE3B7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40872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4c600"/>
                </a:solidFill>
                <a:latin typeface="Century Gothic"/>
              </a:rPr>
              <a:t>INTELLIGENCE, APTITUDE, CREATIVITY AND TALEN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084720" y="4100400"/>
            <a:ext cx="32752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FTED PUPI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ría Reinaldo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91720" y="333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CREATIVIT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015920" y="1773360"/>
            <a:ext cx="7443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The creative process has six ph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SPIRATION: In which you reasearch and generate many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CLARIFICATION: In which you focus on your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EVALUATION: In which you review your work and learn from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DISTILLATION: In which you decide which of your ideas to work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CUBATION: In which you leave the work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PERSPIRATION: In which you work determindly on your best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8064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4c600"/>
                </a:solidFill>
                <a:latin typeface="Century Gothic"/>
              </a:rPr>
              <a:t>GAUSSIAN CURVE VALUES OF IQ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64000" y="2420640"/>
            <a:ext cx="2989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684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t´s interesting to show you the Bell Gauss because indicates us that it is considered gifted people who are above 130 in IQ test scor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684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4464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468360" y="1484280"/>
            <a:ext cx="865188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9300" spc="-1" strike="noStrike">
                <a:solidFill>
                  <a:srgbClr val="3e3d2d"/>
                </a:solidFill>
                <a:latin typeface="Cooper Black"/>
              </a:rPr>
              <a:t>SOME </a:t>
            </a:r>
            <a:r>
              <a:rPr b="0" lang="es-ES" sz="8500" spc="-1" strike="noStrike">
                <a:solidFill>
                  <a:srgbClr val="3e3d2d"/>
                </a:solidFill>
                <a:latin typeface="Cooper Black"/>
              </a:rPr>
              <a:t>CONCLUSION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96760" y="170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94c600"/>
                </a:solidFill>
                <a:latin typeface="Century Gothic"/>
              </a:rPr>
              <a:t>ARE THERE DIFFERENCES IN THE IQ (INTELLIGENCE QUOTIENT) BETWEEN DIFFERENT HUMAN RACE?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832360" cy="35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468360" y="1436760"/>
            <a:ext cx="822960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Differences exist but can not be attributed to genetic ca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The reasons are schooling and socioeconomic level and cultural enric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An evidence is the Flynn Effect. This effect indicates that in societies increase IQ of younger generations as improving their education and quality of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4c600"/>
                </a:solidFill>
                <a:latin typeface="Century Gothic"/>
              </a:rPr>
              <a:t>ARE THERE DIFFERENCES IN THE IQ BETWEEN MEN AND WOMEN?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7" name="Text Box 2"/>
          <p:cNvSpPr/>
          <p:nvPr/>
        </p:nvSpPr>
        <p:spPr>
          <a:xfrm rot="20640000">
            <a:off x="407880" y="3644640"/>
            <a:ext cx="2735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There are no dif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1"/>
          <a:stretch/>
        </p:blipFill>
        <p:spPr>
          <a:xfrm>
            <a:off x="3060720" y="2637000"/>
            <a:ext cx="471960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62472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" descr=""/>
          <p:cNvPicPr/>
          <p:nvPr/>
        </p:nvPicPr>
        <p:blipFill>
          <a:blip r:embed="rId1"/>
          <a:stretch/>
        </p:blipFill>
        <p:spPr>
          <a:xfrm>
            <a:off x="971640" y="1123920"/>
            <a:ext cx="73436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4"/>
          <p:cNvSpPr/>
          <p:nvPr/>
        </p:nvSpPr>
        <p:spPr>
          <a:xfrm rot="20040000">
            <a:off x="2120760" y="3436560"/>
            <a:ext cx="503280" cy="1079640"/>
          </a:xfrm>
          <a:custGeom>
            <a:avLst/>
            <a:gdLst>
              <a:gd name="textAreaLeft" fmla="*/ 0 w 503280"/>
              <a:gd name="textAreaRight" fmla="*/ 503640 w 503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03238" h="1079500">
                <a:moveTo>
                  <a:pt x="0" y="2031"/>
                </a:moveTo>
                <a:lnTo>
                  <a:pt x="7112" y="2031"/>
                </a:lnTo>
                <a:lnTo>
                  <a:pt x="7112" y="0"/>
                </a:lnTo>
                <a:lnTo>
                  <a:pt x="-5713" y="0"/>
                </a:lnTo>
                <a:lnTo>
                  <a:pt x="-5713" y="2031"/>
                </a:lnTo>
                <a:lnTo>
                  <a:pt x="1400" y="2031"/>
                </a:lnTo>
                <a:lnTo>
                  <a:pt x="700" y="3000"/>
                </a:lnTo>
                <a:lnTo>
                  <a:pt x="0" y="2031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d9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 rot="1560000">
            <a:off x="4475160" y="3173400"/>
            <a:ext cx="731880" cy="1054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"/>
          <p:cNvPicPr/>
          <p:nvPr/>
        </p:nvPicPr>
        <p:blipFill>
          <a:blip r:embed="rId2"/>
          <a:stretch/>
        </p:blipFill>
        <p:spPr>
          <a:xfrm rot="3660000">
            <a:off x="6356880" y="3402720"/>
            <a:ext cx="731880" cy="1054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"/>
          <p:cNvPicPr/>
          <p:nvPr/>
        </p:nvPicPr>
        <p:blipFill>
          <a:blip r:embed="rId3"/>
          <a:stretch/>
        </p:blipFill>
        <p:spPr>
          <a:xfrm rot="19827600">
            <a:off x="2151000" y="3340080"/>
            <a:ext cx="1127160" cy="1274760"/>
          </a:xfrm>
          <a:prstGeom prst="rect">
            <a:avLst/>
          </a:prstGeom>
          <a:ln w="0">
            <a:noFill/>
          </a:ln>
        </p:spPr>
      </p:pic>
      <p:sp>
        <p:nvSpPr>
          <p:cNvPr id="430" name="1 Elipse"/>
          <p:cNvSpPr/>
          <p:nvPr/>
        </p:nvSpPr>
        <p:spPr>
          <a:xfrm>
            <a:off x="566640" y="1486080"/>
            <a:ext cx="2952720" cy="1868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Gothic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2 Elipse"/>
          <p:cNvSpPr/>
          <p:nvPr/>
        </p:nvSpPr>
        <p:spPr>
          <a:xfrm>
            <a:off x="3611520" y="1268280"/>
            <a:ext cx="2200320" cy="17971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AP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3 Elipse"/>
          <p:cNvSpPr/>
          <p:nvPr/>
        </p:nvSpPr>
        <p:spPr>
          <a:xfrm>
            <a:off x="5940360" y="1471680"/>
            <a:ext cx="2592360" cy="1868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4 Rectángulo"/>
          <p:cNvSpPr/>
          <p:nvPr/>
        </p:nvSpPr>
        <p:spPr>
          <a:xfrm>
            <a:off x="2371680" y="5045040"/>
            <a:ext cx="5224680" cy="1150920"/>
          </a:xfrm>
          <a:prstGeom prst="rect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entury Gothic"/>
              </a:rPr>
              <a:t>TAL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872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WHAT IS…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654120" y="1989000"/>
            <a:ext cx="763272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According to the Royal Spanish Academy is defined a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INTELLIGENCE </a:t>
            </a:r>
            <a:r>
              <a:rPr b="0" lang="es-ES" sz="2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 ability to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APTITUDE </a:t>
            </a:r>
            <a:r>
              <a:rPr b="0" lang="es-ES" sz="2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 ability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CREATIVITY </a:t>
            </a:r>
            <a:r>
              <a:rPr b="0" lang="es-ES" sz="2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 ability to inno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3e3d2d"/>
                </a:solidFill>
                <a:latin typeface="Times New Roman"/>
              </a:rPr>
              <a:t>TALENT </a:t>
            </a:r>
            <a:r>
              <a:rPr b="0" lang="es-ES" sz="32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3e3d2d"/>
                </a:solidFill>
                <a:latin typeface="Times New Roman"/>
              </a:rPr>
              <a:t> ABILITY TO UNDERSTAND, DO AND INNO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027080" y="1989000"/>
            <a:ext cx="677700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elligence has been studied from different ang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DIFFER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EVOLU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BI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212121"/>
                </a:solidFill>
                <a:latin typeface="Times New Roman"/>
              </a:rPr>
              <a:t>Currently there are new proposals , of which I would like to speak on "The theory of multiple intelligences" by Gardner (1992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212121"/>
                </a:solidFill>
                <a:latin typeface="Century Gothic"/>
              </a:rPr>
              <a:t>"THE THEORY OF MULTIPLE INTELLIGENCES"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Gardner defines intelligence as the ability to solve problems or create products valued in a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For Gardner there is multiple intellig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These intelligences are, on the one hand, conventional intelligences and on the other hand, no-conventional intellig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128000" cy="55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4c600"/>
                </a:solidFill>
                <a:latin typeface="Century Gothic"/>
              </a:rPr>
              <a:t>«CONVENTIONAL INTELLIGENCES»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1042920" y="2324160"/>
            <a:ext cx="6777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VERBAL-LINGUISTIC INTELLIGENCE </a:t>
            </a:r>
            <a:r>
              <a:rPr b="0" lang="es-E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 To understand, write and memoriz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LOGICAL-MATHEMATICAL INTELLIGENCE </a:t>
            </a:r>
            <a:r>
              <a:rPr b="0" lang="es-E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 Abstraction , calculation , and logical reasoning with numbers , shapes or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VISUAL-SPATIAL INTELLIGENCE </a:t>
            </a:r>
            <a:r>
              <a:rPr b="0" lang="es-E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 To imagine and make judgments and spatial ori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728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4c600"/>
                </a:solidFill>
                <a:latin typeface="Century Gothic"/>
              </a:rPr>
              <a:t>«NO CONVENTIONAL INTELLIGENCES»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1041480" y="1820880"/>
            <a:ext cx="6777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MUSICAL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have a gift for sound and rhy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BODILY-KINESTHETIC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Ability to handle body and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TERPERSONAL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understand, predict and empathize with the feelings and behaviors of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TRAPERSONAL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know and regulate their feelings and behavi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NATURALISTIC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have a gift for to know and interact with the natural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1T13:43:31Z</dcterms:created>
  <dc:creator>maria reinaldos</dc:creator>
  <dc:description/>
  <cp:keywords/>
  <dc:language>en-US</dc:language>
  <cp:lastModifiedBy>OEM</cp:lastModifiedBy>
  <dcterms:modified xsi:type="dcterms:W3CDTF">2015-03-02T09:17:36Z</dcterms:modified>
  <cp:revision>47</cp:revision>
  <dc:subject/>
  <dc:title>What is…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Presentación en pantalla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8</vt:r8>
  </property>
</Properties>
</file>