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738-0B7D-4C46-B71F-AC6B8881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F56-9610-4C71-A10A-8C4062A3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42F57-888E-4B09-8D58-62CAC195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6B94E-54C6-4167-A910-79DA87A0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5F347-D00F-4B34-88DE-E456E26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324F3-DACD-4CDA-88F5-C482167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EC6B0-F207-4723-8BBB-2ECD33C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69255-4076-4B54-B705-F0BC66B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A1CEE-7897-49CB-AE08-2051DC68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1A36D-3B7A-452B-A363-09781A9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8C57B-77E5-46F8-9C54-56423395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D74BD-406B-4776-8CFD-DAEF236E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2A9-2711-4BAD-A26F-15212B7E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AF09E-F1AF-496F-A489-A7F51D5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0425C-BCAF-4879-BAAB-FD9A16E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1CDAF-EA49-4CCF-B736-12F691A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6E225-6C21-4C39-9B85-465C7B6C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CA117-69F9-4118-9605-A381962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EF246-8A2F-4C1A-9064-707A1FC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58224-4763-4219-BE57-71BBF6E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C6BA1-4724-41FB-9670-060FEA9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5B080-8400-451B-BBAB-2F7D1C5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4681D-274A-4FC2-8DDB-2190FA3C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EAB-4CA6-4C0F-A8DE-1CEED30F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8F562-E336-44CC-802D-DBC12681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06A53-576E-4548-9E86-4024D880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E4E68-4132-4D84-81B5-EB7AA058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5E075-0A70-4DEC-9169-80384157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7B575-8967-4D3F-AE20-355BF3E6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7DE7-29DD-475D-A171-401B4433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183DE-6388-41A2-AA41-19890B1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0158E-E38D-4F55-AE6E-8939000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0814C-9E36-4D39-8B50-A6232E3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CD708-FC84-4F49-96F2-5F4B1CB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F996-22C6-4391-B1AD-DCC6C7AB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55F42-8194-4C4D-B536-1FFAA1A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E452-0F2F-4739-9523-C18A135C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4BE4D-385E-4498-BC5E-A87D5731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A05FE-A72D-4024-99F2-047E090E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4E505-5E43-465B-96A9-4A23B67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2E1D0-A91B-464C-8F58-608D4897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8534B-584A-467D-8DB3-DC235033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0FFED-08FB-4A7D-87BE-CA55E592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00140-4FB7-4B16-A68F-6B623038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BC5B9-F015-4469-9689-BAB9621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AC36-F5F9-49D2-A840-87334C43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DC55E-FB02-4DD4-84EA-3963120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0951E-AD0D-48B4-9F61-60065D3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E60FA-D024-4576-9F72-DD270748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F4498-962E-4582-8A25-A34A86FC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44E4A-6176-402C-B1B0-A0A26C9F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634E-636C-475F-85D3-9C89294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499-4284-4662-B08F-4C9F910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F88B-4D19-4897-B7D8-9D31C3F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CAE-12F1-406A-8E5C-071A180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285-03B7-44A3-B763-32CE1C3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F3D-2F2C-4A38-A6E0-E55FFCBD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F7E7-DBCB-48B6-A1CC-DA4768D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168-BA86-4FE9-B792-D5C0333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A7D0-74DD-482A-BCAD-319CCD7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F08-6D2A-470D-BBD2-5AA6FEEA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E8B1-3A13-4B76-904C-CBF9EB8F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8C65-9B06-4B89-B3A6-1C0244A8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409C-5279-4B31-BE34-F28D356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9E28-760F-4B72-9AC2-F6E1F2E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AE26-433F-435A-A74D-BA4EF1C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11EC-7641-4545-90F4-02E5468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2C3-69BB-4920-8854-620CC52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3265-1C02-4581-B6DA-4950822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3889-5F1D-4B60-9FC2-DA1B025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B173-2879-4428-A4E4-43A2291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6A78-CBC0-4465-8D41-8BE20ECB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C22C-416F-4897-8FD0-1AB8811A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6202-0BB3-40C5-8692-6DAC64B2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D911-F1A4-4420-8968-D9FC82F4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554A-97A4-4E7C-BD71-051BED7C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0FC6-A76B-40DD-A5CB-BBEA394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B56E-3CFD-4B67-9B39-9006AD0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4C7-E1E4-4C09-A9E0-8E04C83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1CFD-2834-4972-8CB0-DFA3F10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A6AF-6DA0-4568-8EC8-0EC3DF4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83EC-05C8-4BF6-9546-50286BA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1662-FBED-4EF2-AA85-052FC78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6367-8989-431A-BD00-99323C0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A72B-2A0D-459F-AFEB-0E54B60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CEE3-8C13-442B-B0E8-A39098A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43D9-46CF-46F6-ADBA-5252B704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A7B7-CDA3-4AFD-90B0-CD26C0CB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0DC4-51D6-4211-8609-E6EA9982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15E-21AB-4738-8D67-1D1D6AB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A9F7-9FC6-422E-9E8E-6C101B2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032F-CB70-4B56-AB7C-8E5DB43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57F6-EC2B-4048-B026-AF9A19C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6EDB-F204-493E-AA84-BA1DAB4E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3660-27F2-48AC-8F88-4B62AD2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F7B4-41BE-4C80-B984-077353C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AEF1B-7B7F-45AE-8AE2-FAF3E2E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60D2-3105-4AE7-A65A-7F5D235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E84C-00DF-4DE7-BFA1-D9537935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94C2-A98A-48A1-96DF-F6A0AA2A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3B7-9A21-4D16-860B-4D79E1B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53D6-CDCC-475F-9E88-D67AA484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A216-4384-40A7-9094-6696C6D8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227D-323C-42A6-9521-2B36EB0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4F59-375E-4705-A8D6-EDD7B10D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37FA-032D-448B-99C0-75DB51EE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E1A7-261F-481F-B294-F49E60E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7344-D059-48AC-8857-55A3BF81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618F8-0ACC-47A2-A3C1-EBBAB6D0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5087-007E-43A0-B51A-F7ABCC7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780A-02E5-4A5C-820C-C5FC636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B0B-59AA-4BB9-824F-AF572F7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DD10-0599-4DD8-8E79-AD2186B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15E4-53AE-440B-AA64-A87F7C65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676D-37F9-498A-947D-36CA141B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E055-AE8D-4C77-8C41-956ADE2B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63C3-24F8-4302-B706-6959811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80E4-086D-4F7F-B572-2F0E174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59B2-3B71-4BF5-A8B5-28681A8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E0D9-8467-473D-8143-C1C6CE2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298A-01B1-479E-AA0D-617207E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0E7A-656D-42EE-A4DB-90E7251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D25-C454-4DEC-A0BF-2A14551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BFE12-3BD4-4FF5-9C00-877B825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849A-7275-4482-B4ED-FE688B5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60D1-918A-4788-99B6-25DB47CE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AD81-7E9F-4254-9005-A5D13AD6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8468-301D-4605-816B-C6999D40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34C8D-3376-4AD2-BB94-C2C285FE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4EC2E-2106-44FC-ABAB-F582830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48C1-FB39-4EF5-9174-0A25C5B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EBDF-443A-4016-A386-1FBB33F4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4489-71FB-4AD4-8978-12C1327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883-258A-49AF-9307-A903D18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716A5-99B5-4B66-B765-A776EB3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F074-2D6B-4E28-91BE-86891C4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E0454-AF5E-416C-8E17-BD64902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D1A9-38C1-4B47-8088-2684591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388A4-79ED-4A1F-9194-882546C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9737-4C33-46E2-9A46-3F668A9C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61FC-61CD-42A7-94B2-DA1E0557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6770E-3755-4CBB-8C7F-DB65C6B8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E9449-DB65-470E-B747-795E50E0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DF2F1-62BC-4EF8-84FC-4A57D10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DA3-27AE-420D-A6DB-D02284F0C8C7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D84B-5DDF-4DB1-ACF9-D186DC799D52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A2FC-E6FC-4A05-B9E1-11E152FB0530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A360-CE95-4ADD-AAB4-BCF5459C77F8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9398-450F-457D-9EC7-872CAFA4882E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D72C-992C-4BC0-91AF-807067503722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C44-3D46-4FAA-B5F9-9EFEF6370247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C76-CDC2-49AD-BC5D-037A87EE8078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447B-0173-456A-B1FF-40C42643FD86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83A-B624-4001-A15B-B0454A7C5191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3D3E-2C1D-432D-8F16-B7181AA201F6}" type="slidenum">
              <a:rPr b="0" lang="es-E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2AD8-DA2F-4869-B667-7FD958747974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92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PATRICIA BLANCO CIMADEV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LAURA FUENTES OT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83d68"/>
                </a:solidFill>
                <a:latin typeface="Georgia"/>
              </a:rPr>
              <a:t>Characteristics/signs of gifted student in the classroom:</a:t>
            </a:r>
            <a:endParaRPr b="0" lang="en-US" sz="4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Bibliography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telegenio.org/faq/preguntas-frecuentes/9-caracteristicas-principales-de-los-ninos-superdotado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1.teachersfirst.com/gifted/spot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facebook.com/l.php?u=http%3A%2F%2Fwww.aprendemas.com%2FREPORTAJES%2FP1.asp%3FReportaje%3D1313&amp;h=MAQH_J_Z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creena.educacion.navarra.es/006menu%20izquierda/PDFs/SUPERCAS.pd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dex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General ch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 the clas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Some auth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C:\Users\Laura F\Desktop\child-prodigy.jpg"/>
          <p:cNvPicPr/>
          <p:nvPr/>
        </p:nvPicPr>
        <p:blipFill>
          <a:blip r:embed="rId1"/>
          <a:stretch/>
        </p:blipFill>
        <p:spPr>
          <a:xfrm>
            <a:off x="3492360" y="1638360"/>
            <a:ext cx="53276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Definition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ng the term 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f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is no easy tas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erous definitions have been suggested, but no single definition of giftedness is accepted by everyone or even by a majority of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defines a gifted person as one who has an IQ above 130. It is estimated that 2% of children eligible to be considered gifted. Many experts agree that the right age to diagnose a gifted child is between four and eight years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2" descr="C:\Users\Laura F\Desktop\gifted-children.gif"/>
          <p:cNvPicPr/>
          <p:nvPr/>
        </p:nvPicPr>
        <p:blipFill>
          <a:blip r:embed="rId1"/>
          <a:stretch/>
        </p:blipFill>
        <p:spPr>
          <a:xfrm>
            <a:off x="6300720" y="517536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General characteristic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50920" y="1557360"/>
          <a:ext cx="8504280" cy="485280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xceptionally 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or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rate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gh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i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po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mature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dinar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rl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low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rmal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ick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k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itory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ong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o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im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r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1680" y="1527120"/>
          <a:ext cx="8504280" cy="471024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Asks many questions and is very curi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Possesses a large amount of inform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goo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"off task" and "off topic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mpatient when not called on i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rns new information quick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Retains information easi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sters reading skills earlier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abilities in math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isplays unusual academic achiev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inishes classwork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easily bor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come disruptive in clas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trong resistance to repetitive activities and memoriz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mpletes work quickly but slo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618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500688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nterested in many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Becomes involved in a variety of activit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motivated to try new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a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y resist working on activities apart from areas of intere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ves projects unfini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akes on too much and becomes overwhel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hinks independent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xpresses unique and original opin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lf-moti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hallenges author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handle criticism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work well i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ses higher level thinking skills (analysis, synthesis, evaluation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kes connections other students don't se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nsiders unusual approaches to problem-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ends to be absent-minded regarding practical detai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orgets homework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1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…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01680" y="1527120"/>
          <a:ext cx="8504280" cy="43164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trong sense of jus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debate current issues and real life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 very critical of self and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argue a poi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a perfectionist and expects others to be perfect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ophisticated sense of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nderstands subtle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plays on words and sat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carried away with a jok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tendency to become the "class clow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expressive skil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nsitive to feelings of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laborates on idea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kill in drama/art/music/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ometimes perceived as a "know-it-all" by pe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ometimes "bossy" to peers in group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4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:\Users\Laura F\Desktop\bebe-inteligente-einstein.jpg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014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nzulli giftedness located at the intersection of three capacities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: intellectual ability far above the averag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 task commitment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eativity high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should be noted that there is not a unique set of characteristics that defines giftedne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ving the ability to develop the interaction between the three groups and their application in any area is what allows to identify a subject as gifte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nteraction represents the area of the central intersection of the three 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’s ring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pic>
        <p:nvPicPr>
          <p:cNvPr id="629" name="3 Marcador de contenido" descr="C:\Users\Laura F\Desktop\Screen shot 2011-05-19 at 10.24.08 AM.png"/>
          <p:cNvPicPr/>
          <p:nvPr/>
        </p:nvPicPr>
        <p:blipFill>
          <a:blip r:embed="rId1"/>
          <a:stretch/>
        </p:blipFill>
        <p:spPr>
          <a:xfrm>
            <a:off x="2266920" y="2133720"/>
            <a:ext cx="4462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7:03:32Z</dcterms:created>
  <dc:creator>Laura F</dc:creator>
  <dc:description/>
  <dc:language>en-US</dc:language>
  <cp:lastModifiedBy>OEM</cp:lastModifiedBy>
  <dcterms:modified xsi:type="dcterms:W3CDTF">2013-11-04T11:56:09Z</dcterms:modified>
  <cp:revision>20</cp:revision>
  <dc:subject/>
  <dc:title>Characteristics/signs of gifted student in the classroom:</dc:title>
</cp:coreProperties>
</file>