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18178-0D82-466C-BB98-EC888C87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B5C6A-C427-4FB5-B401-6A2B6D1F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ACED3-DF39-4877-BC34-89C1D782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0C845-48F0-459D-8C73-381019DA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032AC-6048-4C04-8973-368D3AB8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AD97B-A9F5-4B0E-B8EA-9A49A200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96FD-BBBC-47AD-BFCD-52150B64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DCD8-1346-4E98-9C3F-64EF12473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10498-B9FC-4272-B613-3E206A0B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858D2-0427-40C4-BB88-81CF124F1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202B1-74FD-45F9-A81E-886C0C34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467B6-DF1A-41DC-864B-44CDEA37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999F7-69A4-4ADC-A5EC-7C224D17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43C3-B101-479C-8DF2-B7AAFA12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DAFFC-554D-4480-8268-187123F4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4637-1B6E-4B38-AF2B-42428BB8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16DE-5053-49F4-AF5F-2A944BDF0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8AD4A-C933-4349-AB9B-E1D7F2250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A1D4-E276-46F9-ABA6-79A8AA29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7A9-248C-4056-BE8D-7DAD4CA3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C81-14EF-4F8E-AC85-E9E489A2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868-2062-4A56-9548-FF7D90FC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30-A65E-4012-BEAD-04B7D99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26B2-263C-4392-A717-8473736D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DEB-6037-4B82-914B-B3A4883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B609-C60A-410C-9F0A-53FC6F20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6CCF-6C0A-4495-B96C-C7D2D40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BECB-5A8F-41A6-AAE4-645913B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2AE-F024-49BE-BE73-49296499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1EA-CBBF-4BA8-BCF4-98314F0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330-880B-4731-A839-89B5B4A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516F-EB3C-4BA2-BB03-16DADB3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4BA-694F-4DD1-9B3B-C10134F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19FB-3C77-4A25-96A2-090E722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927-EBCF-4DE6-B671-0FC8BFF7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B9CA-269E-4E1E-948B-E75E7251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C16FD-D48A-475A-B20A-4C012D07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8E103-72D9-4116-9599-D7BF16C5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C28D6-25C0-4F20-A2CD-A5E64BA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B351C-536C-4611-A4E0-4E685CF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E521E-3830-4768-B252-E957A6A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045-4320-419C-8821-477752BA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38DAA-1734-480C-8C27-BF61A8C9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DB783-D78F-4C6A-958B-11B7765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7A0D3-7C05-4E0C-9AB5-7192B2E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E603-A009-4B3C-9D66-DE7987CB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BCB49-9C5D-41BF-9256-D0DFEFF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BA7BE-F9F1-4107-9594-3EF7F698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65FCC-989C-4ADD-848A-CCE03BB4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0D2F-B612-472D-9FAA-C5514F74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80DF-6F1A-48CF-8E12-3127B62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0C67-5658-425B-949C-83384583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3D8-5939-4429-88C3-CAE6902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EF95-92F2-43C5-A6FA-CFC69A30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09ED-7F50-4256-872C-F2BE7F2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1CF0-A71B-485D-BB07-7544A33B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52EE-5789-4AD2-BE79-3E556AA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AF4B-A2F7-411D-9BED-CB1A3C2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3715-3E56-4B99-88EF-326D429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F672-382F-4C3D-BB08-4A91107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FB87-4001-4FD0-8B2A-D277799D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6D04-B92E-433B-8B10-8D475C3F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C0ADE-7222-4AD3-BA48-9C1C40ABE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B98-2914-4CC7-B94D-95A0166B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BD9EF-78E0-4690-B7FE-9256309A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12BDE-83A8-4898-ACA1-631314A2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843D6-B75C-4A3D-9EDE-88921AC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90449-3F6B-4EF7-9039-32F7ACC9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F3D40-20F3-449D-B279-1D11AFDD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D4745-176C-411D-BA04-E32A4D0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5211B-B56F-40D4-8D50-FC0C8377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CD4DB-5ED0-4E19-882B-306D68A2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E41D3-62C5-4F20-AB16-5F149C1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F778D-A66E-4F71-B1B4-9DB540D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CB6-09FC-4FFD-B957-91364859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37E16-EC26-49DC-87A5-B8C0CB45E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B89-98F4-4212-8F2D-7419AB3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8A4-411E-40E8-8F25-9CD6A8C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A3E-E23C-4BBC-BAB6-41264C1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EA6D5-50C6-4CB6-BBE8-5C52217CE137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C84AF-4C38-4798-8212-B0F40E0906C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A9AE8-9F41-4606-81EF-164838EC3D93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466D8-08B9-41AD-A39D-0255FAA08AF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05518-4275-4609-B22E-8E4A8F47AB8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4027-C65A-4ACD-BB15-E0A677486B0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BE403-9EC3-4BBC-9EE6-551868384AE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5C3D5-D611-4AF7-B062-C8C3D3A6ACF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738680" y="1515960"/>
            <a:ext cx="2131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E4997-6281-499C-9E31-5BBA4B90045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4649760" y="5719680"/>
            <a:ext cx="641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F0594-E134-4558-B83A-729EA29B994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4c600"/>
                </a:solidFill>
                <a:latin typeface="Century Gothic"/>
              </a:rPr>
              <a:t>INTELLIGENCE, APTITUDE, CREATIVITY AND TALEN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4720" y="4100400"/>
            <a:ext cx="3275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FTED PUPI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ría Reinald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9172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CREA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015920" y="1773360"/>
            <a:ext cx="7443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The creative process has six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SPIRATION: In which you reasearch and generate many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CLARIFICATION: In which you focus on your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EVALUATION: In which you review your work and learn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DISTILLATION: In which you decide which of your ideas to work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CUBATION: In which you leave the work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PERSPIRATION: In which you work determindly on your best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GAUSSIAN CURVE VALUES OF IQ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64000" y="2420640"/>
            <a:ext cx="298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t´s interesting to show you the Bell Gauss because indicates us that it is considered gifted people who are above 130 in IQ test scor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468360" y="1484280"/>
            <a:ext cx="865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9300" spc="-1" strike="noStrike">
                <a:solidFill>
                  <a:srgbClr val="3e3d2d"/>
                </a:solidFill>
                <a:latin typeface="Cooper Black"/>
              </a:rPr>
              <a:t>SOME </a:t>
            </a:r>
            <a:r>
              <a:rPr b="0" lang="es-ES" sz="8500" spc="-1" strike="noStrike">
                <a:solidFill>
                  <a:srgbClr val="3e3d2d"/>
                </a:solidFill>
                <a:latin typeface="Cooper Black"/>
              </a:rPr>
              <a:t>CONCLUS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6760" y="170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94c600"/>
                </a:solidFill>
                <a:latin typeface="Century Gothic"/>
              </a:rPr>
              <a:t>ARE THERE DIFFERENCES IN THE IQ (INTELLIGENCE QUOTIENT) BETWEEN DIFFERENT HUMAN RACE?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468360" y="1436760"/>
            <a:ext cx="8229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ces exist but can not be attributed to genetic c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 reasons are schooling and socioeconomic level and cultural enri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n evidence is the Flynn Effect. This effect indicates that in societies increase IQ of younger generations as improving their education and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ARE THERE DIFFERENCES IN THE IQ BETWEEN MEN AND WOMEN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Text Box 2"/>
          <p:cNvSpPr/>
          <p:nvPr/>
        </p:nvSpPr>
        <p:spPr>
          <a:xfrm rot="20640000">
            <a:off x="407880" y="3644640"/>
            <a:ext cx="273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There are no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60720" y="2637000"/>
            <a:ext cx="47196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4"/>
          <p:cNvSpPr/>
          <p:nvPr/>
        </p:nvSpPr>
        <p:spPr>
          <a:xfrm rot="20040000">
            <a:off x="2120760" y="3436560"/>
            <a:ext cx="503280" cy="1079640"/>
          </a:xfrm>
          <a:custGeom>
            <a:avLst/>
            <a:gdLst>
              <a:gd name="textAreaLeft" fmla="*/ 0 w 503280"/>
              <a:gd name="textAreaRight" fmla="*/ 503640 w 503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03238" h="1079500">
                <a:moveTo>
                  <a:pt x="0" y="2031"/>
                </a:moveTo>
                <a:lnTo>
                  <a:pt x="7112" y="2031"/>
                </a:lnTo>
                <a:lnTo>
                  <a:pt x="7112" y="0"/>
                </a:lnTo>
                <a:lnTo>
                  <a:pt x="-5713" y="0"/>
                </a:lnTo>
                <a:lnTo>
                  <a:pt x="-5713" y="2031"/>
                </a:lnTo>
                <a:lnTo>
                  <a:pt x="1400" y="2031"/>
                </a:lnTo>
                <a:lnTo>
                  <a:pt x="700" y="3000"/>
                </a:lnTo>
                <a:lnTo>
                  <a:pt x="0" y="203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d9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 rot="1560000">
            <a:off x="4475160" y="317340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 rot="3660000">
            <a:off x="6356880" y="340272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3"/>
          <a:stretch/>
        </p:blipFill>
        <p:spPr>
          <a:xfrm rot="19827600">
            <a:off x="2151000" y="3340080"/>
            <a:ext cx="1127160" cy="1274760"/>
          </a:xfrm>
          <a:prstGeom prst="rect">
            <a:avLst/>
          </a:prstGeom>
          <a:ln w="0">
            <a:noFill/>
          </a:ln>
        </p:spPr>
      </p:pic>
      <p:sp>
        <p:nvSpPr>
          <p:cNvPr id="430" name="1 Elipse"/>
          <p:cNvSpPr/>
          <p:nvPr/>
        </p:nvSpPr>
        <p:spPr>
          <a:xfrm>
            <a:off x="566640" y="1486080"/>
            <a:ext cx="295272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Gothic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Elipse"/>
          <p:cNvSpPr/>
          <p:nvPr/>
        </p:nvSpPr>
        <p:spPr>
          <a:xfrm>
            <a:off x="3611520" y="1268280"/>
            <a:ext cx="2200320" cy="1797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Elipse"/>
          <p:cNvSpPr/>
          <p:nvPr/>
        </p:nvSpPr>
        <p:spPr>
          <a:xfrm>
            <a:off x="5940360" y="1471680"/>
            <a:ext cx="259236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Rectángulo"/>
          <p:cNvSpPr/>
          <p:nvPr/>
        </p:nvSpPr>
        <p:spPr>
          <a:xfrm>
            <a:off x="2371680" y="5045040"/>
            <a:ext cx="5224680" cy="115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entury Gothic"/>
              </a:rPr>
              <a:t>TAL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872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WHAT IS…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654120" y="1989000"/>
            <a:ext cx="7632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ccording to the Royal Spanish Academy is defined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INTELLIGENC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APTITUD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CREATIVITY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inno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TALENT </a:t>
            </a:r>
            <a:r>
              <a:rPr b="0" lang="es-ES" sz="32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 ABILITY TO UNDERSTAND, DO AND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027080" y="1989000"/>
            <a:ext cx="67770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lligence has been studied from different ang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12121"/>
                </a:solidFill>
                <a:latin typeface="Times New Roman"/>
              </a:rPr>
              <a:t>Currently there are new proposals , of which I would like to speak on "The theory of multiple intelligences" by Gardner (1992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212121"/>
                </a:solidFill>
                <a:latin typeface="Century Gothic"/>
              </a:rPr>
              <a:t>"THE THEORY OF MULTIPLE INTELLIGENCES"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ardner defines intelligence as the ability to solve problems or create products valued in a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For Gardner there is multiple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se intelligences are, on the one hand, conventional intelligences and on the other hand, no-conventional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800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«CONVENTIONAL INTELLIGENCES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042920" y="232416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ERBAL-LINGUISTIC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understand, write and memoriz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LOGICAL-MATHEMATIC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Abstraction , calculation , and logical reasoning with numbers , shapes or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ISUAL-SPATI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imagine and make judgments and spatial ori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728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4c600"/>
                </a:solidFill>
                <a:latin typeface="Century Gothic"/>
              </a:rPr>
              <a:t>«NO CONVENTIONAL INTELLIGENCES»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41480" y="182088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MUSIC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soun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BODILY-KINESTHE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Ability to handle body and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ER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understand, predict and empathize with the feelings and behaviors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RA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know and regulate their feelings and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NATURALIS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to know and interact with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3:43:31Z</dcterms:created>
  <dc:creator>maria reinaldos</dc:creator>
  <dc:description/>
  <cp:keywords/>
  <dc:language>en-US</dc:language>
  <cp:lastModifiedBy>OEM</cp:lastModifiedBy>
  <dcterms:modified xsi:type="dcterms:W3CDTF">2015-03-02T09:17:36Z</dcterms:modified>
  <cp:revision>47</cp:revision>
  <dc:subject/>
  <dc:title>What is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resentación en pantal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