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D07-C89D-4B71-9CC6-06C7DDED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982-8E36-4EF2-9BFC-07769113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9623B-2567-441D-B047-EF13DE58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62F84-94EB-4638-B09B-3D1DD31B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F0B8F-AF2A-4961-A9C8-E1E747D6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56EC2-E182-405E-AFF2-23D66F6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E9D15-D0C0-4710-A37E-388799C2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7157E-FED0-49F5-BB66-9F9D2A32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5C428-6005-445D-A45E-56EC29BB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58D53-1DFA-4655-927B-C2F7B9F8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5CB9A-1175-4B86-9137-18E14581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8DDB6-737E-46A9-9AE4-695688A3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7C9-5B88-4CA1-9EAE-EEA41A90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27C91-C219-47A6-B9D1-F037BCB8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5E253-2AF1-4B6D-9D6B-0BE8E884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9C8E2-4DFF-44F4-8877-CF61B274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A4525-797E-4283-9A41-6840BA60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21AE6-0927-477B-B4DF-F2F4F0CC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F3876-30E5-42B6-87A5-E23FF391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D9C35-87CB-4034-A6EA-3B38D4BF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E2F27-2573-446E-983F-AE39E154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A99FC-65A6-46AF-8281-A00109BF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AB072-C02B-4C14-A329-4936DA0D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082-3F29-4A17-B2E7-B65061D6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AB589-A886-4106-B3F0-AED20F23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4DE6F-ACE1-426C-92DB-4B4CCD80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AF17E-F515-456C-8D85-03644933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FB6FB-D4B6-4FC4-8CFA-E3EF35A0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9CAB4-C0C6-49B4-A259-162510E7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00530-3B49-4F91-8833-F7234B81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51C21-C212-4591-A014-9E2CCAF5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1F1D4-80E6-4D93-87A6-7A0A04AB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64B4C-C85A-4F8D-B673-CB16A37A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309C7-6243-49D6-A170-66A69B3E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5C32-07E3-4759-95FA-D7D2B59F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6D566-8486-4835-A024-D3C29A7E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EB9A3-A11E-4C57-99AA-909BC796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D85E9-2760-44C3-BC81-05962D70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3E29B-C4E5-4C68-B78D-88F4F933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50058-640F-40F3-A390-4BBFA538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6D6CB-5833-4C96-AF8D-E89234CD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E0F26-33A3-4B17-87F4-F78618A4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CE58E-307F-4890-A660-839F5689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3D564-FA71-4484-804F-79A2CEA1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B3C1F-6020-41B0-8FA8-04B5E9BB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ED7B-6E0C-4C12-935A-5392E78C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40966-725C-491E-BBE8-48DC6D21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5A96D-7215-4827-BB8E-EA15B8F7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507D2-1C7A-4AA7-AE49-A35084AA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3494E-69C0-4150-8120-8146B85C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5C90B-D183-4E04-9E25-119BA161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7324-9309-41B3-B4F5-4B938092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9235-CD3E-48DA-A6B8-88BA24DF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345A-826D-4436-A90D-0AF66034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1641-1D82-4922-8D29-4971CEA1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3D6F-7549-4E7B-BA4F-40714A3E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379-9477-453B-9FE6-C3CF0A26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5D0F-0ED4-4C67-A492-57AFC993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2C5D-B068-4727-9E51-A739BE3A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520D-9FAA-4917-AE69-BB3244E1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DF27-1A59-4B4F-8190-CE48CF9D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CC84-DF2C-4EBB-8861-20FEADCA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15EA5-A35F-4B56-817A-57493C96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574E-6955-4ADE-B7E1-CA4ECEC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03B0F-A922-4A18-A469-D78E7EBF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8DE7A-771F-4435-B563-7BC4AB36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9AF1F-C1AC-481F-B7ED-570F00F5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C10-D5BF-443E-A591-FFB223B5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AF09F-9131-474D-939F-127FDAAA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2C577-DDD3-4DE0-AB02-0333A1B0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9BC7E-4B79-4B0E-B3D7-7344FC06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7AEDD-746D-4257-B8ED-9B082546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D40CC-B73E-4E8B-9542-6CFF5523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1DD85-2AE2-4B04-A6E4-A4BADEF3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4BF72-F154-4DD5-BBF6-4F27FC58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CFD2E-FF2E-4D8C-BA85-09465D05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C425D-F288-492E-B5FB-34D17362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542AF-906F-4DBD-904D-2DAA6A22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676-F74C-4230-8814-0E65FF51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85507-B2FD-4D37-A7A0-DDA01D3D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5AE3D-8F03-4414-9A2D-75B52C99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1DBF-5E5E-420F-8B3B-1496A836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8675-86C6-4DAD-B769-FD5A4CC1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6A906-A733-4AF7-B321-AC0694DF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DDA1A-3EAA-450C-BB06-FAB1274C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373D0-7858-45AD-8D14-143D06FF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8B209-43BD-47FE-AEC2-E0F3C2FE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0D2A1-70F1-43FE-9BB8-967217D9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DC0D4-0190-452D-A5DA-2805FF89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064-3E8F-4D35-BF05-250A5D4C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455BF-6AD0-407A-BE73-7AA78AEB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EFD68-1567-4B30-B575-A9ECBA8C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D4063-935B-4030-A28C-A9574021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F945E-E4A4-46A5-A3FC-E946CEF2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F4A32-C79C-4BBD-AED6-C126F1E6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DD9DA-9E5C-4ADB-8581-99967AB0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69C19-8F26-4595-8F6F-869F5F3C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B64B8-3C34-43DA-8503-5548E52E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4F55D-77F8-4B5A-A349-0492581A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A39E9-D119-4C7E-8D58-504945AE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3AC-4015-4FCD-B60A-F8F27729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38427-0994-49AB-AAB4-75FE0540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4D3BE-D41E-4E00-8950-8D506C7E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2BE1D-2F80-4D29-AF50-F38CC2B6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96C0F-19C7-4A61-8A0E-7A5D0788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13D47-35C3-4323-94F4-08689FC5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147DF-1164-4B08-9382-16457216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47893-F091-49D1-968F-D754EBAF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49154-0169-4129-8821-5BAA9C44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B3223-74C2-41FE-A081-ABE836DE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78A60-675E-4DEF-AFDA-963C99B6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55D-1853-4AB0-A212-B779AA45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394E7-10A5-4886-9170-BAEC6FF1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CC508-3859-43DE-A9D5-CEF65E18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CBBF1-3541-4A74-8868-29D4DB21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7E81A-2DCE-4415-81DB-27CA0D47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A7169-3657-459C-99BC-90EF76D3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6C60B-B427-403E-8E0D-239FB4A0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444B4-6017-4DAF-A144-78E9AD03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721A1-5BD5-4034-AD07-143E01E6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C25FC-D1FF-473C-9B0F-BEED0B1C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92DE8-0EDC-45F3-995C-EAD23B02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FDF-2D22-45EF-8A30-94B52026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D5AB8-B01F-497E-B2DD-B7ADEBED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F10C0-3FBB-4392-B884-3921D0D8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88A9C-A493-4CAD-80D4-AA4EF59C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B836E-F274-4A50-8FCC-D24CB4DD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CD660-1E11-486B-8F49-3F9AB054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670E-20C4-4451-A604-0A00C94D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B3579-5B62-4E79-953A-3578664F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31221-4F7F-446E-A822-5885A6F6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3DC6D-2CEC-441B-A4B2-E3EECB8D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C4361-01F2-4476-9E9D-FB156ECC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FCB-390F-43B6-9592-B5422E71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FACBB-E2D9-49C5-9026-907E4AB2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D03EF-3F60-4776-A5E1-4B5817DF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F840D-A783-421B-BFCF-5FCD4AA9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A7BF4-B94E-406C-9CBC-ABB9CC80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6E59D-969D-4097-ABC6-1A0F49B3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00124-E4E9-4714-B397-349FA53A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251E2-7A4D-4BFF-920B-25BA4A4C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23C74-93BB-4AD0-9007-298A7241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8C936-602B-4BB0-A408-2BAC58F3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BDB71-B0BF-4167-81AB-AFB35E43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DCD3-89CD-44B2-A816-DBDC9292DA89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5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A2BB-C8D2-493B-B95B-D9A7F0586FC9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731C-EF0B-4E14-AF81-31A3D7118FFA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1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5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6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7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8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AC3F-6FA0-40E2-9C25-254C3459D6A3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1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7394-7A6B-418B-BBFF-4DA94F7CFF13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9845-98D6-4E6C-902B-C56F606532FF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1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3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4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5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6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8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9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0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D4BC-446E-4627-ACDE-E4C6C49CCE28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B748-3726-4FAB-816F-D41E120249EA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1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4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5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6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7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9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0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DC5D-EE83-40ED-9067-5260ED3D6DBC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949B-69A6-4726-931F-798AEE6667CD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74C3-D454-4C0A-BE44-3F7E6C007ED4}" type="slidenum">
              <a:rPr b="0" lang="es-E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3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5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7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8684-E987-4DA7-9D2A-257012E545E1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69236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13f9a"/>
                </a:solidFill>
                <a:latin typeface="Georgia"/>
              </a:rPr>
              <a:t>PATRICIA BLANCO CIMADEVILL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13f9a"/>
                </a:solidFill>
                <a:latin typeface="Georgia"/>
              </a:rPr>
              <a:t>LAURA FUENTES OTÍ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83d68"/>
                </a:solidFill>
                <a:latin typeface="Georgia"/>
              </a:rPr>
              <a:t>Characteristics/signs of gifted student in the classroom:</a:t>
            </a:r>
            <a:endParaRPr b="0" lang="en-US" sz="4400" spc="-1" strike="noStrike">
              <a:solidFill>
                <a:srgbClr val="c35e2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Bibliography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.telegenio.org/faq/preguntas-frecuentes/9-caracteristicas-principales-de-los-ninos-superdotados.htm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1.teachersfirst.com/gifted/spot.htm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.facebook.com/l.php?u=http%3A%2F%2Fwww.aprendemas.com%2FREPORTAJES%2FP1.asp%3FReportaje%3D1313&amp;h=MAQH_J_Z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creena.educacion.navarra.es/006menu%20izquierda/PDFs/SUPERCAS.pd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dex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Defini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General chracterist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In the class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Some autho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2" descr="C:\Users\Laura F\Desktop\child-prodigy.jpg"/>
          <p:cNvPicPr/>
          <p:nvPr/>
        </p:nvPicPr>
        <p:blipFill>
          <a:blip r:embed="rId1"/>
          <a:stretch/>
        </p:blipFill>
        <p:spPr>
          <a:xfrm>
            <a:off x="3492360" y="1638360"/>
            <a:ext cx="53276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Definition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ing the term 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gift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is no easy tas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umerous definitions have been suggested, but no single definition of giftedness is accepted by everyone or even by a majority of peop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O defines a gifted person as one who has an IQ above 130. It is estimated that 2% of children eligible to be considered gifted. Many experts agree that the right age to diagnose a gifted child is between four and eight years ol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2" descr="C:\Users\Laura F\Desktop\gifted-children.gif"/>
          <p:cNvPicPr/>
          <p:nvPr/>
        </p:nvPicPr>
        <p:blipFill>
          <a:blip r:embed="rId1"/>
          <a:stretch/>
        </p:blipFill>
        <p:spPr>
          <a:xfrm>
            <a:off x="6300720" y="5175360"/>
            <a:ext cx="26431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General characteristic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250920" y="1557360"/>
          <a:ext cx="8504280" cy="4852800"/>
        </p:xfrm>
        <a:graphic>
          <a:graphicData uri="http://schemas.openxmlformats.org/drawingml/2006/table">
            <a:tbl>
              <a:tblPr/>
              <a:tblGrid>
                <a:gridCol w="2835360"/>
                <a:gridCol w="2833560"/>
                <a:gridCol w="2835360"/>
              </a:tblGrid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Undersuppl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if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xceptionally gif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or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derate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igh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mi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rea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ys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ys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ipo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er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mature m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dinary mind 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arly mind 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low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rmal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Quick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eak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ransitory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rong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o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er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inimum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dium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ar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301680" y="1527120"/>
          <a:ext cx="8504280" cy="471024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Asks many questions and is very curiou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Possesses a large amount of informatio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good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asily gets "off task" and "off topic"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impatient when not called on in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3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earns new information quick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Retains information easi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sters reading skills earlier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emonstrates strong abilities in math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isplays unusual academic achieve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Finishes classwork quick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easily bor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an become disruptive in clas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hows strong resistance to repetitive activities and memorizatio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ompletes work quickly but slo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pic>
        <p:nvPicPr>
          <p:cNvPr id="618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01680" y="1527120"/>
          <a:ext cx="8504280" cy="500688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51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53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interested in many thing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Becomes involved in a variety of activiti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motivated to try new thing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njoys a challe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y resist working on activities apart from areas of interes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eaves projects unfinish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akes on too much and becomes overwhelm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22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hinks independent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xpresses unique and original opinion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elf-motiv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hallenges authorit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oes not handle criticism w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oes not work well in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Uses higher level thinking skills (analysis, synthesis, evaluation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kes connections other students don't se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onsiders unusual approaches to problem-sol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ends to be absent-minded regarding practical detail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Forgets homework 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621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…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301680" y="1527120"/>
          <a:ext cx="8504280" cy="431640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strong sense of justic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ikes to debate current issues and real life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an be very critical of self and oth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ikes to argue a poi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a perfectionist and expects others to be perfect as 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sophisticated sense of hum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Understands subtle hum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njoys plays on words and sat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asily gets carried away with a jok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tendency to become the "class clown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emonstrates strong expressive skill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ensitive to feelings of oth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laborates on idea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hows skill in drama/art/music/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ometimes perceived as a "know-it-all" by pe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ometimes "bossy" to peers in group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624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C:\Users\Laura F\Desktop\bebe-inteligente-einstein.jpg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0145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Renzulli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enzulli giftedness located at the intersection of three capacities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: intellectual ability far above the average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high task commitment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reativity high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t should be noted that there is not a unique set of characteristics that defines giftedness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aving the ability to develop the interaction between the three groups and their application in any area is what allows to identify a subject as gifted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is interaction represents the area of the central intersection of the three ring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Renzulli’s ring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pic>
        <p:nvPicPr>
          <p:cNvPr id="629" name="3 Marcador de contenido" descr="C:\Users\Laura F\Desktop\Screen shot 2011-05-19 at 10.24.08 AM.png"/>
          <p:cNvPicPr/>
          <p:nvPr/>
        </p:nvPicPr>
        <p:blipFill>
          <a:blip r:embed="rId1"/>
          <a:stretch/>
        </p:blipFill>
        <p:spPr>
          <a:xfrm>
            <a:off x="2266920" y="2133720"/>
            <a:ext cx="4462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7:03:32Z</dcterms:created>
  <dc:creator>Laura F</dc:creator>
  <dc:description/>
  <dc:language>en-US</dc:language>
  <cp:lastModifiedBy>OEM</cp:lastModifiedBy>
  <dcterms:modified xsi:type="dcterms:W3CDTF">2013-11-04T11:56:09Z</dcterms:modified>
  <cp:revision>20</cp:revision>
  <dc:subject/>
  <dc:title>Characteristics/signs of gifted student in the classroom:</dc:title>
</cp:coreProperties>
</file>