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AAE-5DC3-4223-A926-BFB1C6D6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356-0E6C-4D8E-BB33-7222ADB2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4F1DA-8A8A-48FE-BD30-9F055802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4FEBE-5C70-4B02-9923-64C59A00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0DB12-720D-47EB-9568-9A81897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6A812-2541-4FF5-B63A-2AD973FD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0F936-7601-41DE-B018-1E1F28F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F87636-90F4-499F-8EEE-1E441F7D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64DE9-5630-4B83-97F6-CD28D09B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017D1-6DDD-426B-A861-B1691490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B3CB1-CF79-4F93-B845-C6F62CDD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3CF29-F391-43B0-B1AD-7A1BE9AD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042-8571-42DF-9B3C-69C68C37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70A13-2EF6-439F-8926-4BE6F4F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DFEBC-025C-477C-981E-5B9746B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50AB1-C262-4115-8FE9-41790EF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3F125-8237-4149-9B5D-8A500814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5BC05-5EAD-4669-9806-ECA83E4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3B7DB-E2B2-4F20-B3A1-A8A913C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F74C6-857F-4EA5-8187-539DEA7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5429B-5DBC-4CDF-A023-BB87D51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CA1FE-EF08-46FC-AD2A-A1CCBC5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08938-FF97-4749-9C31-BB88634E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E1C-F4F1-495E-9D96-A6437B8B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2642F-4AA6-4364-BDD2-353F4AAD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A3E2-9F6B-48DE-96A2-F5E100BD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12EE7-864C-4D6B-A935-5CB4952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02A6C-AE8C-4C04-A65A-C3FFD5DD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8A8D4-0F2C-4535-B013-7FAB5D00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4188-A3F7-460F-B252-1B9EB0B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2513D-4996-456B-A5B9-0780204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6AF41-E3DA-430C-B960-68D9C21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3A677-571A-4CB8-B20D-94B55EA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3F5F-ECC9-439E-A499-EE68D5F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AD93-7CB0-4BDD-A678-4053F87E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515F-316C-4F01-A427-7268159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3ECDC-491B-4EE3-AAC8-BDEF335B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59340-C2B7-44D1-8E79-C688A99D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5BA4F-1349-4DBA-9580-42A2D68F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B7B88-B6BF-4B39-A4E0-CC86958A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552EA-D53B-4B5A-AB25-0023FE1A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47256-146A-41DA-81C2-26AB2168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8234B-2B4A-40B5-8900-B7851C2E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D9A79-C44B-4072-BF07-D5E6158D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D4EBD-12DE-4A9C-8B0B-3296EAC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3DFB-E3F4-425A-BD74-13D8232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AA642-B034-469F-80DA-0BE16CB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59A2E-EF6C-4058-A8F1-D2C91EF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C64AC-5E0D-4B29-B572-98815E4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3EFE0-5364-4D4E-AE0F-2BFC14A3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63B1E-A1F8-4497-97BC-D5C0102F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6C9B-F18A-4D91-836A-FAEE36D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2194-C4BD-4E29-9FA6-8BB609D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A6DF-4289-44A4-9EE8-F9B611E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082A-3729-4799-8C7F-A204158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30DA-784E-4D23-A6B1-ABBD692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F48-6099-485D-BEBC-40FAC32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80FB-7F85-443F-9244-195BA24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59C-8D92-465D-AE58-9A0F0D74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A914-EEFE-4244-9D49-C1CBF5A1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82A8-19E9-4CF7-ABBF-7BF6CD48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E858-C96F-4D66-BC71-0830848E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1A22-A2BD-43E5-9CC2-CDC721EC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DB9E-01A7-4CD9-8A0F-A75C01A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BC3D-0889-4B5A-9D7C-99510E16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CC8C-0B65-4572-A33A-5E07F0F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969C-3720-48C1-896A-3B60906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210-EF07-46A7-9D49-6E0751DC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B0C7-4722-4FFE-9B93-C5AA481F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2BCCD-0098-4902-A4F7-E54447C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6BF3-4064-41EE-B6FC-4A0136F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B079-FF71-423B-AA63-1D691E3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8AE9-26A1-40BB-88D1-1CB6B42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96AB-900C-4265-8454-8E025B24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4001-B1D2-4F39-9B90-BCE1334F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2CC8-0EF3-4359-894D-28AE4950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B5BD-BAF3-4FD9-A263-016DE25E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1654-DB7F-4840-980A-8BA463E0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978-F2AD-4817-A2DF-0430D14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234C-ABB6-4A4C-8B39-B7F7B108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52A3-6E17-40B6-851A-814219E4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2134-5FB7-4421-8CA4-81324B4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FBDF-D561-419E-A131-6EEF1F7D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F482-43A4-402D-94BC-376298E0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45E2-0A32-4274-8CB6-F9BC447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A2AD-A870-4CC0-BB2C-715030FD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88BB-8B83-43E2-AFEE-95987BD3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C957-2BAB-4D2C-BB6B-5D670B76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67CDE-9F5C-4D46-ACC5-5A22A4A6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556-C549-4C7E-BBAF-1DBFAA0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2195-67FF-4BA7-A739-B98BFCB7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D181-5909-4022-AF86-12F39506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1301-35C4-4F20-B770-7B026C1A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CE449-4842-4BDB-B195-5A0E2025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1054-3ED4-4232-BD3E-3F391BC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8DE1-3039-411C-A2A1-A7E5038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A4E4-D2E4-41C1-8E0E-82B7D993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9E2C-12A4-4E0D-87D4-5B54492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474B-143C-49F2-A9C9-E6F41F87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540F1-FED4-4768-BA53-0F0472BE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C94-602D-474D-99E8-0C3853C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D825B-013C-46F7-92D6-31408686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2B32F-B4C3-4761-8A31-FC5D21DD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5A44-35C5-4D3D-A380-A02AC610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ACF8E-864F-4405-9A62-AB9B5D83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3965C-76E1-4EAD-83FC-27EB068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9498-9B3D-48D1-A076-8DD16965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F8D0-A268-478D-A3F9-A8E2C0D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B7C9-7615-4EB1-942F-B7E006A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73F1-292D-415C-BA3C-3AB3358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8E87-C80B-4570-9B9A-0FF1E462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1C5-07AD-424A-B34A-27C8AD9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E7C66-1A05-4870-AB46-C8CEA3EC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87FB6-2EA6-4641-BFE3-96DB206A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0234-3B57-4E60-842F-2B8134A7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2BFAD-5052-4FE5-84A0-A1AB8DE6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97266-15E2-4045-846C-C483D6AE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5518C-93E8-4FB2-A1D1-1AA84C05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D533-AA5B-45F1-8BB1-32FC1319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3027-5F5A-494C-A2ED-CE41493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BE954-1447-4936-9A64-F8D95052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16A0-040B-43B6-A862-3B7A400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478-5917-4E2E-9B89-13BF8E6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D6906-92F6-4FBC-BA75-1B4A9BE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9D3F1-53F3-462D-AC73-EAD40D5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1F2A-573B-4C2A-A610-8A5EF41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A7EB-6B26-44BD-B801-40FDB261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9689-BD36-4EAA-B0B4-6C27AE9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284E9-ACB2-4C25-8A9A-D4A752AA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877CD-5DDD-4EDF-BDE8-27AE1C08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AD618-CA7C-4D57-95C6-D880DED3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CAAE0-FF55-4FB5-A15C-2ACDB039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526D-2423-428C-84DC-E22379D2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68D-C80D-4FCB-ABFC-19E69DED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416EC-AED4-435B-87A6-899D0B6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1886F-9B99-4610-9D57-A16BBAFE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F5E96-D8E8-4F5A-AFC6-5CE68B0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816D-2FB0-403B-84E2-505035B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0B7E-2BE0-4B1C-93B6-61141CA6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5A58-B22E-4B9D-964D-A5C6CDA3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59A3-A77F-405C-97CD-6BDDB36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CF9D2-2C08-40B0-98F0-568C2C8C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BC68D-4C9B-46D6-83BB-ED8DDFC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8929B-8ABF-4FBD-B0FA-06E0538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28ED-6127-4C40-B406-3D7DBCEE7AF8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2B19-88B6-4298-A9E8-C56D66EFF0F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E179-CEFE-42D3-9F43-DBCEFEDE2F2B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693B-CE71-4B89-92B1-F8A991957A47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C4DF-F9C2-4571-8EA0-8C7890CBD174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1B22-1939-4488-99BE-DA428982F24D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B17C-CB3E-4038-8D95-3C2177708AE1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258-A83D-4B1A-A20F-1491A8E6791A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4DE-C7CE-4157-A28A-F58DA612CA95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8F1-0A5B-48D4-BFF0-E2686D8AE82C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D88-5556-4BFF-92E4-5516AA6F2E7F}" type="slidenum">
              <a:rPr b="0" lang="es-E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207-7712-4109-B42E-96E2C4AE0DCB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92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PATRICIA BLANCO CIMADEV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LAURA FUENTES OT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83d68"/>
                </a:solidFill>
                <a:latin typeface="Georgia"/>
              </a:rPr>
              <a:t>Characteristics/signs of gifted student in the classroom:</a:t>
            </a:r>
            <a:endParaRPr b="0" lang="en-US" sz="4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Bibliography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telegenio.org/faq/preguntas-frecuentes/9-caracteristicas-principales-de-los-ninos-superdotado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1.teachersfirst.com/gifted/spot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facebook.com/l.php?u=http%3A%2F%2Fwww.aprendemas.com%2FREPORTAJES%2FP1.asp%3FReportaje%3D1313&amp;h=MAQH_J_Z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creena.educacion.navarra.es/006menu%20izquierda/PDFs/SUPERCAS.pd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dex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General ch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 the clas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Some auth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C:\Users\Laura F\Desktop\child-prodigy.jpg"/>
          <p:cNvPicPr/>
          <p:nvPr/>
        </p:nvPicPr>
        <p:blipFill>
          <a:blip r:embed="rId1"/>
          <a:stretch/>
        </p:blipFill>
        <p:spPr>
          <a:xfrm>
            <a:off x="3492360" y="1638360"/>
            <a:ext cx="53276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Definition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ng the term 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f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is no easy tas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erous definitions have been suggested, but no single definition of giftedness is accepted by everyone or even by a majority of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defines a gifted person as one who has an IQ above 130. It is estimated that 2% of children eligible to be considered gifted. Many experts agree that the right age to diagnose a gifted child is between four and eight years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2" descr="C:\Users\Laura F\Desktop\gifted-children.gif"/>
          <p:cNvPicPr/>
          <p:nvPr/>
        </p:nvPicPr>
        <p:blipFill>
          <a:blip r:embed="rId1"/>
          <a:stretch/>
        </p:blipFill>
        <p:spPr>
          <a:xfrm>
            <a:off x="6300720" y="517536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General characteristic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50920" y="1557360"/>
          <a:ext cx="8504280" cy="485280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xceptionally 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or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rate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gh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i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po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mature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dinar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rl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low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rmal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ick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k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itory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ong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o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im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r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1680" y="1527120"/>
          <a:ext cx="8504280" cy="471024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Asks many questions and is very curi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Possesses a large amount of inform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goo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"off task" and "off topic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mpatient when not called on i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rns new information quick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Retains information easi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sters reading skills earlier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abilities in math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isplays unusual academic achiev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inishes classwork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easily bor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come disruptive in clas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trong resistance to repetitive activities and memoriz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mpletes work quickly but slo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618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500688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nterested in many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Becomes involved in a variety of activit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motivated to try new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a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y resist working on activities apart from areas of intere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ves projects unfini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akes on too much and becomes overwhel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hinks independent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xpresses unique and original opin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lf-moti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hallenges author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handle criticism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work well i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ses higher level thinking skills (analysis, synthesis, evaluation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kes connections other students don't se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nsiders unusual approaches to problem-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ends to be absent-minded regarding practical detai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orgets homework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1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…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01680" y="1527120"/>
          <a:ext cx="8504280" cy="43164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trong sense of jus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debate current issues and real life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 very critical of self and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argue a poi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a perfectionist and expects others to be perfect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ophisticated sense of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nderstands subtle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plays on words and sat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carried away with a jok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tendency to become the "class clow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expressive skil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nsitive to feelings of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laborates on idea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kill in drama/art/music/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ometimes perceived as a "know-it-all" by pe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ometimes "bossy" to peers in group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4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:\Users\Laura F\Desktop\bebe-inteligente-einstein.jpg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014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nzulli giftedness located at the intersection of three capacities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: intellectual ability far above the averag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 task commitment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eativity high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should be noted that there is not a unique set of characteristics that defines giftedne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ving the ability to develop the interaction between the three groups and their application in any area is what allows to identify a subject as gifte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nteraction represents the area of the central intersection of the three 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’s ring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pic>
        <p:nvPicPr>
          <p:cNvPr id="629" name="3 Marcador de contenido" descr="C:\Users\Laura F\Desktop\Screen shot 2011-05-19 at 10.24.08 AM.png"/>
          <p:cNvPicPr/>
          <p:nvPr/>
        </p:nvPicPr>
        <p:blipFill>
          <a:blip r:embed="rId1"/>
          <a:stretch/>
        </p:blipFill>
        <p:spPr>
          <a:xfrm>
            <a:off x="2266920" y="2133720"/>
            <a:ext cx="4462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7:03:32Z</dcterms:created>
  <dc:creator>Laura F</dc:creator>
  <dc:description/>
  <dc:language>en-US</dc:language>
  <cp:lastModifiedBy>OEM</cp:lastModifiedBy>
  <dcterms:modified xsi:type="dcterms:W3CDTF">2013-11-04T11:56:09Z</dcterms:modified>
  <cp:revision>20</cp:revision>
  <dc:subject/>
  <dc:title>Characteristics/signs of gifted student in the classroom:</dc:title>
</cp:coreProperties>
</file>