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B8928-6914-4C1C-804A-58684E38A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1D888-986E-477F-8529-447419825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FFAAA-666B-46E7-A843-1FFAECA0C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2044F-C15A-407C-81FE-E8A26BC18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53E1C-DFCE-4689-B66A-C8D81A366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BB780-CE2A-4ABE-A77F-FE7B68258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3EDD2-4EB1-47DB-A531-704F54836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E036B-C7FE-4EEE-9D1C-ADE4A1721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68FAD-57AB-4588-A769-366437A2D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96CEA-1D50-4D81-9803-E22E149FB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9A815-1B02-45D0-B9AB-6EDCB6B6E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A7DAB-AD60-47C8-A014-28D9E9D91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7FCAB-86D3-4993-8E7F-8DA1C30AE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C50D5-3FED-4A1C-9B31-F71461DD4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4DB04-225A-4DD0-967A-AB8E46245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17C9A-D7A8-4B49-9F62-92E3562BC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55444-94E7-4997-B0E3-BF3F83DE4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70575-4E70-4E98-BE4B-0AF16C37A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123A4-2EC0-4E95-92BE-8FDC47AEF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1A8-3099-4A23-9494-1D0BC137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C28-75B2-4090-AD2B-D28C574D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197-F9BB-4184-A122-5782B7F9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145-F211-4967-9DBC-2A4F465F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6374-D20B-46D7-BB51-283FADFF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B9B6-19AB-400C-B00E-81A0F78B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D702-A8D0-4CAD-BC9D-34072FC1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6497-9969-4BAD-A61E-355769E3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A041-8907-420F-AFA0-EC7B96F6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51BA-B22E-4DCF-8D2B-5109EC2B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C6C8-F95E-421A-AD63-7EEDE64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B8A-6337-4A2D-93AC-6D918387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2377-DD56-47C2-B79B-4C475A7B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7E32-E1CF-4DCC-AA44-A3C00D49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4BE2-B189-474B-AF5C-2074AD34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566D-59BE-4628-AF29-01D9644F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1B2D-9B1E-46D9-ABA8-CE8910A2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2F44B-3855-4A34-93AE-6D760805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4AEEB-9E87-4993-BB7D-2FD1BBD5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9E289-6E62-4F7E-AA06-6F55B425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8AE38-4065-4840-8644-A2A0B2E3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55BE0-5B8B-446A-887F-619B1C49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1FD-012F-4059-A60E-B74192DF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DDF61-1A7C-4F0D-8250-723D0C33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1B4C2-4E2E-41BA-A627-D4938EAF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99237-DB75-48A3-8A26-2BAC4E3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11B95-1607-4270-9530-D222F7B3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B85B9-B161-4B6A-A3AA-0E37D655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9E428-FF19-4E43-9092-4BCA21F6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A0052-615D-4C3F-94FF-45B81F28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30266-2403-44CD-BACF-59D6B0D3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0647-6A34-4E07-93D4-46C7A4B9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53AC-1737-431C-97D6-F3B2B869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1ED-DF57-4BFF-A3C2-737AF817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AB7D0-B36D-4519-A377-0CF0643C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33CA-3242-4147-B7ED-FD9A5533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D755-D273-41CB-A478-6D4C0C9C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234E-31AF-40A2-9FE3-CEB32879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EFA8-19A0-4E83-9BB7-271EFD1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DD93-8DA4-4D3B-BD06-2FA8D4B2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03885-9D28-4169-A5D5-A65C760B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7E40A-D603-42E9-84BB-9CA29430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11A4-0D05-4EDB-8C75-E70859FD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AD1CF-0FB4-4542-8AE2-7B702D0F1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FF9-BA07-44B5-A0C2-CD3938F1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D2928-BBDC-476D-8D8D-E12900E0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AF354-2DB6-4B7E-94AC-7B2833F3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5CB2B-EEE7-4454-A089-30609D08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F9F7B-D360-45C3-9AB3-A104224F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D4505-EC9C-4681-B234-DA2634A6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6B58B-38C3-4668-AFE3-74C7CD53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39B93-14DA-4CB0-89BA-9FEEE3CB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5DF48-1410-409B-B885-5CD0221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B7135-63D1-44C3-BFAD-AC0AF854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714C1-693D-4F48-9D01-7E1140E3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A52-3048-47EB-83EC-AC97B243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E1BD0-B0F0-4D38-B56D-94462DA95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A08-8ADE-4122-8B30-B633204F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27F-748B-432C-BCEC-5FCBE8C8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D00-9196-47A9-AA45-02BB9574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244D9-0F21-4CCF-8A24-446A5B48C028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3A327-3389-4E11-88B5-9CE4F24D069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56C70-B6CA-4F78-9541-30703FB396E6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57308-1DC4-45E8-92F4-243C19838175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2C9B5-459F-4983-B270-0495032C34AB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E10D5-3AF5-481A-BFA0-4917B39C2D4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A0289-B0FA-4ADC-9419-AFE8C2F96BCF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4C980-C63A-4C0C-A9AC-2F06405C21D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738680" y="1515960"/>
            <a:ext cx="21319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CE83F-B949-4B09-9109-A07BBD1FC447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4"/>
          </p:nvPr>
        </p:nvSpPr>
        <p:spPr>
          <a:xfrm>
            <a:off x="4649760" y="5719680"/>
            <a:ext cx="6415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9276B-43BD-4D4B-90D6-DD5C84BF28C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4c600"/>
                </a:solidFill>
                <a:latin typeface="Century Gothic"/>
              </a:rPr>
              <a:t>INTELLIGENCE, APTITUDE, CREATIVITY AND TALEN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084720" y="4100400"/>
            <a:ext cx="32752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FTED PUPI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ría Reinaldo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9172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CREATIVIT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015920" y="1773360"/>
            <a:ext cx="7443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The creative process has six ph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SPIRATION: In which you reasearch and generate many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CLARIFICATION: In which you focus on your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EVALUATION: In which you review your work and learn from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DISTILLATION: In which you decide which of your ideas to work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CUBATION: In which you leave the work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PERSPIRATION: In which you work determindly on your best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8064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GAUSSIAN CURVE VALUES OF IQ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64000" y="2420640"/>
            <a:ext cx="2989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684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t´s interesting to show you the Bell Gauss because indicates us that it is considered gifted people who are above 130 in IQ test scor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684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446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468360" y="1484280"/>
            <a:ext cx="86518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9300" spc="-1" strike="noStrike">
                <a:solidFill>
                  <a:srgbClr val="3e3d2d"/>
                </a:solidFill>
                <a:latin typeface="Cooper Black"/>
              </a:rPr>
              <a:t>SOME </a:t>
            </a:r>
            <a:r>
              <a:rPr b="0" lang="es-ES" sz="8500" spc="-1" strike="noStrike">
                <a:solidFill>
                  <a:srgbClr val="3e3d2d"/>
                </a:solidFill>
                <a:latin typeface="Cooper Black"/>
              </a:rPr>
              <a:t>CONCLUSION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6760" y="170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94c600"/>
                </a:solidFill>
                <a:latin typeface="Century Gothic"/>
              </a:rPr>
              <a:t>ARE THERE DIFFERENCES IN THE IQ (INTELLIGENCE QUOTIENT) BETWEEN DIFFERENT HUMAN RACE?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83236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468360" y="1436760"/>
            <a:ext cx="822960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Differences exist but can not be attributed to genetic ca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The reasons are schooling and socioeconomic level and cultural enric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An evidence is the Flynn Effect. This effect indicates that in societies increase IQ of younger generations as improving their education and quality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4c600"/>
                </a:solidFill>
                <a:latin typeface="Century Gothic"/>
              </a:rPr>
              <a:t>ARE THERE DIFFERENCES IN THE IQ BETWEEN MEN AND WOMEN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7" name="Text Box 2"/>
          <p:cNvSpPr/>
          <p:nvPr/>
        </p:nvSpPr>
        <p:spPr>
          <a:xfrm rot="20640000">
            <a:off x="407880" y="3644640"/>
            <a:ext cx="2735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There are no dif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3060720" y="2637000"/>
            <a:ext cx="471960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6247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73436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4"/>
          <p:cNvSpPr/>
          <p:nvPr/>
        </p:nvSpPr>
        <p:spPr>
          <a:xfrm rot="20040000">
            <a:off x="2120760" y="3436560"/>
            <a:ext cx="503280" cy="1079640"/>
          </a:xfrm>
          <a:custGeom>
            <a:avLst/>
            <a:gdLst>
              <a:gd name="textAreaLeft" fmla="*/ 0 w 503280"/>
              <a:gd name="textAreaRight" fmla="*/ 503640 w 503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03238" h="1079500">
                <a:moveTo>
                  <a:pt x="0" y="2031"/>
                </a:moveTo>
                <a:lnTo>
                  <a:pt x="7112" y="2031"/>
                </a:lnTo>
                <a:lnTo>
                  <a:pt x="7112" y="0"/>
                </a:lnTo>
                <a:lnTo>
                  <a:pt x="-5713" y="0"/>
                </a:lnTo>
                <a:lnTo>
                  <a:pt x="-5713" y="2031"/>
                </a:lnTo>
                <a:lnTo>
                  <a:pt x="1400" y="2031"/>
                </a:lnTo>
                <a:lnTo>
                  <a:pt x="700" y="3000"/>
                </a:lnTo>
                <a:lnTo>
                  <a:pt x="0" y="2031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d9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 rot="1560000">
            <a:off x="4475160" y="3173400"/>
            <a:ext cx="731880" cy="1054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"/>
          <p:cNvPicPr/>
          <p:nvPr/>
        </p:nvPicPr>
        <p:blipFill>
          <a:blip r:embed="rId2"/>
          <a:stretch/>
        </p:blipFill>
        <p:spPr>
          <a:xfrm rot="3660000">
            <a:off x="6356880" y="3402720"/>
            <a:ext cx="731880" cy="1054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3"/>
          <a:stretch/>
        </p:blipFill>
        <p:spPr>
          <a:xfrm rot="19827600">
            <a:off x="2151000" y="3340080"/>
            <a:ext cx="1127160" cy="1274760"/>
          </a:xfrm>
          <a:prstGeom prst="rect">
            <a:avLst/>
          </a:prstGeom>
          <a:ln w="0">
            <a:noFill/>
          </a:ln>
        </p:spPr>
      </p:pic>
      <p:sp>
        <p:nvSpPr>
          <p:cNvPr id="430" name="1 Elipse"/>
          <p:cNvSpPr/>
          <p:nvPr/>
        </p:nvSpPr>
        <p:spPr>
          <a:xfrm>
            <a:off x="566640" y="1486080"/>
            <a:ext cx="2952720" cy="1868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Gothic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2 Elipse"/>
          <p:cNvSpPr/>
          <p:nvPr/>
        </p:nvSpPr>
        <p:spPr>
          <a:xfrm>
            <a:off x="3611520" y="1268280"/>
            <a:ext cx="2200320" cy="17971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AP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Elipse"/>
          <p:cNvSpPr/>
          <p:nvPr/>
        </p:nvSpPr>
        <p:spPr>
          <a:xfrm>
            <a:off x="5940360" y="1471680"/>
            <a:ext cx="2592360" cy="1868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4 Rectángulo"/>
          <p:cNvSpPr/>
          <p:nvPr/>
        </p:nvSpPr>
        <p:spPr>
          <a:xfrm>
            <a:off x="2371680" y="5045040"/>
            <a:ext cx="5224680" cy="115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entury Gothic"/>
              </a:rPr>
              <a:t>TAL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872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WHAT IS…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654120" y="1989000"/>
            <a:ext cx="763272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According to the Royal Spanish Academy is defined 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INTELLIGENCE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APTITUDE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CREATIVITY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inno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3e3d2d"/>
                </a:solidFill>
                <a:latin typeface="Times New Roman"/>
              </a:rPr>
              <a:t>TALENT </a:t>
            </a:r>
            <a:r>
              <a:rPr b="0" lang="es-ES" sz="32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3e3d2d"/>
                </a:solidFill>
                <a:latin typeface="Times New Roman"/>
              </a:rPr>
              <a:t> ABILITY TO UNDERSTAND, DO AND INNO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027080" y="1989000"/>
            <a:ext cx="677700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elligence has been studied from different ang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EVOLU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212121"/>
                </a:solidFill>
                <a:latin typeface="Times New Roman"/>
              </a:rPr>
              <a:t>Currently there are new proposals , of which I would like to speak on "The theory of multiple intelligences" by Gardner (1992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212121"/>
                </a:solidFill>
                <a:latin typeface="Century Gothic"/>
              </a:rPr>
              <a:t>"THE THEORY OF MULTIPLE INTELLIGENCES"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Gardner defines intelligence as the ability to solve problems or create products valued in a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For Gardner there is multiple intellig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These intelligences are, on the one hand, conventional intelligences and on the other hand, no-conventional intellig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12800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«CONVENTIONAL INTELLIGENCES»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1042920" y="2324160"/>
            <a:ext cx="6777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VERBAL-LINGUISTIC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To understand, write and memoriz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LOGICAL-MATHEMATICAL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Abstraction , calculation , and logical reasoning with numbers , shapes or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VISUAL-SPATIAL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To imagine and make judgments and spatial ori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728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4c600"/>
                </a:solidFill>
                <a:latin typeface="Century Gothic"/>
              </a:rPr>
              <a:t>«NO CONVENTIONAL INTELLIGENCES»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41480" y="1820880"/>
            <a:ext cx="6777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MUSIC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have a gift for sound and rhy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BODILY-KINESTHETIC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Ability to handle body and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TERPERSON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understand, predict and empathize with the feelings and behaviors of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TRAPERSON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know and regulate their feelings and behavi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NATURALISTIC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have a gift for to know and interact with the natural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13:43:31Z</dcterms:created>
  <dc:creator>maria reinaldos</dc:creator>
  <dc:description/>
  <cp:keywords/>
  <dc:language>en-US</dc:language>
  <cp:lastModifiedBy>OEM</cp:lastModifiedBy>
  <dcterms:modified xsi:type="dcterms:W3CDTF">2015-03-02T09:17:36Z</dcterms:modified>
  <cp:revision>47</cp:revision>
  <dc:subject/>
  <dc:title>What is…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Presentación en pantalla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8</vt:r8>
  </property>
</Properties>
</file>