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B58-D99F-4E2A-81B8-F0FE5E2E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D49-510C-47F6-BEC6-A0AFB82A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734-65F9-4AEB-A7F1-4C6556BD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7FF-5ED3-4D40-9B7D-AE50460A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128E-A133-4595-9C1B-D16E0CC1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8C21-084C-4F52-96E1-C864994D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829B-D917-412B-8524-07C52DD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5223-0EB7-462F-8CB4-FA76259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F774-314D-438D-807F-B3B24D00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1935-58EC-448E-85C8-02F96AFE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49F5-A2F0-438C-A2F3-5ADEEC7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2A8-7DCC-4336-8F35-0B5D2D84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3979-AA2D-499D-BA49-946011A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E71C-224C-46BB-8CB5-76B6B56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214F-264A-4252-9872-53A4090E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6628-BA63-4CCB-A59D-BF058D90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0D90-FB9A-455B-87E5-0A8D63C6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432-237D-4D55-9BD0-677195E4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CBA-4B5A-42CD-A7E6-29C2FD5F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B14-63A8-4457-94B5-C1808DB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09F-ECB9-4768-8C7B-D156CB2F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F4F-6971-43F3-A598-118B9AA0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4C0-4671-481C-BC6C-CC69412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30B-9D28-4DA2-9CD6-49196C4E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3417-1D8A-4A0C-B264-F1E71E2D5D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D031-C91D-4333-9652-653AD35C76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sip.cz/" TargetMode="External"/><Relationship Id="rId2" Type="http://schemas.openxmlformats.org/officeDocument/2006/relationships/hyperlink" Target="http://www.detstvibezurazu.cz/" TargetMode="External"/><Relationship Id="rId3" Type="http://schemas.openxmlformats.org/officeDocument/2006/relationships/hyperlink" Target="http://www.urazydeti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éma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k se chováme v silničním provozu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Prevence úrazů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 blok – 90 m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ácvik divadl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le vymyšlených příběhu ( důležitá čísla, první pomoc, kontrola kola,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kázk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cvičeného divadla před ostatními skupina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ytvoření hr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pracování otázek a odpovědí týkajících se 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. Blok – 4 hodi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ýstav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tánky se značka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lakát cyklistické výbav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mapa města – bezpečná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hra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ředstavení nacvičeného divad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žitečné internetové adre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besip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detstvibezurazu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www.urazydeti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Motivační hr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hádej písme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evence úrazů - výz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se nám může úraz stát? atd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ěti ve skupinách zaznamenávají na arch papír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Pexeso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najdi dvoj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DÚ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při cestě ze školy a do školy sleduj chování ostatních lidí v silničním provozu. Která místa jsou pro tebe nebezpečná? Jaká bys navrhl opatření? Jakých chyb se lidé nejčastěji dopouštějí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1079640" cy="10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04000" y="342900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Křížovka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akování znalostí – tajenka účastník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na koberci: rozhovor – (DÚ),nebezpečná místa, opatřen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lavicíc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každý má svoji mapu, do které zaznamenává svojí cestu do ško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 před magnetickou tabul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a tabuli stále pověšena mapa – děti chodí k tabuli a podle své mapy zanáší na společnou mapu,  místa, která se jim zdají nebezpečn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bl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polečné plánování vycházk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ejbezpečnější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eznámení s úkoly k vycház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značek do předem připravené tabulky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→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počtu aut za určitý časový úsek ( 5 min.) na předem určeném mís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ezipředmětové vztah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matemat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lastivě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blok  -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lizace vycházky – plnění úkol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vrat do školy – zanesení výsledků do tabul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ření slovní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blok – 13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oběhne v hodině čj – hledání slov ve větách – př. O</a:t>
            </a:r>
            <a:r>
              <a:rPr b="0" lang="cs-CZ" sz="3200" spc="-1" strike="noStrike">
                <a:solidFill>
                  <a:srgbClr val="cc6600"/>
                </a:solidFill>
                <a:latin typeface="Verdana"/>
              </a:rPr>
              <a:t>znač ka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ždý strom v le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- práce ve skupinách – tvoří plakát povinné cyklistické výba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yužití internet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kontrola plaká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zentace před spolužá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zadání úkolu – výroba znač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znávání znač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práce v kruhu – přiřazování názvu k značce – co zname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imulace silničníh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voz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ve třídě, využití značek – reakce na ně ( po skupiná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blok – 6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 v čj – </a:t>
            </a: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Jarní vý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říběh, odpovědi na ot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Cyklista v dopravním provoz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áce s internetem – programy dopravní výcho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Čj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Dle obrázku napiš příběh, co se stalo; práce ve skupin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První pomoc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ázorná ukázka – důležitá telefonní čísla, malá ošetření – odřeniny – dezinfekce, obvazování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ošetření spolužá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esuscit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48:34Z</dcterms:created>
  <dc:creator>Lovětínská</dc:creator>
  <dc:description/>
  <dc:language>en-US</dc:language>
  <cp:lastModifiedBy>Lovětínská</cp:lastModifiedBy>
  <dcterms:modified xsi:type="dcterms:W3CDTF">2008-11-13T11:47:41Z</dcterms:modified>
  <cp:revision>4</cp:revision>
  <dc:subject/>
  <dc:title>Téma: Jak se chováme v silničním provozu?</dc:title>
</cp:coreProperties>
</file>