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D036-1D51-4B0C-BF16-03E58BF9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DCFD-91BD-4A1D-90FE-A58ADD6C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8760-8E25-4DDC-99BF-38349510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90C4-C3D6-43F1-81C9-1A0D6485F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7ED4-1CE5-4C6C-9351-06857737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6F04-C10B-4F82-82B4-D51601E9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1742-B306-44F9-B25B-05BEEDB5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725A-6E53-4C62-A85E-170EEF35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52B8-4DE0-42EC-A990-8FDE7928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7468-D06D-40BF-9013-B413486B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BDA6-127B-468B-B01A-A13C2855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3B6B-6916-49C3-8B62-E7DE27B2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51CF-758F-4FA8-9632-DCBAF84B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3D78-3EAA-46CA-ABED-0A275329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AC54-D753-4270-9B1E-94C46295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6F8E-1A65-4A9C-B34F-42C27F78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0C48-FD19-4A80-82FF-A4321106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0D47-2175-4605-9D5F-31C8AEBF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4DB8-5148-4B15-9930-B3A814D9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3C4E-B8D2-43E3-9BAF-64ADAB17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998F-116E-45A5-956F-BC5067AF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269D-5E08-455E-AE19-77055C14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ABB1-08E4-4A1B-BD8B-40D53020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ACB3-50E1-4067-9330-844A3BB4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FB55-07FF-4F3D-A32C-CA9A06254AB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B098-670D-4B45-93C7-E031483E95E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esip.cz/" TargetMode="External"/><Relationship Id="rId2" Type="http://schemas.openxmlformats.org/officeDocument/2006/relationships/hyperlink" Target="http://www.detstvibezurazu.cz/" TargetMode="External"/><Relationship Id="rId3" Type="http://schemas.openxmlformats.org/officeDocument/2006/relationships/hyperlink" Target="http://www.urazydeti.cz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éma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: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ak se chováme v silničním provozu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Prevence úrazů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8. blok – 90 mi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Nácvik divadl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dle vymyšlených příběhu ( důležitá čísla, první pomoc, kontrola kola,…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Ukázk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nacvičeného divadla před ostatními skupinam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9. Blok – 90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Vytvoření hr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Risku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pracování otázek a odpovědí týkajících se silničního provoz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0. Blok – 4 hodin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Výstav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stánky se značkam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plakát cyklistické výbav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mapa města – bezpečná ces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hra risku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představení nacvičeného divadl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žitečné internetové adres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besip.c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www.detstvibezurazu.cz/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http://www.urazydeti.cz/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.blok – 45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Verdana"/>
              </a:rPr>
              <a:t>Motivační hra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– hádej písmen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evence úrazů - význ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de se nám může úraz stát? atd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Děti ve skupinách zaznamenávají na arch papíru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Verdana"/>
              </a:rPr>
              <a:t>Pexeso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– najdi dvojic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Verdana"/>
              </a:rPr>
              <a:t>DÚ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:při cestě ze školy a do školy sleduj chování ostatních lidí v silničním provozu. Která místa jsou pro tebe nebezpečná? Jaká bys navrhl opatření? Jakých chyb se lidé nejčastěji dopouštějí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64000" y="3429000"/>
            <a:ext cx="1079640" cy="1071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804000" y="3429000"/>
            <a:ext cx="995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.blok – 45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Křížovka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akování znalostí – tajenka účastník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lničního provoz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Práce v kruhu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na koberci: rozhovor – (DÚ),nebezpečná místa, opatření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Práce v lavicíc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každý má svoji mapu, do které zaznamenává svojí cestu do ško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Práce v kruhu před magnetickou tabulí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na tabuli stále pověšena mapa – děti chodí k tabuli a podle své mapy zanáší na společnou mapu,  místa, která se jim zdají nebezpečn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. bl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Společné plánování vycházk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nejbezpečnější ces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Seznámení s úkoly k vycház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aznamenávání značek do předem připravené tabulky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→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aznamenávání počtu aut za určitý časový úsek ( 5 min.) na předem určeném místě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Mezipředmětové vztah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matematik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lastivěd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.blok  - 90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alizace vycházky – plnění úkol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ávrat do školy – zanesení výsledků do tabul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voření slovních úlo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. blok – 135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Motivace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proběhne v hodině čj – hledání slov ve větách – př. O</a:t>
            </a:r>
            <a:r>
              <a:rPr b="0" lang="cs-CZ" sz="3200" spc="-1" strike="noStrike">
                <a:solidFill>
                  <a:srgbClr val="cc6600"/>
                </a:solidFill>
                <a:latin typeface="Verdana"/>
              </a:rPr>
              <a:t>znač ka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ždý strom v les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Vv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- práce ve skupinách – tvoří plakát povinné cyklistické výbav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Využití internetu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kontrola plakát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ezentace před spolužá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5.blok – 45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ozdělení do skupi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zadání úkolu – výroba znač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znávání znače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práce v kruhu – přiřazování názvu k značce – co znamen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imulace silničníh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ovozu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ve třídě, využití značek – reakce na ně ( po skupinách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6. blok – 60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Motivace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: v čj – </a:t>
            </a: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Jarní výlet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příběh, odpovědi na otáz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Cyklista v dopravním provozu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práce s internetem – programy dopravní výchov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7. blok – 90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Čj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Dle obrázku napiš příběh, co se stalo; práce ve skupiná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První pomoc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ázorná ukázka – důležitá telefonní čísla, malá ošetření – odřeniny – dezinfekce, obvazování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Rozdělení do skupin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ošetření spolužák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Resuscitac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9:48:34Z</dcterms:created>
  <dc:creator>Lovětínská</dc:creator>
  <dc:description/>
  <dc:language>en-US</dc:language>
  <cp:lastModifiedBy>Lovětínská</cp:lastModifiedBy>
  <dcterms:modified xsi:type="dcterms:W3CDTF">2008-11-13T11:47:41Z</dcterms:modified>
  <cp:revision>4</cp:revision>
  <dc:subject/>
  <dc:title>Téma: Jak se chováme v silničním provozu?</dc:title>
</cp:coreProperties>
</file>