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B8A-C6E3-485A-AFB6-A104FF76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0BFC-BAF5-4907-90AF-C1C7545F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B37-7183-4B30-9409-B82544393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B441-C762-4E9D-AE49-B3B49A36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747F-7D13-444D-952A-6F7F4D873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420E0-B7F1-4DE2-83BF-C61EC19D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BCB2-17A9-4244-88D7-668BEEECD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22D2A-2CE7-4056-90DA-34A60A53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59A34-E28B-4578-B791-086F24A45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7001-CE2F-4D2F-8548-1FA5C06ED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4BC2-1442-45F2-8405-3CA35B15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4FFE-13E8-4C86-8835-3F324FD00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61E2-914D-4A55-8CA4-65838EAE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39EE-7329-44D9-A953-4F2492992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D317-A7DD-49CF-BA26-83B9612A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2077-8B06-45FD-8137-9D2957BDC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8D69-4C24-4B42-8D66-CA9712532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ADAC-0824-4799-A526-33B9C053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C215-54A7-4225-9D3A-227E2B94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E2F1-A682-4BDD-B57C-96F4DCC0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790-B304-4A14-A615-057BCE49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8F3-8C7D-4ED5-B1C5-918E4E79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912F-00D5-4C9B-B94D-41903F84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4D0-243E-4932-9857-06C22853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63B4D-AD54-420B-B158-C71BA690D4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2E8D-D07E-4A34-BF7D-91126855B4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esip.cz/" TargetMode="External"/><Relationship Id="rId2" Type="http://schemas.openxmlformats.org/officeDocument/2006/relationships/hyperlink" Target="http://www.detstvibezurazu.cz/" TargetMode="External"/><Relationship Id="rId3" Type="http://schemas.openxmlformats.org/officeDocument/2006/relationships/hyperlink" Target="http://www.urazydeti.cz/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éma</a:t>
            </a: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: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Jak se chováme v silničním provozu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(Prevence úrazů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8. blok – 90 min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Nácvik divadl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dle vymyšlených příběhu ( důležitá čísla, první pomoc, kontrola kola,…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Ukázka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nacvičeného divadla před ostatními skupinam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9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ytvoření hr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pracování otázek a odpovědí týkajících se 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10. Blok – 4 hodin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Výstav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stánky se značkam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lakát cyklistické výbav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mapa města – bezpečná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hra riskuj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 představení nacvičeného divadl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Užitečné internetové adres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besip.cz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detstvibezurazu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http://www.urazydeti.cz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1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Motivační hra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hádej písmena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Prevence úrazů - význ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Kde se nám může úraz stát? atd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Děti ve skupinách zaznamenávají na arch papíru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Pexeso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– najdi dvojic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Verdana"/>
              </a:rPr>
              <a:t>DÚ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:při cestě ze školy a do školy sleduj chování ostatních lidí v silničním provozu. Která místa jsou pro tebe nebezpečná? Jaká bys navrhl opatření? Jakých chyb se lidé nejčastěji dopouštějí?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5364000" y="3429000"/>
            <a:ext cx="1079640" cy="1071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804000" y="3429000"/>
            <a:ext cx="9954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Křížovka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–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akování znalostí – tajenka účastník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ilničního provoz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na koberci: rozhovor – (DÚ),nebezpečná místa, opatření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lavicích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každý má svoji mapu, do které zaznamenává svojí cestu do ško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Práce v kruhu před magnetickou tabulí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a tabuli stále pověšena mapa – děti chodí k tabuli a podle své mapy zanáší na společnou mapu,  místa, která se jim zdají nebezpečn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. bl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polečné plánování vycházk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– nejbezpečnější ces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Seznámení s úkoly k vycház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→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značek do předem připravené tabulky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→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zaznamenávání počtu aut za určitý časový úsek ( 5 min.) na předem určeném místě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Verdana"/>
              </a:rPr>
              <a:t>Mezipředmětové vztahy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: matematik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lastivěd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3.blok  -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alizace vycházky – plnění úkolů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ávrat do školy – zanesení výsledků do tabul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voření slovních úlo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4. blok – 13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oběhne v hodině čj – hledání slov ve větách – př. O</a:t>
            </a:r>
            <a:r>
              <a:rPr b="0" lang="cs-CZ" sz="3200" spc="-1" strike="noStrike">
                <a:solidFill>
                  <a:srgbClr val="cc6600"/>
                </a:solidFill>
                <a:latin typeface="Verdana"/>
              </a:rPr>
              <a:t>znač ka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ždý strom v les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v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- práce ve skupinách – tvoří plakát povinné cyklistické výba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Využití internet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kontrola plakát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Prezentace před spolužá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5.blok – 45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zadání úkolu – výroba znače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oznávání znače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– práce v kruhu – přiřazování názvu k značce – co znamen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Simulace silničního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cc66"/>
                </a:solidFill>
                <a:latin typeface="Verdana"/>
              </a:rPr>
              <a:t>provozu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ve třídě, využití značek – reakce na ně ( po skupinách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6. blok – 6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Motivace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 v čj – </a:t>
            </a: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Jarní vý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říběh, odpovědi na otázk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Cyklista v dopravním provozu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práce s internetem – programy dopravní výchov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7. blok – 90 min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Čj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Dle obrázku napiš příběh, co se stalo; práce ve skupiná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První pomoc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Názorná ukázka – důležitá telefonní čísla, malá ošetření – odřeniny – dezinfekce, obvazování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cc66"/>
                </a:solidFill>
                <a:latin typeface="Verdana"/>
              </a:rPr>
              <a:t>Rozdělení do skupin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– ošetření spolužá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Resuscitac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09:48:34Z</dcterms:created>
  <dc:creator>Lovětínská</dc:creator>
  <dc:description/>
  <dc:language>en-US</dc:language>
  <cp:lastModifiedBy>Lovětínská</cp:lastModifiedBy>
  <dcterms:modified xsi:type="dcterms:W3CDTF">2008-11-13T11:47:41Z</dcterms:modified>
  <cp:revision>4</cp:revision>
  <dc:subject/>
  <dc:title>Téma: Jak se chováme v silničním provozu?</dc:title>
</cp:coreProperties>
</file>