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8C6A-59C8-4398-9850-FAFDC047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F01F-4612-446D-A0BB-CBE095AA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0364-74D9-44D5-995D-2C853DC5C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81B4-7FC5-4B84-B198-6FEF27D09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4807-F1E1-4DE6-A28B-58E8891D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9DA3-FD68-489C-A096-6AEC2E79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207B-9173-46A5-A96D-198A97C5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2D08-643B-48F8-811E-BB175D57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6050-2F11-497D-AFBF-0C9A8451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8559-747F-4EA4-A1EF-B033889D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7F8F-989C-4DBC-81FA-42C3A4BA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35FE-8B20-48BC-B8B4-80390F60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6A99-E17F-4D74-9AA3-BF03218F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9A42-B22E-4BDD-BE16-CB811ADA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CCAB-8760-4588-935E-D260FFA8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D2B4-8EC5-4294-934F-BD1B4A58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451E-ACE4-4051-AAEA-AD552A61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DDDF-9632-4DBC-A400-178B54A2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0491-D004-4CEB-88A1-2ABCE2AD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58BC-2BBF-4ADE-86A1-000FA96B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D1C7-5BC9-4562-9188-DE30534E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160A-3C10-4AF8-B6CA-AA7DB553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3976-CBCD-4D56-9D28-90079208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31EF-3AAC-4F47-BC6D-BD75643D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DFA7-E575-458B-8999-C52D433D4ED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6498-997E-455C-986B-B67DD32A6DE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esip.cz/" TargetMode="External"/><Relationship Id="rId2" Type="http://schemas.openxmlformats.org/officeDocument/2006/relationships/hyperlink" Target="http://www.detstvibezurazu.cz/" TargetMode="External"/><Relationship Id="rId3" Type="http://schemas.openxmlformats.org/officeDocument/2006/relationships/hyperlink" Target="http://www.urazydeti.cz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éma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: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ak se chováme v silničním provozu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Prevence úrazů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8. blok – 90 mi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Nácvik divadl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dle vymyšlených příběhu ( důležitá čísla, první pomoc, kontrola kola,…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Ukázk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nacvičeného divadla před ostatními skupinam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9. Blok – 90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Vytvoření hr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Risku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Zpracování otázek a odpovědí týkajících se silničního provoz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0. Blok – 4 hodin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Výstav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stánky se značkam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plakát cyklistické výbav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mapa města – bezpečná ces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hra risku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představení nacvičeného divadl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žitečné internetové adres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www.besip.c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www.detstvibezurazu.cz/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http://www.urazydeti.cz/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.blok – 45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Verdana"/>
              </a:rPr>
              <a:t>Motivační hra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– hádej písmen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evence úrazů - význ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Kde se nám může úraz stát? atd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Děti ve skupinách zaznamenávají na arch papíru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Verdana"/>
              </a:rPr>
              <a:t>Pexeso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– najdi dvojic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Verdana"/>
              </a:rPr>
              <a:t>DÚ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:při cestě ze školy a do školy sleduj chování ostatních lidí v silničním provozu. Která místa jsou pro tebe nebezpečná? Jaká bys navrhl opatření? Jakých chyb se lidé nejčastěji dopouštějí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64000" y="3429000"/>
            <a:ext cx="1079640" cy="1071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804000" y="3429000"/>
            <a:ext cx="9954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.blok – 45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Křížovka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akování znalostí – tajenka účastník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lničního provoz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Práce v kruhu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na koberci: rozhovor – (DÚ),nebezpečná místa, opatření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Práce v lavicích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každý má svoji mapu, do které zaznamenává svojí cestu do ško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Práce v kruhu před magnetickou tabulí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na tabuli stále pověšena mapa – děti chodí k tabuli a podle své mapy zanáší na společnou mapu,  místa, která se jim zdají nebezpečn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. bl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Společné plánování vycházk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nejbezpečnější ces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Seznámení s úkoly k vycház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zaznamenávání značek do předem připravené tabulky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→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zaznamenávání počtu aut za určitý časový úsek ( 5 min.) na předem určeném místě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Mezipředmětové vztah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matematik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lastivěd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3.blok  - 90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alizace vycházky – plnění úkol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ávrat do školy – zanesení výsledků do tabul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voření slovních úlo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. blok – 135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Motivace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– proběhne v hodině čj – hledání slov ve větách – př. O</a:t>
            </a:r>
            <a:r>
              <a:rPr b="0" lang="cs-CZ" sz="3200" spc="-1" strike="noStrike">
                <a:solidFill>
                  <a:srgbClr val="cc6600"/>
                </a:solidFill>
                <a:latin typeface="Verdana"/>
              </a:rPr>
              <a:t>znač ka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ždý strom v les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Vv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- práce ve skupinách – tvoří plakát povinné cyklistické výbav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Využití internetu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– kontrola plakát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ezentace před spolužá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5.blok – 45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ozdělení do skupi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zadání úkolu – výroba znač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znávání znače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práce v kruhu – přiřazování názvu k značce – co znamen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imulace silničního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rovozu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ve třídě, využití značek – reakce na ně ( po skupinách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6. blok – 60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Motivace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: v čj – </a:t>
            </a: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Jarní výlet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– příběh, odpovědi na otáz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Cyklista v dopravním provozu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– práce s internetem – programy dopravní výchov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7. blok – 90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Čj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– Dle obrázku napiš příběh, co se stalo; práce ve skupiná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První pomoc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ázorná ukázka – důležitá telefonní čísla, malá ošetření – odřeniny – dezinfekce, obvazování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Rozdělení do skupin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– ošetření spolužák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Resuscitac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9:48:34Z</dcterms:created>
  <dc:creator>Lovětínská</dc:creator>
  <dc:description/>
  <dc:language>en-US</dc:language>
  <cp:lastModifiedBy>Lovětínská</cp:lastModifiedBy>
  <dcterms:modified xsi:type="dcterms:W3CDTF">2008-11-13T11:47:41Z</dcterms:modified>
  <cp:revision>4</cp:revision>
  <dc:subject/>
  <dc:title>Téma: Jak se chováme v silničním provozu?</dc:title>
</cp:coreProperties>
</file>