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06C6-9E44-4F83-88C0-F32743F0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FB86-75CF-45D3-804F-57D1C9AB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E300-2651-4E5E-9CAA-9BC704D0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2A69-9902-4288-BF15-DC346F4E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0558-CD00-44BD-BEDC-71459986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C161-1AA4-45C3-A677-53EE28BE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C984-5A28-4C9D-B3DB-32877F73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1EFC-75FA-4DFF-A432-AEF17794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15DB-C826-4A19-8656-E4E3EE6A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8EFC-9FB3-4EF4-AB30-B68F9FFD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C33E-3377-494C-8624-95DB704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C21-49AF-484B-9828-735D816D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FB8E-CAB4-42D9-91D7-9FCC0FC5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B4B7-DA06-4602-BF69-B74749FB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72AD-5BFC-43FF-9E87-E512F321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FB75-105E-420A-A0E8-03B71662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0BDB-BBA2-4C72-B412-E337F9C7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3382-E2B2-42BD-91AB-7D69C21D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876-3B46-4F52-BE5C-8AE0F73C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C3A-B809-46A1-B5FF-61054872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A47-61C5-4204-8C6B-3969C181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3DA-03B3-4A35-8388-9E26F525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E8E-67C0-4CEC-9F92-9D1FE5B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2A3-481D-4768-8F88-5E86B8D3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1C91-39C7-4107-AE36-96074FD09D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288A-C233-4ABD-9B4D-30BF7E833EF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sip.cz/" TargetMode="External"/><Relationship Id="rId2" Type="http://schemas.openxmlformats.org/officeDocument/2006/relationships/hyperlink" Target="http://www.detstvibezurazu.cz/" TargetMode="External"/><Relationship Id="rId3" Type="http://schemas.openxmlformats.org/officeDocument/2006/relationships/hyperlink" Target="http://www.urazydeti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éma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k se chováme v silničním provozu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Prevence úrazů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 blok – 90 m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ácvik divadl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le vymyšlených příběhu ( důležitá čísla, první pomoc, kontrola kola,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kázk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cvičeného divadla před ostatními skupina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ytvoření hr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pracování otázek a odpovědí týkajících se 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. Blok – 4 hodi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ýstav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tánky se značka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lakát cyklistické výbav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mapa města – bezpečná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hra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ředstavení nacvičeného divad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žitečné internetové adre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besip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detstvibezurazu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www.urazydeti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Motivační hr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hádej písme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evence úrazů - výz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se nám může úraz stát? atd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ěti ve skupinách zaznamenávají na arch papír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Pexeso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najdi dvoj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DÚ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při cestě ze školy a do školy sleduj chování ostatních lidí v silničním provozu. Která místa jsou pro tebe nebezpečná? Jaká bys navrhl opatření? Jakých chyb se lidé nejčastěji dopouštějí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1079640" cy="10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04000" y="342900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Křížovka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akování znalostí – tajenka účastník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na koberci: rozhovor – (DÚ),nebezpečná místa, opatřen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lavicíc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každý má svoji mapu, do které zaznamenává svojí cestu do ško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 před magnetickou tabul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a tabuli stále pověšena mapa – děti chodí k tabuli a podle své mapy zanáší na společnou mapu,  místa, která se jim zdají nebezpečn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bl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polečné plánování vycházk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ejbezpečnější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eznámení s úkoly k vycház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značek do předem připravené tabulky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→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počtu aut za určitý časový úsek ( 5 min.) na předem určeném mís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ezipředmětové vztah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matemat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lastivě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blok  -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lizace vycházky – plnění úkol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vrat do školy – zanesení výsledků do tabul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ření slovní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blok – 13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oběhne v hodině čj – hledání slov ve větách – př. O</a:t>
            </a:r>
            <a:r>
              <a:rPr b="0" lang="cs-CZ" sz="3200" spc="-1" strike="noStrike">
                <a:solidFill>
                  <a:srgbClr val="cc6600"/>
                </a:solidFill>
                <a:latin typeface="Verdana"/>
              </a:rPr>
              <a:t>znač ka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ždý strom v le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- práce ve skupinách – tvoří plakát povinné cyklistické výba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yužití internet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kontrola plaká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zentace před spolužá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zadání úkolu – výroba znač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znávání znač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práce v kruhu – přiřazování názvu k značce – co zname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imulace silničníh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voz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ve třídě, využití značek – reakce na ně ( po skupiná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blok – 6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 v čj – </a:t>
            </a: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Jarní vý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říběh, odpovědi na ot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Cyklista v dopravním provoz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áce s internetem – programy dopravní výcho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Čj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Dle obrázku napiš příběh, co se stalo; práce ve skupin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První pomoc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ázorná ukázka – důležitá telefonní čísla, malá ošetření – odřeniny – dezinfekce, obvazování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ošetření spolužá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esuscit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48:34Z</dcterms:created>
  <dc:creator>Lovětínská</dc:creator>
  <dc:description/>
  <dc:language>en-US</dc:language>
  <cp:lastModifiedBy>Lovětínská</cp:lastModifiedBy>
  <dcterms:modified xsi:type="dcterms:W3CDTF">2008-11-13T11:47:41Z</dcterms:modified>
  <cp:revision>4</cp:revision>
  <dc:subject/>
  <dc:title>Téma: Jak se chováme v silničním provozu?</dc:title>
</cp:coreProperties>
</file>