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E2D-1220-4DA3-9A59-8D4B3BD4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1D4-1395-4B98-A41F-F5A25260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E89-CFE8-462D-8C8E-6E1BD5A1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910-EF10-4416-8C3E-3D913B70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7893-88BD-410D-920B-DD0FF6D1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B949-E306-4F33-828B-1CF4C5CE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B1B1-2B87-4C1A-A881-001D5B0A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4588-D7BE-44FD-B3BF-C7BF9582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9D9B-413E-437C-9741-BCC8746D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79B4-E629-443C-BA2A-EF355356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E7A6-4EE5-4DBD-9E26-A8E0FD4C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B56-86B0-4A8B-9D4C-5B272B75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C95F-B5B3-48C0-963B-A5292EF9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057D-B4E5-4059-B9BE-990D331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0E78-0EF2-47DF-BCE4-AD46CF1E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BF4A-D1B4-4EC5-AFF5-75F734BA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49A0-12F0-487D-804A-96C9407A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267-70A1-4596-BE65-DA15E96E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098-FF97-4906-AFCB-342C1A40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F49-88E7-4B4F-A779-3B5E2AEF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481-88C9-4677-98ED-54DAAA9F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B89-18B1-40A3-840E-38AA5D4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A18F-C33D-4A3C-8955-6D26B87B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081-AF64-466C-8A7B-54AB8260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E8BD-0832-47DD-9129-D7FD545D89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D714-C3E3-49BA-A5C0-46BE72976D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sip.cz/" TargetMode="External"/><Relationship Id="rId2" Type="http://schemas.openxmlformats.org/officeDocument/2006/relationships/hyperlink" Target="http://www.detstvibezurazu.cz/" TargetMode="External"/><Relationship Id="rId3" Type="http://schemas.openxmlformats.org/officeDocument/2006/relationships/hyperlink" Target="http://www.urazydeti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éma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k se chováme v silničním provozu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Prevence úrazů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8. blok – 90 mi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ácvik divadl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le vymyšlených příběhu ( důležitá čísla, první pomoc, kontrola kola,…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kázk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cvičeného divadla před ostatními skupina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9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ytvoření hr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pracování otázek a odpovědí týkajících se 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. Blok – 4 hodi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ýstav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tánky se značka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lakát cyklistické výbav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mapa města – bezpečná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hra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ředstavení nacvičeného divad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žitečné internetové adre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besip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detstvibezurazu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www.urazydeti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Motivační hr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hádej písme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evence úrazů - výz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de se nám může úraz stát? atd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ěti ve skupinách zaznamenávají na arch papír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Pexeso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najdi dvoj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DÚ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:při cestě ze školy a do školy sleduj chování ostatních lidí v silničním provozu. Která místa jsou pro tebe nebezpečná? Jaká bys navrhl opatření? Jakých chyb se lidé nejčastěji dopouštějí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1079640" cy="107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04000" y="342900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Křížovka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akování znalostí – tajenka účastník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na koberci: rozhovor – (DÚ),nebezpečná místa, opatřen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lavicíc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každý má svoji mapu, do které zaznamenává svojí cestu do ško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 před magnetickou tabul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a tabuli stále pověšena mapa – děti chodí k tabuli a podle své mapy zanáší na společnou mapu,  místa, která se jim zdají nebezpečn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bl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polečné plánování vycházk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ejbezpečnější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eznámení s úkoly k vycház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značek do předem připravené tabulky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→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počtu aut za určitý časový úsek ( 5 min.) na předem určeném mís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ezipředmětové vztah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matemat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lastivě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blok  -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lizace vycházky – plnění úkol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vrat do školy – zanesení výsledků do tabul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ření slovních ú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blok – 13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oběhne v hodině čj – hledání slov ve větách – př. O</a:t>
            </a:r>
            <a:r>
              <a:rPr b="0" lang="cs-CZ" sz="3200" spc="-1" strike="noStrike">
                <a:solidFill>
                  <a:srgbClr val="cc6600"/>
                </a:solidFill>
                <a:latin typeface="Verdana"/>
              </a:rPr>
              <a:t>znač ka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ždý strom v le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- práce ve skupinách – tvoří plakát povinné cyklistické výba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yužití internet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kontrola plaká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zentace před spolužá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zadání úkolu – výroba znač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znávání znač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práce v kruhu – přiřazování názvu k značce – co zname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imulace silničníh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voz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ve třídě, využití značek – reakce na ně ( po skupiná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blok – 6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 v čj – </a:t>
            </a: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Jarní vý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říběh, odpovědi na ot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Cyklista v dopravním provoz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áce s internetem – programy dopravní výcho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Čj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Dle obrázku napiš příběh, co se stalo; práce ve skupin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První pomoc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ázorná ukázka – důležitá telefonní čísla, malá ošetření – odřeniny – dezinfekce, obvazování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ošetření spolužá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esuscit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48:34Z</dcterms:created>
  <dc:creator>Lovětínská</dc:creator>
  <dc:description/>
  <dc:language>en-US</dc:language>
  <cp:lastModifiedBy>Lovětínská</cp:lastModifiedBy>
  <dcterms:modified xsi:type="dcterms:W3CDTF">2008-11-13T11:47:41Z</dcterms:modified>
  <cp:revision>4</cp:revision>
  <dc:subject/>
  <dc:title>Téma: Jak se chováme v silničním provozu?</dc:title>
</cp:coreProperties>
</file>