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ABF-56DF-41D6-AD45-BA37F5F9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2AC-5ECB-4652-8E59-3900B19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0D7-ED78-4848-A3D6-5C543580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7AF-D88C-4A8D-83B5-1748CD52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AFB18-6FC1-4C0E-A3F5-2ABFA4F6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541A-1828-4C8A-A4F9-44632360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30D1-153F-43EC-8F9B-0C86E1D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AB26-37B6-467B-A3AE-B8D76C9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330C-6EFA-4EBD-8C37-E14FD8A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425D2-60D3-4825-8BB4-23EBB88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97959-2B84-4AE7-A7CA-834E898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6F7-D771-4C84-AAA1-B2E59A41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88FBC-AD8D-45BC-BC5E-C573DB6D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9BF6-F088-4360-B499-4DA266A0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01993-2530-4FFB-BDB0-9BDB352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CDF9-8868-42A2-9E3F-F34EE08F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E910-C46E-45FB-B12C-5AC43239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F03-05F7-49F3-B3F1-E927E67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41A-1742-4E35-B1DD-9E19CF2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5FB-FED7-4B87-927F-2606C398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ADD-77A3-4DBB-8870-7673B38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23E-988A-4B84-A24F-644168D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C1D-C59B-40F3-9FDF-9DFD8DC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D5F-30F0-47F9-8BD0-FF4345F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6C6-29FA-412F-B14B-CB61A2048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6A6-D2C2-4CF0-9B15-74C5B1F93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éma: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Učit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7. Typologie učitel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jrozšířenější prof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Š: 75 000 os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:  11 500   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žnosti typologií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le druhů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le osobnostních charakteris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le charakteristik jednotlivých předmět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8. Kompetence uč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905120"/>
            <a:ext cx="82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ly koncepce učitelské přípravy (tj. učitelského studi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le jednoho z modelů by tato příprava měla obsahovat část odborně předmětovou, pedagogicko - psychologickou, praktickou a všeobecný zákl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Kompeten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borně předmět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sychodidaktick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munika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rganizační a řídí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agnostická a intervenč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adenská a konzulta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flexe vlastní činn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novení priorit v práci učite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609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(viz: Trnková,K. Učitel a jeho profese. In Vybrané kapitoly ze školní pedagogiky, Petr Novotný, Milan Pol (eds.)  Brno: MU, 200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Doporučená studijní lit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ezinka,W. Filozofické základy výchovy.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aha: Zvon, 199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alhous,Z. – Obst, O. Školní didaktika. Olomouc: UP,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ůcha,J. Moderní pedagogika. Praha: Portál, 19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nková,K. Učitel a jeho profese. In Vybrané kapitoly ze školní pedagogiky, Petr Novotný, Milan Pol (eds.)  Brno: MU, 200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selá, Z.: Vývoj české školy a učitelského vzdělávání. Brno: MU, 199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nova předná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orie učitelské profese (pedeutolog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ývoj názorů na učitelskou profe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storický vývoj učitel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fesní dráha uč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k učitelé vyuč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omparace učitelů různý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ologie uč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ompetence učit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1. Teorie učitelské profese (pedeutologie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á své ustálené ozna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ájem o profesi učitele již od starově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ěhem posledních asi 200 let se názory na poslání učitelské profese příliš nezměn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ast učitelské profese lze vymezit  několika tématy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Vývoj názorů na učitelskou profesi - Historický vývoj učitelstva - Profesní dráha učitelů - Jak učitelé vyučují - Komparace učitelů různých zemí - Typologie učitelů - Kompetence učitel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2. Vývoj názorů na učitelskou prof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 v evropském středově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istický uči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 období národního obro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období průmyslové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v období 19. st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současné doby  - nárok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jich profe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3. Historický vývoj učitelst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. Veselá a její publik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ílá místa“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ychická a fyzická zátěž v prof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avotní stav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ální a ekonomické podmínky života učitel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4. Profesní dráha učitel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is a analýza jednotlivých fází vývoje profesní dráhy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latnění absolventů studia učitels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5. Jak učitelé vyučuj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kace učitelů a žáků ve vyuč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zv. „skryté kurikulum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fesiografické met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Poznámka: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Ukázka odborného textu zpracovaného posluchačkou  V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(námět k bakalářským nebo diplomovým pracím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6. Komparace učitelů různých zem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grafické a sociální charakteris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ference forem výuky, aplikace met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oznámka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kázka odborného textu zpracovaného posluchačkou VŠ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ámět k bakalářským nebo diplomovým pracím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4:07:43Z</dcterms:created>
  <dc:creator>Karel Ouroda</dc:creator>
  <dc:description/>
  <dc:language>en-US</dc:language>
  <cp:lastModifiedBy>Karel Ouroda</cp:lastModifiedBy>
  <dcterms:modified xsi:type="dcterms:W3CDTF">2006-05-04T09:34:28Z</dcterms:modified>
  <cp:revision>6</cp:revision>
  <dc:subject/>
  <dc:title>Téma: Učitel</dc:title>
</cp:coreProperties>
</file>