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21C-120A-4B58-B77A-527979D6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482-469A-4AD2-A54E-3C4A825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D61-1A44-4DA6-9AA7-D1462A04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85C-39CC-45C8-9C78-459D8C3A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D843-4486-4BE1-A567-18ED684A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64B-5BB7-432C-B545-E9EB6972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C247-DD86-4F02-B6C7-6B70390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D12C-E8E4-4AED-9494-E6EC4A87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5672-79CE-483F-9300-18CE9B68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CF25-C604-4DCC-BCE8-86EFCC6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FAB3-3E35-4C60-814F-AC9B618F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ED3-590A-4B73-9EC7-2F35974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73B5-3215-4705-BA6D-914798B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B4A-2515-4E76-ACE7-F76AEA9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F873-2AFF-4ECE-BF08-32E28F47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0DB5-6A88-4F36-9F5B-0D500D6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CEA9-8571-414F-BBFF-2483CE39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6F6-02CA-42D1-A359-7C00CF22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863-6328-4C34-9CAA-4ADC01B8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382-0A65-4244-BF42-6EE93EA9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D97-25EA-429D-A607-D35DF336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F67-E774-4A97-A612-897D7ED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621-7C1D-444A-81AD-20FC712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8EF-C484-4FB7-8ADF-6CFE0D9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C75-EAF6-4035-9E82-69D2B5C5953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38E-3991-4CF0-A32A-0CD0D76BEC0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ahoma"/>
              </a:rPr>
              <a:t>Téma 5. Vyučovací metody a form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Studijní literatu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alhous, Z. – Obst, O. Školní didaktika, Olomouc: UP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jžíšek,L. Vyučovací metody. Praha: SPN, 197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uroda, S. Oborová didaktika. Brno: MZLU, 2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ilberman, M. 101 metod pro aktivní výcvik a vyučování. Praha: Portál, 199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alková, J. Obecná didaktika. Praha: ISV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rána,S. Učebné metody. Praha: Dědictví Komenského, 193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Vyprávění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toda vyprávění je už méně náročná na racionální fakta než přednáška. Charakterické je naopak svým emotivním zaměřením, tím, že probouzí u žáků názorné prožitky, že umožňuje vývoj reprodukční fantazi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ato metoda je velmi vhodná pro předání poznatků ze zkušeností učitele, učiva historického charakteru, ale i při popisu života a významu práce odborníků v určitém oboru, vyprávění o pozorování života zvířat aj.  Dějovost, emoční složka vyprávění jsou výraznými podněty ve výuce a efektivita je vysoká. Vyprávění může být i relaxačním prvkem výuky vedené metodami zaměřenými na rozvíjení rozumových schopností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echnikami vyprávění jso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ramatizace děj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ázornost představ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ugestivno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e5ffff"/>
                </a:solidFill>
                <a:latin typeface="Tahoma"/>
              </a:rPr>
              <a:t>Rozhovor (dialog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ákladem rozhovoru je </a:t>
            </a:r>
            <a:r>
              <a:rPr b="1" i="1" lang="cs-CZ" sz="1800" spc="-1" strike="noStrike">
                <a:solidFill>
                  <a:srgbClr val="ffffff"/>
                </a:solidFill>
                <a:latin typeface="Tahoma"/>
              </a:rPr>
              <a:t>otázka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učitele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terá nutí žáky k přemýšlení. Využívá se stávajících vědomostí, které jsou nově kombinované a vznikají relativně nové souvislosti. Chybí však moment nové smyslové zkušeností žák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ožadavkem při použití této metody je, aby otázky byly stanoveny jednoznačně, lépe stručnou formou, jazykově správně a aby byl zachovaný jejich logický sled podle logiky odborného obsahu (spjatost otázky s otázkou předchozí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ozhovor je metodou náročnou - vyhovuje zejména bystrým žákům (pro žáky intelektuálně pomalé je nátlakovou metodou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Tahoma"/>
              </a:rPr>
              <a:t>Výhod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ociálně výchovný význam metody rozhovoru je v tom, že učí žáky reakcím na slovní podnět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Tahoma"/>
              </a:rPr>
              <a:t>Nevýhod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Jednostranné používání této metody vede k verbálním znalostem žáků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Metody práce s knihou (textem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Jsou významnou součástí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informatické výchov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cs-CZ" sz="1800" spc="-1" strike="noStrike" u="sng">
                <a:solidFill>
                  <a:srgbClr val="ffffff"/>
                </a:solidFill>
                <a:uFillTx/>
                <a:latin typeface="Tahoma"/>
              </a:rPr>
              <a:t>Čtení textu s výkladem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Učitel v přípravě na vyučování rozdělí studovaný text na dílčí částí I ucelenější povahy Připraví si vysvětlení neznámých výrazů a promysli  organizaci zadání úkolů pro četbu žáků a ověřování jejich výkonů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Žáci čtou zadané úseky textu a dělají výklad přečteného tak, jak si je  zapamatovali a pochopili. Po četbě je potřeba obsah výuky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shrnout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a provést zápis (i zde je možné využít k této činnosti žáky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Čtení textu s výkladem je cestou k samostatné četbě žáků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cs-CZ" sz="1800" spc="-1" strike="noStrike" u="sng">
                <a:solidFill>
                  <a:srgbClr val="ffffff"/>
                </a:solidFill>
                <a:uFillTx/>
                <a:latin typeface="Tahoma"/>
              </a:rPr>
              <a:t>Samostatná četba žáků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Učitel žákům zadá samostatné studium odstavce, pak článku až nakonec např. celé knihy. Cílem této informatické výchovy je naučit žáky vyhledávat literární prameny, získávat přehledy o literatuře z oboru jejich profesní přípravy, kriticky hodnotit texty, zpracovávat výpisky z literárních pramenů, zobecňovat získávané POznatky a umět je promítat do prax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řeceňování významu metod práce s knihou může vyústit k verbalismu, avšak nedocenění těchto metod může být příčinou neschopnosti žáka autodidakce (samoučení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ffff"/>
                </a:solidFill>
                <a:latin typeface="Tahoma"/>
              </a:rPr>
              <a:t>Metody přímé zkušenost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ilus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- demons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- instruktá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- exkur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Ilustra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to předvádění učebních pomůcek (obrazů, modelů, skutečných předmětů aj.). Plní funkci názornosti ve výuce. Didaktická hodnota učebních pomůcek je v tom, že se jimi zprostředkované poznatky dostávají přímo do sekundární (střednědobé) pamě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žadavkem je, aby projekce učebních pomůcek byla ve shodě s cíli výuky (pří požadavcích na analýzu objektů by měly být učební pomůcky projektované pro levou hemisféru Pro celostní vnímání naopak pro hemisféru pravou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Demonstra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to metoda přímé zkušenosti, při které žák pozoruje ukázky postojů, hmatů, pohyb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ětšinou je spojována s vysvětlováním požadavků na uváděné činnosti. Poku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spojována s nácvikem pozorovaných činnosti, mluvíme o metodě instruktáž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Instruktá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Úvodní instruktá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která předchází vlastní práci žáků obsahu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prověrku teoretických znalostí žáků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motivaci k výcviku (objasnění cíle výuk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názorné předvedení činnosti učitelem (postoje, úkony, operac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poručuje se předvedení vcelku a v běžném tempu. Potom členit činnost na části a provádět ji ve zpomaleném tempu, aby žáci mohli dobře vnímat. Předváděnou činnost slovně komentovat. V závěru předvádění činnosti zvolit běžné pracovní tempo a činnost předvést vcelk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Exkurze</a:t>
            </a: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Někdy bývá také uváděna jako organizační forma vyučování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Exkurzi můžeme rozdělit na několik částí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Přípravná část -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ahrnuje přípravu učitele a přípravu žáků na exkurzi. Učitel b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ěl především znát podmínky pracoviště, kam žáky na exkurzi přivede. Promysl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usí organizaci exkurze a přípravu žáků na exkurzi. Přípravu žáků řeší sdělení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organizačních záležitostí o exkurzi (datum, místo exkurze, čas a místo odjezdu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racovní vybavení, doba příjezdu zpět), opakování učiva vztahující se k předmětu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exkurze a stanovení úkolů, které budou na exkurzi plnit. Podá žákům informace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ak bude následně využito výsledků exkurz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. Na místě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Tahoma"/>
              </a:rPr>
              <a:t>realizace exkurz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růvodce (příp. učitel) zajistí pro žáky úvodní informace a upozorní je 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bezpečnostní předpisy. Učitel vymezí žákům plán postupu při plnění úkolů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Tahoma"/>
              </a:rPr>
              <a:t>Využití výsledků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 výu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orma tohoto využití závisí na druhu poznatků z exkurze, na jejich významu p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další studium či pro praxi absolventa. Závisí na možnostech učitele. Může to bý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orma referátů žáků, zpracováni panelů vzorků, klasická písemná práce apod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Diskusní met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skuse je dialogem mezi všemi žáky ve skupině, který řídí učitel nebo pověřený žák. Kromě vyučovacích cílů jsou plněny i cíle formativní, t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žáci se učí argumentovat, obhajovat svoje názory i proti oponentů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Některé diskusní met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- brainstorm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- Phillips 6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Vymezení vyučovacích met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čovací metodou rozumíme postup učitele a žáků při plnění cílů výuk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le různých kritérií dělí autoři (například S. Vrána, J. Maňák, L. Mojžíšek)  vyučovací metody do více skup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 základní dělení procesuálních metod je možno považovat jejich členění 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 plnění cílů výuky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 ověřování splnění cílů výuky (diagnostické metody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ffff"/>
                </a:solidFill>
                <a:latin typeface="Tahoma"/>
              </a:rPr>
              <a:t>Brainstorming  </a:t>
            </a:r>
            <a:r>
              <a:rPr b="0" lang="cs-CZ" sz="3200" spc="-1" strike="noStrike">
                <a:solidFill>
                  <a:srgbClr val="e5ffff"/>
                </a:solidFill>
                <a:latin typeface="Tahoma"/>
              </a:rPr>
              <a:t>("bouření mozků," "burza nápadů") 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ato metoda je vhodná pro menší skupiny žáků (5 -12) Větší využití má pří výuce dospělých. Pro zdárný průběh je doporučováno vyloučení extrémních, konfliktních typů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Principy brainstormingu: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1. Princip úplné volnosti nápadů (každý může k danému tématu vyjadřov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voje názory bez jakéhokoliv omezení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. Princip produkce kvantity před kvalitou (cílem je získat, co nejvíce nápadů b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ohledu na jejich kvalitu. Ve velkém množství se několik originálních řešení můž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yskytnout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3. Princip ztráty autorského práva nápadu a to z důvodu, že nápadů na řešení by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řečeno mnoho a každý z nich byl ovlivňovaný nápady předchozími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. Princip zákazu kritizování (učitel předem upozorní na to, že v diskusi nikdo nesmí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pochybnit nebo zesměšnit jakýkoli nápad kohokoliv z diskutujících). K diskus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uto metodou nejsou žáci nijakým způsobem po odborné stránce připravová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Phillips 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Autor této metody, Donald Phillips, doporučil rozdělení účastníků do skupin, které řeší zadaný problém v konkrétním časovém intervalu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e to v podstatě použiti metody brainstormingu aplikací na větší počet žáků. Učitel rozdělí žáky na skupinky po šesti (1 vedoucí a 5 členů skupiny). Pak jim, nejlépe slovně, prezentuje problém, který má být řešený. Postupovat může tak, že problém prezentuje jen vedoucím skupin a ti pak informují svoje členy nebo informuje celý kolektiv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 uvedeni problému nastává 6 minut diskuse o jeho řešeni ve skupinách. Odtud je část názvu metody (6 lidí, 6 minut). Po šesti minutách vedoucí skupin, nebo jimi pověřeni referenti, se shromáždí kolem "kulatého stolu", ostatní členové jsou také přítomni, ale jen sledují diskusi za "kulatým stolem"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Diskusi vede učitel. Vedoucí týmů přednesou názory svých skupin na řešeni. Po předneseni posledního názoru dělá teprve učitel závěr. Nemůže-li udělat závěr, organizuje druhé kolo řešení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Kromě slovního vyjádření vedoucích skupin může učitel požadovat i  písemnou formulaci řešeni (aby vedoucí skupiny při diskusi nemohl upravit řešeni skupiny po vyslechnutí ostatních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Tahoma"/>
              </a:rPr>
              <a:t>Nevýhoda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- krátký časový limit na řešeni problémů, který neumožňuje řešit problémy složitější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ORGANIZAČNÍ FORMY VYUČOVÁN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Studijní literatu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lhous, Z. – Obst, O. Školní didaktika, Olomouc: UP, 20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uroda, S. Oborová didaktika. Brno: MZLU,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kalková, J. Obecná didaktika. Praha: ISV, 199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Vymezení vyučovacích for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jem "organizační forma" znamená určité uspořádání obsahu výuky a  postupu při  výu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le   způsobu  organizace   výuky  rozlišujeme   tyto organizační formy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vyučovací hod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praktické  vyučování (např.  učební praxe,  odborná praxe,   odborný výcvik, praktická cvičení předmětová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exkur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konzultace ve studiu při zaměstn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samostatné práce žák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Vyučovací hodin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  nejčastější  organizační  formou  teoretické výuky. Podle cílů výuky se vyčleňuje několik "typů" vyučovacích hodin  např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expoziční  typ  (převládá  výklad učiva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fixační typ, ve kterém je usilováno  o upevnění znalostí žáků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aplikační typ (převládá aplikace vědomost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motivační  typ (např. úvodní hodi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hodina hodnocení  znalostí žák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5ffff"/>
                </a:solidFill>
                <a:latin typeface="Tahoma"/>
              </a:rPr>
              <a:t>Smíšená (kombinovaná) vyučovací hodi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ozčleněním této vyučovací jednotky na dílčí úseky lze získat její  strukturu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a) úvodní   část   -  trvá asi 2 minut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b) opakování učiva -   trvá podle  konkrétních cílů 5 až 10 minu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c) kontrola domácího úkolu  -  trvá asi  2 minut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d) úvod do nového  učiva část – může trvat 2 až  5 minu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e) výklad nového učiva  - obvykle trvá 20 až 35 minut (podle času věnovanému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na ostatní části  vyučovací hodiny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) opakování a procvičování nového učiva   -   může trvat 3 až 5 minu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g)  ověření splnění  cíle výuky –  optimálně by měla trvat okolo 5 minut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) zadání  domácího úkolu  - asi v průběhu  1 minuty,  některé úkoly jsou z hlediska zadání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časově náročnější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3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i) závěr vyučovací   hodin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KLADY SMÍŠENÉ HODINY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- opírá se o  pevný řád výukové  činnost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- umožňuje  využívání   moderních  didaktických  prostředků   a racionální využívání učební dob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- každý  žák  je  plně   pod  cílevědomým  a  pedagogicky   odůvodněným působením učite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- vytváří  vhodné podmínky pro ověřováni plnění cílů výuk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Exkurz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ěkteří  pedagogičtí  odborníci   považují  exkurzi  za organizační  formu  vyučování,  která  obsahuje  jako hlavní metodu pozorování objektů. Podle  didaktické funkce je možno exkurzi rozděli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předběžnou 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ávěrečn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Konzultace při zaměstnán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ílem  této organizační  formy je  řídit a  usměrňovat individuální studium.  Náplní konzultací by mělo hlavně bý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- vysvětlování náročných úseků uč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- kontrola a hodnocení stupně osvojení učiva žák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ultace by měla zachovávat určitou struktur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1. řešení organizačních záležit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2. kontrola a opakování učiva z předcházející konzul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3. výklad , rozšiřování a prohlubování uč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4.  vymezení  učiva, které  bude  předmětem  následující konzul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5. závěr konzulta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Samostatná práce žáků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Formy samostatné práce žáků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samostatná  práce  v  teoretickém  vyučování  (s  knihou, textem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ísemné prá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samostatná  práce  v  praktickém  vyučování (etapy nácviku dovednost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domácí  úkoly  žáků) usnadňují  žákům  utřídění  učiva, upevnění učiva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dokonalení aplikačních schopností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Druhy domácích úkolů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písemn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grafické, kresebn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studijní - zadávání  opakování  učiva   nově  učeného,  ale i staršíh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modelov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sbírky, atlasy, herbář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Význam: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je zde  plně respektována zásada individuálního tempa žáka pří učení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Tahoma"/>
              </a:rPr>
              <a:t>Zájmová činnost žá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540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Slouží    především   k    uspokojování   a   rozvíjení jejich individuálních potřeb a zájmů.   Výrazně přispívá k odkrývání  a formování talentů,  utváření schopností, dovedností,  praktických zkušeností. Vztah zájmový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Plní funk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kompenzační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integrační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Oblasti zájmové činnosti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společensko vědní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esteticko výchovná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tělovýchovná obl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turistika   a   branná   výchov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přírodovědná obl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technická obl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Za nejvíce významnou pro pedagogickou  praxi bývá považována školou organizovaná zájmová činno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v podobě zájmových kroužků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Zájmové kroužk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Mohou  být realizované  ve škole, domovech  mládeže, ve školních družinách a klubech, ve střediscích pro volný č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vzdělávací cíl: rozšíření a prohloubení znalostí žáků v oboru. Tyto změny se týkají jak odborné složky profilu absolventa,  tak  složky  všeobecně vzdělávací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výchovný  cíl: rozvíjení zájmů žáků jako motivačního faktoru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Realizuji se na základě těchto předpokladů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zájem   žáků   a   dobrovolnost   pří  plnění  úkolů   v kroužk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zájem  o  vedení  kroužku  a  zkušenosti  učitele (zejména   praktické)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odpovídající   vybavení    pro   činnost kroužk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vypracovaný a schválený plán  práce kroužku. Plán by   měl být vypracovaný  na školní rok a  rozepsaný do jednotlivých schůze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- promyšlená propagace činnosti kroužku a využití   výsledků kroužku  (organizace  výstav,  soutěží,  spolupráce   s odbornými    organizacemi aj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A) Rozdělení výukových metod podle  zdroje poznání a typu poznatk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ahoma"/>
              </a:rPr>
              <a:t>1. Metody slov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onologické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přednášení, vyprávění, popisování, vysvětlová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alogické (rozhovor, diskuse, dramatizac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etody písemných prac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písemná cvičení, kompozic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etody práce s texte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čtení textu s výkladem, samostatná četba žáků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i="1" lang="cs-CZ" sz="2400" spc="-1" strike="noStrike">
                <a:solidFill>
                  <a:srgbClr val="ffffff"/>
                </a:solidFill>
                <a:latin typeface="Tahoma"/>
              </a:rPr>
              <a:t>Metody přímé zkušenos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etody ilustrac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pozorování předmětů, jevů, předvádění učebních pomůcek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etody demonstrac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předvádění postojů, hmatů, úkonů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etody exkurz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metody samostatné práce žák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laboratorní práce, pracovní činnosti v dílnách, práce na pozemku, domácí úkol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800" spc="-1" strike="noStrike">
                <a:solidFill>
                  <a:srgbClr val="e5ffff"/>
                </a:solidFill>
                <a:latin typeface="Tahoma"/>
              </a:rPr>
              <a:t>B. </a:t>
            </a: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Rozdělení výukových metod podle</a:t>
            </a:r>
            <a:r>
              <a:rPr b="0" i="1" lang="cs-CZ" sz="4800" spc="-1" strike="noStrike">
                <a:solidFill>
                  <a:srgbClr val="e5ffff"/>
                </a:solidFill>
                <a:latin typeface="Tahoma"/>
              </a:rPr>
              <a:t> fází edukačního procesu 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expoziční metod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(sledují u žáků vytvoření požadovaných vědomostí a dovedností -např. metoda rozhovoru, čtení textu s výkladem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ixační metody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(sleduji upevnění získaných znalosti opakováním a procvičováním. Např. metoda rozhovoru, metoda písemných cvičení, metoda pozorování předmětů a jevů ..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kontrolní metody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(usilují o kontrolu, zda žáci studují, zda správně pochopil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čivo, zda jsou schopni aplikovat vědomosti apod. Patří sem zejména metody diagnostické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otivační metody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(při jejich využití je ve výuce sledována zejména motivace žáků k učení. Časté je jejich použiti zejména na počátku výuky daného Vyučovacího předmětu, na počátku každého tématického celku a na počátku, ale i v průběhu, každé vyučovací jednotky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e5ffff"/>
                </a:solidFill>
                <a:latin typeface="Tahoma"/>
              </a:rPr>
              <a:t>C. Rozdělení výukových metod podle myšlenkových operací (logické metody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nalytická metod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tetická metod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vojová (genetická) metod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induktivní metod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duktivní metod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ogmatická metoda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800" spc="-1" strike="noStrike">
                <a:solidFill>
                  <a:srgbClr val="e5ffff"/>
                </a:solidFill>
                <a:latin typeface="Tahoma"/>
              </a:rPr>
              <a:t>D. </a:t>
            </a: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Rozdělení výukových metod podle aktiviza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ffff"/>
                </a:solidFill>
                <a:uFillTx/>
                <a:latin typeface="Tahoma"/>
              </a:rPr>
              <a:t>Aktivizační metody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(tj. metody podle organizace práce žáků). Důraz je při nich kladený na samostatnou práci žáků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hry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(jako metoda výuky - křížovky, přesmyčky, pexeso, otázková hra aj.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diskusní metody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(brainstorming, Philips 66 a pod.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inscenační metody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(jednoduchá inscenace, mnohostranné hraní úloh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ituační metody (metody rozboru situace, metoda konfliktní situace, metoda postupného seznamováni se situaci, metoda incidentu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programované vyučován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(programy lineární,  programy větvené, programy smíšené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problémové vyučován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(přednášky s prvky problémové výuky, heuristický .rozhovor, samostatné práce žáků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Přehled některých metod vhodných pro středoškolské učite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tody slov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tody práce s knih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tody přímé zkuš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tody samostatné práce žá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Přednáška</a:t>
            </a: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řednáška by se měla vyznačovat tím, že v ní jsou v logickém sledu analyzovány věci, jevy, procesy, události. Jsou vysvětlovány vztahy, příčiny. zdůvodňovány postupy apod. Už z toho vyplývá, že přednášení je náročné na rozumové vnímání, že vedle znalostí faktů vyžaduje jejich vysvětlení, zdůvodnění.  V souvislosti s používáním přednášek na střední škole někdy vystupují  odpůrci této metody s některými otázkami a protiargumen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- Je přednášení vhodnou metodou výuky na střední škole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-  Není příliš abstraktní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- Nevede přednáška k pasivitě žáků střední školy 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o jsou časté otázky, z nichž bývají odvozovány argumenty pro zařazení přednášek do výuky. Podle tvrzení pedagogů však 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k pasivitě nemusí vést, zvláště má-li prvky problémové výuk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(problémové situace řeší přednášející sám a žáci se učí algoritmu řešení problémů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abstraktní nemusí být pro žáky za předpokladu. že učitel bude navazovat 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metody stávající znalosti pojmů a neznámé výrazy vysvětlí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- použití přednášky na střední škole má svoje opodstatnění i v tom, že mnozí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absolventi budou studovat na vysokých školách, kde přednášení je samozřejmostí. Dále pak schopnost vnímat přednášení a chápat jeho obsah je předpokladem pro účinnou výchovu prostřednictVÍm masových komunikačních prostředků. kde zvláště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cenné mohou být zvláště populárně vědecké přednášk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e5ffff"/>
                </a:solidFill>
                <a:latin typeface="Tahoma"/>
              </a:rPr>
              <a:t>Struktura přednášky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- úvo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- hlavní čá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- závěr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ahoma"/>
              </a:rPr>
              <a:t>Úvod přednášky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  -  má  mít zejména motivační charakter.  Má žáky informovat o struktuře přednášky a jejích cílech.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Má získat jejich zájem o vyslechnutí přednášky. Učitel nebo lektor někdy zahajuje přednášení stereotypně. Není to správné, protože by měl zohlednit některý důležitý faktor a tím ukázat svůj vlastni zájem na výsledcích přednášk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ahoma"/>
              </a:rPr>
              <a:t>Hlavní část přednášky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  - 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namená rozvedení tématu stanoveného v úvodu. Vysvětlování a zdůvodňování dílčích faktů, postupů, norem, číselných údajů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Je vhodné hledat a uvádět nová fakta k problémům již známý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Číselné údaje, pokud je to možné, raději vyjadřovat příměr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á podkapitola přednášky by měla být shrnutá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Tahoma"/>
              </a:rPr>
              <a:t>Závěr přednášky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 - 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bsahuje shrnutí podstatných myšlenek z  hlavni části a zobecnění základních poznatků. Velmi vhodné jsou závěry pro praktickou činnost, které z přednášení vyplynou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hodné žákům napsat na tabuli strukturu obsahu přednášk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6:41:08Z</dcterms:created>
  <dc:creator>Edukační vědy</dc:creator>
  <dc:description/>
  <dc:language>en-US</dc:language>
  <cp:lastModifiedBy>Karel Ouroda</cp:lastModifiedBy>
  <dcterms:modified xsi:type="dcterms:W3CDTF">2006-03-25T12:15:11Z</dcterms:modified>
  <cp:revision>17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