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942840" y="744120"/>
            <a:ext cx="49737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685800" y="472284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C736-5737-440C-AD3F-F1109FEDCE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03B-A5F5-4DE0-8500-C6FF00E17D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42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72284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595-0358-454D-805B-1BA55612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907-56BF-4F8B-A28A-9CC7015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766-6158-407B-A8C0-3A9CEA5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584-F16E-4BB3-8AD3-619DC921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173-18D3-4C8C-867B-1DDA3B1C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02D-65F9-4BC3-AB2A-9A5452DB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9E0-041A-41EB-A30E-A3F45E76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1514-2A22-4C42-B623-A976CBB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819A-9253-46B3-81F0-0D679A5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C83E-0DA3-47FD-929C-C90109D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C92-FCC4-4606-B992-1556D88C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58D-0C19-49F2-A110-32E94C25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7FC8-9394-4949-ADC3-14C4C64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D95-09D6-42B7-978A-780C2BB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900F-5B00-40B2-8926-0D51B625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1B80-4F2E-4FC1-81BA-7EBBEC8F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653-B880-4B0E-B5E2-65EA8D5C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0AAD-F26A-4792-8BE6-3D65D410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425C-EFA7-4119-86F0-8EE8C4F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B9C1-E5AF-4A57-BA28-691EE6C7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4DB3-864D-423B-A3B7-4C0D65C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99B6-4F38-422C-85B1-C3FBB92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189-743D-4513-8F32-FA20F32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0511-752F-4EED-8161-970E8533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9ED5-B56D-4F7E-8C5B-622D224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1C16-4B29-4E3E-B798-D2C0F09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FC00-6828-4A99-9F9D-AD42CE8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2625-49FF-44CA-B08F-82A8F2F5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88AA-5722-4431-B875-36BE7ADA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80B9-D2A3-4EA4-9F98-59C7339B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2E56-A921-4548-ACE1-56E7ADA2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ED52-D563-4E38-83CE-45C300A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F267-FFEA-459A-BA69-10644AA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608-CBD3-436B-9C61-5A0E2ADA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8D2E-292D-44B4-B4BE-F2EEAA2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0BBF-1CCE-46F1-BE1B-AF20AEA7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025D-7548-4EF8-8525-5F1F7BE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E016-C1BC-443C-B4E0-15EB5C2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ADE3-4ED4-4D43-A4C3-D5762A7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61D7-F8DA-49BF-8A96-A5336CA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9330-AD8E-471F-BD4C-6EC5047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0364-141D-4809-A2B7-DE7F4B2B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CE92-7387-4538-B981-756927D8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460A-0586-42B9-929D-92E669F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C71-9BED-43EA-A4A9-922516DE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F164-A59F-48BD-960F-BBD4A89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845A-CB98-4A91-B850-3117A08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18C7-006A-440E-9241-85B36AC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A22EC-A65F-428D-A2F4-44DB3B2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3939-9EE7-429C-8796-D2B25AF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7C68-07F3-45AC-AB2B-5D67F38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FD28-E01F-4CB0-8F12-717EC99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0E74-68EE-4F64-98C7-9D1C19D5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90DF-2C39-4455-9AA7-67D0B68F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56C4-4DED-4908-92FD-7F250DA4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D8E-4527-499F-9DC8-86606C8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4AF5-7919-4A6F-A80C-A24E9267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B47BD-390C-4512-B4F5-9457AFDE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0D5E0-C723-4EB4-B492-7DC8783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BA5A7-7644-4AB6-B57D-109AF30F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7CB9F-DEA6-457B-98D0-F2C3771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0E704-3C31-4926-97EC-6A9D538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86182-80AA-400D-AD52-EDDEAF6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54A81-C749-45A2-82E4-E1C6864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DF7C2-B10A-49BF-A80E-4D3E65F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77533-5AEB-4F1C-AAC0-62080AC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D42-78EB-48FA-B2F0-6291F1F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8794D-B83D-4B2E-BC33-04B2A834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211FD-7FD7-484F-A323-18A7661B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35122-CD7A-4512-BCB6-920FFC1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EA66-6590-44D5-88C0-0176CAB7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24E1-0DCE-4214-BB59-0FCF99D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3169-98E1-4A8F-956A-97D2633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8EB9-DBB8-42D5-BAD2-BF8642F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40E6-3CA4-4904-9F42-9AF5746E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CC87-68DA-4694-ADEB-1CC8735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2FA1-1851-4387-9CCA-74EA533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194-9357-43B0-BFC1-AA238A9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2295-AE79-4211-8D57-E58E5DF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C5D1-DB07-42BB-BB19-BCE8F46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0610-517E-4EB5-86FB-2BC3099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8C98F-900E-4A2D-9FF9-4C47CA5A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545F-1963-4C59-82F1-BAE42D5B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1CA-359A-4F4B-8DA8-F137090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A08-B06D-4D2A-B0C9-61F2B5B57F7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5E9-25B4-4504-BC99-6DDB1AA566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ffcc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ffcc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7D65-19CF-4326-8A2C-2BA4F8FA1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D42-18A3-4A06-BBC7-7777404DFE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9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9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9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9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C57-FC8A-4435-AD57-CDA2FFEEEA6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2EE-DD5E-49D4-9741-7FD26D165F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ffcc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ffcc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10A-C1DC-4D20-B3EC-E439A5EB7AD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ECA-CCA4-4861-9E59-68C9538003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793116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Garamond"/>
              </a:rPr>
              <a:t>Dobrý d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029-3A53-436C-B122-8412EBD401D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55640" y="342864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rategický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CC6-031B-4A88-8889-5A35DBD6C8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7" name="Picture 2" descr="úrovně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37450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250920" y="549360"/>
            <a:ext cx="8569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Úrovně manažerského řízení a rozhodování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684360" y="5877000"/>
            <a:ext cx="7848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Zdroj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lohlávek, F., Košťan, P., Šuleř, O.: Management, Computer Press 200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51D-77C6-42B8-8E94-CF2D67EABB8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rategické plán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 je strategický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bor manažerských rozhodnutí a aktivit, které určují celkovou výkonnost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sahuje všechny manažerské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 je účelem strategického managemen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kytuje specifické cíle a jednotnou 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číslo snímk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21A-F365-46F2-9B61-469E874F31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Proces strategického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03848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11280" y="6021360"/>
            <a:ext cx="7848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Zdroj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lohlávek, F., Košťan, P., Šuleř, O.: Management, Computer Press 200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7" name="Picture 5" descr="model plán"/>
          <p:cNvPicPr/>
          <p:nvPr/>
        </p:nvPicPr>
        <p:blipFill>
          <a:blip r:embed="rId1"/>
          <a:stretch/>
        </p:blipFill>
        <p:spPr>
          <a:xfrm>
            <a:off x="1619280" y="907920"/>
            <a:ext cx="5832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99D4-71F9-41A0-9128-7447F0119F5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etody strategické analýz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783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T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Zástupný symbol pro číslo snímk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089-171D-413F-8A68-8F462DA627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PEST analýza vlivu prostřed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599840"/>
            <a:ext cx="403848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900000" y="6021360"/>
            <a:ext cx="7848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3300"/>
                </a:solidFill>
                <a:latin typeface="Arial"/>
              </a:rPr>
              <a:t>Zdroj: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eber, F.: Management, Management Press 2005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5" name="Picture 5" descr="PEST - bě"/>
          <p:cNvPicPr/>
          <p:nvPr/>
        </p:nvPicPr>
        <p:blipFill>
          <a:blip r:embed="rId1"/>
          <a:stretch/>
        </p:blipFill>
        <p:spPr>
          <a:xfrm>
            <a:off x="1476360" y="1023840"/>
            <a:ext cx="6264360" cy="481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8C22-A1AA-4369-AC5F-20DAD73BE3B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etody strategické analýz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783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anční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rie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33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icová a portfoliová srovnání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06AD-6D0B-4946-A361-5898CA84644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Balanced scorecard (BSC)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783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tvoření strategické m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 následující sch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00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nažerská funk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32846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ORGANIZOVÁ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rganizování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3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 je tedy organizační struk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izovan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ladní prvky organiz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ordin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tváření ú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pětí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ělba kompetenc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643-59CB-491A-ADB0-5C7D8DB947B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000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nažerská funk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971640" y="350028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PLÁNOVÁ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tikální členění útvarů –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výrobní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01480" y="1197000"/>
            <a:ext cx="8173080" cy="5327280"/>
            <a:chOff x="501480" y="1197000"/>
            <a:chExt cx="8173080" cy="5327280"/>
          </a:xfrm>
        </p:grpSpPr>
        <p:cxnSp>
          <p:nvCxnSpPr>
            <p:cNvPr id="408" name="_s215045"/>
            <p:cNvCxnSpPr>
              <a:stCxn id="409" idx="1"/>
              <a:endCxn id="410" idx="2"/>
            </p:cNvCxnSpPr>
            <p:nvPr/>
          </p:nvCxnSpPr>
          <p:spPr>
            <a:xfrm rot="10800000">
              <a:off x="1986480" y="4240440"/>
              <a:ext cx="495720" cy="190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1" name="_s215046"/>
            <p:cNvCxnSpPr>
              <a:stCxn id="412" idx="1"/>
              <a:endCxn id="410" idx="2"/>
            </p:cNvCxnSpPr>
            <p:nvPr/>
          </p:nvCxnSpPr>
          <p:spPr>
            <a:xfrm rot="10800000">
              <a:off x="1986480" y="4240440"/>
              <a:ext cx="495720" cy="76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3" name="_s215047"/>
            <p:cNvCxnSpPr>
              <a:stCxn id="414" idx="0"/>
              <a:endCxn id="415" idx="2"/>
            </p:cNvCxnSpPr>
            <p:nvPr/>
          </p:nvCxnSpPr>
          <p:spPr>
            <a:xfrm flipV="1" rot="16200000">
              <a:off x="4397040" y="2422440"/>
              <a:ext cx="381240" cy="1733760"/>
            </a:xfrm>
            <a:prstGeom prst="bentConnector3">
              <a:avLst>
                <a:gd name="adj1" fmla="val 342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215048"/>
            <p:cNvCxnSpPr>
              <a:stCxn id="410" idx="0"/>
              <a:endCxn id="415" idx="2"/>
            </p:cNvCxnSpPr>
            <p:nvPr/>
          </p:nvCxnSpPr>
          <p:spPr>
            <a:xfrm flipH="1" flipV="1" rot="5400000">
              <a:off x="2663640" y="2422080"/>
              <a:ext cx="381240" cy="1734840"/>
            </a:xfrm>
            <a:prstGeom prst="bentConnector3">
              <a:avLst>
                <a:gd name="adj1" fmla="val 342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7" name="_s215049"/>
            <p:cNvCxnSpPr>
              <a:stCxn id="418" idx="0"/>
              <a:endCxn id="419" idx="2"/>
            </p:cNvCxnSpPr>
            <p:nvPr/>
          </p:nvCxnSpPr>
          <p:spPr>
            <a:xfrm flipV="1" rot="16200000">
              <a:off x="6130800" y="1280520"/>
              <a:ext cx="381240" cy="1734840"/>
            </a:xfrm>
            <a:prstGeom prst="bentConnector3">
              <a:avLst>
                <a:gd name="adj1" fmla="val 341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0" name="_s215050"/>
            <p:cNvCxnSpPr>
              <a:stCxn id="415" idx="0"/>
              <a:endCxn id="419" idx="2"/>
            </p:cNvCxnSpPr>
            <p:nvPr/>
          </p:nvCxnSpPr>
          <p:spPr>
            <a:xfrm flipH="1" flipV="1" rot="5400000">
              <a:off x="4397400" y="1281240"/>
              <a:ext cx="381240" cy="1733760"/>
            </a:xfrm>
            <a:prstGeom prst="bentConnector3">
              <a:avLst>
                <a:gd name="adj1" fmla="val 341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9" name="_s215051"/>
            <p:cNvSpPr/>
            <p:nvPr/>
          </p:nvSpPr>
          <p:spPr>
            <a:xfrm>
              <a:off x="3968640" y="119700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Závod  - divize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_s215052"/>
            <p:cNvSpPr/>
            <p:nvPr/>
          </p:nvSpPr>
          <p:spPr>
            <a:xfrm>
              <a:off x="2235600" y="233856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ovoz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_s215053"/>
            <p:cNvSpPr/>
            <p:nvPr/>
          </p:nvSpPr>
          <p:spPr>
            <a:xfrm>
              <a:off x="5702760" y="233856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ovoz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_s215054"/>
            <p:cNvSpPr/>
            <p:nvPr/>
          </p:nvSpPr>
          <p:spPr>
            <a:xfrm>
              <a:off x="501480" y="348012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Dílna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_s215055"/>
            <p:cNvSpPr/>
            <p:nvPr/>
          </p:nvSpPr>
          <p:spPr>
            <a:xfrm>
              <a:off x="3968640" y="3480120"/>
              <a:ext cx="2971800" cy="75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Dílna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_s215056"/>
            <p:cNvSpPr/>
            <p:nvPr/>
          </p:nvSpPr>
          <p:spPr>
            <a:xfrm>
              <a:off x="2482560" y="462168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acoviště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_s215057"/>
            <p:cNvSpPr/>
            <p:nvPr/>
          </p:nvSpPr>
          <p:spPr>
            <a:xfrm>
              <a:off x="2482560" y="5763240"/>
              <a:ext cx="2971800" cy="761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acoviště</a:t>
              </a:r>
              <a:endParaRPr b="0" lang="en-US" sz="3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wipe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tikální členění útvarů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- ostat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50920" y="1197000"/>
            <a:ext cx="8641440" cy="5632200"/>
            <a:chOff x="250920" y="1197000"/>
            <a:chExt cx="8641440" cy="5632200"/>
          </a:xfrm>
        </p:grpSpPr>
        <p:cxnSp>
          <p:nvCxnSpPr>
            <p:cNvPr id="423" name="_s217093"/>
            <p:cNvCxnSpPr>
              <a:stCxn id="424" idx="1"/>
              <a:endCxn id="425" idx="2"/>
            </p:cNvCxnSpPr>
            <p:nvPr/>
          </p:nvCxnSpPr>
          <p:spPr>
            <a:xfrm rot="10800000">
              <a:off x="1821240" y="4414680"/>
              <a:ext cx="524160" cy="201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217094"/>
            <p:cNvCxnSpPr>
              <a:stCxn id="427" idx="1"/>
              <a:endCxn id="425" idx="2"/>
            </p:cNvCxnSpPr>
            <p:nvPr/>
          </p:nvCxnSpPr>
          <p:spPr>
            <a:xfrm rot="10800000">
              <a:off x="1821240" y="4414680"/>
              <a:ext cx="524160" cy="80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8" name="_s217095"/>
            <p:cNvCxnSpPr>
              <a:stCxn id="429" idx="0"/>
              <a:endCxn id="430" idx="2"/>
            </p:cNvCxnSpPr>
            <p:nvPr/>
          </p:nvCxnSpPr>
          <p:spPr>
            <a:xfrm flipV="1" rot="16200000">
              <a:off x="4370040" y="2492280"/>
              <a:ext cx="402840" cy="1833120"/>
            </a:xfrm>
            <a:prstGeom prst="bentConnector3">
              <a:avLst>
                <a:gd name="adj1" fmla="val 342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_s217096"/>
            <p:cNvCxnSpPr>
              <a:stCxn id="425" idx="0"/>
              <a:endCxn id="430" idx="2"/>
            </p:cNvCxnSpPr>
            <p:nvPr/>
          </p:nvCxnSpPr>
          <p:spPr>
            <a:xfrm flipH="1" flipV="1" rot="5400000">
              <a:off x="2537280" y="2492280"/>
              <a:ext cx="402840" cy="1833840"/>
            </a:xfrm>
            <a:prstGeom prst="bentConnector3">
              <a:avLst>
                <a:gd name="adj1" fmla="val 342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217097"/>
            <p:cNvCxnSpPr>
              <a:stCxn id="433" idx="0"/>
              <a:endCxn id="434" idx="2"/>
            </p:cNvCxnSpPr>
            <p:nvPr/>
          </p:nvCxnSpPr>
          <p:spPr>
            <a:xfrm flipV="1" rot="16200000">
              <a:off x="6202800" y="1285200"/>
              <a:ext cx="402840" cy="1833840"/>
            </a:xfrm>
            <a:prstGeom prst="bentConnector3">
              <a:avLst>
                <a:gd name="adj1" fmla="val 340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_s217098"/>
            <p:cNvCxnSpPr>
              <a:stCxn id="430" idx="0"/>
              <a:endCxn id="434" idx="2"/>
            </p:cNvCxnSpPr>
            <p:nvPr/>
          </p:nvCxnSpPr>
          <p:spPr>
            <a:xfrm flipH="1" flipV="1" rot="5400000">
              <a:off x="4370400" y="1285920"/>
              <a:ext cx="402840" cy="1833120"/>
            </a:xfrm>
            <a:prstGeom prst="bentConnector3">
              <a:avLst>
                <a:gd name="adj1" fmla="val 340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4" name="_s217099"/>
            <p:cNvSpPr/>
            <p:nvPr/>
          </p:nvSpPr>
          <p:spPr>
            <a:xfrm>
              <a:off x="3916800" y="119700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Úsek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_s217100"/>
            <p:cNvSpPr/>
            <p:nvPr/>
          </p:nvSpPr>
          <p:spPr>
            <a:xfrm>
              <a:off x="2084040" y="240372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dbor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3" name="_s217101"/>
            <p:cNvSpPr/>
            <p:nvPr/>
          </p:nvSpPr>
          <p:spPr>
            <a:xfrm>
              <a:off x="5750280" y="240372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dbor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_s217102"/>
            <p:cNvSpPr/>
            <p:nvPr/>
          </p:nvSpPr>
          <p:spPr>
            <a:xfrm>
              <a:off x="250920" y="361080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ddělení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111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_s217103"/>
            <p:cNvSpPr/>
            <p:nvPr/>
          </p:nvSpPr>
          <p:spPr>
            <a:xfrm>
              <a:off x="3916800" y="3610800"/>
              <a:ext cx="3142080" cy="801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ddělení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112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_s217104"/>
            <p:cNvSpPr/>
            <p:nvPr/>
          </p:nvSpPr>
          <p:spPr>
            <a:xfrm>
              <a:off x="2345760" y="481752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Funkční místo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111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4" name="_s217105"/>
            <p:cNvSpPr/>
            <p:nvPr/>
          </p:nvSpPr>
          <p:spPr>
            <a:xfrm>
              <a:off x="2345760" y="6024600"/>
              <a:ext cx="3142080" cy="804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Funkční místo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111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137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entralizovan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plochá organizační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0920" y="2781360"/>
            <a:ext cx="8641800" cy="3168000"/>
            <a:chOff x="250920" y="2781360"/>
            <a:chExt cx="8641800" cy="3168000"/>
          </a:xfrm>
        </p:grpSpPr>
        <p:cxnSp>
          <p:nvCxnSpPr>
            <p:cNvPr id="438" name="_s219141"/>
            <p:cNvCxnSpPr>
              <a:stCxn id="439" idx="0"/>
              <a:endCxn id="440" idx="2"/>
            </p:cNvCxnSpPr>
            <p:nvPr/>
          </p:nvCxnSpPr>
          <p:spPr>
            <a:xfrm flipV="1" rot="16200000">
              <a:off x="5934960" y="2684520"/>
              <a:ext cx="634320" cy="3360960"/>
            </a:xfrm>
            <a:prstGeom prst="bentConnector3">
              <a:avLst>
                <a:gd name="adj1" fmla="val 17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1" name="_s219142"/>
            <p:cNvCxnSpPr>
              <a:stCxn id="442" idx="0"/>
              <a:endCxn id="440" idx="2"/>
            </p:cNvCxnSpPr>
            <p:nvPr/>
          </p:nvCxnSpPr>
          <p:spPr>
            <a:xfrm flipV="1" rot="16200000">
              <a:off x="4814640" y="3804840"/>
              <a:ext cx="634320" cy="1120680"/>
            </a:xfrm>
            <a:prstGeom prst="bentConnector3">
              <a:avLst>
                <a:gd name="adj1" fmla="val 17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3" name="_s219143"/>
            <p:cNvCxnSpPr>
              <a:stCxn id="444" idx="0"/>
              <a:endCxn id="440" idx="2"/>
            </p:cNvCxnSpPr>
            <p:nvPr/>
          </p:nvCxnSpPr>
          <p:spPr>
            <a:xfrm flipH="1" flipV="1" rot="5400000">
              <a:off x="3694320" y="3804840"/>
              <a:ext cx="634320" cy="1121040"/>
            </a:xfrm>
            <a:prstGeom prst="bentConnector3">
              <a:avLst>
                <a:gd name="adj1" fmla="val 17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5" name="_s219144"/>
            <p:cNvCxnSpPr>
              <a:stCxn id="446" idx="0"/>
              <a:endCxn id="440" idx="2"/>
            </p:cNvCxnSpPr>
            <p:nvPr/>
          </p:nvCxnSpPr>
          <p:spPr>
            <a:xfrm flipH="1" flipV="1" rot="5400000">
              <a:off x="2574360" y="2684520"/>
              <a:ext cx="634320" cy="3361680"/>
            </a:xfrm>
            <a:prstGeom prst="bentConnector3">
              <a:avLst>
                <a:gd name="adj1" fmla="val 17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0" name="_s219145"/>
            <p:cNvSpPr/>
            <p:nvPr/>
          </p:nvSpPr>
          <p:spPr>
            <a:xfrm>
              <a:off x="3611880" y="2781360"/>
              <a:ext cx="1920240" cy="1267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Vedoucí 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manažer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6" name="_s219146"/>
            <p:cNvSpPr/>
            <p:nvPr/>
          </p:nvSpPr>
          <p:spPr>
            <a:xfrm>
              <a:off x="250920" y="4682160"/>
              <a:ext cx="1920240" cy="12672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ákupčí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4" name="_s219147"/>
            <p:cNvSpPr/>
            <p:nvPr/>
          </p:nvSpPr>
          <p:spPr>
            <a:xfrm>
              <a:off x="2491200" y="4682160"/>
              <a:ext cx="1920240" cy="12672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kladník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2" name="_s219148"/>
            <p:cNvSpPr/>
            <p:nvPr/>
          </p:nvSpPr>
          <p:spPr>
            <a:xfrm>
              <a:off x="4731840" y="4682160"/>
              <a:ext cx="1920240" cy="12672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Účetní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9" name="_s219149"/>
            <p:cNvSpPr/>
            <p:nvPr/>
          </p:nvSpPr>
          <p:spPr>
            <a:xfrm>
              <a:off x="6972480" y="4682160"/>
              <a:ext cx="1920240" cy="12672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Skladník</a:t>
              </a:r>
              <a:endParaRPr b="0" lang="en-US" sz="3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24000" y="2708280"/>
            <a:ext cx="8388000" cy="3168000"/>
            <a:chOff x="324000" y="2708280"/>
            <a:chExt cx="8388000" cy="3168000"/>
          </a:xfrm>
        </p:grpSpPr>
        <p:cxnSp>
          <p:nvCxnSpPr>
            <p:cNvPr id="448" name="_s221188"/>
            <p:cNvCxnSpPr>
              <a:stCxn id="449" idx="0"/>
              <a:endCxn id="450" idx="2"/>
            </p:cNvCxnSpPr>
            <p:nvPr/>
          </p:nvCxnSpPr>
          <p:spPr>
            <a:xfrm flipV="1" rot="16200000">
              <a:off x="3585600" y="4151880"/>
              <a:ext cx="396720" cy="1468080"/>
            </a:xfrm>
            <a:prstGeom prst="bentConnector3">
              <a:avLst>
                <a:gd name="adj1" fmla="val 288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1" name="_s221189"/>
            <p:cNvCxnSpPr>
              <a:stCxn id="452" idx="0"/>
              <a:endCxn id="453" idx="2"/>
            </p:cNvCxnSpPr>
            <p:nvPr/>
          </p:nvCxnSpPr>
          <p:spPr>
            <a:xfrm flipV="1">
              <a:off x="7453440" y="4687920"/>
              <a:ext cx="3960" cy="39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4" name="_s221190"/>
            <p:cNvCxnSpPr>
              <a:stCxn id="455" idx="0"/>
              <a:endCxn id="450" idx="2"/>
            </p:cNvCxnSpPr>
            <p:nvPr/>
          </p:nvCxnSpPr>
          <p:spPr>
            <a:xfrm flipH="1" flipV="1" rot="5400000">
              <a:off x="2117880" y="4151880"/>
              <a:ext cx="396720" cy="1468800"/>
            </a:xfrm>
            <a:prstGeom prst="bentConnector3">
              <a:avLst>
                <a:gd name="adj1" fmla="val 288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6" name="_s221191"/>
            <p:cNvCxnSpPr>
              <a:stCxn id="453" idx="0"/>
              <a:endCxn id="457" idx="2"/>
            </p:cNvCxnSpPr>
            <p:nvPr/>
          </p:nvCxnSpPr>
          <p:spPr>
            <a:xfrm flipV="1" rot="16200000">
              <a:off x="6154920" y="2597400"/>
              <a:ext cx="396720" cy="2201400"/>
            </a:xfrm>
            <a:prstGeom prst="bentConnector3">
              <a:avLst>
                <a:gd name="adj1" fmla="val 28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8" name="_s221192"/>
            <p:cNvCxnSpPr>
              <a:stCxn id="450" idx="0"/>
              <a:endCxn id="457" idx="2"/>
            </p:cNvCxnSpPr>
            <p:nvPr/>
          </p:nvCxnSpPr>
          <p:spPr>
            <a:xfrm flipH="1" flipV="1" rot="5400000">
              <a:off x="3952800" y="2597040"/>
              <a:ext cx="396720" cy="2202480"/>
            </a:xfrm>
            <a:prstGeom prst="bentConnector3">
              <a:avLst>
                <a:gd name="adj1" fmla="val 28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7" name="_s221193"/>
            <p:cNvSpPr/>
            <p:nvPr/>
          </p:nvSpPr>
          <p:spPr>
            <a:xfrm>
              <a:off x="3994200" y="2708280"/>
              <a:ext cx="2516400" cy="79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doucí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nažer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0" name="_s221194"/>
            <p:cNvSpPr/>
            <p:nvPr/>
          </p:nvSpPr>
          <p:spPr>
            <a:xfrm>
              <a:off x="1792080" y="3896280"/>
              <a:ext cx="2516400" cy="7920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istik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3" name="_s221195"/>
            <p:cNvSpPr/>
            <p:nvPr/>
          </p:nvSpPr>
          <p:spPr>
            <a:xfrm>
              <a:off x="6195600" y="3896280"/>
              <a:ext cx="2516400" cy="7920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lavní účetní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5" name="_s221196"/>
            <p:cNvSpPr/>
            <p:nvPr/>
          </p:nvSpPr>
          <p:spPr>
            <a:xfrm>
              <a:off x="324000" y="5084280"/>
              <a:ext cx="2516400" cy="79200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ladník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2" name="_s221197"/>
            <p:cNvSpPr/>
            <p:nvPr/>
          </p:nvSpPr>
          <p:spPr>
            <a:xfrm>
              <a:off x="6195600" y="5084280"/>
              <a:ext cx="2516400" cy="7894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kladník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9" name="_s221198"/>
            <p:cNvSpPr/>
            <p:nvPr/>
          </p:nvSpPr>
          <p:spPr>
            <a:xfrm>
              <a:off x="3259800" y="5084280"/>
              <a:ext cx="2516400" cy="7894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spodář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68360" y="549360"/>
            <a:ext cx="8137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ecentralizovan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plochá organizační struk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Rozpětí říze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zpětí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908000" y="2349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573408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"/>
          <p:cNvSpPr/>
          <p:nvPr/>
        </p:nvSpPr>
        <p:spPr>
          <a:xfrm>
            <a:off x="604692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čet podřízenýc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250560" y="2781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čet vztahů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"/>
          <p:cNvSpPr/>
          <p:nvPr/>
        </p:nvSpPr>
        <p:spPr>
          <a:xfrm>
            <a:off x="255600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348000" y="56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067280" y="55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859280" y="56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651640" y="55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588000" y="56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451640" y="55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-3295800" y="116640"/>
            <a:ext cx="11129040" cy="56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99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9934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"/>
          <p:cNvSpPr/>
          <p:nvPr/>
        </p:nvSpPr>
        <p:spPr>
          <a:xfrm>
            <a:off x="1908000" y="5661000"/>
            <a:ext cx="144000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"/>
          <p:cNvSpPr/>
          <p:nvPr/>
        </p:nvSpPr>
        <p:spPr>
          <a:xfrm>
            <a:off x="1908000" y="5516640"/>
            <a:ext cx="2159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5445000"/>
            <a:ext cx="504720" cy="28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"/>
          <p:cNvSpPr/>
          <p:nvPr/>
        </p:nvSpPr>
        <p:spPr>
          <a:xfrm>
            <a:off x="468360" y="515772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59500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"/>
          <p:cNvSpPr/>
          <p:nvPr/>
        </p:nvSpPr>
        <p:spPr>
          <a:xfrm>
            <a:off x="6227640" y="587700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"/>
          <p:cNvSpPr/>
          <p:nvPr/>
        </p:nvSpPr>
        <p:spPr>
          <a:xfrm>
            <a:off x="3851280" y="59500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"/>
          <p:cNvSpPr/>
          <p:nvPr/>
        </p:nvSpPr>
        <p:spPr>
          <a:xfrm>
            <a:off x="7236000" y="587700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"/>
          <p:cNvSpPr/>
          <p:nvPr/>
        </p:nvSpPr>
        <p:spPr>
          <a:xfrm>
            <a:off x="1979640" y="4653000"/>
            <a:ext cx="46814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933720"/>
            <a:ext cx="55450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"/>
          <p:cNvSpPr/>
          <p:nvPr/>
        </p:nvSpPr>
        <p:spPr>
          <a:xfrm>
            <a:off x="1258920" y="4005360"/>
            <a:ext cx="504720" cy="647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400536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ozpětí řízení</a:t>
            </a:r>
            <a:br>
              <a:rPr sz="32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říkl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mé nebo ploché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organizační struk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82640" y="2868840"/>
            <a:ext cx="3625920" cy="3471120"/>
            <a:chOff x="782640" y="2868840"/>
            <a:chExt cx="3625920" cy="3471120"/>
          </a:xfrm>
        </p:grpSpPr>
        <p:sp>
          <p:nvSpPr>
            <p:cNvPr id="488" name="_s225285"/>
            <p:cNvSpPr/>
            <p:nvPr/>
          </p:nvSpPr>
          <p:spPr>
            <a:xfrm flipV="1">
              <a:off x="2293920" y="2868840"/>
              <a:ext cx="603360" cy="578880"/>
            </a:xfrm>
            <a:custGeom>
              <a:avLst/>
              <a:gdLst>
                <a:gd name="textAreaLeft" fmla="*/ 216360 w 603360"/>
                <a:gd name="textAreaRight" fmla="*/ 387000 w 603360"/>
                <a:gd name="textAreaTop" fmla="*/ 207720 h 578880"/>
                <a:gd name="textAreaBottom" fmla="*/ 37116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333399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_s225286"/>
            <p:cNvSpPr/>
            <p:nvPr/>
          </p:nvSpPr>
          <p:spPr>
            <a:xfrm flipV="1">
              <a:off x="1990800" y="3448080"/>
              <a:ext cx="1209600" cy="577440"/>
            </a:xfrm>
            <a:custGeom>
              <a:avLst/>
              <a:gdLst>
                <a:gd name="textAreaLeft" fmla="*/ 266040 w 1209600"/>
                <a:gd name="textAreaRight" fmla="*/ 943560 w 1209600"/>
                <a:gd name="textAreaTop" fmla="*/ 126720 h 577440"/>
                <a:gd name="textAreaBottom" fmla="*/ 45072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141999" dir="1590005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_s225287"/>
            <p:cNvSpPr/>
            <p:nvPr/>
          </p:nvSpPr>
          <p:spPr>
            <a:xfrm flipV="1">
              <a:off x="1689120" y="4025520"/>
              <a:ext cx="1812960" cy="578880"/>
            </a:xfrm>
            <a:custGeom>
              <a:avLst/>
              <a:gdLst>
                <a:gd name="textAreaLeft" fmla="*/ 314640 w 1812960"/>
                <a:gd name="textAreaRight" fmla="*/ 1498320 w 1812960"/>
                <a:gd name="textAreaTop" fmla="*/ 100440 h 578880"/>
                <a:gd name="textAreaBottom" fmla="*/ 47844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_s225288"/>
            <p:cNvSpPr/>
            <p:nvPr/>
          </p:nvSpPr>
          <p:spPr>
            <a:xfrm flipV="1">
              <a:off x="1387440" y="4604400"/>
              <a:ext cx="2416320" cy="578880"/>
            </a:xfrm>
            <a:custGeom>
              <a:avLst/>
              <a:gdLst>
                <a:gd name="textAreaLeft" fmla="*/ 363600 w 2416320"/>
                <a:gd name="textAreaRight" fmla="*/ 2052720 w 2416320"/>
                <a:gd name="textAreaTop" fmla="*/ 87120 h 578880"/>
                <a:gd name="textAreaBottom" fmla="*/ 49176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  <a:effectLst>
              <a:outerShdw dist="141999" dir="159000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6280" bIns="262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_s225289"/>
            <p:cNvSpPr/>
            <p:nvPr/>
          </p:nvSpPr>
          <p:spPr>
            <a:xfrm flipV="1">
              <a:off x="1084320" y="5183640"/>
              <a:ext cx="3022560" cy="577440"/>
            </a:xfrm>
            <a:custGeom>
              <a:avLst/>
              <a:gdLst>
                <a:gd name="textAreaLeft" fmla="*/ 412560 w 3022560"/>
                <a:gd name="textAreaRight" fmla="*/ 2610000 w 3022560"/>
                <a:gd name="textAreaTop" fmla="*/ 78840 h 577440"/>
                <a:gd name="textAreaBottom" fmla="*/ 49860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_s225290"/>
            <p:cNvSpPr/>
            <p:nvPr/>
          </p:nvSpPr>
          <p:spPr>
            <a:xfrm flipV="1">
              <a:off x="782640" y="5761080"/>
              <a:ext cx="3625920" cy="578880"/>
            </a:xfrm>
            <a:custGeom>
              <a:avLst/>
              <a:gdLst>
                <a:gd name="textAreaLeft" fmla="*/ 461520 w 3625920"/>
                <a:gd name="textAreaRight" fmla="*/ 3164400 w 3625920"/>
                <a:gd name="textAreaTop" fmla="*/ 73440 h 578880"/>
                <a:gd name="textAreaBottom" fmla="*/ 50544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024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971640" y="134136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ganizace, cca 1 000 zaměstnanc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152680" y="4035600"/>
            <a:ext cx="3625920" cy="2269080"/>
            <a:chOff x="5152680" y="4035600"/>
            <a:chExt cx="3625920" cy="2269080"/>
          </a:xfrm>
        </p:grpSpPr>
        <p:sp>
          <p:nvSpPr>
            <p:cNvPr id="496" name="_s225294"/>
            <p:cNvSpPr/>
            <p:nvPr/>
          </p:nvSpPr>
          <p:spPr>
            <a:xfrm flipV="1">
              <a:off x="6513120" y="4035240"/>
              <a:ext cx="905040" cy="56772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03760 h 567720"/>
                <a:gd name="textAreaBottom" fmla="*/ 363960 h 56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_s225295"/>
            <p:cNvSpPr/>
            <p:nvPr/>
          </p:nvSpPr>
          <p:spPr>
            <a:xfrm flipV="1">
              <a:off x="6059160" y="4602960"/>
              <a:ext cx="1812960" cy="566280"/>
            </a:xfrm>
            <a:custGeom>
              <a:avLst/>
              <a:gdLst>
                <a:gd name="textAreaLeft" fmla="*/ 398520 w 1812960"/>
                <a:gd name="textAreaRight" fmla="*/ 1414440 w 1812960"/>
                <a:gd name="textAreaTop" fmla="*/ 124560 h 566280"/>
                <a:gd name="textAreaBottom" fmla="*/ 441720 h 56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141999" dir="1590005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_s225296"/>
            <p:cNvSpPr/>
            <p:nvPr/>
          </p:nvSpPr>
          <p:spPr>
            <a:xfrm flipV="1">
              <a:off x="5605200" y="5169600"/>
              <a:ext cx="2720880" cy="567720"/>
            </a:xfrm>
            <a:custGeom>
              <a:avLst/>
              <a:gdLst>
                <a:gd name="textAreaLeft" fmla="*/ 472320 w 2720880"/>
                <a:gd name="textAreaRight" fmla="*/ 2248560 w 2720880"/>
                <a:gd name="textAreaTop" fmla="*/ 98280 h 567720"/>
                <a:gd name="textAreaBottom" fmla="*/ 469440 h 56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_s225297"/>
            <p:cNvSpPr/>
            <p:nvPr/>
          </p:nvSpPr>
          <p:spPr>
            <a:xfrm flipV="1">
              <a:off x="5152680" y="5738040"/>
              <a:ext cx="3625920" cy="566640"/>
            </a:xfrm>
            <a:custGeom>
              <a:avLst/>
              <a:gdLst>
                <a:gd name="textAreaLeft" fmla="*/ 545400 w 3625920"/>
                <a:gd name="textAreaRight" fmla="*/ 3080520 w 3625920"/>
                <a:gd name="textAreaTop" fmla="*/ 84960 h 566640"/>
                <a:gd name="textAreaBottom" fmla="*/ 481680 h 56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808080"/>
              </a:solidFill>
              <a:miter/>
            </a:ln>
            <a:effectLst>
              <a:outerShdw dist="141999" dir="159000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880" bIns="20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000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00" name=""/>
          <p:cNvSpPr/>
          <p:nvPr/>
        </p:nvSpPr>
        <p:spPr>
          <a:xfrm rot="20100000">
            <a:off x="3187440" y="2842920"/>
            <a:ext cx="658800" cy="2662200"/>
          </a:xfrm>
          <a:custGeom>
            <a:avLst/>
            <a:gdLst>
              <a:gd name="textAreaLeft" fmla="*/ 0 w 658800"/>
              <a:gd name="textAreaRight" fmla="*/ 237960 w 6588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"/>
          <p:cNvSpPr/>
          <p:nvPr/>
        </p:nvSpPr>
        <p:spPr>
          <a:xfrm rot="2761800">
            <a:off x="3277440" y="3859920"/>
            <a:ext cx="23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 úrov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41 manažer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 rot="19419000">
            <a:off x="7742160" y="3857400"/>
            <a:ext cx="507960" cy="1739880"/>
          </a:xfrm>
          <a:custGeom>
            <a:avLst/>
            <a:gdLst>
              <a:gd name="textAreaLeft" fmla="*/ 0 w 507960"/>
              <a:gd name="textAreaRight" fmla="*/ 183240 w 507960"/>
              <a:gd name="textAreaTop" fmla="*/ 45360 h 1739880"/>
              <a:gd name="textAreaBottom" fmla="*/ 1694520 h 17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"/>
          <p:cNvSpPr/>
          <p:nvPr/>
        </p:nvSpPr>
        <p:spPr>
          <a:xfrm rot="3414000">
            <a:off x="7232760" y="3670200"/>
            <a:ext cx="230328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úrovně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 manažer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"/>
          <p:cNvSpPr/>
          <p:nvPr/>
        </p:nvSpPr>
        <p:spPr>
          <a:xfrm>
            <a:off x="1403280" y="2060640"/>
            <a:ext cx="26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 organiz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sah řízení 4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"/>
          <p:cNvSpPr/>
          <p:nvPr/>
        </p:nvSpPr>
        <p:spPr>
          <a:xfrm>
            <a:off x="5940360" y="198900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organiz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sah řízení 10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Liniový typ 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organizační strukt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4360" y="3012840"/>
            <a:ext cx="7990920" cy="1854000"/>
            <a:chOff x="684360" y="3012840"/>
            <a:chExt cx="7990920" cy="1854000"/>
          </a:xfrm>
        </p:grpSpPr>
        <p:cxnSp>
          <p:nvCxnSpPr>
            <p:cNvPr id="508" name="_s227333"/>
            <p:cNvCxnSpPr>
              <a:stCxn id="509" idx="0"/>
              <a:endCxn id="510" idx="3"/>
            </p:cNvCxnSpPr>
            <p:nvPr/>
          </p:nvCxnSpPr>
          <p:spPr>
            <a:xfrm flipV="1" rot="16200000">
              <a:off x="5970240" y="2360160"/>
              <a:ext cx="229320" cy="288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1" name="_s227334"/>
            <p:cNvCxnSpPr>
              <a:stCxn id="512" idx="0"/>
              <a:endCxn id="510" idx="3"/>
            </p:cNvCxnSpPr>
            <p:nvPr/>
          </p:nvCxnSpPr>
          <p:spPr>
            <a:xfrm flipV="1" rot="16200000">
              <a:off x="4571640" y="3758760"/>
              <a:ext cx="229320" cy="87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3" name="_s227335"/>
            <p:cNvCxnSpPr>
              <a:stCxn id="514" idx="0"/>
              <a:endCxn id="510" idx="3"/>
            </p:cNvCxnSpPr>
            <p:nvPr/>
          </p:nvCxnSpPr>
          <p:spPr>
            <a:xfrm flipH="1" flipV="1" rot="5400000">
              <a:off x="3173400" y="2447640"/>
              <a:ext cx="229320" cy="271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10" name="_s227336"/>
            <p:cNvSpPr/>
            <p:nvPr/>
          </p:nvSpPr>
          <p:spPr>
            <a:xfrm>
              <a:off x="3481200" y="3012840"/>
              <a:ext cx="2396880" cy="676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</a:rPr>
                <a:t>Vedoucí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_s227337"/>
            <p:cNvSpPr/>
            <p:nvPr/>
          </p:nvSpPr>
          <p:spPr>
            <a:xfrm>
              <a:off x="68436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_s227338"/>
            <p:cNvSpPr/>
            <p:nvPr/>
          </p:nvSpPr>
          <p:spPr>
            <a:xfrm>
              <a:off x="348120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_s227339"/>
            <p:cNvSpPr/>
            <p:nvPr/>
          </p:nvSpPr>
          <p:spPr>
            <a:xfrm>
              <a:off x="627840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332000" y="573408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"/>
          <p:cNvSpPr/>
          <p:nvPr/>
        </p:nvSpPr>
        <p:spPr>
          <a:xfrm>
            <a:off x="6012000" y="573408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Liniově štábní typ 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organizační strukt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4360" y="3012840"/>
            <a:ext cx="7990920" cy="2828160"/>
            <a:chOff x="684360" y="3012840"/>
            <a:chExt cx="7990920" cy="2828160"/>
          </a:xfrm>
        </p:grpSpPr>
        <p:cxnSp>
          <p:nvCxnSpPr>
            <p:cNvPr id="519" name="_s229381"/>
            <p:cNvCxnSpPr>
              <a:stCxn id="520" idx="4"/>
              <a:endCxn id="521" idx="3"/>
            </p:cNvCxnSpPr>
            <p:nvPr/>
          </p:nvCxnSpPr>
          <p:spPr>
            <a:xfrm flipV="1">
              <a:off x="4188600" y="3688560"/>
              <a:ext cx="454680" cy="699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22" name="_s229382"/>
            <p:cNvCxnSpPr>
              <a:stCxn id="523" idx="0"/>
              <a:endCxn id="521" idx="3"/>
            </p:cNvCxnSpPr>
            <p:nvPr/>
          </p:nvCxnSpPr>
          <p:spPr>
            <a:xfrm flipV="1" rot="16200000">
              <a:off x="5429880" y="2900880"/>
              <a:ext cx="1305360" cy="28800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24" name="_s229383"/>
            <p:cNvCxnSpPr>
              <a:stCxn id="525" idx="0"/>
              <a:endCxn id="521" idx="3"/>
            </p:cNvCxnSpPr>
            <p:nvPr/>
          </p:nvCxnSpPr>
          <p:spPr>
            <a:xfrm flipV="1" rot="16200000">
              <a:off x="4031280" y="4299480"/>
              <a:ext cx="1305360" cy="828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26" name="_s229384"/>
            <p:cNvCxnSpPr>
              <a:stCxn id="527" idx="0"/>
              <a:endCxn id="521" idx="3"/>
            </p:cNvCxnSpPr>
            <p:nvPr/>
          </p:nvCxnSpPr>
          <p:spPr>
            <a:xfrm flipH="1" flipV="1" rot="5400000">
              <a:off x="2632680" y="2983320"/>
              <a:ext cx="1305360" cy="27154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21" name="_s229385"/>
            <p:cNvSpPr/>
            <p:nvPr/>
          </p:nvSpPr>
          <p:spPr>
            <a:xfrm>
              <a:off x="3481200" y="3012840"/>
              <a:ext cx="2396880" cy="676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</a:rPr>
                <a:t>Vedoucí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_s229386"/>
            <p:cNvSpPr/>
            <p:nvPr/>
          </p:nvSpPr>
          <p:spPr>
            <a:xfrm>
              <a:off x="684360" y="4993920"/>
              <a:ext cx="2396880" cy="847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_s229387"/>
            <p:cNvSpPr/>
            <p:nvPr/>
          </p:nvSpPr>
          <p:spPr>
            <a:xfrm>
              <a:off x="3481200" y="4993920"/>
              <a:ext cx="2396880" cy="847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_s229388"/>
            <p:cNvSpPr/>
            <p:nvPr/>
          </p:nvSpPr>
          <p:spPr>
            <a:xfrm>
              <a:off x="6278400" y="4993920"/>
              <a:ext cx="2396880" cy="847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dřízený 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_s229389"/>
            <p:cNvSpPr/>
            <p:nvPr/>
          </p:nvSpPr>
          <p:spPr>
            <a:xfrm>
              <a:off x="1882800" y="3917880"/>
              <a:ext cx="2396880" cy="847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Štáb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492360" y="4365720"/>
            <a:ext cx="3600720" cy="57600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115640" y="4581360"/>
            <a:ext cx="1152360" cy="36036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"/>
          <p:cNvSpPr/>
          <p:nvPr/>
        </p:nvSpPr>
        <p:spPr>
          <a:xfrm>
            <a:off x="3348000" y="4508640"/>
            <a:ext cx="1582920" cy="57780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"/>
          <p:cNvSpPr/>
          <p:nvPr/>
        </p:nvSpPr>
        <p:spPr>
          <a:xfrm>
            <a:off x="971640" y="60213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"/>
          <p:cNvSpPr/>
          <p:nvPr/>
        </p:nvSpPr>
        <p:spPr>
          <a:xfrm>
            <a:off x="5508720" y="609300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Funkční typ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organizační struktu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11280" y="3793680"/>
            <a:ext cx="3809880" cy="1143360"/>
            <a:chOff x="611280" y="3793680"/>
            <a:chExt cx="3809880" cy="1143360"/>
          </a:xfrm>
        </p:grpSpPr>
        <p:cxnSp>
          <p:nvCxnSpPr>
            <p:cNvPr id="535" name="_s231429"/>
            <p:cNvCxnSpPr>
              <a:stCxn id="536" idx="0"/>
              <a:endCxn id="537" idx="3"/>
            </p:cNvCxnSpPr>
            <p:nvPr/>
          </p:nvCxnSpPr>
          <p:spPr>
            <a:xfrm flipV="1" rot="16200000">
              <a:off x="2914200" y="3828240"/>
              <a:ext cx="229320" cy="107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38" name="_s231430"/>
            <p:cNvCxnSpPr>
              <a:stCxn id="539" idx="0"/>
              <a:endCxn id="537" idx="3"/>
            </p:cNvCxnSpPr>
            <p:nvPr/>
          </p:nvCxnSpPr>
          <p:spPr>
            <a:xfrm flipH="1" flipV="1" rot="5400000">
              <a:off x="1888560" y="3875760"/>
              <a:ext cx="229320" cy="978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37" name="_s231431"/>
            <p:cNvSpPr/>
            <p:nvPr/>
          </p:nvSpPr>
          <p:spPr>
            <a:xfrm>
              <a:off x="1636920" y="3793680"/>
              <a:ext cx="175788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Vedoucí 1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_s231432"/>
            <p:cNvSpPr/>
            <p:nvPr/>
          </p:nvSpPr>
          <p:spPr>
            <a:xfrm>
              <a:off x="611280" y="4479840"/>
              <a:ext cx="175824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dřízený A 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_s231433"/>
            <p:cNvSpPr/>
            <p:nvPr/>
          </p:nvSpPr>
          <p:spPr>
            <a:xfrm>
              <a:off x="2662920" y="4479840"/>
              <a:ext cx="175824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dřízený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076720" y="3793680"/>
            <a:ext cx="3809880" cy="1143360"/>
            <a:chOff x="5076720" y="3793680"/>
            <a:chExt cx="3809880" cy="1143360"/>
          </a:xfrm>
        </p:grpSpPr>
        <p:cxnSp>
          <p:nvCxnSpPr>
            <p:cNvPr id="541" name="_s231436"/>
            <p:cNvCxnSpPr>
              <a:stCxn id="542" idx="0"/>
              <a:endCxn id="543" idx="3"/>
            </p:cNvCxnSpPr>
            <p:nvPr/>
          </p:nvCxnSpPr>
          <p:spPr>
            <a:xfrm flipV="1" rot="16200000">
              <a:off x="7379640" y="3828240"/>
              <a:ext cx="229320" cy="107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44" name="_s231437"/>
            <p:cNvCxnSpPr>
              <a:stCxn id="545" idx="0"/>
              <a:endCxn id="543" idx="3"/>
            </p:cNvCxnSpPr>
            <p:nvPr/>
          </p:nvCxnSpPr>
          <p:spPr>
            <a:xfrm flipH="1" flipV="1" rot="5400000">
              <a:off x="6354000" y="3875400"/>
              <a:ext cx="229320" cy="978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43" name="_s231438"/>
            <p:cNvSpPr/>
            <p:nvPr/>
          </p:nvSpPr>
          <p:spPr>
            <a:xfrm>
              <a:off x="6102720" y="3793680"/>
              <a:ext cx="175824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Vedoucí 2</a:t>
              </a:r>
              <a:endParaRPr b="0" lang="en-US" sz="2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_s231439"/>
            <p:cNvSpPr/>
            <p:nvPr/>
          </p:nvSpPr>
          <p:spPr>
            <a:xfrm>
              <a:off x="5076720" y="4479840"/>
              <a:ext cx="175824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dřízený C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_s231440"/>
            <p:cNvSpPr/>
            <p:nvPr/>
          </p:nvSpPr>
          <p:spPr>
            <a:xfrm>
              <a:off x="7128360" y="4479840"/>
              <a:ext cx="175824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dřízený 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46" name=""/>
          <p:cNvSpPr/>
          <p:nvPr/>
        </p:nvSpPr>
        <p:spPr>
          <a:xfrm flipH="1">
            <a:off x="2268000" y="3860640"/>
            <a:ext cx="3816360" cy="64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40360" y="3860640"/>
            <a:ext cx="2016000" cy="72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4005360"/>
            <a:ext cx="280800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"/>
          <p:cNvSpPr/>
          <p:nvPr/>
        </p:nvSpPr>
        <p:spPr>
          <a:xfrm>
            <a:off x="3348000" y="4005360"/>
            <a:ext cx="4753080" cy="50328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"/>
          <p:cNvSpPr/>
          <p:nvPr/>
        </p:nvSpPr>
        <p:spPr>
          <a:xfrm>
            <a:off x="1332000" y="573408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"/>
          <p:cNvSpPr/>
          <p:nvPr/>
        </p:nvSpPr>
        <p:spPr>
          <a:xfrm>
            <a:off x="5580000" y="5805360"/>
            <a:ext cx="230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vizionální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4360" y="3012840"/>
            <a:ext cx="7990920" cy="1854000"/>
            <a:chOff x="684360" y="3012840"/>
            <a:chExt cx="7990920" cy="1854000"/>
          </a:xfrm>
        </p:grpSpPr>
        <p:cxnSp>
          <p:nvCxnSpPr>
            <p:cNvPr id="554" name="_s233477"/>
            <p:cNvCxnSpPr>
              <a:stCxn id="555" idx="0"/>
              <a:endCxn id="556" idx="3"/>
            </p:cNvCxnSpPr>
            <p:nvPr/>
          </p:nvCxnSpPr>
          <p:spPr>
            <a:xfrm flipV="1" rot="16200000">
              <a:off x="5970240" y="2360160"/>
              <a:ext cx="229320" cy="288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57" name="_s233478"/>
            <p:cNvCxnSpPr>
              <a:stCxn id="558" idx="0"/>
              <a:endCxn id="556" idx="3"/>
            </p:cNvCxnSpPr>
            <p:nvPr/>
          </p:nvCxnSpPr>
          <p:spPr>
            <a:xfrm flipV="1" rot="16200000">
              <a:off x="4571640" y="3758760"/>
              <a:ext cx="229320" cy="87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59" name="_s233479"/>
            <p:cNvCxnSpPr>
              <a:stCxn id="560" idx="0"/>
              <a:endCxn id="556" idx="3"/>
            </p:cNvCxnSpPr>
            <p:nvPr/>
          </p:nvCxnSpPr>
          <p:spPr>
            <a:xfrm flipH="1" flipV="1" rot="5400000">
              <a:off x="3173400" y="2447640"/>
              <a:ext cx="229320" cy="271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56" name="_s233480"/>
            <p:cNvSpPr/>
            <p:nvPr/>
          </p:nvSpPr>
          <p:spPr>
            <a:xfrm>
              <a:off x="3481200" y="3012840"/>
              <a:ext cx="2396880" cy="676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99"/>
                  </a:solidFill>
                  <a:latin typeface="Arial"/>
                </a:rPr>
                <a:t>Organizace</a:t>
              </a:r>
              <a:endParaRPr b="0" lang="en-US" sz="33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0" name="_s233481"/>
            <p:cNvSpPr/>
            <p:nvPr/>
          </p:nvSpPr>
          <p:spPr>
            <a:xfrm>
              <a:off x="68436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vize A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8" name="_s233482"/>
            <p:cNvSpPr/>
            <p:nvPr/>
          </p:nvSpPr>
          <p:spPr>
            <a:xfrm>
              <a:off x="348120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vize 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5" name="_s233483"/>
            <p:cNvSpPr/>
            <p:nvPr/>
          </p:nvSpPr>
          <p:spPr>
            <a:xfrm>
              <a:off x="6278400" y="3917880"/>
              <a:ext cx="2396880" cy="94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vize 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332000" y="573408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"/>
          <p:cNvSpPr/>
          <p:nvPr/>
        </p:nvSpPr>
        <p:spPr>
          <a:xfrm>
            <a:off x="6012000" y="573408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3FB4-A6E3-4963-B648-99C365DD0B5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 je plánování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88640"/>
            <a:ext cx="7694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ování cílů organizace s ohledem na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ástroj rozvoje organizace a směru roz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elený soubor plán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asová prováz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ěcná provázano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askáda plán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332000" y="530064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"/>
          <p:cNvSpPr/>
          <p:nvPr/>
        </p:nvSpPr>
        <p:spPr>
          <a:xfrm>
            <a:off x="5940360" y="5300640"/>
            <a:ext cx="23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15717" t="10104" r="14288" b="62980"/>
          <a:stretch/>
        </p:blipFill>
        <p:spPr>
          <a:xfrm>
            <a:off x="826920" y="1197000"/>
            <a:ext cx="7705800" cy="39974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611280" y="6093000"/>
            <a:ext cx="7848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Zdroj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lohlávek, F., Košťan, P., Šuleř, O.: Management, Computer Press 200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ticová struktur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jektování organiza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ování nebo změna organizační struktury a jejího roz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ktory ovlivňující volbu struktury organiz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ik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jistota vnějš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timalizace organizační struktur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77300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závislá expertí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 pracovních mí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yšování produ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kumenty upravující organiza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tár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Řády – organizační (organizační schéma), podpisový, pracovní (popisy práce)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ě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kyny a instru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Řízení a správa společnos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vojúrovňov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ednoúrovňov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aponsk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Zástupný symbol pro číslo snímku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63C0-E40F-4453-8E6D-07FFFE4E9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93116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Garamond"/>
              </a:rPr>
              <a:t>Děkuji za pozornost</a:t>
            </a:r>
            <a:r>
              <a:rPr b="1" lang="en-US" sz="6000" spc="-1" strike="noStrike">
                <a:solidFill>
                  <a:srgbClr val="008000"/>
                </a:solidFill>
                <a:latin typeface="Garamond"/>
              </a:rPr>
              <a:t>.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539640" y="3933720"/>
            <a:ext cx="793116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Přeji hezký zbytek dne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D4D-F089-4EBC-AF7A-44E5B1DB9F7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č manažeři plánují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kytuje smě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žuje dopad změn (redukuje nejistotu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izuje plýt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kytuje normy pro kontro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ADE4-BF79-43BC-968B-AF398801526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ak manažeři plánují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áplň plán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Če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čení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rmí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dpovědn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0E1-8A3D-4928-8B26-901232ABCBC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Členění plánů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 hlediska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ouhodo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řednědo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átkodo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 hlediska charakteru rozhodovac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129-6046-42E5-96E7-CC6F767F2E2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riéry plánování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nící se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statečná znalost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í zá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por ke změ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 a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329-3A23-4A45-9698-8407AAE18DC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ásady efektivního plánování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pora top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ktivní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Zástupný symbol pro číslo snímku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2849-0FA2-49B8-A527-2FD725EDEC2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učasné problémy plánování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276280"/>
            <a:ext cx="7693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rmalizované plánová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může nahradit intuici a tvoř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učasné techniky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ánování scénář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35:29Z</dcterms:created>
  <dc:creator>Ing.Hnidák</dc:creator>
  <dc:description/>
  <dc:language>en-US</dc:language>
  <cp:lastModifiedBy>Jaroslav Hnidak</cp:lastModifiedBy>
  <dcterms:modified xsi:type="dcterms:W3CDTF">2009-10-23T18:12:58Z</dcterms:modified>
  <cp:revision>104</cp:revision>
  <dc:subject/>
  <dc:title>KALKULACE stanovení (předem nebo následné zjištění vlastních nákladů nebo ceny na kalkulační jednici </dc:title>
</cp:coreProperties>
</file>