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FB7-65C8-4F3E-B844-B974FA02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5B5-062F-4844-A53A-8B7218A7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B37-415D-4D0F-B74A-E7AF7BCC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BDF-BFC9-4316-8B37-0C52BF97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AD4C-0CD5-4825-BDAB-1F0C5C4D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8F55-A358-4BC5-91DE-57F6F0CC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EFB4-A06B-48F4-B32C-A3D92B31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39D7-3B3A-4A66-81AD-2193E12D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907B-AB83-4783-B1E4-E4CCB519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5A99-56EB-4227-AFF1-BC257B7A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8FDE-C50B-4B7A-9FD8-05AA634D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B63-36B9-4CAC-BB07-7C0062E9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F50A-F3A7-4826-A623-05B60CD8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EAE9-1B34-4708-8BEF-29459EF1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10F5-2A6C-4519-83C7-A1A82B9B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816B-AE32-4F37-9E68-34758A3E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FE12-830B-41D5-A5DC-A6B88D02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570-F5CF-471D-9DDC-35C95EA5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66B-A77C-4AEE-8A12-6884D779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51E-5C90-4E4D-A798-05C2A338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1C3-7219-4ED1-8EC3-FA4D09AE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B49-54DC-498D-A471-C35CD844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7A9-EB65-4C90-94B5-30886679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66C-66D8-4F82-9608-8EEE9A00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1DA9-CD36-4C77-8948-A770B83178F9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E2CA-692F-4A45-BEB5-75461E5706C2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Strašilky, pakobylky, lupenitky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981080" y="1676160"/>
            <a:ext cx="6251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ahoma"/>
              </a:rPr>
              <a:t>(vypracoval Jiří Voříšek</a:t>
            </a:r>
            <a:r>
              <a:rPr b="0" lang="cs-CZ" sz="9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8" descr="Achrioptera_fallax_Coquerel_1861M4"/>
          <p:cNvPicPr/>
          <p:nvPr/>
        </p:nvPicPr>
        <p:blipFill>
          <a:blip r:embed="rId1"/>
          <a:stretch/>
        </p:blipFill>
        <p:spPr>
          <a:xfrm>
            <a:off x="957240" y="1600200"/>
            <a:ext cx="2879640" cy="4498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necroscia_annulipes_psg290_female_1"/>
          <p:cNvPicPr/>
          <p:nvPr/>
        </p:nvPicPr>
        <p:blipFill>
          <a:blip r:embed="rId2"/>
          <a:stretch/>
        </p:blipFill>
        <p:spPr>
          <a:xfrm>
            <a:off x="5257800" y="1600200"/>
            <a:ext cx="3182760" cy="44956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1"/>
          <p:cNvSpPr/>
          <p:nvPr/>
        </p:nvSpPr>
        <p:spPr>
          <a:xfrm>
            <a:off x="3410280" y="62485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Tahoma"/>
              </a:rPr>
              <a:t>(vypracoval Jiří Voříšek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Strašil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Eurycantha calcar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šíření: Pralesy Papuy – N. Guineje a Austráli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hled: Proč vypadá takhle, jak vypadá? (prostředí ve kterém žije, napodobuje větve a kůru stromů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likost: samička okolo 15-ti cm, sameček okolo 12-ti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trava: Listy ostružiníku, maliníku, jahodníku, růže, dubu, buku, hlohu,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množování: Pohlavně, ale někdy také partenogenetic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ajíčka: Samička klade vajíčka kladélkem do substrátu. Velikost vajec je 8x4 mm. Nymfy se líhnou po 4-6 měsících. Velikost nymf je 1,5-2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5" descr="psg23-adults"/>
          <p:cNvPicPr/>
          <p:nvPr/>
        </p:nvPicPr>
        <p:blipFill>
          <a:blip r:embed="rId1"/>
          <a:stretch/>
        </p:blipFill>
        <p:spPr>
          <a:xfrm>
            <a:off x="5235480" y="1600200"/>
            <a:ext cx="3021120" cy="2176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psg23-eggs"/>
          <p:cNvPicPr/>
          <p:nvPr/>
        </p:nvPicPr>
        <p:blipFill>
          <a:blip r:embed="rId2"/>
          <a:stretch/>
        </p:blipFill>
        <p:spPr>
          <a:xfrm>
            <a:off x="5235480" y="3922560"/>
            <a:ext cx="3022560" cy="217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Pakobyl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edauroidea extradentata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šíření: Keřovité oblasti Indie a Vietnamu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hled: Proč vypadá jak větvička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likost:samička okolo 11-ti cm, sameček okolo 9-ti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trava: Listy ostružiníku, maliníku, jahodníku, růže, dubu, buku, hlohu,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množování: Pohlavně, nebo partenogenetic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ajíčka: Samička volně vypouští vajíčka na substrát. Velikost vajíčkek je asi 2 mm. Nymfy se líhnou po 3 – 4 měsících. Jejich velikost je cca 1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51200" y="3922560"/>
            <a:ext cx="419112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7" descr="psg05-eggs"/>
          <p:cNvPicPr/>
          <p:nvPr/>
        </p:nvPicPr>
        <p:blipFill>
          <a:blip r:embed="rId1"/>
          <a:stretch/>
        </p:blipFill>
        <p:spPr>
          <a:xfrm>
            <a:off x="5791320" y="4495680"/>
            <a:ext cx="2909880" cy="2186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psg05-female-2"/>
          <p:cNvPicPr/>
          <p:nvPr/>
        </p:nvPicPr>
        <p:blipFill>
          <a:blip r:embed="rId2"/>
          <a:stretch/>
        </p:blipFill>
        <p:spPr>
          <a:xfrm>
            <a:off x="5943600" y="1066680"/>
            <a:ext cx="2495520" cy="3333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Lupenit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hyllium s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šíření: Tropické deštné pralesy Folipín, kde žije ve středním patř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hled: Proč vypadá jako list, když žije ve středním patře prale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likost: Samička: okolo 8 cm, samec: okolo 5-ti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trava: Listy ostružiníku, maliníku, jahodníku, růže, dubu, buku, hlohu,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množování: Pohlavně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ajíčka: Samička volně vypouští vajíčka na substrát. Velikost vajíček je asi 5 mm. Po 3 – 4 měsících se líhnou nymfy. Velikost nymf je cca 1,5 cm, barva je černá s bílými okraji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7" descr="psg278-adults-1"/>
          <p:cNvPicPr/>
          <p:nvPr/>
        </p:nvPicPr>
        <p:blipFill>
          <a:blip r:embed="rId1"/>
          <a:stretch/>
        </p:blipFill>
        <p:spPr>
          <a:xfrm>
            <a:off x="5235480" y="1600200"/>
            <a:ext cx="3021120" cy="2176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psg278-eggs"/>
          <p:cNvPicPr/>
          <p:nvPr/>
        </p:nvPicPr>
        <p:blipFill>
          <a:blip r:embed="rId2"/>
          <a:stretch/>
        </p:blipFill>
        <p:spPr>
          <a:xfrm>
            <a:off x="5235480" y="3922560"/>
            <a:ext cx="3022560" cy="217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Terárium a podmínky v ně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Velikost: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erárium by mělo být 2 – 3 x vyšší, než je velikost strašilky, aby se mohla pohodlně svlíknout. Délka a šířka, dle velikosti druhu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lhkost: Záleží na druhu, každý druh má své specifické podmínky. Ale všeobecně platí to, že by se mělo rosit 1x denně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duch: Důležité je větrání, je potřeba cirkulace vzduchu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6" descr="insektarium3"/>
          <p:cNvPicPr/>
          <p:nvPr/>
        </p:nvPicPr>
        <p:blipFill>
          <a:blip r:embed="rId1"/>
          <a:stretch/>
        </p:blipFill>
        <p:spPr>
          <a:xfrm>
            <a:off x="4724280" y="2209680"/>
            <a:ext cx="3886200" cy="327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Zdroj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www.strasilky.c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brázk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www.strasilky.c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www.google.cz/imgres?imgurl=http://www.naturalist.if.ua/wp-content/achrioptera-fallax.jpg&amp;imgrefurl=http://www.naturalist.if.ua/%3Fp%3D1719&amp;usg=__dBzu7lcvmgSI44Maj9YvTX58Kx8=&amp;h=350&amp;w=570&amp;sz=69&amp;hl=cs&amp;start=1&amp;zoom=1&amp;tbnid=EbkIQmfHMDtPBM:&amp;tbnh=82&amp;tbnw=13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Strašilky na začátku: 1. Achrioptera fallax a 2. Nescroscia annulipes, na konci: Oreophoetes peruan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Díky za pozornost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Picture 5" descr="psg84-adults-1"/>
          <p:cNvPicPr/>
          <p:nvPr/>
        </p:nvPicPr>
        <p:blipFill>
          <a:blip r:embed="rId1"/>
          <a:stretch/>
        </p:blipFill>
        <p:spPr>
          <a:xfrm>
            <a:off x="2265480" y="2187720"/>
            <a:ext cx="4613040" cy="299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kub</cp:lastModifiedBy>
  <dcterms:modified xsi:type="dcterms:W3CDTF">2010-12-07T15:55:1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