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55D-2D6E-437C-8806-A3D7F304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0AB-8953-4953-8AB3-B72057A0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AC1-B157-482A-A9BD-1772DFB2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B30-C614-4447-9D11-1A8ED57E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0961-9886-4656-AD44-E7609B42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B8FA-5C85-48AC-98DC-7C0D0DC5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9041-9271-4E9B-B59E-2F1A0CA7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47A2-6923-4871-BCCB-67EF6ED4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559F-3750-469D-B698-018A1DA8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B716-7487-4978-8765-B686CE65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CA8C-C76D-40AF-A04F-E618C87C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5A4-12DA-478C-B5AD-21E2A948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1F78-437E-4027-98A1-8CEA2F0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6149-BBA4-496F-BFA0-F779B0C8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9868-C38B-41EF-87EE-F6ED3271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42D3-87B6-48D7-A4D8-2F2E3BCD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B777-57D7-4933-8294-68E37AB4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F81-7F26-4F83-981C-2370A70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236-2FB2-432C-9B3C-354DF4EF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2CD-F839-4D3F-837B-C5DB182C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A89-D696-45F7-964C-531B4767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40C-9A3A-4BDB-B691-F289F2E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B56-4824-4BAC-BAE6-72C4CCA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6A7-2551-4ECA-962B-EA8CFD83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3746-29BB-41C7-8170-3B936E2A97F0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BBB6-0CCC-456D-A411-521EDF703179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Strašilky, pakobylky, lupenitky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981080" y="1676160"/>
            <a:ext cx="6251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ahoma"/>
              </a:rPr>
              <a:t>(vypracoval Jiří Voříšek</a:t>
            </a:r>
            <a:r>
              <a:rPr b="0" lang="cs-CZ" sz="9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8" descr="Achrioptera_fallax_Coquerel_1861M4"/>
          <p:cNvPicPr/>
          <p:nvPr/>
        </p:nvPicPr>
        <p:blipFill>
          <a:blip r:embed="rId1"/>
          <a:stretch/>
        </p:blipFill>
        <p:spPr>
          <a:xfrm>
            <a:off x="957240" y="1600200"/>
            <a:ext cx="2879640" cy="449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necroscia_annulipes_psg290_female_1"/>
          <p:cNvPicPr/>
          <p:nvPr/>
        </p:nvPicPr>
        <p:blipFill>
          <a:blip r:embed="rId2"/>
          <a:stretch/>
        </p:blipFill>
        <p:spPr>
          <a:xfrm>
            <a:off x="5257800" y="1600200"/>
            <a:ext cx="3182760" cy="44956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1"/>
          <p:cNvSpPr/>
          <p:nvPr/>
        </p:nvSpPr>
        <p:spPr>
          <a:xfrm>
            <a:off x="3410280" y="62485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Tahoma"/>
              </a:rPr>
              <a:t>(vypracoval Jiří Voříšek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Strašil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Eurycantha calcar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Pralesy Papuy – N. Guineje a Austráli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takhle, jak vypadá? (prostředí ve kterém žije, napodobuje větve a kůru stromů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 samička okolo 15-ti cm, sameček okolo 12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, ale někdy také partenogenetic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klade vajíčka kladélkem do substrátu. Velikost vajec je 8x4 mm. Nymfy se líhnou po 4-6 měsících. Velikost nymf je 1,5-2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5" descr="psg23-adults"/>
          <p:cNvPicPr/>
          <p:nvPr/>
        </p:nvPicPr>
        <p:blipFill>
          <a:blip r:embed="rId1"/>
          <a:stretch/>
        </p:blipFill>
        <p:spPr>
          <a:xfrm>
            <a:off x="5235480" y="1600200"/>
            <a:ext cx="3021120" cy="2176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psg23-eggs"/>
          <p:cNvPicPr/>
          <p:nvPr/>
        </p:nvPicPr>
        <p:blipFill>
          <a:blip r:embed="rId2"/>
          <a:stretch/>
        </p:blipFill>
        <p:spPr>
          <a:xfrm>
            <a:off x="5235480" y="3922560"/>
            <a:ext cx="3022560" cy="21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akobyl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edauroidea extradentata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Keřovité oblasti Indie a Vietnamu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jak větvička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samička okolo 11-ti cm, sameček okolo 9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, nebo partenogenetic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volně vypouští vajíčka na substrát. Velikost vajíčkek je asi 2 mm. Nymfy se líhnou po 3 – 4 měsících. Jejich velikost je cca 1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51200" y="3922560"/>
            <a:ext cx="419112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7" descr="psg05-eggs"/>
          <p:cNvPicPr/>
          <p:nvPr/>
        </p:nvPicPr>
        <p:blipFill>
          <a:blip r:embed="rId1"/>
          <a:stretch/>
        </p:blipFill>
        <p:spPr>
          <a:xfrm>
            <a:off x="5791320" y="4495680"/>
            <a:ext cx="2909880" cy="2186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psg05-female-2"/>
          <p:cNvPicPr/>
          <p:nvPr/>
        </p:nvPicPr>
        <p:blipFill>
          <a:blip r:embed="rId2"/>
          <a:stretch/>
        </p:blipFill>
        <p:spPr>
          <a:xfrm>
            <a:off x="5943600" y="1066680"/>
            <a:ext cx="2495520" cy="3333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Lupenit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hyllium s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Tropické deštné pralesy Folipín, kde žije ve středním patř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jako list, když žije ve středním patře prale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 Samička: okolo 8 cm, samec: okolo 5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volně vypouští vajíčka na substrát. Velikost vajíček je asi 5 mm. Po 3 – 4 měsících se líhnou nymfy. Velikost nymf je cca 1,5 cm, barva je černá s bílými okraj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7" descr="psg278-adults-1"/>
          <p:cNvPicPr/>
          <p:nvPr/>
        </p:nvPicPr>
        <p:blipFill>
          <a:blip r:embed="rId1"/>
          <a:stretch/>
        </p:blipFill>
        <p:spPr>
          <a:xfrm>
            <a:off x="5235480" y="1600200"/>
            <a:ext cx="3021120" cy="217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psg278-eggs"/>
          <p:cNvPicPr/>
          <p:nvPr/>
        </p:nvPicPr>
        <p:blipFill>
          <a:blip r:embed="rId2"/>
          <a:stretch/>
        </p:blipFill>
        <p:spPr>
          <a:xfrm>
            <a:off x="5235480" y="3922560"/>
            <a:ext cx="3022560" cy="21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Terárium a podmínky v ně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Velikost: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erárium by mělo být 2 – 3 x vyšší, než je velikost strašilky, aby se mohla pohodlně svlíknout. Délka a šířka, dle velikosti druhu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lhkost: Záleží na druhu, každý druh má své specifické podmínky. Ale všeobecně platí to, že by se mělo rosit 1x denně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duch: Důležité je větrání, je potřeba cirkulace vzduchu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6" descr="insektarium3"/>
          <p:cNvPicPr/>
          <p:nvPr/>
        </p:nvPicPr>
        <p:blipFill>
          <a:blip r:embed="rId1"/>
          <a:stretch/>
        </p:blipFill>
        <p:spPr>
          <a:xfrm>
            <a:off x="4724280" y="2209680"/>
            <a:ext cx="388620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droj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www.strasilky.c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rázk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www.strasilky.c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www.google.cz/imgres?imgurl=http://www.naturalist.if.ua/wp-content/achrioptera-fallax.jpg&amp;imgrefurl=http://www.naturalist.if.ua/%3Fp%3D1719&amp;usg=__dBzu7lcvmgSI44Maj9YvTX58Kx8=&amp;h=350&amp;w=570&amp;sz=69&amp;hl=cs&amp;start=1&amp;zoom=1&amp;tbnid=EbkIQmfHMDtPBM:&amp;tbnh=82&amp;tbnw=13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trašilky na začátku: 1. Achrioptera fallax a 2. Nescroscia annulipes, na konci: Oreophoetes peruan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Díky za pozornost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5" descr="psg84-adults-1"/>
          <p:cNvPicPr/>
          <p:nvPr/>
        </p:nvPicPr>
        <p:blipFill>
          <a:blip r:embed="rId1"/>
          <a:stretch/>
        </p:blipFill>
        <p:spPr>
          <a:xfrm>
            <a:off x="2265480" y="2187720"/>
            <a:ext cx="4613040" cy="299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kub</cp:lastModifiedBy>
  <dcterms:modified xsi:type="dcterms:W3CDTF">2010-12-07T15:55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