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D15F-9076-45AB-9D1E-5B3CEAB2D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58BF-B414-4E9B-A38C-42B88A8B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3E68-EAC5-466B-AA70-4E0D8D988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C453-3C8D-4D2F-9FB6-4A293C428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B798-CA0D-4091-A894-B47E42E5F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F43C-98ED-41F1-A685-E4CB7184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7E7E-4604-40DB-84DE-34707F87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4506-3ECC-46C5-BB28-287A4A1A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CA55-C3B7-4995-8555-CEE53EF2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DB71-183A-4035-9E73-7CA25A8A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1D69-A8CE-40BE-B357-856A7B06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6C1F-80F3-4F02-85CF-7550359C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F321-61E5-460F-BFCB-9F62884A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9E8A-84D6-4C39-A354-DEA3D111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91CB-D0C2-439B-B3AA-B3D867A2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A4A6-94B3-413D-89CE-BFDD709B3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CA89-4A3F-4464-8616-92701E53D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E6ED-2AD4-41AC-AA96-119AC9C7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F26D-514B-4C2B-B44D-C99865FA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470A-68F6-4F71-A2AD-65007656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8B02-3E94-4201-B2E2-3B59343F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A138-18C6-4D23-856F-654445DE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8BB6-6410-4946-B506-F4F3BA7C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3E6F-CB1F-4BB0-A8BC-B05A5EE5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A017-2EA9-474D-8CCC-CFB820DDE565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C354-8F88-417D-834F-E9906A452FE6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Strašilky, pakobylky, lupenitky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981080" y="1676160"/>
            <a:ext cx="62517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Tahoma"/>
              </a:rPr>
              <a:t>(vypracoval Jiří Voříšek</a:t>
            </a:r>
            <a:r>
              <a:rPr b="0" lang="cs-CZ" sz="9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Picture 8" descr="Achrioptera_fallax_Coquerel_1861M4"/>
          <p:cNvPicPr/>
          <p:nvPr/>
        </p:nvPicPr>
        <p:blipFill>
          <a:blip r:embed="rId1"/>
          <a:stretch/>
        </p:blipFill>
        <p:spPr>
          <a:xfrm>
            <a:off x="957240" y="1600200"/>
            <a:ext cx="2879640" cy="44989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0" descr="necroscia_annulipes_psg290_female_1"/>
          <p:cNvPicPr/>
          <p:nvPr/>
        </p:nvPicPr>
        <p:blipFill>
          <a:blip r:embed="rId2"/>
          <a:stretch/>
        </p:blipFill>
        <p:spPr>
          <a:xfrm>
            <a:off x="5257800" y="1600200"/>
            <a:ext cx="3182760" cy="449568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11"/>
          <p:cNvSpPr/>
          <p:nvPr/>
        </p:nvSpPr>
        <p:spPr>
          <a:xfrm>
            <a:off x="3410280" y="6248520"/>
            <a:ext cx="182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cc"/>
                </a:solidFill>
                <a:latin typeface="Tahoma"/>
              </a:rPr>
              <a:t>(vypracoval Jiří Voříšek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Strašilk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Eurycantha calcar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Rozšíření: Pralesy Papuy – N. Guineje a Austráli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zhled: Proč vypadá takhle, jak vypadá? (prostředí ve kterém žije, napodobuje větve a kůru stromů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elikost: samička okolo 15-ti cm, sameček okolo 12-ti cm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Potrava: Listy ostružiníku, maliníku, jahodníku, růže, dubu, buku, hlohu,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Rozmnožování: Pohlavně, ale někdy také partenogeneticky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ajíčka: Samička klade vajíčka kladélkem do substrátu. Velikost vajec je 8x4 mm. Nymfy se líhnou po 4-6 měsících. Velikost nymf je 1,5-2 cm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1" name="Picture 5" descr="psg23-adults"/>
          <p:cNvPicPr/>
          <p:nvPr/>
        </p:nvPicPr>
        <p:blipFill>
          <a:blip r:embed="rId1"/>
          <a:stretch/>
        </p:blipFill>
        <p:spPr>
          <a:xfrm>
            <a:off x="5235480" y="1600200"/>
            <a:ext cx="3021120" cy="21765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" descr="psg23-eggs"/>
          <p:cNvPicPr/>
          <p:nvPr/>
        </p:nvPicPr>
        <p:blipFill>
          <a:blip r:embed="rId2"/>
          <a:stretch/>
        </p:blipFill>
        <p:spPr>
          <a:xfrm>
            <a:off x="5235480" y="3922560"/>
            <a:ext cx="3022560" cy="2176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Pakobylk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Medauroidea extradentata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Rozšíření: Keřovité oblasti Indie a Vietnamu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zhled: Proč vypadá jak větvička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elikost:samička okolo 11-ti cm, sameček okolo 9-ti cm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Potrava: Listy ostružiníku, maliníku, jahodníku, růže, dubu, buku, hlohu,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Rozmnožování: Pohlavně, nebo partenogeneticky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ajíčka: Samička volně vypouští vajíčka na substrát. Velikost vajíčkek je asi 2 mm. Nymfy se líhnou po 3 – 4 měsících. Jejich velikost je cca 1 cm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651200" y="3922560"/>
            <a:ext cx="4191120" cy="21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Picture 7" descr="psg05-eggs"/>
          <p:cNvPicPr/>
          <p:nvPr/>
        </p:nvPicPr>
        <p:blipFill>
          <a:blip r:embed="rId1"/>
          <a:stretch/>
        </p:blipFill>
        <p:spPr>
          <a:xfrm>
            <a:off x="5791320" y="4495680"/>
            <a:ext cx="2909880" cy="21862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9" descr="psg05-female-2"/>
          <p:cNvPicPr/>
          <p:nvPr/>
        </p:nvPicPr>
        <p:blipFill>
          <a:blip r:embed="rId2"/>
          <a:stretch/>
        </p:blipFill>
        <p:spPr>
          <a:xfrm>
            <a:off x="5943600" y="1066680"/>
            <a:ext cx="2495520" cy="3333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Lupenitk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Phyllium sp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Rozšíření: Tropické deštné pralesy Folipín, kde žije ve středním patř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zhled: Proč vypadá jako list, když žije ve středním patře prales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elikost: Samička: okolo 8 cm, samec: okolo 5-ti cm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Potrava: Listy ostružiníku, maliníku, jahodníku, růže, dubu, buku, hlohu,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Rozmnožování: Pohlavně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ajíčka: Samička volně vypouští vajíčka na substrát. Velikost vajíček je asi 5 mm. Po 3 – 4 měsících se líhnou nymfy. Velikost nymf je cca 1,5 cm, barva je černá s bílými okraji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Picture 7" descr="psg278-adults-1"/>
          <p:cNvPicPr/>
          <p:nvPr/>
        </p:nvPicPr>
        <p:blipFill>
          <a:blip r:embed="rId1"/>
          <a:stretch/>
        </p:blipFill>
        <p:spPr>
          <a:xfrm>
            <a:off x="5235480" y="1600200"/>
            <a:ext cx="3021120" cy="21765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8" descr="psg278-eggs"/>
          <p:cNvPicPr/>
          <p:nvPr/>
        </p:nvPicPr>
        <p:blipFill>
          <a:blip r:embed="rId2"/>
          <a:stretch/>
        </p:blipFill>
        <p:spPr>
          <a:xfrm>
            <a:off x="5235480" y="3922560"/>
            <a:ext cx="3022560" cy="2176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Terárium a podmínky v ně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Velikost:</a:t>
            </a: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Terárium by mělo být 2 – 3 x vyšší, než je velikost strašilky, aby se mohla pohodlně svlíknout. Délka a šířka, dle velikosti druhu.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lhkost: Záleží na druhu, každý druh má své specifické podmínky. Ale všeobecně platí to, že by se mělo rosit 1x denně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zduch: Důležité je větrání, je potřeba cirkulace vzduchu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65120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5" name="Picture 6" descr="insektarium3"/>
          <p:cNvPicPr/>
          <p:nvPr/>
        </p:nvPicPr>
        <p:blipFill>
          <a:blip r:embed="rId1"/>
          <a:stretch/>
        </p:blipFill>
        <p:spPr>
          <a:xfrm>
            <a:off x="4724280" y="2209680"/>
            <a:ext cx="3886200" cy="3276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Zdroje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www.strasilky.c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brázky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www.strasilky.c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http://www.google.cz/imgres?imgurl=http://www.naturalist.if.ua/wp-content/achrioptera-fallax.jpg&amp;imgrefurl=http://www.naturalist.if.ua/%3Fp%3D1719&amp;usg=__dBzu7lcvmgSI44Maj9YvTX58Kx8=&amp;h=350&amp;w=570&amp;sz=69&amp;hl=cs&amp;start=1&amp;zoom=1&amp;tbnid=EbkIQmfHMDtPBM:&amp;tbnh=82&amp;tbnw=13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Strašilky na začátku: 1. Achrioptera fallax a 2. Nescroscia annulipes, na konci: Oreophoetes peruan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Díky za pozornost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9" name="Picture 5" descr="psg84-adults-1"/>
          <p:cNvPicPr/>
          <p:nvPr/>
        </p:nvPicPr>
        <p:blipFill>
          <a:blip r:embed="rId1"/>
          <a:stretch/>
        </p:blipFill>
        <p:spPr>
          <a:xfrm>
            <a:off x="2265480" y="2187720"/>
            <a:ext cx="4613040" cy="2993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kub</cp:lastModifiedBy>
  <dcterms:modified xsi:type="dcterms:W3CDTF">2010-12-07T15:55:1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