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3D6-2DDD-4330-A5AE-5180AA1E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8AE-75F9-460A-BE31-7023F98C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6B4-26F6-4DA7-8E61-76C3813E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5DA-E0DB-4817-9680-535F0F4F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1B79-DAAE-4E48-A593-BE5AECB3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8A4B-999E-4FF5-ABE0-3419142C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2016-5D08-429E-9F9C-F2E747E1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4D1A-1A9C-4C7D-BB9D-333F9620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4CBF-7C10-4A5D-AB80-C0689356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329B-81FA-4338-B4C0-3284DB5A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F560-77B9-458D-AD58-F86F414F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C47-3D91-4C3E-83BC-8D8D0585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9410-026D-4ACF-B1EF-6FC03955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627C-CDE0-4EA8-932C-7E2AAEAF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9E0D-8A0C-4176-B7C4-5CE51C37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BB5F-38AA-42E1-8787-B9CC3EC7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65A9-AE5C-43A9-B269-668C381A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367-7E9E-45D7-85B7-903BD0A5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D81-92F3-4ADB-B336-75BA3AB7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FF1-C5FB-45BE-B5E8-D01678F1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134-FF79-4715-A2BA-31B2975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7CA-650F-4C2D-BA30-C10B6005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664-2576-4674-B36E-F9BFB51E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C40-7E07-4E13-BFB4-B0C26D53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1FE1-8EFC-4F1F-A8BE-0724F3E8E1C3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8B62-1134-4F65-BE67-A6C35903CE1B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trašilky, pakobylky, lupenitk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981080" y="1676160"/>
            <a:ext cx="6251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ahoma"/>
              </a:rPr>
              <a:t>(vypracoval Jiří Voříšek</a:t>
            </a:r>
            <a:r>
              <a:rPr b="0" lang="cs-CZ" sz="9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8" descr="Achrioptera_fallax_Coquerel_1861M4"/>
          <p:cNvPicPr/>
          <p:nvPr/>
        </p:nvPicPr>
        <p:blipFill>
          <a:blip r:embed="rId1"/>
          <a:stretch/>
        </p:blipFill>
        <p:spPr>
          <a:xfrm>
            <a:off x="957240" y="1600200"/>
            <a:ext cx="2879640" cy="449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necroscia_annulipes_psg290_female_1"/>
          <p:cNvPicPr/>
          <p:nvPr/>
        </p:nvPicPr>
        <p:blipFill>
          <a:blip r:embed="rId2"/>
          <a:stretch/>
        </p:blipFill>
        <p:spPr>
          <a:xfrm>
            <a:off x="5257800" y="1600200"/>
            <a:ext cx="3182760" cy="44956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1"/>
          <p:cNvSpPr/>
          <p:nvPr/>
        </p:nvSpPr>
        <p:spPr>
          <a:xfrm>
            <a:off x="3410280" y="62485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Tahoma"/>
              </a:rPr>
              <a:t>(vypracoval Jiří Voříšek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trašil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Eurycantha calcar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Pralesy Papuy – N. Guineje a Austráli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takhle, jak vypadá? (prostředí ve kterém žije, napodobuje větve a kůru stromů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 samička okolo 15-ti cm, sameček okolo 12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, ale někdy také partenogenetic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klade vajíčka kladélkem do substrátu. Velikost vajec je 8x4 mm. Nymfy se líhnou po 4-6 měsících. Velikost nymf je 1,5-2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5" descr="psg23-adults"/>
          <p:cNvPicPr/>
          <p:nvPr/>
        </p:nvPicPr>
        <p:blipFill>
          <a:blip r:embed="rId1"/>
          <a:stretch/>
        </p:blipFill>
        <p:spPr>
          <a:xfrm>
            <a:off x="5235480" y="1600200"/>
            <a:ext cx="3021120" cy="2176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psg23-eggs"/>
          <p:cNvPicPr/>
          <p:nvPr/>
        </p:nvPicPr>
        <p:blipFill>
          <a:blip r:embed="rId2"/>
          <a:stretch/>
        </p:blipFill>
        <p:spPr>
          <a:xfrm>
            <a:off x="5235480" y="3922560"/>
            <a:ext cx="3022560" cy="21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akobyl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edauroidea extradentata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Keřovité oblasti Indie a Vietnamu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jak větvička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samička okolo 11-ti cm, sameček okolo 9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, nebo partenogenetic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volně vypouští vajíčka na substrát. Velikost vajíčkek je asi 2 mm. Nymfy se líhnou po 3 – 4 měsících. Jejich velikost je cca 1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51200" y="3922560"/>
            <a:ext cx="419112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7" descr="psg05-eggs"/>
          <p:cNvPicPr/>
          <p:nvPr/>
        </p:nvPicPr>
        <p:blipFill>
          <a:blip r:embed="rId1"/>
          <a:stretch/>
        </p:blipFill>
        <p:spPr>
          <a:xfrm>
            <a:off x="5791320" y="4495680"/>
            <a:ext cx="2909880" cy="2186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psg05-female-2"/>
          <p:cNvPicPr/>
          <p:nvPr/>
        </p:nvPicPr>
        <p:blipFill>
          <a:blip r:embed="rId2"/>
          <a:stretch/>
        </p:blipFill>
        <p:spPr>
          <a:xfrm>
            <a:off x="5943600" y="1066680"/>
            <a:ext cx="2495520" cy="3333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Lupenit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hyllium s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Tropické deštné pralesy Folipín, kde žije ve středním patř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jako list, když žije ve středním patře prale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 Samička: okolo 8 cm, samec: okolo 5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volně vypouští vajíčka na substrát. Velikost vajíček je asi 5 mm. Po 3 – 4 měsících se líhnou nymfy. Velikost nymf je cca 1,5 cm, barva je černá s bílými okraj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7" descr="psg278-adults-1"/>
          <p:cNvPicPr/>
          <p:nvPr/>
        </p:nvPicPr>
        <p:blipFill>
          <a:blip r:embed="rId1"/>
          <a:stretch/>
        </p:blipFill>
        <p:spPr>
          <a:xfrm>
            <a:off x="5235480" y="1600200"/>
            <a:ext cx="3021120" cy="217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psg278-eggs"/>
          <p:cNvPicPr/>
          <p:nvPr/>
        </p:nvPicPr>
        <p:blipFill>
          <a:blip r:embed="rId2"/>
          <a:stretch/>
        </p:blipFill>
        <p:spPr>
          <a:xfrm>
            <a:off x="5235480" y="3922560"/>
            <a:ext cx="3022560" cy="21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erárium a podmínky v ně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Velikost: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erárium by mělo být 2 – 3 x vyšší, než je velikost strašilky, aby se mohla pohodlně svlíknout. Délka a šířka, dle velikosti druhu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lhkost: Záleží na druhu, každý druh má své specifické podmínky. Ale všeobecně platí to, že by se mělo rosit 1x denně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duch: Důležité je větrání, je potřeba cirkulace vzduchu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6" descr="insektarium3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droj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www.strasilky.c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rázk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www.strasilky.c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www.google.cz/imgres?imgurl=http://www.naturalist.if.ua/wp-content/achrioptera-fallax.jpg&amp;imgrefurl=http://www.naturalist.if.ua/%3Fp%3D1719&amp;usg=__dBzu7lcvmgSI44Maj9YvTX58Kx8=&amp;h=350&amp;w=570&amp;sz=69&amp;hl=cs&amp;start=1&amp;zoom=1&amp;tbnid=EbkIQmfHMDtPBM:&amp;tbnh=82&amp;tbnw=13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trašilky na začátku: 1. Achrioptera fallax a 2. Nescroscia annulipes, na konci: Oreophoetes peruan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Díky za pozornost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5" descr="psg84-adults-1"/>
          <p:cNvPicPr/>
          <p:nvPr/>
        </p:nvPicPr>
        <p:blipFill>
          <a:blip r:embed="rId1"/>
          <a:stretch/>
        </p:blipFill>
        <p:spPr>
          <a:xfrm>
            <a:off x="2265480" y="2187720"/>
            <a:ext cx="4613040" cy="299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kub</cp:lastModifiedBy>
  <dcterms:modified xsi:type="dcterms:W3CDTF">2010-12-07T15:55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