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80F-F664-4A89-BE68-4EE9FCE7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121-0BC0-408F-861A-DA883BD6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DE1-1177-4D90-B0FC-F19C1536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145-EA10-494E-A49A-E04342A7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A3E-2169-413C-886C-86205FC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6F5-B7AC-45CE-9824-247A6143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325-FFAA-438A-8484-18B10E7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B5E-538F-40C5-9529-4423A975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A50-BFA4-4F38-8131-023DEB40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734-4B1E-4131-9006-94C3295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8EA-FD2C-483D-B0BE-11EE2DD5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D4D-BE1C-4974-ABB8-693A9183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8A7-EE21-46AC-9504-C229FE23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Fyzika" TargetMode="External"/><Relationship Id="rId2" Type="http://schemas.openxmlformats.org/officeDocument/2006/relationships/hyperlink" Target="http://cs.wikipedia.org/wiki/Vzta&#382;n&#225;_soustava" TargetMode="External"/><Relationship Id="rId3" Type="http://schemas.openxmlformats.org/officeDocument/2006/relationships/hyperlink" Target="http://cs.wikipedia.org/wiki/1._Newton&#367;v_pohybov&#253;_z&#225;kon" TargetMode="External"/><Relationship Id="rId4" Type="http://schemas.openxmlformats.org/officeDocument/2006/relationships/hyperlink" Target="http://cs.wikipedia.org/wiki/T&#283;leso" TargetMode="External"/><Relationship Id="rId5" Type="http://schemas.openxmlformats.org/officeDocument/2006/relationships/hyperlink" Target="http://cs.wikipedia.org/wiki/S&#237;la" TargetMode="External"/><Relationship Id="rId6" Type="http://schemas.openxmlformats.org/officeDocument/2006/relationships/hyperlink" Target="http://cs.wikipedia.org/wiki/Nula" TargetMode="External"/><Relationship Id="rId7" Type="http://schemas.openxmlformats.org/officeDocument/2006/relationships/hyperlink" Target="http://cs.wikipedia.org/wiki/Klid_(fyzika)" TargetMode="External"/><Relationship Id="rId8" Type="http://schemas.openxmlformats.org/officeDocument/2006/relationships/hyperlink" Target="http://cs.wikipedia.org/wiki/Rovnom&#283;rn&#253;_p&#345;&#237;mo&#269;ar&#253;_pohyb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3213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kategorie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349360"/>
            <a:ext cx="8136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ota – objektivní realita, jejíž setrvačné účinky vyjadřuje hmotnost [k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or – trojrozměrný Euklidovský, mírou prostoru je délka [m]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prostoru se zabývá matemat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Čas – skalární veličina sloužící k vyjádření posloupnosti probíhajících změn [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lematikou času se zabývá fyz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ákladní pojmy mechani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2349360"/>
            <a:ext cx="813600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soust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ý pohy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olnění a 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ká a statická ekvi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vnová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ní 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počtový model tělesa v mecha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349360"/>
            <a:ext cx="813600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leso je definováno jako část Ω prostoru E3 ohraničenou plochou Γ o objem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= ∫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lněné látkou v tuhém skupenství o hmotnosti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těleso je vždy trojrozměrné, v praxi se však vyskytují tělesa, jejichž některé rozměry jsou z jistého hlediska nepodstatné (ovšem jiné vlastnosti jsou z hlediska vyšetřování chování podstatné :-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silového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16280"/>
            <a:ext cx="813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Účinek vzájemného působení těles z hlediska mechaniky 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ové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působení silového pole na těleso nebo jako důsledek setrvačnosti hmotných útva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ové působení jako důsledek vzájemného styku těl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1341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3429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om vědní disciplíny je základní předpoklad, který nemůže být v této disciplíně dokáz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1052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773360"/>
            <a:ext cx="8136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xiom o hmotě, prostoru a ča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 je trojrozměrný, euklidovký, inerciál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orové útvary existují v č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hmotnost přiřazená prostorovému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hmotné útvary v prostoru tvoří izolovaný systém, jehož hmotnost a energie jsou konstan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981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mechaniky tě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413000"/>
            <a:ext cx="81360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y  o mechanick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ilovém půso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ekvivale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tatické rovnov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ovnováze mechanické soust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akci a rea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echanické pr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asivních odpor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de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k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rciální vztažná 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v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yzi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označuje takov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ztažná soustav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v níž platí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. Newtonův pohybový zák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tj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ěles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na které nepůsobí žádná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íl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nebo výslednice sil 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ulová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j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kli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bo se pohybuj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rovnoměrně přímočař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Platí zde zákon setrva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ztažn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ebo tak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č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sta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zvolená skupina těles (příp. i jediné vztažné těleso), které jsou vzájemně v klidu, anebo zadaném či známém vzájemném pohy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Soubor:Frame of reference.png"/>
          <p:cNvPicPr/>
          <p:nvPr/>
        </p:nvPicPr>
        <p:blipFill>
          <a:blip r:embed="rId9"/>
          <a:stretch/>
        </p:blipFill>
        <p:spPr>
          <a:xfrm>
            <a:off x="2627280" y="3716280"/>
            <a:ext cx="3133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3:14:14Z</dcterms:created>
  <dc:creator>Ucebna</dc:creator>
  <dc:description/>
  <dc:language>en-US</dc:language>
  <cp:lastModifiedBy>Ucebna</cp:lastModifiedBy>
  <dcterms:modified xsi:type="dcterms:W3CDTF">2009-09-29T09:13:14Z</dcterms:modified>
  <cp:revision>7</cp:revision>
  <dc:subject/>
  <dc:title>Snímek 1</dc:title>
</cp:coreProperties>
</file>