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7AF-856D-491B-8785-F4077FEB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AEB3-08EE-414D-B545-AA709627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0FC-4B5E-4026-B524-B8723F51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8E14-F1E0-40E3-A5CD-BC840858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5956-1A6B-4D43-858C-BDB55DEB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C4E-5330-4CAB-AED0-38F72965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CB3-2FBC-4C89-9DB6-82243D65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542-228A-4379-BF40-3D17967E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79AA-0C58-4EA4-935B-2DD0F2AE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75B5-BD76-4B7F-AC51-1294C456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0BD5-AA91-445C-BB5F-1CBE5E1F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4BB-FC70-467B-9B10-32797AF2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97D370-357E-4F55-AC7C-56A41C383C28}" type="slidenum">
              <a:rPr b="0" lang="cs-CZ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 st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mechanika - LIT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84280"/>
            <a:ext cx="6048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] Mechanika I STATIKA – SNTL1979 V.Mišun,E.Ondráček, K.Přik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765000"/>
            <a:ext cx="792000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znamné osobnosti mechani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istoteles (3. stol. př. n. l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onardo da Vinci (1452 – 1519) – moment sily,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epler (1571 – 1630) – zákony oběhu pl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oke (1635 – 1703) – Hookeův zákon (elastic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wton (1642 – 1727) – Newtonovy pohybové zákony, zákon gravi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uler (1707 – 1783)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’Alambert (1717 – 1783)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agrange (1736 – 1813) – základy analytické mechani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instein (1879 – 1955) – teorie rela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mecha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1916280"/>
            <a:ext cx="669600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KA - vyšetřuje podmínky rovnováhy hmotných objek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INEMATIKA - vyšetřuje pohyb hmotných objektů bez ohledu na příčiny pohybu - 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YNAMIKA - vyšetřuje pohyb hmotných objektů jako příčinný následek 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UŽNOST A PEVNOST – vyšetřuje souvislosti deformace prvků mechanické soustavy a silového působení na prv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1197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ělení mechaniky podle Lagra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 - ST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78136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ědní disciplína, která popisuje chování konstrukcí matematicky a číselné údaje se získávaní především výpočtem popřípadě grafickou metod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856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 – STATIKA </a:t>
            </a:r>
            <a:br>
              <a:rPr sz="24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ulace úlohy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44640"/>
            <a:ext cx="8351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125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počet chování konstrukce je možné formulovat jako posloupnost činnost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ulace úlohy – cíl výpočtu, které parametry mají být určeny a s jakou přesností, jaké jsou požadované 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ení výpočtového modelu – ke skutečné konstrukci je vytvořen výpočtový model, který dostatečně přesně odpovídá skutečnosti a přitom je zvládnutelný existujícím výpočtovými metod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matický popis – na základě axiomů oboru, vlastností  výpočtového modelu a s použitím matematických metod jsou v obecném tvaru vyjádřeny vztahy popisující chování systé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4941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856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 – STATIKA </a:t>
            </a:r>
            <a:br>
              <a:rPr sz="24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ulace úlohy 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844640"/>
            <a:ext cx="83516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stavení algoritmu výpočtu – postup, jak ze zadaných měnitelných údajů (vstupní hodnoty) a z matematického popisu získat hledané údaje (výsledk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acování programu – zpracování algoritmu do programového jazyka výpočetního systé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merická realizace – provedení číselného výpoč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buClr>
                <a:srgbClr val="000000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hodnocení výsledků – posouzení výsledků z hlediska formulace úlohy a rozhodnutí, zda výpočet je dostatečný nebo zda se musí opakovat pro jiné údaje nebo jinými metod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 - ST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1125360"/>
            <a:ext cx="712944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ypy výpočt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mý – celý postup výpočtu řídí a provádí sám konstrukté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přímý – konstruktér definuje úlohu a výpočtový model, připraví vstupní údaje. Sestavení úlohy (algoritmus) provede výpočtář specialista, který výsledky výpočtu předá konstruktérovi, který provede rozbor výsled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y řešení úlo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nalytická - počet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rafic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binovaná – graficko počet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 - ST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0000" y="1260360"/>
            <a:ext cx="450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úlohy stati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la, působiště sí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ment sí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stavy sil a mo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utové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ěžiště č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ěžiště ploch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ěžiště tě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chanika - STA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692280"/>
            <a:ext cx="712980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SAH předmštu zkoum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Úkoly mechaniky a statiky. Základní pojmy včetně maticové formulace. Moment síly k bodu a k ose. Silová dvojice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ilové soustavy (dále jen S.S.), typy S.S., nahrazení, rovnováha a jejich maticové vyjádření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ecná rovinná a prostorová S.S., grafické řešení rovnováhy pomocí Culmannovy přímky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ředisko rovnoběžných si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jem stupně volnosti, typy rovinných a prostorových vazeb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ložení rovinných soustav těles, princip uvolňování, strukturální vzorec a jeho skladba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vnováha rovinných sousta těles (metoda uvolňování, princip grafického řešení). Trojkloubový nosník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atické řešení pohyblivých soustav, rovnováha jednoduchých prostorových soustav těles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efinice vnitřních statických účinků přímého prutu. Schwedlerova věta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šetřování vnitřních statických účinků na nosnících pro základní typy zatížení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aticky určité lomené nosníky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utové soustavy, základní pojmy, metody řešení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Řešení osových sil prutových soustav metodou styčníkovou, Cremonovou, metodou průsečno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jem těžiště, určení těžiště čar, ploch a těles. Pappus-Guldinovy věty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5:58:18Z</dcterms:created>
  <dc:creator>Ucebna</dc:creator>
  <dc:description/>
  <dc:language>en-US</dc:language>
  <cp:lastModifiedBy>Deda</cp:lastModifiedBy>
  <dcterms:modified xsi:type="dcterms:W3CDTF">2010-11-25T19:57:55Z</dcterms:modified>
  <cp:revision>10</cp:revision>
  <dc:subject/>
  <dc:title>Mechanika - STATIKA</dc:title>
</cp:coreProperties>
</file>