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2171-EEA4-481E-BD92-977655C53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9427-8022-45C6-95F6-1556F0F5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8628-4BB7-4B4C-95F7-3BBB8A78F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7C06-92B3-4563-B95C-8515B64E1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49A7-8FE7-4914-99DE-E6AF3739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A819-12D3-4F27-861C-63FB5728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4E69-825E-4825-BA3A-E5DCD8C4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1BBA-4F7F-4961-AF53-AF853EF6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B23E-1CE0-4AFB-8546-97F5625C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ABD1-D445-4EAC-9045-07770539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354C-0AB3-4940-9820-0C0AB4A3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F47D-4B30-47FD-9DD9-04FAFC26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DF26-7CB3-462B-B35C-C76ACB04E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KA STATIKA - těžiště tě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177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10526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atu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ka statika - těžiště tě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1628640"/>
            <a:ext cx="71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1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aždé těleso si lze představit složené z nekonečného počtu hmotných bodů. Na každý tento bod působí tíhová síla, která má v tomto bodě působiště. Těžištěm tělesa nazýváme bod, kterým prochází výslednice tíhových sil všech jeho hmotných bodů při jakékoliv poloze tělesa. Je-li těleso homogenní, závisí poloha těžiště pouze na jeho tvar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ka statika - těžiště tě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1628640"/>
            <a:ext cx="7129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1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 praxi řeší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ěžiště čar – u těles, kde délkový rozměr výrazně převyšuje rozměry průře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ěžiště ploch – u těles, kde plošné rozměry výrazně převyšují tloušťku materiá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ěžiště těles – u těles, kde nemůžeme zanedbat žádný z rozměrů těl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ka statika - těžiště tě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1628640"/>
            <a:ext cx="7129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1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lohu těžiště lze řeši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fi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četn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četně za využití některé vlastnosti systému C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mentáln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ka statika - těžiště tě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162864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[1]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ka statika - těžiště tě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06560" y="105264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1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ěžiště čar – grafická meto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932360" y="1844640"/>
            <a:ext cx="3745080" cy="2468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0920" y="1557360"/>
            <a:ext cx="403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Čáry, které jsou složeny z více úseků, nejprve rozdělíme na jednoduché úseky u nichž dovedeme snadno určit těžiště v dílčích těžištích vyneseme síly, jejichž velikost bude úměrná délkám jednotlivých úseků. Síly vyneseme ve vodorovném a svislém směru.Tím dostaneme soustavu rovnoběžných sil ve vodorovném a svislém směru pro každý směr zvlášť vyřešíme pomocí silového a vláknového obrazce polohu výslednice soustavy rovnoběžných sil těžiště složené čáry potom leží v průsečíku nositelek výslednic obou soustav rovnoběžných si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ka statika - těžiště tě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06560" y="105264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1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ěžiště čar – početní meto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55736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ka statika - těžiště tě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06560" y="105264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1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ěžiště čar – grafická meto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1557360"/>
            <a:ext cx="403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ženou plochu nejprve rozdělíme na jednoduché obrazce u nichž dovedeme snadno určit těžiště vypočteme obsahy dílčích ploch S1, S2 ,S3 atd.a v dílčích těžištích vyneseme síly, jejichž velikost bude úměrná obsahům jednotlivých ploch. Síly vyneseme ve vodorovném a svislém směru. Tím dostaneme soustavu rovnoběžných sil ve vodorovném a svislém směru pro každý směr zvlášť vyřešíme pomocí silového a vláknového obrazce polohu výslednice soustavy rovnoběžných s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ěžiště složené plochy potom leží v průsečíku nositelek výslednic obou soustav rovnoběžných si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219640" y="1700280"/>
            <a:ext cx="3168720" cy="27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ka statika - těžiště tě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06560" y="105264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1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ěžiště čar – grafická meto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155736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ěžiště obrazců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17560" y="2131920"/>
            <a:ext cx="2141640" cy="2305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730680" y="2205000"/>
            <a:ext cx="1873080" cy="2016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732720" y="2276640"/>
            <a:ext cx="174132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5:58:18Z</dcterms:created>
  <dc:creator>Ucebna</dc:creator>
  <dc:description/>
  <dc:language>en-US</dc:language>
  <cp:lastModifiedBy>Kosta</cp:lastModifiedBy>
  <dcterms:modified xsi:type="dcterms:W3CDTF">2009-12-17T18:01:53Z</dcterms:modified>
  <cp:revision>9</cp:revision>
  <dc:subject/>
  <dc:title>Mechanika - STATIKA</dc:title>
</cp:coreProperties>
</file>