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ADA-15EB-4EC4-B8DA-5EB09B9C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04A-BAA4-476B-BC62-87E3A4F9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C4E-B709-4E53-99CD-EE676F29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972-6D45-4888-9F78-C11B8BEE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730-7E11-4625-B94E-592A289F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88E-3495-4D40-B9AD-520C13B4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444-770A-4DF4-8591-DCE8701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468-B1D2-4B76-969C-F2EF6AC8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628-9910-42BB-8F73-3E9A007F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95C-C97B-4574-8DC8-C6FB6CA8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149-64BF-4408-A806-6B9C266B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C05-9BF8-43F9-A30A-8AB742C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0F02FD-3E7E-4813-BB96-C1436FF8DB7F}" type="slidenum"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mechanika -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84280"/>
            <a:ext cx="6048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] Mechanika I STATIKA – SNTL1979 V.Mišun,E.Ondráček, K.Přik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765000"/>
            <a:ext cx="792000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né osobnosti mechani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istoteles (3. stol. př. n. 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onardo da Vinci (1452 – 1519) – moment sily,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pler (1571 – 1630) – zákony oběhu pl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oke (1635 – 1703) – Hookeův zákon (elastic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wton (1642 – 1727) – Newtonovy pohybové zákony, zákon gravi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ler (1707 – 1783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’Alambert (1717 – 1783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grange (1736 – 1813) – základy analytické mechan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nstein (1879 – 1955) – teorie rel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1916280"/>
            <a:ext cx="6696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KA - vyšetřuje podmínky rovnováhy hmotných ob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INEMATIKA - vyšetřuje pohyb hmotných objektů bez ohledu na příčiny pohybu - 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YNAMIKA - vyšetřuje pohyb hmotných objektů jako příčinný následek 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OST A PEVNOST – vyšetřuje souvislosti deformace prvků mechanické soustavy a silového působení na 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197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ělení mechaniky podle Lagr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781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ědní disciplína, která popisuje chování konstrukcí matematicky a číselné údaje se získávaní především výpočtem popřípadě grafickou metod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85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– STATIKA 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44640"/>
            <a:ext cx="8351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počet chování konstrukce je možné formulovat jako posloupnost činnos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– cíl výpočtu, které parametry mají být určeny a s jakou přesností, jaké jsou požadované 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ení výpočtového modelu – ke skutečné konstrukci je vytvořen výpočtový model, který dostatečně přesně odpovídá skutečnosti a přitom je zvládnutelný existujícím výpočtovými meto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cký popis – na základě axiomů oboru, vlastností  výpočtového modelu a s použitím matematických metod jsou v obecném tvaru vyjádřeny vztahy popisující chování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941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5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– STATIKA 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844640"/>
            <a:ext cx="8351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avení algoritmu výpočtu – postup, jak ze zadaných měnitelných údajů (vstupní hodnoty) a z matematického popisu získat hledané údaje (výsledk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acování programu – zpracování algoritmu do programového jazyka výpočetního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merická realizace – provedení číselného vý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hodnocení výsledků – posouzení výsledků z hlediska formulace úlohy a rozhodnutí, zda výpočet je dostatečný nebo zda se musí opakovat pro jiné údaje nebo jinými meto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125360"/>
            <a:ext cx="712944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y výpočt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mý – celý postup výpočtu řídí a provádí sám konstrukté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římý – konstruktér definuje úlohu a výpočtový model, připraví vstupní údaje. Sestavení úlohy (algoritmus) provede výpočtář specialista, který výsledky výpočtu předá konstruktérovi, který provede rozbor výsl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y řešení úlo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ytická - poče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f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ovaná – graficko poče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0000" y="1260360"/>
            <a:ext cx="450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úlohy stati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la, působiště s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ment s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tavy sil a mo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utové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plo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tě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692280"/>
            <a:ext cx="7129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 předmštu zkoum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Úkoly mechaniky a statiky. Základní pojmy včetně maticové formulace. Moment síly k bodu a k ose. Silová dvojice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ilové soustavy (dále jen S.S.), typy S.S., nahrazení, rovnováha a jejich maticové vyjádř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ná rovinná a prostorová S.S., grafické řešení rovnováhy pomocí Culmannovy přímky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ředisko rovnoběžných s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m stupně volnosti, typy rovinných a prostorových vaze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ožení rovinných soustav těles, princip uvolňování, strukturální vzorec a jeho skladba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vnováha rovinných sousta těles (metoda uvolňování, princip grafického řešení). Trojkloubový nosník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tické řešení pohyblivých soustav, rovnováha jednoduchých prostorových soustav těles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efinice vnitřních statických účinků přímého prutu. Schwedlerova věta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šetřování vnitřních statických účinků na nosnících pro základní typy zatíž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ticky určité lomené nosníky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utové soustavy, základní pojmy, metody řeš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 osových sil prutových soustav metodou styčníkovou, Cremonovou, metodou průsečn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m těžiště, určení těžiště čar, ploch a těles. Pappus-Guldinovy věty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5:58:18Z</dcterms:created>
  <dc:creator>Ucebna</dc:creator>
  <dc:description/>
  <dc:language>en-US</dc:language>
  <cp:lastModifiedBy>Deda</cp:lastModifiedBy>
  <dcterms:modified xsi:type="dcterms:W3CDTF">2010-11-25T19:57:55Z</dcterms:modified>
  <cp:revision>10</cp:revision>
  <dc:subject/>
  <dc:title>Mechanika - STATIKA</dc:title>
</cp:coreProperties>
</file>