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D74-FB47-4F88-90D3-5504C153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BFD-49A9-4CEB-BC6F-305D831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801-7931-472F-B074-EDC7068D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FEB-3D3F-4FB3-955F-08BB0403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1A2-BCEF-4990-B2AB-F6F758A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937-C2C1-4F84-9D3D-CC29F995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281-13E7-4083-8C53-DF7E4711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180-6D3E-4672-8572-F5EEE06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0F1-CDDB-4AA0-AB03-2027B233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E28-31A0-4BE8-ADCC-40C735A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C92-FDE1-4F4B-ACDA-015C8BB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D28-1D93-4B11-B463-0ED556D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5978-A8BD-4FE6-90C0-92951214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Fyzika" TargetMode="External"/><Relationship Id="rId2" Type="http://schemas.openxmlformats.org/officeDocument/2006/relationships/hyperlink" Target="http://cs.wikipedia.org/wiki/Vzta&#382;n&#225;_soustava" TargetMode="External"/><Relationship Id="rId3" Type="http://schemas.openxmlformats.org/officeDocument/2006/relationships/hyperlink" Target="http://cs.wikipedia.org/wiki/1._Newton&#367;v_pohybov&#253;_z&#225;kon" TargetMode="External"/><Relationship Id="rId4" Type="http://schemas.openxmlformats.org/officeDocument/2006/relationships/hyperlink" Target="http://cs.wikipedia.org/wiki/T&#283;leso" TargetMode="External"/><Relationship Id="rId5" Type="http://schemas.openxmlformats.org/officeDocument/2006/relationships/hyperlink" Target="http://cs.wikipedia.org/wiki/S&#237;la" TargetMode="External"/><Relationship Id="rId6" Type="http://schemas.openxmlformats.org/officeDocument/2006/relationships/hyperlink" Target="http://cs.wikipedia.org/wiki/Nula" TargetMode="External"/><Relationship Id="rId7" Type="http://schemas.openxmlformats.org/officeDocument/2006/relationships/hyperlink" Target="http://cs.wikipedia.org/wiki/Klid_(fyzika)" TargetMode="External"/><Relationship Id="rId8" Type="http://schemas.openxmlformats.org/officeDocument/2006/relationships/hyperlink" Target="http://cs.wikipedia.org/wiki/Rovnom&#283;rn&#253;_p&#345;&#237;mo&#269;ar&#253;_pohyb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213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tový model tělesa v mech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kategorie mechani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349360"/>
            <a:ext cx="8136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ota – objektivní realita, jejíž setrvačné účinky vyjadřuje hmotnost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or – trojrozměrný Euklidovský, mírou prostoru je délka [m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atikou prostoru se zabývá matemat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as – skalární veličina sloužící k vyjádření posloupnosti probíhajících změn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atikou času se zabývá fyz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pojmy mechani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349360"/>
            <a:ext cx="81360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á sou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ý pohy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olnění a silové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á a statická ekv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nová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ní 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tový model tělesa v mech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349360"/>
            <a:ext cx="81360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leso je definováno jako část Ω prostoru E3 ohraničenou plochou Γ o obje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= ∫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lněné látkou v tuhém skupenství o hmotnosti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těleso je vždy trojrozměrné, v praxi se však vyskytují tělesa, jejichž některé rozměry jsou z jistého hlediska nepodstatné (ovšem jiné vlastnosti jsou z hlediska vyšetřování chování podstatné :-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silového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916280"/>
            <a:ext cx="813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činek vzájemného působení těles z hlediska mechaniky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vé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ové působení jako důsledek působení silového pole na těleso nebo jako důsledek setrvačnosti hmotných útva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ové působení jako důsledek vzájemného styku tě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429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om vědní disciplíny je základní předpoklad, který nemůže být v této disciplíně dokáz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052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73360"/>
            <a:ext cx="81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iom o hmotě, prostoru a č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 je trojrozměrný, euklidovký, iner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ové útvary existují v č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e hmotnost přiřazená prostorovému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hmotné útvary v prostoru tvoří izolovaný systém, jehož hmotnost a energie jsou konstan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981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413000"/>
            <a:ext cx="81360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 o mechanickém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ilovém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tatické ekvival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tatické rovnov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ovnováze mechanick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kci a rea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echanické pr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asivních odpo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trva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d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rciální vztažná sou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v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yz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značuje taková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ztažná soustav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v níž platí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. Newtonův pohybový zák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tj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ěles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na které nepůsobí žádná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íl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nebo výslednice sil j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ulová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j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li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o se pohybuj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ovnoměrně přímočař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latí zde zákon setrva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ztažn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bo tak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č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zvolená skupina těles (příp. i jediné vztažné těleso), které jsou vzájemně v klidu, anebo zadaném či známém vzájemném pohy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Soubor:Frame of reference.png"/>
          <p:cNvPicPr/>
          <p:nvPr/>
        </p:nvPicPr>
        <p:blipFill>
          <a:blip r:embed="rId9"/>
          <a:stretch/>
        </p:blipFill>
        <p:spPr>
          <a:xfrm>
            <a:off x="2627280" y="3716280"/>
            <a:ext cx="3133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14:14Z</dcterms:created>
  <dc:creator>Ucebna</dc:creator>
  <dc:description/>
  <dc:language>en-US</dc:language>
  <cp:lastModifiedBy>Ucebna</cp:lastModifiedBy>
  <dcterms:modified xsi:type="dcterms:W3CDTF">2009-09-29T09:13:14Z</dcterms:modified>
  <cp:revision>7</cp:revision>
  <dc:subject/>
  <dc:title>Snímek 1</dc:title>
</cp:coreProperties>
</file>