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FB3B-D52B-4F40-B968-619A10C8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57F5-090F-4A58-A044-2CFDF737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159-D8D6-4218-8517-331E549E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6D2D-286D-4096-8DC8-BC3C580E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D4D-3B6A-4CE5-9906-8744A398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007-2E32-4AD3-B151-8F919BDB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B35-A861-439B-AD77-5F3E5B85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B0C-837D-420E-9012-84186CF5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0CA7-6A3D-4652-9524-03A8C237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C19-8026-4BBA-B8B3-3F1ED131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E2E8-5D8C-4254-A09F-38AAF224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8FA-C2BD-45F3-9CF9-4B82FC0A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051D-70A4-4F26-9629-64C64EE63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052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at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162864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aždé těleso si lze představit složené z nekonečného počtu hmotných bodů. Na každý tento bod působí tíhová síla, která má v tomto bodě působiště. Těžištěm tělesa nazýváme bod, kterým prochází výslednice tíhových sil všech jeho hmotných bodů při jakékoliv poloze tělesa. Je-li těleso homogenní, závisí poloha těžiště pouze na jeho tva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1628640"/>
            <a:ext cx="712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 praxi řeší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ěžiště čar – u těles, kde délkový rozměr výrazně převyšuje rozměry průře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ěžiště ploch – u těles, kde plošné rozměry výrazně převyšují tloušťku materiá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ěžiště těles – u těles, kde nemůžeme zanedbat žádný z rozměrů těl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1628640"/>
            <a:ext cx="71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lohu těžiště lze řeš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čet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četně za využití některé vlastnosti systému 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ál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1628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06560" y="1052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ěžiště čar – grafická meto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3745080" cy="2468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1557360"/>
            <a:ext cx="403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áry, které jsou složeny z více úseků, nejprve rozdělíme na jednoduché úseky u nichž dovedeme snadno určit těžiště v dílčích těžištích vyneseme síly, jejichž velikost bude úměrná délkám jednotlivých úseků. Síly vyneseme ve vodorovném a svislém směru.Tím dostaneme soustavu rovnoběžných sil ve vodorovném a svislém směru pro každý směr zvlášť vyřešíme pomocí silového a vláknového obrazce polohu výslednice soustavy rovnoběžných sil těžiště složené čáry potom leží v průsečíku nositelek výslednic obou soustav rovnoběžných s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06560" y="1052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ěžiště čar – početní meto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5573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06560" y="1052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ěžiště čar – grafická meto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557360"/>
            <a:ext cx="403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ženou plochu nejprve rozdělíme na jednoduché obrazce u nichž dovedeme snadno určit těžiště vypočteme obsahy dílčích ploch S1, S2 ,S3 atd.a v dílčích těžištích vyneseme síly, jejichž velikost bude úměrná obsahům jednotlivých ploch. Síly vyneseme ve vodorovném a svislém směru. Tím dostaneme soustavu rovnoběžných sil ve vodorovném a svislém směru pro každý směr zvlášť vyřešíme pomocí silového a vláknového obrazce polohu výslednice soustavy rovnoběžných 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ěžiště složené plochy potom leží v průsečíku nositelek výslednic obou soustav rovnoběžných s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16872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06560" y="1052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ěžiště čar – grafická meto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5573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ěžiště obrazc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17560" y="2131920"/>
            <a:ext cx="2141640" cy="2305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730680" y="2205000"/>
            <a:ext cx="1873080" cy="201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732720" y="2276640"/>
            <a:ext cx="17413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5:58:18Z</dcterms:created>
  <dc:creator>Ucebna</dc:creator>
  <dc:description/>
  <dc:language>en-US</dc:language>
  <cp:lastModifiedBy>Kosta</cp:lastModifiedBy>
  <dcterms:modified xsi:type="dcterms:W3CDTF">2009-12-17T18:01:53Z</dcterms:modified>
  <cp:revision>9</cp:revision>
  <dc:subject/>
  <dc:title>Mechanika - STATIKA</dc:title>
</cp:coreProperties>
</file>