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1DB-BAD2-430F-B864-2C3984F9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16E-D500-415B-8813-43E1B455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ECA-6331-411D-A49E-783C42D6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FC2-1EC2-407E-BB45-3EBC454F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F3E-606D-496B-91C5-539E4DBC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718-DB05-496F-82F6-5CD81199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E8A-C30B-43DD-98C9-7594487B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C9B-3043-4D6D-9784-E1466E0C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EF1-6235-4AC8-BDD2-8ABCD0CD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E81-9B9C-40BC-BB5D-D3A54DD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A8E-794A-49EF-A7C7-F96F86FE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E63-384C-41E0-9226-95A2EA33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4A61-E566-4D10-9C48-5DA73ACCE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692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Obsah přednášk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1125360"/>
            <a:ext cx="25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ěžiště čar, ploch a tě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Pappus - Guldinovy vě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492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Doba studi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8843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i 1,5 h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7828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íl přednášk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418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známit studenty se způsobem určování polohy těžišt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 způsobem výpočtu povrchu a objemu rotačně symetrických tě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620640"/>
            <a:ext cx="7200720" cy="1584360"/>
          </a:xfrm>
          <a:prstGeom prst="roundRect">
            <a:avLst>
              <a:gd name="adj" fmla="val 15319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421000"/>
            <a:ext cx="7200720" cy="1081080"/>
          </a:xfrm>
          <a:prstGeom prst="roundRect">
            <a:avLst>
              <a:gd name="adj" fmla="val 20704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716280"/>
            <a:ext cx="7200720" cy="1370160"/>
          </a:xfrm>
          <a:prstGeom prst="roundRect">
            <a:avLst>
              <a:gd name="adj" fmla="val 18019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2920" y="44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ěžišt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760" y="476280"/>
            <a:ext cx="8402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Uvedeným způsobem lze určit souřadnice těžiště plochy, již lze rozložit na něko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dílčích ploch, jejichž těžiště (jeho poloha) je zná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kovýchto ploch je poměrně málo (obdélník, trojúhelník, plný kruh, rovnoběž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snad ještě několik další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podstatě stejným způsobem, ale s použitím diferenciálního počtu, stanovíme souřad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plochy, kterou nelze rozložit na konečný počet „jednoduchých“ pl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locha ovšem musí být matematicky definov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2496960"/>
          <a:ext cx="3809880" cy="23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496960"/>
                    <a:ext cx="3809880" cy="23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922560" y="2492640"/>
            <a:ext cx="51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Libovolnou plochu můžeme chápat jako slože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 nekonečně mnoha nekonečně malých obdélníč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=dx·d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jsou nekonečně malé změny souřad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- diferenciály souřad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Souřadnice těžiště určíme způsobem, popsaným výš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ři tom součet nekonečně mno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nekonečně malých prvků je integr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995640" y="4775040"/>
                <a:ext cx="213372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732720" y="4775040"/>
                <a:ext cx="2114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23120" y="6014160"/>
            <a:ext cx="88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onkrétní provedení se může případ od případu v detailech lišit. Ukážeme si řešení dvou úlo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56360" y="549360"/>
          <a:ext cx="25430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549360"/>
                    <a:ext cx="25430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48760" y="483480"/>
            <a:ext cx="50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pravoúhlé úseče paraboly o rozměre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×h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souřadném systém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e parabola dána rovnicí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1125360"/>
                <a:ext cx="322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62440" y="183744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jsou dány dříve uvedenými vzor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00000" y="2133720"/>
                <a:ext cx="12160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427560" y="2133720"/>
                <a:ext cx="1215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23640" y="31741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ro parabolu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00000" y="3573360"/>
                <a:ext cx="1656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419640" y="3502080"/>
                <a:ext cx="1655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17160" y="436500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 ve jmenovateli přirozeně vyjadřuje plochu parabolické úse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84360" y="4724280"/>
                <a:ext cx="7731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16360" y="5516640"/>
                <a:ext cx="3351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086360" y="6399360"/>
                <a:ext cx="990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56360" y="549360"/>
          <a:ext cx="25430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549360"/>
                    <a:ext cx="25430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17520" y="475560"/>
            <a:ext cx="50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 čitateli pak jsou statické momenty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858960" y="825480"/>
                <a:ext cx="43606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d>
                                  </m: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</m:nary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h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26920" y="2374920"/>
                <a:ext cx="4608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0920" y="3284640"/>
                <a:ext cx="2057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78040" y="4149720"/>
                <a:ext cx="6646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76240" y="5013360"/>
                <a:ext cx="7008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050920" y="5950080"/>
                <a:ext cx="4151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156360" y="549360"/>
          <a:ext cx="25430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549360"/>
                    <a:ext cx="25430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321480" y="47556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pak tedy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11280" y="836640"/>
                <a:ext cx="1676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92360" y="836640"/>
                <a:ext cx="1676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11280" y="1773360"/>
                <a:ext cx="18288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78320" y="1773360"/>
                <a:ext cx="18856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1600" y="2717280"/>
            <a:ext cx="553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okud se jedná o symetrickou parabolickou úseč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x-ová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souřadnice těžiště, s ohledem na symetrii, nulová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y-nová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zůstává beze změ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66880" y="3687840"/>
          <a:ext cx="3705120" cy="29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6880" y="3687840"/>
                    <a:ext cx="370512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788000" y="4653000"/>
                <a:ext cx="846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4640" y="48348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Výpočet se může poněkud lišit, např. je-li vhodné použít jiný souřadný systém, než kartézsk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Ukážeme si výpočet polohy těžiště kruhové výseče o polomě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a vrcholovém úhlu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1197000"/>
          <a:ext cx="309564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309564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3391560" y="1180080"/>
            <a:ext cx="5654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V tomto případě použijeme polární souřadný systé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hož souřadnice jsou průvodič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úhel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od řídící os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 průvodič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Elementární ploš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 obdélníček o stran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-li řídící osa osou symetrie, leží na ní těžišt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a jediným údajem, jenž je třeba vypočíst, je vzdále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těžiště od vrcholu výseče - počátku souřadného systé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003640" y="3213000"/>
                <a:ext cx="12448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414960" y="443016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menovatel vyjadřuje plochu kruhové výse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452760" y="4773600"/>
                <a:ext cx="5453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dρ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dφ</m:t>
                        </m:r>
                      </m:e>
                    </m:nary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dρ</m:t>
                        </m:r>
                      </m:e>
                    </m:nary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981880" y="565380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známka : Úhel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se zde dosazuje v obloukové míře (radián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4640" y="48348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Výpočet se může poněkud lišit, např. je-li vhodné použít jiný souřadný systém, než kartézsk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Ukážeme si výpočet polohy těžiště kruhové výseče o polomě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a vrcholovém úhlu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4000" y="1197000"/>
          <a:ext cx="309564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309564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391560" y="1180080"/>
            <a:ext cx="5654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V tomto případě použijeme polární souřadný systé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hož souřadnice jsou průvodič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úhel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od řídící os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 průvodič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Elementární ploš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 obdélníček o stran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-li řídící osa osou symetrie, leží na ní těžišt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a jediným údajem, jenž je třeba vypočíst, je vzdále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těžiště od vrcholu výseče - počátku souřadného systé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003640" y="3213000"/>
                <a:ext cx="12448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122560" y="443016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Čitatel vyjadřuje statický moment plochy k počátku souřadného systé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71640" y="4780080"/>
                <a:ext cx="80010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dρ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dρ</m:t>
                        </m:r>
                      </m:e>
                    </m:nary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969840" y="601416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ouřadnice těžiště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356000" y="5640480"/>
                <a:ext cx="38671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47556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apříklad souřadnice těžiště půlkruhu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80º=3,14 rad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/2=90º=1,57 rad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je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24440" y="981000"/>
                <a:ext cx="97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5" name=""/>
          <p:cNvGraphicFramePr/>
          <p:nvPr/>
        </p:nvGraphicFramePr>
        <p:xfrm>
          <a:off x="826920" y="907920"/>
          <a:ext cx="12859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07920"/>
                    <a:ext cx="12859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6800" y="475920"/>
            <a:ext cx="739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ři hledání těžiště trojrozměrného tělesa postupujeme stejně jako u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uze přibývá třetí souřad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ro souřadnice těžiště tělesa, složeného z konečného počtu jednoduchých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(t.j. takových, jejichž těžiště známe) lze shrno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71640" y="1700280"/>
                <a:ext cx="1617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746520" y="1700280"/>
                <a:ext cx="1617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519960" y="1700280"/>
                <a:ext cx="1581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12840" y="2836800"/>
            <a:ext cx="84362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Zde samozřejmě součet ve jmenovateli vyjadřuje celkový objem, součty v čitateli vyjadř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tatické momenty objemů k jednotlivým osá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V případě různých materiálů jsou dílčí objem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jak v čitateli, tak ve jmenov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avíc vynásobeny hustotou jednotlivých materiálů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0360" y="429192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amozřejmě i v tomto případě jsou objemy, jež jsou ve skutečnosti prázdné, zápo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(odečítají 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688000" y="406440"/>
          <a:ext cx="32767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8000" y="406440"/>
                    <a:ext cx="3276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20400" y="476280"/>
            <a:ext cx="507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ro ilustraci uvedeme výpočet těžiště trojrozměr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ělesa, jež lze rozložit na velký a malý kvád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rojúhelníkový hranol a válcovitý otv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vyvrtaný do velkého kvád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Rozměry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859760"/>
            <a:ext cx="5256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= 12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= 10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 = 8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7,5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= 6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5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9960" y="3088800"/>
            <a:ext cx="49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Dílčí objemy, souřadnice jejich těžiš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a statické momenty objemů k souřadným osá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akož i výsledné součty opět uspořádáme do tabul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24000" y="4365720"/>
          <a:ext cx="8497800" cy="2325600"/>
        </p:xfrm>
        <a:graphic>
          <a:graphicData uri="http://schemas.openxmlformats.org/drawingml/2006/table">
            <a:tbl>
              <a:tblPr/>
              <a:tblGrid>
                <a:gridCol w="1368360"/>
                <a:gridCol w="360360"/>
                <a:gridCol w="1390680"/>
                <a:gridCol w="1203480"/>
                <a:gridCol w="1150920"/>
                <a:gridCol w="792000"/>
                <a:gridCol w="360360"/>
                <a:gridCol w="576360"/>
                <a:gridCol w="647640"/>
                <a:gridCol w="647640"/>
              </a:tblGrid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z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ký kvá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·b·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ý kvá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·e·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júh. hran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-c)·e·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+(a-c)/3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3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álcový otv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d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a/4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0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4280" y="47556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dobně pro jakýkoliv matematicky definovaný objem pla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35080" y="836640"/>
                <a:ext cx="12762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924360" y="836640"/>
                <a:ext cx="12762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47040" y="836640"/>
                <a:ext cx="12380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6276960" y="2276640"/>
          <a:ext cx="2543040" cy="23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6960" y="2276640"/>
                    <a:ext cx="25430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99520" y="1860120"/>
            <a:ext cx="67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ako příklad určíme souřadnice těžiště pravoúhlého trojbokého jehla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trany u pravoúhlého vrcholu jso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trana jehlanu v rovině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má rovnic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57640" y="2781360"/>
                <a:ext cx="23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22200" y="34948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Čelní rovina jehlanu pak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376360" y="3718080"/>
                <a:ext cx="327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317160" y="443016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e výše uvedených výrazech pro souřadnice těžiště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00000" y="4876920"/>
                <a:ext cx="7342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∫"/>
                                      </m:naryPr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x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a</m:t>
                                                </m:r>
                                              </m:den>
                                            </m:f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y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b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z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sSub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b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04280"/>
            <a:ext cx="80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je velmi důležitý bod tělesa, se kterým se budeme v mechanice často setká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ež se seznámíme se způsobem jeho určení, je třeba jej defin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0960" y="1196280"/>
            <a:ext cx="458208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Těžiště je působiště výslednice tíhových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2320" y="1773360"/>
            <a:ext cx="816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ředstavme si, že těleso je složeno z několika menších těles (v některých případ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dokonce z nekonečně mnoha nekonečně malých tě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a každé dílčí těleso působí dílčí tíhová síla. Jejich součet pak dává tíhu celého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 však, jako výslednice silové soustavy, má i své působiště; a to je právě těžiš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e zřejmé, že pro stanovení těžiště využijeme poznatky, se kterými jsme se sezná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kapitole o určování výslednice silové soustavy s různými působiš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7638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ěkdy se pojem „těžiště“ vysvětluje jako „bod, v němž je soustředěna hmota tělesa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ato formulace je nepřesná a nemá charakter defi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 rovněž nesprávná, protože hmota tělesa není koncentrovaná v jednom bod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aopak je rovnoměrně rozložena v objemu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ako výraz elementárního porozumění pojmu „těžiště“ je však vcelku přija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000" y="5406840"/>
            <a:ext cx="72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následujícím textu budeme určovat polohu těžiště tří různých typů objektů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těleso (trojrozměrné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plocha (dvojrozměrná - plech, vystřižený do určitého tvar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čára (jednorozměrná - tvarovaný drá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7160" y="47556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e výše uvedených výrazech pro souřadnice těžiště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01800" y="907920"/>
                <a:ext cx="7342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∫"/>
                                      </m:naryPr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x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a</m:t>
                                                </m:r>
                                              </m:den>
                                            </m:f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y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b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z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sSub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b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84360" y="2205000"/>
                <a:ext cx="78073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59280" y="3670200"/>
                <a:ext cx="3027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564000" y="4802040"/>
                <a:ext cx="1962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3920400" y="5373000"/>
            <a:ext cx="49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ento integrál samozřejmě vyjadřuje celkový obj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7520" y="47556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 čitateli vyjadřují statický moment objemu k souřadným osám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89080" y="836640"/>
                <a:ext cx="8530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∫"/>
                                      </m:naryPr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x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a</m:t>
                                                </m:r>
                                              </m:den>
                                            </m:f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y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b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z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sSub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b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74720" y="2133720"/>
                <a:ext cx="7542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y</m:t>
                                        </m:r>
                                      </m:num>
                                      <m:den>
                                        <m:r>
                                          <m:t xml:space="preserve">b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50920" y="3429000"/>
                <a:ext cx="85690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74720" y="4802040"/>
                <a:ext cx="7542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564000" y="5950080"/>
                <a:ext cx="197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7520" y="47556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 čitateli vyjadřují statický moment objemu k souřadným osám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564000" y="907920"/>
                <a:ext cx="1979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41880" y="154872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yklickou záměnou pak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564000" y="1557360"/>
                <a:ext cx="197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584520" y="2205000"/>
                <a:ext cx="1924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17880" y="2780640"/>
            <a:ext cx="57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 výše uvedených vztahů vyplývá, že souřadnice těžiště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316320" y="3189240"/>
                <a:ext cx="2550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877080" y="3573360"/>
                <a:ext cx="819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276720" y="4405320"/>
                <a:ext cx="2550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877080" y="4797360"/>
                <a:ext cx="819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276720" y="5629320"/>
                <a:ext cx="2514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877080" y="6021360"/>
                <a:ext cx="799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7" name=""/>
          <p:cNvGraphicFramePr/>
          <p:nvPr/>
        </p:nvGraphicFramePr>
        <p:xfrm>
          <a:off x="6276960" y="950760"/>
          <a:ext cx="254304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6960" y="950760"/>
                    <a:ext cx="254304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1200" y="475920"/>
            <a:ext cx="661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sledním typem objektu, jehož těžištěm se budeme zabývat, je čá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I v tomto případě bude základní postup stejný, jako u plochy a obj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(čáru si můžeme představit jako drát určitého tvar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20840" y="1413000"/>
          <a:ext cx="2636640" cy="19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1413000"/>
                    <a:ext cx="263664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4066200" y="1341000"/>
            <a:ext cx="45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-li čára složena z několika jednoduchých č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sou souřadnice jejího těžiště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419640" y="1916280"/>
                <a:ext cx="11905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452920" y="1916280"/>
                <a:ext cx="11908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451640" y="1916280"/>
                <a:ext cx="11588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498120" y="2691360"/>
            <a:ext cx="535248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de </a:t>
            </a:r>
            <a:r>
              <a:rPr b="1" lang="cs-CZ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 délka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-té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dnoduché čár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) je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x-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y-nová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z-tová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) souřadnice těžiště jednoduché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3357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Existuje prakticky jediný typ jednoduché čáry, jejíž těžiště je přímo známo - úse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 těžištěm ve svém středu. Těžiště jiných typů čar (kruhový oblouk apod.) je třeba stanov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5720" y="3985920"/>
            <a:ext cx="785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stliže jednotlivé jednoduché čáry jsou dráty odlišných průřezů, je třeba do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ro souřadnice těžiště doplnit průřez jednotlivých č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50960" y="4581360"/>
                <a:ext cx="14446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51280" y="4581360"/>
                <a:ext cx="14288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703920" y="4581360"/>
                <a:ext cx="13971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318960" y="5360760"/>
            <a:ext cx="7776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onečně jsou-li jednotlivé čáry - dráty z různých materiálů o různých hustotách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budou ve výrazech i tyto hust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755640" y="5950080"/>
                <a:ext cx="16826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635280" y="5950080"/>
                <a:ext cx="16830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521400" y="5950080"/>
                <a:ext cx="1650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796000" y="1295280"/>
          <a:ext cx="26366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295280"/>
                    <a:ext cx="2636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48480" y="475560"/>
            <a:ext cx="78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ostup si ukážeme na výpočtu souřadnic těžiště dvakrát zalomené čáry o rozmě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4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3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2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1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viz obráz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405080" y="1341360"/>
          <a:ext cx="3382920" cy="2011320"/>
        </p:xfrm>
        <a:graphic>
          <a:graphicData uri="http://schemas.openxmlformats.org/drawingml/2006/table">
            <a:tbl>
              <a:tblPr/>
              <a:tblGrid>
                <a:gridCol w="358560"/>
                <a:gridCol w="504720"/>
                <a:gridCol w="503280"/>
                <a:gridCol w="505080"/>
                <a:gridCol w="360360"/>
                <a:gridCol w="576000"/>
                <a:gridCol w="57492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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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391320" y="3566520"/>
            <a:ext cx="59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známka : Těžiště čáry samozřejmě </a:t>
            </a:r>
            <a:r>
              <a:rPr b="0" i="1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nemusí ležet na této čáře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200" y="47556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tejně jako u ploch a objemů, i u čar určujeme polohu těžiště matematicky defin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čáry (křivky) tak, že místo sumy použijeme integrál (křivkov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187280" y="1125360"/>
                <a:ext cx="118764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979800" y="1125360"/>
                <a:ext cx="11685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467400" y="1125360"/>
                <a:ext cx="11289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91680" y="2185920"/>
            <a:ext cx="8500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ako příklad ukážeme výpočet souřadnice těžiště kruhového oblouku o polomě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a vrcholovém úhlu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 Jeho těžiště leží na ose symetrie ve vzdálen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od středu oblou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82760" y="2943360"/>
          <a:ext cx="332424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943360"/>
                    <a:ext cx="332424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3618000" y="284580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Integrály ve zlomku, určujícím souřadnici těžiště,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572000" y="3133800"/>
                <a:ext cx="30812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dℓ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φ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10040" y="4059360"/>
                <a:ext cx="495468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dℓ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706920" y="494100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ouřadnice těžiště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322880" y="5300640"/>
                <a:ext cx="3530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1275120" y="6374520"/>
            <a:ext cx="77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řirozeně i zde se úhel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ve jmenovateli dosazuje v obloukové míře (v radiáne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9000" y="475560"/>
            <a:ext cx="6148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apříklad pro půlkružnici (samozřejmě bez průměru) dosadí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80º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d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90º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rad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038480" y="1974960"/>
                <a:ext cx="965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4" name=""/>
          <p:cNvGraphicFramePr/>
          <p:nvPr/>
        </p:nvGraphicFramePr>
        <p:xfrm>
          <a:off x="6381720" y="1052640"/>
          <a:ext cx="128592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1720" y="1052640"/>
                    <a:ext cx="12859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1200" y="641160"/>
            <a:ext cx="801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znatků o určování souřadnic těžiště využijeme ještě pro jiný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určení objemu a povrchu rotačně symetrického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kové těleso vznikne rotací plošného útvaru okolo osy, ležící v rovině tohoto útv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1617840"/>
          <a:ext cx="267660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17840"/>
                    <a:ext cx="26766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081320" y="1522440"/>
          <a:ext cx="236232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1320" y="1522440"/>
                    <a:ext cx="23623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6586920" y="1483920"/>
            <a:ext cx="24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-li např. tvoř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lochou kru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rotací okolo osy vznik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anuloid, tedy „duše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0480" y="2636640"/>
            <a:ext cx="856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ři výpočtu objemu takového tělesa využijeme rotační souměrnosti. Tvořící plo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rozdělíme na nekonečně mnoho elementárních ploš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 = dx·d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Rotací této plošky okolo osy rotační symetrie vznikne nekonečně tenká obruč o polomě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52360" y="3581280"/>
          <a:ext cx="2838600" cy="164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60" y="3581280"/>
                    <a:ext cx="283860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3270600" y="3499920"/>
            <a:ext cx="5778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zhledem k nekonečně malým příčným rozměrům obru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můžeme její objem (nekonečně - diferenciálně malý) vypočí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jako součin příčné ploch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obvodu obruč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=2·</a:t>
            </a:r>
            <a:r>
              <a:rPr b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Celkový objem tělesa je pak dán součtem objemů těch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obručí, tedy integrálem přes tvořící ploch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48000" y="5000760"/>
                <a:ext cx="15606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869080" y="4941720"/>
                <a:ext cx="2950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250920" y="54381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 v tomto výrazu je rovněž ve vzorci pro souřadnici těžiště ploch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020000" y="5475240"/>
                <a:ext cx="12301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00200" y="58698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e ted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27520" y="5870520"/>
                <a:ext cx="14317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1330920" y="637308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bjem tělesa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17800" y="6418440"/>
                <a:ext cx="145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3000" y="619920"/>
            <a:ext cx="870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dobným způsobem určíme povrch tělesa. Vybereme-li na obvodu tvořící plochy nekoneč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krátkou úsečk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, vznikne její rotací „prstýnek“ nekonečně malé šířk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, o polomě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50920" y="1341360"/>
          <a:ext cx="2838240" cy="16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28382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3347280" y="18374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locha prstýnku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676840" y="1916280"/>
                <a:ext cx="21351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⋅</m:t>
                    </m:r>
                    <m:r>
                      <m:t xml:space="preserve">dℓ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d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3348000" y="1483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Obvod prstýnku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724360" y="1557360"/>
                <a:ext cx="10303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342600" y="2152440"/>
            <a:ext cx="559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vrch tělesa je pak dán součtem ploch těchto „prstýnků“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edy integrá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řesněji křivkovým integrálem po obvodu tvořící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724360" y="3068640"/>
                <a:ext cx="2706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dℓ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dℓ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295920" y="3637800"/>
            <a:ext cx="83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Integrál v tomto výrazu však je čitatelem ve vzorci pro souřadnici těžiště čáry (obvodu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967200" y="4076640"/>
                <a:ext cx="1181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851280" y="5037120"/>
                <a:ext cx="1409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851280" y="5776920"/>
                <a:ext cx="1446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2533320" y="501264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 ted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30200" y="57333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vrch tělesa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720" y="620280"/>
            <a:ext cx="847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kto tedy můžeme poměrně snadno vypočíst objem a povrch rotačně symetrického těle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náme-li těžiště tvořícího útvaru. Pro přehlednost zopakuj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042920" y="1557360"/>
          <a:ext cx="7058160" cy="3527280"/>
        </p:xfrm>
        <a:graphic>
          <a:graphicData uri="http://schemas.openxmlformats.org/drawingml/2006/table">
            <a:tbl>
              <a:tblPr/>
              <a:tblGrid>
                <a:gridCol w="3529080"/>
                <a:gridCol w="352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v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Obj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znikne rotací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loc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vořícím útvarem je ploc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ovr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znikne rotací obvodové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čá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vořícím útvarem je obvodová čá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objem těl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obsah tvořící ploc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souřadnice těžiště tvořící ploc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plocha povrchu těl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délka tvořící obvodové čá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souřadnice těžiště tvořící čá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476360" y="1844640"/>
          <a:ext cx="261000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844640"/>
                    <a:ext cx="26100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986360" y="1825560"/>
          <a:ext cx="2610000" cy="11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6360" y="1825560"/>
                    <a:ext cx="261000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050920" y="3716280"/>
                <a:ext cx="14655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02240" y="3716280"/>
                <a:ext cx="1446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893160" y="5490720"/>
            <a:ext cx="734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oznámka : Pozor ! Označe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znamená v obou případech něco jinéh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920880"/>
          <a:ext cx="416268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0880"/>
                    <a:ext cx="416268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356000" y="909360"/>
            <a:ext cx="454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ředstavme si plošný útvar, složený ze tří obdélníků. Jde o reálné těleso s určitou hmotností, např. výstřižek z plechu. Tíha každého ze tří obdélníků (úměrná jejich ploše) působí v těžišti obdélníku (v průsečíku úhlopříček). Tyto tíhové síly tvoří silovou soustavu, jež má svou výslednici. Vzhledem k tomu, že síly jsou navzájem rovnoběžné, je jejich výslednice dána prostým součtem dílčích tíhových sil. Působiště výslednice pak je těžištěm tělesa (plochy). Umístíme-li plochu do souřadného systému, doplníme o rozměry a vyjádříme dílčí tíhové síly a jejich součet - výslednici, můžeme polohu těžiště vyjádřit z momentové podmínky rovnová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9640" y="4292640"/>
                <a:ext cx="40975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250920" y="5788440"/>
            <a:ext cx="878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d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hustoty materiálů jednotlivých obdélníků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jejich tloušť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..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rozměry obdélníků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plochy obdélní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onečně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e gravitační zrychl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3000" y="620280"/>
            <a:ext cx="851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mocí těchto vzorců snadno vypočteme objem a povrch zmíněného anuloidu, tedy útvar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který vznikne rotací kruhu okolo osy, ležící vně kruhu (v rovině kruh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loměr tvořícího kruhu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, poloměr rotace středu tvořícího kruhu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362400" y="1628640"/>
          <a:ext cx="2361960" cy="13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2400" y="1628640"/>
                    <a:ext cx="2361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308160" y="3141000"/>
            <a:ext cx="58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Obsah tvořící ploch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a délka tvořící obvodové čá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438280" y="3500280"/>
                <a:ext cx="838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364000" y="3522600"/>
                <a:ext cx="1028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320400" y="3914640"/>
            <a:ext cx="6933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Souřadnice těžiště jak tvořící plochy, tak tvořící obvodové čáry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Objem anuloid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jeh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pak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050920" y="4687920"/>
                <a:ext cx="1695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75160" y="4759200"/>
                <a:ext cx="1789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920880"/>
          <a:ext cx="416268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0880"/>
                    <a:ext cx="416268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356000" y="851760"/>
            <a:ext cx="45468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Jsou-li dá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souřadnice těžišť jednotlivých obdélníků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je souřadnice těžiště celkové plochy, lze vyjádřit rovnost momentu výslednice k počátku souřadného systému a součtu momentů dílčích tíhových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716360" y="2637000"/>
                <a:ext cx="368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352400" y="3004560"/>
            <a:ext cx="33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odtud konečně urč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i těžiště celkové plochy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30920" y="3645000"/>
                <a:ext cx="33130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924360" y="4365720"/>
                <a:ext cx="51037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01880" y="4380120"/>
            <a:ext cx="4717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sou-li všechny tři obdél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e stejného materiálu a je-li t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lze hustotu v čit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jmenovateli vykrátit. Souřadnice těžiště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932360" y="5084640"/>
                <a:ext cx="4024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05120" y="5662440"/>
            <a:ext cx="4140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ají-li všechny obdélníky stejnou tloušť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lze rovněž tuto tloušťku vykrá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souřadnice těžiště pak je dána výrazem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932360" y="6004080"/>
                <a:ext cx="31161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920880"/>
          <a:ext cx="416268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0880"/>
                    <a:ext cx="416268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00720" y="927000"/>
          <a:ext cx="1495440" cy="343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927000"/>
                    <a:ext cx="149544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156360" y="857520"/>
            <a:ext cx="287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tělesa je jednoznačný bod, jehož poloha je s tělesem pevně spoj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loha těžiště v tělese se nezmění, jakkoliv změníme polohu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točíme-li například těleso o 90º, poloha těžiště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yšetříme-li opět souřadnici těžiště, nebude to již souřadnice v původním směru, ale ve směru kolmé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bychom to provedli, není nutné kreslit nový obráz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tačí když pomyslně otočíme o 90º směr působení tíhových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4508640"/>
          <a:ext cx="4238640" cy="21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4508640"/>
                    <a:ext cx="423864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907920"/>
          <a:ext cx="42386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42386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497120" y="817560"/>
            <a:ext cx="45727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ť jednotlivých obdélníků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ovnice vyjadřující rovnost momentu výsled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součtu momentů dílčích tíhových sil má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003640" y="2079720"/>
                <a:ext cx="3660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499280" y="249156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odtud výraz pro souřadnici těžiště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22720" y="2924280"/>
                <a:ext cx="32943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24360" y="3645000"/>
                <a:ext cx="5084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09480" y="451584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esp. při stejném materiálu obdé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(hustota se vykrátí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8920" y="4492800"/>
                <a:ext cx="40370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120" y="53002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esp. při shodné tloušťce obdé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(tloušťka se vykrátí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146560" y="5284800"/>
                <a:ext cx="3122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8000" y="765000"/>
          <a:ext cx="23716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23716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627280" y="743760"/>
            <a:ext cx="640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Stejně postupujeme, když je třeba „odečíst“ ploc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Uvedeme číselný příkl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Těleso má tvar pravoúhlého lichoběžníka o celkových rozmě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=4,5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=5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 Délka kratší strany lichoběžníka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=3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 ploše je kruhový otvor o průmě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=2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, poloha středu kru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ůči levému dolnímu okraji je dána souřadnice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1,7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3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 Celé těleso je ze stejného materiálu, o stejné tloušť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ýsledná plocha je dána součtem ploch obdélník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a trojúhelník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od nichž </a:t>
            </a:r>
            <a:r>
              <a:rPr b="0" i="1" lang="cs-CZ" sz="1800" spc="-1" strike="noStrike" u="sng">
                <a:solidFill>
                  <a:srgbClr val="333399"/>
                </a:solidFill>
                <a:uFillTx/>
                <a:latin typeface="Times New Roman"/>
              </a:rPr>
              <a:t>odečít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lochu kruhu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" y="3933720"/>
                <a:ext cx="9144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62120" y="3933720"/>
                <a:ext cx="1181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419640" y="3921120"/>
                <a:ext cx="1217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546560" y="4285440"/>
            <a:ext cx="30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B-a = 4,5-3 = 1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54560" y="3193920"/>
          <a:ext cx="378144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4560" y="3193920"/>
                    <a:ext cx="37814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49480" y="4652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elková plocha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63880" y="4724280"/>
                <a:ext cx="1608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5880" y="508392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celkové plochy jsou dány vztah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4000" y="5445000"/>
                <a:ext cx="3084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59280" y="6021360"/>
                <a:ext cx="2931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8000" y="765000"/>
          <a:ext cx="23716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23716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254560" y="3193920"/>
          <a:ext cx="378144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4560" y="3193920"/>
                    <a:ext cx="37814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59280" y="1230480"/>
          <a:ext cx="5616360" cy="198252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76000"/>
                <a:gridCol w="863640"/>
                <a:gridCol w="863640"/>
                <a:gridCol w="360360"/>
                <a:gridCol w="792360"/>
                <a:gridCol w="792000"/>
              </a:tblGrid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dél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/2=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/2=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júhel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+c/3=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/3=1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,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hoběž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4000" y="3933720"/>
                <a:ext cx="9144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662120" y="3933720"/>
                <a:ext cx="1181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419640" y="3921120"/>
                <a:ext cx="1217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546560" y="4285440"/>
            <a:ext cx="30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B-a = 4,5-3 = 1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9480" y="4652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elková plocha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63880" y="4724280"/>
                <a:ext cx="1608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45880" y="508392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celkové plochy jsou dány vztah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4000" y="5445000"/>
                <a:ext cx="3084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059280" y="6021360"/>
                <a:ext cx="2931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004920" y="82944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ýpočet můžeme uspořádat do přehledné tabulky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5440" y="475920"/>
            <a:ext cx="77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a dvou příkladech jsme ukázali postup určení souřadnic těžiště těle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teré lze považovat za dvourozměrný objekt (ploch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obecníme-li tento postup, dospějeme ke vztahům pro souřadnice těžiště v podob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476360" y="1379520"/>
                <a:ext cx="1841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1379520"/>
                <a:ext cx="1841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12840" y="1843200"/>
            <a:ext cx="8353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hustota i-té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tloušťka i-té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elikost i-té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x-ová a y-nová souřadnice těžiště i-té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ýraz ve jmenovateli je celková hmotnost tělesa. Plocha, která je ve skutečnosti prázdná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se jak v čitateli, tak ve jmenovateli dosazuje jako záporná. Pokud je celé těl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e stejného materiálu, lze hustotu v čitateli a jmenovateli vykrátit. Vztahy pak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19200" y="4149720"/>
                <a:ext cx="15717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637240" y="4149720"/>
                <a:ext cx="15555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12480" y="4941360"/>
            <a:ext cx="84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tomto případě představuje výraz ve jmenovateli celkový objem tělesa. Pokud je tloušť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lesa všude stejná, lze ji vykrátit. Dostáváme pak výrazy v nejjednodušší možné podob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547640" y="5554800"/>
                <a:ext cx="1333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630760" y="5554800"/>
                <a:ext cx="13176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17520" y="6374520"/>
            <a:ext cx="53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uma ve jmenovateli je přirozeně celková plocha těl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4:53:06Z</dcterms:created>
  <dc:creator>Katedra mechaniky</dc:creator>
  <dc:description/>
  <dc:language>en-US</dc:language>
  <cp:lastModifiedBy>Jiří Podešva</cp:lastModifiedBy>
  <dcterms:modified xsi:type="dcterms:W3CDTF">2007-08-02T06:21:14Z</dcterms:modified>
  <cp:revision>230</cp:revision>
  <dc:subject/>
  <dc:title>Snímek 1</dc:title>
</cp:coreProperties>
</file>