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C55-8A9B-49F8-9AD6-5944B26F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E50-F969-4C4C-A8F7-433FE3E4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300-C5A2-4FFC-94DF-857664FE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147-E29A-457D-85DD-8FDBE305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03F-D104-409D-BAB8-6D4541AC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7F5-910C-46D3-A8CD-FD319B65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FE0-93AE-4675-919C-F947F1A2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4C2-52E0-4D64-9F34-5A3EB9E3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D13-1D6D-4190-B414-2D49E746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2F9-7413-4808-88F7-41F4F0DE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7BC-5EB5-4DEE-9E4B-185D7468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80E-3615-4DFA-99D7-7709611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2DA7-FAE3-46B3-BC49-D01A63875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052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162864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aždé těleso si lze představit složené z nekonečného počtu hmotných bodů. Na každý tento bod působí tíhová síla, která má v tomto bodě působiště. Těžištěm tělesa nazýváme bod, kterým prochází výslednice tíhových sil všech jeho hmotných bodů při jakékoliv poloze tělesa. Je-li těleso homogenní, závisí poloha těžiště pouze na jeho tva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1628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 praxi řeší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žiště čar – u těles, kde délkový rozměr výrazně převyšuje rozměry průře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žiště ploch – u těles, kde plošné rozměry výrazně převyšují tloušťku materi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žiště těles – u těles, kde nemůžeme zanedbat žádný z rozměrů těl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62864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lohu těžiště lze řeš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et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etně za využití některé vlastnosti systému 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ál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1628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06560" y="1052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ěžiště čar – grafická met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745080" cy="2468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557360"/>
            <a:ext cx="403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áry, které jsou složeny z více úseků, nejprve rozdělíme na jednoduché úseky u nichž dovedeme snadno určit těžiště v dílčích těžištích vyneseme síly, jejichž velikost bude úměrná délkám jednotlivých úseků. Síly vyneseme ve vodorovném a svislém směru.Tím dostaneme soustavu rovnoběžných sil ve vodorovném a svislém směru pro každý směr zvlášť vyřešíme pomocí silového a vláknového obrazce polohu výslednice soustavy rovnoběžných sil těžiště složené čáry potom leží v průsečíku nositelek výslednic obou soustav rovnoběžných s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06560" y="1052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ěžiště čar – početní met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5573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6560" y="1052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ěžiště čar – grafická met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557360"/>
            <a:ext cx="403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ženou plochu nejprve rozdělíme na jednoduché obrazce u nichž dovedeme snadno určit těžiště vypočteme obsahy dílčích ploch S1, S2 ,S3 atd.a v dílčích těžištích vyneseme síly, jejichž velikost bude úměrná obsahům jednotlivých ploch. Síly vyneseme ve vodorovném a svislém směru. Tím dostaneme soustavu rovnoběžných sil ve vodorovném a svislém směru pro každý směr zvlášť vyřešíme pomocí silového a vláknového obrazce polohu výslednice soustavy rovnoběžných 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žiště složené plochy potom leží v průsečíku nositelek výslednic obou soustav rovnoběžných s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16872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06560" y="1052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ěžiště čar – grafická met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5573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žiště obrazc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17560" y="2131920"/>
            <a:ext cx="2141640" cy="2305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730680" y="2205000"/>
            <a:ext cx="1873080" cy="201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732720" y="2276640"/>
            <a:ext cx="17413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5:58:18Z</dcterms:created>
  <dc:creator>Ucebna</dc:creator>
  <dc:description/>
  <dc:language>en-US</dc:language>
  <cp:lastModifiedBy>Kosta</cp:lastModifiedBy>
  <dcterms:modified xsi:type="dcterms:W3CDTF">2009-12-17T18:01:53Z</dcterms:modified>
  <cp:revision>9</cp:revision>
  <dc:subject/>
  <dc:title>Mechanika - STATIKA</dc:title>
</cp:coreProperties>
</file>