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1D3-8FBA-47C4-BA8B-58484F93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92D-258B-4DA7-9432-AC3E081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EAA-9FB2-4EE0-BA94-EFDF197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C04-0853-4ED5-82D4-8613EA2D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F91-F056-4AF3-9079-4D8A345D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9D5-509F-4C07-A3AD-503A189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92D-9086-4379-9AF8-600D7E6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C80-55E8-460A-A9A4-16D694F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955-6836-4989-A3E9-C6F04531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CAC-5559-4541-9061-42A5FF7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E54-314F-48DC-9232-A111203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ECA-0667-4328-8FC5-D33582F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FC61-9156-40C8-955D-9C709D40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Fyzika" TargetMode="External"/><Relationship Id="rId2" Type="http://schemas.openxmlformats.org/officeDocument/2006/relationships/hyperlink" Target="http://cs.wikipedia.org/wiki/Vzta&#382;n&#225;_soustava" TargetMode="External"/><Relationship Id="rId3" Type="http://schemas.openxmlformats.org/officeDocument/2006/relationships/hyperlink" Target="http://cs.wikipedia.org/wiki/1._Newton&#367;v_pohybov&#253;_z&#225;kon" TargetMode="External"/><Relationship Id="rId4" Type="http://schemas.openxmlformats.org/officeDocument/2006/relationships/hyperlink" Target="http://cs.wikipedia.org/wiki/T&#283;leso" TargetMode="External"/><Relationship Id="rId5" Type="http://schemas.openxmlformats.org/officeDocument/2006/relationships/hyperlink" Target="http://cs.wikipedia.org/wiki/S&#237;la" TargetMode="External"/><Relationship Id="rId6" Type="http://schemas.openxmlformats.org/officeDocument/2006/relationships/hyperlink" Target="http://cs.wikipedia.org/wiki/Nula" TargetMode="External"/><Relationship Id="rId7" Type="http://schemas.openxmlformats.org/officeDocument/2006/relationships/hyperlink" Target="http://cs.wikipedia.org/wiki/Klid_(fyzika)" TargetMode="External"/><Relationship Id="rId8" Type="http://schemas.openxmlformats.org/officeDocument/2006/relationships/hyperlink" Target="http://cs.wikipedia.org/wiki/Rovnom&#283;rn&#253;_p&#345;&#237;mo&#269;ar&#253;_pohyb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21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kategorie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349360"/>
            <a:ext cx="8136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ota – objektivní realita, jejíž setrvačné účinky vyjadřuje hmotnost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or – trojrozměrný Euklidovský, mírou prostoru je délka [m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prostoru se zabývá matemat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 – skalární veličina sloužící k vyjádření posloupnosti probíhajících změn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času se zabývá fyz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pojmy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349360"/>
            <a:ext cx="81360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sou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ý pohy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olnění a 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a statická ekv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ová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ní 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349360"/>
            <a:ext cx="81360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leso je definováno jako část Ω prostoru E3 ohraničenou plochou Γ o obje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= ∫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lněné látkou v tuhém skupenství o hmotnosti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těleso je vždy trojrozměrné, v praxi se však vyskytují tělesa, jejichž některé rozměry jsou z jistého hlediska nepodstatné (ovšem jiné vlastnosti jsou z hlediska vyšetřování chování podstatné :-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ilového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16280"/>
            <a:ext cx="813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činek vzájemného působení těles z hlediska mechaniky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působení silového pole na těleso nebo jako důsledek setrvačnosti hmotných útva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vzájemného styku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429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om vědní disciplíny je základní předpoklad, který nemůže být v této disciplíně dokáz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052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7336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iom o hmotě, prostoru a č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 je trojrozměrný, euklidovký, iner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ové útvary existují v č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hmotnost přiřazená prostorovému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hmotné útvary v prostoru tvoří izolovaný systém, jehož hmotnost a energie jsou konstan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981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13000"/>
            <a:ext cx="81360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 o mechanick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ilov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ekvival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rovnov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ovnováze mechanick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kci a rea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echanické 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asivních odp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rciální vztažná 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yz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značuje takov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ztažná soustav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v níž platí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. Newtonův pohybový zák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tj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ěles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na které nepůsobí žádn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íl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nebo výslednice sil 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ulová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j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li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o se pohybu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ovnoměrně přímočař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latí zde zákon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taž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bo tak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zvolená skupina těles (příp. i jediné vztažné těleso), které jsou vzájemně v klidu, anebo zadaném či známém vzájemném pohy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oubor:Frame of reference.png"/>
          <p:cNvPicPr/>
          <p:nvPr/>
        </p:nvPicPr>
        <p:blipFill>
          <a:blip r:embed="rId9"/>
          <a:stretch/>
        </p:blipFill>
        <p:spPr>
          <a:xfrm>
            <a:off x="2627280" y="3716280"/>
            <a:ext cx="3133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14:14Z</dcterms:created>
  <dc:creator>Ucebna</dc:creator>
  <dc:description/>
  <dc:language>en-US</dc:language>
  <cp:lastModifiedBy>Ucebna</cp:lastModifiedBy>
  <dcterms:modified xsi:type="dcterms:W3CDTF">2009-09-29T09:13:14Z</dcterms:modified>
  <cp:revision>7</cp:revision>
  <dc:subject/>
  <dc:title>Snímek 1</dc:title>
</cp:coreProperties>
</file>