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BEF-6252-4A93-951B-23E360B1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CA0-E59A-4AA2-85E2-D2E7366C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54D-D69F-406C-9A34-C8A3E614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5A6-2173-4C5C-A0A2-342FE2A0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47C-6E2A-4B28-BB2C-3AEC7D5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B78-AF58-4A34-A788-56A3E97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C03-D681-453E-9457-1EFE4D0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575-B641-4C52-86E9-A7D80C5B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02B-BF7A-4986-A12D-0B89E55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B61-5D29-4899-B1B4-D30DA25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6A0-B08B-426E-BD94-5458663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F39-130B-4547-84F6-F97E0AE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41D3D-E2CF-4206-9187-4C64B501FAD8}" type="slidenum"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 -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84280"/>
            <a:ext cx="604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] Mechanika I STATIKA – SNTL1979 V.Mišun,E.Ondráček, K.Přik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765000"/>
            <a:ext cx="7920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né osobnosti mechani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istoteles (3. stol. př. n.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o da Vinci (1452 – 1519) – moment sily,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pler (1571 – 1630) – zákony oběhu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oke (1635 – 1703) – Hookeův zákon (elastic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wton (1642 – 1727) – Newtonovy pohybové zákony, zákon gravi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ler (170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’Alambert (171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grange (1736 – 1813) – základy analytické mecha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nstein (1879 – 1955) – teorie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16280"/>
            <a:ext cx="6696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KA - vyšetřuje podmínky rovnováhy hmotných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NEMATIKA - vyšetřuje pohyb hmotných objektů bez ohledu na příčiny pohybu - 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NAMIKA - vyšetřuje pohyb hmotných objektů jako příčinný následek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OST A PEVNOST – vyšetřuje souvislosti deformace prvků mechanické soustavy a silového působení na 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197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mechaniky podle Lag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781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ědní disciplína, která popisuje chování konstrukcí matematicky a číselné údaje se získávaní především výpočtem popřípadě grafickou meto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44640"/>
            <a:ext cx="8351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očet chování konstrukce je možné formulovat jako posloupnost činno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– cíl výpočtu, které parametry mají být určeny a s jakou přesností, jaké jsou požadované 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ení výpočtového modelu – ke skutečné konstrukci je vytvořen výpočtový model, který dostatečně přesně odpovídá skutečnosti a přitom je zvládnutelný existujícím výpočtov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cký popis – na základě axiomů oboru, vlastností  výpočtového modelu a s použitím matematických metod jsou v obecném tvaru vyjádřeny vztahy popisující chování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9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844640"/>
            <a:ext cx="8351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ení algoritmu výpočtu – postup, jak ze zadaných měnitelných údajů (vstupní hodnoty) a z matematického popisu získat hledané údaje (výsledk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cování programu – zpracování algoritmu do programového jazyka výpočetní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merická realizace – provedení číselného vý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hodnocení výsledků – posouzení výsledků z hlediska formulace úlohy a rozhodnutí, zda výpočet je dostatečný nebo zda se musí opakovat pro jiné údaje nebo jin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125360"/>
            <a:ext cx="712944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y výpočt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mý – celý postup výpočtu řídí a provádí sám konstrukt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ímý – konstruktér definuje úlohu a výpočtový model, připraví vstupní údaje. Sestavení úlohy (algoritmus) provede výpočtář specialista, který výsledky výpočtu předá konstruktérovi, který provede rozbor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y řešení úlo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ytická -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ovaná – graficko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00" y="1260360"/>
            <a:ext cx="45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úlohy stati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la, působiště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ment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y sil a mo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utové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plo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tě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692280"/>
            <a:ext cx="7129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předmštu zkoum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koly mechaniky a statiky. Základní pojmy včetně maticové formulace. Moment síly k bodu a k ose. Silová dvojice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lové soustavy (dále jen S.S.), typy S.S., nahrazení, rovnováha a jejich maticové vyjádř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ná rovinná a prostorová S.S., grafické řešení rovnováhy pomocí Culmannovy přím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ředisko rovnoběžných s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stupně volnosti, typy rovinných a prostorových vaz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ožení rovinných soustav těles, princip uvolňování, strukturální vzorec a jeho skladb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ováha rovinných sousta těles (metoda uvolňování, princip grafického řešení). Trojkloubový nosník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é řešení pohyblivých soustav, rovnováha jednoduchých prostorových soustav těles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efinice vnitřních statických účinků přímého prutu. Schwedlerova vět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šetřování vnitřních statických účinků na nosnících pro základní typy zatíž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y určité lomené nosní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utové soustavy, základní pojmy, metody řeš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 osových sil prutových soustav metodou styčníkovou, Cremonovou, metodou průsečn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těžiště, určení těžiště čar, ploch a těles. Pappus-Guldinovy vět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Deda</cp:lastModifiedBy>
  <dcterms:modified xsi:type="dcterms:W3CDTF">2010-11-25T19:57:55Z</dcterms:modified>
  <cp:revision>10</cp:revision>
  <dc:subject/>
  <dc:title>Mechanika - STATIKA</dc:title>
</cp:coreProperties>
</file>