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5DB-43D2-49E3-A11B-6FF8E333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604-F801-45C8-BFC4-3CD5C313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483-6861-4366-87F7-1D578DB8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3FF-C270-4080-BF69-800ACE31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E7A4-68B0-4808-A81E-D436690E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59CA-1813-4238-9D09-D330CAA4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E5EB-7192-4665-8380-69636628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C9B2-BF3D-43AA-B371-8A89CCEC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4D98-38C2-4437-9681-27ED7708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00B3-1D4A-4B60-95A6-1952313E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B8B8-650F-4E50-B944-DD6A2E18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B0B-FE4C-4F52-9027-FC9B9A81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E7E9-9D00-43BC-BF56-16B4A059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4302-8773-4046-9583-41D575A2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189C-4F65-4CC6-8B9A-0C293DA7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960C-3754-46CA-A4BA-877074EB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4774-71A8-40B9-AE5E-1EA697F2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9E2-266E-447B-B814-4F171D93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F5C-68E7-4FC7-8939-BA68D88B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033-E3F6-46A5-AEA7-B6B39E00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3E8-5FB8-49F9-AF34-AB1B4601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1BD-402B-4989-A6B6-02644B7F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825-1318-405D-A62D-B02ACB9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19E-A756-4EDB-A8FE-ED1B9B6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2246-533D-4A37-898D-B9AEC1FB8D89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03EB-5E06-4A15-9DA2-01139347AA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9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2AF4-7F19-44C9-9F0C-5467ED640B1E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gr. et MgA. Mariana Kout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7E1-D9A6-40E8-87E0-B774D36137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ce.cz/neslysici/komunikac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40000" y="3068280"/>
            <a:ext cx="47876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"/>
              </a:rPr>
              <a:t>1) Komunika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Komunikační formy u SP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komunikační systémy slovní podsta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mluvená hlásková řeč, psaná forma řeč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daktylotika, daktylograf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pomocné artikulační znaky (PAZ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znakovaný jazy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komunikační systémy neslovní podsta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mimi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gestikul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dramatiz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Arial"/>
              </a:rPr>
              <a:t>pantom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cc00"/>
                </a:solidFill>
                <a:latin typeface="Verdana"/>
              </a:rPr>
              <a:t>Vizuálně-motorické komunikační systém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znakový jazy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znakovaný jazy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daktyloti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daktylograf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Gestu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Verdana"/>
              </a:rPr>
              <a:t>Mezinárodní znakový systé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Literatur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KRAHULCOVÁ, Beáta. </a:t>
            </a:r>
            <a:r>
              <a:rPr b="0" i="1" lang="cs-CZ" sz="2400" spc="-1" strike="noStrike">
                <a:solidFill>
                  <a:srgbClr val="ffcc00"/>
                </a:solidFill>
                <a:latin typeface="Verdana"/>
              </a:rPr>
              <a:t>Komunikace sluchově postižených</a:t>
            </a: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. Praha: Karolinum, 200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Verdana"/>
              </a:rPr>
              <a:t>časopis G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ruce.cz/neslysici/komunikace</a:t>
            </a: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datum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6C7F-72A6-489A-A706-FC4189908C50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30.07.2026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7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et MgA. Mariana Koutská</a:t>
            </a:r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8" name="Zástupný symbol pro číslo snímku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49B3-83EC-4EDF-AF3B-DF9A1BB8738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Arial"/>
              </a:rPr>
              <a:t>Komunikac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Co je t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dy komunikuje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Co naši komunikaci charakterizuj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Komunik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communic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00"/>
                </a:solidFill>
                <a:latin typeface="Verdana"/>
              </a:rPr>
              <a:t>spojení, sdělová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výměna informací mezi lid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► </a:t>
            </a: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slovní sdělení, která umožňují předávání zkušeností, koordinování společné činnosti, vybízení druhého člověka k určitému chování a jedn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Verdana"/>
              </a:rPr>
              <a:t>není možné nekomunikovat (Lech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Význam mezilidské komunik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dorozuměn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vybízení k určité čin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ntrolní funk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budování citů a emoc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budování sociálních vztah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cc00"/>
                </a:solidFill>
                <a:latin typeface="Verdana"/>
              </a:rPr>
              <a:t>Komunik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munikační schopno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užívat jazyk jako systém znaků a symbolů ve všech jeho formá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munikační pro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sdělování a výměna inform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Verbální komunikace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uskutečňuje se pomocí soustavy dohodnutých symbol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předměty, osoby, jevy momentálně přítomné i nepřítom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mluvená ře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psaná forma řeč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Nonverbální komunikace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mimoslovní sdělo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vývojově starší složka komunik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"/>
              </a:rPr>
              <a:t>prostředky nonverbální komunik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mim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proxem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fyzický postoj (sklon hlavy, nakročení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ges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hap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poh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úprava zevnějšku, úprava okol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Komunikační formy u SP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munikační systémy slovní podsta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mluvená hlásková ře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psaná forma řeč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daktylotika (prstová abece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daktylografie (vpisování do dlaně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pomocné artikulační znaky (PA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znakový jazy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znakovaný jazy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cc00"/>
                </a:solidFill>
                <a:latin typeface="Arial"/>
              </a:rPr>
              <a:t>Komunikační formy u SP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4208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komunikační systémy neslovní podsta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mim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gestiku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dramatiz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cc00"/>
                </a:solidFill>
                <a:latin typeface="Arial"/>
              </a:rPr>
              <a:t>pantomi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gestikulace_2"/>
          <p:cNvPicPr/>
          <p:nvPr/>
        </p:nvPicPr>
        <p:blipFill>
          <a:blip r:embed="rId1"/>
          <a:stretch/>
        </p:blipFill>
        <p:spPr>
          <a:xfrm>
            <a:off x="5530680" y="1844640"/>
            <a:ext cx="27417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21:29Z</dcterms:created>
  <dc:creator>Mariana</dc:creator>
  <dc:description/>
  <dc:language>en-US</dc:language>
  <cp:lastModifiedBy>Mariana</cp:lastModifiedBy>
  <dcterms:modified xsi:type="dcterms:W3CDTF">2011-11-07T14:11:11Z</dcterms:modified>
  <cp:revision>55</cp:revision>
  <dc:subject/>
  <dc:title>Základy surdopedie</dc:title>
</cp:coreProperties>
</file>