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E46-BAD6-4EC9-A6F2-9B27F79C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4FE-B5F9-4FAC-93F7-E9037FB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A92-8AE4-4F37-9FC4-1649EA12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32C-2191-475F-8D87-67F56C5C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D9D-AAA7-4900-9ECE-715B6390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478-2F6E-4F36-B5D1-E3D91FB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DAF-9E07-4A94-B6C2-9DF99863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EE1F-802A-45A3-9472-9A71920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3EE-6D92-47A0-9FCF-34BF691E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1805-BF9A-4EB3-A2BD-11C671AE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90A2-AF21-415B-A586-D46CD7D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A59-2096-4A78-840A-08BECC8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0DCC-A186-4BD1-B270-A2FBA36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9B81-F386-432C-966F-AA75D20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0D39-94F9-46D0-B934-69056D0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419-0C04-4369-9535-DE36CE66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9915-74E0-4082-A2C5-77C033B6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D29-00D5-4EE1-AE52-1C4DBEBB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D3A-F9A2-4E37-A802-478E70A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C11-2686-4C74-8B4B-CF84381B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29-B5D0-464A-895A-007A9A07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1A2-1506-4E23-9D13-271ECB1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2EA-D612-4368-926E-7C142C1E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E74-2836-411B-9950-767E259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9EE-A086-482D-8878-6587D97631AE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885-D08D-469A-A40A-097D54B925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276D-7C46-443B-97E2-F5C2DA0DDFDE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757-002B-4094-88FD-FBFB64F1A0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60483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16000" y="5013360"/>
            <a:ext cx="48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komunik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ní</a:t>
            </a: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ys</a:t>
            </a:r>
            <a:r>
              <a:rPr b="0" lang="cs-CZ" sz="3600" spc="-1" strike="noStrike">
                <a:solidFill>
                  <a:srgbClr val="ffcc00"/>
                </a:solidFill>
                <a:latin typeface="Arial"/>
              </a:rPr>
              <a:t>témy</a:t>
            </a: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684360" y="4292640"/>
            <a:ext cx="453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izuálně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orické</a:t>
            </a:r>
            <a:endParaRPr b="0" lang="en-US" sz="36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Výzkum znakov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očátky v 60. letech 20. stolet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William Stoko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000"/>
                </a:solidFill>
                <a:latin typeface="Verdana"/>
              </a:rPr>
              <a:t>ZJ ustálený systém, který je nutno dodržovat a respektov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rozčlenění komponentů zna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Č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rof. Alena Macurová a doc. Miloň Potměš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ČJ v komunikaci neslyšících (FF UK Prah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D3AC-DD73-44F5-A0C4-72DF7572B06D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0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527-8C35-43A3-A75A-DC3D0A4C325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y přirozen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 zástupným symbolem pro něco jinéh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dvojí členě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ožnost rozlišit nejmenší jednotky nesoucí význam (znak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ožnost rozlišit morfémy na jednotky nižšího řádu, které význam nenesou, ale jsou schopny jej rozlišit (sport X ředi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y přirozen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produktiv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omezený soubor prostředků a pravi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nekonečné množství spoj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svéby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schopnost jazyka oddělit se od aktuální přítomnosti (čas, podmínky, nepravda, přá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historický roz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ontogenetický výv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Arial"/>
              </a:rPr>
              <a:t>fylogenetický výv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000"/>
                </a:solidFill>
                <a:latin typeface="Verdana"/>
              </a:rPr>
              <a:t>Charakteristika znakového jazy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nejmenší jednotka nesoucí význ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lexém, morf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naky rozložitelné na jednotlivé kompon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manuální a nemanuální nosič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8924-4116-4EC9-AFCD-184A5455EE51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0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D84-4223-47A1-8276-61FB1387082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000"/>
                </a:solidFill>
                <a:latin typeface="Verdana"/>
              </a:rPr>
              <a:t>Charakteristika znakového jazy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manuální nosiče (foneticko-fonologická stav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tvar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zice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hyb ru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manuální nosič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mim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ge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pohyb hlav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způsob ukazo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Charakteristika znakového jazy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mluvní kompon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ohyby úst odvozené z mluveného jazy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orální kompon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izuální obraz úst vytvářený v průběhu produkce zna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tálý, neměn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 je bez jeho užití agramatick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Dělení znak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iko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izuálně motivované zna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index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ájmena, příslov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symbo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arbitrární vztah mezi nosičem a zna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označení vlastností, děj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Charakteristika znakového jazyka:</a:t>
            </a:r>
            <a:br>
              <a:rPr sz="3400"/>
            </a:b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SPECIFICKÉ ZNAK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emo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různých stavů lidské psych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vyjádření osobního postoje mluvčíh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k osobě, události a jejich hodn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typické pro intrakulturní komunik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psáno 29 znaků v ČZJ (Vysuč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000"/>
                </a:solidFill>
                <a:latin typeface="Verdana"/>
              </a:rPr>
              <a:t>Odlišnost ZJ od mluvené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mluvené jazyky jsou LINEÁR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umožňují pouze řazení jednoho znaku (slova) za druhý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ZJ jsou LINEÁRNÍ a SIMULTÁN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lineárnost obsažená v artikulaci jednotlivého znaku a ve znakosl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simultánnost: znaky lze provádět součas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000"/>
                </a:solidFill>
                <a:latin typeface="Verdana"/>
              </a:rPr>
              <a:t>možnost využití 3D artikulačního prosto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7B12-8E9C-4382-9E9E-D6D50C4E022D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3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ECD9-AD0D-4511-B1A5-3AC3A673165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Inkorporace (včleňování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způsob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učí se pomalu / učí se rych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časových údaj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minulý týden, příští týden, za r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poč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tři měsíce, čtyři hodi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osobních záj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Verdana"/>
              </a:rPr>
              <a:t>ptám se tě, dostává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Verdana"/>
              </a:rPr>
              <a:t>simultánní artikulace záp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6F7-2C58-44D8-81B3-369EBB39F166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38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DFC-BE04-4497-92BF-CD97342F1DE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Znaková řeč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D51-D22E-45E6-96C7-FF67784A10F2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92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941C-B8C4-4C31-91AA-2E5C0AB321B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Využívání prostoru při znaková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3D pros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produkce znaku ve vizuálně motorické rov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3 základní oblasti artikulace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řed obličej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u kr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řed tělem (neutrální znakovací prost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některé znaky svůj prostor při artikulaci mě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Jmenné zna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vnější 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Robert, Mari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pov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táčkov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znaku ve jmé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ojáčkov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odle doh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Sociolingvistické a psycholingvistické aspekty komunikace osob se 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bilingvism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česk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jazykov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regionál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sociál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odle pohla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nerač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ětsk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0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000"/>
                </a:solidFill>
                <a:latin typeface="Verdana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CC0-8CE6-4E8F-8333-AA7A1C379497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49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293-CAD8-42BF-A596-A2268AEF26C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Ges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uměle vytvořený znakový systém s cílem navrhnout standardizovat systém mezinárodních zna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v roce 1973 ustanovena komise pro sjednocení znaků(70.léta 20.st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v roce 1975 sestavila a vydala slovní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ůvodně určen pro tlumočení na oficiálních mezinárodních setkán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slyšícími nepřijat, nepoužív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Gestun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6" descr="gestuno1"/>
          <p:cNvPicPr/>
          <p:nvPr/>
        </p:nvPicPr>
        <p:blipFill>
          <a:blip r:embed="rId1"/>
          <a:stretch/>
        </p:blipFill>
        <p:spPr>
          <a:xfrm>
            <a:off x="611280" y="1843200"/>
            <a:ext cx="4465440" cy="396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estuno2"/>
          <p:cNvPicPr/>
          <p:nvPr/>
        </p:nvPicPr>
        <p:blipFill>
          <a:blip r:embed="rId2"/>
          <a:stretch/>
        </p:blipFill>
        <p:spPr>
          <a:xfrm>
            <a:off x="5148360" y="1700280"/>
            <a:ext cx="33433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Je znakový jazyk mezinárodní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ezinárodní znakov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efektivní forma komunikace vznikající při vzájemném kontaktu uživatelů různých znakových jazy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á zásoba vzniká přirozeně tak, že komunikující volí znaky s cílem dojít co nejlepšímu porozumě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český znakový jazyk, německý znakový jazyk, ASL, BSL, LSF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http://www.spreadthesign.com/gb/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ruce.cz/neslysici/komunika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www.spreadthesign.com/gb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ttp://weblik.cktzj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BÍMOVÁ, Petra; OKROUHLÍKOVÁ, Lenka. </a:t>
            </a:r>
            <a:r>
              <a:rPr b="0" i="1" lang="cs-CZ" sz="2100" spc="-1" strike="noStrike">
                <a:solidFill>
                  <a:srgbClr val="ffcc00"/>
                </a:solidFill>
                <a:latin typeface="Verdana"/>
              </a:rPr>
              <a:t>Rysy přirozených jazyků, Lexikografie. </a:t>
            </a: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1. vyd. Praha: ČKTZJ o.s., 2008. ISBN 978-80-87153-47-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0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TETAUEROVÁ, Ivana. </a:t>
            </a:r>
            <a:r>
              <a:rPr b="0" i="1" lang="cs-CZ" sz="2100" spc="-1" strike="noStrike">
                <a:solidFill>
                  <a:srgbClr val="ffcc00"/>
                </a:solidFill>
                <a:latin typeface="Verdana"/>
              </a:rPr>
              <a:t>Mezinárodní znakový systém. </a:t>
            </a:r>
            <a:r>
              <a:rPr b="0" lang="cs-CZ" sz="2100" spc="-1" strike="noStrike">
                <a:solidFill>
                  <a:srgbClr val="ffcc00"/>
                </a:solidFill>
                <a:latin typeface="Verdana"/>
              </a:rPr>
              <a:t>1. vyd. Praha: ČKTZJ o.s., 2008. ISBN 978-80-87153-13-0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Termín „znaková řeč</a:t>
            </a:r>
            <a:r>
              <a:rPr b="0" lang="ja-JP" sz="38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 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ákon č. 155/1998 Sb. o znakové řeč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rvní antidiskriminační zák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á ře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ý jazyk (ZJ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nakovaná čeština (ZČJ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http://www.sagit.cz/pages/sbirkatxt.asp?zdroj=sb98155&amp;cd=76&amp;typ=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Arial"/>
              </a:rPr>
              <a:t>vizuálně motorické komunikační systémy slovní podsta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aktylot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s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ezinárodní znakový syst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174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ákon č. 384/2008 Sb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Zákon č. 384/2008 Sb. o komunikačních systém</a:t>
            </a: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ech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 neslyšících a hluchoslepých oso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novelizován zákonem č. 423/2008 S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sagit.cz/pages/sbirkatxt.asp?zdroj=sb08423&amp;cd=76&amp;typ=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právo neslyšících a hluchoslepých osob svobodně si zvolit z komunikačních systémů uvedených v zákoně ten, který odpovídá jejich potřebá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cc00"/>
                </a:solidFill>
                <a:latin typeface="Verdana"/>
              </a:rPr>
              <a:t>Zákon č. 384/2008 Sb.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definice základních poj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neslyšící</a:t>
            </a:r>
            <a:r>
              <a:rPr b="0" lang="cs-CZ" sz="20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hluchoslep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definice komunikačních systé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český znakový jazy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základní komunikační systém těch neslyšících osob v ČR, které jej samy považují za hlavní formu své komunik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00"/>
                </a:solidFill>
                <a:latin typeface="Verdana"/>
              </a:rPr>
              <a:t>komunikační systémy vycházející z českého jazy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►</a:t>
            </a: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ffcc00"/>
                </a:solidFill>
                <a:latin typeface="Verdana"/>
              </a:rPr>
              <a:t>znakovaná čeština, prstová ABC, Lormova ABC, daktylografie, Braillovo písmo, Tadoma,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Znakový jazyk X Znakovaná češt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ý jazyk (Z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řiroze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lnohodnotný jazy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vlastní pravidla, vlastní gramat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znakovaná čeština (ZČ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umělý jazykový systé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kombinace gramatiky ČJ a znakové zásoby Z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Znakový jazyk X Znakovaná ČJ</a:t>
            </a:r>
            <a:br>
              <a:rPr sz="3400"/>
            </a:b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ukázk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stížnost na úroveň znakovaných zpráv v pořadu Televizní klub neslyšících Č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http://www.ekotn.wz.cz/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Znakový jazy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►</a:t>
            </a: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samostatný, živý jazyk se všemi znaky přirozeného jazy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vizuálně-motorick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vnímaný i produkovaný ve vizuálně-motorické rov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ateřský jazyk neslyšícího dítěte neslyšících rodičů umožňující bezprostřední poznávání svě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11-07T14:11:54Z</dcterms:modified>
  <cp:revision>109</cp:revision>
  <dc:subject/>
  <dc:title>Základy surdopedie</dc:title>
</cp:coreProperties>
</file>