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E6A-101B-4A34-8F89-A45C6B09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CB6-6CE0-43C4-A1E1-4EF75FA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EEE-E38B-48D9-BE6F-C88DC61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3CA-42CB-4369-86A1-49323490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51ED-BFC2-4671-9FD3-67A90B4B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3CB-403D-47C8-AC9E-F414E86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A291-CB6B-4937-9C5D-AAE7986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44B-CD80-4A2D-8218-4B5DF41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ACAA-886F-41B2-B125-9A7E6E5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A45-CE87-43DC-BFE6-2466F90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EED1-BC48-4877-93A3-C1C7553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8EA-65AB-4FBA-A322-0ED791D0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43D-A324-41CF-9B58-C3E04A7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9835-7600-425F-BCFF-C97595F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9758-95A9-4925-9CFC-B730780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E80-017C-4B21-B753-2B0460BC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729-E19E-4674-AA25-47B5B082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8A-DD1B-4625-912B-858BD8A4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11E-77A9-421A-9BDB-B77C08B7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714-425C-4870-88D7-27E53517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1CF-91B4-4EC3-9AED-F489704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D15-4414-4053-99ED-2AE3528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156-98CC-42E6-8BB0-6B6E225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1D3-04C6-424D-B247-C4D68CE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D8A-66FB-4C79-BAA0-82F464271817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D21-C355-42B8-B782-A0399E710C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F00-5208-4845-B095-63FE51829FB9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2BF-4457-4462-8296-AC809CFF7C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c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5508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) Prstové abeced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953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Komunikační systémy slovní podstaty: DAKTYLOTIKA (prstová abeceda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8" descr="bsl-alphabet-761657"/>
          <p:cNvPicPr/>
          <p:nvPr/>
        </p:nvPicPr>
        <p:blipFill>
          <a:blip r:embed="rId1"/>
          <a:stretch/>
        </p:blipFill>
        <p:spPr>
          <a:xfrm>
            <a:off x="1146240" y="1700280"/>
            <a:ext cx="3174840" cy="4465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ongkong abeceda"/>
          <p:cNvPicPr/>
          <p:nvPr/>
        </p:nvPicPr>
        <p:blipFill>
          <a:blip r:embed="rId2"/>
          <a:stretch/>
        </p:blipFill>
        <p:spPr>
          <a:xfrm>
            <a:off x="5003640" y="1700280"/>
            <a:ext cx="3135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Prstová abeceda:</a:t>
            </a:r>
            <a:br>
              <a:rPr sz="3500"/>
            </a:b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současnos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řevážně obouruční (srozumitelnost pro slyšíc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dporuje zapamatování slova (analýza a syntéz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ednodušší získávání slovní záso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dpora odezír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ychlejší než pís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výh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utná znalost jazyka v psané podob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malejší než mluvená ře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vlivněno úrovní motor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1936800" y="0"/>
            <a:ext cx="515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4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časopis G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http://ruce.cz/neslysici/komunik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Verdana"/>
              </a:rPr>
              <a:t>Prstová abeced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komunikační systém slovní podsta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komunikační systém vycházející z Č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Prstové abecedy</a:t>
            </a:r>
            <a:br>
              <a:rPr sz="3500"/>
            </a:br>
            <a:r>
              <a:rPr b="0" lang="en-US" sz="3500" spc="-1" strike="noStrike">
                <a:solidFill>
                  <a:srgbClr val="ffcc00"/>
                </a:solidFill>
                <a:latin typeface="Arial"/>
              </a:rPr>
              <a:t>(daktylní abecedy, daktylotiky, prstnic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vizuálně-motorická komunikační 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yužívá formalizovaných a ustálených postavení prstů a dlaně jedné nebo obou rukou k zobrazování jednotlivých písmen abece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ruhy daktyl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jednoruční (USA, Španělsko, Francie, Č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vouruční (UK, Austrálie, Itálie, Č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míš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laňový daktyl hluchoslepých (taktilní for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Verdana"/>
              </a:rPr>
              <a:t>Prstové abecedy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rodukce lineár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ro použití nutná znalost písemné formy mluveného jazy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27 znaků pro hlás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+ znaky pro háčky a čár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integrální součástí ČZJ a totální komun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První pojednání o prstové AB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základem prstové znaky pro čísl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Egypt, Antické Řecko a Ří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vytvořena mnic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Beda Ctihod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7./8. století spis „Počítání jako řeč prstů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Cosmas Rosseli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579 popsání tří různých prstových AB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Využití prstových ABC pro vzděl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Melchor de Y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593 publikace jednoruční ABC k výuce S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pro zpověď umírajících neschopných mluv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Juan Pablo Bo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620 jednoruční ABC ve výu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pomůcka k odezír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John Wa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652 publikace nejstarší dvouruční AB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Historie:</a:t>
            </a:r>
            <a:br>
              <a:rPr sz="3400"/>
            </a:br>
            <a:r>
              <a:rPr b="0" lang="en-US" sz="3400" spc="-1" strike="noStrike">
                <a:solidFill>
                  <a:srgbClr val="ffcc00"/>
                </a:solidFill>
                <a:latin typeface="Verdana"/>
              </a:rPr>
              <a:t>Využití prstových ABC pro vzděl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Abé de l´Epé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od roku 1769 součástí francouzské metody vý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Gallaudet + Cle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1816 uvedení francouzské ABC v U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Milánský kong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prstová ABC vytlačová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957 opět použita na českém úze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1963 kongres Světové federace neslyšíc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americká prstová ABC základem mezinárodní prstové AB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Jednoruční prstová abeceda:</a:t>
            </a:r>
            <a:br>
              <a:rPr sz="3500"/>
            </a:br>
            <a:r>
              <a:rPr b="0" lang="cs-CZ" sz="3500" spc="-1" strike="noStrike">
                <a:solidFill>
                  <a:srgbClr val="ffcc00"/>
                </a:solidFill>
                <a:latin typeface="Arial"/>
              </a:rPr>
              <a:t>srovnání 1620 a současnost (ČR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1" descr="220px-Lengua_de_Signos_(Bonet,_1620)_R,_S,_T"/>
          <p:cNvPicPr/>
          <p:nvPr/>
        </p:nvPicPr>
        <p:blipFill>
          <a:blip r:embed="rId1"/>
          <a:stretch/>
        </p:blipFill>
        <p:spPr>
          <a:xfrm>
            <a:off x="1050840" y="1773360"/>
            <a:ext cx="2846520" cy="43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rstova-abeceda-pro-jednu-ruku"/>
          <p:cNvPicPr/>
          <p:nvPr/>
        </p:nvPicPr>
        <p:blipFill>
          <a:blip r:embed="rId2"/>
          <a:stretch/>
        </p:blipFill>
        <p:spPr>
          <a:xfrm>
            <a:off x="5072040" y="1752480"/>
            <a:ext cx="31701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Verdana"/>
              </a:rPr>
              <a:t>Využití prstové abece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odpůrný prostřede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řenos vlastních jmen a odborného názvosloví z ČJ do Z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jména institucí, politi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specializované ob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specifikum produkce více písme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WC, komunikace, jogurt, Octav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Verdana"/>
              </a:rPr>
              <a:t>pomocné artikulační znaky (PA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02-03T18:34:07Z</dcterms:modified>
  <cp:revision>65</cp:revision>
  <dc:subject/>
  <dc:title>Základy surdopedie</dc:title>
</cp:coreProperties>
</file>