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9D5-8FE1-46A5-95FA-D4C23C49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658-93B3-41A1-8A08-DAA7B05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1AB-B57B-4DBB-A927-D72F54F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78A-175B-4D54-86AE-11D151CE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8299-7F97-4BF6-820A-2A9DF912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0C0-764B-4FE2-8FFB-35F67D0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DF7-C688-4E3D-9DA9-E845668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703-74F2-4356-AFEA-594876B7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B997-945E-49BA-A87F-83BC559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929-6398-4FF4-A319-7C71C2C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DB50-1710-4637-ACC0-D1470FB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A12-522F-4314-90F3-4CA7CE2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9F40-8A5F-4302-A7F8-E416DA7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ED8-7291-4FC5-B492-39970B2A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F4D-0C2A-4542-9D7E-098CD47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B2D-77A1-4027-8BA3-BB2712AD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5E6-F2DD-4E34-9ABA-880077B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CC1-22C7-46DB-9498-7E34DC0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338-4B43-404C-93D2-043A436F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654-ED08-4A97-B435-F7A9C72F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2E1-E600-4EC8-A38F-911D3B6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EA5-A4D6-4FC1-B716-0286B7D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C88-14DF-4B19-9F6D-1F06488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2CC-7E64-4DAE-9C46-57ADC7FC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A32E-CBDB-4575-BDE4-ADAA4B9E8125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140-BC6D-48B0-9FE7-CCB3C8324C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F29-1F9F-46E3-B0C0-921A2FF3DA7B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5B68-A86A-409D-9B5D-800F9199EA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60483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16000" y="5013360"/>
            <a:ext cx="48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komunik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ní</a:t>
            </a: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ys</a:t>
            </a: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témy</a:t>
            </a: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684360" y="4292640"/>
            <a:ext cx="453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izuálně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orické</a:t>
            </a: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Výzkum znakov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očátky v 60. letech 20. stolet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William Stoko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000"/>
                </a:solidFill>
                <a:latin typeface="Verdana"/>
              </a:rPr>
              <a:t>ZJ ustálený systém, který je nutno dodržovat a respektov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rozčlenění komponentů zna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Č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rof. Alena Macurová a doc. Miloň Potměš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ČJ v komunikaci neslyšících (FF UK Prah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11D2-593C-440D-A875-0754EB61CCEA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387-BF86-4D4C-A518-D4FA61C155B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y přirozen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 zástupným symbolem pro něco jinéh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dvojí členě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ožnost rozlišit nejmenší jednotky nesoucí význam (znak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ožnost rozlišit morfémy na jednotky nižšího řádu, které význam nenesou, ale jsou schopny jej rozlišit (sport X ředi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y přirozen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produktiv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omezený soubor prostředků a pravi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nekonečné množství spoj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svéby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schopnost jazyka oddělit se od aktuální přítomnosti (čas, podmínky, nepravda, přá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historický roz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ontogenetický výv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fylogenetický výv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000"/>
                </a:solidFill>
                <a:latin typeface="Verdana"/>
              </a:rPr>
              <a:t>Charakteristika znakového jazy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nejmenší jednotka nesoucí význ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lexém, morf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naky rozložitelné na jednotlivé kompon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manuální a nemanuální nosič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5C7F-D8A4-4A5E-AB9D-CF1470959B94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171-528F-47F7-AC52-3630DE91B8F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000"/>
                </a:solidFill>
                <a:latin typeface="Verdana"/>
              </a:rPr>
              <a:t>Charakteristika znakového jazy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manuální nosiče (foneticko-fonologická stav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tvar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zice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hyb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manuální nosič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mim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ge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hyb hlav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způsob ukazo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Charakteristika znakov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mluvní kompon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ohyby úst odvozené z mluveného jazy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orální kompon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izuální obraz úst vytvářený v průběhu produkce zna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tálý, neměn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 je bez jeho užití agramatick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Dělení znak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iko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izuálně motivované zna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index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ájmena, příslov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symbo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arbitrární vztah mezi nosičem a zna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označení vlastností, děj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Charakteristika znakového jazyka:</a:t>
            </a:r>
            <a:br>
              <a:rPr sz="3400"/>
            </a:b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SPECIFICKÉ ZNAK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emo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různých stavů lidské psych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osobního postoje mluvčíh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k osobě, události a jejich hodn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typické pro intrakulturní komunik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psáno 29 znaků v ČZJ (Vysuč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000"/>
                </a:solidFill>
                <a:latin typeface="Verdana"/>
              </a:rPr>
              <a:t>Odlišnost ZJ od mluvené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mluvené jazyky jsou LINEÁR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umožňují pouze řazení jednoho znaku (slova) za druhý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J jsou LINEÁRNÍ a SIMULTÁN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lineárnost obsažená v artikulaci jednotlivého znaku a ve znakosl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simultánnost: znaky lze provádět součas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možnost využití 3D artikulačního prosto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9AF-175E-4789-B5AF-FB11F16D5C4A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FCB-233E-4C7B-8360-F2CBCF5F51A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Inkorporace (včleňování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způsob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učí se pomalu / učí se rych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časových údaj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minulý týden, příští týden, za r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poč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tři měsíce, čtyři hodi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osobních záj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tám se tě, dostává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simultánní artikulace záp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0633-9792-43E6-AFF9-51061A47823E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8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EFA-B645-48D4-AF43-106C9CEF608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Znaková řeč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4363-DDCE-42FD-A8C5-85B99E918353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2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1BF-2C21-465D-A5EF-D8ABEE61C24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Využívání prostoru při znakov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3D pros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produkce znaku ve vizuálně motorické rov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3 základní oblasti artikulace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řed obličej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u kr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řed tělem (neutrální znakovací prost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některé znaky svůj prostor při artikulaci mě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Jmenné zna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vnější 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Robert, Mari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pov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táčkov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znaku ve jmé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ojáčkov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doh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Sociolingvistické a psycholingvistické aspekty komunikace osob se 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bilingv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česk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jazykov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regionál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ociál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odle pohla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nerač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ětsk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F6D-0B1B-4226-AE45-18DCE1A21FC5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9317-99F3-4AAD-9B63-C765C9C8126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Ges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uměle vytvořený znakový systém s cílem navrhnout standardizovat systém mezinárodních zna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v roce 1973 ustanovena komise pro sjednocení znaků(70.léta 20.st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v roce 1975 sestavila a vydala slovní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ůvodně určen pro tlumočení na oficiálních mezinárodních setkán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slyšícími nepřijat, nepoužív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Gestun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6" descr="gestuno1"/>
          <p:cNvPicPr/>
          <p:nvPr/>
        </p:nvPicPr>
        <p:blipFill>
          <a:blip r:embed="rId1"/>
          <a:stretch/>
        </p:blipFill>
        <p:spPr>
          <a:xfrm>
            <a:off x="611280" y="1843200"/>
            <a:ext cx="4465440" cy="396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estuno2"/>
          <p:cNvPicPr/>
          <p:nvPr/>
        </p:nvPicPr>
        <p:blipFill>
          <a:blip r:embed="rId2"/>
          <a:stretch/>
        </p:blipFill>
        <p:spPr>
          <a:xfrm>
            <a:off x="5148360" y="1700280"/>
            <a:ext cx="33433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ezinárodní znakov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efektivní forma komunikace vznikající při vzájemném kontaktu uživatelů různých znakových jazy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á zásoba vzniká přirozeně tak, že komunikující volí znaky s cílem dojít co nejlepšímu porozumě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český znakový jazyk, německý znakový jazyk, ASL, BSL, LSF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http://www.spreadthesign.com/gb/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ruce.cz/neslysici/komunika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www.spreadthesign.com/gb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weblik.cktzj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BÍMOVÁ, Petra; OKROUHLÍKOVÁ, Lenka. </a:t>
            </a:r>
            <a:r>
              <a:rPr b="0" i="1" lang="cs-CZ" sz="2100" spc="-1" strike="noStrike">
                <a:solidFill>
                  <a:srgbClr val="ffcc00"/>
                </a:solidFill>
                <a:latin typeface="Verdana"/>
              </a:rPr>
              <a:t>Rysy přirozených jazyků, Lexikografie. </a:t>
            </a: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1. vyd. Praha: ČKTZJ o.s., 2008. ISBN 978-80-87153-47-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0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TETAUEROVÁ, Ivana. </a:t>
            </a:r>
            <a:r>
              <a:rPr b="0" i="1" lang="cs-CZ" sz="2100" spc="-1" strike="noStrike">
                <a:solidFill>
                  <a:srgbClr val="ffcc00"/>
                </a:solidFill>
                <a:latin typeface="Verdana"/>
              </a:rPr>
              <a:t>Mezinárodní znakový systém. </a:t>
            </a: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1. vyd. Praha: ČKTZJ o.s., 2008. ISBN 978-80-87153-13-0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Termín „znaková řeč</a:t>
            </a:r>
            <a:r>
              <a:rPr b="0" lang="ja-JP" sz="38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 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ákon č. 155/1998 Sb. o znakové řeč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rvní antidiskriminační zák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á ře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ý jazyk (ZJ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aná čeština (ZČJ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http://www.sagit.cz/pages/sbirkatxt.asp?zdroj=sb98155&amp;cd=76&amp;typ=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vizuálně motorické komunikační systémy slovní podsta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aktylot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s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ezinárodní znakový syst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ákon č. 384/2008 Sb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ákon č. 384/2008 Sb. o komunikačních systém</a:t>
            </a: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ech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 neslyšících a hluchoslepých oso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novelizován zákonem č. 423/2008 S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sagit.cz/pages/sbirkatxt.asp?zdroj=sb08423&amp;cd=76&amp;typ=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rávo neslyšících a hluchoslepých osob svobodně si zvolit z komunikačních systémů uvedených v zákoně ten, který odpovídá jejich potřebá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cc00"/>
                </a:solidFill>
                <a:latin typeface="Verdana"/>
              </a:rPr>
              <a:t>Zákon č. 384/2008 Sb.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definice základních poj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neslyšící</a:t>
            </a:r>
            <a:r>
              <a:rPr b="0" lang="cs-CZ" sz="20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luchoslep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definice komunikačních systé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český znakový jazy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základní komunikační systém těch neslyšících osob v ČR, které jej samy považují za hlavní formu své komunik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komunikační systémy vycházející z českého jazy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►</a:t>
            </a: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znakovaná čeština, prstová ABC, Lormova ABC, daktylografie, Braillovo písmo, Tadoma,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Znakový jazyk X Znakovaná češt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ý jazyk (Z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řiroze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lnohodnot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lastní pravidla, vlastní gramat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aná čeština (ZČ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umělý jazykový syst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kombinace gramatiky ČJ a znakové zásoby Z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Znakový jazyk X Znakovaná ČJ</a:t>
            </a:r>
            <a:br>
              <a:rPr sz="3400"/>
            </a:b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ukáz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stížnost na úroveň znakovaných zpráv v pořadu Televizní klub neslyšících Č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http://www.ekotn.wz.cz/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ový jazy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►</a:t>
            </a: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samostatný, živý jazyk se všemi znaky přirozeného jazy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vizuálně-motorick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vnímaný i produkovaný ve vizuálně-motorické rov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ateřský jazyk neslyšícího dítěte neslyšících rodičů umožňující bezprostřední poznávání svě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11-07T14:11:54Z</dcterms:modified>
  <cp:revision>109</cp:revision>
  <dc:subject/>
  <dc:title>Základy surdopedie</dc:title>
</cp:coreProperties>
</file>