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B23-A6F9-43CD-819B-683559DE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2D5-C652-40A9-B608-E91EB86F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8DC-A7B2-4F22-88CB-46966C4F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A66-C70A-4434-8833-C337AD6D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09F2-A56C-47EB-83CB-2D74E57E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4E76-C65D-484E-9C8A-E5790882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2A9-600C-4126-9DAE-51DA1893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3B03-1BBB-4379-8351-CE82B0FE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6809-6245-4D22-A229-8912333F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54D2-2806-4D85-BF28-F633D1C1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4369-9947-4638-9A86-089A4919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3BB-01EE-4102-B3F1-E5769E75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3982-8CE8-4707-AAB8-341141B0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94F9-FABA-405C-A6A8-181D0ED9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D3CA-1973-49F7-8B75-44119659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D322-2519-494D-8A76-44298F8E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3F6C-CB3F-49DF-A4BA-3B72D00A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DF9-1C82-4E26-AF83-05DB45EF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3B3-B76B-4E7B-8522-7C0874CF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180-986E-400C-A580-429ACB18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9E2-F7F8-4C04-83C5-347AF789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A54-2911-4CFE-B225-1921D77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2B1-CD99-447C-844F-F582639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D36-716A-469D-AAD0-3DDAEAE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07D6-2E99-4311-9048-01C802DB1784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F854-8A64-4E29-B092-037ECD8BC7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6731-7594-48FA-8D37-C84FFD38740A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7B08-DD74-4524-8A11-8AD0C359AB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ce.cz/neslysici/komunikac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40000" y="3068280"/>
            <a:ext cx="47876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"/>
              </a:rPr>
              <a:t>1) Komunika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Komunikační formy u SP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komunikační systémy slovní podsta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mluvená hlásková řeč, psaná forma řeč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daktylotika, daktylograf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pomocné artikulační znaky (PAZ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znakovaný jazy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komunikační systémy neslovní podsta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mimi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gestikul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dramatiz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pantom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Verdana"/>
              </a:rPr>
              <a:t>Vizuálně-motorické komunikační systém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znakový jazy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znakovaný jazy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daktyloti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daktylograf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Gestu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Mezinárodní znakový systé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Literatur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KRAHULCOVÁ, Beáta. </a:t>
            </a:r>
            <a:r>
              <a:rPr b="0" i="1" lang="cs-CZ" sz="2400" spc="-1" strike="noStrike">
                <a:solidFill>
                  <a:srgbClr val="ffcc00"/>
                </a:solidFill>
                <a:latin typeface="Verdana"/>
              </a:rPr>
              <a:t>Komunikace sluchově postižených</a:t>
            </a: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. Praha: Karolinum, 200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časopis G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ruce.cz/neslysici/komunikace</a:t>
            </a: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88D-4939-4F88-8D30-38A237E8D5AF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8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A396-D21D-4F8B-84C8-9DDB0795974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Komunikac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Co je t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dy komunikuje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Co naši komunikaci charakterizuj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Komunik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communic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spojení, sdělová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výměna informací mezi lid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slovní sdělení, která umožňují předávání zkušeností, koordinování společné činnosti, vybízení druhého člověka k určitému chování a jedn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není možné nekomunikovat (Lech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Význam mezilidské komunik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dorozuměn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vybízení k určité čin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ntrolní funk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budování citů a emoc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budování sociálních vztah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Komunik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munikační schopno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užívat jazyk jako systém znaků a symbolů ve všech jeho formá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munikační pro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sdělování a výměna inform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Verbální komunikace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uskutečňuje se pomocí soustavy dohodnutých symbol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předměty, osoby, jevy momentálně přítomné i nepřítom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mluvená ře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psaná forma řeč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Nonverbální komunikace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mimoslovní sdělo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vývojově starší složka komunik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rostředky nonverbální komunik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mim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proxem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fyzický postoj (sklon hlavy, nakročení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ges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hap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poh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úprava zevnějšku, úprava okol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Komunikační formy u SP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munikační systémy slovní podsta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mluvená hlásková ře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psaná forma řeč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daktylotika (prstová abece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daktylografie (vpisování do dlaně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pomocné artikulační znaky (PA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znakovaný jazy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Komunikační formy u SP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4208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munikační systémy neslovní podsta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mim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gestiku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ramatiz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antomi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gestikulace_2"/>
          <p:cNvPicPr/>
          <p:nvPr/>
        </p:nvPicPr>
        <p:blipFill>
          <a:blip r:embed="rId1"/>
          <a:stretch/>
        </p:blipFill>
        <p:spPr>
          <a:xfrm>
            <a:off x="5530680" y="1844640"/>
            <a:ext cx="27417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21:29Z</dcterms:created>
  <dc:creator>Mariana</dc:creator>
  <dc:description/>
  <dc:language>en-US</dc:language>
  <cp:lastModifiedBy>Mariana</cp:lastModifiedBy>
  <dcterms:modified xsi:type="dcterms:W3CDTF">2011-11-07T14:11:11Z</dcterms:modified>
  <cp:revision>55</cp:revision>
  <dc:subject/>
  <dc:title>Základy surdopedie</dc:title>
</cp:coreProperties>
</file>