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A9E-8584-44DF-8EE6-4868AB46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C0D-DF72-4808-963A-AC19A31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FD7-4CC0-4FC5-BAE7-E1919C0D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8F3-15D4-4759-ADF4-9D3A569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0DB-11DF-4942-9ED5-2DC16EB5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87FF-BBF0-4EEC-AAA5-3E5F356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93CE-8CE7-4AC7-9D19-ED94855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28F-32F5-4FF7-9AF0-B052F09A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2CA7-7004-4A2E-A491-F24206F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D093-DC24-4E66-8381-4297FFC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BDD7-E043-4820-BF6F-EA5FCEE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0FD-AC97-4349-AAED-8B29F87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38B-F598-480E-86BC-15D2ECD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029B-D560-4B37-B718-1D3DEF3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6CCF-9EB6-4A90-A518-72501F4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B184-5FC7-40B6-9CB2-6D176BE8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96D-CA4E-4399-B1CD-52CBF8C8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E14-698C-485F-941C-F98C553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491-180A-4198-88EA-9EF75D9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A09-CDD0-429A-BD07-3A5776E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F34-BE08-4D7A-B824-3ABF5892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15F-10A1-465F-86CB-E8EB9D1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F8A-BFE6-45D8-9239-F6D41E2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3EF-30B0-4FB5-AC6D-9C30EE2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C5E-C38B-49BB-8531-2B46BBAE3DAC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007-F590-4D15-824E-80E81643F1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A01-216B-476C-BD29-F80F167E13B3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A5E0-285F-486D-94EA-2A168CCA77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c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5508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) Prstové abece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953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Komunikační systémy slovní podstaty: DAKTYLOTIKA (prstová abeceda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8" descr="bsl-alphabet-761657"/>
          <p:cNvPicPr/>
          <p:nvPr/>
        </p:nvPicPr>
        <p:blipFill>
          <a:blip r:embed="rId1"/>
          <a:stretch/>
        </p:blipFill>
        <p:spPr>
          <a:xfrm>
            <a:off x="1146240" y="1700280"/>
            <a:ext cx="3174840" cy="4465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ongkong abeceda"/>
          <p:cNvPicPr/>
          <p:nvPr/>
        </p:nvPicPr>
        <p:blipFill>
          <a:blip r:embed="rId2"/>
          <a:stretch/>
        </p:blipFill>
        <p:spPr>
          <a:xfrm>
            <a:off x="5003640" y="1700280"/>
            <a:ext cx="3135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Prstová abeceda:</a:t>
            </a:r>
            <a:br>
              <a:rPr sz="3500"/>
            </a:b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současnos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řevážně obouruční (srozumitelnost pro slyšíc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dporuje zapamatování slova (analýza a syntéz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ednodušší získávání slovní záso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dpora odezír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ychlejší než pís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výh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utná znalost jazyka v psané podob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malejší než mluvená ře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vlivněno úrovní motor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1936800" y="0"/>
            <a:ext cx="515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4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časopis G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http://ruce.cz/neslysici/komunik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Verdana"/>
              </a:rPr>
              <a:t>Prstová abeced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komunikační systém slovní podsta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komunikační systém vycházející z Č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Prstové abecedy</a:t>
            </a:r>
            <a:br>
              <a:rPr sz="3500"/>
            </a:b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(daktylní abecedy, daktylotiky, prstnic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vizuálně-motorická komunikační 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yužívá formalizovaných a ustálených postavení prstů a dlaně jedné nebo obou rukou k zobrazování jednotlivých písmen abece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ruhy daktyl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jednoruční (USA, Španělsko, Francie, Č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vouruční (UK, Austrálie, Itálie, Č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míš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laňový daktyl hluchoslepých (taktilní for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Verdana"/>
              </a:rPr>
              <a:t>Prstové abecedy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rodukce lineár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ro použití nutná znalost písemné formy mluveného jazy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27 znaků pro hlás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+ znaky pro háčky a čár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integrální součástí ČZJ a totální komun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První pojednání o prstové AB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základem prstové znaky pro čísl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Egypt, Antické Řecko a Ří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vytvořena mnic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Beda Ctihod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7./8. století spis „Počítání jako řeč prstů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Cosmas Rosseli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579 popsání tří různých prstových AB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Využití prstových ABC pro vzděl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Melchor de Y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593 publikace jednoruční ABC k výuce S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pro zpověď umírajících neschopných mluv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Juan Pablo Bo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620 jednoruční ABC ve výu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pomůcka k odezír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John Wa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652 publikace nejstarší dvouruční AB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Využití prstových ABC pro vzděl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Abé de l´Epé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od roku 1769 součástí francouzské metody vý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Gallaudet + Cle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1816 uvedení francouzské ABC v U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Milánský kong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prstová ABC vytlačová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957 opět použita na českém úze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963 kongres Světové federace neslyšíc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americká prstová ABC základem mezinárodní prstové AB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Jednoruční prstová abeceda:</a:t>
            </a:r>
            <a:br>
              <a:rPr sz="3500"/>
            </a:b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srovnání 1620 a současnost (ČR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1" descr="220px-Lengua_de_Signos_(Bonet,_1620)_R,_S,_T"/>
          <p:cNvPicPr/>
          <p:nvPr/>
        </p:nvPicPr>
        <p:blipFill>
          <a:blip r:embed="rId1"/>
          <a:stretch/>
        </p:blipFill>
        <p:spPr>
          <a:xfrm>
            <a:off x="1050840" y="1773360"/>
            <a:ext cx="2846520" cy="43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rstova-abeceda-pro-jednu-ruku"/>
          <p:cNvPicPr/>
          <p:nvPr/>
        </p:nvPicPr>
        <p:blipFill>
          <a:blip r:embed="rId2"/>
          <a:stretch/>
        </p:blipFill>
        <p:spPr>
          <a:xfrm>
            <a:off x="5072040" y="1752480"/>
            <a:ext cx="31701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Verdana"/>
              </a:rPr>
              <a:t>Využití prstové abece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odpůrný prostřede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řenos vlastních jmen a odborného názvosloví z ČJ do Z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jména institucí, politi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specializované ob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specifikum produkce více písme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WC, komunikace, jogurt, Octav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omocné artikulační znaky (PA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02-03T18:34:07Z</dcterms:modified>
  <cp:revision>65</cp:revision>
  <dc:subject/>
  <dc:title>Základy surdopedie</dc:title>
</cp:coreProperties>
</file>