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736A-63A4-4436-82B2-B34B8A01F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3DB6-BF86-4F77-A180-D895EA92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2DAA-9565-4C72-87D9-9C94EE7E1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8031-8862-45AA-BF2C-1283E59CB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A2FD-0636-4D2B-9433-5A61B4BB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17BB-DE5E-4DFD-A126-AFB12AE2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FED5-60E4-4B9B-9877-A65F6CE9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40DF-6DE0-4B42-B966-695A4A1A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423C-BD34-4D6E-87F4-0B0A806A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279D-9ED5-417E-87F3-46095BAC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63DA-0B4A-49E1-A12F-44673C36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C5D6-87C1-45FE-B7AB-6C5D7EF7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172D-EBFD-4018-A774-0C1E65E2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370A-4614-4C9B-B3E6-70ADFDA7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6E9F-2329-48C3-8006-59841334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F368-01AD-40F6-8A29-E70E376FB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C6BF-190A-4F5D-A6BE-A27E37DE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D1ED7-7324-4BAB-B23A-A66F70C2B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CE72E-57AD-483D-B970-878B93F7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F5638-1FD3-4A6C-853F-3ABC2D9A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0B0A0-D133-4990-A729-3AB9F353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FD3EB-77BA-4C70-B3AA-3D769A70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B509-2ECD-497F-AEF2-ACF53F70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0C204-5BD0-4FA3-8A83-8BFCB480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77109-84E7-4008-9059-8C2F929E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60B16-3623-46D8-AC16-0D06604A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42DF9-125A-4B91-899A-EB15CFA0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D8A92-39F2-470B-AAAD-3C843CD3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7028A-CE97-4DCE-BD54-BD772B933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62944-C8F6-4F86-B0C9-E235DECE8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2278C-A51F-49BF-8890-F81FE1FC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25DAF-4451-4139-B3D5-9D491410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D3695-7B35-4C5A-872A-CA381C94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9AA2-3530-43C6-A0E2-758CBC06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361D3-718B-4148-9B4F-9876B473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A0FBB-E854-40BA-B24E-44DCD903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BCD4D-64A0-4A36-889B-6B2A9ADF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2ADBF-BFC2-4C1C-AABB-68237F8E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F97DC-051E-4F37-A0CF-65D06AEC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123CD-98C9-46D6-BC0F-1CB10CAA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4A80E-AEEA-4D28-BDDE-880D8EAE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6C358-8819-4145-870D-B704E564E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C2163-587E-4314-B951-15F7CBAF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BE998-6320-4DE9-BC4D-EDE232D7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B1E0-796E-4A7C-9B3F-E28F2BE2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50B25-439B-42E3-896B-57BFECE6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CF535-2F06-4CCC-8152-CA9AC7FA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27370-C0EC-44EB-B23F-CD4F0398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20E6D-8A3D-4FF0-80D9-6680F590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D1BBA-8389-43C1-BC8E-52090FC0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EE5F4-5CED-4147-AF56-06A07937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3B838-A9D0-4340-8FA8-A116F8AC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132B2-13BF-4579-857F-FDA2B910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12B2B-F288-4AF8-88C9-B4C94739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BC8E8-067C-4E39-B931-C37F13FD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3DAC-CC4F-4594-9860-4A491149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276F5-CEE6-4D3B-8A3E-1F96A38E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9D58F-09A9-46BE-A16F-7C9970D3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6B934-AECF-4B6C-A0B5-BD9E5BEE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67835-F106-4C07-B543-F3948E0E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EAD29-1B6A-4BE8-AA59-7E5B29F6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A0E58-D023-45E5-86B6-45C3CD93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353C3-56A0-4B40-A355-B64E4FFB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6AC82-F288-4DC2-A6FB-A697D67C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2EFE8-4DC9-44AE-8303-71FCC07C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70907-8ACE-4773-86A8-C802EB14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6B20-4E07-40B9-A167-9D94B579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8D7F5-3517-45E9-9F08-D7DBBBAB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8FD90-CD41-4110-A292-7CFB8ABB2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4F70B-D268-4C2E-89C5-F306908F2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462C8-AD42-4ECF-BBF8-67A6043FF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B75D9-10C4-4598-BC4F-E668C4C2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22C73-6E39-4A27-9C6F-8C4DFA0F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9472A-A657-40C4-A497-FCEB1B69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A92B4-59B6-454C-BC7E-D7373394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47343-32DA-42A4-AAC8-93E00C78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D345F-2A8B-4D50-AB34-E50A7B3F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25B9-BFFA-4EF6-AB77-660A7346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01B45-93C5-440E-B58F-7C867DE8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AFE6D-6BA3-47EE-8B71-2BE43022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920CB-77CC-4C13-9D19-044C68C9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B1F7B-8D84-4252-AADA-8271A56FC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E4D0F-A215-4028-9DF2-A1297789B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D7B9-8434-4A47-B658-5C6D57AC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A7D7-34F2-4A4C-899D-2B9F7B90DB53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bdélník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Obdélník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Obdélník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Obdélník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Obdélník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Obdélník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Obdélník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bdélník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bdélník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CFE5-E23E-4D3E-A28D-4E9D1513C0EF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Volný tvar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Volný tvar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Volný tvar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Volný tvar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Volný tvar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Volný tvar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Volný tvar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Volný tvar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Volný tvar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Volný tvar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Volný tvar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Volný tvar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Volný tvar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Volný tvar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Volný tvar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bdélník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bdélník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bdélník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bdélník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bdélník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bdélník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80F6-2D7A-42BA-9612-4077E4D28723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00CD-D336-4A5E-AB89-9EF5C5EB5C26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Obdélník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bdélník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Obdélník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Obdélník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Obdélník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bdélník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bdélník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Obdélník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bdélník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Obdélník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876C-5587-4828-8E66-343B16126232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55B5-9942-4CB6-BB35-CCB062D316EB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Obdélník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římá spojovací čára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Skupina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Přímá spojovací čára 20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Přímá spojovací čára 23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Přímá spojovací čára 24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Skupina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Přímá spojovací čára 26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Přímá spojovací čára 27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Přímá spojovací čára 28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Skupina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Přímá spojovací čára 30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Přímá spojovací čára 31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Přímá spojovací čára 32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3C25-25B5-4E9C-99B9-19C8DC0639EA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905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Obsah přednášky</a:t>
            </a:r>
            <a:br>
              <a:rPr sz="4000"/>
            </a:b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 * Geografie jako věda</a:t>
            </a:r>
            <a:br>
              <a:rPr sz="4000"/>
            </a:b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71640" y="2286000"/>
            <a:ext cx="763272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a,  její  definice, vývoj věd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ecký výzkum, systémový přístup, modelován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Geografie vědo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hinking and working geographicall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Členění geografie na dílčí disciplín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y a jejich dělení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Vědy se liší objektem studia, předmětem studia, metodami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Podl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metod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se vědy dělí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formální (matematika a logika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přírodní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humanitní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Podl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stupně obecnosti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eoretické a aplikované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42960" y="1000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Vývoj vědy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8"/>
          <p:cNvSpPr/>
          <p:nvPr/>
        </p:nvSpPr>
        <p:spPr>
          <a:xfrm>
            <a:off x="1371600" y="34290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Geocentrická  teo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3505320" y="40384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Heliocentrická  teo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onsolas"/>
              </a:rPr>
              <a:t>Dějiny vědy jsou posety odloženými hypotézami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Consolas"/>
              </a:rPr>
              <a:t>  překonanými teoriemi i platnými teoriemi</a:t>
            </a:r>
            <a:endParaRPr b="0" lang="en-US" sz="32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1480320" y="217476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Země je ploch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2998080" y="286056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Země je kulat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5"/>
          <p:cNvSpPr/>
          <p:nvPr/>
        </p:nvSpPr>
        <p:spPr>
          <a:xfrm>
            <a:off x="1046520" y="5029200"/>
            <a:ext cx="46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Wegenerova teorie kontinentálního drif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Kuhn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42960" y="2428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. S. Kuhn přinesl přesvědčivé argumenty i o tom, že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Corbel"/>
              </a:rPr>
              <a:t>pokrok vědeckého poznání není přímočarý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nýbrž že je čas od času přerušován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Corbel"/>
              </a:rPr>
              <a:t>zásadními zvraty – vědeckými revolucemi, 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při nichž dochází k revizi samotných základů dosavadního vědění. Vědecké poznání nesměřuje k nějaké jediné Pravdě o světě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orbel"/>
              </a:rPr>
              <a:t>Paradigma – vědecká revoluce – nové paradigma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spcBef>
                <a:spcPts val="49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Podrobněji čas. Vesmír 9/2008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spcBef>
                <a:spcPts val="49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KnihaT.S. Kuhn: Koperníkovská revoluc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1" name="Obrázek 3" descr="uvod_kuhn.jpg"/>
          <p:cNvPicPr/>
          <p:nvPr/>
        </p:nvPicPr>
        <p:blipFill>
          <a:blip r:embed="rId1"/>
          <a:stretch/>
        </p:blipFill>
        <p:spPr>
          <a:xfrm>
            <a:off x="6643800" y="571680"/>
            <a:ext cx="2071440" cy="18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PARADIGM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066680" y="210168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49200" indent="-291240">
              <a:lnSpc>
                <a:spcPct val="8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ffffff"/>
                </a:solidFill>
                <a:latin typeface="Corbel"/>
              </a:rPr>
              <a:t>určitý vědecký styl dané epochy či vědeckého společenství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49200" indent="-291240">
              <a:lnSpc>
                <a:spcPct val="8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Corbel"/>
              </a:rPr>
              <a:t>souhrn všeobecně uznávaných teoretických a metodologických předpokladů, postupů v určité etapě vývoje vědeckého bádání</a:t>
            </a:r>
            <a:r>
              <a:rPr b="1" lang="cs-CZ" sz="21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49200" indent="-291240">
              <a:lnSpc>
                <a:spcPct val="8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ývoj věd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eorie T.S. Kuhna o proměně věd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aradigma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ecká revolu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nové paradigm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7772400" y="4724280"/>
            <a:ext cx="380880" cy="190512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Group 10"/>
          <p:cNvGrpSpPr/>
          <p:nvPr/>
        </p:nvGrpSpPr>
        <p:grpSpPr>
          <a:xfrm>
            <a:off x="5181480" y="1676520"/>
            <a:ext cx="2210040" cy="3047760"/>
            <a:chOff x="5181480" y="1676520"/>
            <a:chExt cx="2210040" cy="3047760"/>
          </a:xfrm>
        </p:grpSpPr>
        <p:sp>
          <p:nvSpPr>
            <p:cNvPr id="408" name="Rectangle 5"/>
            <p:cNvSpPr/>
            <p:nvPr/>
          </p:nvSpPr>
          <p:spPr>
            <a:xfrm>
              <a:off x="5181480" y="1676520"/>
              <a:ext cx="381240" cy="30477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orbe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Rectangle 7"/>
            <p:cNvSpPr/>
            <p:nvPr/>
          </p:nvSpPr>
          <p:spPr>
            <a:xfrm>
              <a:off x="5791320" y="4572000"/>
              <a:ext cx="160020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orbel"/>
                </a:rPr>
                <a:t>V 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ecký výzkum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2" name="Picture 2" descr="G:\ocean\teory.jpg"/>
          <p:cNvPicPr/>
          <p:nvPr/>
        </p:nvPicPr>
        <p:blipFill>
          <a:blip r:embed="rId1"/>
          <a:srcRect l="0" t="0" r="0" b="21416"/>
          <a:stretch/>
        </p:blipFill>
        <p:spPr>
          <a:xfrm>
            <a:off x="1116000" y="1270080"/>
            <a:ext cx="65008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hypotéz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Hypotéza, domněnka, předpokla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ýchozí, dosud ale neprokázané tvrzení, které se předkládá na zkoušku k ověření (experimentem, zkušeností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racovní hypotézy ukazují další cestu vědeckého zkoumání, mohou se stát základem vědecké teori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00080" y="9284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teorie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71680" y="1642680"/>
            <a:ext cx="7772400" cy="112068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98000"/>
          </a:bodyPr>
          <a:p>
            <a:pPr marL="52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Řádně  doložené objasnění některého přírodního (sociálního) jevu, které zahrnuje fakta, zevšeobecněné zákony, logické  dedukce a otestované dílčí hypotéz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TextovéPole 3"/>
          <p:cNvSpPr/>
          <p:nvPr/>
        </p:nvSpPr>
        <p:spPr>
          <a:xfrm>
            <a:off x="714240" y="3000240"/>
            <a:ext cx="592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Teorie není dohad  nebo tušení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ale vysvětlení vycházející z rozsáhlého pozorování , experimentů a tvořivých úv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ovéPole 4"/>
          <p:cNvSpPr/>
          <p:nvPr/>
        </p:nvSpPr>
        <p:spPr>
          <a:xfrm>
            <a:off x="1034640" y="4572000"/>
            <a:ext cx="415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Příklad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heliocentrická teori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teorie deskové tektoniky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teorie evolučního vývoje organism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71720" y="12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Systémové  paradigma </a:t>
            </a:r>
            <a:br>
              <a:rPr sz="4000"/>
            </a:b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eorie systémů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výchozí předpoklady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každý dílčí prvek je součástí většího celku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edy i každý objekt  se složen z menších částí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AutoShape 4"/>
          <p:cNvSpPr/>
          <p:nvPr/>
        </p:nvSpPr>
        <p:spPr>
          <a:xfrm>
            <a:off x="4284720" y="3213000"/>
            <a:ext cx="457200" cy="457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834920" y="2492280"/>
            <a:ext cx="351612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4bd97"/>
                </a:solidFill>
                <a:latin typeface="Corbel"/>
              </a:rPr>
              <a:t>Co je to věda?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371240" y="1483920"/>
            <a:ext cx="55767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Je geografie vědou?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Systém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ystém -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skupina objektů propojená vazbam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očet objektů i vazeb systému   je konečný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bjekty i vazby ( vzájemné vztahy) lze zkou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bjekty jsou uspořádány hierarchick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Systémový přístup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vědecky zjednodušuje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realitu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dhaluje hlubší strukturovanou podstat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Model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Model - zjednodušené zobrazení systému , není se systémem či původním objektem, který systém popisuje shodný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590560" y="2590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4f1da"/>
                </a:solidFill>
                <a:latin typeface="Consolas"/>
              </a:rPr>
              <a:t>Geografie</a:t>
            </a:r>
            <a:endParaRPr b="0" lang="en-US" sz="6000" spc="-1" strike="noStrike">
              <a:solidFill>
                <a:srgbClr val="f4f1da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grafi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e  založena na schopnosti geograficky myslet –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tj. jasně formulovat nejrůznější prostorové vlastnosti geografických jevů ,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chopnost systematicky třídit, analyzovat, aplikovat geografické teorie, provádět syntézy, realizovat modely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ní encyklopedická znalost geografických objektů a jejich prostorová lokalizace (jak je často prezentováno ve školské praxi, tj.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ne jen KDE to je, ale i PROČ to tam j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Thinking geograph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826920" y="1413000"/>
            <a:ext cx="7561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Chapter  1 – Thinking and working geographicall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Why do geographers  ask  question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Skills -  understanding  the spatial  concept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How do geographers  gather  data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(primary data sources and secondary data source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Writin geographical report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able of conten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What do geographers do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115920"/>
            <a:ext cx="85406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4f1da"/>
                </a:solidFill>
                <a:latin typeface="Consolas"/>
              </a:rPr>
              <a:t>  </a:t>
            </a:r>
            <a:r>
              <a:rPr b="0" lang="cs-CZ" sz="3400" spc="-1" strike="noStrike">
                <a:solidFill>
                  <a:srgbClr val="f4f1da"/>
                </a:solidFill>
                <a:latin typeface="Consolas"/>
              </a:rPr>
              <a:t>Pro správné pochopení výuky zeměpisu (geografie) je nutné naučit se klást zeměpisné (geografické) otázky:</a:t>
            </a:r>
            <a:endParaRPr b="0" lang="en-US" sz="34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713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Kde to je?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é to je?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Proč je to tam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 to vzniklo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ý to má vliv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 by to mělo být uzpůsobeno k vzájemnému užitku člověka a přírody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grafie a její definic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c4bd9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4bd97"/>
                </a:solidFill>
                <a:latin typeface="Arial"/>
                <a:ea typeface="Arial"/>
              </a:rPr>
              <a:t>Geografie  je vědu zkoumající zákonitosti vývoje  krajinné sféry a jejích objektů, zvláště vztahy územní diferenciace a integrac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4bd97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c4bd97"/>
                </a:solidFill>
                <a:latin typeface="Arial"/>
                <a:ea typeface="Arial"/>
              </a:rPr>
              <a:t>geografie je vědou studující prostorové rozšíření jevů  v krajinné sféře Země, jejich vzájemnou interakci a vývoj v čase. (Wikipedia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orbel"/>
              </a:rPr>
              <a:t>Úkol: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orbel"/>
              </a:rPr>
              <a:t>vyhledejte ještě min. dvě definice geografie od různých autorů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Zařazení geografi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Geografie je vědou na rozhranní věd přírodních a společenských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kupina věd o Zem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oubor meto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bjekt studia příp. předmět studia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600" y="16430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Objekt geografie a předmět geografie 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40" name="TextovéPole 3"/>
          <p:cNvSpPr/>
          <p:nvPr/>
        </p:nvSpPr>
        <p:spPr>
          <a:xfrm>
            <a:off x="838800" y="4581360"/>
            <a:ext cx="7067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Předmětem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geografie js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funkční </a:t>
            </a: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analýza vztahů a vaz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mezi jednotlivými. složkami </a:t>
            </a:r>
            <a:r>
              <a:rPr b="0" i="1" lang="cs-CZ" sz="2800" spc="-1" strike="noStrike">
                <a:solidFill>
                  <a:srgbClr val="ffffff"/>
                </a:solidFill>
                <a:latin typeface="Corbel"/>
              </a:rPr>
              <a:t>krajinné sfé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ovéPole 4"/>
          <p:cNvSpPr/>
          <p:nvPr/>
        </p:nvSpPr>
        <p:spPr>
          <a:xfrm flipH="1">
            <a:off x="826920" y="328464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Objektem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studia geografie je </a:t>
            </a: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krajinná sfé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71720" y="12855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Definice vědy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1980720" y="3276720"/>
            <a:ext cx="4496040" cy="2178000"/>
          </a:xfrm>
          <a:prstGeom prst="rect">
            <a:avLst/>
          </a:prstGeom>
          <a:gradFill rotWithShape="0">
            <a:gsLst>
              <a:gs pos="0">
                <a:srgbClr val="253c57"/>
              </a:gs>
              <a:gs pos="50000">
                <a:srgbClr val="4f81bd"/>
              </a:gs>
              <a:gs pos="100000">
                <a:srgbClr val="253c5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krajinná 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4f1da"/>
                </a:solidFill>
                <a:latin typeface="Consolas"/>
              </a:rPr>
              <a:t>Přehled systému geografických věd</a:t>
            </a:r>
            <a:endParaRPr b="0" lang="en-US" sz="32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2438280" y="4038480"/>
            <a:ext cx="1143000" cy="381240"/>
          </a:xfrm>
          <a:prstGeom prst="rect">
            <a:avLst/>
          </a:prstGeom>
          <a:gradFill rotWithShape="0">
            <a:gsLst>
              <a:gs pos="0">
                <a:srgbClr val="78cb6f"/>
              </a:gs>
              <a:gs pos="50000">
                <a:srgbClr val="385e33"/>
              </a:gs>
              <a:gs pos="100000">
                <a:srgbClr val="78cb6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FZ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4038480" y="4038480"/>
            <a:ext cx="1219320" cy="381240"/>
          </a:xfrm>
          <a:prstGeom prst="rect">
            <a:avLst/>
          </a:prstGeom>
          <a:gradFill rotWithShape="0">
            <a:gsLst>
              <a:gs pos="0">
                <a:srgbClr val="28345b"/>
              </a:gs>
              <a:gs pos="50000">
                <a:srgbClr val="5670c4"/>
              </a:gs>
              <a:gs pos="100000">
                <a:srgbClr val="28345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S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838080" y="1447920"/>
            <a:ext cx="7391520" cy="914400"/>
          </a:xfrm>
          <a:prstGeom prst="rect">
            <a:avLst/>
          </a:prstGeom>
          <a:gradFill rotWithShape="0">
            <a:gsLst>
              <a:gs pos="0">
                <a:srgbClr val="7ec53d"/>
              </a:gs>
              <a:gs pos="100000">
                <a:srgbClr val="3a5b1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kartografie a geoinformat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obecná k, tematická k., GIS, DPZ, GPS, fotogrammetri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457200" y="2819520"/>
            <a:ext cx="2133720" cy="685800"/>
          </a:xfrm>
          <a:prstGeom prst="rect">
            <a:avLst/>
          </a:prstGeom>
          <a:gradFill rotWithShape="0">
            <a:gsLst>
              <a:gs pos="0">
                <a:srgbClr val="385e33"/>
              </a:gs>
              <a:gs pos="100000">
                <a:srgbClr val="78cb6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Vědy o  fzg. komplex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obecná fyz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aleo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228600" y="3962520"/>
            <a:ext cx="2133720" cy="1828800"/>
          </a:xfrm>
          <a:prstGeom prst="rect">
            <a:avLst/>
          </a:prstGeom>
          <a:solidFill>
            <a:srgbClr val="78cb6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Vědy  fzg.složká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eomorf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klimat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hydrogeografie a ocean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edogeogf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bio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eografie přír. zdrojů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1"/>
          <p:cNvSpPr/>
          <p:nvPr/>
        </p:nvSpPr>
        <p:spPr>
          <a:xfrm>
            <a:off x="5562720" y="2514600"/>
            <a:ext cx="3124080" cy="1219320"/>
          </a:xfrm>
          <a:prstGeom prst="rect">
            <a:avLst/>
          </a:prstGeom>
          <a:gradFill rotWithShape="0">
            <a:gsLst>
              <a:gs pos="0">
                <a:srgbClr val="28345b"/>
              </a:gs>
              <a:gs pos="100000">
                <a:srgbClr val="5670c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sg. komplex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obecná socioekonom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histor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12"/>
          <p:cNvSpPr/>
          <p:nvPr/>
        </p:nvSpPr>
        <p:spPr>
          <a:xfrm>
            <a:off x="5486400" y="3733920"/>
            <a:ext cx="3657600" cy="1447560"/>
          </a:xfrm>
          <a:prstGeom prst="rect">
            <a:avLst/>
          </a:prstGeom>
          <a:solidFill>
            <a:srgbClr val="5670c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sg.složká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obyvatel,  g. sí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průmyslu, g. zemědělství, g. doprav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služeb, g. rekre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vědy a kultu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4"/>
          <p:cNvSpPr/>
          <p:nvPr/>
        </p:nvSpPr>
        <p:spPr>
          <a:xfrm>
            <a:off x="1905120" y="5486400"/>
            <a:ext cx="2286000" cy="914400"/>
          </a:xfrm>
          <a:prstGeom prst="rect">
            <a:avLst/>
          </a:prstGeom>
          <a:gradFill rotWithShape="0">
            <a:gsLst>
              <a:gs pos="0">
                <a:srgbClr val="253c57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regione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regionální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olit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16"/>
          <p:cNvSpPr/>
          <p:nvPr/>
        </p:nvSpPr>
        <p:spPr>
          <a:xfrm>
            <a:off x="4191120" y="5181480"/>
            <a:ext cx="2743200" cy="1676520"/>
          </a:xfrm>
          <a:prstGeom prst="rect">
            <a:avLst/>
          </a:prstGeom>
          <a:gradFill rotWithShape="0">
            <a:gsLst>
              <a:gs pos="0">
                <a:srgbClr val="253c57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systémech a věd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nauka o kraji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eoek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lanetární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teoret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 </a:t>
            </a: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geosféra - koncentrická vrstva Země – prostor se specifickým výskytem určitých jevů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Corbel"/>
              </a:rPr>
              <a:t>z řeckého „sfaira „– koule, zeměkoule, globus, přeneseně i jako prostor např. sféra zájmů apod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emě vnitřní struktura  - vrstvy lišící se hustotou a složení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lupky cibule“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rotace – uspořádání od nejhustšího po nejřidší, od jádra se železa, niklu a síry po atmosféru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evná část, tekutá část a plynná čá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emě vnitřní struktura  - vrstvy lišící se hustotou a složení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lupky cibule“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rotace – uspořádání od nejhustšího po nejřidší, od jádra se železa, niklu a síry po atmosféru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evná část, tekutá část a plynná čá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Corbel"/>
              </a:rPr>
              <a:t>Homogenní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Litosféra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, tj. kamenný obal Země – zemský kůra a spodní část zemského pláště ( pod ním je již plastická astenosféra) ( - 100 km až 8,8 km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Hydrosféra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(-4 km až 0 km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Atmosféra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(0  až 40 tisíc km, řadu dílčích vrstev, t, s, m, i, t, e – z.k.) , pozn. hranice zemské korony je považována za hranici planety Země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Heterogenn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Pedo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bio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antroposféra, socio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Definice krajinné sfér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enká heterogenní geosféra kolem pevného povrchu Země, která je  geosystémem nejvyššího řád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Krajinná sféra a její hranic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je vymezena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Mohorovičičovou vrstvou diskontinuit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tropopauzou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e krajinné sféře nálež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část litosféry - zemská kůra: pevninská a oceánská, hydrosféra a kryosféra, pedosféra, biosféra, antroposféra a troposfér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Mocnost krajinné sfér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rajinná sféra – její „tloušťka“?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cca 30 km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emě - od zemského jádra po horní hranici atmosféry – více než 46 tisíc k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Corbel"/>
              </a:rPr>
              <a:t>Úkol:jakým dílem je vertikální mocnost krajinné sféry vůči celé Zemi?“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rajinná sféra  -  jediná známá sféra života ve vesmír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ovéPole 1"/>
          <p:cNvSpPr/>
          <p:nvPr/>
        </p:nvSpPr>
        <p:spPr>
          <a:xfrm>
            <a:off x="1128600" y="2133720"/>
            <a:ext cx="676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orbel"/>
              </a:rPr>
              <a:t>Statistické metody  v geografi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a 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nepřetržitý proces lidského poznávání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řírody, společnosti, člověka, lidského myšlení a kultury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1371600" y="33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systematické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racionální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a metodické vyvozování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zobecňování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219320" y="1341360"/>
            <a:ext cx="637704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cs-CZ" sz="3200" spc="-1" strike="noStrike">
                <a:solidFill>
                  <a:srgbClr val="ff3300"/>
                </a:solidFill>
                <a:latin typeface="Consolas"/>
              </a:rPr>
              <a:t>Věda: na základě </a:t>
            </a:r>
            <a:r>
              <a:rPr b="0" lang="cs-CZ" sz="3200" spc="-1" strike="noStrike" u="sng">
                <a:solidFill>
                  <a:srgbClr val="ff3300"/>
                </a:solidFill>
                <a:uFillTx/>
                <a:latin typeface="Consolas"/>
              </a:rPr>
              <a:t>abstraktního myšlení a teoretické činnosti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6858000" y="3886200"/>
            <a:ext cx="1574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nový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poznatk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6248520" y="3657600"/>
            <a:ext cx="533160" cy="1600200"/>
          </a:xfrm>
          <a:custGeom>
            <a:avLst/>
            <a:gdLst>
              <a:gd name="textAreaLeft" fmla="*/ 0 w 533160"/>
              <a:gd name="textAreaRight" fmla="*/ 192600 w 5331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1332000" y="1628640"/>
            <a:ext cx="6480000" cy="151308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ovéPole 6"/>
          <p:cNvSpPr/>
          <p:nvPr/>
        </p:nvSpPr>
        <p:spPr>
          <a:xfrm>
            <a:off x="2050920" y="47628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3300"/>
                </a:solidFill>
                <a:latin typeface="Corbel"/>
              </a:rPr>
              <a:t>Věda versus lidské poznáv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Věda nastoluje požadavek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600" spc="-1" strike="noStrike" u="sng">
                <a:solidFill>
                  <a:srgbClr val="ffffff"/>
                </a:solidFill>
                <a:uFillTx/>
                <a:latin typeface="Corbel"/>
              </a:rPr>
              <a:t>obecného poznání</a:t>
            </a: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, na základě něhož lze v nepřehledném světě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ffffff"/>
                </a:solidFill>
                <a:uFillTx/>
                <a:latin typeface="Corbel"/>
              </a:rPr>
              <a:t>oddělit podstatné od nepodstatného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a určit </a:t>
            </a:r>
            <a:r>
              <a:rPr b="0" lang="cs-CZ" sz="2600" spc="-1" strike="noStrike" u="sng">
                <a:solidFill>
                  <a:srgbClr val="ffffff"/>
                </a:solidFill>
                <a:uFillTx/>
                <a:latin typeface="Corbel"/>
              </a:rPr>
              <a:t>obecně platné zákony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tyto zákony dovolují  předvídat, předpovědi modelovat at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Základní metody věd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ecké pozorován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analýz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yntéz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induk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deduk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3300"/>
                </a:solidFill>
                <a:latin typeface="Corbel"/>
              </a:rPr>
              <a:t>Úkol – definice  jmenovaných meto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785520" y="928800"/>
            <a:ext cx="8358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d novověku 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věda založena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na představě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zákonitého (a matematizovatelného) chování skutečnosti,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terá se odhalu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hypotézou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,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věřu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experimentem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obecňu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v teorii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 v euroamerické civilizaci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 euroamerické společnosti je od 17.st. privilegována věda oproti jiným formám poznání (mimovědní poznání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07:54:08Z</dcterms:created>
  <dc:creator>Svatonova</dc:creator>
  <dc:description/>
  <dc:language>en-US</dc:language>
  <cp:lastModifiedBy>Svatonova</cp:lastModifiedBy>
  <dcterms:modified xsi:type="dcterms:W3CDTF">2011-09-27T08:29:16Z</dcterms:modified>
  <cp:revision>37</cp:revision>
  <dc:subject/>
  <dc:title>Pedagogická fakulta   </dc:title>
</cp:coreProperties>
</file>