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8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47.xml.rels" ContentType="application/vnd.openxmlformats-package.relationships+xml"/>
  <Override PartName="/ppt/notesSlides/notesSlide1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23.wmf" ContentType="image/x-wmf"/>
  <Override PartName="/ppt/media/image22.png" ContentType="image/png"/>
  <Override PartName="/ppt/media/image21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20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  <p:sldId id="412" r:id="rId161"/>
    <p:sldId id="413" r:id="rId162"/>
    <p:sldId id="414" r:id="rId163"/>
    <p:sldId id="415" r:id="rId164"/>
    <p:sldId id="416" r:id="rId165"/>
    <p:sldId id="417" r:id="rId166"/>
    <p:sldId id="418" r:id="rId1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slide" Target="slides/slide157.xml"/><Relationship Id="rId162" Type="http://schemas.openxmlformats.org/officeDocument/2006/relationships/slide" Target="slides/slide158.xml"/><Relationship Id="rId163" Type="http://schemas.openxmlformats.org/officeDocument/2006/relationships/slide" Target="slides/slide159.xml"/><Relationship Id="rId164" Type="http://schemas.openxmlformats.org/officeDocument/2006/relationships/slide" Target="slides/slide160.xml"/><Relationship Id="rId165" Type="http://schemas.openxmlformats.org/officeDocument/2006/relationships/slide" Target="slides/slide161.xml"/><Relationship Id="rId166" Type="http://schemas.openxmlformats.org/officeDocument/2006/relationships/slide" Target="slides/slide162.xml"/><Relationship Id="rId167" Type="http://schemas.openxmlformats.org/officeDocument/2006/relationships/slide" Target="slides/slide163.xml"/><Relationship Id="rId1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99BD-47C2-454E-AE20-236639B5743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0DEB-2B6C-4E8F-B771-EBF2CFFC5C0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. Z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išťování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/ Sběr údajů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shromáždění a zaznamenání údajů, jejich kontrola aj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eriodicita sběr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a) periodické (např. 1* ročně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b) běžné – krátké, pravidelné lhů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) jednorázov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01A7-FBDA-4429-ABC8-916120EB833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E76E-31B4-469A-ADE3-8E87993A194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Z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jišťo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et domácností ČR, počet pracovníků v odvětví X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pi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ov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struktur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ěková struktura obyvatel ČR,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roční chod hodnot meteorologických prvk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rno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dílčí ukazatel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 čase a prostor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růměrná nezaměstnanost v regionu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vná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agregovan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é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ukazatel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v čase nebo prostor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trend vývoje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očtu obyvatelstva, teploty vzduchu dvou lokalit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ěř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i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závislosti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 (závislost mezd na HDP, závislos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met. prvku na nadmořské výšc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9447-3D5E-48CA-840F-3CB4B99B16E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4934-9949-4806-B8B3-2BF859625F5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BF86-6C1B-4305-AE33-515CF003C2F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5AE8-9AB6-4782-83B7-9AFA7B6EDB8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98BD-860A-4C08-82EE-FF63FD72244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7C99-FF73-4089-ADB9-BBF46AA7028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9F65-30F9-4B56-B91F-C2B6D85F6CF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DE24-20AF-4B8C-899E-CE60DC27AA9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2EB4-A0E9-4A6D-912A-19CF7313D12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490B-B566-4CC7-BD26-FCF6947D4C2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30ED-DD7D-4975-9975-65E1876D1B6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7AF1-E2BA-4ED2-BEE9-1B7AFA1A7E6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FAD1-2DF5-4C71-9681-E4BDC25034B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326C-FA9A-4E59-8E03-84073E3A5A3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D96B-5C78-465A-9DEA-2DEFACB0AC2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FE4F-67A6-4276-A1AC-44B9FA3AF09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DA00-8E31-4996-A7B6-3C3BD62FC10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EC0B-2423-4BC9-AACE-79EB1D90EA4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řesnost a rychl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bré počítačové programy (software) nám dají velmi rychle správné výsledky. Dřívější ruční zpracování dat bylo často zatíženo aritmetickými chybami a bylo časově velmi náročné.</a:t>
            </a:r>
            <a:r>
              <a:rPr b="0" lang="cs-CZ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Univerzáln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zpřístupňují širokou škálu statistických metod a umožňují provést velmi rychle i rozsáhlé komplexní statistické analýz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Graf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umožňují snadné grafické zobrazení pozorovaných dat a výsledků statistického zpracov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Flexibil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elkou výhodou počítačů je, že umožňují rychle provést nové zpracování při změnách v datech či transformaci některých velič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Nové veličiny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nadno lze vytvářet nové veličiny pomocí požadovaných transformací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elikost datových souborů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umožňují zpracování velmi rozsáhlých souborů dat pomocí vhodného softwaru, což bylo ještě před deseti lety velmi obtížné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nadný přenos dat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akmile se jednou data dostala do počítače, lze je snadno přenést elektronicky (například pomocí Internetu) na jiné místo</a:t>
            </a: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D106-FE1C-43E3-8817-8F5CF1A65E3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e dobré používat programy, které mají dobrou pověst a jsou používány již dostatečně dlouho, takže byla postupně odstraněna většina jejich chyb. K takovým programům patří například BMDP, SAS, SPSS, STATISTICA, S PLUS, STATGRAPHICS a další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očítač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vzdaluje uživatele od dat i metody zpracov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. Statistická analýza se provádí automaticky, nová data se zpracovávají a výsledky se ukládají, aniž by byly posouzeny člověkem. Protože většinou výsledky zachycují jen průměrné efekty, může se zcela ztrácet citlivost k individuálním pozorování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estliže data jsou nasbírán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či naměřen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špatně (například jsou špatně kladené otázky v dotazníku), nelze očekávat, že závěry z takových dat budou správné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Sem náleží i nesprávné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zpracov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datov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ých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soubor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chybějící či ovlivněné (tzv. nehomogenní) úd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8406-1418-45B3-A8E6-C1D9DC5CDDB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rimární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ekundární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1FF9-D3D4-4B81-BE3E-8F4E8D09A79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DBC0-1019-4A1C-B2EF-74C556D3F54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acuje s čísly a vyjadřuje se pomocí čísel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zajímá se především o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vantitativní stránk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re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užívá výpočetní techniku k vytváření a správě statistických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databáz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,  k provádění hromadného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zpracován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analýz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dat a k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omunika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AC96-6636-4AB7-B8F9-946E24D6444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tistika popisn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pisuje   jev statistickými charakteristik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akto zpřehledňuje velké množství dat – shrnují je do kategorií (průměr, nejčetnější hodnota, grafické znázornění d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užívá numerické  a grafické met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tematická statist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suzování na závěry o sledovaném jevu z malého vzorku ( zkoumání veřejného mínění, namátkový test), tj. z chování části usuzujeme na chování celku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zobec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ňuj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výsledky (odhad a testování hypotéz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už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vá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čtu pravděpodob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DD12-2CB9-45BF-A6C1-3179A7A3D5E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52AC-1AFF-4ABB-B717-CC3B964317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6A6E-F031-4CD4-A9A5-1CD8FAA0E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8B58-62AC-4F84-A2D1-DE0D12FF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C0E1-5D4E-45C4-BF2F-C91798707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2091-2282-45D3-9488-96CC291D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A880-6374-486A-B808-4D715BE6E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AB11-BFC9-459E-BC66-2BDB0927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59F2-E99C-4010-BB9E-FF47E1A0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3432-01AC-433B-8F45-057FB9E7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A7D4-D80B-4F8B-B303-81FCFACB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095F-EEBE-4A21-A0D2-052C2E75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CE86-7C5B-4774-BE70-3E383217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E4B4-038C-413E-9C35-7D1DDFB2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B51E-171B-4D5B-8AA2-C82BD15B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BC9F-549B-49AB-BEEA-A5B7AF9F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AB65-4C18-4AFD-9B6A-2F4073E6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ABDF-A344-45E1-9EAF-1660FE5EF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9E6F-9668-4DF5-8E77-A6D9A5ECB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E1E0-1E00-4F81-9ED1-28290558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1CEA-3E9B-4836-AAD4-8B657E7B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4909-8C6F-4AD5-BA0A-A83EC038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8C29-4185-4EFF-877E-4EC6E9F0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7DF1-9CA8-4788-A791-4653F962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667E-00DB-4DB7-A9A2-CD9B6320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899C-9CF2-49E0-A451-F90B1B48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0709-58FA-4748-8130-7A912A4BC8BB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452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4508-B01B-403D-BD1E-E6096F3E2C9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ATISTICKÉ METODY 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V GEOGRAF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Základní etapy statistického zpracování da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539640" y="2708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 Z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jišťování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/ Sběr údajů………………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ovéPole 3"/>
          <p:cNvSpPr/>
          <p:nvPr/>
        </p:nvSpPr>
        <p:spPr>
          <a:xfrm>
            <a:off x="572400" y="1628640"/>
            <a:ext cx="727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Zjišťování – zpracování – analýza - prezent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324000" y="3141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. Z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acován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– ……………………………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3. A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lýz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………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4. P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rezent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výsledků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sychologickými testy bylo zjištěno, že hodnota IQ  populace je náhodnou veličinou s normálním rozdělením, jehož střední hodnota je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104 a směrodatná odchylka 8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rčete hodnotu IQ, kterou podle uvedených pravděpodobnostních předpokladů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   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meze, ve kterých bude  50%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populac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04920" y="30492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rmované normáln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rozdělení zavedeme označe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 (0, 1)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369360" y="1752480"/>
            <a:ext cx="73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stota pravděpodobnosti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ormovaného normálního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zdělení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Group 6"/>
          <p:cNvGrpSpPr/>
          <p:nvPr/>
        </p:nvGrpSpPr>
        <p:grpSpPr>
          <a:xfrm>
            <a:off x="380880" y="2238480"/>
            <a:ext cx="6095520" cy="2942640"/>
            <a:chOff x="380880" y="2238480"/>
            <a:chExt cx="6095520" cy="2942640"/>
          </a:xfrm>
        </p:grpSpPr>
        <p:grpSp>
          <p:nvGrpSpPr>
            <p:cNvPr id="337" name="Group 7"/>
            <p:cNvGrpSpPr/>
            <p:nvPr/>
          </p:nvGrpSpPr>
          <p:grpSpPr>
            <a:xfrm>
              <a:off x="1115280" y="2348640"/>
              <a:ext cx="5361120" cy="2832480"/>
              <a:chOff x="1115280" y="2348640"/>
              <a:chExt cx="5361120" cy="2832480"/>
            </a:xfrm>
          </p:grpSpPr>
          <p:graphicFrame>
            <p:nvGraphicFramePr>
              <p:cNvPr id="338" name="Object 8"/>
              <p:cNvGraphicFramePr/>
              <p:nvPr/>
            </p:nvGraphicFramePr>
            <p:xfrm>
              <a:off x="1115280" y="2348640"/>
              <a:ext cx="5215680" cy="22827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39" name="Object 8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115280" y="2348640"/>
                        <a:ext cx="5215680" cy="228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40" name="Text Box 9"/>
              <p:cNvSpPr/>
              <p:nvPr/>
            </p:nvSpPr>
            <p:spPr>
              <a:xfrm>
                <a:off x="5634720" y="4575240"/>
                <a:ext cx="841680" cy="60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Text Box 10"/>
            <p:cNvSpPr/>
            <p:nvPr/>
          </p:nvSpPr>
          <p:spPr>
            <a:xfrm>
              <a:off x="380880" y="2238480"/>
              <a:ext cx="725760" cy="490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cs-CZ" sz="1800" spc="-1" strike="noStrike">
                  <a:solidFill>
                    <a:srgbClr val="eeece1"/>
                  </a:solidFill>
                  <a:latin typeface="Symbol"/>
                  <a:ea typeface="Symbol"/>
                </a:rPr>
                <a:t></a:t>
              </a:r>
              <a:r>
                <a:rPr b="0" i="1" lang="cs-CZ" sz="1800" spc="-1" strike="noStrike">
                  <a:solidFill>
                    <a:srgbClr val="eeece1"/>
                  </a:solidFill>
                  <a:latin typeface="Times New Roman"/>
                </a:rPr>
                <a:t>u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φ</a:t>
              </a: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Line 11"/>
          <p:cNvSpPr/>
          <p:nvPr/>
        </p:nvSpPr>
        <p:spPr>
          <a:xfrm flipV="1">
            <a:off x="3882960" y="2660400"/>
            <a:ext cx="0" cy="1687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2"/>
          <p:cNvSpPr/>
          <p:nvPr/>
        </p:nvSpPr>
        <p:spPr>
          <a:xfrm flipV="1">
            <a:off x="3425760" y="3352680"/>
            <a:ext cx="0" cy="98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3"/>
          <p:cNvSpPr/>
          <p:nvPr/>
        </p:nvSpPr>
        <p:spPr>
          <a:xfrm flipV="1">
            <a:off x="4329000" y="3331800"/>
            <a:ext cx="0" cy="1004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4"/>
          <p:cNvSpPr/>
          <p:nvPr/>
        </p:nvSpPr>
        <p:spPr>
          <a:xfrm>
            <a:off x="304920" y="4648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bulkové vyjádření vybraných hodnot hustoty pravděpodobnosti</a:t>
            </a:r>
            <a:r>
              <a:rPr b="0" lang="cs-CZ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Group 72"/>
          <p:cNvGrpSpPr/>
          <p:nvPr/>
        </p:nvGrpSpPr>
        <p:grpSpPr>
          <a:xfrm>
            <a:off x="152280" y="5105520"/>
            <a:ext cx="5638680" cy="533160"/>
            <a:chOff x="152280" y="5105520"/>
            <a:chExt cx="5638680" cy="533160"/>
          </a:xfrm>
        </p:grpSpPr>
        <p:grpSp>
          <p:nvGrpSpPr>
            <p:cNvPr id="347" name="Group 70"/>
            <p:cNvGrpSpPr/>
            <p:nvPr/>
          </p:nvGrpSpPr>
          <p:grpSpPr>
            <a:xfrm>
              <a:off x="156960" y="5107320"/>
              <a:ext cx="5628600" cy="529200"/>
              <a:chOff x="156960" y="5107320"/>
              <a:chExt cx="5628600" cy="529200"/>
            </a:xfrm>
          </p:grpSpPr>
          <p:grpSp>
            <p:nvGrpSpPr>
              <p:cNvPr id="348" name="Group 35"/>
              <p:cNvGrpSpPr/>
              <p:nvPr/>
            </p:nvGrpSpPr>
            <p:grpSpPr>
              <a:xfrm>
                <a:off x="156960" y="5107320"/>
                <a:ext cx="546480" cy="264600"/>
                <a:chOff x="156960" y="5107320"/>
                <a:chExt cx="546480" cy="264600"/>
              </a:xfrm>
            </p:grpSpPr>
            <p:sp>
              <p:nvSpPr>
                <p:cNvPr id="349" name="Rectangle 16"/>
                <p:cNvSpPr/>
                <p:nvPr/>
              </p:nvSpPr>
              <p:spPr>
                <a:xfrm>
                  <a:off x="202320" y="5107320"/>
                  <a:ext cx="4550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Rectangle 34"/>
                <p:cNvSpPr/>
                <p:nvPr/>
              </p:nvSpPr>
              <p:spPr>
                <a:xfrm>
                  <a:off x="156960" y="5107320"/>
                  <a:ext cx="5464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Group 37"/>
              <p:cNvGrpSpPr/>
              <p:nvPr/>
            </p:nvGrpSpPr>
            <p:grpSpPr>
              <a:xfrm>
                <a:off x="703800" y="5107320"/>
                <a:ext cx="634680" cy="264600"/>
                <a:chOff x="703800" y="5107320"/>
                <a:chExt cx="634680" cy="264600"/>
              </a:xfrm>
            </p:grpSpPr>
            <p:sp>
              <p:nvSpPr>
                <p:cNvPr id="352" name="Rectangle 17"/>
                <p:cNvSpPr/>
                <p:nvPr/>
              </p:nvSpPr>
              <p:spPr>
                <a:xfrm>
                  <a:off x="74916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Rectangle 36"/>
                <p:cNvSpPr/>
                <p:nvPr/>
              </p:nvSpPr>
              <p:spPr>
                <a:xfrm>
                  <a:off x="70380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Group 39"/>
              <p:cNvGrpSpPr/>
              <p:nvPr/>
            </p:nvGrpSpPr>
            <p:grpSpPr>
              <a:xfrm>
                <a:off x="1338840" y="5107320"/>
                <a:ext cx="634680" cy="264600"/>
                <a:chOff x="1338840" y="5107320"/>
                <a:chExt cx="634680" cy="264600"/>
              </a:xfrm>
            </p:grpSpPr>
            <p:sp>
              <p:nvSpPr>
                <p:cNvPr id="355" name="Rectangle 18"/>
                <p:cNvSpPr/>
                <p:nvPr/>
              </p:nvSpPr>
              <p:spPr>
                <a:xfrm>
                  <a:off x="13842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Rectangle 38"/>
                <p:cNvSpPr/>
                <p:nvPr/>
              </p:nvSpPr>
              <p:spPr>
                <a:xfrm>
                  <a:off x="13388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Group 41"/>
              <p:cNvGrpSpPr/>
              <p:nvPr/>
            </p:nvGrpSpPr>
            <p:grpSpPr>
              <a:xfrm>
                <a:off x="1974240" y="5107320"/>
                <a:ext cx="634680" cy="264600"/>
                <a:chOff x="1974240" y="5107320"/>
                <a:chExt cx="634680" cy="264600"/>
              </a:xfrm>
            </p:grpSpPr>
            <p:sp>
              <p:nvSpPr>
                <p:cNvPr id="358" name="Rectangle 19"/>
                <p:cNvSpPr/>
                <p:nvPr/>
              </p:nvSpPr>
              <p:spPr>
                <a:xfrm>
                  <a:off x="20196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Rectangle 40"/>
                <p:cNvSpPr/>
                <p:nvPr/>
              </p:nvSpPr>
              <p:spPr>
                <a:xfrm>
                  <a:off x="19742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Group 43"/>
              <p:cNvGrpSpPr/>
              <p:nvPr/>
            </p:nvGrpSpPr>
            <p:grpSpPr>
              <a:xfrm>
                <a:off x="2609640" y="5107320"/>
                <a:ext cx="634680" cy="264600"/>
                <a:chOff x="2609640" y="5107320"/>
                <a:chExt cx="634680" cy="264600"/>
              </a:xfrm>
            </p:grpSpPr>
            <p:sp>
              <p:nvSpPr>
                <p:cNvPr id="361" name="Rectangle 20"/>
                <p:cNvSpPr/>
                <p:nvPr/>
              </p:nvSpPr>
              <p:spPr>
                <a:xfrm>
                  <a:off x="26550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Rectangle 42"/>
                <p:cNvSpPr/>
                <p:nvPr/>
              </p:nvSpPr>
              <p:spPr>
                <a:xfrm>
                  <a:off x="26096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Group 45"/>
              <p:cNvGrpSpPr/>
              <p:nvPr/>
            </p:nvGrpSpPr>
            <p:grpSpPr>
              <a:xfrm>
                <a:off x="3245040" y="5107320"/>
                <a:ext cx="634680" cy="264600"/>
                <a:chOff x="3245040" y="5107320"/>
                <a:chExt cx="634680" cy="264600"/>
              </a:xfrm>
            </p:grpSpPr>
            <p:sp>
              <p:nvSpPr>
                <p:cNvPr id="364" name="Rectangle 21"/>
                <p:cNvSpPr/>
                <p:nvPr/>
              </p:nvSpPr>
              <p:spPr>
                <a:xfrm>
                  <a:off x="32904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Rectangle 44"/>
                <p:cNvSpPr/>
                <p:nvPr/>
              </p:nvSpPr>
              <p:spPr>
                <a:xfrm>
                  <a:off x="32450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Group 47"/>
              <p:cNvGrpSpPr/>
              <p:nvPr/>
            </p:nvGrpSpPr>
            <p:grpSpPr>
              <a:xfrm>
                <a:off x="3880080" y="5107320"/>
                <a:ext cx="634680" cy="264600"/>
                <a:chOff x="3880080" y="5107320"/>
                <a:chExt cx="634680" cy="264600"/>
              </a:xfrm>
            </p:grpSpPr>
            <p:sp>
              <p:nvSpPr>
                <p:cNvPr id="367" name="Rectangle 22"/>
                <p:cNvSpPr/>
                <p:nvPr/>
              </p:nvSpPr>
              <p:spPr>
                <a:xfrm>
                  <a:off x="39254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Rectangle 46"/>
                <p:cNvSpPr/>
                <p:nvPr/>
              </p:nvSpPr>
              <p:spPr>
                <a:xfrm>
                  <a:off x="38800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Group 49"/>
              <p:cNvGrpSpPr/>
              <p:nvPr/>
            </p:nvGrpSpPr>
            <p:grpSpPr>
              <a:xfrm>
                <a:off x="4515480" y="5107320"/>
                <a:ext cx="634680" cy="264600"/>
                <a:chOff x="4515480" y="5107320"/>
                <a:chExt cx="634680" cy="264600"/>
              </a:xfrm>
            </p:grpSpPr>
            <p:sp>
              <p:nvSpPr>
                <p:cNvPr id="370" name="Rectangle 23"/>
                <p:cNvSpPr/>
                <p:nvPr/>
              </p:nvSpPr>
              <p:spPr>
                <a:xfrm>
                  <a:off x="45608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Rectangle 48"/>
                <p:cNvSpPr/>
                <p:nvPr/>
              </p:nvSpPr>
              <p:spPr>
                <a:xfrm>
                  <a:off x="45154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Group 51"/>
              <p:cNvGrpSpPr/>
              <p:nvPr/>
            </p:nvGrpSpPr>
            <p:grpSpPr>
              <a:xfrm>
                <a:off x="5150880" y="5107320"/>
                <a:ext cx="634680" cy="264600"/>
                <a:chOff x="5150880" y="5107320"/>
                <a:chExt cx="634680" cy="264600"/>
              </a:xfrm>
            </p:grpSpPr>
            <p:sp>
              <p:nvSpPr>
                <p:cNvPr id="373" name="Rectangle 24"/>
                <p:cNvSpPr/>
                <p:nvPr/>
              </p:nvSpPr>
              <p:spPr>
                <a:xfrm>
                  <a:off x="51962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Rectangle 50"/>
                <p:cNvSpPr/>
                <p:nvPr/>
              </p:nvSpPr>
              <p:spPr>
                <a:xfrm>
                  <a:off x="51508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Group 53"/>
              <p:cNvGrpSpPr/>
              <p:nvPr/>
            </p:nvGrpSpPr>
            <p:grpSpPr>
              <a:xfrm>
                <a:off x="156960" y="5371920"/>
                <a:ext cx="546480" cy="264600"/>
                <a:chOff x="156960" y="5371920"/>
                <a:chExt cx="546480" cy="264600"/>
              </a:xfrm>
            </p:grpSpPr>
            <p:sp>
              <p:nvSpPr>
                <p:cNvPr id="376" name="Rectangle 25"/>
                <p:cNvSpPr/>
                <p:nvPr/>
              </p:nvSpPr>
              <p:spPr>
                <a:xfrm>
                  <a:off x="202320" y="5371920"/>
                  <a:ext cx="4550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</a:t>
                  </a: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Rectangle 52"/>
                <p:cNvSpPr/>
                <p:nvPr/>
              </p:nvSpPr>
              <p:spPr>
                <a:xfrm>
                  <a:off x="156960" y="5371920"/>
                  <a:ext cx="5464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Group 55"/>
              <p:cNvGrpSpPr/>
              <p:nvPr/>
            </p:nvGrpSpPr>
            <p:grpSpPr>
              <a:xfrm>
                <a:off x="703800" y="5371920"/>
                <a:ext cx="634680" cy="264600"/>
                <a:chOff x="703800" y="5371920"/>
                <a:chExt cx="634680" cy="264600"/>
              </a:xfrm>
            </p:grpSpPr>
            <p:sp>
              <p:nvSpPr>
                <p:cNvPr id="379" name="Rectangle 26"/>
                <p:cNvSpPr/>
                <p:nvPr/>
              </p:nvSpPr>
              <p:spPr>
                <a:xfrm>
                  <a:off x="74916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39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Rectangle 54"/>
                <p:cNvSpPr/>
                <p:nvPr/>
              </p:nvSpPr>
              <p:spPr>
                <a:xfrm>
                  <a:off x="70380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Group 57"/>
              <p:cNvGrpSpPr/>
              <p:nvPr/>
            </p:nvGrpSpPr>
            <p:grpSpPr>
              <a:xfrm>
                <a:off x="1338840" y="5371920"/>
                <a:ext cx="634680" cy="264600"/>
                <a:chOff x="1338840" y="5371920"/>
                <a:chExt cx="634680" cy="264600"/>
              </a:xfrm>
            </p:grpSpPr>
            <p:sp>
              <p:nvSpPr>
                <p:cNvPr id="382" name="Rectangle 27"/>
                <p:cNvSpPr/>
                <p:nvPr/>
              </p:nvSpPr>
              <p:spPr>
                <a:xfrm>
                  <a:off x="13842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35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Rectangle 56"/>
                <p:cNvSpPr/>
                <p:nvPr/>
              </p:nvSpPr>
              <p:spPr>
                <a:xfrm>
                  <a:off x="13388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Group 59"/>
              <p:cNvGrpSpPr/>
              <p:nvPr/>
            </p:nvGrpSpPr>
            <p:grpSpPr>
              <a:xfrm>
                <a:off x="1974240" y="5371920"/>
                <a:ext cx="634680" cy="264600"/>
                <a:chOff x="1974240" y="5371920"/>
                <a:chExt cx="634680" cy="264600"/>
              </a:xfrm>
            </p:grpSpPr>
            <p:sp>
              <p:nvSpPr>
                <p:cNvPr id="385" name="Rectangle 28"/>
                <p:cNvSpPr/>
                <p:nvPr/>
              </p:nvSpPr>
              <p:spPr>
                <a:xfrm>
                  <a:off x="20196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24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Rectangle 58"/>
                <p:cNvSpPr/>
                <p:nvPr/>
              </p:nvSpPr>
              <p:spPr>
                <a:xfrm>
                  <a:off x="19742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Group 61"/>
              <p:cNvGrpSpPr/>
              <p:nvPr/>
            </p:nvGrpSpPr>
            <p:grpSpPr>
              <a:xfrm>
                <a:off x="2609640" y="5371920"/>
                <a:ext cx="634680" cy="264600"/>
                <a:chOff x="2609640" y="5371920"/>
                <a:chExt cx="634680" cy="264600"/>
              </a:xfrm>
            </p:grpSpPr>
            <p:sp>
              <p:nvSpPr>
                <p:cNvPr id="388" name="Rectangle 29"/>
                <p:cNvSpPr/>
                <p:nvPr/>
              </p:nvSpPr>
              <p:spPr>
                <a:xfrm>
                  <a:off x="26550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3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Rectangle 60"/>
                <p:cNvSpPr/>
                <p:nvPr/>
              </p:nvSpPr>
              <p:spPr>
                <a:xfrm>
                  <a:off x="26096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Group 63"/>
              <p:cNvGrpSpPr/>
              <p:nvPr/>
            </p:nvGrpSpPr>
            <p:grpSpPr>
              <a:xfrm>
                <a:off x="3245040" y="5371920"/>
                <a:ext cx="634680" cy="264600"/>
                <a:chOff x="3245040" y="5371920"/>
                <a:chExt cx="634680" cy="264600"/>
              </a:xfrm>
            </p:grpSpPr>
            <p:sp>
              <p:nvSpPr>
                <p:cNvPr id="391" name="Rectangle 30"/>
                <p:cNvSpPr/>
                <p:nvPr/>
              </p:nvSpPr>
              <p:spPr>
                <a:xfrm>
                  <a:off x="32904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5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Rectangle 62"/>
                <p:cNvSpPr/>
                <p:nvPr/>
              </p:nvSpPr>
              <p:spPr>
                <a:xfrm>
                  <a:off x="32450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Group 65"/>
              <p:cNvGrpSpPr/>
              <p:nvPr/>
            </p:nvGrpSpPr>
            <p:grpSpPr>
              <a:xfrm>
                <a:off x="3880080" y="5371920"/>
                <a:ext cx="634680" cy="264600"/>
                <a:chOff x="3880080" y="5371920"/>
                <a:chExt cx="634680" cy="264600"/>
              </a:xfrm>
            </p:grpSpPr>
            <p:sp>
              <p:nvSpPr>
                <p:cNvPr id="394" name="Rectangle 31"/>
                <p:cNvSpPr/>
                <p:nvPr/>
              </p:nvSpPr>
              <p:spPr>
                <a:xfrm>
                  <a:off x="39254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Rectangle 64"/>
                <p:cNvSpPr/>
                <p:nvPr/>
              </p:nvSpPr>
              <p:spPr>
                <a:xfrm>
                  <a:off x="38800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Group 67"/>
              <p:cNvGrpSpPr/>
              <p:nvPr/>
            </p:nvGrpSpPr>
            <p:grpSpPr>
              <a:xfrm>
                <a:off x="4515480" y="5371920"/>
                <a:ext cx="634680" cy="264600"/>
                <a:chOff x="4515480" y="5371920"/>
                <a:chExt cx="634680" cy="264600"/>
              </a:xfrm>
            </p:grpSpPr>
            <p:sp>
              <p:nvSpPr>
                <p:cNvPr id="397" name="Rectangle 32"/>
                <p:cNvSpPr/>
                <p:nvPr/>
              </p:nvSpPr>
              <p:spPr>
                <a:xfrm>
                  <a:off x="45608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0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Rectangle 66"/>
                <p:cNvSpPr/>
                <p:nvPr/>
              </p:nvSpPr>
              <p:spPr>
                <a:xfrm>
                  <a:off x="45154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Group 69"/>
              <p:cNvGrpSpPr/>
              <p:nvPr/>
            </p:nvGrpSpPr>
            <p:grpSpPr>
              <a:xfrm>
                <a:off x="5150880" y="5371920"/>
                <a:ext cx="634680" cy="264600"/>
                <a:chOff x="5150880" y="5371920"/>
                <a:chExt cx="634680" cy="264600"/>
              </a:xfrm>
            </p:grpSpPr>
            <p:sp>
              <p:nvSpPr>
                <p:cNvPr id="400" name="Rectangle 33"/>
                <p:cNvSpPr/>
                <p:nvPr/>
              </p:nvSpPr>
              <p:spPr>
                <a:xfrm>
                  <a:off x="51962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0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Rectangle 68"/>
                <p:cNvSpPr/>
                <p:nvPr/>
              </p:nvSpPr>
              <p:spPr>
                <a:xfrm>
                  <a:off x="51508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2" name="Rectangle 71"/>
            <p:cNvSpPr/>
            <p:nvPr/>
          </p:nvSpPr>
          <p:spPr>
            <a:xfrm>
              <a:off x="152280" y="5105520"/>
              <a:ext cx="5638680" cy="533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Text Box 73"/>
          <p:cNvSpPr/>
          <p:nvPr/>
        </p:nvSpPr>
        <p:spPr>
          <a:xfrm>
            <a:off x="59454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eece1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74"/>
          <p:cNvSpPr/>
          <p:nvPr/>
        </p:nvSpPr>
        <p:spPr>
          <a:xfrm>
            <a:off x="228600" y="5791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bulkové vyjádření vybraných hodnot distribuční funkce</a:t>
            </a:r>
            <a:r>
              <a:rPr b="0" lang="cs-CZ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Group 131"/>
          <p:cNvGrpSpPr/>
          <p:nvPr/>
        </p:nvGrpSpPr>
        <p:grpSpPr>
          <a:xfrm>
            <a:off x="2362320" y="6095880"/>
            <a:ext cx="5714640" cy="609840"/>
            <a:chOff x="2362320" y="6095880"/>
            <a:chExt cx="5714640" cy="609840"/>
          </a:xfrm>
        </p:grpSpPr>
        <p:grpSp>
          <p:nvGrpSpPr>
            <p:cNvPr id="406" name="Group 129"/>
            <p:cNvGrpSpPr/>
            <p:nvPr/>
          </p:nvGrpSpPr>
          <p:grpSpPr>
            <a:xfrm>
              <a:off x="2367000" y="6098040"/>
              <a:ext cx="5704200" cy="605520"/>
              <a:chOff x="2367000" y="6098040"/>
              <a:chExt cx="5704200" cy="605520"/>
            </a:xfrm>
          </p:grpSpPr>
          <p:grpSp>
            <p:nvGrpSpPr>
              <p:cNvPr id="407" name="Group 94"/>
              <p:cNvGrpSpPr/>
              <p:nvPr/>
            </p:nvGrpSpPr>
            <p:grpSpPr>
              <a:xfrm>
                <a:off x="2367000" y="6098040"/>
                <a:ext cx="587880" cy="302760"/>
                <a:chOff x="2367000" y="6098040"/>
                <a:chExt cx="587880" cy="302760"/>
              </a:xfrm>
            </p:grpSpPr>
            <p:sp>
              <p:nvSpPr>
                <p:cNvPr id="408" name="Rectangle 75"/>
                <p:cNvSpPr/>
                <p:nvPr/>
              </p:nvSpPr>
              <p:spPr>
                <a:xfrm>
                  <a:off x="2412720" y="6098040"/>
                  <a:ext cx="4960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Rectangle 93"/>
                <p:cNvSpPr/>
                <p:nvPr/>
              </p:nvSpPr>
              <p:spPr>
                <a:xfrm>
                  <a:off x="2367000" y="6098040"/>
                  <a:ext cx="5878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Group 96"/>
              <p:cNvGrpSpPr/>
              <p:nvPr/>
            </p:nvGrpSpPr>
            <p:grpSpPr>
              <a:xfrm>
                <a:off x="2955240" y="6098040"/>
                <a:ext cx="639000" cy="302760"/>
                <a:chOff x="2955240" y="6098040"/>
                <a:chExt cx="639000" cy="302760"/>
              </a:xfrm>
            </p:grpSpPr>
            <p:sp>
              <p:nvSpPr>
                <p:cNvPr id="411" name="Rectangle 76"/>
                <p:cNvSpPr/>
                <p:nvPr/>
              </p:nvSpPr>
              <p:spPr>
                <a:xfrm>
                  <a:off x="300132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Rectangle 95"/>
                <p:cNvSpPr/>
                <p:nvPr/>
              </p:nvSpPr>
              <p:spPr>
                <a:xfrm>
                  <a:off x="295524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Group 98"/>
              <p:cNvGrpSpPr/>
              <p:nvPr/>
            </p:nvGrpSpPr>
            <p:grpSpPr>
              <a:xfrm>
                <a:off x="3594600" y="6098040"/>
                <a:ext cx="639000" cy="302760"/>
                <a:chOff x="3594600" y="6098040"/>
                <a:chExt cx="639000" cy="302760"/>
              </a:xfrm>
            </p:grpSpPr>
            <p:sp>
              <p:nvSpPr>
                <p:cNvPr id="414" name="Rectangle 77"/>
                <p:cNvSpPr/>
                <p:nvPr/>
              </p:nvSpPr>
              <p:spPr>
                <a:xfrm>
                  <a:off x="36406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Rectangle 97"/>
                <p:cNvSpPr/>
                <p:nvPr/>
              </p:nvSpPr>
              <p:spPr>
                <a:xfrm>
                  <a:off x="35946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Group 100"/>
              <p:cNvGrpSpPr/>
              <p:nvPr/>
            </p:nvGrpSpPr>
            <p:grpSpPr>
              <a:xfrm>
                <a:off x="4234320" y="6098040"/>
                <a:ext cx="639000" cy="302760"/>
                <a:chOff x="4234320" y="6098040"/>
                <a:chExt cx="639000" cy="302760"/>
              </a:xfrm>
            </p:grpSpPr>
            <p:sp>
              <p:nvSpPr>
                <p:cNvPr id="417" name="Rectangle 78"/>
                <p:cNvSpPr/>
                <p:nvPr/>
              </p:nvSpPr>
              <p:spPr>
                <a:xfrm>
                  <a:off x="428040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Rectangle 99"/>
                <p:cNvSpPr/>
                <p:nvPr/>
              </p:nvSpPr>
              <p:spPr>
                <a:xfrm>
                  <a:off x="423432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Group 102"/>
              <p:cNvGrpSpPr/>
              <p:nvPr/>
            </p:nvGrpSpPr>
            <p:grpSpPr>
              <a:xfrm>
                <a:off x="4874040" y="6098040"/>
                <a:ext cx="639000" cy="302760"/>
                <a:chOff x="4874040" y="6098040"/>
                <a:chExt cx="639000" cy="302760"/>
              </a:xfrm>
            </p:grpSpPr>
            <p:sp>
              <p:nvSpPr>
                <p:cNvPr id="420" name="Rectangle 79"/>
                <p:cNvSpPr/>
                <p:nvPr/>
              </p:nvSpPr>
              <p:spPr>
                <a:xfrm>
                  <a:off x="492012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Rectangle 101"/>
                <p:cNvSpPr/>
                <p:nvPr/>
              </p:nvSpPr>
              <p:spPr>
                <a:xfrm>
                  <a:off x="487404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Group 104"/>
              <p:cNvGrpSpPr/>
              <p:nvPr/>
            </p:nvGrpSpPr>
            <p:grpSpPr>
              <a:xfrm>
                <a:off x="5513400" y="6098040"/>
                <a:ext cx="639000" cy="302760"/>
                <a:chOff x="5513400" y="6098040"/>
                <a:chExt cx="639000" cy="302760"/>
              </a:xfrm>
            </p:grpSpPr>
            <p:sp>
              <p:nvSpPr>
                <p:cNvPr id="423" name="Rectangle 80"/>
                <p:cNvSpPr/>
                <p:nvPr/>
              </p:nvSpPr>
              <p:spPr>
                <a:xfrm>
                  <a:off x="55594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Rectangle 103"/>
                <p:cNvSpPr/>
                <p:nvPr/>
              </p:nvSpPr>
              <p:spPr>
                <a:xfrm>
                  <a:off x="55134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Group 106"/>
              <p:cNvGrpSpPr/>
              <p:nvPr/>
            </p:nvGrpSpPr>
            <p:grpSpPr>
              <a:xfrm>
                <a:off x="6153120" y="6098040"/>
                <a:ext cx="639000" cy="302760"/>
                <a:chOff x="6153120" y="6098040"/>
                <a:chExt cx="639000" cy="302760"/>
              </a:xfrm>
            </p:grpSpPr>
            <p:sp>
              <p:nvSpPr>
                <p:cNvPr id="426" name="Rectangle 81"/>
                <p:cNvSpPr/>
                <p:nvPr/>
              </p:nvSpPr>
              <p:spPr>
                <a:xfrm>
                  <a:off x="619920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Rectangle 105"/>
                <p:cNvSpPr/>
                <p:nvPr/>
              </p:nvSpPr>
              <p:spPr>
                <a:xfrm>
                  <a:off x="615312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Group 108"/>
              <p:cNvGrpSpPr/>
              <p:nvPr/>
            </p:nvGrpSpPr>
            <p:grpSpPr>
              <a:xfrm>
                <a:off x="6792480" y="6098040"/>
                <a:ext cx="639000" cy="302760"/>
                <a:chOff x="6792480" y="6098040"/>
                <a:chExt cx="639000" cy="302760"/>
              </a:xfrm>
            </p:grpSpPr>
            <p:sp>
              <p:nvSpPr>
                <p:cNvPr id="429" name="Rectangle 82"/>
                <p:cNvSpPr/>
                <p:nvPr/>
              </p:nvSpPr>
              <p:spPr>
                <a:xfrm>
                  <a:off x="683856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Rectangle 107"/>
                <p:cNvSpPr/>
                <p:nvPr/>
              </p:nvSpPr>
              <p:spPr>
                <a:xfrm>
                  <a:off x="679248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Group 110"/>
              <p:cNvGrpSpPr/>
              <p:nvPr/>
            </p:nvGrpSpPr>
            <p:grpSpPr>
              <a:xfrm>
                <a:off x="7432200" y="6098040"/>
                <a:ext cx="639000" cy="302760"/>
                <a:chOff x="7432200" y="6098040"/>
                <a:chExt cx="639000" cy="302760"/>
              </a:xfrm>
            </p:grpSpPr>
            <p:sp>
              <p:nvSpPr>
                <p:cNvPr id="432" name="Rectangle 83"/>
                <p:cNvSpPr/>
                <p:nvPr/>
              </p:nvSpPr>
              <p:spPr>
                <a:xfrm>
                  <a:off x="74782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Rectangle 109"/>
                <p:cNvSpPr/>
                <p:nvPr/>
              </p:nvSpPr>
              <p:spPr>
                <a:xfrm>
                  <a:off x="74322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Group 112"/>
              <p:cNvGrpSpPr/>
              <p:nvPr/>
            </p:nvGrpSpPr>
            <p:grpSpPr>
              <a:xfrm>
                <a:off x="2367000" y="6400800"/>
                <a:ext cx="587880" cy="302760"/>
                <a:chOff x="2367000" y="6400800"/>
                <a:chExt cx="587880" cy="302760"/>
              </a:xfrm>
            </p:grpSpPr>
            <p:sp>
              <p:nvSpPr>
                <p:cNvPr id="435" name="Rectangle 84"/>
                <p:cNvSpPr/>
                <p:nvPr/>
              </p:nvSpPr>
              <p:spPr>
                <a:xfrm>
                  <a:off x="2412720" y="6400800"/>
                  <a:ext cx="4960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</a:t>
                  </a: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Rectangle 111"/>
                <p:cNvSpPr/>
                <p:nvPr/>
              </p:nvSpPr>
              <p:spPr>
                <a:xfrm>
                  <a:off x="2367000" y="6400800"/>
                  <a:ext cx="5878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Group 114"/>
              <p:cNvGrpSpPr/>
              <p:nvPr/>
            </p:nvGrpSpPr>
            <p:grpSpPr>
              <a:xfrm>
                <a:off x="2955240" y="6400800"/>
                <a:ext cx="639000" cy="302760"/>
                <a:chOff x="2955240" y="6400800"/>
                <a:chExt cx="639000" cy="302760"/>
              </a:xfrm>
            </p:grpSpPr>
            <p:sp>
              <p:nvSpPr>
                <p:cNvPr id="438" name="Rectangle 85"/>
                <p:cNvSpPr/>
                <p:nvPr/>
              </p:nvSpPr>
              <p:spPr>
                <a:xfrm>
                  <a:off x="300132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5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Rectangle 113"/>
                <p:cNvSpPr/>
                <p:nvPr/>
              </p:nvSpPr>
              <p:spPr>
                <a:xfrm>
                  <a:off x="295524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Group 116"/>
              <p:cNvGrpSpPr/>
              <p:nvPr/>
            </p:nvGrpSpPr>
            <p:grpSpPr>
              <a:xfrm>
                <a:off x="3594600" y="6400800"/>
                <a:ext cx="639000" cy="302760"/>
                <a:chOff x="3594600" y="6400800"/>
                <a:chExt cx="639000" cy="302760"/>
              </a:xfrm>
            </p:grpSpPr>
            <p:sp>
              <p:nvSpPr>
                <p:cNvPr id="441" name="Rectangle 86"/>
                <p:cNvSpPr/>
                <p:nvPr/>
              </p:nvSpPr>
              <p:spPr>
                <a:xfrm>
                  <a:off x="36406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69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Rectangle 115"/>
                <p:cNvSpPr/>
                <p:nvPr/>
              </p:nvSpPr>
              <p:spPr>
                <a:xfrm>
                  <a:off x="35946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Group 118"/>
              <p:cNvGrpSpPr/>
              <p:nvPr/>
            </p:nvGrpSpPr>
            <p:grpSpPr>
              <a:xfrm>
                <a:off x="4234320" y="6400800"/>
                <a:ext cx="639000" cy="302760"/>
                <a:chOff x="4234320" y="6400800"/>
                <a:chExt cx="639000" cy="302760"/>
              </a:xfrm>
            </p:grpSpPr>
            <p:sp>
              <p:nvSpPr>
                <p:cNvPr id="444" name="Rectangle 87"/>
                <p:cNvSpPr/>
                <p:nvPr/>
              </p:nvSpPr>
              <p:spPr>
                <a:xfrm>
                  <a:off x="428040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84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Rectangle 117"/>
                <p:cNvSpPr/>
                <p:nvPr/>
              </p:nvSpPr>
              <p:spPr>
                <a:xfrm>
                  <a:off x="423432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Group 120"/>
              <p:cNvGrpSpPr/>
              <p:nvPr/>
            </p:nvGrpSpPr>
            <p:grpSpPr>
              <a:xfrm>
                <a:off x="4874040" y="6400800"/>
                <a:ext cx="639000" cy="302760"/>
                <a:chOff x="4874040" y="6400800"/>
                <a:chExt cx="639000" cy="302760"/>
              </a:xfrm>
            </p:grpSpPr>
            <p:sp>
              <p:nvSpPr>
                <p:cNvPr id="447" name="Rectangle 88"/>
                <p:cNvSpPr/>
                <p:nvPr/>
              </p:nvSpPr>
              <p:spPr>
                <a:xfrm>
                  <a:off x="492012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3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Rectangle 119"/>
                <p:cNvSpPr/>
                <p:nvPr/>
              </p:nvSpPr>
              <p:spPr>
                <a:xfrm>
                  <a:off x="487404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Group 122"/>
              <p:cNvGrpSpPr/>
              <p:nvPr/>
            </p:nvGrpSpPr>
            <p:grpSpPr>
              <a:xfrm>
                <a:off x="5513400" y="6400800"/>
                <a:ext cx="639000" cy="302760"/>
                <a:chOff x="5513400" y="6400800"/>
                <a:chExt cx="639000" cy="302760"/>
              </a:xfrm>
            </p:grpSpPr>
            <p:sp>
              <p:nvSpPr>
                <p:cNvPr id="450" name="Rectangle 89"/>
                <p:cNvSpPr/>
                <p:nvPr/>
              </p:nvSpPr>
              <p:spPr>
                <a:xfrm>
                  <a:off x="55594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7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Rectangle 121"/>
                <p:cNvSpPr/>
                <p:nvPr/>
              </p:nvSpPr>
              <p:spPr>
                <a:xfrm>
                  <a:off x="55134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Group 124"/>
              <p:cNvGrpSpPr/>
              <p:nvPr/>
            </p:nvGrpSpPr>
            <p:grpSpPr>
              <a:xfrm>
                <a:off x="6153120" y="6400800"/>
                <a:ext cx="639000" cy="302760"/>
                <a:chOff x="6153120" y="6400800"/>
                <a:chExt cx="639000" cy="302760"/>
              </a:xfrm>
            </p:grpSpPr>
            <p:sp>
              <p:nvSpPr>
                <p:cNvPr id="453" name="Rectangle 90"/>
                <p:cNvSpPr/>
                <p:nvPr/>
              </p:nvSpPr>
              <p:spPr>
                <a:xfrm>
                  <a:off x="619920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9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Rectangle 123"/>
                <p:cNvSpPr/>
                <p:nvPr/>
              </p:nvSpPr>
              <p:spPr>
                <a:xfrm>
                  <a:off x="615312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Group 126"/>
              <p:cNvGrpSpPr/>
              <p:nvPr/>
            </p:nvGrpSpPr>
            <p:grpSpPr>
              <a:xfrm>
                <a:off x="6792480" y="6400800"/>
                <a:ext cx="639000" cy="302760"/>
                <a:chOff x="6792480" y="6400800"/>
                <a:chExt cx="639000" cy="302760"/>
              </a:xfrm>
            </p:grpSpPr>
            <p:sp>
              <p:nvSpPr>
                <p:cNvPr id="456" name="Rectangle 91"/>
                <p:cNvSpPr/>
                <p:nvPr/>
              </p:nvSpPr>
              <p:spPr>
                <a:xfrm>
                  <a:off x="683856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9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Rectangle 125"/>
                <p:cNvSpPr/>
                <p:nvPr/>
              </p:nvSpPr>
              <p:spPr>
                <a:xfrm>
                  <a:off x="679248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Group 128"/>
              <p:cNvGrpSpPr/>
              <p:nvPr/>
            </p:nvGrpSpPr>
            <p:grpSpPr>
              <a:xfrm>
                <a:off x="7432200" y="6400800"/>
                <a:ext cx="639000" cy="302760"/>
                <a:chOff x="7432200" y="6400800"/>
                <a:chExt cx="639000" cy="302760"/>
              </a:xfrm>
            </p:grpSpPr>
            <p:sp>
              <p:nvSpPr>
                <p:cNvPr id="459" name="Rectangle 92"/>
                <p:cNvSpPr/>
                <p:nvPr/>
              </p:nvSpPr>
              <p:spPr>
                <a:xfrm>
                  <a:off x="74782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9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Rectangle 127"/>
                <p:cNvSpPr/>
                <p:nvPr/>
              </p:nvSpPr>
              <p:spPr>
                <a:xfrm>
                  <a:off x="74322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1" name="Rectangle 130"/>
            <p:cNvSpPr/>
            <p:nvPr/>
          </p:nvSpPr>
          <p:spPr>
            <a:xfrm>
              <a:off x="2362320" y="6095880"/>
              <a:ext cx="5714640" cy="609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Text Box 132"/>
          <p:cNvSpPr/>
          <p:nvPr/>
        </p:nvSpPr>
        <p:spPr>
          <a:xfrm>
            <a:off x="723960" y="1233360"/>
            <a:ext cx="72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ormování hodnoty:  od hodnoty se odečte aritmetický průmě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ledek (tj. odchylka) se dělí směr. odchylk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inomické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inomické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5335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 diskrétní náhodné proměnné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teré mohou nabývat pouze dvou hodnot ( např. ano, n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vděpodobnost, že nastane alternativa ANO označme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vděpodobnost, že nastane NE …</a:t>
            </a:r>
            <a:r>
              <a:rPr b="0" lang="cs-CZ" sz="2800" spc="-1" strike="noStrike">
                <a:solidFill>
                  <a:srgbClr val="66ff33"/>
                </a:solidFill>
                <a:latin typeface="Calibri"/>
              </a:rPr>
              <a:t>q = 1 – </a:t>
            </a:r>
            <a:r>
              <a:rPr b="0" lang="cs-CZ" sz="2800" spc="-1" strike="noStrike">
                <a:solidFill>
                  <a:srgbClr val="66ff33"/>
                </a:solidFill>
                <a:latin typeface="Calibri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), protože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latí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………………………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(100 %)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 výpočtu se používá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binomický rozvo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398628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5" descr="\begin{displaymath}{n \choose k} = \frac{n!}{k!(n - k)!},&#10;\end{displaymath}"/>
          <p:cNvPicPr/>
          <p:nvPr/>
        </p:nvPicPr>
        <p:blipFill>
          <a:blip r:embed="rId1"/>
          <a:stretch/>
        </p:blipFill>
        <p:spPr>
          <a:xfrm>
            <a:off x="6095880" y="4724280"/>
            <a:ext cx="3048120" cy="111456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8"/>
          <p:cNvSpPr/>
          <p:nvPr/>
        </p:nvSpPr>
        <p:spPr>
          <a:xfrm>
            <a:off x="2800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7" descr="\begin{displaymath}\ensuremath{\mathrm{P}} (X = k) = {n \choose k} \pi^k (1 - \pi)^{n - k}, \quad \mbox{pro } k = 0,1,2,&#10;\dots, n.&#10;\end{displaymath}"/>
          <p:cNvPicPr/>
          <p:nvPr/>
        </p:nvPicPr>
        <p:blipFill>
          <a:blip r:embed="rId2"/>
          <a:stretch/>
        </p:blipFill>
        <p:spPr>
          <a:xfrm>
            <a:off x="609480" y="5872320"/>
            <a:ext cx="815364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1 – binomické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ředpokládejme, že pravděpodobnost narození dívky je 0,49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Jaká je pravděpodobnost toho, že mezi třemi dětmi v rodině je právě jedna dívka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šení 1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0" y="-1652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4" descr="$\pi$"/>
          <p:cNvPicPr/>
          <p:nvPr/>
        </p:nvPicPr>
        <p:blipFill>
          <a:blip r:embed="rId1"/>
          <a:stretch/>
        </p:blipFill>
        <p:spPr>
          <a:xfrm>
            <a:off x="0" y="6872400"/>
            <a:ext cx="133200" cy="152280"/>
          </a:xfrm>
          <a:prstGeom prst="rect">
            <a:avLst/>
          </a:prstGeom>
          <a:ln w="0">
            <a:noFill/>
          </a:ln>
        </p:spPr>
      </p:pic>
      <p:grpSp>
        <p:nvGrpSpPr>
          <p:cNvPr id="478" name="Group 64"/>
          <p:cNvGrpSpPr/>
          <p:nvPr/>
        </p:nvGrpSpPr>
        <p:grpSpPr>
          <a:xfrm>
            <a:off x="-304920" y="914400"/>
            <a:ext cx="9448560" cy="2856960"/>
            <a:chOff x="-304920" y="914400"/>
            <a:chExt cx="9448560" cy="2856960"/>
          </a:xfrm>
        </p:grpSpPr>
        <p:sp>
          <p:nvSpPr>
            <p:cNvPr id="479" name="Rectangle 6"/>
            <p:cNvSpPr/>
            <p:nvPr/>
          </p:nvSpPr>
          <p:spPr>
            <a:xfrm>
              <a:off x="-304920" y="914400"/>
              <a:ext cx="944856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bulka</a:t>
              </a: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arametry binomického rozdělení v příkladu</a:t>
              </a: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0" name="Group 63"/>
            <p:cNvGrpSpPr/>
            <p:nvPr/>
          </p:nvGrpSpPr>
          <p:grpSpPr>
            <a:xfrm>
              <a:off x="-304920" y="1573200"/>
              <a:ext cx="9447480" cy="2198160"/>
              <a:chOff x="-304920" y="1573200"/>
              <a:chExt cx="9447480" cy="2198160"/>
            </a:xfrm>
          </p:grpSpPr>
          <p:grpSp>
            <p:nvGrpSpPr>
              <p:cNvPr id="481" name="Group 61"/>
              <p:cNvGrpSpPr/>
              <p:nvPr/>
            </p:nvGrpSpPr>
            <p:grpSpPr>
              <a:xfrm>
                <a:off x="-176760" y="1573200"/>
                <a:ext cx="9319320" cy="2015280"/>
                <a:chOff x="-176760" y="1573200"/>
                <a:chExt cx="9319320" cy="2015280"/>
              </a:xfrm>
            </p:grpSpPr>
            <p:grpSp>
              <p:nvGrpSpPr>
                <p:cNvPr id="482" name="Group 26"/>
                <p:cNvGrpSpPr/>
                <p:nvPr/>
              </p:nvGrpSpPr>
              <p:grpSpPr>
                <a:xfrm>
                  <a:off x="-176760" y="1573200"/>
                  <a:ext cx="1594440" cy="633960"/>
                  <a:chOff x="-176760" y="1573200"/>
                  <a:chExt cx="1594440" cy="633960"/>
                </a:xfrm>
              </p:grpSpPr>
              <p:sp>
                <p:nvSpPr>
                  <p:cNvPr id="483" name="Rectangle 7"/>
                  <p:cNvSpPr/>
                  <p:nvPr/>
                </p:nvSpPr>
                <p:spPr>
                  <a:xfrm>
                    <a:off x="-137160" y="160128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ku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Rectangle 25"/>
                  <p:cNvSpPr/>
                  <p:nvPr/>
                </p:nvSpPr>
                <p:spPr>
                  <a:xfrm>
                    <a:off x="-176760" y="157320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5" name="Group 28"/>
                <p:cNvGrpSpPr/>
                <p:nvPr/>
              </p:nvGrpSpPr>
              <p:grpSpPr>
                <a:xfrm>
                  <a:off x="1418040" y="1573200"/>
                  <a:ext cx="970560" cy="633960"/>
                  <a:chOff x="1418040" y="1573200"/>
                  <a:chExt cx="970560" cy="633960"/>
                </a:xfrm>
              </p:grpSpPr>
              <p:sp>
                <p:nvSpPr>
                  <p:cNvPr id="486" name="Rectangle 8"/>
                  <p:cNvSpPr/>
                  <p:nvPr/>
                </p:nvSpPr>
                <p:spPr>
                  <a:xfrm>
                    <a:off x="1458000" y="160128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Úspěc</a:t>
                    </a:r>
                    <a:r>
                      <a:rPr b="0" lang="cs-CZ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h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Rectangle 27"/>
                  <p:cNvSpPr/>
                  <p:nvPr/>
                </p:nvSpPr>
                <p:spPr>
                  <a:xfrm>
                    <a:off x="1418040" y="157320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8" name="Group 30"/>
                <p:cNvGrpSpPr/>
                <p:nvPr/>
              </p:nvGrpSpPr>
              <p:grpSpPr>
                <a:xfrm>
                  <a:off x="2389320" y="1573200"/>
                  <a:ext cx="1170720" cy="633960"/>
                  <a:chOff x="2389320" y="1573200"/>
                  <a:chExt cx="1170720" cy="633960"/>
                </a:xfrm>
              </p:grpSpPr>
              <p:sp>
                <p:nvSpPr>
                  <p:cNvPr id="489" name="Rectangle 9"/>
                  <p:cNvSpPr/>
                  <p:nvPr/>
                </p:nvSpPr>
                <p:spPr>
                  <a:xfrm>
                    <a:off x="2428560" y="160128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eúspěch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Rectangle 29"/>
                  <p:cNvSpPr/>
                  <p:nvPr/>
                </p:nvSpPr>
                <p:spPr>
                  <a:xfrm>
                    <a:off x="2389320" y="157320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1" name="Group 32"/>
                <p:cNvGrpSpPr/>
                <p:nvPr/>
              </p:nvGrpSpPr>
              <p:grpSpPr>
                <a:xfrm>
                  <a:off x="3560760" y="1573200"/>
                  <a:ext cx="2554560" cy="633960"/>
                  <a:chOff x="3560760" y="1573200"/>
                  <a:chExt cx="2554560" cy="633960"/>
                </a:xfrm>
              </p:grpSpPr>
              <p:sp>
                <p:nvSpPr>
                  <p:cNvPr id="492" name="Rectangle 10"/>
                  <p:cNvSpPr/>
                  <p:nvPr/>
                </p:nvSpPr>
                <p:spPr>
                  <a:xfrm>
                    <a:off x="3600000" y="160128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ravděpodobnost úspěchu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Rectangle 31"/>
                  <p:cNvSpPr/>
                  <p:nvPr/>
                </p:nvSpPr>
                <p:spPr>
                  <a:xfrm>
                    <a:off x="3560760" y="157320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4" name="Group 34"/>
                <p:cNvGrpSpPr/>
                <p:nvPr/>
              </p:nvGrpSpPr>
              <p:grpSpPr>
                <a:xfrm>
                  <a:off x="6116040" y="1573200"/>
                  <a:ext cx="1470960" cy="633960"/>
                  <a:chOff x="6116040" y="1573200"/>
                  <a:chExt cx="1470960" cy="633960"/>
                </a:xfrm>
              </p:grpSpPr>
              <p:sp>
                <p:nvSpPr>
                  <p:cNvPr id="495" name="Rectangle 11"/>
                  <p:cNvSpPr/>
                  <p:nvPr/>
                </p:nvSpPr>
                <p:spPr>
                  <a:xfrm>
                    <a:off x="6155280" y="160128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čet pokusů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Rectangle 33"/>
                  <p:cNvSpPr/>
                  <p:nvPr/>
                </p:nvSpPr>
                <p:spPr>
                  <a:xfrm>
                    <a:off x="6116040" y="157320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7" name="Group 36"/>
                <p:cNvGrpSpPr/>
                <p:nvPr/>
              </p:nvGrpSpPr>
              <p:grpSpPr>
                <a:xfrm>
                  <a:off x="7587360" y="1573200"/>
                  <a:ext cx="1555200" cy="633960"/>
                  <a:chOff x="7587360" y="1573200"/>
                  <a:chExt cx="1555200" cy="633960"/>
                </a:xfrm>
              </p:grpSpPr>
              <p:sp>
                <p:nvSpPr>
                  <p:cNvPr id="498" name="Rectangle 12"/>
                  <p:cNvSpPr/>
                  <p:nvPr/>
                </p:nvSpPr>
                <p:spPr>
                  <a:xfrm>
                    <a:off x="7626600" y="160128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čet úspěchů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Rectangle 35"/>
                  <p:cNvSpPr/>
                  <p:nvPr/>
                </p:nvSpPr>
                <p:spPr>
                  <a:xfrm>
                    <a:off x="7587360" y="157320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0" name="Group 38"/>
                <p:cNvGrpSpPr/>
                <p:nvPr/>
              </p:nvGrpSpPr>
              <p:grpSpPr>
                <a:xfrm>
                  <a:off x="-176760" y="2263680"/>
                  <a:ext cx="1594440" cy="633960"/>
                  <a:chOff x="-176760" y="2263680"/>
                  <a:chExt cx="1594440" cy="633960"/>
                </a:xfrm>
              </p:grpSpPr>
              <p:sp>
                <p:nvSpPr>
                  <p:cNvPr id="501" name="Rectangle 13"/>
                  <p:cNvSpPr/>
                  <p:nvPr/>
                </p:nvSpPr>
                <p:spPr>
                  <a:xfrm>
                    <a:off x="-137160" y="229176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Rectangle 37"/>
                  <p:cNvSpPr/>
                  <p:nvPr/>
                </p:nvSpPr>
                <p:spPr>
                  <a:xfrm>
                    <a:off x="-176760" y="226368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3" name="Group 40"/>
                <p:cNvGrpSpPr/>
                <p:nvPr/>
              </p:nvGrpSpPr>
              <p:grpSpPr>
                <a:xfrm>
                  <a:off x="1418040" y="2263680"/>
                  <a:ext cx="970560" cy="633960"/>
                  <a:chOff x="1418040" y="2263680"/>
                  <a:chExt cx="970560" cy="633960"/>
                </a:xfrm>
              </p:grpSpPr>
              <p:sp>
                <p:nvSpPr>
                  <p:cNvPr id="504" name="Rectangle 14"/>
                  <p:cNvSpPr/>
                  <p:nvPr/>
                </p:nvSpPr>
                <p:spPr>
                  <a:xfrm>
                    <a:off x="1458000" y="229176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Rectangle 39"/>
                  <p:cNvSpPr/>
                  <p:nvPr/>
                </p:nvSpPr>
                <p:spPr>
                  <a:xfrm>
                    <a:off x="1418040" y="226368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6" name="Group 42"/>
                <p:cNvGrpSpPr/>
                <p:nvPr/>
              </p:nvGrpSpPr>
              <p:grpSpPr>
                <a:xfrm>
                  <a:off x="2389320" y="2263680"/>
                  <a:ext cx="1170720" cy="633960"/>
                  <a:chOff x="2389320" y="2263680"/>
                  <a:chExt cx="1170720" cy="633960"/>
                </a:xfrm>
              </p:grpSpPr>
              <p:sp>
                <p:nvSpPr>
                  <p:cNvPr id="507" name="Rectangle 15"/>
                  <p:cNvSpPr/>
                  <p:nvPr/>
                </p:nvSpPr>
                <p:spPr>
                  <a:xfrm>
                    <a:off x="2428560" y="229176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Rectangle 41"/>
                  <p:cNvSpPr/>
                  <p:nvPr/>
                </p:nvSpPr>
                <p:spPr>
                  <a:xfrm>
                    <a:off x="2389320" y="226368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9" name="Group 44"/>
                <p:cNvGrpSpPr/>
                <p:nvPr/>
              </p:nvGrpSpPr>
              <p:grpSpPr>
                <a:xfrm>
                  <a:off x="3560760" y="2263680"/>
                  <a:ext cx="2554560" cy="633960"/>
                  <a:chOff x="3560760" y="2263680"/>
                  <a:chExt cx="2554560" cy="633960"/>
                </a:xfrm>
              </p:grpSpPr>
              <p:sp>
                <p:nvSpPr>
                  <p:cNvPr id="510" name="Rectangle 16"/>
                  <p:cNvSpPr/>
                  <p:nvPr/>
                </p:nvSpPr>
                <p:spPr>
                  <a:xfrm>
                    <a:off x="3600000" y="229176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Rectangle 43"/>
                  <p:cNvSpPr/>
                  <p:nvPr/>
                </p:nvSpPr>
                <p:spPr>
                  <a:xfrm>
                    <a:off x="3560760" y="226368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2" name="Group 46"/>
                <p:cNvGrpSpPr/>
                <p:nvPr/>
              </p:nvGrpSpPr>
              <p:grpSpPr>
                <a:xfrm>
                  <a:off x="6116040" y="2263680"/>
                  <a:ext cx="1470960" cy="633960"/>
                  <a:chOff x="6116040" y="2263680"/>
                  <a:chExt cx="1470960" cy="633960"/>
                </a:xfrm>
              </p:grpSpPr>
              <p:sp>
                <p:nvSpPr>
                  <p:cNvPr id="513" name="Rectangle 17"/>
                  <p:cNvSpPr/>
                  <p:nvPr/>
                </p:nvSpPr>
                <p:spPr>
                  <a:xfrm>
                    <a:off x="6155280" y="229176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Rectangle 45"/>
                  <p:cNvSpPr/>
                  <p:nvPr/>
                </p:nvSpPr>
                <p:spPr>
                  <a:xfrm>
                    <a:off x="6116040" y="226368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5" name="Group 48"/>
                <p:cNvGrpSpPr/>
                <p:nvPr/>
              </p:nvGrpSpPr>
              <p:grpSpPr>
                <a:xfrm>
                  <a:off x="7587360" y="2263680"/>
                  <a:ext cx="1555200" cy="633960"/>
                  <a:chOff x="7587360" y="2263680"/>
                  <a:chExt cx="1555200" cy="633960"/>
                </a:xfrm>
              </p:grpSpPr>
              <p:sp>
                <p:nvSpPr>
                  <p:cNvPr id="516" name="Rectangle 18"/>
                  <p:cNvSpPr/>
                  <p:nvPr/>
                </p:nvSpPr>
                <p:spPr>
                  <a:xfrm>
                    <a:off x="7626600" y="229176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k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Rectangle 47"/>
                  <p:cNvSpPr/>
                  <p:nvPr/>
                </p:nvSpPr>
                <p:spPr>
                  <a:xfrm>
                    <a:off x="7587360" y="226368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8" name="Group 50"/>
                <p:cNvGrpSpPr/>
                <p:nvPr/>
              </p:nvGrpSpPr>
              <p:grpSpPr>
                <a:xfrm>
                  <a:off x="-176760" y="2954520"/>
                  <a:ext cx="1594440" cy="633960"/>
                  <a:chOff x="-176760" y="2954520"/>
                  <a:chExt cx="1594440" cy="633960"/>
                </a:xfrm>
              </p:grpSpPr>
              <p:sp>
                <p:nvSpPr>
                  <p:cNvPr id="519" name="Rectangle 19"/>
                  <p:cNvSpPr/>
                  <p:nvPr/>
                </p:nvSpPr>
                <p:spPr>
                  <a:xfrm>
                    <a:off x="-137160" y="298260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arození dítět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Rectangle 49"/>
                  <p:cNvSpPr/>
                  <p:nvPr/>
                </p:nvSpPr>
                <p:spPr>
                  <a:xfrm>
                    <a:off x="-176760" y="295452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1" name="Group 52"/>
                <p:cNvGrpSpPr/>
                <p:nvPr/>
              </p:nvGrpSpPr>
              <p:grpSpPr>
                <a:xfrm>
                  <a:off x="1418040" y="2954520"/>
                  <a:ext cx="970560" cy="633960"/>
                  <a:chOff x="1418040" y="2954520"/>
                  <a:chExt cx="970560" cy="633960"/>
                </a:xfrm>
              </p:grpSpPr>
              <p:sp>
                <p:nvSpPr>
                  <p:cNvPr id="522" name="Rectangle 20"/>
                  <p:cNvSpPr/>
                  <p:nvPr/>
                </p:nvSpPr>
                <p:spPr>
                  <a:xfrm>
                    <a:off x="1458000" y="298260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dívk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Rectangle 51"/>
                  <p:cNvSpPr/>
                  <p:nvPr/>
                </p:nvSpPr>
                <p:spPr>
                  <a:xfrm>
                    <a:off x="1418040" y="295452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4" name="Group 54"/>
                <p:cNvGrpSpPr/>
                <p:nvPr/>
              </p:nvGrpSpPr>
              <p:grpSpPr>
                <a:xfrm>
                  <a:off x="2389320" y="2954520"/>
                  <a:ext cx="1170720" cy="633960"/>
                  <a:chOff x="2389320" y="2954520"/>
                  <a:chExt cx="1170720" cy="633960"/>
                </a:xfrm>
              </p:grpSpPr>
              <p:sp>
                <p:nvSpPr>
                  <p:cNvPr id="525" name="Rectangle 21"/>
                  <p:cNvSpPr/>
                  <p:nvPr/>
                </p:nvSpPr>
                <p:spPr>
                  <a:xfrm>
                    <a:off x="2428560" y="298260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hlapec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Rectangle 53"/>
                  <p:cNvSpPr/>
                  <p:nvPr/>
                </p:nvSpPr>
                <p:spPr>
                  <a:xfrm>
                    <a:off x="2389320" y="295452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7" name="Group 56"/>
                <p:cNvGrpSpPr/>
                <p:nvPr/>
              </p:nvGrpSpPr>
              <p:grpSpPr>
                <a:xfrm>
                  <a:off x="3560760" y="2954520"/>
                  <a:ext cx="2554560" cy="633960"/>
                  <a:chOff x="3560760" y="2954520"/>
                  <a:chExt cx="2554560" cy="633960"/>
                </a:xfrm>
              </p:grpSpPr>
              <p:sp>
                <p:nvSpPr>
                  <p:cNvPr id="528" name="Rectangle 22"/>
                  <p:cNvSpPr/>
                  <p:nvPr/>
                </p:nvSpPr>
                <p:spPr>
                  <a:xfrm>
                    <a:off x="3600000" y="298260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,49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Rectangle 55"/>
                  <p:cNvSpPr/>
                  <p:nvPr/>
                </p:nvSpPr>
                <p:spPr>
                  <a:xfrm>
                    <a:off x="3560760" y="295452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0" name="Group 58"/>
                <p:cNvGrpSpPr/>
                <p:nvPr/>
              </p:nvGrpSpPr>
              <p:grpSpPr>
                <a:xfrm>
                  <a:off x="6116040" y="2954520"/>
                  <a:ext cx="1470960" cy="633960"/>
                  <a:chOff x="6116040" y="2954520"/>
                  <a:chExt cx="1470960" cy="633960"/>
                </a:xfrm>
              </p:grpSpPr>
              <p:sp>
                <p:nvSpPr>
                  <p:cNvPr id="531" name="Rectangle 23"/>
                  <p:cNvSpPr/>
                  <p:nvPr/>
                </p:nvSpPr>
                <p:spPr>
                  <a:xfrm>
                    <a:off x="6155280" y="298260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čet dětí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Rectangle 57"/>
                  <p:cNvSpPr/>
                  <p:nvPr/>
                </p:nvSpPr>
                <p:spPr>
                  <a:xfrm>
                    <a:off x="6116040" y="295452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3" name="Group 60"/>
                <p:cNvGrpSpPr/>
                <p:nvPr/>
              </p:nvGrpSpPr>
              <p:grpSpPr>
                <a:xfrm>
                  <a:off x="7587360" y="2954520"/>
                  <a:ext cx="1555200" cy="633960"/>
                  <a:chOff x="7587360" y="2954520"/>
                  <a:chExt cx="1555200" cy="633960"/>
                </a:xfrm>
              </p:grpSpPr>
              <p:sp>
                <p:nvSpPr>
                  <p:cNvPr id="534" name="Rectangle 24"/>
                  <p:cNvSpPr/>
                  <p:nvPr/>
                </p:nvSpPr>
                <p:spPr>
                  <a:xfrm>
                    <a:off x="7626600" y="298260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čet dívek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Rectangle 59"/>
                  <p:cNvSpPr/>
                  <p:nvPr/>
                </p:nvSpPr>
                <p:spPr>
                  <a:xfrm>
                    <a:off x="7587360" y="295452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36" name="Rectangle 62"/>
              <p:cNvSpPr/>
              <p:nvPr/>
            </p:nvSpPr>
            <p:spPr>
              <a:xfrm>
                <a:off x="-304920" y="3404880"/>
                <a:ext cx="2559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7" name="Rectangle 65"/>
          <p:cNvSpPr/>
          <p:nvPr/>
        </p:nvSpPr>
        <p:spPr>
          <a:xfrm>
            <a:off x="0" y="33861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8" name="Object 2"/>
          <p:cNvGraphicFramePr/>
          <p:nvPr/>
        </p:nvGraphicFramePr>
        <p:xfrm>
          <a:off x="4191120" y="3533760"/>
          <a:ext cx="4952880" cy="33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33760"/>
                    <a:ext cx="495288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Rectangle 6"/>
          <p:cNvSpPr/>
          <p:nvPr/>
        </p:nvSpPr>
        <p:spPr>
          <a:xfrm>
            <a:off x="304920" y="6094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je vidět z tabulky, počet narozených dívek v rodině je náhodná veličina s binomickým rozdělením. Pravděpodobnost, že mezi třemi dětmi je právě jedna dívka, tedy vypočteme jak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5" descr="\begin{displaymath}\ensuremath{\mathrm{P}} (X = 1) = {3 \choose 1} 0{,}49^1 \cdot 0{,}51^2 = 3\cdot0{,}127 = 0{,}38. \&#10;\Diamond&#10;\end{displaymath}"/>
          <p:cNvPicPr/>
          <p:nvPr/>
        </p:nvPicPr>
        <p:blipFill>
          <a:blip r:embed="rId3"/>
          <a:stretch/>
        </p:blipFill>
        <p:spPr>
          <a:xfrm>
            <a:off x="304920" y="1905120"/>
            <a:ext cx="7896240" cy="104112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8"/>
          <p:cNvSpPr/>
          <p:nvPr/>
        </p:nvSpPr>
        <p:spPr>
          <a:xfrm>
            <a:off x="37242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Picture 7" descr="\begin{displaymath}{3 \choose 1} = \frac{3!}{1!2!} = \frac{3\cdot2\cdot1}{1\cdot 2\cdot 1} = 3.&#10;\end{displaymath}"/>
          <p:cNvPicPr/>
          <p:nvPr/>
        </p:nvPicPr>
        <p:blipFill>
          <a:blip r:embed="rId4"/>
          <a:stretch/>
        </p:blipFill>
        <p:spPr>
          <a:xfrm>
            <a:off x="457200" y="3657600"/>
            <a:ext cx="3352680" cy="847800"/>
          </a:xfrm>
          <a:prstGeom prst="rect">
            <a:avLst/>
          </a:prstGeom>
          <a:ln w="0">
            <a:noFill/>
          </a:ln>
        </p:spPr>
      </p:pic>
      <p:sp>
        <p:nvSpPr>
          <p:cNvPr id="544" name="Line 9"/>
          <p:cNvSpPr/>
          <p:nvPr/>
        </p:nvSpPr>
        <p:spPr>
          <a:xfrm flipH="1">
            <a:off x="914040" y="2895480"/>
            <a:ext cx="1676520" cy="68580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10"/>
          <p:cNvSpPr/>
          <p:nvPr/>
        </p:nvSpPr>
        <p:spPr>
          <a:xfrm>
            <a:off x="457200" y="4952880"/>
            <a:ext cx="3352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ravděpodobnost, ž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ze tří dětí  bude jedna dívka,  je 38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11"/>
          <p:cNvSpPr/>
          <p:nvPr/>
        </p:nvSpPr>
        <p:spPr>
          <a:xfrm flipH="1">
            <a:off x="3581280" y="2514600"/>
            <a:ext cx="1828800" cy="152388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12"/>
          <p:cNvSpPr/>
          <p:nvPr/>
        </p:nvSpPr>
        <p:spPr>
          <a:xfrm>
            <a:off x="1132200" y="9036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ení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0948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Jaká je pravděpodobnost, že v rodině s 8 dětmi jsou právě 3 dívky?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avděpodobnost narození dívky je 0,49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2557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1143720" y="182880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Times New Roman"/>
              </a:rPr>
              <a:t>Řeše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515520" y="22510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inomický rozvo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Základní d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ě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lení statistických údaj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ů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684360" y="2349360"/>
            <a:ext cx="7920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le zdroje  ODKUD?—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imár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ekundár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le periodicity zjišťování JAK ČASTO? —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ůběžn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eriodick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jednorázov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le časového hlediska  KDY? ZA JAK DLOUHO?—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kamžikov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ntervalov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le reálnosti situace  OPRAVDU?—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kutečn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imulovan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2, binomické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Vypočítejte pravděpodobnost, se kterou se vyskytne určitý počet měsíců v roce hodnocených jako „ suché“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onkretiza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last Oxfor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dobí 1851 – 1943, tj. 1116 měsíců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Suchý měsíc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- tj. méně srážek v měsíci než je dlouhodobý průměr tohoto měsí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617 měsíců  hodnocených jako suché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499 – vlhké měsí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4"/>
          <p:cNvSpPr/>
          <p:nvPr/>
        </p:nvSpPr>
        <p:spPr>
          <a:xfrm>
            <a:off x="2041560" y="852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533520" y="838080"/>
          <a:ext cx="6553080" cy="2381400"/>
        </p:xfrm>
        <a:graphic>
          <a:graphicData uri="http://schemas.openxmlformats.org/drawingml/2006/table">
            <a:tbl>
              <a:tblPr/>
              <a:tblGrid>
                <a:gridCol w="1143000"/>
                <a:gridCol w="1371600"/>
                <a:gridCol w="2057400"/>
                <a:gridCol w="198108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úspěch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úspěch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avděpodobnost suchého měsí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avděpodobnost vlhkého měsí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ch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lhk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=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=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q =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q = .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(q = 1 – </a:t>
                      </a: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7" name="Rectangle 50"/>
          <p:cNvSpPr/>
          <p:nvPr/>
        </p:nvSpPr>
        <p:spPr>
          <a:xfrm>
            <a:off x="8001000" y="838080"/>
            <a:ext cx="11430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č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uchý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ěsíc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51"/>
          <p:cNvSpPr/>
          <p:nvPr/>
        </p:nvSpPr>
        <p:spPr>
          <a:xfrm>
            <a:off x="7010280" y="838080"/>
            <a:ext cx="9144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č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ěsíc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52"/>
          <p:cNvSpPr/>
          <p:nvPr/>
        </p:nvSpPr>
        <p:spPr>
          <a:xfrm>
            <a:off x="7010280" y="1676520"/>
            <a:ext cx="9144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 =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53"/>
          <p:cNvSpPr/>
          <p:nvPr/>
        </p:nvSpPr>
        <p:spPr>
          <a:xfrm>
            <a:off x="8001000" y="1676520"/>
            <a:ext cx="11430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=0 až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60"/>
          <p:cNvSpPr/>
          <p:nvPr/>
        </p:nvSpPr>
        <p:spPr>
          <a:xfrm>
            <a:off x="601200" y="3505320"/>
            <a:ext cx="434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Řešení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učně pomocí binomického rozvo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 podporou  např. Ex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61"/>
          <p:cNvSpPr/>
          <p:nvPr/>
        </p:nvSpPr>
        <p:spPr>
          <a:xfrm>
            <a:off x="533520" y="4572000"/>
            <a:ext cx="8321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íme dílčí příklady, tj. jaká je pravděpodobnost,  že v roce se vyskyt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žádny suchý měsíc, tj- k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eden suchý měsíc, tj. k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šechny měsíce suché, k=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63"/>
          <p:cNvSpPr/>
          <p:nvPr/>
        </p:nvSpPr>
        <p:spPr>
          <a:xfrm>
            <a:off x="746280" y="24300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ení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1031" descr="C:\Documents and Settings\svatonova\Dokumenty\STATISTIKA\JARO_06\příklad_binom_mesice.bmp"/>
          <p:cNvPicPr/>
          <p:nvPr/>
        </p:nvPicPr>
        <p:blipFill>
          <a:blip r:embed="rId1"/>
          <a:stretch/>
        </p:blipFill>
        <p:spPr>
          <a:xfrm>
            <a:off x="0" y="1905120"/>
            <a:ext cx="6400800" cy="433224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1034"/>
          <p:cNvSpPr/>
          <p:nvPr/>
        </p:nvSpPr>
        <p:spPr>
          <a:xfrm>
            <a:off x="751320" y="243000"/>
            <a:ext cx="1064520" cy="3988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ení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1035"/>
          <p:cNvSpPr/>
          <p:nvPr/>
        </p:nvSpPr>
        <p:spPr>
          <a:xfrm flipV="1">
            <a:off x="2286000" y="3047760"/>
            <a:ext cx="5562720" cy="28191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1036"/>
          <p:cNvSpPr/>
          <p:nvPr/>
        </p:nvSpPr>
        <p:spPr>
          <a:xfrm>
            <a:off x="1828800" y="6172200"/>
            <a:ext cx="914400" cy="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1037"/>
          <p:cNvSpPr/>
          <p:nvPr/>
        </p:nvSpPr>
        <p:spPr>
          <a:xfrm flipV="1">
            <a:off x="1676520" y="2971440"/>
            <a:ext cx="5562360" cy="6858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Jak bude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vypadat</a:t>
            </a: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 situace pro „vlhké“ měsíce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isson - příkl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Calibri"/>
              </a:rPr>
              <a:t>Poissonovo rozdělení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pro rozdělení …………………… příp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zimní bouřka, výskyt mutace apod.).</a:t>
            </a:r>
            <a:r>
              <a:rPr b="0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-li pravděpodobnost nějaké výjimečné události (např. určité mutace genu) relativně malá a rozsah výběru poměrně velký, pak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Poissonovo rozdělení v podstatě splývá s binomickým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ale je mnohem výhodnější pro počítán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isson - příkl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ředpokládejme, že v určité populaci krys se vyskytuje albín s pravděpodobnost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 = 0,001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, ostatní krysy jsou normálně pigmentované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e vzorku 100 krys náhodně vybraných z této populace určete pravděpodobnost, že vzor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)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neobsahuje albína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b) obsahuje právě jednoho albín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Řešení</a:t>
            </a: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 Box 5"/>
          <p:cNvSpPr/>
          <p:nvPr/>
        </p:nvSpPr>
        <p:spPr>
          <a:xfrm>
            <a:off x="337320" y="5943600"/>
            <a:ext cx="78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avděpodobnost, že neobsahuje albína, je………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6"/>
          <p:cNvSpPr/>
          <p:nvPr/>
        </p:nvSpPr>
        <p:spPr>
          <a:xfrm>
            <a:off x="533520" y="990720"/>
            <a:ext cx="7391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čete pravděpodobnost, že vzor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obsahuje albín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šení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152280" y="57913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ravděpodobnost,  že 100 členná  populace krys  bude obsahov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lbína, je  ………………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o statistika „umí“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990720" y="7542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Další rozdělení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Calibri"/>
              </a:rPr>
              <a:t>Pearsonova křivka III. typu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0948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a empirické rozdělení mnoha statistických souborů s nimiž v geografii pracujeme, </a:t>
            </a:r>
            <a:r>
              <a:rPr b="0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nelze aplikovat normální rozděl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latí to například v těch případech, kdy studovaná náhodná veličina </a:t>
            </a:r>
            <a:r>
              <a:rPr b="0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nemá teoreticky zdůvodněnou možnost nabývat nekonečných hodno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nebo je-li omezena konečnými čísl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 takovýchto případech lze aplikovat na studovaný soubor některou ze dvanácti křivek Pearsonova systému.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4000" spc="-1" strike="noStrike" u="sng">
                <a:solidFill>
                  <a:srgbClr val="000000"/>
                </a:solidFill>
                <a:uFillTx/>
                <a:latin typeface="Calibri"/>
              </a:rPr>
              <a:t>Pearsonova křivka III. typu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Pearsonova křivka III. typ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- obvykle pro veličiny s omezeným množstvím hodnot, které může nabýv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-  z křivky lze např. vyčíst………………………………………………………………………………………………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 hydrologii se počítá Pearsonova křivka ve variantě   součtová čára četností jak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zv.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 …………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íklad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  <a:ea typeface="Arial"/>
              </a:rPr>
              <a:t>Konstrukce čáry překročení z průměrných ročních průtoků vodního toku Lažánka za říjen 200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5"/>
          <p:cNvSpPr/>
          <p:nvPr/>
        </p:nvSpPr>
        <p:spPr>
          <a:xfrm>
            <a:off x="169560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ovéPole 3"/>
          <p:cNvSpPr/>
          <p:nvPr/>
        </p:nvSpPr>
        <p:spPr>
          <a:xfrm>
            <a:off x="625680" y="692280"/>
            <a:ext cx="738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řivka překročení průměrných   ročních průtoků , Lažanka, říjen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ovéPole 4"/>
          <p:cNvSpPr/>
          <p:nvPr/>
        </p:nvSpPr>
        <p:spPr>
          <a:xfrm>
            <a:off x="1042920" y="5877000"/>
            <a:ext cx="77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0                  20                 40                 60                80                 100 %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ovéPole 5"/>
          <p:cNvSpPr/>
          <p:nvPr/>
        </p:nvSpPr>
        <p:spPr>
          <a:xfrm>
            <a:off x="395280" y="2205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ovéPole 6"/>
          <p:cNvSpPr/>
          <p:nvPr/>
        </p:nvSpPr>
        <p:spPr>
          <a:xfrm>
            <a:off x="395280" y="3716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ovéPole 7"/>
          <p:cNvSpPr/>
          <p:nvPr/>
        </p:nvSpPr>
        <p:spPr>
          <a:xfrm>
            <a:off x="468360" y="4508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ovéPole 8"/>
          <p:cNvSpPr/>
          <p:nvPr/>
        </p:nvSpPr>
        <p:spPr>
          <a:xfrm>
            <a:off x="611280" y="5157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ovéPole 9"/>
          <p:cNvSpPr/>
          <p:nvPr/>
        </p:nvSpPr>
        <p:spPr>
          <a:xfrm>
            <a:off x="324000" y="292428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TextovéPole 10" descr=""/>
          <p:cNvPicPr/>
          <p:nvPr/>
        </p:nvPicPr>
        <p:blipFill>
          <a:blip r:embed="rId1"/>
          <a:stretch/>
        </p:blipFill>
        <p:spPr>
          <a:xfrm>
            <a:off x="255600" y="1523880"/>
            <a:ext cx="824040" cy="438120"/>
          </a:xfrm>
          <a:prstGeom prst="rect">
            <a:avLst/>
          </a:prstGeom>
          <a:ln w="0">
            <a:noFill/>
          </a:ln>
        </p:spPr>
      </p:pic>
      <p:sp>
        <p:nvSpPr>
          <p:cNvPr id="600" name="TextovéPole 11"/>
          <p:cNvSpPr/>
          <p:nvPr/>
        </p:nvSpPr>
        <p:spPr>
          <a:xfrm>
            <a:off x="3135960" y="33336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načrt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Odhady parametrů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intervaly spolehlivos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Základní pojm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základní soubor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statistický  sou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výběrový sou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náhodný výbě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  základnímu jednomu souboru lze získat více výběrových, různé charakteristi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533160" y="11426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reprezentativnost výběr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prostý náhodný výbě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…………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oblastní náhodný výbě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systematický náhodný výbě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……………………………………………………………………………………………………………………………………………………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 Box 1027"/>
          <p:cNvSpPr/>
          <p:nvPr/>
        </p:nvSpPr>
        <p:spPr>
          <a:xfrm>
            <a:off x="1130400" y="196920"/>
            <a:ext cx="30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1f497d"/>
                </a:solidFill>
                <a:latin typeface="Times New Roman"/>
              </a:rPr>
              <a:t>Základní pojm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tervaly spolehliv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60948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rmální rozdělení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atistický soubor s norm rozdělením (X, 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ho výběrový soubor  bude  mít norm rozdělení s param (x, s/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terval spolehlivosti – pro zvolený koeficient spolehlivosti ( pravděpodobnost , že tam X padne) (např. 95 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očítáme interval,ve kterém s touto pravděpodobností  leží 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323640" y="765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vedeme-li výběr o rozsahu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a spočteme x , pak průměr  X  leží s pravděpodobností 0,95 ve vzdálenosti menší  než 1,96 s /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    od x 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j.  v intervalu s krajními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x- 1,96 s /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 , x+ 1,96 s /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)… </a:t>
            </a:r>
            <a:r>
              <a:rPr b="0" i="1" lang="cs-CZ" sz="3200" spc="-1" strike="noStrike">
                <a:solidFill>
                  <a:srgbClr val="ffc000"/>
                </a:solidFill>
                <a:latin typeface="Calibri"/>
              </a:rPr>
              <a:t>interval spolehlivosti pro průměr</a:t>
            </a:r>
            <a:r>
              <a:rPr b="0" lang="cs-CZ" sz="3200" spc="-1" strike="noStrike">
                <a:solidFill>
                  <a:srgbClr val="ffc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c000"/>
                </a:solidFill>
                <a:latin typeface="Calibri"/>
              </a:rPr>
              <a:t>koeficient spolehlivosti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= 0,9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tj. </a:t>
            </a:r>
            <a:r>
              <a:rPr b="0" lang="cs-CZ" sz="3200" spc="-1" strike="noStrike">
                <a:solidFill>
                  <a:srgbClr val="ffc000"/>
                </a:solidFill>
                <a:latin typeface="Calibri"/>
              </a:rPr>
              <a:t>hladinu významnost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= 0,05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9" name="Obrázek 3" descr="$\bar{x}$"/>
          <p:cNvPicPr/>
          <p:nvPr/>
        </p:nvPicPr>
        <p:blipFill>
          <a:blip r:embed="rId1"/>
          <a:stretch/>
        </p:blipFill>
        <p:spPr>
          <a:xfrm>
            <a:off x="4505400" y="3352680"/>
            <a:ext cx="13320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…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 co statistika „neumí“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838080" y="1371600"/>
            <a:ext cx="625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tatistik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elháv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, pokud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53964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ze použít intervaly spolehlivosti  např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95 % (μ + - 1,960σ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99 % (μ + - 2,576σ), tj. širší! interv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dnoty, které leží mimo interval, v tzv.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ritickém obor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se považují za nepřípustné, jejic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odchylky od průměru  za význam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stování statistických hypoté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jak </a:t>
            </a:r>
            <a:r>
              <a:rPr b="0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ověřit předpoklady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 o charakteristikách statistických souborů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Je  soubor A reprezentativním výběrem ze souboru B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Do jaké míry se soubory shodují v rozdělení četností, podle aritm. průměru, podle směrodatné odchylky apo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000"/>
                </a:solidFill>
                <a:latin typeface="Calibri"/>
              </a:rPr>
              <a:t>Test nulové hypotézy tedy spočívá v tom, zda </a:t>
            </a:r>
            <a:r>
              <a:rPr b="0" i="1" lang="cs-CZ" sz="3200" spc="-1" strike="noStrike">
                <a:solidFill>
                  <a:srgbClr val="ffc000"/>
                </a:solidFill>
                <a:latin typeface="Calibri"/>
              </a:rPr>
              <a:t>p</a:t>
            </a:r>
            <a:r>
              <a:rPr b="0" lang="cs-CZ" sz="3200" spc="-1" strike="noStrike">
                <a:solidFill>
                  <a:srgbClr val="ffc000"/>
                </a:solidFill>
                <a:latin typeface="Calibri"/>
              </a:rPr>
              <a:t> překročí, nebo nepřekročí zvolenou me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Příkl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 Box 6"/>
          <p:cNvSpPr/>
          <p:nvPr/>
        </p:nvSpPr>
        <p:spPr>
          <a:xfrm>
            <a:off x="2421000" y="1004760"/>
            <a:ext cx="116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oubor </a:t>
            </a: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7"/>
          <p:cNvSpPr/>
          <p:nvPr/>
        </p:nvSpPr>
        <p:spPr>
          <a:xfrm>
            <a:off x="5332680" y="990720"/>
            <a:ext cx="10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oubor </a:t>
            </a: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28840" y="-36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ozdělení četností souborů A , 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7" name="Object 2"/>
          <p:cNvGraphicFramePr/>
          <p:nvPr/>
        </p:nvGraphicFramePr>
        <p:xfrm>
          <a:off x="228600" y="25560"/>
          <a:ext cx="4952880" cy="359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560"/>
                    <a:ext cx="4952880" cy="35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Object 3"/>
          <p:cNvGraphicFramePr/>
          <p:nvPr/>
        </p:nvGraphicFramePr>
        <p:xfrm>
          <a:off x="3505320" y="1066680"/>
          <a:ext cx="5333760" cy="3672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2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066680"/>
                    <a:ext cx="533376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vič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. stanovte hladinu významnosti pro porovnání souborů na 95 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. formulujte nulovou hypotézu pro shodu souborů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. porovnejte  shodnost rozložení  četností souboru pro Brno – venkov se souborem pro ČR pomocí testu CHÍ – kvadrát ( CHITEST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. Testujte významnost rozdílu rozptylů souborů pomocí F –testu (fte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e. Testujte významnost rozdílu pomocí T - testu.( tte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.  Přijměte nebo odmítněte nulovou hypotéz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hitest 0,99 ftest 0,958 t test  0,99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611280" y="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000"/>
                </a:solidFill>
                <a:latin typeface="Calibri"/>
              </a:rPr>
              <a:t>Test nulové hypotézy tedy spočívá v tom, zda </a:t>
            </a:r>
            <a:r>
              <a:rPr b="0" i="1" lang="cs-CZ" sz="2400" spc="-1" strike="noStrike">
                <a:solidFill>
                  <a:srgbClr val="ffc000"/>
                </a:solidFill>
                <a:latin typeface="Calibri"/>
              </a:rPr>
              <a:t>p</a:t>
            </a:r>
            <a:r>
              <a:rPr b="0" lang="cs-CZ" sz="2400" spc="-1" strike="noStrike">
                <a:solidFill>
                  <a:srgbClr val="ffc000"/>
                </a:solidFill>
                <a:latin typeface="Calibri"/>
              </a:rPr>
              <a:t> překročí, nebo nepřekročí zvolenou me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ATISTICKÁ HYPOTÉZ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edpoklad: průměrná výška studentek PdF MU je</a:t>
            </a: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 shodná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 průměrnou výškou žen ve věku 20 - 25 let v Č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NULOVÁ HYPOTÉ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Průměry obou souborů jsou shodn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volíme hladinu význam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apř. 5% , tj.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= 0,05, tj. (  pravděpodobností 95 %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plikace testovacího krité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výsledek testování významný 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le výsledku přijmeme nebo odmítneme nulovou hypotéz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vislost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vislost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 jaké míry závisí změna prvku jednoho statistického souboru změnu prvku druhého statistického soubor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ak podmiňuje změna prvku x změnu prvku 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ak těsně na sobě závisí prvky dvourozměrného statistického souboru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př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ztahy teplota a nadm. výšk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rážky a odtok v povod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áha a výška člověk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tahy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Jednostrann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……………………………………………………………………………………………………………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Vzájemn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……………………………………………………………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tahy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le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stupně závisl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Funkč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pevno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 určité hodnotě x odpovídá jediná hodnota y,  vztah x a y lze tedy vyjádřit  mat.  funkcí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např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Konkrétní teplotě  odpovídá jedna hodnota stupně nasycení vodní pár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tatistika a výpo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tní technik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09480" y="1600200"/>
            <a:ext cx="76201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ýpočetní technika zasahuje do všech etap statistického zpracování d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Exploze výpočetní techniky umožňuje provádět výpočty, které byly dříve nerealizovatelné (z důvodů velkého objemu dat, pracnosti, …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 druhou stranu však roste nebezpečí výběru nesprávného postup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tahy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Statistick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 jedné hodnotě x odpovídá více hodnot y, hodnoty y mají své rozdělení s průměrem, tento průměr  hodnot y  je i pro různá x  shodný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tahy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Korelač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e změnou hodnot x se mění soubory hodnot y, které mají své rozdělení a různých průměre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0000"/>
                </a:solidFill>
                <a:latin typeface="Calibri"/>
              </a:rPr>
              <a:t>např. </a:t>
            </a: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Př.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relační závisl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rčení těsnosti korelační závisl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jak těsný je vztah mezi výškou a hmotností člověk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971640" y="4076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Korelac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je ……………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Regresní čár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znázorňuje …………………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Intervaly a pásy spolehlivosti pro lineární regresní závislo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olem regresní přímky lze sestroj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……………………………………………………………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.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terý určuje pro vybrané 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terval, ve kterém se budou s určitou pravděpodobností nacházet hodnoty 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. lineární regre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808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očítejte koeficient korelace pro vztah délky slunečního svitu a teploty na datech meteorol. stanice Tuřany, 20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0" y="2666880"/>
          <a:ext cx="8534520" cy="1987560"/>
        </p:xfrm>
        <a:graphic>
          <a:graphicData uri="http://schemas.openxmlformats.org/drawingml/2006/table">
            <a:tbl>
              <a:tblPr/>
              <a:tblGrid>
                <a:gridCol w="1081080"/>
                <a:gridCol w="692280"/>
                <a:gridCol w="657000"/>
                <a:gridCol w="541440"/>
                <a:gridCol w="762120"/>
                <a:gridCol w="682560"/>
                <a:gridCol w="917640"/>
                <a:gridCol w="533160"/>
                <a:gridCol w="457200"/>
                <a:gridCol w="609840"/>
                <a:gridCol w="457200"/>
                <a:gridCol w="487080"/>
                <a:gridCol w="655920"/>
              </a:tblGrid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élka slun. svitu (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55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8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8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6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3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9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8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2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7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8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4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4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plo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° C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-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-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3" name=""/>
          <p:cNvGraphicFramePr/>
          <p:nvPr/>
        </p:nvGraphicFramePr>
        <p:xfrm>
          <a:off x="250920" y="5013360"/>
          <a:ext cx="7416720" cy="1763640"/>
        </p:xfrm>
        <a:graphic>
          <a:graphicData uri="http://schemas.openxmlformats.org/drawingml/2006/table">
            <a:tbl>
              <a:tblPr/>
              <a:tblGrid>
                <a:gridCol w="931680"/>
                <a:gridCol w="1382760"/>
                <a:gridCol w="1376280"/>
                <a:gridCol w="932040"/>
                <a:gridCol w="931680"/>
                <a:gridCol w="930240"/>
                <a:gridCol w="932040"/>
              </a:tblGrid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el h,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208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el t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208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4"/>
          <p:cNvSpPr/>
          <p:nvPr/>
        </p:nvSpPr>
        <p:spPr>
          <a:xfrm>
            <a:off x="1876680" y="547560"/>
            <a:ext cx="662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počet koeficientu regrese b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xcel, funkce CORREL, POLE1 -   hodnoty délka slun. Svitu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le2  - hodnoty teplo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TextovéPole 6"/>
          <p:cNvSpPr/>
          <p:nvPr/>
        </p:nvSpPr>
        <p:spPr>
          <a:xfrm flipH="1">
            <a:off x="826920" y="4869000"/>
            <a:ext cx="74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ineární regresní čára - Přidat spojnici trendu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457200" y="4508280"/>
            <a:ext cx="9083520" cy="16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900" spc="-1" strike="noStrike">
                <a:solidFill>
                  <a:srgbClr val="000000"/>
                </a:solidFill>
                <a:latin typeface="Calibri"/>
              </a:rPr>
              <a:t>Časové řady</a:t>
            </a:r>
            <a:br>
              <a:rPr sz="5900"/>
            </a:br>
            <a:r>
              <a:rPr b="0" lang="cs-CZ" sz="5900" spc="-1" strike="noStrike">
                <a:solidFill>
                  <a:srgbClr val="000000"/>
                </a:solidFill>
                <a:latin typeface="Calibri"/>
              </a:rPr>
              <a:t>Bazické a řetězové  </a:t>
            </a:r>
            <a:br>
              <a:rPr sz="5900"/>
            </a:br>
            <a:r>
              <a:rPr b="0" lang="cs-CZ" sz="5900" spc="-1" strike="noStrike">
                <a:solidFill>
                  <a:srgbClr val="000000"/>
                </a:solidFill>
                <a:latin typeface="Calibri"/>
              </a:rPr>
              <a:t>Z - diagram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časová řady – základní poj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000" spc="-1" strike="noStrike">
                <a:solidFill>
                  <a:srgbClr val="1f497d"/>
                </a:solidFill>
                <a:latin typeface="Calibri"/>
              </a:rPr>
              <a:t>statistická řa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…………………………………………………………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1f497d"/>
                </a:solidFill>
                <a:uFillTx/>
                <a:latin typeface="Calibri"/>
              </a:rPr>
              <a:t>časová řa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statistická řada upořádaná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podle …………………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1f497d"/>
                </a:solidFill>
                <a:latin typeface="Calibri"/>
              </a:rPr>
              <a:t>časová řada=…………………………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1f497d"/>
                </a:solidFill>
                <a:latin typeface="Calibri"/>
              </a:rPr>
              <a:t>…………………………………………………………………</a:t>
            </a:r>
            <a:r>
              <a:rPr b="0" lang="cs-CZ" sz="3000" spc="-1" strike="noStrike">
                <a:solidFill>
                  <a:srgbClr val="1f497d"/>
                </a:solidFill>
                <a:latin typeface="Calibri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ýhody po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íta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vého zpracování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24000" y="1484280"/>
            <a:ext cx="3249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řesnost a rych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niverzál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Graf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Flexibil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284720" y="1773360"/>
            <a:ext cx="43956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ové veličin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nadno lze vytvářet nové veličiny pomocí požadovaných transformací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elikost datových souborů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nadný přenos dat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2916360" y="573264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estavování časových ř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53316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držovat </a:t>
            </a: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zásady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tejně dlouhá časová období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 ……………………………………………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tejně velká území, příp. stejná úroveň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(………………………………………………………………………………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tejné jednotk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 Box 4"/>
          <p:cNvSpPr/>
          <p:nvPr/>
        </p:nvSpPr>
        <p:spPr>
          <a:xfrm>
            <a:off x="1224000" y="1066680"/>
            <a:ext cx="47466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Times New Roman"/>
              </a:rPr>
              <a:t>Cíl – získat porovnatelná čí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685800" y="3049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časová řada OKAMŽIKOVÁ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eduje se hodnoty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znaku k určitému okamžiku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66ff33"/>
                </a:solidFill>
                <a:latin typeface="Calibri"/>
              </a:rPr>
              <a:t>např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časová řada INTERVAL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eduje se hodnota znaku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v intervalu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obdob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6ff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ff33"/>
                </a:solidFill>
                <a:latin typeface="Calibri"/>
              </a:rPr>
              <a:t>př…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uze k této řadě se vztahuje </a:t>
            </a: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požadavek stejného intervalu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vláště u sledování</a:t>
            </a: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  ekonomických ukazatel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alýza časových ř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cíle analýz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jistit  hlavní rysy průběhu časových řad a analyzovat 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le průběhu  časové řad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66ff33"/>
                </a:solidFill>
                <a:uFillTx/>
                <a:latin typeface="Calibri"/>
              </a:rPr>
              <a:t>stacionární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bo</a:t>
            </a:r>
            <a:r>
              <a:rPr b="0" lang="cs-CZ" sz="3200" spc="-1" strike="noStrike">
                <a:solidFill>
                  <a:srgbClr val="66ff33"/>
                </a:solidFill>
                <a:latin typeface="Calibri"/>
              </a:rPr>
              <a:t> </a:t>
            </a:r>
            <a:r>
              <a:rPr b="1" lang="cs-CZ" sz="3200" spc="-1" strike="noStrike" u="sng">
                <a:solidFill>
                  <a:srgbClr val="66ff33"/>
                </a:solidFill>
                <a:uFillTx/>
                <a:latin typeface="Calibri"/>
              </a:rPr>
              <a:t>s tren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1" lang="cs-CZ" sz="3200" spc="-1" strike="noStrike" u="sng">
                <a:solidFill>
                  <a:srgbClr val="800080"/>
                </a:solidFill>
                <a:uFillTx/>
                <a:latin typeface="Calibri"/>
              </a:rPr>
              <a:t>periodickým opakováním</a:t>
            </a:r>
            <a:r>
              <a:rPr b="0" lang="cs-CZ" sz="3200" spc="-1" strike="noStrike">
                <a:solidFill>
                  <a:srgbClr val="800080"/>
                </a:solidFill>
                <a:latin typeface="Calibri"/>
              </a:rPr>
              <a:t> výkyvů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bo </a:t>
            </a:r>
            <a:r>
              <a:rPr b="1" lang="cs-CZ" sz="3200" spc="-1" strike="noStrike" u="sng">
                <a:solidFill>
                  <a:srgbClr val="800080"/>
                </a:solidFill>
                <a:uFillTx/>
                <a:latin typeface="Calibri"/>
              </a:rPr>
              <a:t>bez  </a:t>
            </a:r>
            <a:r>
              <a:rPr b="0" lang="cs-CZ" sz="3200" spc="-1" strike="noStrike">
                <a:solidFill>
                  <a:srgbClr val="800080"/>
                </a:solidFill>
                <a:latin typeface="Calibri"/>
              </a:rPr>
              <a:t>výkyv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šechny možné </a:t>
            </a:r>
            <a:r>
              <a:rPr b="0" lang="cs-CZ" sz="3200" spc="-1" strike="noStrike" u="sng">
                <a:solidFill>
                  <a:srgbClr val="cc99ff"/>
                </a:solidFill>
                <a:uFillTx/>
                <a:latin typeface="Calibri"/>
              </a:rPr>
              <a:t>kombinace</a:t>
            </a:r>
            <a:r>
              <a:rPr b="0" lang="cs-CZ" sz="3200" spc="-1" strike="noStrike">
                <a:solidFill>
                  <a:srgbClr val="cc99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arakteristiky časových ř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57200" y="24382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řírůstk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1f497d"/>
                </a:solidFill>
                <a:uFillTx/>
                <a:latin typeface="Calibri"/>
              </a:rPr>
              <a:t>absolutní přírůstek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– …………………………………………………………………………………………………………………………………………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1f497d"/>
                </a:solidFill>
                <a:uFillTx/>
                <a:latin typeface="Calibri"/>
              </a:rPr>
              <a:t>relativní přírůste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……………………………………………………………………………………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 Box 4"/>
          <p:cNvSpPr/>
          <p:nvPr/>
        </p:nvSpPr>
        <p:spPr>
          <a:xfrm>
            <a:off x="2362320" y="114300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růstky a index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tězové a bazické index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bazický index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řetězový index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koeficient růstu )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Klouzavé úhr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zvláštní typ součtové čá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hodné pro porovnávání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dvou či více  řad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hodnot za po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sobě následující obdob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př.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olísá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ročního chodu sráž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stup viz. např. skripta Brázdil. a kol. str. 14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Group 200"/>
          <p:cNvGrpSpPr/>
          <p:nvPr/>
        </p:nvGrpSpPr>
        <p:grpSpPr>
          <a:xfrm>
            <a:off x="304920" y="457200"/>
            <a:ext cx="8838360" cy="2438280"/>
            <a:chOff x="304920" y="457200"/>
            <a:chExt cx="8838360" cy="2438280"/>
          </a:xfrm>
        </p:grpSpPr>
        <p:grpSp>
          <p:nvGrpSpPr>
            <p:cNvPr id="668" name="Group 47"/>
            <p:cNvGrpSpPr/>
            <p:nvPr/>
          </p:nvGrpSpPr>
          <p:grpSpPr>
            <a:xfrm>
              <a:off x="304920" y="457200"/>
              <a:ext cx="2526480" cy="762120"/>
              <a:chOff x="304920" y="457200"/>
              <a:chExt cx="2526480" cy="762120"/>
            </a:xfrm>
          </p:grpSpPr>
          <p:sp>
            <p:nvSpPr>
              <p:cNvPr id="669" name="Rectangle 46"/>
              <p:cNvSpPr/>
              <p:nvPr/>
            </p:nvSpPr>
            <p:spPr>
              <a:xfrm>
                <a:off x="304920" y="457200"/>
                <a:ext cx="252648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0" name="Group 45"/>
              <p:cNvGrpSpPr/>
              <p:nvPr/>
            </p:nvGrpSpPr>
            <p:grpSpPr>
              <a:xfrm>
                <a:off x="304920" y="457200"/>
                <a:ext cx="2526120" cy="762120"/>
                <a:chOff x="304920" y="457200"/>
                <a:chExt cx="2526120" cy="762120"/>
              </a:xfrm>
            </p:grpSpPr>
            <p:sp>
              <p:nvSpPr>
                <p:cNvPr id="671" name="Rectangle 5"/>
                <p:cNvSpPr/>
                <p:nvPr/>
              </p:nvSpPr>
              <p:spPr>
                <a:xfrm>
                  <a:off x="304920" y="457200"/>
                  <a:ext cx="252612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ěsí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Rectangle 44"/>
                <p:cNvSpPr/>
                <p:nvPr/>
              </p:nvSpPr>
              <p:spPr>
                <a:xfrm>
                  <a:off x="304920" y="457200"/>
                  <a:ext cx="25261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3" name="Group 51"/>
            <p:cNvGrpSpPr/>
            <p:nvPr/>
          </p:nvGrpSpPr>
          <p:grpSpPr>
            <a:xfrm>
              <a:off x="2831760" y="457200"/>
              <a:ext cx="700200" cy="762120"/>
              <a:chOff x="2831760" y="457200"/>
              <a:chExt cx="700200" cy="762120"/>
            </a:xfrm>
          </p:grpSpPr>
          <p:sp>
            <p:nvSpPr>
              <p:cNvPr id="674" name="Rectangle 50"/>
              <p:cNvSpPr/>
              <p:nvPr/>
            </p:nvSpPr>
            <p:spPr>
              <a:xfrm>
                <a:off x="2831760" y="457200"/>
                <a:ext cx="70020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5" name="Group 49"/>
              <p:cNvGrpSpPr/>
              <p:nvPr/>
            </p:nvGrpSpPr>
            <p:grpSpPr>
              <a:xfrm>
                <a:off x="2831760" y="457200"/>
                <a:ext cx="699840" cy="762120"/>
                <a:chOff x="2831760" y="457200"/>
                <a:chExt cx="699840" cy="762120"/>
              </a:xfrm>
            </p:grpSpPr>
            <p:sp>
              <p:nvSpPr>
                <p:cNvPr id="676" name="Rectangle 6"/>
                <p:cNvSpPr/>
                <p:nvPr/>
              </p:nvSpPr>
              <p:spPr>
                <a:xfrm>
                  <a:off x="2831760" y="457200"/>
                  <a:ext cx="69984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Rectangle 48"/>
                <p:cNvSpPr/>
                <p:nvPr/>
              </p:nvSpPr>
              <p:spPr>
                <a:xfrm>
                  <a:off x="2831760" y="457200"/>
                  <a:ext cx="6998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8" name="Group 55"/>
            <p:cNvGrpSpPr/>
            <p:nvPr/>
          </p:nvGrpSpPr>
          <p:grpSpPr>
            <a:xfrm>
              <a:off x="3532680" y="457200"/>
              <a:ext cx="537120" cy="762120"/>
              <a:chOff x="3532680" y="457200"/>
              <a:chExt cx="537120" cy="762120"/>
            </a:xfrm>
          </p:grpSpPr>
          <p:sp>
            <p:nvSpPr>
              <p:cNvPr id="679" name="Rectangle 54"/>
              <p:cNvSpPr/>
              <p:nvPr/>
            </p:nvSpPr>
            <p:spPr>
              <a:xfrm>
                <a:off x="353268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0" name="Group 53"/>
              <p:cNvGrpSpPr/>
              <p:nvPr/>
            </p:nvGrpSpPr>
            <p:grpSpPr>
              <a:xfrm>
                <a:off x="3532680" y="457200"/>
                <a:ext cx="536760" cy="762120"/>
                <a:chOff x="3532680" y="457200"/>
                <a:chExt cx="536760" cy="762120"/>
              </a:xfrm>
            </p:grpSpPr>
            <p:sp>
              <p:nvSpPr>
                <p:cNvPr id="681" name="Rectangle 7"/>
                <p:cNvSpPr/>
                <p:nvPr/>
              </p:nvSpPr>
              <p:spPr>
                <a:xfrm>
                  <a:off x="353268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Rectangle 52"/>
                <p:cNvSpPr/>
                <p:nvPr/>
              </p:nvSpPr>
              <p:spPr>
                <a:xfrm>
                  <a:off x="353268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3" name="Group 59"/>
            <p:cNvGrpSpPr/>
            <p:nvPr/>
          </p:nvGrpSpPr>
          <p:grpSpPr>
            <a:xfrm>
              <a:off x="4070520" y="457200"/>
              <a:ext cx="450720" cy="762120"/>
              <a:chOff x="4070520" y="457200"/>
              <a:chExt cx="450720" cy="762120"/>
            </a:xfrm>
          </p:grpSpPr>
          <p:sp>
            <p:nvSpPr>
              <p:cNvPr id="684" name="Rectangle 58"/>
              <p:cNvSpPr/>
              <p:nvPr/>
            </p:nvSpPr>
            <p:spPr>
              <a:xfrm>
                <a:off x="4070520" y="457200"/>
                <a:ext cx="4507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5" name="Group 57"/>
              <p:cNvGrpSpPr/>
              <p:nvPr/>
            </p:nvGrpSpPr>
            <p:grpSpPr>
              <a:xfrm>
                <a:off x="4070520" y="457200"/>
                <a:ext cx="450360" cy="762120"/>
                <a:chOff x="4070520" y="457200"/>
                <a:chExt cx="450360" cy="762120"/>
              </a:xfrm>
            </p:grpSpPr>
            <p:sp>
              <p:nvSpPr>
                <p:cNvPr id="686" name="Rectangle 8"/>
                <p:cNvSpPr/>
                <p:nvPr/>
              </p:nvSpPr>
              <p:spPr>
                <a:xfrm>
                  <a:off x="4070520" y="457200"/>
                  <a:ext cx="4503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Rectangle 56"/>
                <p:cNvSpPr/>
                <p:nvPr/>
              </p:nvSpPr>
              <p:spPr>
                <a:xfrm>
                  <a:off x="4070520" y="457200"/>
                  <a:ext cx="4503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8" name="Group 63"/>
            <p:cNvGrpSpPr/>
            <p:nvPr/>
          </p:nvGrpSpPr>
          <p:grpSpPr>
            <a:xfrm>
              <a:off x="4521600" y="457200"/>
              <a:ext cx="404280" cy="762120"/>
              <a:chOff x="4521600" y="457200"/>
              <a:chExt cx="404280" cy="762120"/>
            </a:xfrm>
          </p:grpSpPr>
          <p:sp>
            <p:nvSpPr>
              <p:cNvPr id="689" name="Rectangle 62"/>
              <p:cNvSpPr/>
              <p:nvPr/>
            </p:nvSpPr>
            <p:spPr>
              <a:xfrm>
                <a:off x="4521600" y="457200"/>
                <a:ext cx="40428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0" name="Group 61"/>
              <p:cNvGrpSpPr/>
              <p:nvPr/>
            </p:nvGrpSpPr>
            <p:grpSpPr>
              <a:xfrm>
                <a:off x="4521600" y="457200"/>
                <a:ext cx="403920" cy="762120"/>
                <a:chOff x="4521600" y="457200"/>
                <a:chExt cx="403920" cy="762120"/>
              </a:xfrm>
            </p:grpSpPr>
            <p:sp>
              <p:nvSpPr>
                <p:cNvPr id="691" name="Rectangle 9"/>
                <p:cNvSpPr/>
                <p:nvPr/>
              </p:nvSpPr>
              <p:spPr>
                <a:xfrm>
                  <a:off x="4521600" y="457200"/>
                  <a:ext cx="40392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Rectangle 60"/>
                <p:cNvSpPr/>
                <p:nvPr/>
              </p:nvSpPr>
              <p:spPr>
                <a:xfrm>
                  <a:off x="4521600" y="457200"/>
                  <a:ext cx="4039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3" name="Group 67"/>
            <p:cNvGrpSpPr/>
            <p:nvPr/>
          </p:nvGrpSpPr>
          <p:grpSpPr>
            <a:xfrm>
              <a:off x="4926600" y="457200"/>
              <a:ext cx="537840" cy="762120"/>
              <a:chOff x="4926600" y="457200"/>
              <a:chExt cx="537840" cy="762120"/>
            </a:xfrm>
          </p:grpSpPr>
          <p:sp>
            <p:nvSpPr>
              <p:cNvPr id="694" name="Rectangle 66"/>
              <p:cNvSpPr/>
              <p:nvPr/>
            </p:nvSpPr>
            <p:spPr>
              <a:xfrm>
                <a:off x="4926600" y="457200"/>
                <a:ext cx="5378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5" name="Group 65"/>
              <p:cNvGrpSpPr/>
              <p:nvPr/>
            </p:nvGrpSpPr>
            <p:grpSpPr>
              <a:xfrm>
                <a:off x="4926600" y="457200"/>
                <a:ext cx="537480" cy="762120"/>
                <a:chOff x="4926600" y="457200"/>
                <a:chExt cx="537480" cy="762120"/>
              </a:xfrm>
            </p:grpSpPr>
            <p:sp>
              <p:nvSpPr>
                <p:cNvPr id="696" name="Rectangle 10"/>
                <p:cNvSpPr/>
                <p:nvPr/>
              </p:nvSpPr>
              <p:spPr>
                <a:xfrm>
                  <a:off x="4926600" y="457200"/>
                  <a:ext cx="5374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Rectangle 64"/>
                <p:cNvSpPr/>
                <p:nvPr/>
              </p:nvSpPr>
              <p:spPr>
                <a:xfrm>
                  <a:off x="4926600" y="457200"/>
                  <a:ext cx="5374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8" name="Group 71"/>
            <p:cNvGrpSpPr/>
            <p:nvPr/>
          </p:nvGrpSpPr>
          <p:grpSpPr>
            <a:xfrm>
              <a:off x="5465160" y="457200"/>
              <a:ext cx="537120" cy="762120"/>
              <a:chOff x="5465160" y="457200"/>
              <a:chExt cx="537120" cy="762120"/>
            </a:xfrm>
          </p:grpSpPr>
          <p:sp>
            <p:nvSpPr>
              <p:cNvPr id="699" name="Rectangle 70"/>
              <p:cNvSpPr/>
              <p:nvPr/>
            </p:nvSpPr>
            <p:spPr>
              <a:xfrm>
                <a:off x="546516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0" name="Group 69"/>
              <p:cNvGrpSpPr/>
              <p:nvPr/>
            </p:nvGrpSpPr>
            <p:grpSpPr>
              <a:xfrm>
                <a:off x="5465160" y="457200"/>
                <a:ext cx="536760" cy="762120"/>
                <a:chOff x="5465160" y="457200"/>
                <a:chExt cx="536760" cy="762120"/>
              </a:xfrm>
            </p:grpSpPr>
            <p:sp>
              <p:nvSpPr>
                <p:cNvPr id="701" name="Rectangle 11"/>
                <p:cNvSpPr/>
                <p:nvPr/>
              </p:nvSpPr>
              <p:spPr>
                <a:xfrm>
                  <a:off x="546516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Rectangle 68"/>
                <p:cNvSpPr/>
                <p:nvPr/>
              </p:nvSpPr>
              <p:spPr>
                <a:xfrm>
                  <a:off x="546516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3" name="Group 75"/>
            <p:cNvGrpSpPr/>
            <p:nvPr/>
          </p:nvGrpSpPr>
          <p:grpSpPr>
            <a:xfrm>
              <a:off x="6003000" y="457200"/>
              <a:ext cx="537120" cy="762120"/>
              <a:chOff x="6003000" y="457200"/>
              <a:chExt cx="537120" cy="762120"/>
            </a:xfrm>
          </p:grpSpPr>
          <p:sp>
            <p:nvSpPr>
              <p:cNvPr id="704" name="Rectangle 74"/>
              <p:cNvSpPr/>
              <p:nvPr/>
            </p:nvSpPr>
            <p:spPr>
              <a:xfrm>
                <a:off x="600300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5" name="Group 73"/>
              <p:cNvGrpSpPr/>
              <p:nvPr/>
            </p:nvGrpSpPr>
            <p:grpSpPr>
              <a:xfrm>
                <a:off x="6003000" y="457200"/>
                <a:ext cx="536760" cy="762120"/>
                <a:chOff x="6003000" y="457200"/>
                <a:chExt cx="536760" cy="762120"/>
              </a:xfrm>
            </p:grpSpPr>
            <p:sp>
              <p:nvSpPr>
                <p:cNvPr id="706" name="Rectangle 12"/>
                <p:cNvSpPr/>
                <p:nvPr/>
              </p:nvSpPr>
              <p:spPr>
                <a:xfrm>
                  <a:off x="600300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Rectangle 72"/>
                <p:cNvSpPr/>
                <p:nvPr/>
              </p:nvSpPr>
              <p:spPr>
                <a:xfrm>
                  <a:off x="600300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8" name="Group 79"/>
            <p:cNvGrpSpPr/>
            <p:nvPr/>
          </p:nvGrpSpPr>
          <p:grpSpPr>
            <a:xfrm>
              <a:off x="6540840" y="457200"/>
              <a:ext cx="537120" cy="762120"/>
              <a:chOff x="6540840" y="457200"/>
              <a:chExt cx="537120" cy="762120"/>
            </a:xfrm>
          </p:grpSpPr>
          <p:sp>
            <p:nvSpPr>
              <p:cNvPr id="709" name="Rectangle 78"/>
              <p:cNvSpPr/>
              <p:nvPr/>
            </p:nvSpPr>
            <p:spPr>
              <a:xfrm>
                <a:off x="654084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0" name="Group 77"/>
              <p:cNvGrpSpPr/>
              <p:nvPr/>
            </p:nvGrpSpPr>
            <p:grpSpPr>
              <a:xfrm>
                <a:off x="6540840" y="457200"/>
                <a:ext cx="536760" cy="762120"/>
                <a:chOff x="6540840" y="457200"/>
                <a:chExt cx="536760" cy="762120"/>
              </a:xfrm>
            </p:grpSpPr>
            <p:sp>
              <p:nvSpPr>
                <p:cNvPr id="711" name="Rectangle 13"/>
                <p:cNvSpPr/>
                <p:nvPr/>
              </p:nvSpPr>
              <p:spPr>
                <a:xfrm>
                  <a:off x="654084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Rectangle 76"/>
                <p:cNvSpPr/>
                <p:nvPr/>
              </p:nvSpPr>
              <p:spPr>
                <a:xfrm>
                  <a:off x="654084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3" name="Group 83"/>
            <p:cNvGrpSpPr/>
            <p:nvPr/>
          </p:nvGrpSpPr>
          <p:grpSpPr>
            <a:xfrm>
              <a:off x="7078680" y="457200"/>
              <a:ext cx="537840" cy="762120"/>
              <a:chOff x="7078680" y="457200"/>
              <a:chExt cx="537840" cy="762120"/>
            </a:xfrm>
          </p:grpSpPr>
          <p:sp>
            <p:nvSpPr>
              <p:cNvPr id="714" name="Rectangle 82"/>
              <p:cNvSpPr/>
              <p:nvPr/>
            </p:nvSpPr>
            <p:spPr>
              <a:xfrm>
                <a:off x="7078680" y="457200"/>
                <a:ext cx="5378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5" name="Group 81"/>
              <p:cNvGrpSpPr/>
              <p:nvPr/>
            </p:nvGrpSpPr>
            <p:grpSpPr>
              <a:xfrm>
                <a:off x="7078680" y="457200"/>
                <a:ext cx="537480" cy="762120"/>
                <a:chOff x="7078680" y="457200"/>
                <a:chExt cx="537480" cy="762120"/>
              </a:xfrm>
            </p:grpSpPr>
            <p:sp>
              <p:nvSpPr>
                <p:cNvPr id="716" name="Rectangle 14"/>
                <p:cNvSpPr/>
                <p:nvPr/>
              </p:nvSpPr>
              <p:spPr>
                <a:xfrm>
                  <a:off x="7078680" y="457200"/>
                  <a:ext cx="5374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Rectangle 80"/>
                <p:cNvSpPr/>
                <p:nvPr/>
              </p:nvSpPr>
              <p:spPr>
                <a:xfrm>
                  <a:off x="7078680" y="457200"/>
                  <a:ext cx="5374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8" name="Group 87"/>
            <p:cNvGrpSpPr/>
            <p:nvPr/>
          </p:nvGrpSpPr>
          <p:grpSpPr>
            <a:xfrm>
              <a:off x="7616880" y="457200"/>
              <a:ext cx="537120" cy="762120"/>
              <a:chOff x="7616880" y="457200"/>
              <a:chExt cx="537120" cy="762120"/>
            </a:xfrm>
          </p:grpSpPr>
          <p:sp>
            <p:nvSpPr>
              <p:cNvPr id="719" name="Rectangle 86"/>
              <p:cNvSpPr/>
              <p:nvPr/>
            </p:nvSpPr>
            <p:spPr>
              <a:xfrm>
                <a:off x="761688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0" name="Group 85"/>
              <p:cNvGrpSpPr/>
              <p:nvPr/>
            </p:nvGrpSpPr>
            <p:grpSpPr>
              <a:xfrm>
                <a:off x="7616880" y="457200"/>
                <a:ext cx="536760" cy="762120"/>
                <a:chOff x="7616880" y="457200"/>
                <a:chExt cx="536760" cy="762120"/>
              </a:xfrm>
            </p:grpSpPr>
            <p:sp>
              <p:nvSpPr>
                <p:cNvPr id="721" name="Rectangle 15"/>
                <p:cNvSpPr/>
                <p:nvPr/>
              </p:nvSpPr>
              <p:spPr>
                <a:xfrm>
                  <a:off x="761688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Rectangle 84"/>
                <p:cNvSpPr/>
                <p:nvPr/>
              </p:nvSpPr>
              <p:spPr>
                <a:xfrm>
                  <a:off x="761688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3" name="Group 91"/>
            <p:cNvGrpSpPr/>
            <p:nvPr/>
          </p:nvGrpSpPr>
          <p:grpSpPr>
            <a:xfrm>
              <a:off x="8154720" y="457200"/>
              <a:ext cx="541800" cy="762120"/>
              <a:chOff x="8154720" y="457200"/>
              <a:chExt cx="541800" cy="762120"/>
            </a:xfrm>
          </p:grpSpPr>
          <p:sp>
            <p:nvSpPr>
              <p:cNvPr id="724" name="Rectangle 90"/>
              <p:cNvSpPr/>
              <p:nvPr/>
            </p:nvSpPr>
            <p:spPr>
              <a:xfrm>
                <a:off x="8154720" y="457200"/>
                <a:ext cx="54180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5" name="Group 89"/>
              <p:cNvGrpSpPr/>
              <p:nvPr/>
            </p:nvGrpSpPr>
            <p:grpSpPr>
              <a:xfrm>
                <a:off x="8154720" y="457200"/>
                <a:ext cx="541440" cy="762120"/>
                <a:chOff x="8154720" y="457200"/>
                <a:chExt cx="541440" cy="762120"/>
              </a:xfrm>
            </p:grpSpPr>
            <p:sp>
              <p:nvSpPr>
                <p:cNvPr id="726" name="Rectangle 16"/>
                <p:cNvSpPr/>
                <p:nvPr/>
              </p:nvSpPr>
              <p:spPr>
                <a:xfrm>
                  <a:off x="8154720" y="457200"/>
                  <a:ext cx="54144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Rectangle 88"/>
                <p:cNvSpPr/>
                <p:nvPr/>
              </p:nvSpPr>
              <p:spPr>
                <a:xfrm>
                  <a:off x="8154720" y="457200"/>
                  <a:ext cx="5414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8" name="Group 95"/>
            <p:cNvGrpSpPr/>
            <p:nvPr/>
          </p:nvGrpSpPr>
          <p:grpSpPr>
            <a:xfrm>
              <a:off x="8697240" y="457200"/>
              <a:ext cx="446040" cy="762120"/>
              <a:chOff x="8697240" y="457200"/>
              <a:chExt cx="446040" cy="762120"/>
            </a:xfrm>
          </p:grpSpPr>
          <p:sp>
            <p:nvSpPr>
              <p:cNvPr id="729" name="Rectangle 94"/>
              <p:cNvSpPr/>
              <p:nvPr/>
            </p:nvSpPr>
            <p:spPr>
              <a:xfrm>
                <a:off x="8697240" y="457200"/>
                <a:ext cx="4460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0" name="Group 93"/>
              <p:cNvGrpSpPr/>
              <p:nvPr/>
            </p:nvGrpSpPr>
            <p:grpSpPr>
              <a:xfrm>
                <a:off x="8697240" y="457200"/>
                <a:ext cx="445680" cy="762120"/>
                <a:chOff x="8697240" y="457200"/>
                <a:chExt cx="445680" cy="762120"/>
              </a:xfrm>
            </p:grpSpPr>
            <p:sp>
              <p:nvSpPr>
                <p:cNvPr id="731" name="Rectangle 17"/>
                <p:cNvSpPr/>
                <p:nvPr/>
              </p:nvSpPr>
              <p:spPr>
                <a:xfrm>
                  <a:off x="8697240" y="457200"/>
                  <a:ext cx="4456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Rectangle 92"/>
                <p:cNvSpPr/>
                <p:nvPr/>
              </p:nvSpPr>
              <p:spPr>
                <a:xfrm>
                  <a:off x="8697240" y="457200"/>
                  <a:ext cx="4456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3" name="Group 99"/>
            <p:cNvGrpSpPr/>
            <p:nvPr/>
          </p:nvGrpSpPr>
          <p:grpSpPr>
            <a:xfrm>
              <a:off x="304920" y="1219320"/>
              <a:ext cx="2526480" cy="761760"/>
              <a:chOff x="304920" y="1219320"/>
              <a:chExt cx="2526480" cy="761760"/>
            </a:xfrm>
          </p:grpSpPr>
          <p:sp>
            <p:nvSpPr>
              <p:cNvPr id="734" name="Rectangle 98"/>
              <p:cNvSpPr/>
              <p:nvPr/>
            </p:nvSpPr>
            <p:spPr>
              <a:xfrm>
                <a:off x="304920" y="1219320"/>
                <a:ext cx="252648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5" name="Group 97"/>
              <p:cNvGrpSpPr/>
              <p:nvPr/>
            </p:nvGrpSpPr>
            <p:grpSpPr>
              <a:xfrm>
                <a:off x="304920" y="1219320"/>
                <a:ext cx="2526120" cy="761760"/>
                <a:chOff x="304920" y="1219320"/>
                <a:chExt cx="2526120" cy="761760"/>
              </a:xfrm>
            </p:grpSpPr>
            <p:sp>
              <p:nvSpPr>
                <p:cNvPr id="736" name="Rectangle 18"/>
                <p:cNvSpPr/>
                <p:nvPr/>
              </p:nvSpPr>
              <p:spPr>
                <a:xfrm>
                  <a:off x="304920" y="1219320"/>
                  <a:ext cx="252612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ům úhrn srážek;2002; 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Rectangle 96"/>
                <p:cNvSpPr/>
                <p:nvPr/>
              </p:nvSpPr>
              <p:spPr>
                <a:xfrm>
                  <a:off x="304920" y="1219320"/>
                  <a:ext cx="252612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8" name="Group 103"/>
            <p:cNvGrpSpPr/>
            <p:nvPr/>
          </p:nvGrpSpPr>
          <p:grpSpPr>
            <a:xfrm>
              <a:off x="2831760" y="1219320"/>
              <a:ext cx="700200" cy="761760"/>
              <a:chOff x="2831760" y="1219320"/>
              <a:chExt cx="700200" cy="761760"/>
            </a:xfrm>
          </p:grpSpPr>
          <p:sp>
            <p:nvSpPr>
              <p:cNvPr id="739" name="Rectangle 102"/>
              <p:cNvSpPr/>
              <p:nvPr/>
            </p:nvSpPr>
            <p:spPr>
              <a:xfrm>
                <a:off x="2831760" y="1219320"/>
                <a:ext cx="70020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0" name="Group 101"/>
              <p:cNvGrpSpPr/>
              <p:nvPr/>
            </p:nvGrpSpPr>
            <p:grpSpPr>
              <a:xfrm>
                <a:off x="2831760" y="1219320"/>
                <a:ext cx="699840" cy="761760"/>
                <a:chOff x="2831760" y="1219320"/>
                <a:chExt cx="699840" cy="761760"/>
              </a:xfrm>
            </p:grpSpPr>
            <p:sp>
              <p:nvSpPr>
                <p:cNvPr id="741" name="Rectangle 19"/>
                <p:cNvSpPr/>
                <p:nvPr/>
              </p:nvSpPr>
              <p:spPr>
                <a:xfrm>
                  <a:off x="2831760" y="1219320"/>
                  <a:ext cx="69984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Rectangle 100"/>
                <p:cNvSpPr/>
                <p:nvPr/>
              </p:nvSpPr>
              <p:spPr>
                <a:xfrm>
                  <a:off x="2831760" y="1219320"/>
                  <a:ext cx="6998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3" name="Group 107"/>
            <p:cNvGrpSpPr/>
            <p:nvPr/>
          </p:nvGrpSpPr>
          <p:grpSpPr>
            <a:xfrm>
              <a:off x="3532680" y="1219320"/>
              <a:ext cx="537120" cy="761760"/>
              <a:chOff x="3532680" y="1219320"/>
              <a:chExt cx="537120" cy="761760"/>
            </a:xfrm>
          </p:grpSpPr>
          <p:sp>
            <p:nvSpPr>
              <p:cNvPr id="744" name="Rectangle 106"/>
              <p:cNvSpPr/>
              <p:nvPr/>
            </p:nvSpPr>
            <p:spPr>
              <a:xfrm>
                <a:off x="353268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5" name="Group 105"/>
              <p:cNvGrpSpPr/>
              <p:nvPr/>
            </p:nvGrpSpPr>
            <p:grpSpPr>
              <a:xfrm>
                <a:off x="3532680" y="1219320"/>
                <a:ext cx="536760" cy="761760"/>
                <a:chOff x="3532680" y="1219320"/>
                <a:chExt cx="536760" cy="761760"/>
              </a:xfrm>
            </p:grpSpPr>
            <p:sp>
              <p:nvSpPr>
                <p:cNvPr id="746" name="Rectangle 20"/>
                <p:cNvSpPr/>
                <p:nvPr/>
              </p:nvSpPr>
              <p:spPr>
                <a:xfrm>
                  <a:off x="353268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Rectangle 104"/>
                <p:cNvSpPr/>
                <p:nvPr/>
              </p:nvSpPr>
              <p:spPr>
                <a:xfrm>
                  <a:off x="353268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8" name="Group 111"/>
            <p:cNvGrpSpPr/>
            <p:nvPr/>
          </p:nvGrpSpPr>
          <p:grpSpPr>
            <a:xfrm>
              <a:off x="4070520" y="1219320"/>
              <a:ext cx="450720" cy="761760"/>
              <a:chOff x="4070520" y="1219320"/>
              <a:chExt cx="450720" cy="761760"/>
            </a:xfrm>
          </p:grpSpPr>
          <p:sp>
            <p:nvSpPr>
              <p:cNvPr id="749" name="Rectangle 110"/>
              <p:cNvSpPr/>
              <p:nvPr/>
            </p:nvSpPr>
            <p:spPr>
              <a:xfrm>
                <a:off x="4070520" y="1219320"/>
                <a:ext cx="4507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0" name="Group 109"/>
              <p:cNvGrpSpPr/>
              <p:nvPr/>
            </p:nvGrpSpPr>
            <p:grpSpPr>
              <a:xfrm>
                <a:off x="4070520" y="1219320"/>
                <a:ext cx="450360" cy="761760"/>
                <a:chOff x="4070520" y="1219320"/>
                <a:chExt cx="450360" cy="761760"/>
              </a:xfrm>
            </p:grpSpPr>
            <p:sp>
              <p:nvSpPr>
                <p:cNvPr id="751" name="Rectangle 21"/>
                <p:cNvSpPr/>
                <p:nvPr/>
              </p:nvSpPr>
              <p:spPr>
                <a:xfrm>
                  <a:off x="4070520" y="1219320"/>
                  <a:ext cx="4503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Rectangle 108"/>
                <p:cNvSpPr/>
                <p:nvPr/>
              </p:nvSpPr>
              <p:spPr>
                <a:xfrm>
                  <a:off x="4070520" y="1219320"/>
                  <a:ext cx="4503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3" name="Group 115"/>
            <p:cNvGrpSpPr/>
            <p:nvPr/>
          </p:nvGrpSpPr>
          <p:grpSpPr>
            <a:xfrm>
              <a:off x="4521600" y="1219320"/>
              <a:ext cx="404280" cy="761760"/>
              <a:chOff x="4521600" y="1219320"/>
              <a:chExt cx="404280" cy="761760"/>
            </a:xfrm>
          </p:grpSpPr>
          <p:sp>
            <p:nvSpPr>
              <p:cNvPr id="754" name="Rectangle 114"/>
              <p:cNvSpPr/>
              <p:nvPr/>
            </p:nvSpPr>
            <p:spPr>
              <a:xfrm>
                <a:off x="4521600" y="1219320"/>
                <a:ext cx="40428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5" name="Group 113"/>
              <p:cNvGrpSpPr/>
              <p:nvPr/>
            </p:nvGrpSpPr>
            <p:grpSpPr>
              <a:xfrm>
                <a:off x="4521600" y="1219320"/>
                <a:ext cx="403920" cy="761760"/>
                <a:chOff x="4521600" y="1219320"/>
                <a:chExt cx="403920" cy="761760"/>
              </a:xfrm>
            </p:grpSpPr>
            <p:sp>
              <p:nvSpPr>
                <p:cNvPr id="756" name="Rectangle 22"/>
                <p:cNvSpPr/>
                <p:nvPr/>
              </p:nvSpPr>
              <p:spPr>
                <a:xfrm>
                  <a:off x="4521600" y="1219320"/>
                  <a:ext cx="40392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Rectangle 112"/>
                <p:cNvSpPr/>
                <p:nvPr/>
              </p:nvSpPr>
              <p:spPr>
                <a:xfrm>
                  <a:off x="4521600" y="1219320"/>
                  <a:ext cx="40392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8" name="Group 119"/>
            <p:cNvGrpSpPr/>
            <p:nvPr/>
          </p:nvGrpSpPr>
          <p:grpSpPr>
            <a:xfrm>
              <a:off x="4926600" y="1219320"/>
              <a:ext cx="537840" cy="761760"/>
              <a:chOff x="4926600" y="1219320"/>
              <a:chExt cx="537840" cy="761760"/>
            </a:xfrm>
          </p:grpSpPr>
          <p:sp>
            <p:nvSpPr>
              <p:cNvPr id="759" name="Rectangle 118"/>
              <p:cNvSpPr/>
              <p:nvPr/>
            </p:nvSpPr>
            <p:spPr>
              <a:xfrm>
                <a:off x="4926600" y="1219320"/>
                <a:ext cx="5378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0" name="Group 117"/>
              <p:cNvGrpSpPr/>
              <p:nvPr/>
            </p:nvGrpSpPr>
            <p:grpSpPr>
              <a:xfrm>
                <a:off x="4926600" y="1219320"/>
                <a:ext cx="537480" cy="761760"/>
                <a:chOff x="4926600" y="1219320"/>
                <a:chExt cx="537480" cy="761760"/>
              </a:xfrm>
            </p:grpSpPr>
            <p:sp>
              <p:nvSpPr>
                <p:cNvPr id="761" name="Rectangle 23"/>
                <p:cNvSpPr/>
                <p:nvPr/>
              </p:nvSpPr>
              <p:spPr>
                <a:xfrm>
                  <a:off x="4926600" y="1219320"/>
                  <a:ext cx="5374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5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Rectangle 116"/>
                <p:cNvSpPr/>
                <p:nvPr/>
              </p:nvSpPr>
              <p:spPr>
                <a:xfrm>
                  <a:off x="4926600" y="1219320"/>
                  <a:ext cx="5374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3" name="Group 123"/>
            <p:cNvGrpSpPr/>
            <p:nvPr/>
          </p:nvGrpSpPr>
          <p:grpSpPr>
            <a:xfrm>
              <a:off x="5465160" y="1219320"/>
              <a:ext cx="537120" cy="761760"/>
              <a:chOff x="5465160" y="1219320"/>
              <a:chExt cx="537120" cy="761760"/>
            </a:xfrm>
          </p:grpSpPr>
          <p:sp>
            <p:nvSpPr>
              <p:cNvPr id="764" name="Rectangle 122"/>
              <p:cNvSpPr/>
              <p:nvPr/>
            </p:nvSpPr>
            <p:spPr>
              <a:xfrm>
                <a:off x="546516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5" name="Group 121"/>
              <p:cNvGrpSpPr/>
              <p:nvPr/>
            </p:nvGrpSpPr>
            <p:grpSpPr>
              <a:xfrm>
                <a:off x="5465160" y="1219320"/>
                <a:ext cx="536760" cy="761760"/>
                <a:chOff x="5465160" y="1219320"/>
                <a:chExt cx="536760" cy="761760"/>
              </a:xfrm>
            </p:grpSpPr>
            <p:sp>
              <p:nvSpPr>
                <p:cNvPr id="766" name="Rectangle 24"/>
                <p:cNvSpPr/>
                <p:nvPr/>
              </p:nvSpPr>
              <p:spPr>
                <a:xfrm>
                  <a:off x="546516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1,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Rectangle 120"/>
                <p:cNvSpPr/>
                <p:nvPr/>
              </p:nvSpPr>
              <p:spPr>
                <a:xfrm>
                  <a:off x="546516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8" name="Group 127"/>
            <p:cNvGrpSpPr/>
            <p:nvPr/>
          </p:nvGrpSpPr>
          <p:grpSpPr>
            <a:xfrm>
              <a:off x="6003000" y="1219320"/>
              <a:ext cx="537120" cy="761760"/>
              <a:chOff x="6003000" y="1219320"/>
              <a:chExt cx="537120" cy="761760"/>
            </a:xfrm>
          </p:grpSpPr>
          <p:sp>
            <p:nvSpPr>
              <p:cNvPr id="769" name="Rectangle 126"/>
              <p:cNvSpPr/>
              <p:nvPr/>
            </p:nvSpPr>
            <p:spPr>
              <a:xfrm>
                <a:off x="600300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0" name="Group 125"/>
              <p:cNvGrpSpPr/>
              <p:nvPr/>
            </p:nvGrpSpPr>
            <p:grpSpPr>
              <a:xfrm>
                <a:off x="6003000" y="1219320"/>
                <a:ext cx="536760" cy="761760"/>
                <a:chOff x="6003000" y="1219320"/>
                <a:chExt cx="536760" cy="761760"/>
              </a:xfrm>
            </p:grpSpPr>
            <p:sp>
              <p:nvSpPr>
                <p:cNvPr id="771" name="Rectangle 25"/>
                <p:cNvSpPr/>
                <p:nvPr/>
              </p:nvSpPr>
              <p:spPr>
                <a:xfrm>
                  <a:off x="600300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Rectangle 124"/>
                <p:cNvSpPr/>
                <p:nvPr/>
              </p:nvSpPr>
              <p:spPr>
                <a:xfrm>
                  <a:off x="600300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3" name="Group 131"/>
            <p:cNvGrpSpPr/>
            <p:nvPr/>
          </p:nvGrpSpPr>
          <p:grpSpPr>
            <a:xfrm>
              <a:off x="6540840" y="1219320"/>
              <a:ext cx="537120" cy="761760"/>
              <a:chOff x="6540840" y="1219320"/>
              <a:chExt cx="537120" cy="761760"/>
            </a:xfrm>
          </p:grpSpPr>
          <p:sp>
            <p:nvSpPr>
              <p:cNvPr id="774" name="Rectangle 130"/>
              <p:cNvSpPr/>
              <p:nvPr/>
            </p:nvSpPr>
            <p:spPr>
              <a:xfrm>
                <a:off x="654084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5" name="Group 129"/>
              <p:cNvGrpSpPr/>
              <p:nvPr/>
            </p:nvGrpSpPr>
            <p:grpSpPr>
              <a:xfrm>
                <a:off x="6540840" y="1219320"/>
                <a:ext cx="536760" cy="761760"/>
                <a:chOff x="6540840" y="1219320"/>
                <a:chExt cx="536760" cy="761760"/>
              </a:xfrm>
            </p:grpSpPr>
            <p:sp>
              <p:nvSpPr>
                <p:cNvPr id="776" name="Rectangle 26"/>
                <p:cNvSpPr/>
                <p:nvPr/>
              </p:nvSpPr>
              <p:spPr>
                <a:xfrm>
                  <a:off x="654084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1,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Rectangle 128"/>
                <p:cNvSpPr/>
                <p:nvPr/>
              </p:nvSpPr>
              <p:spPr>
                <a:xfrm>
                  <a:off x="654084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8" name="Group 135"/>
            <p:cNvGrpSpPr/>
            <p:nvPr/>
          </p:nvGrpSpPr>
          <p:grpSpPr>
            <a:xfrm>
              <a:off x="7078680" y="1219320"/>
              <a:ext cx="537840" cy="761760"/>
              <a:chOff x="7078680" y="1219320"/>
              <a:chExt cx="537840" cy="761760"/>
            </a:xfrm>
          </p:grpSpPr>
          <p:sp>
            <p:nvSpPr>
              <p:cNvPr id="779" name="Rectangle 134"/>
              <p:cNvSpPr/>
              <p:nvPr/>
            </p:nvSpPr>
            <p:spPr>
              <a:xfrm>
                <a:off x="7078680" y="1219320"/>
                <a:ext cx="5378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0" name="Group 133"/>
              <p:cNvGrpSpPr/>
              <p:nvPr/>
            </p:nvGrpSpPr>
            <p:grpSpPr>
              <a:xfrm>
                <a:off x="7078680" y="1219320"/>
                <a:ext cx="537480" cy="761760"/>
                <a:chOff x="7078680" y="1219320"/>
                <a:chExt cx="537480" cy="761760"/>
              </a:xfrm>
            </p:grpSpPr>
            <p:sp>
              <p:nvSpPr>
                <p:cNvPr id="781" name="Rectangle 27"/>
                <p:cNvSpPr/>
                <p:nvPr/>
              </p:nvSpPr>
              <p:spPr>
                <a:xfrm>
                  <a:off x="7078680" y="1219320"/>
                  <a:ext cx="5374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9,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Rectangle 132"/>
                <p:cNvSpPr/>
                <p:nvPr/>
              </p:nvSpPr>
              <p:spPr>
                <a:xfrm>
                  <a:off x="7078680" y="1219320"/>
                  <a:ext cx="5374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3" name="Group 139"/>
            <p:cNvGrpSpPr/>
            <p:nvPr/>
          </p:nvGrpSpPr>
          <p:grpSpPr>
            <a:xfrm>
              <a:off x="7616880" y="1219320"/>
              <a:ext cx="537120" cy="761760"/>
              <a:chOff x="7616880" y="1219320"/>
              <a:chExt cx="537120" cy="761760"/>
            </a:xfrm>
          </p:grpSpPr>
          <p:sp>
            <p:nvSpPr>
              <p:cNvPr id="784" name="Rectangle 138"/>
              <p:cNvSpPr/>
              <p:nvPr/>
            </p:nvSpPr>
            <p:spPr>
              <a:xfrm>
                <a:off x="761688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5" name="Group 137"/>
              <p:cNvGrpSpPr/>
              <p:nvPr/>
            </p:nvGrpSpPr>
            <p:grpSpPr>
              <a:xfrm>
                <a:off x="7616880" y="1219320"/>
                <a:ext cx="536760" cy="761760"/>
                <a:chOff x="7616880" y="1219320"/>
                <a:chExt cx="536760" cy="761760"/>
              </a:xfrm>
            </p:grpSpPr>
            <p:sp>
              <p:nvSpPr>
                <p:cNvPr id="786" name="Rectangle 28"/>
                <p:cNvSpPr/>
                <p:nvPr/>
              </p:nvSpPr>
              <p:spPr>
                <a:xfrm>
                  <a:off x="761688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1,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136"/>
                <p:cNvSpPr/>
                <p:nvPr/>
              </p:nvSpPr>
              <p:spPr>
                <a:xfrm>
                  <a:off x="761688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8" name="Group 143"/>
            <p:cNvGrpSpPr/>
            <p:nvPr/>
          </p:nvGrpSpPr>
          <p:grpSpPr>
            <a:xfrm>
              <a:off x="8154720" y="1219320"/>
              <a:ext cx="541800" cy="761760"/>
              <a:chOff x="8154720" y="1219320"/>
              <a:chExt cx="541800" cy="761760"/>
            </a:xfrm>
          </p:grpSpPr>
          <p:sp>
            <p:nvSpPr>
              <p:cNvPr id="789" name="Rectangle 142"/>
              <p:cNvSpPr/>
              <p:nvPr/>
            </p:nvSpPr>
            <p:spPr>
              <a:xfrm>
                <a:off x="8154720" y="1219320"/>
                <a:ext cx="54180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0" name="Group 141"/>
              <p:cNvGrpSpPr/>
              <p:nvPr/>
            </p:nvGrpSpPr>
            <p:grpSpPr>
              <a:xfrm>
                <a:off x="8154720" y="1219320"/>
                <a:ext cx="541440" cy="761760"/>
                <a:chOff x="8154720" y="1219320"/>
                <a:chExt cx="541440" cy="761760"/>
              </a:xfrm>
            </p:grpSpPr>
            <p:sp>
              <p:nvSpPr>
                <p:cNvPr id="791" name="Rectangle 29"/>
                <p:cNvSpPr/>
                <p:nvPr/>
              </p:nvSpPr>
              <p:spPr>
                <a:xfrm>
                  <a:off x="8154720" y="1219320"/>
                  <a:ext cx="54144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8,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140"/>
                <p:cNvSpPr/>
                <p:nvPr/>
              </p:nvSpPr>
              <p:spPr>
                <a:xfrm>
                  <a:off x="8154720" y="1219320"/>
                  <a:ext cx="5414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3" name="Group 147"/>
            <p:cNvGrpSpPr/>
            <p:nvPr/>
          </p:nvGrpSpPr>
          <p:grpSpPr>
            <a:xfrm>
              <a:off x="8697240" y="1219320"/>
              <a:ext cx="446040" cy="761760"/>
              <a:chOff x="8697240" y="1219320"/>
              <a:chExt cx="446040" cy="761760"/>
            </a:xfrm>
          </p:grpSpPr>
          <p:sp>
            <p:nvSpPr>
              <p:cNvPr id="794" name="Rectangle 146"/>
              <p:cNvSpPr/>
              <p:nvPr/>
            </p:nvSpPr>
            <p:spPr>
              <a:xfrm>
                <a:off x="8697240" y="1219320"/>
                <a:ext cx="4460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5" name="Group 145"/>
              <p:cNvGrpSpPr/>
              <p:nvPr/>
            </p:nvGrpSpPr>
            <p:grpSpPr>
              <a:xfrm>
                <a:off x="8697240" y="1219320"/>
                <a:ext cx="445680" cy="761760"/>
                <a:chOff x="8697240" y="1219320"/>
                <a:chExt cx="445680" cy="761760"/>
              </a:xfrm>
            </p:grpSpPr>
            <p:sp>
              <p:nvSpPr>
                <p:cNvPr id="796" name="Rectangle 30"/>
                <p:cNvSpPr/>
                <p:nvPr/>
              </p:nvSpPr>
              <p:spPr>
                <a:xfrm>
                  <a:off x="8697240" y="1219320"/>
                  <a:ext cx="4456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144"/>
                <p:cNvSpPr/>
                <p:nvPr/>
              </p:nvSpPr>
              <p:spPr>
                <a:xfrm>
                  <a:off x="8697240" y="1219320"/>
                  <a:ext cx="4456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8" name="Group 151"/>
            <p:cNvGrpSpPr/>
            <p:nvPr/>
          </p:nvGrpSpPr>
          <p:grpSpPr>
            <a:xfrm>
              <a:off x="304920" y="1981080"/>
              <a:ext cx="2526480" cy="914400"/>
              <a:chOff x="304920" y="1981080"/>
              <a:chExt cx="2526480" cy="914400"/>
            </a:xfrm>
          </p:grpSpPr>
          <p:sp>
            <p:nvSpPr>
              <p:cNvPr id="799" name="Rectangle 150"/>
              <p:cNvSpPr/>
              <p:nvPr/>
            </p:nvSpPr>
            <p:spPr>
              <a:xfrm>
                <a:off x="304920" y="1981080"/>
                <a:ext cx="252648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0" name="Group 149"/>
              <p:cNvGrpSpPr/>
              <p:nvPr/>
            </p:nvGrpSpPr>
            <p:grpSpPr>
              <a:xfrm>
                <a:off x="304920" y="1981080"/>
                <a:ext cx="2526120" cy="914400"/>
                <a:chOff x="304920" y="1981080"/>
                <a:chExt cx="2526120" cy="914400"/>
              </a:xfrm>
            </p:grpSpPr>
            <p:sp>
              <p:nvSpPr>
                <p:cNvPr id="801" name="Rectangle 31"/>
                <p:cNvSpPr/>
                <p:nvPr/>
              </p:nvSpPr>
              <p:spPr>
                <a:xfrm>
                  <a:off x="304920" y="1981080"/>
                  <a:ext cx="252612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ům úhrn srážek;2003, 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Rectangle 148"/>
                <p:cNvSpPr/>
                <p:nvPr/>
              </p:nvSpPr>
              <p:spPr>
                <a:xfrm>
                  <a:off x="304920" y="1981080"/>
                  <a:ext cx="25261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3" name="Group 155"/>
            <p:cNvGrpSpPr/>
            <p:nvPr/>
          </p:nvGrpSpPr>
          <p:grpSpPr>
            <a:xfrm>
              <a:off x="2831760" y="1981080"/>
              <a:ext cx="700200" cy="914400"/>
              <a:chOff x="2831760" y="1981080"/>
              <a:chExt cx="700200" cy="914400"/>
            </a:xfrm>
          </p:grpSpPr>
          <p:sp>
            <p:nvSpPr>
              <p:cNvPr id="804" name="Rectangle 154"/>
              <p:cNvSpPr/>
              <p:nvPr/>
            </p:nvSpPr>
            <p:spPr>
              <a:xfrm>
                <a:off x="2831760" y="1981080"/>
                <a:ext cx="70020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5" name="Group 153"/>
              <p:cNvGrpSpPr/>
              <p:nvPr/>
            </p:nvGrpSpPr>
            <p:grpSpPr>
              <a:xfrm>
                <a:off x="2831760" y="1981080"/>
                <a:ext cx="699840" cy="914400"/>
                <a:chOff x="2831760" y="1981080"/>
                <a:chExt cx="699840" cy="914400"/>
              </a:xfrm>
            </p:grpSpPr>
            <p:sp>
              <p:nvSpPr>
                <p:cNvPr id="806" name="Rectangle 32"/>
                <p:cNvSpPr/>
                <p:nvPr/>
              </p:nvSpPr>
              <p:spPr>
                <a:xfrm>
                  <a:off x="2831760" y="1981080"/>
                  <a:ext cx="69984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6,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Rectangle 152"/>
                <p:cNvSpPr/>
                <p:nvPr/>
              </p:nvSpPr>
              <p:spPr>
                <a:xfrm>
                  <a:off x="2831760" y="1981080"/>
                  <a:ext cx="6998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8" name="Group 159"/>
            <p:cNvGrpSpPr/>
            <p:nvPr/>
          </p:nvGrpSpPr>
          <p:grpSpPr>
            <a:xfrm>
              <a:off x="3532680" y="1981080"/>
              <a:ext cx="537120" cy="914400"/>
              <a:chOff x="3532680" y="1981080"/>
              <a:chExt cx="537120" cy="914400"/>
            </a:xfrm>
          </p:grpSpPr>
          <p:sp>
            <p:nvSpPr>
              <p:cNvPr id="809" name="Rectangle 158"/>
              <p:cNvSpPr/>
              <p:nvPr/>
            </p:nvSpPr>
            <p:spPr>
              <a:xfrm>
                <a:off x="353268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0" name="Group 157"/>
              <p:cNvGrpSpPr/>
              <p:nvPr/>
            </p:nvGrpSpPr>
            <p:grpSpPr>
              <a:xfrm>
                <a:off x="3532680" y="1981080"/>
                <a:ext cx="536760" cy="914400"/>
                <a:chOff x="3532680" y="1981080"/>
                <a:chExt cx="536760" cy="914400"/>
              </a:xfrm>
            </p:grpSpPr>
            <p:sp>
              <p:nvSpPr>
                <p:cNvPr id="811" name="Rectangle 33"/>
                <p:cNvSpPr/>
                <p:nvPr/>
              </p:nvSpPr>
              <p:spPr>
                <a:xfrm>
                  <a:off x="353268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Rectangle 156"/>
                <p:cNvSpPr/>
                <p:nvPr/>
              </p:nvSpPr>
              <p:spPr>
                <a:xfrm>
                  <a:off x="353268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3" name="Group 163"/>
            <p:cNvGrpSpPr/>
            <p:nvPr/>
          </p:nvGrpSpPr>
          <p:grpSpPr>
            <a:xfrm>
              <a:off x="4070520" y="1981080"/>
              <a:ext cx="450720" cy="914400"/>
              <a:chOff x="4070520" y="1981080"/>
              <a:chExt cx="450720" cy="914400"/>
            </a:xfrm>
          </p:grpSpPr>
          <p:sp>
            <p:nvSpPr>
              <p:cNvPr id="814" name="Rectangle 162"/>
              <p:cNvSpPr/>
              <p:nvPr/>
            </p:nvSpPr>
            <p:spPr>
              <a:xfrm>
                <a:off x="4070520" y="1981080"/>
                <a:ext cx="4507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5" name="Group 161"/>
              <p:cNvGrpSpPr/>
              <p:nvPr/>
            </p:nvGrpSpPr>
            <p:grpSpPr>
              <a:xfrm>
                <a:off x="4070520" y="1981080"/>
                <a:ext cx="450360" cy="914400"/>
                <a:chOff x="4070520" y="1981080"/>
                <a:chExt cx="450360" cy="914400"/>
              </a:xfrm>
            </p:grpSpPr>
            <p:sp>
              <p:nvSpPr>
                <p:cNvPr id="816" name="Rectangle 34"/>
                <p:cNvSpPr/>
                <p:nvPr/>
              </p:nvSpPr>
              <p:spPr>
                <a:xfrm>
                  <a:off x="4070520" y="1981080"/>
                  <a:ext cx="4503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Rectangle 160"/>
                <p:cNvSpPr/>
                <p:nvPr/>
              </p:nvSpPr>
              <p:spPr>
                <a:xfrm>
                  <a:off x="4070520" y="1981080"/>
                  <a:ext cx="4503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8" name="Group 167"/>
            <p:cNvGrpSpPr/>
            <p:nvPr/>
          </p:nvGrpSpPr>
          <p:grpSpPr>
            <a:xfrm>
              <a:off x="4521600" y="1981080"/>
              <a:ext cx="404280" cy="914400"/>
              <a:chOff x="4521600" y="1981080"/>
              <a:chExt cx="404280" cy="914400"/>
            </a:xfrm>
          </p:grpSpPr>
          <p:sp>
            <p:nvSpPr>
              <p:cNvPr id="819" name="Rectangle 166"/>
              <p:cNvSpPr/>
              <p:nvPr/>
            </p:nvSpPr>
            <p:spPr>
              <a:xfrm>
                <a:off x="4521600" y="1981080"/>
                <a:ext cx="40428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0" name="Group 165"/>
              <p:cNvGrpSpPr/>
              <p:nvPr/>
            </p:nvGrpSpPr>
            <p:grpSpPr>
              <a:xfrm>
                <a:off x="4521600" y="1981080"/>
                <a:ext cx="403920" cy="914400"/>
                <a:chOff x="4521600" y="1981080"/>
                <a:chExt cx="403920" cy="914400"/>
              </a:xfrm>
            </p:grpSpPr>
            <p:sp>
              <p:nvSpPr>
                <p:cNvPr id="821" name="Rectangle 35"/>
                <p:cNvSpPr/>
                <p:nvPr/>
              </p:nvSpPr>
              <p:spPr>
                <a:xfrm>
                  <a:off x="4521600" y="1981080"/>
                  <a:ext cx="40392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Rectangle 164"/>
                <p:cNvSpPr/>
                <p:nvPr/>
              </p:nvSpPr>
              <p:spPr>
                <a:xfrm>
                  <a:off x="4521600" y="1981080"/>
                  <a:ext cx="4039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3" name="Group 171"/>
            <p:cNvGrpSpPr/>
            <p:nvPr/>
          </p:nvGrpSpPr>
          <p:grpSpPr>
            <a:xfrm>
              <a:off x="4926600" y="1981080"/>
              <a:ext cx="537840" cy="914400"/>
              <a:chOff x="4926600" y="1981080"/>
              <a:chExt cx="537840" cy="914400"/>
            </a:xfrm>
          </p:grpSpPr>
          <p:sp>
            <p:nvSpPr>
              <p:cNvPr id="824" name="Rectangle 170"/>
              <p:cNvSpPr/>
              <p:nvPr/>
            </p:nvSpPr>
            <p:spPr>
              <a:xfrm>
                <a:off x="4926600" y="1981080"/>
                <a:ext cx="5378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5" name="Group 169"/>
              <p:cNvGrpSpPr/>
              <p:nvPr/>
            </p:nvGrpSpPr>
            <p:grpSpPr>
              <a:xfrm>
                <a:off x="4926600" y="1981080"/>
                <a:ext cx="537480" cy="914400"/>
                <a:chOff x="4926600" y="1981080"/>
                <a:chExt cx="537480" cy="914400"/>
              </a:xfrm>
            </p:grpSpPr>
            <p:sp>
              <p:nvSpPr>
                <p:cNvPr id="826" name="Rectangle 36"/>
                <p:cNvSpPr/>
                <p:nvPr/>
              </p:nvSpPr>
              <p:spPr>
                <a:xfrm>
                  <a:off x="4926600" y="1981080"/>
                  <a:ext cx="5374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2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Rectangle 168"/>
                <p:cNvSpPr/>
                <p:nvPr/>
              </p:nvSpPr>
              <p:spPr>
                <a:xfrm>
                  <a:off x="4926600" y="1981080"/>
                  <a:ext cx="5374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8" name="Group 175"/>
            <p:cNvGrpSpPr/>
            <p:nvPr/>
          </p:nvGrpSpPr>
          <p:grpSpPr>
            <a:xfrm>
              <a:off x="5465160" y="1981080"/>
              <a:ext cx="537120" cy="914400"/>
              <a:chOff x="5465160" y="1981080"/>
              <a:chExt cx="537120" cy="914400"/>
            </a:xfrm>
          </p:grpSpPr>
          <p:sp>
            <p:nvSpPr>
              <p:cNvPr id="829" name="Rectangle 174"/>
              <p:cNvSpPr/>
              <p:nvPr/>
            </p:nvSpPr>
            <p:spPr>
              <a:xfrm>
                <a:off x="546516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0" name="Group 173"/>
              <p:cNvGrpSpPr/>
              <p:nvPr/>
            </p:nvGrpSpPr>
            <p:grpSpPr>
              <a:xfrm>
                <a:off x="5465160" y="1981080"/>
                <a:ext cx="536760" cy="914400"/>
                <a:chOff x="5465160" y="1981080"/>
                <a:chExt cx="536760" cy="914400"/>
              </a:xfrm>
            </p:grpSpPr>
            <p:sp>
              <p:nvSpPr>
                <p:cNvPr id="831" name="Rectangle 37"/>
                <p:cNvSpPr/>
                <p:nvPr/>
              </p:nvSpPr>
              <p:spPr>
                <a:xfrm>
                  <a:off x="546516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9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Rectangle 172"/>
                <p:cNvSpPr/>
                <p:nvPr/>
              </p:nvSpPr>
              <p:spPr>
                <a:xfrm>
                  <a:off x="546516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3" name="Group 179"/>
            <p:cNvGrpSpPr/>
            <p:nvPr/>
          </p:nvGrpSpPr>
          <p:grpSpPr>
            <a:xfrm>
              <a:off x="6003000" y="1981080"/>
              <a:ext cx="537120" cy="914400"/>
              <a:chOff x="6003000" y="1981080"/>
              <a:chExt cx="537120" cy="914400"/>
            </a:xfrm>
          </p:grpSpPr>
          <p:sp>
            <p:nvSpPr>
              <p:cNvPr id="834" name="Rectangle 178"/>
              <p:cNvSpPr/>
              <p:nvPr/>
            </p:nvSpPr>
            <p:spPr>
              <a:xfrm>
                <a:off x="600300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5" name="Group 177"/>
              <p:cNvGrpSpPr/>
              <p:nvPr/>
            </p:nvGrpSpPr>
            <p:grpSpPr>
              <a:xfrm>
                <a:off x="6003000" y="1981080"/>
                <a:ext cx="536760" cy="914400"/>
                <a:chOff x="6003000" y="1981080"/>
                <a:chExt cx="536760" cy="914400"/>
              </a:xfrm>
            </p:grpSpPr>
            <p:sp>
              <p:nvSpPr>
                <p:cNvPr id="836" name="Rectangle 38"/>
                <p:cNvSpPr/>
                <p:nvPr/>
              </p:nvSpPr>
              <p:spPr>
                <a:xfrm>
                  <a:off x="600300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6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Rectangle 176"/>
                <p:cNvSpPr/>
                <p:nvPr/>
              </p:nvSpPr>
              <p:spPr>
                <a:xfrm>
                  <a:off x="600300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8" name="Group 183"/>
            <p:cNvGrpSpPr/>
            <p:nvPr/>
          </p:nvGrpSpPr>
          <p:grpSpPr>
            <a:xfrm>
              <a:off x="6540840" y="1981080"/>
              <a:ext cx="537120" cy="914400"/>
              <a:chOff x="6540840" y="1981080"/>
              <a:chExt cx="537120" cy="914400"/>
            </a:xfrm>
          </p:grpSpPr>
          <p:sp>
            <p:nvSpPr>
              <p:cNvPr id="839" name="Rectangle 182"/>
              <p:cNvSpPr/>
              <p:nvPr/>
            </p:nvSpPr>
            <p:spPr>
              <a:xfrm>
                <a:off x="654084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0" name="Group 181"/>
              <p:cNvGrpSpPr/>
              <p:nvPr/>
            </p:nvGrpSpPr>
            <p:grpSpPr>
              <a:xfrm>
                <a:off x="6540840" y="1981080"/>
                <a:ext cx="536760" cy="914400"/>
                <a:chOff x="6540840" y="1981080"/>
                <a:chExt cx="536760" cy="914400"/>
              </a:xfrm>
            </p:grpSpPr>
            <p:sp>
              <p:nvSpPr>
                <p:cNvPr id="841" name="Rectangle 39"/>
                <p:cNvSpPr/>
                <p:nvPr/>
              </p:nvSpPr>
              <p:spPr>
                <a:xfrm>
                  <a:off x="654084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Rectangle 180"/>
                <p:cNvSpPr/>
                <p:nvPr/>
              </p:nvSpPr>
              <p:spPr>
                <a:xfrm>
                  <a:off x="654084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3" name="Group 187"/>
            <p:cNvGrpSpPr/>
            <p:nvPr/>
          </p:nvGrpSpPr>
          <p:grpSpPr>
            <a:xfrm>
              <a:off x="7078680" y="1981080"/>
              <a:ext cx="537840" cy="914400"/>
              <a:chOff x="7078680" y="1981080"/>
              <a:chExt cx="537840" cy="914400"/>
            </a:xfrm>
          </p:grpSpPr>
          <p:sp>
            <p:nvSpPr>
              <p:cNvPr id="844" name="Rectangle 186"/>
              <p:cNvSpPr/>
              <p:nvPr/>
            </p:nvSpPr>
            <p:spPr>
              <a:xfrm>
                <a:off x="7078680" y="1981080"/>
                <a:ext cx="5378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5" name="Group 185"/>
              <p:cNvGrpSpPr/>
              <p:nvPr/>
            </p:nvGrpSpPr>
            <p:grpSpPr>
              <a:xfrm>
                <a:off x="7078680" y="1981080"/>
                <a:ext cx="537480" cy="914400"/>
                <a:chOff x="7078680" y="1981080"/>
                <a:chExt cx="537480" cy="914400"/>
              </a:xfrm>
            </p:grpSpPr>
            <p:sp>
              <p:nvSpPr>
                <p:cNvPr id="846" name="Rectangle 40"/>
                <p:cNvSpPr/>
                <p:nvPr/>
              </p:nvSpPr>
              <p:spPr>
                <a:xfrm>
                  <a:off x="7078680" y="1981080"/>
                  <a:ext cx="5374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4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Rectangle 184"/>
                <p:cNvSpPr/>
                <p:nvPr/>
              </p:nvSpPr>
              <p:spPr>
                <a:xfrm>
                  <a:off x="7078680" y="1981080"/>
                  <a:ext cx="5374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8" name="Group 191"/>
            <p:cNvGrpSpPr/>
            <p:nvPr/>
          </p:nvGrpSpPr>
          <p:grpSpPr>
            <a:xfrm>
              <a:off x="7616880" y="1981080"/>
              <a:ext cx="537120" cy="914400"/>
              <a:chOff x="7616880" y="1981080"/>
              <a:chExt cx="537120" cy="914400"/>
            </a:xfrm>
          </p:grpSpPr>
          <p:sp>
            <p:nvSpPr>
              <p:cNvPr id="849" name="Rectangle 190"/>
              <p:cNvSpPr/>
              <p:nvPr/>
            </p:nvSpPr>
            <p:spPr>
              <a:xfrm>
                <a:off x="761688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0" name="Group 189"/>
              <p:cNvGrpSpPr/>
              <p:nvPr/>
            </p:nvGrpSpPr>
            <p:grpSpPr>
              <a:xfrm>
                <a:off x="7616880" y="1981080"/>
                <a:ext cx="536760" cy="914400"/>
                <a:chOff x="7616880" y="1981080"/>
                <a:chExt cx="536760" cy="914400"/>
              </a:xfrm>
            </p:grpSpPr>
            <p:sp>
              <p:nvSpPr>
                <p:cNvPr id="851" name="Rectangle 41"/>
                <p:cNvSpPr/>
                <p:nvPr/>
              </p:nvSpPr>
              <p:spPr>
                <a:xfrm>
                  <a:off x="761688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,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Rectangle 188"/>
                <p:cNvSpPr/>
                <p:nvPr/>
              </p:nvSpPr>
              <p:spPr>
                <a:xfrm>
                  <a:off x="761688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3" name="Group 195"/>
            <p:cNvGrpSpPr/>
            <p:nvPr/>
          </p:nvGrpSpPr>
          <p:grpSpPr>
            <a:xfrm>
              <a:off x="8154720" y="1981080"/>
              <a:ext cx="541800" cy="914400"/>
              <a:chOff x="8154720" y="1981080"/>
              <a:chExt cx="541800" cy="914400"/>
            </a:xfrm>
          </p:grpSpPr>
          <p:sp>
            <p:nvSpPr>
              <p:cNvPr id="854" name="Rectangle 194"/>
              <p:cNvSpPr/>
              <p:nvPr/>
            </p:nvSpPr>
            <p:spPr>
              <a:xfrm>
                <a:off x="8154720" y="1981080"/>
                <a:ext cx="54180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5" name="Group 193"/>
              <p:cNvGrpSpPr/>
              <p:nvPr/>
            </p:nvGrpSpPr>
            <p:grpSpPr>
              <a:xfrm>
                <a:off x="8154720" y="1981080"/>
                <a:ext cx="541440" cy="914400"/>
                <a:chOff x="8154720" y="1981080"/>
                <a:chExt cx="541440" cy="914400"/>
              </a:xfrm>
            </p:grpSpPr>
            <p:sp>
              <p:nvSpPr>
                <p:cNvPr id="856" name="Rectangle 42"/>
                <p:cNvSpPr/>
                <p:nvPr/>
              </p:nvSpPr>
              <p:spPr>
                <a:xfrm>
                  <a:off x="8154720" y="1981080"/>
                  <a:ext cx="54144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2,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Rectangle 192"/>
                <p:cNvSpPr/>
                <p:nvPr/>
              </p:nvSpPr>
              <p:spPr>
                <a:xfrm>
                  <a:off x="8154720" y="1981080"/>
                  <a:ext cx="5414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8" name="Group 199"/>
            <p:cNvGrpSpPr/>
            <p:nvPr/>
          </p:nvGrpSpPr>
          <p:grpSpPr>
            <a:xfrm>
              <a:off x="8697240" y="1981080"/>
              <a:ext cx="446040" cy="914400"/>
              <a:chOff x="8697240" y="1981080"/>
              <a:chExt cx="446040" cy="914400"/>
            </a:xfrm>
          </p:grpSpPr>
          <p:sp>
            <p:nvSpPr>
              <p:cNvPr id="859" name="Rectangle 198"/>
              <p:cNvSpPr/>
              <p:nvPr/>
            </p:nvSpPr>
            <p:spPr>
              <a:xfrm>
                <a:off x="8697240" y="1981080"/>
                <a:ext cx="4460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0" name="Group 197"/>
              <p:cNvGrpSpPr/>
              <p:nvPr/>
            </p:nvGrpSpPr>
            <p:grpSpPr>
              <a:xfrm>
                <a:off x="8697240" y="1981080"/>
                <a:ext cx="445680" cy="914400"/>
                <a:chOff x="8697240" y="1981080"/>
                <a:chExt cx="445680" cy="914400"/>
              </a:xfrm>
            </p:grpSpPr>
            <p:sp>
              <p:nvSpPr>
                <p:cNvPr id="861" name="Rectangle 43"/>
                <p:cNvSpPr/>
                <p:nvPr/>
              </p:nvSpPr>
              <p:spPr>
                <a:xfrm>
                  <a:off x="8697240" y="1981080"/>
                  <a:ext cx="4456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4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Rectangle 196"/>
                <p:cNvSpPr/>
                <p:nvPr/>
              </p:nvSpPr>
              <p:spPr>
                <a:xfrm>
                  <a:off x="8697240" y="1981080"/>
                  <a:ext cx="4456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63" name="Group 266"/>
          <p:cNvGrpSpPr/>
          <p:nvPr/>
        </p:nvGrpSpPr>
        <p:grpSpPr>
          <a:xfrm>
            <a:off x="685800" y="3505320"/>
            <a:ext cx="8305200" cy="1142280"/>
            <a:chOff x="685800" y="3505320"/>
            <a:chExt cx="8305200" cy="1142280"/>
          </a:xfrm>
        </p:grpSpPr>
        <p:grpSp>
          <p:nvGrpSpPr>
            <p:cNvPr id="864" name="Group 217"/>
            <p:cNvGrpSpPr/>
            <p:nvPr/>
          </p:nvGrpSpPr>
          <p:grpSpPr>
            <a:xfrm>
              <a:off x="685800" y="3505320"/>
              <a:ext cx="1759320" cy="1142280"/>
              <a:chOff x="685800" y="3505320"/>
              <a:chExt cx="1759320" cy="1142280"/>
            </a:xfrm>
          </p:grpSpPr>
          <p:sp>
            <p:nvSpPr>
              <p:cNvPr id="865" name="Rectangle 216"/>
              <p:cNvSpPr/>
              <p:nvPr/>
            </p:nvSpPr>
            <p:spPr>
              <a:xfrm>
                <a:off x="685800" y="3505320"/>
                <a:ext cx="175932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6" name="Group 215"/>
              <p:cNvGrpSpPr/>
              <p:nvPr/>
            </p:nvGrpSpPr>
            <p:grpSpPr>
              <a:xfrm>
                <a:off x="685800" y="3505320"/>
                <a:ext cx="1758960" cy="1141920"/>
                <a:chOff x="685800" y="3505320"/>
                <a:chExt cx="1758960" cy="1141920"/>
              </a:xfrm>
            </p:grpSpPr>
            <p:sp>
              <p:nvSpPr>
                <p:cNvPr id="867" name="Rectangle 201"/>
                <p:cNvSpPr/>
                <p:nvPr/>
              </p:nvSpPr>
              <p:spPr>
                <a:xfrm>
                  <a:off x="685800" y="3505320"/>
                  <a:ext cx="175896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KLOUZAVÝ ÚHR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Rectangle 214"/>
                <p:cNvSpPr/>
                <p:nvPr/>
              </p:nvSpPr>
              <p:spPr>
                <a:xfrm>
                  <a:off x="685800" y="3505320"/>
                  <a:ext cx="175896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69" name="Group 221"/>
            <p:cNvGrpSpPr/>
            <p:nvPr/>
          </p:nvGrpSpPr>
          <p:grpSpPr>
            <a:xfrm>
              <a:off x="2445480" y="3505320"/>
              <a:ext cx="641880" cy="1142280"/>
              <a:chOff x="2445480" y="3505320"/>
              <a:chExt cx="641880" cy="1142280"/>
            </a:xfrm>
          </p:grpSpPr>
          <p:sp>
            <p:nvSpPr>
              <p:cNvPr id="870" name="Rectangle 220"/>
              <p:cNvSpPr/>
              <p:nvPr/>
            </p:nvSpPr>
            <p:spPr>
              <a:xfrm>
                <a:off x="244548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1" name="Group 219"/>
              <p:cNvGrpSpPr/>
              <p:nvPr/>
            </p:nvGrpSpPr>
            <p:grpSpPr>
              <a:xfrm>
                <a:off x="2445480" y="3505320"/>
                <a:ext cx="641520" cy="1141920"/>
                <a:chOff x="2445480" y="3505320"/>
                <a:chExt cx="641520" cy="1141920"/>
              </a:xfrm>
            </p:grpSpPr>
            <p:sp>
              <p:nvSpPr>
                <p:cNvPr id="872" name="Rectangle 202"/>
                <p:cNvSpPr/>
                <p:nvPr/>
              </p:nvSpPr>
              <p:spPr>
                <a:xfrm>
                  <a:off x="244548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2,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Rectangle 218"/>
                <p:cNvSpPr/>
                <p:nvPr/>
              </p:nvSpPr>
              <p:spPr>
                <a:xfrm>
                  <a:off x="244548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4" name="Group 225"/>
            <p:cNvGrpSpPr/>
            <p:nvPr/>
          </p:nvGrpSpPr>
          <p:grpSpPr>
            <a:xfrm>
              <a:off x="3088080" y="3505320"/>
              <a:ext cx="641880" cy="1142280"/>
              <a:chOff x="3088080" y="3505320"/>
              <a:chExt cx="641880" cy="1142280"/>
            </a:xfrm>
          </p:grpSpPr>
          <p:sp>
            <p:nvSpPr>
              <p:cNvPr id="875" name="Rectangle 224"/>
              <p:cNvSpPr/>
              <p:nvPr/>
            </p:nvSpPr>
            <p:spPr>
              <a:xfrm>
                <a:off x="308808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6" name="Group 223"/>
              <p:cNvGrpSpPr/>
              <p:nvPr/>
            </p:nvGrpSpPr>
            <p:grpSpPr>
              <a:xfrm>
                <a:off x="3088080" y="3505320"/>
                <a:ext cx="641520" cy="1141920"/>
                <a:chOff x="3088080" y="3505320"/>
                <a:chExt cx="641520" cy="1141920"/>
              </a:xfrm>
            </p:grpSpPr>
            <p:sp>
              <p:nvSpPr>
                <p:cNvPr id="877" name="Rectangle 203"/>
                <p:cNvSpPr/>
                <p:nvPr/>
              </p:nvSpPr>
              <p:spPr>
                <a:xfrm>
                  <a:off x="308808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54,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Rectangle 222"/>
                <p:cNvSpPr/>
                <p:nvPr/>
              </p:nvSpPr>
              <p:spPr>
                <a:xfrm>
                  <a:off x="308808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9" name="Group 229"/>
            <p:cNvGrpSpPr/>
            <p:nvPr/>
          </p:nvGrpSpPr>
          <p:grpSpPr>
            <a:xfrm>
              <a:off x="3730320" y="3505320"/>
              <a:ext cx="513000" cy="1142280"/>
              <a:chOff x="3730320" y="3505320"/>
              <a:chExt cx="513000" cy="1142280"/>
            </a:xfrm>
          </p:grpSpPr>
          <p:sp>
            <p:nvSpPr>
              <p:cNvPr id="880" name="Rectangle 228"/>
              <p:cNvSpPr/>
              <p:nvPr/>
            </p:nvSpPr>
            <p:spPr>
              <a:xfrm>
                <a:off x="3730320" y="3505320"/>
                <a:ext cx="51300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1" name="Group 227"/>
              <p:cNvGrpSpPr/>
              <p:nvPr/>
            </p:nvGrpSpPr>
            <p:grpSpPr>
              <a:xfrm>
                <a:off x="3730320" y="3505320"/>
                <a:ext cx="512640" cy="1141920"/>
                <a:chOff x="3730320" y="3505320"/>
                <a:chExt cx="512640" cy="1141920"/>
              </a:xfrm>
            </p:grpSpPr>
            <p:sp>
              <p:nvSpPr>
                <p:cNvPr id="882" name="Rectangle 204"/>
                <p:cNvSpPr/>
                <p:nvPr/>
              </p:nvSpPr>
              <p:spPr>
                <a:xfrm>
                  <a:off x="3730320" y="3505320"/>
                  <a:ext cx="51264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Rectangle 226"/>
                <p:cNvSpPr/>
                <p:nvPr/>
              </p:nvSpPr>
              <p:spPr>
                <a:xfrm>
                  <a:off x="3730320" y="3505320"/>
                  <a:ext cx="51264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4" name="Group 233"/>
            <p:cNvGrpSpPr/>
            <p:nvPr/>
          </p:nvGrpSpPr>
          <p:grpSpPr>
            <a:xfrm>
              <a:off x="4244040" y="3505320"/>
              <a:ext cx="512640" cy="1142280"/>
              <a:chOff x="4244040" y="3505320"/>
              <a:chExt cx="512640" cy="1142280"/>
            </a:xfrm>
          </p:grpSpPr>
          <p:sp>
            <p:nvSpPr>
              <p:cNvPr id="885" name="Rectangle 232"/>
              <p:cNvSpPr/>
              <p:nvPr/>
            </p:nvSpPr>
            <p:spPr>
              <a:xfrm>
                <a:off x="4244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6" name="Group 231"/>
              <p:cNvGrpSpPr/>
              <p:nvPr/>
            </p:nvGrpSpPr>
            <p:grpSpPr>
              <a:xfrm>
                <a:off x="4244040" y="3505320"/>
                <a:ext cx="512280" cy="1141920"/>
                <a:chOff x="4244040" y="3505320"/>
                <a:chExt cx="512280" cy="1141920"/>
              </a:xfrm>
            </p:grpSpPr>
            <p:sp>
              <p:nvSpPr>
                <p:cNvPr id="887" name="Rectangle 205"/>
                <p:cNvSpPr/>
                <p:nvPr/>
              </p:nvSpPr>
              <p:spPr>
                <a:xfrm>
                  <a:off x="4244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2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Rectangle 230"/>
                <p:cNvSpPr/>
                <p:nvPr/>
              </p:nvSpPr>
              <p:spPr>
                <a:xfrm>
                  <a:off x="4244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9" name="Group 237"/>
            <p:cNvGrpSpPr/>
            <p:nvPr/>
          </p:nvGrpSpPr>
          <p:grpSpPr>
            <a:xfrm>
              <a:off x="4757040" y="3505320"/>
              <a:ext cx="512640" cy="1142280"/>
              <a:chOff x="4757040" y="3505320"/>
              <a:chExt cx="512640" cy="1142280"/>
            </a:xfrm>
          </p:grpSpPr>
          <p:sp>
            <p:nvSpPr>
              <p:cNvPr id="890" name="Rectangle 236"/>
              <p:cNvSpPr/>
              <p:nvPr/>
            </p:nvSpPr>
            <p:spPr>
              <a:xfrm>
                <a:off x="4757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1" name="Group 235"/>
              <p:cNvGrpSpPr/>
              <p:nvPr/>
            </p:nvGrpSpPr>
            <p:grpSpPr>
              <a:xfrm>
                <a:off x="4757040" y="3505320"/>
                <a:ext cx="512280" cy="1141920"/>
                <a:chOff x="4757040" y="3505320"/>
                <a:chExt cx="512280" cy="1141920"/>
              </a:xfrm>
            </p:grpSpPr>
            <p:sp>
              <p:nvSpPr>
                <p:cNvPr id="892" name="Rectangle 206"/>
                <p:cNvSpPr/>
                <p:nvPr/>
              </p:nvSpPr>
              <p:spPr>
                <a:xfrm>
                  <a:off x="4757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8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Rectangle 234"/>
                <p:cNvSpPr/>
                <p:nvPr/>
              </p:nvSpPr>
              <p:spPr>
                <a:xfrm>
                  <a:off x="4757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4" name="Group 241"/>
            <p:cNvGrpSpPr/>
            <p:nvPr/>
          </p:nvGrpSpPr>
          <p:grpSpPr>
            <a:xfrm>
              <a:off x="5270040" y="3505320"/>
              <a:ext cx="512640" cy="1142280"/>
              <a:chOff x="5270040" y="3505320"/>
              <a:chExt cx="512640" cy="1142280"/>
            </a:xfrm>
          </p:grpSpPr>
          <p:sp>
            <p:nvSpPr>
              <p:cNvPr id="895" name="Rectangle 240"/>
              <p:cNvSpPr/>
              <p:nvPr/>
            </p:nvSpPr>
            <p:spPr>
              <a:xfrm>
                <a:off x="5270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6" name="Group 239"/>
              <p:cNvGrpSpPr/>
              <p:nvPr/>
            </p:nvGrpSpPr>
            <p:grpSpPr>
              <a:xfrm>
                <a:off x="5270040" y="3505320"/>
                <a:ext cx="512280" cy="1141920"/>
                <a:chOff x="5270040" y="3505320"/>
                <a:chExt cx="512280" cy="1141920"/>
              </a:xfrm>
            </p:grpSpPr>
            <p:sp>
              <p:nvSpPr>
                <p:cNvPr id="897" name="Rectangle 207"/>
                <p:cNvSpPr/>
                <p:nvPr/>
              </p:nvSpPr>
              <p:spPr>
                <a:xfrm>
                  <a:off x="5270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6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Rectangle 238"/>
                <p:cNvSpPr/>
                <p:nvPr/>
              </p:nvSpPr>
              <p:spPr>
                <a:xfrm>
                  <a:off x="5270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9" name="Group 245"/>
            <p:cNvGrpSpPr/>
            <p:nvPr/>
          </p:nvGrpSpPr>
          <p:grpSpPr>
            <a:xfrm>
              <a:off x="5783040" y="3505320"/>
              <a:ext cx="512640" cy="1142280"/>
              <a:chOff x="5783040" y="3505320"/>
              <a:chExt cx="512640" cy="1142280"/>
            </a:xfrm>
          </p:grpSpPr>
          <p:sp>
            <p:nvSpPr>
              <p:cNvPr id="900" name="Rectangle 244"/>
              <p:cNvSpPr/>
              <p:nvPr/>
            </p:nvSpPr>
            <p:spPr>
              <a:xfrm>
                <a:off x="5783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1" name="Group 243"/>
              <p:cNvGrpSpPr/>
              <p:nvPr/>
            </p:nvGrpSpPr>
            <p:grpSpPr>
              <a:xfrm>
                <a:off x="5783040" y="3505320"/>
                <a:ext cx="512280" cy="1141920"/>
                <a:chOff x="5783040" y="3505320"/>
                <a:chExt cx="512280" cy="1141920"/>
              </a:xfrm>
            </p:grpSpPr>
            <p:sp>
              <p:nvSpPr>
                <p:cNvPr id="902" name="Rectangle 208"/>
                <p:cNvSpPr/>
                <p:nvPr/>
              </p:nvSpPr>
              <p:spPr>
                <a:xfrm>
                  <a:off x="5783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7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Rectangle 242"/>
                <p:cNvSpPr/>
                <p:nvPr/>
              </p:nvSpPr>
              <p:spPr>
                <a:xfrm>
                  <a:off x="5783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4" name="Group 249"/>
            <p:cNvGrpSpPr/>
            <p:nvPr/>
          </p:nvGrpSpPr>
          <p:grpSpPr>
            <a:xfrm>
              <a:off x="6296400" y="3505320"/>
              <a:ext cx="512640" cy="1142280"/>
              <a:chOff x="6296400" y="3505320"/>
              <a:chExt cx="512640" cy="1142280"/>
            </a:xfrm>
          </p:grpSpPr>
          <p:sp>
            <p:nvSpPr>
              <p:cNvPr id="905" name="Rectangle 248"/>
              <p:cNvSpPr/>
              <p:nvPr/>
            </p:nvSpPr>
            <p:spPr>
              <a:xfrm>
                <a:off x="629640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6" name="Group 247"/>
              <p:cNvGrpSpPr/>
              <p:nvPr/>
            </p:nvGrpSpPr>
            <p:grpSpPr>
              <a:xfrm>
                <a:off x="6296400" y="3505320"/>
                <a:ext cx="512280" cy="1141920"/>
                <a:chOff x="6296400" y="3505320"/>
                <a:chExt cx="512280" cy="1141920"/>
              </a:xfrm>
            </p:grpSpPr>
            <p:sp>
              <p:nvSpPr>
                <p:cNvPr id="907" name="Rectangle 209"/>
                <p:cNvSpPr/>
                <p:nvPr/>
              </p:nvSpPr>
              <p:spPr>
                <a:xfrm>
                  <a:off x="629640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1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Rectangle 246"/>
                <p:cNvSpPr/>
                <p:nvPr/>
              </p:nvSpPr>
              <p:spPr>
                <a:xfrm>
                  <a:off x="629640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9" name="Group 253"/>
            <p:cNvGrpSpPr/>
            <p:nvPr/>
          </p:nvGrpSpPr>
          <p:grpSpPr>
            <a:xfrm>
              <a:off x="6809400" y="3505320"/>
              <a:ext cx="512640" cy="1142280"/>
              <a:chOff x="6809400" y="3505320"/>
              <a:chExt cx="512640" cy="1142280"/>
            </a:xfrm>
          </p:grpSpPr>
          <p:sp>
            <p:nvSpPr>
              <p:cNvPr id="910" name="Rectangle 252"/>
              <p:cNvSpPr/>
              <p:nvPr/>
            </p:nvSpPr>
            <p:spPr>
              <a:xfrm>
                <a:off x="680940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1" name="Group 251"/>
              <p:cNvGrpSpPr/>
              <p:nvPr/>
            </p:nvGrpSpPr>
            <p:grpSpPr>
              <a:xfrm>
                <a:off x="6809400" y="3505320"/>
                <a:ext cx="512280" cy="1141920"/>
                <a:chOff x="6809400" y="3505320"/>
                <a:chExt cx="512280" cy="1141920"/>
              </a:xfrm>
            </p:grpSpPr>
            <p:sp>
              <p:nvSpPr>
                <p:cNvPr id="912" name="Rectangle 210"/>
                <p:cNvSpPr/>
                <p:nvPr/>
              </p:nvSpPr>
              <p:spPr>
                <a:xfrm>
                  <a:off x="680940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0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Rectangle 250"/>
                <p:cNvSpPr/>
                <p:nvPr/>
              </p:nvSpPr>
              <p:spPr>
                <a:xfrm>
                  <a:off x="680940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4" name="Group 257"/>
            <p:cNvGrpSpPr/>
            <p:nvPr/>
          </p:nvGrpSpPr>
          <p:grpSpPr>
            <a:xfrm>
              <a:off x="7322400" y="3505320"/>
              <a:ext cx="513000" cy="1142280"/>
              <a:chOff x="7322400" y="3505320"/>
              <a:chExt cx="513000" cy="1142280"/>
            </a:xfrm>
          </p:grpSpPr>
          <p:sp>
            <p:nvSpPr>
              <p:cNvPr id="915" name="Rectangle 256"/>
              <p:cNvSpPr/>
              <p:nvPr/>
            </p:nvSpPr>
            <p:spPr>
              <a:xfrm>
                <a:off x="7322400" y="3505320"/>
                <a:ext cx="51300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6" name="Group 255"/>
              <p:cNvGrpSpPr/>
              <p:nvPr/>
            </p:nvGrpSpPr>
            <p:grpSpPr>
              <a:xfrm>
                <a:off x="7322400" y="3505320"/>
                <a:ext cx="512640" cy="1141920"/>
                <a:chOff x="7322400" y="3505320"/>
                <a:chExt cx="512640" cy="1141920"/>
              </a:xfrm>
            </p:grpSpPr>
            <p:sp>
              <p:nvSpPr>
                <p:cNvPr id="917" name="Rectangle 211"/>
                <p:cNvSpPr/>
                <p:nvPr/>
              </p:nvSpPr>
              <p:spPr>
                <a:xfrm>
                  <a:off x="7322400" y="3505320"/>
                  <a:ext cx="51264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9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Rectangle 254"/>
                <p:cNvSpPr/>
                <p:nvPr/>
              </p:nvSpPr>
              <p:spPr>
                <a:xfrm>
                  <a:off x="7322400" y="3505320"/>
                  <a:ext cx="51264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9" name="Group 261"/>
            <p:cNvGrpSpPr/>
            <p:nvPr/>
          </p:nvGrpSpPr>
          <p:grpSpPr>
            <a:xfrm>
              <a:off x="7835760" y="3505320"/>
              <a:ext cx="641880" cy="1142280"/>
              <a:chOff x="7835760" y="3505320"/>
              <a:chExt cx="641880" cy="1142280"/>
            </a:xfrm>
          </p:grpSpPr>
          <p:sp>
            <p:nvSpPr>
              <p:cNvPr id="920" name="Rectangle 260"/>
              <p:cNvSpPr/>
              <p:nvPr/>
            </p:nvSpPr>
            <p:spPr>
              <a:xfrm>
                <a:off x="783576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1" name="Group 259"/>
              <p:cNvGrpSpPr/>
              <p:nvPr/>
            </p:nvGrpSpPr>
            <p:grpSpPr>
              <a:xfrm>
                <a:off x="7835760" y="3505320"/>
                <a:ext cx="641520" cy="1141920"/>
                <a:chOff x="7835760" y="3505320"/>
                <a:chExt cx="641520" cy="1141920"/>
              </a:xfrm>
            </p:grpSpPr>
            <p:sp>
              <p:nvSpPr>
                <p:cNvPr id="922" name="Rectangle 212"/>
                <p:cNvSpPr/>
                <p:nvPr/>
              </p:nvSpPr>
              <p:spPr>
                <a:xfrm>
                  <a:off x="783576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74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Rectangle 258"/>
                <p:cNvSpPr/>
                <p:nvPr/>
              </p:nvSpPr>
              <p:spPr>
                <a:xfrm>
                  <a:off x="783576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4" name="Group 265"/>
            <p:cNvGrpSpPr/>
            <p:nvPr/>
          </p:nvGrpSpPr>
          <p:grpSpPr>
            <a:xfrm>
              <a:off x="8478360" y="3505320"/>
              <a:ext cx="512640" cy="1142280"/>
              <a:chOff x="8478360" y="3505320"/>
              <a:chExt cx="512640" cy="1142280"/>
            </a:xfrm>
          </p:grpSpPr>
          <p:sp>
            <p:nvSpPr>
              <p:cNvPr id="925" name="Rectangle 264"/>
              <p:cNvSpPr/>
              <p:nvPr/>
            </p:nvSpPr>
            <p:spPr>
              <a:xfrm>
                <a:off x="847836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6" name="Group 263"/>
              <p:cNvGrpSpPr/>
              <p:nvPr/>
            </p:nvGrpSpPr>
            <p:grpSpPr>
              <a:xfrm>
                <a:off x="8478360" y="3505320"/>
                <a:ext cx="512280" cy="1141920"/>
                <a:chOff x="8478360" y="3505320"/>
                <a:chExt cx="512280" cy="1141920"/>
              </a:xfrm>
            </p:grpSpPr>
            <p:sp>
              <p:nvSpPr>
                <p:cNvPr id="927" name="Rectangle 213"/>
                <p:cNvSpPr/>
                <p:nvPr/>
              </p:nvSpPr>
              <p:spPr>
                <a:xfrm>
                  <a:off x="847836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Rectangle 262"/>
                <p:cNvSpPr/>
                <p:nvPr/>
              </p:nvSpPr>
              <p:spPr>
                <a:xfrm>
                  <a:off x="847836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29" name="Line 267"/>
          <p:cNvSpPr/>
          <p:nvPr/>
        </p:nvSpPr>
        <p:spPr>
          <a:xfrm flipH="1">
            <a:off x="2819520" y="2895480"/>
            <a:ext cx="45720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268"/>
          <p:cNvSpPr/>
          <p:nvPr/>
        </p:nvSpPr>
        <p:spPr>
          <a:xfrm>
            <a:off x="426240" y="5229360"/>
            <a:ext cx="859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EDNOVÁ HODNOTA –  SOUČET „NOVÝ“ LEDEN + 11 předchozích měsíc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269"/>
          <p:cNvSpPr/>
          <p:nvPr/>
        </p:nvSpPr>
        <p:spPr>
          <a:xfrm>
            <a:off x="1063440" y="5715000"/>
            <a:ext cx="714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ÚNOROVÁ  HODNOTA –  SOUČET „NOVÝ“ LEDEN + ÚN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+STARÉ OSTATNÍ MĚSÍ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ovéPole 266"/>
          <p:cNvSpPr/>
          <p:nvPr/>
        </p:nvSpPr>
        <p:spPr>
          <a:xfrm>
            <a:off x="516240" y="4797360"/>
            <a:ext cx="89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louzavý úhrn,vždy součet 12 měsíčních hodnot, tj. daný měsíc plus +11 předchoz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 - diagra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45720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GRAFICKÉ ZNÁZORNĚ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Řada……………………………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…………………………</a:t>
            </a: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čár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řada 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společné bod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Z - diagramu( tj. spol. hodno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……………………………………………………………………………………………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Rectangle 5"/>
          <p:cNvSpPr/>
          <p:nvPr/>
        </p:nvSpPr>
        <p:spPr>
          <a:xfrm>
            <a:off x="169560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7" name="Picture 4" descr=""/>
          <p:cNvPicPr/>
          <p:nvPr/>
        </p:nvPicPr>
        <p:blipFill>
          <a:blip r:embed="rId1"/>
          <a:srcRect l="7954" t="17559" r="16447" b="18297"/>
          <a:stretch/>
        </p:blipFill>
        <p:spPr>
          <a:xfrm>
            <a:off x="0" y="765000"/>
            <a:ext cx="866916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Z - diagra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9" name="Object 2"/>
          <p:cNvGraphicFramePr/>
          <p:nvPr/>
        </p:nvGraphicFramePr>
        <p:xfrm>
          <a:off x="609480" y="1066680"/>
          <a:ext cx="8534520" cy="546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853452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Nevýhody po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í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ta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vého zpracování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533520" y="1066680"/>
            <a:ext cx="83818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yby v softwaru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 všechny statistické programy jsou spolehlivé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iverzálnos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ůže vést k výběr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vhodn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é metody zpracová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Je velmi důležité, aby každý, kdo používá statistický software, si byl vědom úrovně svých statistických znalostí a </a:t>
            </a:r>
            <a:r>
              <a:rPr b="0" i="1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žíval pouze ty metody, kterým rozumí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ozor na používání neznámých statistických metod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50920" y="450864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Černá skříňka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Špatná data plodí špatné závěry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sty a pís. zkou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prava na test  - pojmy viz. uč.  Materiály na 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ís. zkouška,vždy min jedna přípravná otázka ke st. zkouš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Bc otáz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0" y="765000"/>
            <a:ext cx="86868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pište vývoj a pojetí statistiky. Objasněte základní kroky statistických šetření a vymezte následující pojmy: hromadný jev, statistický soubor, statistická jednotka, statistický znak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6) Popište a vysvětlete rozdělení četností (absolutní, relativní, kumulované) statistických jevů jejich grafické znázornění a uveďte příklady geografických aplikac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7) Uveďte příklady grafické znázornění statistických informací (grafy, sítě, statistické mapy) a na konkrétních příkladech doložte jejich náležitost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8) Přehledně představte základní míry úrovně (střední hodnoty), variability, asymetrie a špičatosti. Vysvětlete jejich význam a doložte nákres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9) Popište teoretická rozdělení náhodných veličin (Gaussovo, binomické a Pearsonovo rozdělení). S využitím nákresů popište a interpretujte význam normálního rozdělení. Uveďte další příklady jiných rozdělen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20) Vysvětlete a popište statistické závislosti náhodných veličin (korelace regrese, korelační koeficient). Uveďte konkrétní příklady geografických aplikac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21) Popište obecné principy statistického testování (základní kroky, hypotézy, teorie a druhy testů) a uveďte příklady geografických aplikací. Vysvětlete, proč se formuluje nulová hypotéza, co je hladina významnosti a jak se nulové hypotézy mohou ověři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22) Vysvětlete pojem časové řady a uveďte jejich hlavní rysy. S pomocí náčrtu objasněte tendence časových řad. Uveďte příklad využití řetězových a bazických indexů – doložte příkladem výpočt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kázky části otázek  k pís. zk.,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droje: Literatura viz. IS, učební texty na IS :historie a Thinking G.,),  zápisy z přednášek, cvičení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324000" y="980640"/>
            <a:ext cx="8362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ysvětlete pojem primární data a napište  hlavní zdroje primárních dat pro geografický výzkum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ysvětlete pojem sekundární data,  napište   hlavní zdroje sekundárních dat  pro geografický výzkum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Čím se geografové zabývají?( Na jakých pracovních pozicích a  s jakým obsahem pracovní činnosti.)Udejte min dva konkrétní příklady a vysvětlete, jak využívají své odbornosti geografa a znalosti geografických konceptů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Jmenujte základná fáze vědeckého výzkumu a stručně je popišteDefinujte systém,  objasněte  s využitím  náčrtu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Které dovednosti patří pod pojem „geografické myšlení“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Jmenujte typické geografické otázky, které jsou potřebné pro správnou výuku zeměpisu a rozvoj geografického myšlení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geografi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Zařaďte geografii do  souboru věd. Definujte objekt studia geografie a předmět studia geografi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a vymezte objekt studia geografie a předmět studia geografie.  Dejte do souvislosti předmět  studia geografie  a typické geografické otázk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Systém geografických věd – napište  strukturovaný výčet či  nakreslete schéma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Stručně popište nejstarší etapu vývoje statistik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Kdy se o statistice objevují první zprávy? Které činnosti se k ní vztahovaly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Co bylo obsahem politické aritmetiky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statistik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Hromadný jev, udejte min. dva konkrétní příklad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Jmenujte a následně definujte či vysvětlete dvě základní pojetí statistiky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pište základní  etapy statistického zpracování d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statistickou jednotku včetně vymezení. Uveďte  jeden konkrétní příklad  vymezení statistické jednotk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statistický znak, napište základní  členění  st. znaků, uveďte vždy  u každé dílčí skupiny  min. jeden příkla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statistický soubor, napište základní typy st. souborů,  uveďte k nim vhodné příklad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 konkrétním příkladu objasněte termíny:  statistický soubor jednorozměrný a vícerozměrný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 konkrétním příkladu objasněte termíny:  statistický soubor  základní a výběrový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 konkrétním příkladu objasněte termíny:  statistický soubor základní a reprezentativní.  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jmenujte základní typy grafů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črtněte trojúhelníkovou síť  pro hodnocení nejvyššího dosaženého vzdělání   a vyznačte  v ní  obec A s podíly obyvatel se základním vzděláním 30 %, se středním 50,% a vysokoškolským 20% a obec B  s podíly (10 %, 60 %, 40%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ysvětlete, pro které jevy lze použít kruhovou siť. Uveďte min. dva příklad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črtněte kruhovou  síť pro znázornění průměrných srážek na  met. stanici.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Kartogram a kartodiagram, uveďte  vhodné příklady pro jejich  využití , objasněte, kdy je vhodné použít kartogram a kdy kartodiagra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A další…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Veselý obličej 4"/>
          <p:cNvSpPr/>
          <p:nvPr/>
        </p:nvSpPr>
        <p:spPr>
          <a:xfrm>
            <a:off x="3924360" y="3429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Srdce 5"/>
          <p:cNvSpPr/>
          <p:nvPr/>
        </p:nvSpPr>
        <p:spPr>
          <a:xfrm>
            <a:off x="6084720" y="5157720"/>
            <a:ext cx="914400" cy="914400"/>
          </a:xfrm>
          <a:custGeom>
            <a:avLst/>
            <a:gdLst>
              <a:gd name="textAreaLeft" fmla="*/ 152280 w 914400"/>
              <a:gd name="textAreaRight" fmla="*/ 762120 w 914400"/>
              <a:gd name="textAreaTop" fmla="*/ 228600 h 914400"/>
              <a:gd name="textAreaBottom" fmla="*/ 609840 h 914400"/>
            </a:gdLst>
            <a:ahLst/>
            <a:rect l="textAreaLeft" t="textAreaTop" r="textAreaRight" b="textAreaBottom"/>
            <a:pathLst>
              <a:path w="914400" h="914400">
                <a:moveTo>
                  <a:pt x="457200" y="228600"/>
                </a:moveTo>
                <a:cubicBezTo>
                  <a:pt x="647700" y="-304800"/>
                  <a:pt x="1390650" y="228600"/>
                  <a:pt x="457200" y="914400"/>
                </a:cubicBezTo>
                <a:cubicBezTo>
                  <a:pt x="-476250" y="228600"/>
                  <a:pt x="266700" y="-304800"/>
                  <a:pt x="457200" y="22860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Slunce 6"/>
          <p:cNvSpPr/>
          <p:nvPr/>
        </p:nvSpPr>
        <p:spPr>
          <a:xfrm>
            <a:off x="1763640" y="1557360"/>
            <a:ext cx="1224000" cy="1150920"/>
          </a:xfrm>
          <a:prstGeom prst="sun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ymezení základních statistických pojmů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8229600" cy="134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Calibri"/>
                <a:ea typeface="Arial"/>
              </a:rPr>
              <a:t>Statistika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Arial"/>
              </a:rPr>
              <a:t> je vědní obor zabývající se zkoumáním jevů, které mají hromadný charakter.</a:t>
            </a:r>
            <a:br>
              <a:rPr sz="2200"/>
            </a:br>
            <a:br>
              <a:rPr sz="2200"/>
            </a:br>
            <a:br>
              <a:rPr sz="29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914400" y="22860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1f497d"/>
                </a:solidFill>
                <a:latin typeface="Times New Roman"/>
              </a:rPr>
              <a:t>statistika - defi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468360" y="1197000"/>
            <a:ext cx="80773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Hromadné jevy</a:t>
            </a:r>
            <a:r>
              <a:rPr b="0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vy, kter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teré se vyskytují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u …………………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o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ýsledkem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……………………………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611280" y="486900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904760"/>
            <a:ext cx="792468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dybych měl poslední den života, chtěl bych ho  strávit na přednášce ze statistiky –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-  je tak nekonečně dlouhá 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533520" y="1176480"/>
            <a:ext cx="830556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Statistická jednotka</a:t>
            </a:r>
            <a:r>
              <a:rPr b="0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: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tatistická jednotka musí být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řesně vymezen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na počátku vlastního šetření a to z hledisk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…………………………………………………………………………………………………………………………………………………………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898560" y="4917960"/>
            <a:ext cx="7635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tat. jednotka – občan, novorozenec, byt,  rodinný  dům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K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K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0948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Statistický zna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je to …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Tzv.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hodné (společné) znak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vymezují ………………………………………………………………………………………………………...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statní jsou znaky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2520" y="51814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295280" y="5057640"/>
            <a:ext cx="6324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shodný znak – ………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………………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..znaky – váha, délka, jméno, národnost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533520" y="1066680"/>
            <a:ext cx="807696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tatistické znaky lze dělit na zna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ostorov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)  časov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) věcn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valitativní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lternativ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ožn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kvantitativní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oj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iskrétní/nespoj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629400" y="16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185360" y="6400800"/>
            <a:ext cx="24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Doplňte další příkl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6"/>
          <p:cNvSpPr/>
          <p:nvPr/>
        </p:nvSpPr>
        <p:spPr>
          <a:xfrm flipV="1">
            <a:off x="3276720" y="1676160"/>
            <a:ext cx="2438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7"/>
          <p:cNvSpPr/>
          <p:nvPr/>
        </p:nvSpPr>
        <p:spPr>
          <a:xfrm>
            <a:off x="2819520" y="23623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8"/>
          <p:cNvSpPr/>
          <p:nvPr/>
        </p:nvSpPr>
        <p:spPr>
          <a:xfrm flipV="1">
            <a:off x="4724280" y="388584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4038480" y="4648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0"/>
          <p:cNvSpPr/>
          <p:nvPr/>
        </p:nvSpPr>
        <p:spPr>
          <a:xfrm flipV="1">
            <a:off x="5257800" y="60958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Statistické znaky můžeme získat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římo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 – (např. měřením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, zvážením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 tj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1f497d"/>
                </a:solidFill>
                <a:latin typeface="Arial"/>
              </a:rPr>
              <a:t>………</a:t>
            </a:r>
            <a:r>
              <a:rPr b="1" lang="cs-CZ" sz="2600" spc="-1" strike="noStrike">
                <a:solidFill>
                  <a:srgbClr val="1f497d"/>
                </a:solidFill>
                <a:latin typeface="Arial"/>
              </a:rPr>
              <a:t>..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nepřímo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 (výpočtem),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(znaky odvozené)  tj. ………….</a:t>
            </a:r>
            <a:r>
              <a:rPr b="1" lang="cs-CZ" sz="2600" spc="-1" strike="noStrike">
                <a:solidFill>
                  <a:srgbClr val="1f497d"/>
                </a:solidFill>
                <a:latin typeface="Arial"/>
              </a:rPr>
              <a:t>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1f497d"/>
                </a:solidFill>
                <a:latin typeface="Calibri"/>
              </a:rPr>
              <a:t>Příklady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1f497d"/>
                </a:solidFill>
                <a:latin typeface="Calibri"/>
              </a:rPr>
              <a:t>Nastudovat z Thinking Geography – uč. materiá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457200" y="1523880"/>
            <a:ext cx="84582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Arial"/>
                <a:ea typeface="Arial"/>
              </a:rPr>
              <a:t>Statistický soubo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…………………………………………………………………………………………………………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Je to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nožina všech prvků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, které jsou předmětem daného statistického zkoumání.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Každý z prvků je statistickou jednotkou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720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ky tvořící statistický soubor maj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rčité společné vlastnosti - tzv. </a:t>
            </a:r>
            <a:r>
              <a:rPr b="1" lang="cs-CZ" sz="2800" spc="-1" strike="noStrike">
                <a:solidFill>
                  <a:srgbClr val="1f497d"/>
                </a:solidFill>
                <a:latin typeface="Calibri"/>
              </a:rPr>
              <a:t>……………………………………………………….</a:t>
            </a: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znaky</a:t>
            </a:r>
            <a:r>
              <a:rPr b="0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-……………………………………………….</a:t>
            </a: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znak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–   tyto znak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tisticky šetří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28600" y="3429000"/>
            <a:ext cx="548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tatistický soub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hodný - :identifikační zna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ledovaný zna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2209680" y="5105520"/>
            <a:ext cx="7696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tatistický soubor:Občané v produktivním věk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hodný - identifikační zna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ledovaný zna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304920" y="152280"/>
            <a:ext cx="85341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tatistický soubor můžeme podle různých hledisek dále děl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tatistický soub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jednorozměrný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vícerozměrn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04920" y="51814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421080" y="3962520"/>
            <a:ext cx="48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 –rozm.:3650, 2100, 1200, 3500, 4100, 28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335268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4419720" y="4757760"/>
            <a:ext cx="3809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3650, 5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2100, 47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200, 36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3500,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85800" y="3429000"/>
            <a:ext cx="228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(váha  dítěte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811080" y="4800600"/>
            <a:ext cx="29847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dvourozm. (váha; délka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! jako dvojice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tatistický soubor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základn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 a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výběrový</a:t>
            </a:r>
            <a:r>
              <a:rPr b="0" lang="cs-CZ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094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Výběrový soub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je .…………. základního souboru. Je vytvořen ze…………………………., vybraných podle určitého hlediska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ř. Novorozenci v ………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Reprezentativní výbě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kud zkoumaný výběr dobře odráží ……………………………………. celého zkoumaného souboru, nazýváme jej reprezentativním výběre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ř. 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Rozsah statistického soubor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čet statistických jednotek v soubor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 – rozsah základního souboru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 – rozsah výběrového souboru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rafické znázornění  jev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914400" y="1600200"/>
            <a:ext cx="58672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70000"/>
              </a:lnSpc>
              <a:spcBef>
                <a:spcPts val="1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200" spc="-1" strike="noStrike" u="sng">
                <a:solidFill>
                  <a:srgbClr val="ffc000"/>
                </a:solidFill>
                <a:uFillTx/>
                <a:latin typeface="Calibri"/>
              </a:rPr>
              <a:t>statistika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70000"/>
              </a:lnSpc>
              <a:spcBef>
                <a:spcPts val="924"/>
              </a:spcBef>
              <a:buClr>
                <a:srgbClr val="ffc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700" spc="-1" strike="noStrike">
                <a:solidFill>
                  <a:srgbClr val="ffc000"/>
                </a:solidFill>
                <a:latin typeface="Calibri"/>
              </a:rPr>
              <a:t>definice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70000"/>
              </a:lnSpc>
              <a:spcBef>
                <a:spcPts val="924"/>
              </a:spcBef>
              <a:buClr>
                <a:srgbClr val="ffc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700" spc="-1" strike="noStrike">
                <a:solidFill>
                  <a:srgbClr val="ffc000"/>
                </a:solidFill>
                <a:latin typeface="Calibri"/>
              </a:rPr>
              <a:t>pojetí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rafické znázornění  jev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331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Graf – defin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–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resba podle pravidel  znázorňující kvalitativní a kvantitativní inform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Základní prvk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grafického znázorně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1.Název, příp. podnáze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2.vlastní kres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3.stupnice a  její popis (rovnoměrná,  nerovnoměrná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4.legenda/klí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5.zdroj údaj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světlivky, poznámky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raf – ukáz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724280" y="5714640"/>
            <a:ext cx="3353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Český statistický úřad, 20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ypy graf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335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chéma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znázorňuje strukturu a vztahy jevu či proces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Příkl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diagram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znázorňuje kvantitativní údaje o soubo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loupcový, bodový, plošný at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příkl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tatistická mapa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prostorové rozložení prvku v podkladové map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4572000" y="5977080"/>
            <a:ext cx="885960" cy="880920"/>
          </a:xfrm>
          <a:custGeom>
            <a:avLst/>
            <a:gdLst>
              <a:gd name="textAreaLeft" fmla="*/ 0 w 885960"/>
              <a:gd name="textAreaRight" fmla="*/ 250560 w 885960"/>
              <a:gd name="textAreaTop" fmla="*/ 338760 h 880920"/>
              <a:gd name="textAreaBottom" fmla="*/ 881280 h 8809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ché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Diagram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029"/>
          <p:cNvSpPr/>
          <p:nvPr/>
        </p:nvSpPr>
        <p:spPr>
          <a:xfrm>
            <a:off x="4343400" y="609588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Český statistický úřad, 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iagram_ - věkové složení obyv., tzv.pyramida živ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5105520" y="6248520"/>
            <a:ext cx="3352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Český statistický úřad,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Odchylka od průměrné teploty na Zem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Statistická mapa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4648320" y="632448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kresní úřad Karviná,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Použití grafických papírů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při studiu geografických jev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Grafický papí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usnadňuje vynášení prvků do graf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Milimetrový papí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rovnoměrné stupnice, čáry se jeví v původní, nezkreslené podob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Polologaritmický papí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kombinace dvou sítí – rovnoměrné a logaritmick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Pravděpodobnostní papí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kombinace rovnoměrné a pravděpodobnostní stupn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ít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Trojúhelníková síť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znázorňování jevů  o třech prvcích, které mají vždy konstantní souč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př. půdní dru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ůda A:: 50 % jílu, 25% hlíny, 25%, pís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2918160" y="640080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í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3921480" y="50706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l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968400" y="5257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ís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916200" y="6248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9"/>
          <p:cNvSpPr/>
          <p:nvPr/>
        </p:nvSpPr>
        <p:spPr>
          <a:xfrm>
            <a:off x="3124080" y="6324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Statistika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je vědní obor zabývající se zkoumáním jevů, které mají hromadný charakter.</a:t>
            </a:r>
            <a:br>
              <a:rPr sz="2400"/>
            </a:br>
            <a:br>
              <a:rPr sz="2400"/>
            </a:br>
            <a:r>
              <a:rPr b="0" i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tatistika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je v ur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tém smyslu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jazykem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pro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hroma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žď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ován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zpracování, rozbor, hodnocení a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interpretaci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romadných jev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914400" y="22860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1f497d"/>
                </a:solidFill>
                <a:latin typeface="Times New Roman"/>
              </a:rPr>
              <a:t>statistika - defi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Sítě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ruhová (radiální)  síť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kombinace soustředných kružnic a přímek procházejících středem kružn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grafické znázorňování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opakujících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e jevů, struktury jev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kl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oční chod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teplo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směr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vět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1029"/>
          <p:cNvSpPr/>
          <p:nvPr/>
        </p:nvSpPr>
        <p:spPr>
          <a:xfrm>
            <a:off x="26002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028" descr=""/>
          <p:cNvPicPr/>
          <p:nvPr/>
        </p:nvPicPr>
        <p:blipFill>
          <a:blip r:embed="rId1"/>
          <a:stretch/>
        </p:blipFill>
        <p:spPr>
          <a:xfrm>
            <a:off x="4140360" y="4005360"/>
            <a:ext cx="46670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000000"/>
                </a:solidFill>
                <a:uFillTx/>
                <a:latin typeface="Calibri"/>
              </a:rPr>
              <a:t>statistická mapa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kartogram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kartodia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11430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kartogra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artogram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obrysová kartografická kresba územních celků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, ve kterých jsou grafickým způsobem (barevný odstín, rast)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plošně znázorněna statistická data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týkající se různých geografických jevů (lidnatost, využívání ploch apod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5" descr="KARTOGRAM1"/>
          <p:cNvPicPr/>
          <p:nvPr/>
        </p:nvPicPr>
        <p:blipFill>
          <a:blip r:embed="rId1"/>
          <a:stretch/>
        </p:blipFill>
        <p:spPr>
          <a:xfrm>
            <a:off x="4038480" y="0"/>
            <a:ext cx="403884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togramy lze rozdělit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odle územního dělení n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togramy s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.………….. hranicem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togramy  s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………………..hranice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arto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artodiagramy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sou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diagramy vložené do mapové kostr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kterou tvoří dílčí územní celk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jich údaje se vztahují na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celé území jednotk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kde le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 rozdíl od metody lokalizovaných diagramu – údaj vztahující se k urč. bodu – např. chod roční  srážek  na meteorolog. stani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5" descr="k5"/>
          <p:cNvPicPr/>
          <p:nvPr/>
        </p:nvPicPr>
        <p:blipFill>
          <a:blip r:embed="rId1"/>
          <a:stretch/>
        </p:blipFill>
        <p:spPr>
          <a:xfrm>
            <a:off x="6934320" y="304920"/>
            <a:ext cx="198108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1522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artodiagra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09480" y="297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kládanými diagram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ohou bý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…………………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diagram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o vyjadřování časových ř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diagramy (sloupce, věkové pyramidy apod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ůzně dělené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…………………. znač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k5"/>
          <p:cNvPicPr/>
          <p:nvPr/>
        </p:nvPicPr>
        <p:blipFill>
          <a:blip r:embed="rId1"/>
          <a:stretch/>
        </p:blipFill>
        <p:spPr>
          <a:xfrm>
            <a:off x="6172200" y="380880"/>
            <a:ext cx="26668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Grafické metody analýzy geografických jev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.znázornění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Calibri"/>
              </a:rPr>
              <a:t>intenzity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  jevu v prostor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absolutními metodam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značková metoda (…………………………………………………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 bodová metoda (…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elativními metodam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např. 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znázornění 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Calibri"/>
              </a:rPr>
              <a:t>struktury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   jevu v prostor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užití …………………………….. graf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pouze strukturu vyjádříme výsečovými grafy se stejným ………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strukturu a  velikost celku ( ……………………………………………………………………………………………………………………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áležitosti statistické m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Obsah map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tvoří všechny objekty, jevy a jejich vztahy, které jsou v mapě kartograficky znázorně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kladní údaje tvoř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Název mapy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- stručně  a výstižně charakterizuje zobrazené území, druh mapy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lze i název hlavní a vedlejší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apový rámec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– „vlastní mapa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ěřítko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v číselné, grafické nebo slovní form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Legenda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(vysvětlivky) – podávají výklad použitých mapových značek a ostatních kartografických vyjadřovacích prostředků včetně barevných a velikostních stupnic, legenda musí být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Úplná, logicky uspořádaná, přehledná a zapamatovatelná, </a:t>
            </a:r>
            <a:r>
              <a:rPr b="0" lang="cs-CZ" sz="1800" spc="-1" strike="noStrike">
                <a:solidFill>
                  <a:srgbClr val="ff0000"/>
                </a:solidFill>
                <a:latin typeface="Calibri"/>
              </a:rPr>
              <a:t>POZOR na intervaly, na barevnou škál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Autoř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533520" y="4952880"/>
            <a:ext cx="838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alšími údaji mohou být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značení severu nebo směrová růžice, souřadnicový systém, přehled použitých mapových podkladů, datum, ke kterému se obsah mapy vztahu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brázky, grafy, tabulky,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světlet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C:\Documents and Settings\svatonova\Dokumenty\STATISTIKA\JARO_07\mapa304.jpg"/>
          <p:cNvPicPr/>
          <p:nvPr/>
        </p:nvPicPr>
        <p:blipFill>
          <a:blip r:embed="rId2"/>
          <a:stretch/>
        </p:blipFill>
        <p:spPr>
          <a:xfrm>
            <a:off x="506520" y="952560"/>
            <a:ext cx="86374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romadný jev ve statis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2"/>
          <p:cNvSpPr/>
          <p:nvPr/>
        </p:nvSpPr>
        <p:spPr>
          <a:xfrm>
            <a:off x="611280" y="1341360"/>
            <a:ext cx="685800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stika se zabývá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hromadnými jev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tj.:…………………………………………….. jevy, které se vyskytují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u souboru lidí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věcí, událostí  bu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…………………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..formě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b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…………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převoditelné na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…………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romadné jevy –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…studenti dopíší další příklady ( např. viz. statistické ročenky)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zolinie – konstrukce a vlastn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zolinie – ……………………………………………………………………………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ískávají se 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etodou prostorové interpolace hodnot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vynesených do graf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lynulé čá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zo……………., izo………………., v…………….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onstrukce izolinie  - příkl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ozdělení četnost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bsolutní, relativní kumulované četnos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četnost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počet ……………………určité hodnoty v souboru,                      frekvence hodno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rozdělení četnost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– ……………………. prvků  s určitými  hodnotami statistického znaku, obvykle pro nespojité hodno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kupinové rozdělení četnost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-  počty prvků s hodnotami statistického znaku, které patří do určitého ………………………………, obvykle pro spojité hodn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kupinové rozdělení četnost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roztřídíme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statistické jednotky podle velikosti jejich statistického znaku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do 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terval – hranice, dolní a horní mez, šířka  (délk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zásad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mezené hranice pro jednoznačné zařazení prvk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vykle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šíř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iměřený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….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intervalů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Četn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absolutní četnost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elativní četnost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umulovaná četnost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kl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611280" y="1700280"/>
          <a:ext cx="7391160" cy="4782960"/>
        </p:xfrm>
        <a:graphic>
          <a:graphicData uri="http://schemas.openxmlformats.org/drawingml/2006/table">
            <a:tbl>
              <a:tblPr/>
              <a:tblGrid>
                <a:gridCol w="1523880"/>
                <a:gridCol w="939960"/>
                <a:gridCol w="1231920"/>
                <a:gridCol w="1231920"/>
                <a:gridCol w="1231560"/>
                <a:gridCol w="1231920"/>
              </a:tblGrid>
              <a:tr h="13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ř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s. č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iv. č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mul. ab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mul. rel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 - 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1 - 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1 -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Text Box 62"/>
          <p:cNvSpPr/>
          <p:nvPr/>
        </p:nvSpPr>
        <p:spPr>
          <a:xfrm>
            <a:off x="604440" y="422280"/>
            <a:ext cx="470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ab.S Skupinové rozdělení četností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kázka – příklad váha 1novorozenců v JM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Grafické znázornění rozdělení četnost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lyg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čára kumulovaných četnos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1401480" y="5867280"/>
            <a:ext cx="599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čára kumulovaných četnost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– součtová čár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graf kumulované četnosti, vždy k horní hranici interva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ist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Histogram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……………………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šířka sloupce – šířka intervalu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ška sloupce - čet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ly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olygon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spojnicový diagram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odnoty četnosti se vynáší ke středům interval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Čára kumulovaných četnost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čára kumulovaných četnost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………………………………………………………………………………………………..k horní hranici interval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o je typické pro statistiku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histogram – věkové složení obyvatelstva, věková struktura, pyramida živo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Základní statistické charakteris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kladní statistické charakteristi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kladní statistické charakteristiky „popisují“  statistický sou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) charakteristiky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úrovně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– tzv. střední hodno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) charakteristiky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vari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) charakteristiky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asymetrie a špičat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řední hodno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Místo ……………………………………………..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 jednorozměrného statistického souboru používáme   často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řední hodnoty umožňují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porovnávání soubor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řední hodno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aritmetický průměr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+ vážený aritm. průměr, geometrický průměr, harmonický průmě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mod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aritmetický stř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medián a kvant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geografický mediá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ritmetický průmě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55640" y="112536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jčastěji používaná st. charakteristi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Calibri"/>
              </a:rPr>
              <a:t>typický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Calibri"/>
              </a:rPr>
              <a:t>netypický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růmě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jedno a více  vrcholová rozdělení četností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ypický aritm. průměr – 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typický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859040" y="5680080"/>
            <a:ext cx="6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Ob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ážený aritmetický průmě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 výpočtu množství srážek  v povodí – váha – plocha územ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klimatologii – výpočet denního průměru teplot ze tří měř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 Box 1028"/>
          <p:cNvSpPr/>
          <p:nvPr/>
        </p:nvSpPr>
        <p:spPr>
          <a:xfrm>
            <a:off x="1699560" y="5070600"/>
            <a:ext cx="13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. výpoč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od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odus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- ……………………….. hodnota kvantitativního znaku ve studovaném soubo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znamný především u souboru nespojitých velič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odální interval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– interval zahrnující ……………………………. počet jednotek, závisí však na stanovení hranic interval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ozdělení  s více mody –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polymodální rozděl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503360" y="5985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ritmetický stř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ritm. střed je polovina součtu min. a max. hodnoty znaku v soub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kud soubor obsahuje extrémní hodnoty, je aritmetický střed značně zkreslující charakterist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1198440" y="4994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diá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Medián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tzv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rostřední  hodnota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to prvek řady uspořádané v neklesajícím pořadí ………………………………..í), který ji dělí na dvě poloviny, které mají menší a větší hodnotu zna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ZOR: </a:t>
            </a:r>
            <a:r>
              <a:rPr b="0" lang="cs-CZ" sz="2400" spc="-1" strike="noStrike" u="sng">
                <a:solidFill>
                  <a:srgbClr val="1f497d"/>
                </a:solidFill>
                <a:uFillTx/>
                <a:latin typeface="Calibri"/>
              </a:rPr>
              <a:t>soubor je třeba 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zorce určují .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ořadí  prvku (</a:t>
            </a:r>
            <a:r>
              <a:rPr b="0" lang="cs-CZ" sz="2400" spc="-1" strike="noStrike" u="sng">
                <a:solidFill>
                  <a:srgbClr val="1f497d"/>
                </a:solidFill>
                <a:uFillTx/>
                <a:latin typeface="Calibri"/>
              </a:rPr>
              <a:t>kolikátý prvek to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 je, 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Calibri"/>
              </a:rPr>
              <a:t>hodnota prvku je medián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!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  řadu s lichým počtem prvků 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 řadu o sudém počtu je medián průměr z hodnot mezi prvkem na (…………………………………..) míst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Příkl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statistika – dva významy - dvě pojet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9640" y="2060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………………………………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dmět zkoumání : stav a vývoj číselně vyjádřených hromadných jev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 zaznamenání, třídění, shrnování číselných  údajů o skutečnostech, </a:t>
            </a: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udělám si statistiku …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vanti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edián je kvantil dělící soubor na dvě poloviny dle předch. pravi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dobn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vartily – .,  x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Calibri"/>
              </a:rPr>
              <a:t>25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,  x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Calibri"/>
              </a:rPr>
              <a:t>50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Calibri"/>
              </a:rPr>
              <a:t>75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c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ercent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vantily obecně široké použití ve statistice a v geograf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1274760" y="6137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eografický mediá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Geografický medián je čára dělící …………………….kde se jev vyskytuje tak, aby hodnota jevu byla v obou plochách stejn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arakteristiky vari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ariační rozpě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vantilové odchy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ůměrné odchy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zpty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měrodatn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ariační koefic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ariační rozpět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zdíl největší a nejmenší hodnoty sledovaného statist. zna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= 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Calibri"/>
              </a:rPr>
              <a:t>max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Calibri"/>
              </a:rPr>
              <a:t>m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dnoduchá charakterist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léhá ……………………………… hodnotám, které mohou být i chyba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1503360" y="5985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ůměrné odchyl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ůměrná odchylka je definována jako ……………………………………………………………………………………………….od vybrané střední hodnoty (tj. od aritmetického průměru, mediánu, modu apod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vantilové odchyl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loženy na kladných odchylkách jednotlivých sousedních kvantil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př. kvartilov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ecilov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ercentilov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řední difer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 def. jako aritmetický průměr absolutních hodnot …………………………………………………………………………………………………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praxi vhodná pouze pro malé soub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2038680" y="48420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ozptyl a směrodatná odchyl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jdůležitější charakteristiky vari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ozptyl s</a:t>
            </a:r>
            <a:r>
              <a:rPr b="1" lang="cs-CZ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cs-CZ" sz="3200" spc="-1" strike="noStrike" baseline="30000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  n hodnot znaku x  je průměr druhých mocnin odchylek  jednotlivých hodnot znaku od  aritmetického průmě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směrodatná odchylk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s  je mírou měnlivosti hodnot souboru kolem aritmetického průmě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 druhou odmocnina rozpty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ariační koefici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 častou používanou relativní mírou vari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 definován jako poměr směrodatné odchylky k aritmetickému průmě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harakteristiky asymetri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harakteristiky asymetrie ( míry šikmosti) jsou  čísla dávající představ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o </a:t>
            </a: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souměrnosti ………………………………tvaru</a:t>
            </a:r>
            <a:r>
              <a:rPr b="0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 rozdělení četnos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íra šikmosti pro souměrné rozdělení je n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nesouměrné je kladná nebo záporn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TATISTIKA jako vědní disciplí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09120" y="1066320"/>
            <a:ext cx="7162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000000"/>
                </a:solidFill>
                <a:uFillTx/>
                <a:latin typeface="Calibri"/>
              </a:rPr>
              <a:t>statistika popisná:………………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000000"/>
                </a:solidFill>
                <a:uFillTx/>
                <a:latin typeface="Calibri"/>
              </a:rPr>
              <a:t>matematická statistika: ………………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harakteristiky asymetri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7"/>
          <p:cNvSpPr/>
          <p:nvPr/>
        </p:nvSpPr>
        <p:spPr>
          <a:xfrm>
            <a:off x="990720" y="1295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ymetrick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3733920" y="20574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Záporně sešikmen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7315200" y="37339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Kladně sešikmen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1066680" y="49528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r. průměr, medián, mod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arakteristiky špičat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harakteristiky špičatosti ( míry špičatosti)  jsou čísla charakterizující ……………………………… prvků souboru v …………………………….určité hodnoty zna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1008000" y="4079880"/>
            <a:ext cx="443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br. Špičaté, normální a ploché rozděl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arakteristiky špičat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6553080" y="2286000"/>
            <a:ext cx="1905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 – špiča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2 – normál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3 – ploch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ozděl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1640" y="2785680"/>
            <a:ext cx="378612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Karl Friedrich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Gauss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1777-185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696960" y="1604880"/>
            <a:ext cx="3535200" cy="452592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2"/>
          <p:cNvSpPr/>
          <p:nvPr/>
        </p:nvSpPr>
        <p:spPr>
          <a:xfrm>
            <a:off x="1071720" y="4287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1f497d"/>
                </a:solidFill>
                <a:latin typeface="Calibri"/>
              </a:rPr>
              <a:t>STATISTICKÉ METODY  </a:t>
            </a:r>
            <a:br>
              <a:rPr sz="4400"/>
            </a:br>
            <a:r>
              <a:rPr b="0" lang="cs-CZ" sz="4400" spc="-1" strike="noStrike">
                <a:solidFill>
                  <a:srgbClr val="1f497d"/>
                </a:solidFill>
                <a:latin typeface="Calibri"/>
              </a:rPr>
              <a:t> V GEOGRAF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Teoretická rozdělení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kladní poj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náhodná veličina </a:t>
            </a:r>
            <a:r>
              <a:rPr b="0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ůže teoreticky nabývat nekonečného množství hodnot z určitého intervalu např.teplota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náhodná veličina </a:t>
            </a:r>
            <a:r>
              <a:rPr b="0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…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bývá jen konečného množství hodnot urč. intervalu. Např. počet měsíců s teplotou nad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aždé hodnotě je možno přiřadit pravděpodobnost jejího výskytu, součet  všech dílčích pravděpodobností j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oretická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51920" y="9907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histogram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grafické znázornění četnos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ozsah soubor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se blíží k  nekonečnu + náhodná veličina je spojit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frekvenční funkce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 / hustota pravděpodob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309564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752480" y="3281400"/>
            <a:ext cx="579132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umulativní relativní četnost tj. součtová čára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distribuční funkc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rmální rozdělení / Gaussovo, Laplaceovo- Gausso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09480" y="1447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ormální rozdělení se univerzálně používá k aproximaci (k přibližnému vyjádření)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zdělení p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avděpodobnosti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velkého množství náhodných veličin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 biologii, technice, ekonomii atd.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531000" y="3276720"/>
            <a:ext cx="756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ustota p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avděpodobno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ti normálního rozdělení 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ymetrická zvonovitá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Gaussova křivka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ormální rozdělení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85440" y="53352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324000" y="1989000"/>
            <a:ext cx="6248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vonovitý tv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uměrn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Šikmost 0, špičatost 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symptoticky se blíží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ovéPole 5"/>
          <p:cNvSpPr/>
          <p:nvPr/>
        </p:nvSpPr>
        <p:spPr>
          <a:xfrm flipH="1">
            <a:off x="944640" y="472428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b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380880" y="228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rmální rozdělení s paramet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ejný průměr, různé směrodatné odchy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čím větší odchylka , tím „plošší tvar rozděl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ovéPole 3"/>
          <p:cNvSpPr/>
          <p:nvPr/>
        </p:nvSpPr>
        <p:spPr>
          <a:xfrm>
            <a:off x="1781640" y="3429000"/>
            <a:ext cx="52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ačrtni  obr s oběma křivkam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380880" y="137160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Arial"/>
                <a:ea typeface="Times New Roman"/>
              </a:rPr>
              <a:t>Statistika jako praktická </a:t>
            </a:r>
            <a:r>
              <a:rPr b="1" lang="cs-CZ" sz="3200" spc="-1" strike="noStrike">
                <a:solidFill>
                  <a:srgbClr val="1f497d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1f497d"/>
                </a:solidFill>
                <a:latin typeface="Arial"/>
                <a:ea typeface="Times New Roman"/>
              </a:rPr>
              <a:t>in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09480" y="253368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Činnost ……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stitu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 ………………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sledek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1402920" y="765000"/>
            <a:ext cx="7056360" cy="15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rmální rozdělení s parametr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ejný průměr, různé směrodatné odchyl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čím větší odchylka , tím „plošší tvar rozděl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ovéPole 4"/>
          <p:cNvSpPr/>
          <p:nvPr/>
        </p:nvSpPr>
        <p:spPr>
          <a:xfrm>
            <a:off x="2560320" y="234936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Načrtni  o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C:\Documents and Settings\svatonova\Dokumenty\STATISTIKA\JARO_07\normalní_ různyPrůměr_stejne směr_odchylky.gif"/>
          <p:cNvPicPr/>
          <p:nvPr/>
        </p:nvPicPr>
        <p:blipFill>
          <a:blip r:embed="rId1"/>
          <a:stretch/>
        </p:blipFill>
        <p:spPr>
          <a:xfrm>
            <a:off x="1908000" y="549360"/>
            <a:ext cx="4961160" cy="342900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3"/>
          <p:cNvSpPr/>
          <p:nvPr/>
        </p:nvSpPr>
        <p:spPr>
          <a:xfrm>
            <a:off x="826920" y="4221000"/>
            <a:ext cx="6858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rmální rozděle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ůzné průměry, stejná směrodatná odchyl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914400" y="380520"/>
            <a:ext cx="68580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rmální rozděl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ůzné průměry, stejná směrodatn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ovéPole 3"/>
          <p:cNvSpPr/>
          <p:nvPr/>
        </p:nvSpPr>
        <p:spPr>
          <a:xfrm>
            <a:off x="1781640" y="3429000"/>
            <a:ext cx="52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ačrtni  obr s oběma křivkam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rmální křivka a osa x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vymezují plochu 100%,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j.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lze stanovit pravděpodobnosti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, s nimiž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leží hodnoty v určitém intervalu,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hranice intervalu tvoří průměr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a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násobky směrodatné odchyl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b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228600" y="2286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Arial"/>
              </a:rPr>
              <a:t>Normální rozdělení / Gaussov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Arial"/>
              </a:rPr>
              <a:t>pokrač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250524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6" descr="\begin{figure}&#10;\centering&#10;\fbox{\includegraphics[clip, width=\sirka]{eps/gnorm.eps}}\end{figure}"/>
          <p:cNvPicPr/>
          <p:nvPr/>
        </p:nvPicPr>
        <p:blipFill>
          <a:blip r:embed="rId1"/>
          <a:stretch/>
        </p:blipFill>
        <p:spPr>
          <a:xfrm>
            <a:off x="2666880" y="3733920"/>
            <a:ext cx="38862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3808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 normálním rozdělení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68, 27% hodnot  leží v interval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(…………………………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95% leží v interval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(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99% leží v interval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(…………………………………………………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.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pulace má v daném testu průměr 100, směrodatnou odchylku 1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Vypočítejte hranice intervalů, v kterém se nachází 68 % popul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80880" y="990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Výška v populaci chlapců ve věku 3,5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4 roky má normální rozdělení s průměrem  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102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m a směrodatnou odchylkou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4,5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c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Vypočítejte  hranice intervalu hodnot výšky , ve kterých  se nachází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A)6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B) 95%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C)99%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příslušné popu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841680" y="45720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6840" y="13716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dání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ýška v populaci chlapců ve věku 3,5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4 roky má normální rozdělení s průměrem  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02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m a směrodatnou odchylkou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4,5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 c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Spočtěte, jaké procento chlapců v uvedeném věku má výšku menší nebo rovnou 93 c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9T19:55:13Z</dcterms:created>
  <dc:creator>Svatonova</dc:creator>
  <dc:description/>
  <dc:language>en-US</dc:language>
  <cp:lastModifiedBy>Svatonova</cp:lastModifiedBy>
  <dcterms:modified xsi:type="dcterms:W3CDTF">2012-10-17T19:22:58Z</dcterms:modified>
  <cp:revision>116</cp:revision>
  <dc:subject/>
  <dc:title>Prezentace aplikace PowerPoint</dc:title>
</cp:coreProperties>
</file>