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41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3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15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8.wmf" ContentType="image/x-wmf"/>
  <Override PartName="/ppt/media/image34.jpeg" ContentType="image/jpeg"/>
  <Override PartName="/ppt/media/image50.png" ContentType="image/png"/>
  <Override PartName="/ppt/media/image48.wmf" ContentType="image/x-wmf"/>
  <Override PartName="/ppt/media/image5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25.png" ContentType="image/png"/>
  <Override PartName="/ppt/media/image6.png" ContentType="image/png"/>
  <Override PartName="/ppt/media/image36.png" ContentType="image/png"/>
  <Override PartName="/ppt/media/image31.png" ContentType="image/png"/>
  <Override PartName="/ppt/media/image29.wmf" ContentType="image/x-wmf"/>
  <Override PartName="/ppt/media/image60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24.png" ContentType="image/png"/>
  <Override PartName="/ppt/media/image16.jpeg" ContentType="image/jpeg"/>
  <Override PartName="/ppt/media/image11.png" ContentType="image/png"/>
  <Override PartName="/ppt/media/image51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1.wmf" ContentType="image/x-wmf"/>
  <Override PartName="/ppt/media/image39.png" ContentType="image/png"/>
  <Override PartName="/ppt/media/image10.png" ContentType="image/png"/>
  <Override PartName="/ppt/media/image47.png" ContentType="image/png"/>
  <Override PartName="/ppt/media/image30.png" ContentType="image/png"/>
  <Override PartName="/ppt/media/image35.png" ContentType="image/png"/>
  <Override PartName="/ppt/media/image38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wmf" ContentType="image/x-wmf"/>
  <Override PartName="/ppt/media/image52.png" ContentType="image/png"/>
  <Override PartName="/ppt/media/image53.png" ContentType="image/png"/>
  <Override PartName="/ppt/media/image55.png" ContentType="image/png"/>
  <Override PartName="/ppt/media/image5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9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7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  <p:sldId id="413" r:id="rId163"/>
    <p:sldId id="414" r:id="rId164"/>
    <p:sldId id="415" r:id="rId165"/>
    <p:sldId id="416" r:id="rId166"/>
    <p:sldId id="417" r:id="rId167"/>
    <p:sldId id="418" r:id="rId168"/>
    <p:sldId id="419" r:id="rId169"/>
    <p:sldId id="420" r:id="rId170"/>
    <p:sldId id="421" r:id="rId171"/>
    <p:sldId id="422" r:id="rId172"/>
    <p:sldId id="423" r:id="rId173"/>
    <p:sldId id="424" r:id="rId174"/>
    <p:sldId id="425" r:id="rId175"/>
    <p:sldId id="426" r:id="rId1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slide" Target="slides/slide158.xml"/><Relationship Id="rId164" Type="http://schemas.openxmlformats.org/officeDocument/2006/relationships/slide" Target="slides/slide159.xml"/><Relationship Id="rId165" Type="http://schemas.openxmlformats.org/officeDocument/2006/relationships/slide" Target="slides/slide160.xml"/><Relationship Id="rId166" Type="http://schemas.openxmlformats.org/officeDocument/2006/relationships/slide" Target="slides/slide161.xml"/><Relationship Id="rId167" Type="http://schemas.openxmlformats.org/officeDocument/2006/relationships/slide" Target="slides/slide162.xml"/><Relationship Id="rId168" Type="http://schemas.openxmlformats.org/officeDocument/2006/relationships/slide" Target="slides/slide163.xml"/><Relationship Id="rId169" Type="http://schemas.openxmlformats.org/officeDocument/2006/relationships/slide" Target="slides/slide164.xml"/><Relationship Id="rId170" Type="http://schemas.openxmlformats.org/officeDocument/2006/relationships/slide" Target="slides/slide165.xml"/><Relationship Id="rId171" Type="http://schemas.openxmlformats.org/officeDocument/2006/relationships/slide" Target="slides/slide166.xml"/><Relationship Id="rId172" Type="http://schemas.openxmlformats.org/officeDocument/2006/relationships/slide" Target="slides/slide167.xml"/><Relationship Id="rId173" Type="http://schemas.openxmlformats.org/officeDocument/2006/relationships/slide" Target="slides/slide168.xml"/><Relationship Id="rId174" Type="http://schemas.openxmlformats.org/officeDocument/2006/relationships/slide" Target="slides/slide169.xml"/><Relationship Id="rId175" Type="http://schemas.openxmlformats.org/officeDocument/2006/relationships/slide" Target="slides/slide170.xml"/><Relationship Id="rId176" Type="http://schemas.openxmlformats.org/officeDocument/2006/relationships/slide" Target="slides/slide171.xml"/><Relationship Id="rId1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5BAD-4AE6-49EF-B7F0-8F6D74AF7A0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832A-D0B1-4E7D-9FB0-397380E1A9D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. Z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/ Sběr údaj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iodicita sbě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) periodické (např. 1* ročně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b) běžné – krátké, pravidelné lhů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) jednorázo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2C95-E9CF-410F-978A-220D7517957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17D6-07B2-4661-8FD5-AA6F69F94E2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et domácností ČR, počet pracovníků v odvětví X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v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struktur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ěková struktura obyvatel ČR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roční chod hodnot meteorologických prvk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růměrná nezaměstnanost v regionu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v čase nebo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trend vývoje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čtu obyvatelstva, teploty vzduchu dvou lokalit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závisl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 (závislost mezd na HDP, závislos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et. prvku na nadmořské výš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F8B8-8609-4BD5-BC88-45CC130D60F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2E3A-1698-4BBE-9C40-8F15A9F10C5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3CE9-B016-41F3-BF22-5131C9578E30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4138-1856-4428-89E5-CC8BE22EFBA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8751-D286-4C05-9448-364D46177A0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bré počítačové programy (software) nám dají velmi rychle správné výsledky. Dřívější ruční zpracování dat bylo často zatíženo aritmetickými chybami a bylo časově velmi náročné.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zpřístupňují širokou škálu statistických metod a umožňují provést velmi rychle i rozsáhlé komplexní statistické analýz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snadné grafické zobrazení pozorovaných dat a výsledků statistického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kou výhodou počítačů je, že umožňují rychle provést nové zpracování při změnách v datech či transformaci některých velič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zpracování velmi rozsáhlých souborů dat pomocí vhodného softwaru, což bylo ještě před deseti lety velmi obtížn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akmile se jednou data dostala do počítače, lze je snadno přenést elektronicky (například pomocí Internetu) na jiné místo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B91F-7459-4D1B-91F5-D3AA216C907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FF98-1C7F-42AC-B7C7-C6C9C2438CB0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0DE0-4127-4EA6-BA06-18772BA6480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5B26-79E5-4712-A0BE-F7526C05AFA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42F8-9849-4A71-BBAA-70CA15C928F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CA9B-C1FA-45B5-9413-872BC886C19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2B28-CB51-44A0-BD40-2D14D074F7F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58CD-7F51-4665-A62B-E477B74F0BD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4D81-E901-4273-A797-4295791ABAA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C153-29E3-4064-B954-6B928DD2F97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B41C-62C3-4824-914A-70DA83443F9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 dobré používat programy, které mají dobrou pověst a jsou používány již dostatečně dlouho, takže byla postupně odstraněna většina jejich chyb. K takovým programům patří například BMDP, SAS, SPSS, STATISTICA, S PLUS, STATGRAPHICS a další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očítač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vzdaluje uživatele od dat i metody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Statistická analýza se provádí automaticky, nová data se zpracovávají a výsledky se ukládají, aniž by byly posouzeny člověkem. Protože většinou výsledky zachycují jen průměrné efekty, může se zcela ztrácet citlivost k individuálním pozorování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stliže data jsou nasbírá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či naměře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patně (například jsou špatně kladené otázky v dotazníku), nelze očekávat, že závěry z takových dat budou správné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Sem náleží i nespráv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prac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ých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oubor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hybějící či ovlivněné (tzv. nehomogenní) ú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BE7D-2EE6-473E-8C47-A8AAA2948C8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1740-BEF6-4604-8499-114894F72C3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im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kund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3AE7-7E0F-4BF6-8D19-A5B634E7715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F989-D22B-483F-932C-4FBAB2009B4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acuje s čísly a vyjadřuje se pomocí číse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ajímá se především 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vantitativní stránk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re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užívá výpočetní techniku k vytváření a správě statistick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databáz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 k provádění hromadnéh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pracová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nalýz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 a k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omunika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BA53-EA79-481C-8A08-BDFCE128057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ka popis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  jev statistickými charakteristik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kto zpřehledňuje velké množství dat – shrnují je do kategorií (průměr, nejčetnější hodnota, grafické znázornění d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á numerické  a grafické met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tematická statist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uzování na závěry o sledovaném jevu z malého vzorku ( zkoumání veřejného mínění, namátkový test), tj. z chování části usuzujeme na chování cel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obe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ňuj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výsledky (odhad a testování hypotéz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u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čtu pravděpodob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629A-8C0C-4D36-AFE1-5E11C5E29DA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4EBC-AC52-44C6-AF04-AC5F5DC72E5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0CDA-FB62-4A48-83D9-DCE9F2F8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F911-A1D9-4A79-B8CD-3858BECE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E6AE-0518-4A37-9016-1CBD3EE1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06CE-706B-4CE8-B724-07956F99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7A90-C380-4C2F-825D-8DD69305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45C1-D56E-43FA-9FE5-F71DD5FE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AF61-18F8-48BB-B06F-37205B89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2C16-24C6-4E18-BA87-54C9BDAB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86B0-1002-4EF1-BC79-DD35F03D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84B8-08C8-4C7A-A65C-2C36D652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9D68-F1BC-438B-B8BE-D4010B97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E8A0-BE70-43C1-8F7A-68DBABD6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D70E-B71B-4239-B6EE-844EF065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1794-06CE-4A1E-A814-D9227D42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FDC5-0FA6-4848-9D8F-AC7C3830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DD21-9D57-44A2-8832-41B9D981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B3EC-4FFA-4C16-9D43-BD8D62B2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17337-6F5D-4187-8ECF-6B587FBE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094E9-9B0D-441E-969B-C2143296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41A7F-AE98-443C-B48C-CEF2BE93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E7126-716F-4362-847F-300F6897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33801-440D-450F-A36C-12A66F60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99B0-241E-4672-B62A-3E5BDB34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929A9-1CDA-4B07-8E73-227F438D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3CB56-3B4B-41F3-B37C-BA19142C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BB435-276D-4D64-9258-31F9AF04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8AD72-E123-44DB-A437-09CBF29E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F31CA-AC48-4E8F-8AB3-10429492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08846-6C04-41E4-85C0-5F0A04B2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75C74-918F-421C-9249-3C512B86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7271-9D77-4B72-BD0C-0E29BBD1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2D5A-10BF-4817-8C32-4D0BB05C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EAE1-3452-40A5-B15E-EEAF8163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541A-4191-4C98-B1F2-977A968B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EB43-761E-45B1-BE7E-F33624F7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E5D-F9A3-4040-967E-891DEFC4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A6FF-E774-4CFA-B102-08AD6956F300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93FF-2DA8-4749-8084-65232299C150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4A62-5B7A-453D-86E1-AC46B71DED2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V GEOGRAF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Základní etapy statistického zpracování dat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39640" y="2708280"/>
            <a:ext cx="7848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jišťován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/ Sběr údaj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eriodicita sběr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ovéPole 3"/>
          <p:cNvSpPr/>
          <p:nvPr/>
        </p:nvSpPr>
        <p:spPr>
          <a:xfrm>
            <a:off x="572400" y="1628640"/>
            <a:ext cx="72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jišťování – zpracování – analýza - prezent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24000" y="39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2. Z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acování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spořádání, sumarizac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. 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alýz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ýpočet charakteristik, měření závislostí, srovnávání, měření dynami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4.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rezenta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ýsledků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tabulkové či grafické vyjádření a slovní zhodnocení výsledků předcházejících etap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85440" y="533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Normální rozdělení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380880" y="2529000"/>
            <a:ext cx="624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vonovitý tv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uměrn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Šikmost 0, špičatost 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ymptoticky se blíží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0" name="Picture 9" descr="C:\Documents and Settings\svatonova\Dokumenty\STATISTIKA\JARO_07\180px-Normalni_rozdeleni_hustota_svg.png"/>
          <p:cNvPicPr/>
          <p:nvPr/>
        </p:nvPicPr>
        <p:blipFill>
          <a:blip r:embed="rId1"/>
          <a:stretch/>
        </p:blipFill>
        <p:spPr>
          <a:xfrm>
            <a:off x="4500720" y="3068640"/>
            <a:ext cx="4352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 s paramet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ejný průměr, různé směrodatn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ím větší odchylka , tím „plošší tvar roz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618920" y="4437000"/>
            <a:ext cx="705636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rozdělení s parametr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ejný průměr, různé směrodatné odchyl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čím větší odchylka , tím „plošší tvar rozděl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5" name="Picture 4" descr="C:\Documents and Settings\svatonova\Dokumenty\STATISTIKA\JARO_07\normalní podle smer_odchylek.gif"/>
          <p:cNvPicPr/>
          <p:nvPr/>
        </p:nvPicPr>
        <p:blipFill>
          <a:blip r:embed="rId1"/>
          <a:stretch/>
        </p:blipFill>
        <p:spPr>
          <a:xfrm>
            <a:off x="1619280" y="549360"/>
            <a:ext cx="4960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914400" y="380520"/>
            <a:ext cx="6858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ůzné průměry, stejná směrodatn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49" name="Picture 4" descr="C:\Documents and Settings\svatonova\Dokumenty\STATISTIKA\JARO_07\normalní_ různyPrůměr_stejne směr_odchylky.gif"/>
          <p:cNvPicPr/>
          <p:nvPr/>
        </p:nvPicPr>
        <p:blipFill>
          <a:blip r:embed="rId1"/>
          <a:stretch/>
        </p:blipFill>
        <p:spPr>
          <a:xfrm>
            <a:off x="1908000" y="549360"/>
            <a:ext cx="4961160" cy="34290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"/>
          <p:cNvSpPr/>
          <p:nvPr/>
        </p:nvSpPr>
        <p:spPr>
          <a:xfrm>
            <a:off x="826920" y="4221000"/>
            <a:ext cx="6858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rozděl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ůzné průměry, stejná směrodatná odchyl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křivka a osa x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ymezují plochu 100%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j.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lze stanovit pravděpodobnost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 s nimiž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leží hodnoty v určitém intervalu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hranice intervalu tvoří průměr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a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ásobky směrodatné odchyl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228600" y="2286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Normální rozdělení / Gaussov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okrač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25052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Picture 6" descr="\begin{figure}&#10;\centering&#10;\fbox{\includegraphics[clip, width=\sirka]{eps/gnorm.eps}}\end{figure}"/>
          <p:cNvPicPr/>
          <p:nvPr/>
        </p:nvPicPr>
        <p:blipFill>
          <a:blip r:embed="rId1"/>
          <a:stretch/>
        </p:blipFill>
        <p:spPr>
          <a:xfrm>
            <a:off x="2666880" y="3733920"/>
            <a:ext cx="38862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normálním rozdělení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95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ar. průměr +- 1,96 směr. odchyl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99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ar. průměr +- 2,576 směr. odchyl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Picture 1028" descr="C:\Documents and Settings\svatonova\Dokumenty\STATISTIKA\JARO_07\IQ_normální rozdělení.jpg"/>
          <p:cNvPicPr/>
          <p:nvPr/>
        </p:nvPicPr>
        <p:blipFill>
          <a:blip r:embed="rId1"/>
          <a:stretch/>
        </p:blipFill>
        <p:spPr>
          <a:xfrm>
            <a:off x="152280" y="762120"/>
            <a:ext cx="8991720" cy="51991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029"/>
          <p:cNvSpPr/>
          <p:nvPr/>
        </p:nvSpPr>
        <p:spPr>
          <a:xfrm>
            <a:off x="1901880" y="22860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Normální rozdělení pro I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1030"/>
          <p:cNvSpPr/>
          <p:nvPr/>
        </p:nvSpPr>
        <p:spPr>
          <a:xfrm>
            <a:off x="1523880" y="6095880"/>
            <a:ext cx="9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ebi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1031"/>
          <p:cNvSpPr/>
          <p:nvPr/>
        </p:nvSpPr>
        <p:spPr>
          <a:xfrm>
            <a:off x="152280" y="601992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mbeci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1032"/>
          <p:cNvSpPr/>
          <p:nvPr/>
        </p:nvSpPr>
        <p:spPr>
          <a:xfrm>
            <a:off x="2437920" y="601992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ehká 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1033"/>
          <p:cNvSpPr/>
          <p:nvPr/>
        </p:nvSpPr>
        <p:spPr>
          <a:xfrm>
            <a:off x="4037400" y="60958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ůmě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1034"/>
          <p:cNvSpPr/>
          <p:nvPr/>
        </p:nvSpPr>
        <p:spPr>
          <a:xfrm>
            <a:off x="5485680" y="60199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nikajíc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1035"/>
          <p:cNvSpPr/>
          <p:nvPr/>
        </p:nvSpPr>
        <p:spPr>
          <a:xfrm>
            <a:off x="7375680" y="588168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genia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036"/>
          <p:cNvSpPr/>
          <p:nvPr/>
        </p:nvSpPr>
        <p:spPr>
          <a:xfrm>
            <a:off x="0" y="6461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dioci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754524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Q (v bodech)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peň inteligen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nto zkoumaných případů (v 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éně než 20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oci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 - 4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bec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 - 6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 - 7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zv. lehká deb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,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 - 8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 - 10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0 - 11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d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0 - 13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ynikajíc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0 a ví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ia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Základní d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ě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lení statistických údaj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ů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4360" y="2349360"/>
            <a:ext cx="7920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zdroje  ODKUD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imár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ekundár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periodicity zjišťování JAK ČASTO? —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ůběž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eriodick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jednorázov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časového hlediska  KDY? ZA JAK DLOUHO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kamžikov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intervalov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reálnosti situace  OPRAVDU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kuteč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imulova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.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798984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pulace má v daném testu průměr 100, směrodatnou odchylku 1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Vypočítejte hranice intervalů, v kterém se nachází 68 % popu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Obdélník 3"/>
          <p:cNvSpPr/>
          <p:nvPr/>
        </p:nvSpPr>
        <p:spPr>
          <a:xfrm>
            <a:off x="324000" y="5157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ška v populaci chlapců ve věku 3,5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roky má normální rozdělení s průměrem 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02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 a směrodatnou odchylkou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4,5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Vypočítejte  hranice intervalu hodnot výšky , ve kterých  se nacház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A)68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B) 9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C)99%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slušné popu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837720" y="4572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3949560" y="4149720"/>
            <a:ext cx="51944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V normálním rozdělení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95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ar. průměr +- 1,96 směr. odchylk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99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ar. průměr +- 2,576 směr. odchylk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dá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ška v populaci chlapců ve věku 3,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roky má normální rozdělení s průměrem 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02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 a směrodatnou odchylko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4,5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očtěte, jaké procento chlapců v uvedeném věku má výšku menší nebo rovnou 93 c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vděpodobnost, že výška nabude hodnoty menší nebo rovné 93 cm, je vyjádřena hodnotou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ribuční funkce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(93) pro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arametry normálního rozdělení 102;4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0" name="Picture 4" descr="C:\Documents and Settings\Svatonova\Dokumenty\STATISTIKA\JARO_06\PRÍKLAD1.bmp"/>
          <p:cNvPicPr/>
          <p:nvPr/>
        </p:nvPicPr>
        <p:blipFill>
          <a:blip r:embed="rId1"/>
          <a:stretch/>
        </p:blipFill>
        <p:spPr>
          <a:xfrm>
            <a:off x="533520" y="2133720"/>
            <a:ext cx="7727760" cy="41274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5"/>
          <p:cNvSpPr/>
          <p:nvPr/>
        </p:nvSpPr>
        <p:spPr>
          <a:xfrm>
            <a:off x="664200" y="6289560"/>
            <a:ext cx="87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Odpověď: 2,27 % chlapců ve věku 3,5 – 4 roky je menších než 93 c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ychologickými testy bylo zjištěno, že hodnota IQ  populace je náhodnou veličinou s normálním rozdělením, jehož střední hodnota j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4 a směrodatná odchylka 8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čete hodnotu IQ, kterou podle uvedených pravděpodobnostních předpoklad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meze, ve kterých bude  50%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pula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   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eze pro 50 %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žské popu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Group 4"/>
          <p:cNvGrpSpPr/>
          <p:nvPr/>
        </p:nvGrpSpPr>
        <p:grpSpPr>
          <a:xfrm>
            <a:off x="1243080" y="2622600"/>
            <a:ext cx="2414160" cy="1263240"/>
            <a:chOff x="1243080" y="2622600"/>
            <a:chExt cx="2414160" cy="1263240"/>
          </a:xfrm>
        </p:grpSpPr>
        <p:sp>
          <p:nvSpPr>
            <p:cNvPr id="487" name="Line 5"/>
            <p:cNvSpPr/>
            <p:nvPr/>
          </p:nvSpPr>
          <p:spPr>
            <a:xfrm>
              <a:off x="1243080" y="3808800"/>
              <a:ext cx="22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6"/>
            <p:cNvSpPr/>
            <p:nvPr/>
          </p:nvSpPr>
          <p:spPr>
            <a:xfrm>
              <a:off x="3053880" y="34650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7"/>
            <p:cNvSpPr/>
            <p:nvPr/>
          </p:nvSpPr>
          <p:spPr>
            <a:xfrm>
              <a:off x="1544760" y="34650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0" name="Group 8"/>
            <p:cNvGrpSpPr/>
            <p:nvPr/>
          </p:nvGrpSpPr>
          <p:grpSpPr>
            <a:xfrm>
              <a:off x="1393920" y="2622600"/>
              <a:ext cx="2263320" cy="1166040"/>
              <a:chOff x="1393920" y="2622600"/>
              <a:chExt cx="2263320" cy="1166040"/>
            </a:xfrm>
          </p:grpSpPr>
          <p:sp>
            <p:nvSpPr>
              <p:cNvPr id="491" name="Freeform 9"/>
              <p:cNvSpPr/>
              <p:nvPr/>
            </p:nvSpPr>
            <p:spPr>
              <a:xfrm>
                <a:off x="1393920" y="3055320"/>
                <a:ext cx="1810800" cy="631800"/>
              </a:xfrm>
              <a:custGeom>
                <a:avLst/>
                <a:gdLst>
                  <a:gd name="textAreaLeft" fmla="*/ 0 w 1810800"/>
                  <a:gd name="textAreaRight" fmla="*/ 1811160 w 1810800"/>
                  <a:gd name="textAreaTop" fmla="*/ 0 h 631800"/>
                  <a:gd name="textAreaBottom" fmla="*/ 632160 h 6318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19963"/>
                    </a:moveTo>
                    <a:lnTo>
                      <a:pt x="1250" y="16259"/>
                    </a:lnTo>
                    <a:lnTo>
                      <a:pt x="1889" y="14444"/>
                    </a:lnTo>
                    <a:lnTo>
                      <a:pt x="2500" y="12630"/>
                    </a:lnTo>
                    <a:lnTo>
                      <a:pt x="3139" y="10926"/>
                    </a:lnTo>
                    <a:lnTo>
                      <a:pt x="3741" y="9259"/>
                    </a:lnTo>
                    <a:lnTo>
                      <a:pt x="4380" y="7704"/>
                    </a:lnTo>
                    <a:lnTo>
                      <a:pt x="4991" y="6222"/>
                    </a:lnTo>
                    <a:lnTo>
                      <a:pt x="5315" y="5556"/>
                    </a:lnTo>
                    <a:lnTo>
                      <a:pt x="5630" y="4889"/>
                    </a:lnTo>
                    <a:lnTo>
                      <a:pt x="5917" y="4296"/>
                    </a:lnTo>
                    <a:lnTo>
                      <a:pt x="6241" y="3667"/>
                    </a:lnTo>
                    <a:lnTo>
                      <a:pt x="6556" y="3148"/>
                    </a:lnTo>
                    <a:lnTo>
                      <a:pt x="6880" y="2630"/>
                    </a:lnTo>
                    <a:lnTo>
                      <a:pt x="7167" y="2148"/>
                    </a:lnTo>
                    <a:lnTo>
                      <a:pt x="7491" y="1741"/>
                    </a:lnTo>
                    <a:lnTo>
                      <a:pt x="7806" y="1333"/>
                    </a:lnTo>
                    <a:lnTo>
                      <a:pt x="8130" y="1000"/>
                    </a:lnTo>
                    <a:lnTo>
                      <a:pt x="8417" y="704"/>
                    </a:lnTo>
                    <a:lnTo>
                      <a:pt x="8731" y="444"/>
                    </a:lnTo>
                    <a:lnTo>
                      <a:pt x="9056" y="259"/>
                    </a:lnTo>
                    <a:lnTo>
                      <a:pt x="9380" y="111"/>
                    </a:lnTo>
                    <a:lnTo>
                      <a:pt x="9667" y="37"/>
                    </a:lnTo>
                    <a:lnTo>
                      <a:pt x="9981" y="0"/>
                    </a:lnTo>
                    <a:lnTo>
                      <a:pt x="10306" y="74"/>
                    </a:lnTo>
                    <a:lnTo>
                      <a:pt x="10620" y="185"/>
                    </a:lnTo>
                    <a:lnTo>
                      <a:pt x="10972" y="407"/>
                    </a:lnTo>
                    <a:lnTo>
                      <a:pt x="11296" y="741"/>
                    </a:lnTo>
                    <a:lnTo>
                      <a:pt x="11648" y="1111"/>
                    </a:lnTo>
                    <a:lnTo>
                      <a:pt x="12000" y="1556"/>
                    </a:lnTo>
                    <a:lnTo>
                      <a:pt x="12352" y="2074"/>
                    </a:lnTo>
                    <a:lnTo>
                      <a:pt x="12731" y="2667"/>
                    </a:lnTo>
                    <a:lnTo>
                      <a:pt x="13093" y="3296"/>
                    </a:lnTo>
                    <a:lnTo>
                      <a:pt x="13444" y="3963"/>
                    </a:lnTo>
                    <a:lnTo>
                      <a:pt x="13824" y="4667"/>
                    </a:lnTo>
                    <a:lnTo>
                      <a:pt x="14176" y="5444"/>
                    </a:lnTo>
                    <a:lnTo>
                      <a:pt x="14907" y="7037"/>
                    </a:lnTo>
                    <a:lnTo>
                      <a:pt x="15620" y="8741"/>
                    </a:lnTo>
                    <a:lnTo>
                      <a:pt x="16324" y="10481"/>
                    </a:lnTo>
                    <a:lnTo>
                      <a:pt x="16991" y="12185"/>
                    </a:lnTo>
                    <a:lnTo>
                      <a:pt x="17602" y="13852"/>
                    </a:lnTo>
                    <a:lnTo>
                      <a:pt x="17917" y="14667"/>
                    </a:lnTo>
                    <a:lnTo>
                      <a:pt x="18204" y="15444"/>
                    </a:lnTo>
                    <a:lnTo>
                      <a:pt x="18463" y="16185"/>
                    </a:lnTo>
                    <a:lnTo>
                      <a:pt x="18750" y="16889"/>
                    </a:lnTo>
                    <a:lnTo>
                      <a:pt x="19009" y="17519"/>
                    </a:lnTo>
                    <a:lnTo>
                      <a:pt x="19231" y="18148"/>
                    </a:lnTo>
                    <a:lnTo>
                      <a:pt x="19454" y="18704"/>
                    </a:lnTo>
                    <a:lnTo>
                      <a:pt x="19648" y="19185"/>
                    </a:lnTo>
                    <a:lnTo>
                      <a:pt x="19843" y="19630"/>
                    </a:lnTo>
                    <a:lnTo>
                      <a:pt x="20000" y="1996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Line 10"/>
              <p:cNvSpPr/>
              <p:nvPr/>
            </p:nvSpPr>
            <p:spPr>
              <a:xfrm flipH="1">
                <a:off x="2601000" y="2622600"/>
                <a:ext cx="1056240" cy="84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Line 11"/>
              <p:cNvSpPr/>
              <p:nvPr/>
            </p:nvSpPr>
            <p:spPr>
              <a:xfrm flipH="1">
                <a:off x="1591200" y="3043440"/>
                <a:ext cx="405720" cy="74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4" name="Line 12"/>
            <p:cNvSpPr/>
            <p:nvPr/>
          </p:nvSpPr>
          <p:spPr>
            <a:xfrm flipH="1">
              <a:off x="1886760" y="3043440"/>
              <a:ext cx="412560" cy="78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13"/>
            <p:cNvSpPr/>
            <p:nvPr/>
          </p:nvSpPr>
          <p:spPr>
            <a:xfrm flipH="1">
              <a:off x="2200680" y="3043440"/>
              <a:ext cx="399960" cy="75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14"/>
            <p:cNvSpPr/>
            <p:nvPr/>
          </p:nvSpPr>
          <p:spPr>
            <a:xfrm flipH="1">
              <a:off x="2515320" y="3254400"/>
              <a:ext cx="387000" cy="54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15"/>
            <p:cNvSpPr/>
            <p:nvPr/>
          </p:nvSpPr>
          <p:spPr>
            <a:xfrm flipH="1">
              <a:off x="2799000" y="3465000"/>
              <a:ext cx="254880" cy="3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Text Box 16"/>
          <p:cNvSpPr/>
          <p:nvPr/>
        </p:nvSpPr>
        <p:spPr>
          <a:xfrm>
            <a:off x="3643200" y="23274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17"/>
          <p:cNvSpPr/>
          <p:nvPr/>
        </p:nvSpPr>
        <p:spPr>
          <a:xfrm>
            <a:off x="370800" y="4267080"/>
            <a:ext cx="821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ledáme dolní a horní meze  intervalu ( hodnot IQ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e které se bude nacházet 50%  mužské populace, tj 1. a 3. kvart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2286000" y="28195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2347920" y="2403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2" name="Object 3"/>
          <p:cNvGraphicFramePr/>
          <p:nvPr/>
        </p:nvGraphicFramePr>
        <p:xfrm>
          <a:off x="0" y="2133720"/>
          <a:ext cx="5992920" cy="37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5992920" cy="37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Object 5"/>
          <p:cNvGraphicFramePr/>
          <p:nvPr/>
        </p:nvGraphicFramePr>
        <p:xfrm>
          <a:off x="3809880" y="228600"/>
          <a:ext cx="4972320" cy="31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28600"/>
                    <a:ext cx="497232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Text Box 6"/>
          <p:cNvSpPr/>
          <p:nvPr/>
        </p:nvSpPr>
        <p:spPr>
          <a:xfrm>
            <a:off x="6018480" y="4038480"/>
            <a:ext cx="262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le parametrů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aného normální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ozděl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0  popul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á IQ v interval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98,6 a 109,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457200" y="228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Řešení 2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304920" y="7621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Excel, statistická funkce inverzní k e Gauss. - NORMIN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rmované normální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rozdělení zavedeme označení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N (0, 1)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369360" y="1752480"/>
            <a:ext cx="73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ustota pravděpodobnosti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normovaného normálního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ozdělení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Group 6"/>
          <p:cNvGrpSpPr/>
          <p:nvPr/>
        </p:nvGrpSpPr>
        <p:grpSpPr>
          <a:xfrm>
            <a:off x="380880" y="2209680"/>
            <a:ext cx="6095520" cy="2971800"/>
            <a:chOff x="380880" y="2209680"/>
            <a:chExt cx="6095520" cy="2971800"/>
          </a:xfrm>
        </p:grpSpPr>
        <p:grpSp>
          <p:nvGrpSpPr>
            <p:cNvPr id="512" name="Group 7"/>
            <p:cNvGrpSpPr/>
            <p:nvPr/>
          </p:nvGrpSpPr>
          <p:grpSpPr>
            <a:xfrm>
              <a:off x="1147320" y="2209680"/>
              <a:ext cx="5329080" cy="2971800"/>
              <a:chOff x="1147320" y="2209680"/>
              <a:chExt cx="5329080" cy="2971800"/>
            </a:xfrm>
          </p:grpSpPr>
          <p:graphicFrame>
            <p:nvGraphicFramePr>
              <p:cNvPr id="513" name="Object 8"/>
              <p:cNvGraphicFramePr/>
              <p:nvPr/>
            </p:nvGraphicFramePr>
            <p:xfrm>
              <a:off x="1147320" y="2209680"/>
              <a:ext cx="5215680" cy="2283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4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47320" y="2209680"/>
                        <a:ext cx="5215680" cy="228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15" name="Text Box 9"/>
              <p:cNvSpPr/>
              <p:nvPr/>
            </p:nvSpPr>
            <p:spPr>
              <a:xfrm>
                <a:off x="5634720" y="4575600"/>
                <a:ext cx="841680" cy="60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6" name="Text Box 10"/>
            <p:cNvSpPr/>
            <p:nvPr/>
          </p:nvSpPr>
          <p:spPr>
            <a:xfrm>
              <a:off x="380880" y="2238480"/>
              <a:ext cx="72576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i="1" lang="cs-CZ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</a:t>
              </a:r>
              <a:r>
                <a:rPr b="0" i="1" lang="cs-CZ" sz="1800" spc="-1" strike="noStrike">
                  <a:solidFill>
                    <a:srgbClr val="000000"/>
                  </a:solidFill>
                  <a:latin typeface="Times New Roman"/>
                </a:rPr>
                <a:t>u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φ</a:t>
              </a:r>
              <a:r>
                <a:rPr b="1" lang="cs-CZ" sz="2000" spc="-1" strike="noStrike">
                  <a:solidFill>
                    <a:srgbClr val="ffffff"/>
                  </a:solidFill>
                  <a:latin typeface="Arial"/>
                </a:rPr>
                <a:t> (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" name="Line 11"/>
          <p:cNvSpPr/>
          <p:nvPr/>
        </p:nvSpPr>
        <p:spPr>
          <a:xfrm flipV="1">
            <a:off x="3882960" y="2660400"/>
            <a:ext cx="0" cy="1687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Line 12"/>
          <p:cNvSpPr/>
          <p:nvPr/>
        </p:nvSpPr>
        <p:spPr>
          <a:xfrm flipV="1">
            <a:off x="3425760" y="3352680"/>
            <a:ext cx="0" cy="98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Line 13"/>
          <p:cNvSpPr/>
          <p:nvPr/>
        </p:nvSpPr>
        <p:spPr>
          <a:xfrm flipV="1">
            <a:off x="4329000" y="3331800"/>
            <a:ext cx="0" cy="10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304920" y="4648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bulkové vyjádření vybraných hodnot hustoty pravděpodobnosti</a:t>
            </a:r>
            <a:r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Group 72"/>
          <p:cNvGrpSpPr/>
          <p:nvPr/>
        </p:nvGrpSpPr>
        <p:grpSpPr>
          <a:xfrm>
            <a:off x="152280" y="5105520"/>
            <a:ext cx="5638680" cy="533160"/>
            <a:chOff x="152280" y="5105520"/>
            <a:chExt cx="5638680" cy="533160"/>
          </a:xfrm>
        </p:grpSpPr>
        <p:grpSp>
          <p:nvGrpSpPr>
            <p:cNvPr id="522" name="Group 70"/>
            <p:cNvGrpSpPr/>
            <p:nvPr/>
          </p:nvGrpSpPr>
          <p:grpSpPr>
            <a:xfrm>
              <a:off x="156960" y="5107320"/>
              <a:ext cx="5628600" cy="529200"/>
              <a:chOff x="156960" y="5107320"/>
              <a:chExt cx="5628600" cy="529200"/>
            </a:xfrm>
          </p:grpSpPr>
          <p:grpSp>
            <p:nvGrpSpPr>
              <p:cNvPr id="523" name="Group 35"/>
              <p:cNvGrpSpPr/>
              <p:nvPr/>
            </p:nvGrpSpPr>
            <p:grpSpPr>
              <a:xfrm>
                <a:off x="156960" y="5107320"/>
                <a:ext cx="546480" cy="264600"/>
                <a:chOff x="156960" y="5107320"/>
                <a:chExt cx="546480" cy="264600"/>
              </a:xfrm>
            </p:grpSpPr>
            <p:sp>
              <p:nvSpPr>
                <p:cNvPr id="524" name="Rectangle 16"/>
                <p:cNvSpPr/>
                <p:nvPr/>
              </p:nvSpPr>
              <p:spPr>
                <a:xfrm>
                  <a:off x="202320" y="51073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Rectangle 34"/>
                <p:cNvSpPr/>
                <p:nvPr/>
              </p:nvSpPr>
              <p:spPr>
                <a:xfrm>
                  <a:off x="156960" y="51073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Group 37"/>
              <p:cNvGrpSpPr/>
              <p:nvPr/>
            </p:nvGrpSpPr>
            <p:grpSpPr>
              <a:xfrm>
                <a:off x="703800" y="5107320"/>
                <a:ext cx="634680" cy="264600"/>
                <a:chOff x="703800" y="5107320"/>
                <a:chExt cx="634680" cy="264600"/>
              </a:xfrm>
            </p:grpSpPr>
            <p:sp>
              <p:nvSpPr>
                <p:cNvPr id="527" name="Rectangle 17"/>
                <p:cNvSpPr/>
                <p:nvPr/>
              </p:nvSpPr>
              <p:spPr>
                <a:xfrm>
                  <a:off x="74916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Rectangle 36"/>
                <p:cNvSpPr/>
                <p:nvPr/>
              </p:nvSpPr>
              <p:spPr>
                <a:xfrm>
                  <a:off x="70380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Group 39"/>
              <p:cNvGrpSpPr/>
              <p:nvPr/>
            </p:nvGrpSpPr>
            <p:grpSpPr>
              <a:xfrm>
                <a:off x="1338840" y="5107320"/>
                <a:ext cx="634680" cy="264600"/>
                <a:chOff x="1338840" y="5107320"/>
                <a:chExt cx="634680" cy="264600"/>
              </a:xfrm>
            </p:grpSpPr>
            <p:sp>
              <p:nvSpPr>
                <p:cNvPr id="530" name="Rectangle 18"/>
                <p:cNvSpPr/>
                <p:nvPr/>
              </p:nvSpPr>
              <p:spPr>
                <a:xfrm>
                  <a:off x="13842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Rectangle 38"/>
                <p:cNvSpPr/>
                <p:nvPr/>
              </p:nvSpPr>
              <p:spPr>
                <a:xfrm>
                  <a:off x="13388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Group 41"/>
              <p:cNvGrpSpPr/>
              <p:nvPr/>
            </p:nvGrpSpPr>
            <p:grpSpPr>
              <a:xfrm>
                <a:off x="1974240" y="5107320"/>
                <a:ext cx="634680" cy="264600"/>
                <a:chOff x="1974240" y="5107320"/>
                <a:chExt cx="634680" cy="264600"/>
              </a:xfrm>
            </p:grpSpPr>
            <p:sp>
              <p:nvSpPr>
                <p:cNvPr id="533" name="Rectangle 19"/>
                <p:cNvSpPr/>
                <p:nvPr/>
              </p:nvSpPr>
              <p:spPr>
                <a:xfrm>
                  <a:off x="20196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Rectangle 40"/>
                <p:cNvSpPr/>
                <p:nvPr/>
              </p:nvSpPr>
              <p:spPr>
                <a:xfrm>
                  <a:off x="19742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43"/>
              <p:cNvGrpSpPr/>
              <p:nvPr/>
            </p:nvGrpSpPr>
            <p:grpSpPr>
              <a:xfrm>
                <a:off x="2609640" y="5107320"/>
                <a:ext cx="634680" cy="264600"/>
                <a:chOff x="2609640" y="5107320"/>
                <a:chExt cx="634680" cy="264600"/>
              </a:xfrm>
            </p:grpSpPr>
            <p:sp>
              <p:nvSpPr>
                <p:cNvPr id="536" name="Rectangle 20"/>
                <p:cNvSpPr/>
                <p:nvPr/>
              </p:nvSpPr>
              <p:spPr>
                <a:xfrm>
                  <a:off x="26550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Rectangle 42"/>
                <p:cNvSpPr/>
                <p:nvPr/>
              </p:nvSpPr>
              <p:spPr>
                <a:xfrm>
                  <a:off x="26096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Group 45"/>
              <p:cNvGrpSpPr/>
              <p:nvPr/>
            </p:nvGrpSpPr>
            <p:grpSpPr>
              <a:xfrm>
                <a:off x="3245040" y="5107320"/>
                <a:ext cx="634680" cy="264600"/>
                <a:chOff x="3245040" y="5107320"/>
                <a:chExt cx="634680" cy="264600"/>
              </a:xfrm>
            </p:grpSpPr>
            <p:sp>
              <p:nvSpPr>
                <p:cNvPr id="539" name="Rectangle 21"/>
                <p:cNvSpPr/>
                <p:nvPr/>
              </p:nvSpPr>
              <p:spPr>
                <a:xfrm>
                  <a:off x="32904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Rectangle 44"/>
                <p:cNvSpPr/>
                <p:nvPr/>
              </p:nvSpPr>
              <p:spPr>
                <a:xfrm>
                  <a:off x="32450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Group 47"/>
              <p:cNvGrpSpPr/>
              <p:nvPr/>
            </p:nvGrpSpPr>
            <p:grpSpPr>
              <a:xfrm>
                <a:off x="3880080" y="5107320"/>
                <a:ext cx="634680" cy="264600"/>
                <a:chOff x="3880080" y="5107320"/>
                <a:chExt cx="634680" cy="264600"/>
              </a:xfrm>
            </p:grpSpPr>
            <p:sp>
              <p:nvSpPr>
                <p:cNvPr id="542" name="Rectangle 22"/>
                <p:cNvSpPr/>
                <p:nvPr/>
              </p:nvSpPr>
              <p:spPr>
                <a:xfrm>
                  <a:off x="39254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Rectangle 46"/>
                <p:cNvSpPr/>
                <p:nvPr/>
              </p:nvSpPr>
              <p:spPr>
                <a:xfrm>
                  <a:off x="38800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Group 49"/>
              <p:cNvGrpSpPr/>
              <p:nvPr/>
            </p:nvGrpSpPr>
            <p:grpSpPr>
              <a:xfrm>
                <a:off x="4515480" y="5107320"/>
                <a:ext cx="634680" cy="264600"/>
                <a:chOff x="4515480" y="5107320"/>
                <a:chExt cx="634680" cy="264600"/>
              </a:xfrm>
            </p:grpSpPr>
            <p:sp>
              <p:nvSpPr>
                <p:cNvPr id="545" name="Rectangle 23"/>
                <p:cNvSpPr/>
                <p:nvPr/>
              </p:nvSpPr>
              <p:spPr>
                <a:xfrm>
                  <a:off x="45608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Rectangle 48"/>
                <p:cNvSpPr/>
                <p:nvPr/>
              </p:nvSpPr>
              <p:spPr>
                <a:xfrm>
                  <a:off x="45154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Group 51"/>
              <p:cNvGrpSpPr/>
              <p:nvPr/>
            </p:nvGrpSpPr>
            <p:grpSpPr>
              <a:xfrm>
                <a:off x="5150880" y="5107320"/>
                <a:ext cx="634680" cy="264600"/>
                <a:chOff x="5150880" y="5107320"/>
                <a:chExt cx="634680" cy="264600"/>
              </a:xfrm>
            </p:grpSpPr>
            <p:sp>
              <p:nvSpPr>
                <p:cNvPr id="548" name="Rectangle 24"/>
                <p:cNvSpPr/>
                <p:nvPr/>
              </p:nvSpPr>
              <p:spPr>
                <a:xfrm>
                  <a:off x="51962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Rectangle 50"/>
                <p:cNvSpPr/>
                <p:nvPr/>
              </p:nvSpPr>
              <p:spPr>
                <a:xfrm>
                  <a:off x="51508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Group 53"/>
              <p:cNvGrpSpPr/>
              <p:nvPr/>
            </p:nvGrpSpPr>
            <p:grpSpPr>
              <a:xfrm>
                <a:off x="156960" y="5371920"/>
                <a:ext cx="546480" cy="264600"/>
                <a:chOff x="156960" y="5371920"/>
                <a:chExt cx="546480" cy="264600"/>
              </a:xfrm>
            </p:grpSpPr>
            <p:sp>
              <p:nvSpPr>
                <p:cNvPr id="551" name="Rectangle 25"/>
                <p:cNvSpPr/>
                <p:nvPr/>
              </p:nvSpPr>
              <p:spPr>
                <a:xfrm>
                  <a:off x="202320" y="53719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Rectangle 52"/>
                <p:cNvSpPr/>
                <p:nvPr/>
              </p:nvSpPr>
              <p:spPr>
                <a:xfrm>
                  <a:off x="156960" y="53719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Group 55"/>
              <p:cNvGrpSpPr/>
              <p:nvPr/>
            </p:nvGrpSpPr>
            <p:grpSpPr>
              <a:xfrm>
                <a:off x="703800" y="5371920"/>
                <a:ext cx="634680" cy="264600"/>
                <a:chOff x="703800" y="5371920"/>
                <a:chExt cx="634680" cy="264600"/>
              </a:xfrm>
            </p:grpSpPr>
            <p:sp>
              <p:nvSpPr>
                <p:cNvPr id="554" name="Rectangle 26"/>
                <p:cNvSpPr/>
                <p:nvPr/>
              </p:nvSpPr>
              <p:spPr>
                <a:xfrm>
                  <a:off x="74916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3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Rectangle 54"/>
                <p:cNvSpPr/>
                <p:nvPr/>
              </p:nvSpPr>
              <p:spPr>
                <a:xfrm>
                  <a:off x="70380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Group 57"/>
              <p:cNvGrpSpPr/>
              <p:nvPr/>
            </p:nvGrpSpPr>
            <p:grpSpPr>
              <a:xfrm>
                <a:off x="1338840" y="5371920"/>
                <a:ext cx="634680" cy="264600"/>
                <a:chOff x="1338840" y="5371920"/>
                <a:chExt cx="634680" cy="264600"/>
              </a:xfrm>
            </p:grpSpPr>
            <p:sp>
              <p:nvSpPr>
                <p:cNvPr id="557" name="Rectangle 27"/>
                <p:cNvSpPr/>
                <p:nvPr/>
              </p:nvSpPr>
              <p:spPr>
                <a:xfrm>
                  <a:off x="13842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35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Rectangle 56"/>
                <p:cNvSpPr/>
                <p:nvPr/>
              </p:nvSpPr>
              <p:spPr>
                <a:xfrm>
                  <a:off x="13388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Group 59"/>
              <p:cNvGrpSpPr/>
              <p:nvPr/>
            </p:nvGrpSpPr>
            <p:grpSpPr>
              <a:xfrm>
                <a:off x="1974240" y="5371920"/>
                <a:ext cx="634680" cy="264600"/>
                <a:chOff x="1974240" y="5371920"/>
                <a:chExt cx="634680" cy="264600"/>
              </a:xfrm>
            </p:grpSpPr>
            <p:sp>
              <p:nvSpPr>
                <p:cNvPr id="560" name="Rectangle 28"/>
                <p:cNvSpPr/>
                <p:nvPr/>
              </p:nvSpPr>
              <p:spPr>
                <a:xfrm>
                  <a:off x="20196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24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Rectangle 58"/>
                <p:cNvSpPr/>
                <p:nvPr/>
              </p:nvSpPr>
              <p:spPr>
                <a:xfrm>
                  <a:off x="19742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Group 61"/>
              <p:cNvGrpSpPr/>
              <p:nvPr/>
            </p:nvGrpSpPr>
            <p:grpSpPr>
              <a:xfrm>
                <a:off x="2609640" y="5371920"/>
                <a:ext cx="634680" cy="264600"/>
                <a:chOff x="2609640" y="5371920"/>
                <a:chExt cx="634680" cy="264600"/>
              </a:xfrm>
            </p:grpSpPr>
            <p:sp>
              <p:nvSpPr>
                <p:cNvPr id="563" name="Rectangle 29"/>
                <p:cNvSpPr/>
                <p:nvPr/>
              </p:nvSpPr>
              <p:spPr>
                <a:xfrm>
                  <a:off x="26550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13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Rectangle 60"/>
                <p:cNvSpPr/>
                <p:nvPr/>
              </p:nvSpPr>
              <p:spPr>
                <a:xfrm>
                  <a:off x="26096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Group 63"/>
              <p:cNvGrpSpPr/>
              <p:nvPr/>
            </p:nvGrpSpPr>
            <p:grpSpPr>
              <a:xfrm>
                <a:off x="3245040" y="5371920"/>
                <a:ext cx="634680" cy="264600"/>
                <a:chOff x="3245040" y="5371920"/>
                <a:chExt cx="634680" cy="264600"/>
              </a:xfrm>
            </p:grpSpPr>
            <p:sp>
              <p:nvSpPr>
                <p:cNvPr id="566" name="Rectangle 30"/>
                <p:cNvSpPr/>
                <p:nvPr/>
              </p:nvSpPr>
              <p:spPr>
                <a:xfrm>
                  <a:off x="32904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5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Rectangle 62"/>
                <p:cNvSpPr/>
                <p:nvPr/>
              </p:nvSpPr>
              <p:spPr>
                <a:xfrm>
                  <a:off x="32450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Group 65"/>
              <p:cNvGrpSpPr/>
              <p:nvPr/>
            </p:nvGrpSpPr>
            <p:grpSpPr>
              <a:xfrm>
                <a:off x="3880080" y="5371920"/>
                <a:ext cx="634680" cy="264600"/>
                <a:chOff x="3880080" y="5371920"/>
                <a:chExt cx="634680" cy="264600"/>
              </a:xfrm>
            </p:grpSpPr>
            <p:sp>
              <p:nvSpPr>
                <p:cNvPr id="569" name="Rectangle 31"/>
                <p:cNvSpPr/>
                <p:nvPr/>
              </p:nvSpPr>
              <p:spPr>
                <a:xfrm>
                  <a:off x="39254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18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Rectangle 64"/>
                <p:cNvSpPr/>
                <p:nvPr/>
              </p:nvSpPr>
              <p:spPr>
                <a:xfrm>
                  <a:off x="38800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Group 67"/>
              <p:cNvGrpSpPr/>
              <p:nvPr/>
            </p:nvGrpSpPr>
            <p:grpSpPr>
              <a:xfrm>
                <a:off x="4515480" y="5371920"/>
                <a:ext cx="634680" cy="264600"/>
                <a:chOff x="4515480" y="5371920"/>
                <a:chExt cx="634680" cy="264600"/>
              </a:xfrm>
            </p:grpSpPr>
            <p:sp>
              <p:nvSpPr>
                <p:cNvPr id="572" name="Rectangle 32"/>
                <p:cNvSpPr/>
                <p:nvPr/>
              </p:nvSpPr>
              <p:spPr>
                <a:xfrm>
                  <a:off x="45608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0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Rectangle 66"/>
                <p:cNvSpPr/>
                <p:nvPr/>
              </p:nvSpPr>
              <p:spPr>
                <a:xfrm>
                  <a:off x="45154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Group 69"/>
              <p:cNvGrpSpPr/>
              <p:nvPr/>
            </p:nvGrpSpPr>
            <p:grpSpPr>
              <a:xfrm>
                <a:off x="5150880" y="5371920"/>
                <a:ext cx="634680" cy="264600"/>
                <a:chOff x="5150880" y="5371920"/>
                <a:chExt cx="634680" cy="264600"/>
              </a:xfrm>
            </p:grpSpPr>
            <p:sp>
              <p:nvSpPr>
                <p:cNvPr id="575" name="Rectangle 33"/>
                <p:cNvSpPr/>
                <p:nvPr/>
              </p:nvSpPr>
              <p:spPr>
                <a:xfrm>
                  <a:off x="51962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0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Rectangle 68"/>
                <p:cNvSpPr/>
                <p:nvPr/>
              </p:nvSpPr>
              <p:spPr>
                <a:xfrm>
                  <a:off x="51508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7" name="Rectangle 71"/>
            <p:cNvSpPr/>
            <p:nvPr/>
          </p:nvSpPr>
          <p:spPr>
            <a:xfrm>
              <a:off x="152280" y="5105520"/>
              <a:ext cx="5638680" cy="53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8" name="Text Box 73"/>
          <p:cNvSpPr/>
          <p:nvPr/>
        </p:nvSpPr>
        <p:spPr>
          <a:xfrm>
            <a:off x="59454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Rectangle 74"/>
          <p:cNvSpPr/>
          <p:nvPr/>
        </p:nvSpPr>
        <p:spPr>
          <a:xfrm>
            <a:off x="228600" y="5791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bulkové vyjádření vybraných hodnot distribuční funkce</a:t>
            </a:r>
            <a:r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0" name="Group 131"/>
          <p:cNvGrpSpPr/>
          <p:nvPr/>
        </p:nvGrpSpPr>
        <p:grpSpPr>
          <a:xfrm>
            <a:off x="2362320" y="6095880"/>
            <a:ext cx="5714640" cy="609840"/>
            <a:chOff x="2362320" y="6095880"/>
            <a:chExt cx="5714640" cy="609840"/>
          </a:xfrm>
        </p:grpSpPr>
        <p:grpSp>
          <p:nvGrpSpPr>
            <p:cNvPr id="581" name="Group 129"/>
            <p:cNvGrpSpPr/>
            <p:nvPr/>
          </p:nvGrpSpPr>
          <p:grpSpPr>
            <a:xfrm>
              <a:off x="2367000" y="6098040"/>
              <a:ext cx="5704200" cy="605520"/>
              <a:chOff x="2367000" y="6098040"/>
              <a:chExt cx="5704200" cy="605520"/>
            </a:xfrm>
          </p:grpSpPr>
          <p:grpSp>
            <p:nvGrpSpPr>
              <p:cNvPr id="582" name="Group 94"/>
              <p:cNvGrpSpPr/>
              <p:nvPr/>
            </p:nvGrpSpPr>
            <p:grpSpPr>
              <a:xfrm>
                <a:off x="2367000" y="6098040"/>
                <a:ext cx="587880" cy="302760"/>
                <a:chOff x="2367000" y="6098040"/>
                <a:chExt cx="587880" cy="302760"/>
              </a:xfrm>
            </p:grpSpPr>
            <p:sp>
              <p:nvSpPr>
                <p:cNvPr id="583" name="Rectangle 75"/>
                <p:cNvSpPr/>
                <p:nvPr/>
              </p:nvSpPr>
              <p:spPr>
                <a:xfrm>
                  <a:off x="2412720" y="609804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Rectangle 93"/>
                <p:cNvSpPr/>
                <p:nvPr/>
              </p:nvSpPr>
              <p:spPr>
                <a:xfrm>
                  <a:off x="2367000" y="609804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Group 96"/>
              <p:cNvGrpSpPr/>
              <p:nvPr/>
            </p:nvGrpSpPr>
            <p:grpSpPr>
              <a:xfrm>
                <a:off x="2955240" y="6098040"/>
                <a:ext cx="639000" cy="302760"/>
                <a:chOff x="2955240" y="6098040"/>
                <a:chExt cx="639000" cy="302760"/>
              </a:xfrm>
            </p:grpSpPr>
            <p:sp>
              <p:nvSpPr>
                <p:cNvPr id="586" name="Rectangle 76"/>
                <p:cNvSpPr/>
                <p:nvPr/>
              </p:nvSpPr>
              <p:spPr>
                <a:xfrm>
                  <a:off x="30013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Rectangle 95"/>
                <p:cNvSpPr/>
                <p:nvPr/>
              </p:nvSpPr>
              <p:spPr>
                <a:xfrm>
                  <a:off x="29552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Group 98"/>
              <p:cNvGrpSpPr/>
              <p:nvPr/>
            </p:nvGrpSpPr>
            <p:grpSpPr>
              <a:xfrm>
                <a:off x="3594600" y="6098040"/>
                <a:ext cx="639000" cy="302760"/>
                <a:chOff x="3594600" y="6098040"/>
                <a:chExt cx="639000" cy="302760"/>
              </a:xfrm>
            </p:grpSpPr>
            <p:sp>
              <p:nvSpPr>
                <p:cNvPr id="589" name="Rectangle 77"/>
                <p:cNvSpPr/>
                <p:nvPr/>
              </p:nvSpPr>
              <p:spPr>
                <a:xfrm>
                  <a:off x="36406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Rectangle 97"/>
                <p:cNvSpPr/>
                <p:nvPr/>
              </p:nvSpPr>
              <p:spPr>
                <a:xfrm>
                  <a:off x="35946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Group 100"/>
              <p:cNvGrpSpPr/>
              <p:nvPr/>
            </p:nvGrpSpPr>
            <p:grpSpPr>
              <a:xfrm>
                <a:off x="4234320" y="6098040"/>
                <a:ext cx="639000" cy="302760"/>
                <a:chOff x="4234320" y="6098040"/>
                <a:chExt cx="639000" cy="302760"/>
              </a:xfrm>
            </p:grpSpPr>
            <p:sp>
              <p:nvSpPr>
                <p:cNvPr id="592" name="Rectangle 78"/>
                <p:cNvSpPr/>
                <p:nvPr/>
              </p:nvSpPr>
              <p:spPr>
                <a:xfrm>
                  <a:off x="42804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Rectangle 99"/>
                <p:cNvSpPr/>
                <p:nvPr/>
              </p:nvSpPr>
              <p:spPr>
                <a:xfrm>
                  <a:off x="42343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Group 102"/>
              <p:cNvGrpSpPr/>
              <p:nvPr/>
            </p:nvGrpSpPr>
            <p:grpSpPr>
              <a:xfrm>
                <a:off x="4874040" y="6098040"/>
                <a:ext cx="639000" cy="302760"/>
                <a:chOff x="4874040" y="6098040"/>
                <a:chExt cx="639000" cy="302760"/>
              </a:xfrm>
            </p:grpSpPr>
            <p:sp>
              <p:nvSpPr>
                <p:cNvPr id="595" name="Rectangle 79"/>
                <p:cNvSpPr/>
                <p:nvPr/>
              </p:nvSpPr>
              <p:spPr>
                <a:xfrm>
                  <a:off x="49201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Rectangle 101"/>
                <p:cNvSpPr/>
                <p:nvPr/>
              </p:nvSpPr>
              <p:spPr>
                <a:xfrm>
                  <a:off x="48740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Group 104"/>
              <p:cNvGrpSpPr/>
              <p:nvPr/>
            </p:nvGrpSpPr>
            <p:grpSpPr>
              <a:xfrm>
                <a:off x="5513400" y="6098040"/>
                <a:ext cx="639000" cy="302760"/>
                <a:chOff x="5513400" y="6098040"/>
                <a:chExt cx="639000" cy="302760"/>
              </a:xfrm>
            </p:grpSpPr>
            <p:sp>
              <p:nvSpPr>
                <p:cNvPr id="598" name="Rectangle 80"/>
                <p:cNvSpPr/>
                <p:nvPr/>
              </p:nvSpPr>
              <p:spPr>
                <a:xfrm>
                  <a:off x="55594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Rectangle 103"/>
                <p:cNvSpPr/>
                <p:nvPr/>
              </p:nvSpPr>
              <p:spPr>
                <a:xfrm>
                  <a:off x="55134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Group 106"/>
              <p:cNvGrpSpPr/>
              <p:nvPr/>
            </p:nvGrpSpPr>
            <p:grpSpPr>
              <a:xfrm>
                <a:off x="6153120" y="6098040"/>
                <a:ext cx="639000" cy="302760"/>
                <a:chOff x="6153120" y="6098040"/>
                <a:chExt cx="639000" cy="302760"/>
              </a:xfrm>
            </p:grpSpPr>
            <p:sp>
              <p:nvSpPr>
                <p:cNvPr id="601" name="Rectangle 81"/>
                <p:cNvSpPr/>
                <p:nvPr/>
              </p:nvSpPr>
              <p:spPr>
                <a:xfrm>
                  <a:off x="61992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Rectangle 105"/>
                <p:cNvSpPr/>
                <p:nvPr/>
              </p:nvSpPr>
              <p:spPr>
                <a:xfrm>
                  <a:off x="61531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Group 108"/>
              <p:cNvGrpSpPr/>
              <p:nvPr/>
            </p:nvGrpSpPr>
            <p:grpSpPr>
              <a:xfrm>
                <a:off x="6792480" y="6098040"/>
                <a:ext cx="639000" cy="302760"/>
                <a:chOff x="6792480" y="6098040"/>
                <a:chExt cx="639000" cy="302760"/>
              </a:xfrm>
            </p:grpSpPr>
            <p:sp>
              <p:nvSpPr>
                <p:cNvPr id="604" name="Rectangle 82"/>
                <p:cNvSpPr/>
                <p:nvPr/>
              </p:nvSpPr>
              <p:spPr>
                <a:xfrm>
                  <a:off x="683856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Rectangle 107"/>
                <p:cNvSpPr/>
                <p:nvPr/>
              </p:nvSpPr>
              <p:spPr>
                <a:xfrm>
                  <a:off x="679248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Group 110"/>
              <p:cNvGrpSpPr/>
              <p:nvPr/>
            </p:nvGrpSpPr>
            <p:grpSpPr>
              <a:xfrm>
                <a:off x="7432200" y="6098040"/>
                <a:ext cx="639000" cy="302760"/>
                <a:chOff x="7432200" y="6098040"/>
                <a:chExt cx="639000" cy="302760"/>
              </a:xfrm>
            </p:grpSpPr>
            <p:sp>
              <p:nvSpPr>
                <p:cNvPr id="607" name="Rectangle 83"/>
                <p:cNvSpPr/>
                <p:nvPr/>
              </p:nvSpPr>
              <p:spPr>
                <a:xfrm>
                  <a:off x="74782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Rectangle 109"/>
                <p:cNvSpPr/>
                <p:nvPr/>
              </p:nvSpPr>
              <p:spPr>
                <a:xfrm>
                  <a:off x="74322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Group 112"/>
              <p:cNvGrpSpPr/>
              <p:nvPr/>
            </p:nvGrpSpPr>
            <p:grpSpPr>
              <a:xfrm>
                <a:off x="2367000" y="6400800"/>
                <a:ext cx="587880" cy="302760"/>
                <a:chOff x="2367000" y="6400800"/>
                <a:chExt cx="587880" cy="302760"/>
              </a:xfrm>
            </p:grpSpPr>
            <p:sp>
              <p:nvSpPr>
                <p:cNvPr id="610" name="Rectangle 84"/>
                <p:cNvSpPr/>
                <p:nvPr/>
              </p:nvSpPr>
              <p:spPr>
                <a:xfrm>
                  <a:off x="2412720" y="640080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Rectangle 111"/>
                <p:cNvSpPr/>
                <p:nvPr/>
              </p:nvSpPr>
              <p:spPr>
                <a:xfrm>
                  <a:off x="2367000" y="640080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Group 114"/>
              <p:cNvGrpSpPr/>
              <p:nvPr/>
            </p:nvGrpSpPr>
            <p:grpSpPr>
              <a:xfrm>
                <a:off x="2955240" y="6400800"/>
                <a:ext cx="639000" cy="302760"/>
                <a:chOff x="2955240" y="6400800"/>
                <a:chExt cx="639000" cy="302760"/>
              </a:xfrm>
            </p:grpSpPr>
            <p:sp>
              <p:nvSpPr>
                <p:cNvPr id="613" name="Rectangle 85"/>
                <p:cNvSpPr/>
                <p:nvPr/>
              </p:nvSpPr>
              <p:spPr>
                <a:xfrm>
                  <a:off x="30013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0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Rectangle 113"/>
                <p:cNvSpPr/>
                <p:nvPr/>
              </p:nvSpPr>
              <p:spPr>
                <a:xfrm>
                  <a:off x="29552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Group 116"/>
              <p:cNvGrpSpPr/>
              <p:nvPr/>
            </p:nvGrpSpPr>
            <p:grpSpPr>
              <a:xfrm>
                <a:off x="3594600" y="6400800"/>
                <a:ext cx="639000" cy="302760"/>
                <a:chOff x="3594600" y="6400800"/>
                <a:chExt cx="639000" cy="302760"/>
              </a:xfrm>
            </p:grpSpPr>
            <p:sp>
              <p:nvSpPr>
                <p:cNvPr id="616" name="Rectangle 86"/>
                <p:cNvSpPr/>
                <p:nvPr/>
              </p:nvSpPr>
              <p:spPr>
                <a:xfrm>
                  <a:off x="36406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69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Rectangle 115"/>
                <p:cNvSpPr/>
                <p:nvPr/>
              </p:nvSpPr>
              <p:spPr>
                <a:xfrm>
                  <a:off x="35946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Group 118"/>
              <p:cNvGrpSpPr/>
              <p:nvPr/>
            </p:nvGrpSpPr>
            <p:grpSpPr>
              <a:xfrm>
                <a:off x="4234320" y="6400800"/>
                <a:ext cx="639000" cy="302760"/>
                <a:chOff x="4234320" y="6400800"/>
                <a:chExt cx="639000" cy="302760"/>
              </a:xfrm>
            </p:grpSpPr>
            <p:sp>
              <p:nvSpPr>
                <p:cNvPr id="619" name="Rectangle 87"/>
                <p:cNvSpPr/>
                <p:nvPr/>
              </p:nvSpPr>
              <p:spPr>
                <a:xfrm>
                  <a:off x="42804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84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Rectangle 117"/>
                <p:cNvSpPr/>
                <p:nvPr/>
              </p:nvSpPr>
              <p:spPr>
                <a:xfrm>
                  <a:off x="42343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Group 120"/>
              <p:cNvGrpSpPr/>
              <p:nvPr/>
            </p:nvGrpSpPr>
            <p:grpSpPr>
              <a:xfrm>
                <a:off x="4874040" y="6400800"/>
                <a:ext cx="639000" cy="302760"/>
                <a:chOff x="4874040" y="6400800"/>
                <a:chExt cx="639000" cy="302760"/>
              </a:xfrm>
            </p:grpSpPr>
            <p:sp>
              <p:nvSpPr>
                <p:cNvPr id="622" name="Rectangle 88"/>
                <p:cNvSpPr/>
                <p:nvPr/>
              </p:nvSpPr>
              <p:spPr>
                <a:xfrm>
                  <a:off x="49201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33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Rectangle 119"/>
                <p:cNvSpPr/>
                <p:nvPr/>
              </p:nvSpPr>
              <p:spPr>
                <a:xfrm>
                  <a:off x="48740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Group 122"/>
              <p:cNvGrpSpPr/>
              <p:nvPr/>
            </p:nvGrpSpPr>
            <p:grpSpPr>
              <a:xfrm>
                <a:off x="5513400" y="6400800"/>
                <a:ext cx="639000" cy="302760"/>
                <a:chOff x="5513400" y="6400800"/>
                <a:chExt cx="639000" cy="302760"/>
              </a:xfrm>
            </p:grpSpPr>
            <p:sp>
              <p:nvSpPr>
                <p:cNvPr id="625" name="Rectangle 89"/>
                <p:cNvSpPr/>
                <p:nvPr/>
              </p:nvSpPr>
              <p:spPr>
                <a:xfrm>
                  <a:off x="55594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77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Rectangle 121"/>
                <p:cNvSpPr/>
                <p:nvPr/>
              </p:nvSpPr>
              <p:spPr>
                <a:xfrm>
                  <a:off x="55134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Group 124"/>
              <p:cNvGrpSpPr/>
              <p:nvPr/>
            </p:nvGrpSpPr>
            <p:grpSpPr>
              <a:xfrm>
                <a:off x="6153120" y="6400800"/>
                <a:ext cx="639000" cy="302760"/>
                <a:chOff x="6153120" y="6400800"/>
                <a:chExt cx="639000" cy="302760"/>
              </a:xfrm>
            </p:grpSpPr>
            <p:sp>
              <p:nvSpPr>
                <p:cNvPr id="628" name="Rectangle 90"/>
                <p:cNvSpPr/>
                <p:nvPr/>
              </p:nvSpPr>
              <p:spPr>
                <a:xfrm>
                  <a:off x="61992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Rectangle 123"/>
                <p:cNvSpPr/>
                <p:nvPr/>
              </p:nvSpPr>
              <p:spPr>
                <a:xfrm>
                  <a:off x="61531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Group 126"/>
              <p:cNvGrpSpPr/>
              <p:nvPr/>
            </p:nvGrpSpPr>
            <p:grpSpPr>
              <a:xfrm>
                <a:off x="6792480" y="6400800"/>
                <a:ext cx="639000" cy="302760"/>
                <a:chOff x="6792480" y="6400800"/>
                <a:chExt cx="639000" cy="302760"/>
              </a:xfrm>
            </p:grpSpPr>
            <p:sp>
              <p:nvSpPr>
                <p:cNvPr id="631" name="Rectangle 91"/>
                <p:cNvSpPr/>
                <p:nvPr/>
              </p:nvSpPr>
              <p:spPr>
                <a:xfrm>
                  <a:off x="683856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Rectangle 125"/>
                <p:cNvSpPr/>
                <p:nvPr/>
              </p:nvSpPr>
              <p:spPr>
                <a:xfrm>
                  <a:off x="679248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Group 128"/>
              <p:cNvGrpSpPr/>
              <p:nvPr/>
            </p:nvGrpSpPr>
            <p:grpSpPr>
              <a:xfrm>
                <a:off x="7432200" y="6400800"/>
                <a:ext cx="639000" cy="302760"/>
                <a:chOff x="7432200" y="6400800"/>
                <a:chExt cx="639000" cy="302760"/>
              </a:xfrm>
            </p:grpSpPr>
            <p:sp>
              <p:nvSpPr>
                <p:cNvPr id="634" name="Rectangle 92"/>
                <p:cNvSpPr/>
                <p:nvPr/>
              </p:nvSpPr>
              <p:spPr>
                <a:xfrm>
                  <a:off x="74782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Rectangle 127"/>
                <p:cNvSpPr/>
                <p:nvPr/>
              </p:nvSpPr>
              <p:spPr>
                <a:xfrm>
                  <a:off x="74322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6" name="Rectangle 130"/>
            <p:cNvSpPr/>
            <p:nvPr/>
          </p:nvSpPr>
          <p:spPr>
            <a:xfrm>
              <a:off x="2362320" y="6095880"/>
              <a:ext cx="5714640" cy="609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7" name="Text Box 132"/>
          <p:cNvSpPr/>
          <p:nvPr/>
        </p:nvSpPr>
        <p:spPr>
          <a:xfrm>
            <a:off x="723960" y="1233360"/>
            <a:ext cx="72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ormování hodnoty:  od hodnoty se odečte aritmetický průměr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sledek (tj. odchylka) se dělí směr. odchylk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78357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Co statistika „umí“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90720" y="754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50920" y="2019240"/>
            <a:ext cx="8458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Z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v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struk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é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v čase nebo prost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i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závis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diskrétní náhodné proměnné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mohou nabývat pouze dvou hodnot ( např. ano, 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děpodobnost, že nastane alternativa ANO označme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děpodobnost, že nastane NE …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q = 1 – 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), protože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latí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+q = 1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(100 %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 výpočtu se používá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binomický rozv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9862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" name="Picture 5" descr="\begin{displaymath}{n \choose k} = \frac{n!}{k!(n - k)!},&#10;\end{displaymath}"/>
          <p:cNvPicPr/>
          <p:nvPr/>
        </p:nvPicPr>
        <p:blipFill>
          <a:blip r:embed="rId1"/>
          <a:stretch/>
        </p:blipFill>
        <p:spPr>
          <a:xfrm>
            <a:off x="6095880" y="4724280"/>
            <a:ext cx="3048120" cy="111456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8"/>
          <p:cNvSpPr/>
          <p:nvPr/>
        </p:nvSpPr>
        <p:spPr>
          <a:xfrm>
            <a:off x="2800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Picture 7" descr="\begin{displaymath}\ensuremath{\mathrm{P}} (X = k) = {n \choose k} \pi^k (1 - \pi)^{n - k}, \quad \mbox{pro } k = 0,1,2,&#10;\dots, n.&#10;\end{displaymath}"/>
          <p:cNvPicPr/>
          <p:nvPr/>
        </p:nvPicPr>
        <p:blipFill>
          <a:blip r:embed="rId2"/>
          <a:stretch/>
        </p:blipFill>
        <p:spPr>
          <a:xfrm>
            <a:off x="609480" y="5872320"/>
            <a:ext cx="81536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1 – 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dpokládejme, že pravděpodobnost narození dívky je 0,49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á je pravděpodobnost toho, že mezi třemi dětmi v rodině je právě jedna dívka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1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0" y="-165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2" name="Picture 4" descr="$\pi$"/>
          <p:cNvPicPr/>
          <p:nvPr/>
        </p:nvPicPr>
        <p:blipFill>
          <a:blip r:embed="rId1"/>
          <a:stretch/>
        </p:blipFill>
        <p:spPr>
          <a:xfrm>
            <a:off x="0" y="6872400"/>
            <a:ext cx="133200" cy="152280"/>
          </a:xfrm>
          <a:prstGeom prst="rect">
            <a:avLst/>
          </a:prstGeom>
          <a:ln w="0">
            <a:noFill/>
          </a:ln>
        </p:spPr>
      </p:pic>
      <p:grpSp>
        <p:nvGrpSpPr>
          <p:cNvPr id="653" name="Group 64"/>
          <p:cNvGrpSpPr/>
          <p:nvPr/>
        </p:nvGrpSpPr>
        <p:grpSpPr>
          <a:xfrm>
            <a:off x="-304920" y="914400"/>
            <a:ext cx="9448560" cy="2856960"/>
            <a:chOff x="-304920" y="914400"/>
            <a:chExt cx="9448560" cy="2856960"/>
          </a:xfrm>
        </p:grpSpPr>
        <p:sp>
          <p:nvSpPr>
            <p:cNvPr id="654" name="Rectangle 6"/>
            <p:cNvSpPr/>
            <p:nvPr/>
          </p:nvSpPr>
          <p:spPr>
            <a:xfrm>
              <a:off x="-304920" y="914400"/>
              <a:ext cx="94485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bulka</a:t>
              </a:r>
              <a:r>
                <a:rPr b="1" lang="cs-CZ" sz="1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Parametry binomického rozdělení v příkladu</a:t>
              </a:r>
              <a:r>
                <a:rPr b="0" lang="cs-CZ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5" name="Group 63"/>
            <p:cNvGrpSpPr/>
            <p:nvPr/>
          </p:nvGrpSpPr>
          <p:grpSpPr>
            <a:xfrm>
              <a:off x="-304920" y="1573200"/>
              <a:ext cx="9447480" cy="2198160"/>
              <a:chOff x="-304920" y="1573200"/>
              <a:chExt cx="9447480" cy="2198160"/>
            </a:xfrm>
          </p:grpSpPr>
          <p:grpSp>
            <p:nvGrpSpPr>
              <p:cNvPr id="656" name="Group 61"/>
              <p:cNvGrpSpPr/>
              <p:nvPr/>
            </p:nvGrpSpPr>
            <p:grpSpPr>
              <a:xfrm>
                <a:off x="-176760" y="1573200"/>
                <a:ext cx="9319320" cy="2015280"/>
                <a:chOff x="-176760" y="1573200"/>
                <a:chExt cx="9319320" cy="2015280"/>
              </a:xfrm>
            </p:grpSpPr>
            <p:grpSp>
              <p:nvGrpSpPr>
                <p:cNvPr id="657" name="Group 26"/>
                <p:cNvGrpSpPr/>
                <p:nvPr/>
              </p:nvGrpSpPr>
              <p:grpSpPr>
                <a:xfrm>
                  <a:off x="-176760" y="1573200"/>
                  <a:ext cx="1594440" cy="633960"/>
                  <a:chOff x="-176760" y="1573200"/>
                  <a:chExt cx="1594440" cy="633960"/>
                </a:xfrm>
              </p:grpSpPr>
              <p:sp>
                <p:nvSpPr>
                  <p:cNvPr id="658" name="Rectangle 7"/>
                  <p:cNvSpPr/>
                  <p:nvPr/>
                </p:nvSpPr>
                <p:spPr>
                  <a:xfrm>
                    <a:off x="-137160" y="160128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ku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Rectangle 25"/>
                  <p:cNvSpPr/>
                  <p:nvPr/>
                </p:nvSpPr>
                <p:spPr>
                  <a:xfrm>
                    <a:off x="-176760" y="157320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0" name="Group 28"/>
                <p:cNvGrpSpPr/>
                <p:nvPr/>
              </p:nvGrpSpPr>
              <p:grpSpPr>
                <a:xfrm>
                  <a:off x="1418040" y="1573200"/>
                  <a:ext cx="970560" cy="633960"/>
                  <a:chOff x="1418040" y="1573200"/>
                  <a:chExt cx="970560" cy="633960"/>
                </a:xfrm>
              </p:grpSpPr>
              <p:sp>
                <p:nvSpPr>
                  <p:cNvPr id="661" name="Rectangle 8"/>
                  <p:cNvSpPr/>
                  <p:nvPr/>
                </p:nvSpPr>
                <p:spPr>
                  <a:xfrm>
                    <a:off x="1458000" y="160128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Úspěc</a:t>
                    </a:r>
                    <a:r>
                      <a:rPr b="0" lang="cs-CZ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Rectangle 27"/>
                  <p:cNvSpPr/>
                  <p:nvPr/>
                </p:nvSpPr>
                <p:spPr>
                  <a:xfrm>
                    <a:off x="1418040" y="157320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3" name="Group 30"/>
                <p:cNvGrpSpPr/>
                <p:nvPr/>
              </p:nvGrpSpPr>
              <p:grpSpPr>
                <a:xfrm>
                  <a:off x="2389320" y="1573200"/>
                  <a:ext cx="1170720" cy="633960"/>
                  <a:chOff x="2389320" y="1573200"/>
                  <a:chExt cx="1170720" cy="633960"/>
                </a:xfrm>
              </p:grpSpPr>
              <p:sp>
                <p:nvSpPr>
                  <p:cNvPr id="664" name="Rectangle 9"/>
                  <p:cNvSpPr/>
                  <p:nvPr/>
                </p:nvSpPr>
                <p:spPr>
                  <a:xfrm>
                    <a:off x="2428560" y="160128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eúspěch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Rectangle 29"/>
                  <p:cNvSpPr/>
                  <p:nvPr/>
                </p:nvSpPr>
                <p:spPr>
                  <a:xfrm>
                    <a:off x="2389320" y="157320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6" name="Group 32"/>
                <p:cNvGrpSpPr/>
                <p:nvPr/>
              </p:nvGrpSpPr>
              <p:grpSpPr>
                <a:xfrm>
                  <a:off x="3560760" y="1573200"/>
                  <a:ext cx="2554560" cy="633960"/>
                  <a:chOff x="3560760" y="1573200"/>
                  <a:chExt cx="2554560" cy="633960"/>
                </a:xfrm>
              </p:grpSpPr>
              <p:sp>
                <p:nvSpPr>
                  <p:cNvPr id="667" name="Rectangle 10"/>
                  <p:cNvSpPr/>
                  <p:nvPr/>
                </p:nvSpPr>
                <p:spPr>
                  <a:xfrm>
                    <a:off x="3600000" y="160128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ravděpodobnost úspěchu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Rectangle 31"/>
                  <p:cNvSpPr/>
                  <p:nvPr/>
                </p:nvSpPr>
                <p:spPr>
                  <a:xfrm>
                    <a:off x="3560760" y="157320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9" name="Group 34"/>
                <p:cNvGrpSpPr/>
                <p:nvPr/>
              </p:nvGrpSpPr>
              <p:grpSpPr>
                <a:xfrm>
                  <a:off x="6116040" y="1573200"/>
                  <a:ext cx="1470960" cy="633960"/>
                  <a:chOff x="6116040" y="1573200"/>
                  <a:chExt cx="1470960" cy="633960"/>
                </a:xfrm>
              </p:grpSpPr>
              <p:sp>
                <p:nvSpPr>
                  <p:cNvPr id="670" name="Rectangle 11"/>
                  <p:cNvSpPr/>
                  <p:nvPr/>
                </p:nvSpPr>
                <p:spPr>
                  <a:xfrm>
                    <a:off x="6155280" y="160128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pokusů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Rectangle 33"/>
                  <p:cNvSpPr/>
                  <p:nvPr/>
                </p:nvSpPr>
                <p:spPr>
                  <a:xfrm>
                    <a:off x="6116040" y="157320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2" name="Group 36"/>
                <p:cNvGrpSpPr/>
                <p:nvPr/>
              </p:nvGrpSpPr>
              <p:grpSpPr>
                <a:xfrm>
                  <a:off x="7587360" y="1573200"/>
                  <a:ext cx="1555200" cy="633960"/>
                  <a:chOff x="7587360" y="1573200"/>
                  <a:chExt cx="1555200" cy="633960"/>
                </a:xfrm>
              </p:grpSpPr>
              <p:sp>
                <p:nvSpPr>
                  <p:cNvPr id="673" name="Rectangle 12"/>
                  <p:cNvSpPr/>
                  <p:nvPr/>
                </p:nvSpPr>
                <p:spPr>
                  <a:xfrm>
                    <a:off x="7626600" y="160128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úspěchů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Rectangle 35"/>
                  <p:cNvSpPr/>
                  <p:nvPr/>
                </p:nvSpPr>
                <p:spPr>
                  <a:xfrm>
                    <a:off x="7587360" y="157320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5" name="Group 38"/>
                <p:cNvGrpSpPr/>
                <p:nvPr/>
              </p:nvGrpSpPr>
              <p:grpSpPr>
                <a:xfrm>
                  <a:off x="-176760" y="2263680"/>
                  <a:ext cx="1594440" cy="633960"/>
                  <a:chOff x="-176760" y="2263680"/>
                  <a:chExt cx="1594440" cy="633960"/>
                </a:xfrm>
              </p:grpSpPr>
              <p:sp>
                <p:nvSpPr>
                  <p:cNvPr id="676" name="Rectangle 13"/>
                  <p:cNvSpPr/>
                  <p:nvPr/>
                </p:nvSpPr>
                <p:spPr>
                  <a:xfrm>
                    <a:off x="-137160" y="229176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Rectangle 37"/>
                  <p:cNvSpPr/>
                  <p:nvPr/>
                </p:nvSpPr>
                <p:spPr>
                  <a:xfrm>
                    <a:off x="-176760" y="226368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8" name="Group 40"/>
                <p:cNvGrpSpPr/>
                <p:nvPr/>
              </p:nvGrpSpPr>
              <p:grpSpPr>
                <a:xfrm>
                  <a:off x="1418040" y="2263680"/>
                  <a:ext cx="970560" cy="633960"/>
                  <a:chOff x="1418040" y="2263680"/>
                  <a:chExt cx="970560" cy="633960"/>
                </a:xfrm>
              </p:grpSpPr>
              <p:sp>
                <p:nvSpPr>
                  <p:cNvPr id="679" name="Rectangle 14"/>
                  <p:cNvSpPr/>
                  <p:nvPr/>
                </p:nvSpPr>
                <p:spPr>
                  <a:xfrm>
                    <a:off x="1458000" y="229176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Rectangle 39"/>
                  <p:cNvSpPr/>
                  <p:nvPr/>
                </p:nvSpPr>
                <p:spPr>
                  <a:xfrm>
                    <a:off x="1418040" y="226368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1" name="Group 42"/>
                <p:cNvGrpSpPr/>
                <p:nvPr/>
              </p:nvGrpSpPr>
              <p:grpSpPr>
                <a:xfrm>
                  <a:off x="2389320" y="2263680"/>
                  <a:ext cx="1170720" cy="633960"/>
                  <a:chOff x="2389320" y="2263680"/>
                  <a:chExt cx="1170720" cy="633960"/>
                </a:xfrm>
              </p:grpSpPr>
              <p:sp>
                <p:nvSpPr>
                  <p:cNvPr id="682" name="Rectangle 15"/>
                  <p:cNvSpPr/>
                  <p:nvPr/>
                </p:nvSpPr>
                <p:spPr>
                  <a:xfrm>
                    <a:off x="2428560" y="229176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Rectangle 41"/>
                  <p:cNvSpPr/>
                  <p:nvPr/>
                </p:nvSpPr>
                <p:spPr>
                  <a:xfrm>
                    <a:off x="2389320" y="226368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4" name="Group 44"/>
                <p:cNvGrpSpPr/>
                <p:nvPr/>
              </p:nvGrpSpPr>
              <p:grpSpPr>
                <a:xfrm>
                  <a:off x="3560760" y="2263680"/>
                  <a:ext cx="2554560" cy="633960"/>
                  <a:chOff x="3560760" y="2263680"/>
                  <a:chExt cx="2554560" cy="633960"/>
                </a:xfrm>
              </p:grpSpPr>
              <p:sp>
                <p:nvSpPr>
                  <p:cNvPr id="685" name="Rectangle 16"/>
                  <p:cNvSpPr/>
                  <p:nvPr/>
                </p:nvSpPr>
                <p:spPr>
                  <a:xfrm>
                    <a:off x="3600000" y="229176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Rectangle 43"/>
                  <p:cNvSpPr/>
                  <p:nvPr/>
                </p:nvSpPr>
                <p:spPr>
                  <a:xfrm>
                    <a:off x="3560760" y="226368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7" name="Group 46"/>
                <p:cNvGrpSpPr/>
                <p:nvPr/>
              </p:nvGrpSpPr>
              <p:grpSpPr>
                <a:xfrm>
                  <a:off x="6116040" y="2263680"/>
                  <a:ext cx="1470960" cy="633960"/>
                  <a:chOff x="6116040" y="2263680"/>
                  <a:chExt cx="1470960" cy="633960"/>
                </a:xfrm>
              </p:grpSpPr>
              <p:sp>
                <p:nvSpPr>
                  <p:cNvPr id="688" name="Rectangle 17"/>
                  <p:cNvSpPr/>
                  <p:nvPr/>
                </p:nvSpPr>
                <p:spPr>
                  <a:xfrm>
                    <a:off x="6155280" y="229176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Rectangle 45"/>
                  <p:cNvSpPr/>
                  <p:nvPr/>
                </p:nvSpPr>
                <p:spPr>
                  <a:xfrm>
                    <a:off x="6116040" y="226368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0" name="Group 48"/>
                <p:cNvGrpSpPr/>
                <p:nvPr/>
              </p:nvGrpSpPr>
              <p:grpSpPr>
                <a:xfrm>
                  <a:off x="7587360" y="2263680"/>
                  <a:ext cx="1555200" cy="633960"/>
                  <a:chOff x="7587360" y="2263680"/>
                  <a:chExt cx="1555200" cy="633960"/>
                </a:xfrm>
              </p:grpSpPr>
              <p:sp>
                <p:nvSpPr>
                  <p:cNvPr id="691" name="Rectangle 18"/>
                  <p:cNvSpPr/>
                  <p:nvPr/>
                </p:nvSpPr>
                <p:spPr>
                  <a:xfrm>
                    <a:off x="7626600" y="229176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k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Rectangle 47"/>
                  <p:cNvSpPr/>
                  <p:nvPr/>
                </p:nvSpPr>
                <p:spPr>
                  <a:xfrm>
                    <a:off x="7587360" y="226368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3" name="Group 50"/>
                <p:cNvGrpSpPr/>
                <p:nvPr/>
              </p:nvGrpSpPr>
              <p:grpSpPr>
                <a:xfrm>
                  <a:off x="-176760" y="2954520"/>
                  <a:ext cx="1594440" cy="633960"/>
                  <a:chOff x="-176760" y="2954520"/>
                  <a:chExt cx="1594440" cy="633960"/>
                </a:xfrm>
              </p:grpSpPr>
              <p:sp>
                <p:nvSpPr>
                  <p:cNvPr id="694" name="Rectangle 19"/>
                  <p:cNvSpPr/>
                  <p:nvPr/>
                </p:nvSpPr>
                <p:spPr>
                  <a:xfrm>
                    <a:off x="-137160" y="298260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arození dítět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Rectangle 49"/>
                  <p:cNvSpPr/>
                  <p:nvPr/>
                </p:nvSpPr>
                <p:spPr>
                  <a:xfrm>
                    <a:off x="-176760" y="295452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6" name="Group 52"/>
                <p:cNvGrpSpPr/>
                <p:nvPr/>
              </p:nvGrpSpPr>
              <p:grpSpPr>
                <a:xfrm>
                  <a:off x="1418040" y="2954520"/>
                  <a:ext cx="970560" cy="633960"/>
                  <a:chOff x="1418040" y="2954520"/>
                  <a:chExt cx="970560" cy="633960"/>
                </a:xfrm>
              </p:grpSpPr>
              <p:sp>
                <p:nvSpPr>
                  <p:cNvPr id="697" name="Rectangle 20"/>
                  <p:cNvSpPr/>
                  <p:nvPr/>
                </p:nvSpPr>
                <p:spPr>
                  <a:xfrm>
                    <a:off x="1458000" y="298260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dívk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Rectangle 51"/>
                  <p:cNvSpPr/>
                  <p:nvPr/>
                </p:nvSpPr>
                <p:spPr>
                  <a:xfrm>
                    <a:off x="1418040" y="295452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9" name="Group 54"/>
                <p:cNvGrpSpPr/>
                <p:nvPr/>
              </p:nvGrpSpPr>
              <p:grpSpPr>
                <a:xfrm>
                  <a:off x="2389320" y="2954520"/>
                  <a:ext cx="1170720" cy="633960"/>
                  <a:chOff x="2389320" y="2954520"/>
                  <a:chExt cx="1170720" cy="633960"/>
                </a:xfrm>
              </p:grpSpPr>
              <p:sp>
                <p:nvSpPr>
                  <p:cNvPr id="700" name="Rectangle 21"/>
                  <p:cNvSpPr/>
                  <p:nvPr/>
                </p:nvSpPr>
                <p:spPr>
                  <a:xfrm>
                    <a:off x="2428560" y="298260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chlapec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Rectangle 53"/>
                  <p:cNvSpPr/>
                  <p:nvPr/>
                </p:nvSpPr>
                <p:spPr>
                  <a:xfrm>
                    <a:off x="2389320" y="295452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2" name="Group 56"/>
                <p:cNvGrpSpPr/>
                <p:nvPr/>
              </p:nvGrpSpPr>
              <p:grpSpPr>
                <a:xfrm>
                  <a:off x="3560760" y="2954520"/>
                  <a:ext cx="2554560" cy="633960"/>
                  <a:chOff x="3560760" y="2954520"/>
                  <a:chExt cx="2554560" cy="633960"/>
                </a:xfrm>
              </p:grpSpPr>
              <p:sp>
                <p:nvSpPr>
                  <p:cNvPr id="703" name="Rectangle 22"/>
                  <p:cNvSpPr/>
                  <p:nvPr/>
                </p:nvSpPr>
                <p:spPr>
                  <a:xfrm>
                    <a:off x="3600000" y="298260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0,49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Rectangle 55"/>
                  <p:cNvSpPr/>
                  <p:nvPr/>
                </p:nvSpPr>
                <p:spPr>
                  <a:xfrm>
                    <a:off x="3560760" y="295452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5" name="Group 58"/>
                <p:cNvGrpSpPr/>
                <p:nvPr/>
              </p:nvGrpSpPr>
              <p:grpSpPr>
                <a:xfrm>
                  <a:off x="6116040" y="2954520"/>
                  <a:ext cx="1470960" cy="633960"/>
                  <a:chOff x="6116040" y="2954520"/>
                  <a:chExt cx="1470960" cy="633960"/>
                </a:xfrm>
              </p:grpSpPr>
              <p:sp>
                <p:nvSpPr>
                  <p:cNvPr id="706" name="Rectangle 23"/>
                  <p:cNvSpPr/>
                  <p:nvPr/>
                </p:nvSpPr>
                <p:spPr>
                  <a:xfrm>
                    <a:off x="6155280" y="298260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dětí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Rectangle 57"/>
                  <p:cNvSpPr/>
                  <p:nvPr/>
                </p:nvSpPr>
                <p:spPr>
                  <a:xfrm>
                    <a:off x="6116040" y="295452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8" name="Group 60"/>
                <p:cNvGrpSpPr/>
                <p:nvPr/>
              </p:nvGrpSpPr>
              <p:grpSpPr>
                <a:xfrm>
                  <a:off x="7587360" y="2954520"/>
                  <a:ext cx="1555200" cy="633960"/>
                  <a:chOff x="7587360" y="2954520"/>
                  <a:chExt cx="1555200" cy="633960"/>
                </a:xfrm>
              </p:grpSpPr>
              <p:sp>
                <p:nvSpPr>
                  <p:cNvPr id="709" name="Rectangle 24"/>
                  <p:cNvSpPr/>
                  <p:nvPr/>
                </p:nvSpPr>
                <p:spPr>
                  <a:xfrm>
                    <a:off x="7626600" y="298260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dívek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Rectangle 59"/>
                  <p:cNvSpPr/>
                  <p:nvPr/>
                </p:nvSpPr>
                <p:spPr>
                  <a:xfrm>
                    <a:off x="7587360" y="295452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11" name="Rectangle 62"/>
              <p:cNvSpPr/>
              <p:nvPr/>
            </p:nvSpPr>
            <p:spPr>
              <a:xfrm>
                <a:off x="-304920" y="3404880"/>
                <a:ext cx="255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2" name="Rectangle 65"/>
          <p:cNvSpPr/>
          <p:nvPr/>
        </p:nvSpPr>
        <p:spPr>
          <a:xfrm>
            <a:off x="0" y="3386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Object 2"/>
          <p:cNvGraphicFramePr/>
          <p:nvPr/>
        </p:nvGraphicFramePr>
        <p:xfrm>
          <a:off x="4038480" y="3073320"/>
          <a:ext cx="5334120" cy="35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073320"/>
                    <a:ext cx="5334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Rectangle 6"/>
          <p:cNvSpPr/>
          <p:nvPr/>
        </p:nvSpPr>
        <p:spPr>
          <a:xfrm>
            <a:off x="304920" y="6094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 je vidět z tabulky, počet narozených dívek v rodině je náhodná veličina s binomickým rozdělením. Pravděpodobnost, že mezi třemi dětmi je právě jedna dívka, tedy vypočteme jak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6" name="Picture 5" descr="\begin{displaymath}\ensuremath{\mathrm{P}} (X = 1) = {3 \choose 1} 0{,}49^1 \cdot 0{,}51^2 = 3\cdot0{,}127 = 0{,}38. \&#10;\Diamond&#10;\end{displaymath}"/>
          <p:cNvPicPr/>
          <p:nvPr/>
        </p:nvPicPr>
        <p:blipFill>
          <a:blip r:embed="rId3"/>
          <a:stretch/>
        </p:blipFill>
        <p:spPr>
          <a:xfrm>
            <a:off x="304920" y="1905120"/>
            <a:ext cx="7896240" cy="104112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8"/>
          <p:cNvSpPr/>
          <p:nvPr/>
        </p:nvSpPr>
        <p:spPr>
          <a:xfrm>
            <a:off x="37242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8" name="Picture 7" descr="\begin{displaymath}{3 \choose 1} = \frac{3!}{1!2!} = \frac{3\cdot2\cdot1}{1\cdot 2\cdot 1} = 3.&#10;\end{displaymath}"/>
          <p:cNvPicPr/>
          <p:nvPr/>
        </p:nvPicPr>
        <p:blipFill>
          <a:blip r:embed="rId4"/>
          <a:stretch/>
        </p:blipFill>
        <p:spPr>
          <a:xfrm>
            <a:off x="457200" y="3657600"/>
            <a:ext cx="3352680" cy="847800"/>
          </a:xfrm>
          <a:prstGeom prst="rect">
            <a:avLst/>
          </a:prstGeom>
          <a:ln w="0">
            <a:noFill/>
          </a:ln>
        </p:spPr>
      </p:pic>
      <p:sp>
        <p:nvSpPr>
          <p:cNvPr id="719" name="Line 9"/>
          <p:cNvSpPr/>
          <p:nvPr/>
        </p:nvSpPr>
        <p:spPr>
          <a:xfrm flipH="1">
            <a:off x="914040" y="2895480"/>
            <a:ext cx="1676520" cy="68580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10"/>
          <p:cNvSpPr/>
          <p:nvPr/>
        </p:nvSpPr>
        <p:spPr>
          <a:xfrm>
            <a:off x="457200" y="495288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ravděpodobnost, ž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ze tří dětí  bude jedna dívka,  je 38%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Line 11"/>
          <p:cNvSpPr/>
          <p:nvPr/>
        </p:nvSpPr>
        <p:spPr>
          <a:xfrm flipH="1">
            <a:off x="3581280" y="2514600"/>
            <a:ext cx="1828800" cy="152388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12"/>
          <p:cNvSpPr/>
          <p:nvPr/>
        </p:nvSpPr>
        <p:spPr>
          <a:xfrm>
            <a:off x="1132200" y="903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á je pravděpodobnost, že v rodině s 8 dětmi jsou právě 3 dívky?</a:t>
            </a:r>
            <a:r>
              <a:rPr b="0" lang="cs-CZ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avděpodobnost narození dívky je 0,4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2557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6" name="Picture 5" descr="\begin{displaymath}\ensuremath{\mathrm{P}} (k = 3) = {8 \choose 3} 0{,}49^3 \cdo...&#10;...\cdot2\cdot1} \cdot 0{,}118 \cdot&#10;0{,}035 = 0{,}23. \ \Diamond&#10;\end{displaymath}"/>
          <p:cNvPicPr/>
          <p:nvPr/>
        </p:nvPicPr>
        <p:blipFill>
          <a:blip r:embed="rId1"/>
          <a:stretch/>
        </p:blipFill>
        <p:spPr>
          <a:xfrm>
            <a:off x="228600" y="2895480"/>
            <a:ext cx="8610480" cy="91620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7"/>
          <p:cNvSpPr/>
          <p:nvPr/>
        </p:nvSpPr>
        <p:spPr>
          <a:xfrm>
            <a:off x="1143720" y="1828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Řeš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Text Box 8"/>
          <p:cNvSpPr/>
          <p:nvPr/>
        </p:nvSpPr>
        <p:spPr>
          <a:xfrm>
            <a:off x="515520" y="22510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binomický rozvoj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-14400" y="4114800"/>
            <a:ext cx="910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vděpodobnost, že v rodině s 8 dětmi jsou tři dívky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0,23, tj. 23 %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2, 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Vypočítejte pravděpodobnost, se kterou se vyskytne určitý počet měsíců v roce hodnocených jako „ suché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kretiza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last Oxford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dobí 1851 – 1943, tj. 1116 měsíců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Suchý měsí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tj. méně srážek v měsíci než je dlouhodobý průměr tohoto měsí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617 měsíců  hodnocených jako such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499 – vlhké měsí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4"/>
          <p:cNvSpPr/>
          <p:nvPr/>
        </p:nvSpPr>
        <p:spPr>
          <a:xfrm>
            <a:off x="2041560" y="85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533520" y="838080"/>
          <a:ext cx="6553080" cy="238140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2057400"/>
                <a:gridCol w="19810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úspěch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úspěch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děpodobnost suchého měsí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děpodobnost vlhkého měsí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ch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lhk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= 617/11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= 0,5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9/11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4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(q = 1 – 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Rectangle 50"/>
          <p:cNvSpPr/>
          <p:nvPr/>
        </p:nvSpPr>
        <p:spPr>
          <a:xfrm>
            <a:off x="8001000" y="838080"/>
            <a:ext cx="11430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uchý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51"/>
          <p:cNvSpPr/>
          <p:nvPr/>
        </p:nvSpPr>
        <p:spPr>
          <a:xfrm>
            <a:off x="7010280" y="838080"/>
            <a:ext cx="9144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52"/>
          <p:cNvSpPr/>
          <p:nvPr/>
        </p:nvSpPr>
        <p:spPr>
          <a:xfrm>
            <a:off x="7010280" y="1676520"/>
            <a:ext cx="9144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 =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53"/>
          <p:cNvSpPr/>
          <p:nvPr/>
        </p:nvSpPr>
        <p:spPr>
          <a:xfrm>
            <a:off x="8001000" y="1676520"/>
            <a:ext cx="11430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=0 až 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Text Box 60"/>
          <p:cNvSpPr/>
          <p:nvPr/>
        </p:nvSpPr>
        <p:spPr>
          <a:xfrm>
            <a:off x="601200" y="3505320"/>
            <a:ext cx="434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Řešení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učně pomocí binomického rozvo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 podporou  např. 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Text Box 61"/>
          <p:cNvSpPr/>
          <p:nvPr/>
        </p:nvSpPr>
        <p:spPr>
          <a:xfrm>
            <a:off x="533520" y="4572000"/>
            <a:ext cx="8321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íme dílčí příklady, tj. jaká je pravděpodobnost,  že v roce se vyskyt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žádny suchý měsíc, tj- k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den suchý měsíc, tj. k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t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šechny měsíce suché, k= 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Text Box 63"/>
          <p:cNvSpPr/>
          <p:nvPr/>
        </p:nvSpPr>
        <p:spPr>
          <a:xfrm>
            <a:off x="746280" y="2430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1031" descr="C:\Documents and Settings\svatonova\Dokumenty\STATISTIKA\JARO_06\příklad_binom_mesice.bmp"/>
          <p:cNvPicPr/>
          <p:nvPr/>
        </p:nvPicPr>
        <p:blipFill>
          <a:blip r:embed="rId1"/>
          <a:stretch/>
        </p:blipFill>
        <p:spPr>
          <a:xfrm>
            <a:off x="0" y="1905120"/>
            <a:ext cx="6400800" cy="433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2" name="Object 2"/>
          <p:cNvGraphicFramePr/>
          <p:nvPr/>
        </p:nvGraphicFramePr>
        <p:xfrm>
          <a:off x="6300720" y="620640"/>
          <a:ext cx="2548080" cy="471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620640"/>
                    <a:ext cx="254808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Text Box 1034"/>
          <p:cNvSpPr/>
          <p:nvPr/>
        </p:nvSpPr>
        <p:spPr>
          <a:xfrm>
            <a:off x="751320" y="243000"/>
            <a:ext cx="1064520" cy="3988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Line 1035"/>
          <p:cNvSpPr/>
          <p:nvPr/>
        </p:nvSpPr>
        <p:spPr>
          <a:xfrm flipV="1">
            <a:off x="2286000" y="3047760"/>
            <a:ext cx="5562720" cy="2819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Line 1036"/>
          <p:cNvSpPr/>
          <p:nvPr/>
        </p:nvSpPr>
        <p:spPr>
          <a:xfrm>
            <a:off x="1828800" y="617220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Line 1037"/>
          <p:cNvSpPr/>
          <p:nvPr/>
        </p:nvSpPr>
        <p:spPr>
          <a:xfrm flipV="1">
            <a:off x="1676520" y="2971440"/>
            <a:ext cx="5562360" cy="685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49" name="Object 2"/>
          <p:cNvGraphicFramePr/>
          <p:nvPr/>
        </p:nvGraphicFramePr>
        <p:xfrm>
          <a:off x="4500720" y="260280"/>
          <a:ext cx="4389120" cy="21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60280"/>
                    <a:ext cx="438912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1" name="Picture 4" descr=""/>
          <p:cNvPicPr/>
          <p:nvPr/>
        </p:nvPicPr>
        <p:blipFill>
          <a:blip r:embed="rId3"/>
          <a:stretch/>
        </p:blipFill>
        <p:spPr>
          <a:xfrm>
            <a:off x="611280" y="2205000"/>
            <a:ext cx="6913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Jak bude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ypadat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 situace pro „vlhké“ měsíce?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53" name="Object 2"/>
          <p:cNvGraphicFramePr/>
          <p:nvPr/>
        </p:nvGraphicFramePr>
        <p:xfrm>
          <a:off x="1219320" y="762120"/>
          <a:ext cx="6858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6858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…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a co statistika „neumí“: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79280" y="2349360"/>
            <a:ext cx="82026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m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k dispozici adekvátn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číselné úda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má-l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k dispozici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ostatečně rozsáhlý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soubor přípa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ní-l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 datech přítomna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měnlivos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(variabilita)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38080" y="1371600"/>
            <a:ext cx="62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k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elháv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 pokud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isson - příkl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oissonovo rozděle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pro rozdělení vzácných přípa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zimní bouřka, výskyt mutace apod.).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-li pravděpodobnost nějaké výjimečné události (např. určité mutace genu) relativně malá a rozsah výběru poměrně velký, pak </a:t>
            </a:r>
            <a:r>
              <a:rPr b="0" lang="en-GB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oissonovo rozdělení v podstatě splývá s binomický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le je mnohem výhodnější pro počít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isson - příkl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ředpokládejme, že v určité populaci krys se vyskytuje albín s pravděpodobností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 = 0,001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, ostatní krysy jsou normálně pigmentované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 vzorku 100 krys náhodně vybraných z této populace určete pravděpodobnost, že vzor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)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) obsahuje právě jednoho albín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Řeše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62" name="Object 2"/>
          <p:cNvGraphicFramePr/>
          <p:nvPr/>
        </p:nvGraphicFramePr>
        <p:xfrm>
          <a:off x="2819520" y="1523880"/>
          <a:ext cx="601956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3880"/>
                    <a:ext cx="601956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4" name="Text Box 5"/>
          <p:cNvSpPr/>
          <p:nvPr/>
        </p:nvSpPr>
        <p:spPr>
          <a:xfrm>
            <a:off x="300240" y="5943600"/>
            <a:ext cx="65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avděpodobnost, že neobsahuje albína, je 90,47 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533520" y="990720"/>
            <a:ext cx="7391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čete pravděpodobnost, že vzor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67" name="Object 2"/>
          <p:cNvGraphicFramePr/>
          <p:nvPr/>
        </p:nvGraphicFramePr>
        <p:xfrm>
          <a:off x="2514600" y="1066680"/>
          <a:ext cx="66294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066680"/>
                    <a:ext cx="66294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Text Box 5"/>
          <p:cNvSpPr/>
          <p:nvPr/>
        </p:nvSpPr>
        <p:spPr>
          <a:xfrm>
            <a:off x="152280" y="57913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avděpodobnost,  že 100 členná  populace krys  bude obsahov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albína, je  9 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cc66"/>
                </a:solidFill>
                <a:latin typeface="Arial"/>
              </a:rPr>
              <a:t>Další rozdělení</a:t>
            </a:r>
            <a:br>
              <a:rPr sz="6000"/>
            </a:b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earsonova křivka III. typ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Na empirické rozdělení mnoha statistických souborů s nimiž v geografii pracujeme,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nelze aplikovat normální rozdělen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latí to například v těch případech, kdy studovaná náhodná veličina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nemá teoreticky zdůvodněnou možnost nabývat nekonečných hodno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nebo je-li omezena konečnými čísl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 takovýchto případech lze aplikovat na studovaný soubor některou ze dvanácti křivek Pearsonova systém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earsonova křivka III. typ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arsonova křivka III. ty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bvykle pro veličiny s omezeným množstvím hodnot, které může nabý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z křivky lze např. vyčíst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pravděpodobnost  se kterou bude hodnota sledovaného statistického znaku dosaž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hydrologii se počítá Pearsonova křivka ve variantě   součtová čára četností jak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zv.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čára překroč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  <a:ea typeface="Arial"/>
              </a:rPr>
              <a:t>Konstrukce čáry překročení z průměrných ročních průtoků vodního toku Lažánka za říjen 200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208"/>
          <p:cNvGrpSpPr/>
          <p:nvPr/>
        </p:nvGrpSpPr>
        <p:grpSpPr>
          <a:xfrm>
            <a:off x="0" y="1197000"/>
            <a:ext cx="8759880" cy="6172200"/>
            <a:chOff x="0" y="1197000"/>
            <a:chExt cx="8759880" cy="6172200"/>
          </a:xfrm>
        </p:grpSpPr>
        <p:grpSp>
          <p:nvGrpSpPr>
            <p:cNvPr id="778" name="Group 73"/>
            <p:cNvGrpSpPr/>
            <p:nvPr/>
          </p:nvGrpSpPr>
          <p:grpSpPr>
            <a:xfrm>
              <a:off x="0" y="1197000"/>
              <a:ext cx="1760760" cy="608400"/>
              <a:chOff x="0" y="1197000"/>
              <a:chExt cx="1760760" cy="608400"/>
            </a:xfrm>
          </p:grpSpPr>
          <p:sp>
            <p:nvSpPr>
              <p:cNvPr id="779" name="Rectangle 72"/>
              <p:cNvSpPr/>
              <p:nvPr/>
            </p:nvSpPr>
            <p:spPr>
              <a:xfrm>
                <a:off x="0" y="1197000"/>
                <a:ext cx="176076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Rectangle 4"/>
              <p:cNvSpPr/>
              <p:nvPr/>
            </p:nvSpPr>
            <p:spPr>
              <a:xfrm>
                <a:off x="208800" y="1197000"/>
                <a:ext cx="134244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Group 75"/>
            <p:cNvGrpSpPr/>
            <p:nvPr/>
          </p:nvGrpSpPr>
          <p:grpSpPr>
            <a:xfrm>
              <a:off x="1762200" y="1197000"/>
              <a:ext cx="2616120" cy="608400"/>
              <a:chOff x="1762200" y="1197000"/>
              <a:chExt cx="2616120" cy="608400"/>
            </a:xfrm>
          </p:grpSpPr>
          <p:sp>
            <p:nvSpPr>
              <p:cNvPr id="782" name="Rectangle 74"/>
              <p:cNvSpPr/>
              <p:nvPr/>
            </p:nvSpPr>
            <p:spPr>
              <a:xfrm>
                <a:off x="1762200" y="1197000"/>
                <a:ext cx="261612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Rectangle 5"/>
              <p:cNvSpPr/>
              <p:nvPr/>
            </p:nvSpPr>
            <p:spPr>
              <a:xfrm>
                <a:off x="1972800" y="1197000"/>
                <a:ext cx="21960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ůtok Qd (m3/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Group 77"/>
            <p:cNvGrpSpPr/>
            <p:nvPr/>
          </p:nvGrpSpPr>
          <p:grpSpPr>
            <a:xfrm>
              <a:off x="4379760" y="1197000"/>
              <a:ext cx="1762200" cy="608400"/>
              <a:chOff x="4379760" y="1197000"/>
              <a:chExt cx="1762200" cy="608400"/>
            </a:xfrm>
          </p:grpSpPr>
          <p:sp>
            <p:nvSpPr>
              <p:cNvPr id="785" name="Rectangle 76"/>
              <p:cNvSpPr/>
              <p:nvPr/>
            </p:nvSpPr>
            <p:spPr>
              <a:xfrm>
                <a:off x="4379760" y="1197000"/>
                <a:ext cx="17622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Rectangle 6"/>
              <p:cNvSpPr/>
              <p:nvPr/>
            </p:nvSpPr>
            <p:spPr>
              <a:xfrm>
                <a:off x="4590360" y="1197000"/>
                <a:ext cx="134064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Group 79"/>
            <p:cNvGrpSpPr/>
            <p:nvPr/>
          </p:nvGrpSpPr>
          <p:grpSpPr>
            <a:xfrm>
              <a:off x="6143760" y="1197000"/>
              <a:ext cx="2616120" cy="608400"/>
              <a:chOff x="6143760" y="1197000"/>
              <a:chExt cx="2616120" cy="608400"/>
            </a:xfrm>
          </p:grpSpPr>
          <p:sp>
            <p:nvSpPr>
              <p:cNvPr id="788" name="Rectangle 78"/>
              <p:cNvSpPr/>
              <p:nvPr/>
            </p:nvSpPr>
            <p:spPr>
              <a:xfrm>
                <a:off x="6143760" y="1197000"/>
                <a:ext cx="261612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Rectangle 7"/>
              <p:cNvSpPr/>
              <p:nvPr/>
            </p:nvSpPr>
            <p:spPr>
              <a:xfrm>
                <a:off x="6352560" y="1197000"/>
                <a:ext cx="21960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ůtok Qd (m3/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Group 81"/>
            <p:cNvGrpSpPr/>
            <p:nvPr/>
          </p:nvGrpSpPr>
          <p:grpSpPr>
            <a:xfrm>
              <a:off x="0" y="1805400"/>
              <a:ext cx="1760760" cy="347760"/>
              <a:chOff x="0" y="1805400"/>
              <a:chExt cx="1760760" cy="347760"/>
            </a:xfrm>
          </p:grpSpPr>
          <p:sp>
            <p:nvSpPr>
              <p:cNvPr id="791" name="Rectangle 8"/>
              <p:cNvSpPr/>
              <p:nvPr/>
            </p:nvSpPr>
            <p:spPr>
              <a:xfrm>
                <a:off x="208800" y="180540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Rectangle 80"/>
              <p:cNvSpPr/>
              <p:nvPr/>
            </p:nvSpPr>
            <p:spPr>
              <a:xfrm>
                <a:off x="0" y="180540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Group 83"/>
            <p:cNvGrpSpPr/>
            <p:nvPr/>
          </p:nvGrpSpPr>
          <p:grpSpPr>
            <a:xfrm>
              <a:off x="1762200" y="1805400"/>
              <a:ext cx="2616120" cy="347760"/>
              <a:chOff x="1762200" y="1805400"/>
              <a:chExt cx="2616120" cy="347760"/>
            </a:xfrm>
          </p:grpSpPr>
          <p:sp>
            <p:nvSpPr>
              <p:cNvPr id="794" name="Rectangle 9"/>
              <p:cNvSpPr/>
              <p:nvPr/>
            </p:nvSpPr>
            <p:spPr>
              <a:xfrm>
                <a:off x="1972800" y="18054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9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Rectangle 82"/>
              <p:cNvSpPr/>
              <p:nvPr/>
            </p:nvSpPr>
            <p:spPr>
              <a:xfrm>
                <a:off x="1762200" y="18054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Group 85"/>
            <p:cNvGrpSpPr/>
            <p:nvPr/>
          </p:nvGrpSpPr>
          <p:grpSpPr>
            <a:xfrm>
              <a:off x="4379760" y="1805400"/>
              <a:ext cx="1762200" cy="347760"/>
              <a:chOff x="4379760" y="1805400"/>
              <a:chExt cx="1762200" cy="347760"/>
            </a:xfrm>
          </p:grpSpPr>
          <p:sp>
            <p:nvSpPr>
              <p:cNvPr id="797" name="Rectangle 10"/>
              <p:cNvSpPr/>
              <p:nvPr/>
            </p:nvSpPr>
            <p:spPr>
              <a:xfrm>
                <a:off x="4590360" y="180540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Rectangle 84"/>
              <p:cNvSpPr/>
              <p:nvPr/>
            </p:nvSpPr>
            <p:spPr>
              <a:xfrm>
                <a:off x="4379760" y="180540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Group 87"/>
            <p:cNvGrpSpPr/>
            <p:nvPr/>
          </p:nvGrpSpPr>
          <p:grpSpPr>
            <a:xfrm>
              <a:off x="6143760" y="1805400"/>
              <a:ext cx="2616120" cy="347760"/>
              <a:chOff x="6143760" y="1805400"/>
              <a:chExt cx="2616120" cy="347760"/>
            </a:xfrm>
          </p:grpSpPr>
          <p:sp>
            <p:nvSpPr>
              <p:cNvPr id="800" name="Rectangle 11"/>
              <p:cNvSpPr/>
              <p:nvPr/>
            </p:nvSpPr>
            <p:spPr>
              <a:xfrm>
                <a:off x="6352560" y="18054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9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Rectangle 86"/>
              <p:cNvSpPr/>
              <p:nvPr/>
            </p:nvSpPr>
            <p:spPr>
              <a:xfrm>
                <a:off x="6143760" y="18054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Group 89"/>
            <p:cNvGrpSpPr/>
            <p:nvPr/>
          </p:nvGrpSpPr>
          <p:grpSpPr>
            <a:xfrm>
              <a:off x="0" y="2153160"/>
              <a:ext cx="1760760" cy="347400"/>
              <a:chOff x="0" y="2153160"/>
              <a:chExt cx="1760760" cy="347400"/>
            </a:xfrm>
          </p:grpSpPr>
          <p:sp>
            <p:nvSpPr>
              <p:cNvPr id="803" name="Rectangle 12"/>
              <p:cNvSpPr/>
              <p:nvPr/>
            </p:nvSpPr>
            <p:spPr>
              <a:xfrm>
                <a:off x="208800" y="215316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Rectangle 88"/>
              <p:cNvSpPr/>
              <p:nvPr/>
            </p:nvSpPr>
            <p:spPr>
              <a:xfrm>
                <a:off x="0" y="215316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Group 91"/>
            <p:cNvGrpSpPr/>
            <p:nvPr/>
          </p:nvGrpSpPr>
          <p:grpSpPr>
            <a:xfrm>
              <a:off x="1762200" y="2153160"/>
              <a:ext cx="2616120" cy="347400"/>
              <a:chOff x="1762200" y="2153160"/>
              <a:chExt cx="2616120" cy="347400"/>
            </a:xfrm>
          </p:grpSpPr>
          <p:sp>
            <p:nvSpPr>
              <p:cNvPr id="806" name="Rectangle 13"/>
              <p:cNvSpPr/>
              <p:nvPr/>
            </p:nvSpPr>
            <p:spPr>
              <a:xfrm>
                <a:off x="1972800" y="215316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8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Rectangle 90"/>
              <p:cNvSpPr/>
              <p:nvPr/>
            </p:nvSpPr>
            <p:spPr>
              <a:xfrm>
                <a:off x="1762200" y="215316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Group 93"/>
            <p:cNvGrpSpPr/>
            <p:nvPr/>
          </p:nvGrpSpPr>
          <p:grpSpPr>
            <a:xfrm>
              <a:off x="4379760" y="2153160"/>
              <a:ext cx="1762200" cy="347400"/>
              <a:chOff x="4379760" y="2153160"/>
              <a:chExt cx="1762200" cy="347400"/>
            </a:xfrm>
          </p:grpSpPr>
          <p:sp>
            <p:nvSpPr>
              <p:cNvPr id="809" name="Rectangle 14"/>
              <p:cNvSpPr/>
              <p:nvPr/>
            </p:nvSpPr>
            <p:spPr>
              <a:xfrm>
                <a:off x="4590360" y="215316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Rectangle 92"/>
              <p:cNvSpPr/>
              <p:nvPr/>
            </p:nvSpPr>
            <p:spPr>
              <a:xfrm>
                <a:off x="4379760" y="215316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Group 95"/>
            <p:cNvGrpSpPr/>
            <p:nvPr/>
          </p:nvGrpSpPr>
          <p:grpSpPr>
            <a:xfrm>
              <a:off x="6143760" y="2153160"/>
              <a:ext cx="2616120" cy="347400"/>
              <a:chOff x="6143760" y="2153160"/>
              <a:chExt cx="2616120" cy="347400"/>
            </a:xfrm>
          </p:grpSpPr>
          <p:sp>
            <p:nvSpPr>
              <p:cNvPr id="812" name="Rectangle 15"/>
              <p:cNvSpPr/>
              <p:nvPr/>
            </p:nvSpPr>
            <p:spPr>
              <a:xfrm>
                <a:off x="6352560" y="215316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6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Rectangle 94"/>
              <p:cNvSpPr/>
              <p:nvPr/>
            </p:nvSpPr>
            <p:spPr>
              <a:xfrm>
                <a:off x="6143760" y="215316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Group 97"/>
            <p:cNvGrpSpPr/>
            <p:nvPr/>
          </p:nvGrpSpPr>
          <p:grpSpPr>
            <a:xfrm>
              <a:off x="0" y="2500920"/>
              <a:ext cx="1760760" cy="347400"/>
              <a:chOff x="0" y="2500920"/>
              <a:chExt cx="1760760" cy="347400"/>
            </a:xfrm>
          </p:grpSpPr>
          <p:sp>
            <p:nvSpPr>
              <p:cNvPr id="815" name="Rectangle 16"/>
              <p:cNvSpPr/>
              <p:nvPr/>
            </p:nvSpPr>
            <p:spPr>
              <a:xfrm>
                <a:off x="208800" y="25009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Rectangle 96"/>
              <p:cNvSpPr/>
              <p:nvPr/>
            </p:nvSpPr>
            <p:spPr>
              <a:xfrm>
                <a:off x="0" y="25009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Group 99"/>
            <p:cNvGrpSpPr/>
            <p:nvPr/>
          </p:nvGrpSpPr>
          <p:grpSpPr>
            <a:xfrm>
              <a:off x="1762200" y="2500920"/>
              <a:ext cx="2616120" cy="347400"/>
              <a:chOff x="1762200" y="2500920"/>
              <a:chExt cx="2616120" cy="347400"/>
            </a:xfrm>
          </p:grpSpPr>
          <p:sp>
            <p:nvSpPr>
              <p:cNvPr id="818" name="Rectangle 17"/>
              <p:cNvSpPr/>
              <p:nvPr/>
            </p:nvSpPr>
            <p:spPr>
              <a:xfrm>
                <a:off x="1972800" y="2500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7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Rectangle 98"/>
              <p:cNvSpPr/>
              <p:nvPr/>
            </p:nvSpPr>
            <p:spPr>
              <a:xfrm>
                <a:off x="1762200" y="2500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101"/>
            <p:cNvGrpSpPr/>
            <p:nvPr/>
          </p:nvGrpSpPr>
          <p:grpSpPr>
            <a:xfrm>
              <a:off x="4379760" y="2500920"/>
              <a:ext cx="1762200" cy="347400"/>
              <a:chOff x="4379760" y="2500920"/>
              <a:chExt cx="1762200" cy="347400"/>
            </a:xfrm>
          </p:grpSpPr>
          <p:sp>
            <p:nvSpPr>
              <p:cNvPr id="821" name="Rectangle 18"/>
              <p:cNvSpPr/>
              <p:nvPr/>
            </p:nvSpPr>
            <p:spPr>
              <a:xfrm>
                <a:off x="4590360" y="25009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Rectangle 100"/>
              <p:cNvSpPr/>
              <p:nvPr/>
            </p:nvSpPr>
            <p:spPr>
              <a:xfrm>
                <a:off x="4379760" y="25009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103"/>
            <p:cNvGrpSpPr/>
            <p:nvPr/>
          </p:nvGrpSpPr>
          <p:grpSpPr>
            <a:xfrm>
              <a:off x="6143760" y="2500920"/>
              <a:ext cx="2616120" cy="347400"/>
              <a:chOff x="6143760" y="2500920"/>
              <a:chExt cx="2616120" cy="347400"/>
            </a:xfrm>
          </p:grpSpPr>
          <p:sp>
            <p:nvSpPr>
              <p:cNvPr id="824" name="Rectangle 19"/>
              <p:cNvSpPr/>
              <p:nvPr/>
            </p:nvSpPr>
            <p:spPr>
              <a:xfrm>
                <a:off x="6352560" y="2500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Rectangle 102"/>
              <p:cNvSpPr/>
              <p:nvPr/>
            </p:nvSpPr>
            <p:spPr>
              <a:xfrm>
                <a:off x="6143760" y="2500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105"/>
            <p:cNvGrpSpPr/>
            <p:nvPr/>
          </p:nvGrpSpPr>
          <p:grpSpPr>
            <a:xfrm>
              <a:off x="0" y="2848320"/>
              <a:ext cx="1760760" cy="347760"/>
              <a:chOff x="0" y="2848320"/>
              <a:chExt cx="1760760" cy="347760"/>
            </a:xfrm>
          </p:grpSpPr>
          <p:sp>
            <p:nvSpPr>
              <p:cNvPr id="827" name="Rectangle 20"/>
              <p:cNvSpPr/>
              <p:nvPr/>
            </p:nvSpPr>
            <p:spPr>
              <a:xfrm>
                <a:off x="208800" y="284832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Rectangle 104"/>
              <p:cNvSpPr/>
              <p:nvPr/>
            </p:nvSpPr>
            <p:spPr>
              <a:xfrm>
                <a:off x="0" y="284832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107"/>
            <p:cNvGrpSpPr/>
            <p:nvPr/>
          </p:nvGrpSpPr>
          <p:grpSpPr>
            <a:xfrm>
              <a:off x="1762200" y="2848320"/>
              <a:ext cx="2616120" cy="347760"/>
              <a:chOff x="1762200" y="2848320"/>
              <a:chExt cx="2616120" cy="347760"/>
            </a:xfrm>
          </p:grpSpPr>
          <p:sp>
            <p:nvSpPr>
              <p:cNvPr id="830" name="Rectangle 21"/>
              <p:cNvSpPr/>
              <p:nvPr/>
            </p:nvSpPr>
            <p:spPr>
              <a:xfrm>
                <a:off x="1972800" y="284832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Rectangle 106"/>
              <p:cNvSpPr/>
              <p:nvPr/>
            </p:nvSpPr>
            <p:spPr>
              <a:xfrm>
                <a:off x="1762200" y="284832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109"/>
            <p:cNvGrpSpPr/>
            <p:nvPr/>
          </p:nvGrpSpPr>
          <p:grpSpPr>
            <a:xfrm>
              <a:off x="4379760" y="2848320"/>
              <a:ext cx="1762200" cy="347760"/>
              <a:chOff x="4379760" y="2848320"/>
              <a:chExt cx="1762200" cy="347760"/>
            </a:xfrm>
          </p:grpSpPr>
          <p:sp>
            <p:nvSpPr>
              <p:cNvPr id="833" name="Rectangle 22"/>
              <p:cNvSpPr/>
              <p:nvPr/>
            </p:nvSpPr>
            <p:spPr>
              <a:xfrm>
                <a:off x="4590360" y="284832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Rectangle 108"/>
              <p:cNvSpPr/>
              <p:nvPr/>
            </p:nvSpPr>
            <p:spPr>
              <a:xfrm>
                <a:off x="4379760" y="284832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111"/>
            <p:cNvGrpSpPr/>
            <p:nvPr/>
          </p:nvGrpSpPr>
          <p:grpSpPr>
            <a:xfrm>
              <a:off x="6143760" y="2848320"/>
              <a:ext cx="2616120" cy="347760"/>
              <a:chOff x="6143760" y="2848320"/>
              <a:chExt cx="2616120" cy="347760"/>
            </a:xfrm>
          </p:grpSpPr>
          <p:sp>
            <p:nvSpPr>
              <p:cNvPr id="836" name="Rectangle 23"/>
              <p:cNvSpPr/>
              <p:nvPr/>
            </p:nvSpPr>
            <p:spPr>
              <a:xfrm>
                <a:off x="6352560" y="284832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,7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Rectangle 110"/>
              <p:cNvSpPr/>
              <p:nvPr/>
            </p:nvSpPr>
            <p:spPr>
              <a:xfrm>
                <a:off x="6143760" y="284832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Group 113"/>
            <p:cNvGrpSpPr/>
            <p:nvPr/>
          </p:nvGrpSpPr>
          <p:grpSpPr>
            <a:xfrm>
              <a:off x="0" y="3196440"/>
              <a:ext cx="1760760" cy="347400"/>
              <a:chOff x="0" y="3196440"/>
              <a:chExt cx="1760760" cy="347400"/>
            </a:xfrm>
          </p:grpSpPr>
          <p:sp>
            <p:nvSpPr>
              <p:cNvPr id="839" name="Rectangle 24"/>
              <p:cNvSpPr/>
              <p:nvPr/>
            </p:nvSpPr>
            <p:spPr>
              <a:xfrm>
                <a:off x="208800" y="319644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Rectangle 112"/>
              <p:cNvSpPr/>
              <p:nvPr/>
            </p:nvSpPr>
            <p:spPr>
              <a:xfrm>
                <a:off x="0" y="319644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Group 115"/>
            <p:cNvGrpSpPr/>
            <p:nvPr/>
          </p:nvGrpSpPr>
          <p:grpSpPr>
            <a:xfrm>
              <a:off x="1762200" y="3196440"/>
              <a:ext cx="2616120" cy="347400"/>
              <a:chOff x="1762200" y="3196440"/>
              <a:chExt cx="2616120" cy="347400"/>
            </a:xfrm>
          </p:grpSpPr>
          <p:sp>
            <p:nvSpPr>
              <p:cNvPr id="842" name="Rectangle 25"/>
              <p:cNvSpPr/>
              <p:nvPr/>
            </p:nvSpPr>
            <p:spPr>
              <a:xfrm>
                <a:off x="1972800" y="31964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Rectangle 114"/>
              <p:cNvSpPr/>
              <p:nvPr/>
            </p:nvSpPr>
            <p:spPr>
              <a:xfrm>
                <a:off x="1762200" y="31964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Group 117"/>
            <p:cNvGrpSpPr/>
            <p:nvPr/>
          </p:nvGrpSpPr>
          <p:grpSpPr>
            <a:xfrm>
              <a:off x="4379760" y="3196440"/>
              <a:ext cx="1762200" cy="347400"/>
              <a:chOff x="4379760" y="3196440"/>
              <a:chExt cx="1762200" cy="347400"/>
            </a:xfrm>
          </p:grpSpPr>
          <p:sp>
            <p:nvSpPr>
              <p:cNvPr id="845" name="Rectangle 26"/>
              <p:cNvSpPr/>
              <p:nvPr/>
            </p:nvSpPr>
            <p:spPr>
              <a:xfrm>
                <a:off x="4590360" y="319644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Rectangle 116"/>
              <p:cNvSpPr/>
              <p:nvPr/>
            </p:nvSpPr>
            <p:spPr>
              <a:xfrm>
                <a:off x="4379760" y="319644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Group 119"/>
            <p:cNvGrpSpPr/>
            <p:nvPr/>
          </p:nvGrpSpPr>
          <p:grpSpPr>
            <a:xfrm>
              <a:off x="6143760" y="3196440"/>
              <a:ext cx="2616120" cy="347400"/>
              <a:chOff x="6143760" y="3196440"/>
              <a:chExt cx="2616120" cy="347400"/>
            </a:xfrm>
          </p:grpSpPr>
          <p:sp>
            <p:nvSpPr>
              <p:cNvPr id="848" name="Rectangle 27"/>
              <p:cNvSpPr/>
              <p:nvPr/>
            </p:nvSpPr>
            <p:spPr>
              <a:xfrm>
                <a:off x="6352560" y="31964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3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Rectangle 118"/>
              <p:cNvSpPr/>
              <p:nvPr/>
            </p:nvSpPr>
            <p:spPr>
              <a:xfrm>
                <a:off x="6143760" y="31964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21"/>
            <p:cNvGrpSpPr/>
            <p:nvPr/>
          </p:nvGrpSpPr>
          <p:grpSpPr>
            <a:xfrm>
              <a:off x="0" y="3544200"/>
              <a:ext cx="1760760" cy="347400"/>
              <a:chOff x="0" y="3544200"/>
              <a:chExt cx="1760760" cy="347400"/>
            </a:xfrm>
          </p:grpSpPr>
          <p:sp>
            <p:nvSpPr>
              <p:cNvPr id="851" name="Rectangle 28"/>
              <p:cNvSpPr/>
              <p:nvPr/>
            </p:nvSpPr>
            <p:spPr>
              <a:xfrm>
                <a:off x="208800" y="354420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Rectangle 120"/>
              <p:cNvSpPr/>
              <p:nvPr/>
            </p:nvSpPr>
            <p:spPr>
              <a:xfrm>
                <a:off x="0" y="354420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Group 123"/>
            <p:cNvGrpSpPr/>
            <p:nvPr/>
          </p:nvGrpSpPr>
          <p:grpSpPr>
            <a:xfrm>
              <a:off x="1762200" y="3544200"/>
              <a:ext cx="2616120" cy="347400"/>
              <a:chOff x="1762200" y="3544200"/>
              <a:chExt cx="2616120" cy="347400"/>
            </a:xfrm>
          </p:grpSpPr>
          <p:sp>
            <p:nvSpPr>
              <p:cNvPr id="854" name="Rectangle 29"/>
              <p:cNvSpPr/>
              <p:nvPr/>
            </p:nvSpPr>
            <p:spPr>
              <a:xfrm>
                <a:off x="1972800" y="35442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Rectangle 122"/>
              <p:cNvSpPr/>
              <p:nvPr/>
            </p:nvSpPr>
            <p:spPr>
              <a:xfrm>
                <a:off x="1762200" y="35442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Group 125"/>
            <p:cNvGrpSpPr/>
            <p:nvPr/>
          </p:nvGrpSpPr>
          <p:grpSpPr>
            <a:xfrm>
              <a:off x="4379760" y="3544200"/>
              <a:ext cx="1762200" cy="347400"/>
              <a:chOff x="4379760" y="3544200"/>
              <a:chExt cx="1762200" cy="347400"/>
            </a:xfrm>
          </p:grpSpPr>
          <p:sp>
            <p:nvSpPr>
              <p:cNvPr id="857" name="Rectangle 30"/>
              <p:cNvSpPr/>
              <p:nvPr/>
            </p:nvSpPr>
            <p:spPr>
              <a:xfrm>
                <a:off x="4590360" y="354420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Rectangle 124"/>
              <p:cNvSpPr/>
              <p:nvPr/>
            </p:nvSpPr>
            <p:spPr>
              <a:xfrm>
                <a:off x="4379760" y="354420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Group 127"/>
            <p:cNvGrpSpPr/>
            <p:nvPr/>
          </p:nvGrpSpPr>
          <p:grpSpPr>
            <a:xfrm>
              <a:off x="6143760" y="3544200"/>
              <a:ext cx="2616120" cy="347400"/>
              <a:chOff x="6143760" y="3544200"/>
              <a:chExt cx="2616120" cy="347400"/>
            </a:xfrm>
          </p:grpSpPr>
          <p:sp>
            <p:nvSpPr>
              <p:cNvPr id="860" name="Rectangle 31"/>
              <p:cNvSpPr/>
              <p:nvPr/>
            </p:nvSpPr>
            <p:spPr>
              <a:xfrm>
                <a:off x="6352560" y="35442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4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Rectangle 126"/>
              <p:cNvSpPr/>
              <p:nvPr/>
            </p:nvSpPr>
            <p:spPr>
              <a:xfrm>
                <a:off x="6143760" y="35442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Group 129"/>
            <p:cNvGrpSpPr/>
            <p:nvPr/>
          </p:nvGrpSpPr>
          <p:grpSpPr>
            <a:xfrm>
              <a:off x="0" y="3891600"/>
              <a:ext cx="1760760" cy="347760"/>
              <a:chOff x="0" y="3891600"/>
              <a:chExt cx="1760760" cy="347760"/>
            </a:xfrm>
          </p:grpSpPr>
          <p:sp>
            <p:nvSpPr>
              <p:cNvPr id="863" name="Rectangle 32"/>
              <p:cNvSpPr/>
              <p:nvPr/>
            </p:nvSpPr>
            <p:spPr>
              <a:xfrm>
                <a:off x="208800" y="389160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Rectangle 128"/>
              <p:cNvSpPr/>
              <p:nvPr/>
            </p:nvSpPr>
            <p:spPr>
              <a:xfrm>
                <a:off x="0" y="389160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Group 131"/>
            <p:cNvGrpSpPr/>
            <p:nvPr/>
          </p:nvGrpSpPr>
          <p:grpSpPr>
            <a:xfrm>
              <a:off x="1762200" y="3891600"/>
              <a:ext cx="2616120" cy="347760"/>
              <a:chOff x="1762200" y="3891600"/>
              <a:chExt cx="2616120" cy="347760"/>
            </a:xfrm>
          </p:grpSpPr>
          <p:sp>
            <p:nvSpPr>
              <p:cNvPr id="866" name="Rectangle 33"/>
              <p:cNvSpPr/>
              <p:nvPr/>
            </p:nvSpPr>
            <p:spPr>
              <a:xfrm>
                <a:off x="1972800" y="38916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,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Rectangle 130"/>
              <p:cNvSpPr/>
              <p:nvPr/>
            </p:nvSpPr>
            <p:spPr>
              <a:xfrm>
                <a:off x="1762200" y="38916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Group 133"/>
            <p:cNvGrpSpPr/>
            <p:nvPr/>
          </p:nvGrpSpPr>
          <p:grpSpPr>
            <a:xfrm>
              <a:off x="4379760" y="3891600"/>
              <a:ext cx="1762200" cy="347760"/>
              <a:chOff x="4379760" y="3891600"/>
              <a:chExt cx="1762200" cy="347760"/>
            </a:xfrm>
          </p:grpSpPr>
          <p:sp>
            <p:nvSpPr>
              <p:cNvPr id="869" name="Rectangle 34"/>
              <p:cNvSpPr/>
              <p:nvPr/>
            </p:nvSpPr>
            <p:spPr>
              <a:xfrm>
                <a:off x="4590360" y="389160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Rectangle 132"/>
              <p:cNvSpPr/>
              <p:nvPr/>
            </p:nvSpPr>
            <p:spPr>
              <a:xfrm>
                <a:off x="4379760" y="389160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Group 135"/>
            <p:cNvGrpSpPr/>
            <p:nvPr/>
          </p:nvGrpSpPr>
          <p:grpSpPr>
            <a:xfrm>
              <a:off x="6143760" y="3891600"/>
              <a:ext cx="2616120" cy="347760"/>
              <a:chOff x="6143760" y="3891600"/>
              <a:chExt cx="2616120" cy="347760"/>
            </a:xfrm>
          </p:grpSpPr>
          <p:sp>
            <p:nvSpPr>
              <p:cNvPr id="872" name="Rectangle 35"/>
              <p:cNvSpPr/>
              <p:nvPr/>
            </p:nvSpPr>
            <p:spPr>
              <a:xfrm>
                <a:off x="6352560" y="38916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8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Rectangle 134"/>
              <p:cNvSpPr/>
              <p:nvPr/>
            </p:nvSpPr>
            <p:spPr>
              <a:xfrm>
                <a:off x="6143760" y="38916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Group 137"/>
            <p:cNvGrpSpPr/>
            <p:nvPr/>
          </p:nvGrpSpPr>
          <p:grpSpPr>
            <a:xfrm>
              <a:off x="0" y="4239720"/>
              <a:ext cx="1760760" cy="347400"/>
              <a:chOff x="0" y="4239720"/>
              <a:chExt cx="1760760" cy="347400"/>
            </a:xfrm>
          </p:grpSpPr>
          <p:sp>
            <p:nvSpPr>
              <p:cNvPr id="875" name="Rectangle 36"/>
              <p:cNvSpPr/>
              <p:nvPr/>
            </p:nvSpPr>
            <p:spPr>
              <a:xfrm>
                <a:off x="208800" y="42397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Rectangle 136"/>
              <p:cNvSpPr/>
              <p:nvPr/>
            </p:nvSpPr>
            <p:spPr>
              <a:xfrm>
                <a:off x="0" y="42397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139"/>
            <p:cNvGrpSpPr/>
            <p:nvPr/>
          </p:nvGrpSpPr>
          <p:grpSpPr>
            <a:xfrm>
              <a:off x="1762200" y="4239720"/>
              <a:ext cx="2616120" cy="347400"/>
              <a:chOff x="1762200" y="4239720"/>
              <a:chExt cx="2616120" cy="347400"/>
            </a:xfrm>
          </p:grpSpPr>
          <p:sp>
            <p:nvSpPr>
              <p:cNvPr id="878" name="Rectangle 37"/>
              <p:cNvSpPr/>
              <p:nvPr/>
            </p:nvSpPr>
            <p:spPr>
              <a:xfrm>
                <a:off x="1972800" y="42397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8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Rectangle 138"/>
              <p:cNvSpPr/>
              <p:nvPr/>
            </p:nvSpPr>
            <p:spPr>
              <a:xfrm>
                <a:off x="1762200" y="42397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141"/>
            <p:cNvGrpSpPr/>
            <p:nvPr/>
          </p:nvGrpSpPr>
          <p:grpSpPr>
            <a:xfrm>
              <a:off x="4379760" y="4239720"/>
              <a:ext cx="1762200" cy="347400"/>
              <a:chOff x="4379760" y="4239720"/>
              <a:chExt cx="1762200" cy="347400"/>
            </a:xfrm>
          </p:grpSpPr>
          <p:sp>
            <p:nvSpPr>
              <p:cNvPr id="881" name="Rectangle 38"/>
              <p:cNvSpPr/>
              <p:nvPr/>
            </p:nvSpPr>
            <p:spPr>
              <a:xfrm>
                <a:off x="4590360" y="42397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Rectangle 140"/>
              <p:cNvSpPr/>
              <p:nvPr/>
            </p:nvSpPr>
            <p:spPr>
              <a:xfrm>
                <a:off x="4379760" y="42397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Group 143"/>
            <p:cNvGrpSpPr/>
            <p:nvPr/>
          </p:nvGrpSpPr>
          <p:grpSpPr>
            <a:xfrm>
              <a:off x="6143760" y="4239720"/>
              <a:ext cx="2616120" cy="347400"/>
              <a:chOff x="6143760" y="4239720"/>
              <a:chExt cx="2616120" cy="347400"/>
            </a:xfrm>
          </p:grpSpPr>
          <p:sp>
            <p:nvSpPr>
              <p:cNvPr id="884" name="Rectangle 39"/>
              <p:cNvSpPr/>
              <p:nvPr/>
            </p:nvSpPr>
            <p:spPr>
              <a:xfrm>
                <a:off x="6352560" y="42397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4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Rectangle 142"/>
              <p:cNvSpPr/>
              <p:nvPr/>
            </p:nvSpPr>
            <p:spPr>
              <a:xfrm>
                <a:off x="6143760" y="42397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145"/>
            <p:cNvGrpSpPr/>
            <p:nvPr/>
          </p:nvGrpSpPr>
          <p:grpSpPr>
            <a:xfrm>
              <a:off x="0" y="4587120"/>
              <a:ext cx="1760760" cy="347400"/>
              <a:chOff x="0" y="4587120"/>
              <a:chExt cx="1760760" cy="347400"/>
            </a:xfrm>
          </p:grpSpPr>
          <p:sp>
            <p:nvSpPr>
              <p:cNvPr id="887" name="Rectangle 40"/>
              <p:cNvSpPr/>
              <p:nvPr/>
            </p:nvSpPr>
            <p:spPr>
              <a:xfrm>
                <a:off x="208800" y="45871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Rectangle 144"/>
              <p:cNvSpPr/>
              <p:nvPr/>
            </p:nvSpPr>
            <p:spPr>
              <a:xfrm>
                <a:off x="0" y="45871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Group 147"/>
            <p:cNvGrpSpPr/>
            <p:nvPr/>
          </p:nvGrpSpPr>
          <p:grpSpPr>
            <a:xfrm>
              <a:off x="1762200" y="4587120"/>
              <a:ext cx="2616120" cy="347400"/>
              <a:chOff x="1762200" y="4587120"/>
              <a:chExt cx="2616120" cy="347400"/>
            </a:xfrm>
          </p:grpSpPr>
          <p:sp>
            <p:nvSpPr>
              <p:cNvPr id="890" name="Rectangle 41"/>
              <p:cNvSpPr/>
              <p:nvPr/>
            </p:nvSpPr>
            <p:spPr>
              <a:xfrm>
                <a:off x="1972800" y="45871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Rectangle 146"/>
              <p:cNvSpPr/>
              <p:nvPr/>
            </p:nvSpPr>
            <p:spPr>
              <a:xfrm>
                <a:off x="1762200" y="45871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Group 149"/>
            <p:cNvGrpSpPr/>
            <p:nvPr/>
          </p:nvGrpSpPr>
          <p:grpSpPr>
            <a:xfrm>
              <a:off x="4379760" y="4587120"/>
              <a:ext cx="1762200" cy="347400"/>
              <a:chOff x="4379760" y="4587120"/>
              <a:chExt cx="1762200" cy="347400"/>
            </a:xfrm>
          </p:grpSpPr>
          <p:sp>
            <p:nvSpPr>
              <p:cNvPr id="893" name="Rectangle 42"/>
              <p:cNvSpPr/>
              <p:nvPr/>
            </p:nvSpPr>
            <p:spPr>
              <a:xfrm>
                <a:off x="4590360" y="45871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Rectangle 148"/>
              <p:cNvSpPr/>
              <p:nvPr/>
            </p:nvSpPr>
            <p:spPr>
              <a:xfrm>
                <a:off x="4379760" y="45871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Group 151"/>
            <p:cNvGrpSpPr/>
            <p:nvPr/>
          </p:nvGrpSpPr>
          <p:grpSpPr>
            <a:xfrm>
              <a:off x="6143760" y="4587120"/>
              <a:ext cx="2616120" cy="347400"/>
              <a:chOff x="6143760" y="4587120"/>
              <a:chExt cx="2616120" cy="347400"/>
            </a:xfrm>
          </p:grpSpPr>
          <p:sp>
            <p:nvSpPr>
              <p:cNvPr id="896" name="Rectangle 43"/>
              <p:cNvSpPr/>
              <p:nvPr/>
            </p:nvSpPr>
            <p:spPr>
              <a:xfrm>
                <a:off x="6352560" y="45871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3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Rectangle 150"/>
              <p:cNvSpPr/>
              <p:nvPr/>
            </p:nvSpPr>
            <p:spPr>
              <a:xfrm>
                <a:off x="6143760" y="45871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Group 153"/>
            <p:cNvGrpSpPr/>
            <p:nvPr/>
          </p:nvGrpSpPr>
          <p:grpSpPr>
            <a:xfrm>
              <a:off x="0" y="4934880"/>
              <a:ext cx="1760760" cy="347760"/>
              <a:chOff x="0" y="4934880"/>
              <a:chExt cx="1760760" cy="347760"/>
            </a:xfrm>
          </p:grpSpPr>
          <p:sp>
            <p:nvSpPr>
              <p:cNvPr id="899" name="Rectangle 44"/>
              <p:cNvSpPr/>
              <p:nvPr/>
            </p:nvSpPr>
            <p:spPr>
              <a:xfrm>
                <a:off x="208800" y="493488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Rectangle 152"/>
              <p:cNvSpPr/>
              <p:nvPr/>
            </p:nvSpPr>
            <p:spPr>
              <a:xfrm>
                <a:off x="0" y="493488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Group 155"/>
            <p:cNvGrpSpPr/>
            <p:nvPr/>
          </p:nvGrpSpPr>
          <p:grpSpPr>
            <a:xfrm>
              <a:off x="1762200" y="4934880"/>
              <a:ext cx="2616120" cy="347760"/>
              <a:chOff x="1762200" y="4934880"/>
              <a:chExt cx="2616120" cy="347760"/>
            </a:xfrm>
          </p:grpSpPr>
          <p:sp>
            <p:nvSpPr>
              <p:cNvPr id="902" name="Rectangle 45"/>
              <p:cNvSpPr/>
              <p:nvPr/>
            </p:nvSpPr>
            <p:spPr>
              <a:xfrm>
                <a:off x="1972800" y="493488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Rectangle 154"/>
              <p:cNvSpPr/>
              <p:nvPr/>
            </p:nvSpPr>
            <p:spPr>
              <a:xfrm>
                <a:off x="1762200" y="493488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Group 157"/>
            <p:cNvGrpSpPr/>
            <p:nvPr/>
          </p:nvGrpSpPr>
          <p:grpSpPr>
            <a:xfrm>
              <a:off x="4379760" y="4934880"/>
              <a:ext cx="1762200" cy="347760"/>
              <a:chOff x="4379760" y="4934880"/>
              <a:chExt cx="1762200" cy="347760"/>
            </a:xfrm>
          </p:grpSpPr>
          <p:sp>
            <p:nvSpPr>
              <p:cNvPr id="905" name="Rectangle 46"/>
              <p:cNvSpPr/>
              <p:nvPr/>
            </p:nvSpPr>
            <p:spPr>
              <a:xfrm>
                <a:off x="4590360" y="493488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Rectangle 156"/>
              <p:cNvSpPr/>
              <p:nvPr/>
            </p:nvSpPr>
            <p:spPr>
              <a:xfrm>
                <a:off x="4379760" y="493488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Group 159"/>
            <p:cNvGrpSpPr/>
            <p:nvPr/>
          </p:nvGrpSpPr>
          <p:grpSpPr>
            <a:xfrm>
              <a:off x="6143760" y="4934880"/>
              <a:ext cx="2616120" cy="347760"/>
              <a:chOff x="6143760" y="4934880"/>
              <a:chExt cx="2616120" cy="347760"/>
            </a:xfrm>
          </p:grpSpPr>
          <p:sp>
            <p:nvSpPr>
              <p:cNvPr id="908" name="Rectangle 47"/>
              <p:cNvSpPr/>
              <p:nvPr/>
            </p:nvSpPr>
            <p:spPr>
              <a:xfrm>
                <a:off x="6352560" y="493488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Rectangle 158"/>
              <p:cNvSpPr/>
              <p:nvPr/>
            </p:nvSpPr>
            <p:spPr>
              <a:xfrm>
                <a:off x="6143760" y="493488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Group 161"/>
            <p:cNvGrpSpPr/>
            <p:nvPr/>
          </p:nvGrpSpPr>
          <p:grpSpPr>
            <a:xfrm>
              <a:off x="0" y="5282640"/>
              <a:ext cx="1760760" cy="347400"/>
              <a:chOff x="0" y="5282640"/>
              <a:chExt cx="1760760" cy="347400"/>
            </a:xfrm>
          </p:grpSpPr>
          <p:sp>
            <p:nvSpPr>
              <p:cNvPr id="911" name="Rectangle 48"/>
              <p:cNvSpPr/>
              <p:nvPr/>
            </p:nvSpPr>
            <p:spPr>
              <a:xfrm>
                <a:off x="208800" y="528264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Rectangle 160"/>
              <p:cNvSpPr/>
              <p:nvPr/>
            </p:nvSpPr>
            <p:spPr>
              <a:xfrm>
                <a:off x="0" y="528264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Group 163"/>
            <p:cNvGrpSpPr/>
            <p:nvPr/>
          </p:nvGrpSpPr>
          <p:grpSpPr>
            <a:xfrm>
              <a:off x="1762200" y="5282640"/>
              <a:ext cx="2616120" cy="347400"/>
              <a:chOff x="1762200" y="5282640"/>
              <a:chExt cx="2616120" cy="347400"/>
            </a:xfrm>
          </p:grpSpPr>
          <p:sp>
            <p:nvSpPr>
              <p:cNvPr id="914" name="Rectangle 49"/>
              <p:cNvSpPr/>
              <p:nvPr/>
            </p:nvSpPr>
            <p:spPr>
              <a:xfrm>
                <a:off x="1972800" y="52826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8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Rectangle 162"/>
              <p:cNvSpPr/>
              <p:nvPr/>
            </p:nvSpPr>
            <p:spPr>
              <a:xfrm>
                <a:off x="1762200" y="52826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Group 165"/>
            <p:cNvGrpSpPr/>
            <p:nvPr/>
          </p:nvGrpSpPr>
          <p:grpSpPr>
            <a:xfrm>
              <a:off x="4379760" y="5282640"/>
              <a:ext cx="1762200" cy="347400"/>
              <a:chOff x="4379760" y="5282640"/>
              <a:chExt cx="1762200" cy="347400"/>
            </a:xfrm>
          </p:grpSpPr>
          <p:sp>
            <p:nvSpPr>
              <p:cNvPr id="917" name="Rectangle 50"/>
              <p:cNvSpPr/>
              <p:nvPr/>
            </p:nvSpPr>
            <p:spPr>
              <a:xfrm>
                <a:off x="4590360" y="528264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Rectangle 164"/>
              <p:cNvSpPr/>
              <p:nvPr/>
            </p:nvSpPr>
            <p:spPr>
              <a:xfrm>
                <a:off x="4379760" y="528264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Group 167"/>
            <p:cNvGrpSpPr/>
            <p:nvPr/>
          </p:nvGrpSpPr>
          <p:grpSpPr>
            <a:xfrm>
              <a:off x="6143760" y="5282640"/>
              <a:ext cx="2616120" cy="347400"/>
              <a:chOff x="6143760" y="5282640"/>
              <a:chExt cx="2616120" cy="347400"/>
            </a:xfrm>
          </p:grpSpPr>
          <p:sp>
            <p:nvSpPr>
              <p:cNvPr id="920" name="Rectangle 51"/>
              <p:cNvSpPr/>
              <p:nvPr/>
            </p:nvSpPr>
            <p:spPr>
              <a:xfrm>
                <a:off x="6352560" y="52826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Rectangle 166"/>
              <p:cNvSpPr/>
              <p:nvPr/>
            </p:nvSpPr>
            <p:spPr>
              <a:xfrm>
                <a:off x="6143760" y="52826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169"/>
            <p:cNvGrpSpPr/>
            <p:nvPr/>
          </p:nvGrpSpPr>
          <p:grpSpPr>
            <a:xfrm>
              <a:off x="0" y="5630400"/>
              <a:ext cx="1760760" cy="347400"/>
              <a:chOff x="0" y="5630400"/>
              <a:chExt cx="1760760" cy="347400"/>
            </a:xfrm>
          </p:grpSpPr>
          <p:sp>
            <p:nvSpPr>
              <p:cNvPr id="923" name="Rectangle 52"/>
              <p:cNvSpPr/>
              <p:nvPr/>
            </p:nvSpPr>
            <p:spPr>
              <a:xfrm>
                <a:off x="208800" y="563040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Rectangle 168"/>
              <p:cNvSpPr/>
              <p:nvPr/>
            </p:nvSpPr>
            <p:spPr>
              <a:xfrm>
                <a:off x="0" y="563040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Group 171"/>
            <p:cNvGrpSpPr/>
            <p:nvPr/>
          </p:nvGrpSpPr>
          <p:grpSpPr>
            <a:xfrm>
              <a:off x="1762200" y="5630400"/>
              <a:ext cx="2616120" cy="347400"/>
              <a:chOff x="1762200" y="5630400"/>
              <a:chExt cx="2616120" cy="347400"/>
            </a:xfrm>
          </p:grpSpPr>
          <p:sp>
            <p:nvSpPr>
              <p:cNvPr id="926" name="Rectangle 53"/>
              <p:cNvSpPr/>
              <p:nvPr/>
            </p:nvSpPr>
            <p:spPr>
              <a:xfrm>
                <a:off x="1972800" y="56304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Rectangle 170"/>
              <p:cNvSpPr/>
              <p:nvPr/>
            </p:nvSpPr>
            <p:spPr>
              <a:xfrm>
                <a:off x="1762200" y="56304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Group 173"/>
            <p:cNvGrpSpPr/>
            <p:nvPr/>
          </p:nvGrpSpPr>
          <p:grpSpPr>
            <a:xfrm>
              <a:off x="4379760" y="5630400"/>
              <a:ext cx="1762200" cy="347400"/>
              <a:chOff x="4379760" y="5630400"/>
              <a:chExt cx="1762200" cy="347400"/>
            </a:xfrm>
          </p:grpSpPr>
          <p:sp>
            <p:nvSpPr>
              <p:cNvPr id="929" name="Rectangle 54"/>
              <p:cNvSpPr/>
              <p:nvPr/>
            </p:nvSpPr>
            <p:spPr>
              <a:xfrm>
                <a:off x="4590360" y="563040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Rectangle 172"/>
              <p:cNvSpPr/>
              <p:nvPr/>
            </p:nvSpPr>
            <p:spPr>
              <a:xfrm>
                <a:off x="4379760" y="563040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175"/>
            <p:cNvGrpSpPr/>
            <p:nvPr/>
          </p:nvGrpSpPr>
          <p:grpSpPr>
            <a:xfrm>
              <a:off x="6143760" y="5630400"/>
              <a:ext cx="2616120" cy="347400"/>
              <a:chOff x="6143760" y="5630400"/>
              <a:chExt cx="2616120" cy="347400"/>
            </a:xfrm>
          </p:grpSpPr>
          <p:sp>
            <p:nvSpPr>
              <p:cNvPr id="932" name="Rectangle 55"/>
              <p:cNvSpPr/>
              <p:nvPr/>
            </p:nvSpPr>
            <p:spPr>
              <a:xfrm>
                <a:off x="6352560" y="56304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,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Rectangle 174"/>
              <p:cNvSpPr/>
              <p:nvPr/>
            </p:nvSpPr>
            <p:spPr>
              <a:xfrm>
                <a:off x="6143760" y="56304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177"/>
            <p:cNvGrpSpPr/>
            <p:nvPr/>
          </p:nvGrpSpPr>
          <p:grpSpPr>
            <a:xfrm>
              <a:off x="0" y="5978160"/>
              <a:ext cx="1760760" cy="347760"/>
              <a:chOff x="0" y="5978160"/>
              <a:chExt cx="1760760" cy="347760"/>
            </a:xfrm>
          </p:grpSpPr>
          <p:sp>
            <p:nvSpPr>
              <p:cNvPr id="935" name="Rectangle 56"/>
              <p:cNvSpPr/>
              <p:nvPr/>
            </p:nvSpPr>
            <p:spPr>
              <a:xfrm>
                <a:off x="208800" y="597816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Rectangle 176"/>
              <p:cNvSpPr/>
              <p:nvPr/>
            </p:nvSpPr>
            <p:spPr>
              <a:xfrm>
                <a:off x="0" y="597816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Group 179"/>
            <p:cNvGrpSpPr/>
            <p:nvPr/>
          </p:nvGrpSpPr>
          <p:grpSpPr>
            <a:xfrm>
              <a:off x="1762200" y="5978160"/>
              <a:ext cx="2616120" cy="347760"/>
              <a:chOff x="1762200" y="5978160"/>
              <a:chExt cx="2616120" cy="347760"/>
            </a:xfrm>
          </p:grpSpPr>
          <p:sp>
            <p:nvSpPr>
              <p:cNvPr id="938" name="Rectangle 57"/>
              <p:cNvSpPr/>
              <p:nvPr/>
            </p:nvSpPr>
            <p:spPr>
              <a:xfrm>
                <a:off x="1972800" y="597816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7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Rectangle 178"/>
              <p:cNvSpPr/>
              <p:nvPr/>
            </p:nvSpPr>
            <p:spPr>
              <a:xfrm>
                <a:off x="1762200" y="597816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Group 181"/>
            <p:cNvGrpSpPr/>
            <p:nvPr/>
          </p:nvGrpSpPr>
          <p:grpSpPr>
            <a:xfrm>
              <a:off x="4379760" y="5978160"/>
              <a:ext cx="1762200" cy="347760"/>
              <a:chOff x="4379760" y="5978160"/>
              <a:chExt cx="1762200" cy="347760"/>
            </a:xfrm>
          </p:grpSpPr>
          <p:sp>
            <p:nvSpPr>
              <p:cNvPr id="941" name="Rectangle 58"/>
              <p:cNvSpPr/>
              <p:nvPr/>
            </p:nvSpPr>
            <p:spPr>
              <a:xfrm>
                <a:off x="4590360" y="597816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Rectangle 180"/>
              <p:cNvSpPr/>
              <p:nvPr/>
            </p:nvSpPr>
            <p:spPr>
              <a:xfrm>
                <a:off x="4379760" y="597816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Group 183"/>
            <p:cNvGrpSpPr/>
            <p:nvPr/>
          </p:nvGrpSpPr>
          <p:grpSpPr>
            <a:xfrm>
              <a:off x="6143760" y="5978160"/>
              <a:ext cx="2616120" cy="347760"/>
              <a:chOff x="6143760" y="5978160"/>
              <a:chExt cx="2616120" cy="347760"/>
            </a:xfrm>
          </p:grpSpPr>
          <p:sp>
            <p:nvSpPr>
              <p:cNvPr id="944" name="Rectangle 59"/>
              <p:cNvSpPr/>
              <p:nvPr/>
            </p:nvSpPr>
            <p:spPr>
              <a:xfrm>
                <a:off x="6352560" y="597816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Rectangle 182"/>
              <p:cNvSpPr/>
              <p:nvPr/>
            </p:nvSpPr>
            <p:spPr>
              <a:xfrm>
                <a:off x="6143760" y="597816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Group 185"/>
            <p:cNvGrpSpPr/>
            <p:nvPr/>
          </p:nvGrpSpPr>
          <p:grpSpPr>
            <a:xfrm>
              <a:off x="0" y="6325920"/>
              <a:ext cx="1760760" cy="347400"/>
              <a:chOff x="0" y="6325920"/>
              <a:chExt cx="1760760" cy="347400"/>
            </a:xfrm>
          </p:grpSpPr>
          <p:sp>
            <p:nvSpPr>
              <p:cNvPr id="947" name="Rectangle 60"/>
              <p:cNvSpPr/>
              <p:nvPr/>
            </p:nvSpPr>
            <p:spPr>
              <a:xfrm>
                <a:off x="208800" y="63259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Rectangle 184"/>
              <p:cNvSpPr/>
              <p:nvPr/>
            </p:nvSpPr>
            <p:spPr>
              <a:xfrm>
                <a:off x="0" y="63259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Group 187"/>
            <p:cNvGrpSpPr/>
            <p:nvPr/>
          </p:nvGrpSpPr>
          <p:grpSpPr>
            <a:xfrm>
              <a:off x="1762200" y="6325920"/>
              <a:ext cx="2616120" cy="347400"/>
              <a:chOff x="1762200" y="6325920"/>
              <a:chExt cx="2616120" cy="347400"/>
            </a:xfrm>
          </p:grpSpPr>
          <p:sp>
            <p:nvSpPr>
              <p:cNvPr id="950" name="Rectangle 61"/>
              <p:cNvSpPr/>
              <p:nvPr/>
            </p:nvSpPr>
            <p:spPr>
              <a:xfrm>
                <a:off x="1972800" y="6325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0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Rectangle 186"/>
              <p:cNvSpPr/>
              <p:nvPr/>
            </p:nvSpPr>
            <p:spPr>
              <a:xfrm>
                <a:off x="1762200" y="6325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189"/>
            <p:cNvGrpSpPr/>
            <p:nvPr/>
          </p:nvGrpSpPr>
          <p:grpSpPr>
            <a:xfrm>
              <a:off x="4379760" y="6325920"/>
              <a:ext cx="1762200" cy="347400"/>
              <a:chOff x="4379760" y="6325920"/>
              <a:chExt cx="1762200" cy="347400"/>
            </a:xfrm>
          </p:grpSpPr>
          <p:sp>
            <p:nvSpPr>
              <p:cNvPr id="953" name="Rectangle 62"/>
              <p:cNvSpPr/>
              <p:nvPr/>
            </p:nvSpPr>
            <p:spPr>
              <a:xfrm>
                <a:off x="4590360" y="63259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Rectangle 188"/>
              <p:cNvSpPr/>
              <p:nvPr/>
            </p:nvSpPr>
            <p:spPr>
              <a:xfrm>
                <a:off x="4379760" y="63259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Group 191"/>
            <p:cNvGrpSpPr/>
            <p:nvPr/>
          </p:nvGrpSpPr>
          <p:grpSpPr>
            <a:xfrm>
              <a:off x="6143760" y="6325920"/>
              <a:ext cx="2616120" cy="347400"/>
              <a:chOff x="6143760" y="6325920"/>
              <a:chExt cx="2616120" cy="347400"/>
            </a:xfrm>
          </p:grpSpPr>
          <p:sp>
            <p:nvSpPr>
              <p:cNvPr id="956" name="Rectangle 63"/>
              <p:cNvSpPr/>
              <p:nvPr/>
            </p:nvSpPr>
            <p:spPr>
              <a:xfrm>
                <a:off x="6352560" y="6325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Rectangle 190"/>
              <p:cNvSpPr/>
              <p:nvPr/>
            </p:nvSpPr>
            <p:spPr>
              <a:xfrm>
                <a:off x="6143760" y="6325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Group 193"/>
            <p:cNvGrpSpPr/>
            <p:nvPr/>
          </p:nvGrpSpPr>
          <p:grpSpPr>
            <a:xfrm>
              <a:off x="0" y="6673680"/>
              <a:ext cx="1760760" cy="347400"/>
              <a:chOff x="0" y="6673680"/>
              <a:chExt cx="1760760" cy="347400"/>
            </a:xfrm>
          </p:grpSpPr>
          <p:sp>
            <p:nvSpPr>
              <p:cNvPr id="959" name="Rectangle 64"/>
              <p:cNvSpPr/>
              <p:nvPr/>
            </p:nvSpPr>
            <p:spPr>
              <a:xfrm>
                <a:off x="208800" y="667368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Rectangle 192"/>
              <p:cNvSpPr/>
              <p:nvPr/>
            </p:nvSpPr>
            <p:spPr>
              <a:xfrm>
                <a:off x="0" y="667368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Group 195"/>
            <p:cNvGrpSpPr/>
            <p:nvPr/>
          </p:nvGrpSpPr>
          <p:grpSpPr>
            <a:xfrm>
              <a:off x="1762200" y="6673680"/>
              <a:ext cx="2616120" cy="347400"/>
              <a:chOff x="1762200" y="6673680"/>
              <a:chExt cx="2616120" cy="347400"/>
            </a:xfrm>
          </p:grpSpPr>
          <p:sp>
            <p:nvSpPr>
              <p:cNvPr id="962" name="Rectangle 65"/>
              <p:cNvSpPr/>
              <p:nvPr/>
            </p:nvSpPr>
            <p:spPr>
              <a:xfrm>
                <a:off x="1972800" y="667368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0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Rectangle 194"/>
              <p:cNvSpPr/>
              <p:nvPr/>
            </p:nvSpPr>
            <p:spPr>
              <a:xfrm>
                <a:off x="1762200" y="667368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Group 197"/>
            <p:cNvGrpSpPr/>
            <p:nvPr/>
          </p:nvGrpSpPr>
          <p:grpSpPr>
            <a:xfrm>
              <a:off x="4379760" y="6673680"/>
              <a:ext cx="1762200" cy="347400"/>
              <a:chOff x="4379760" y="6673680"/>
              <a:chExt cx="1762200" cy="347400"/>
            </a:xfrm>
          </p:grpSpPr>
          <p:sp>
            <p:nvSpPr>
              <p:cNvPr id="965" name="Rectangle 66"/>
              <p:cNvSpPr/>
              <p:nvPr/>
            </p:nvSpPr>
            <p:spPr>
              <a:xfrm>
                <a:off x="4590360" y="667368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Rectangle 196"/>
              <p:cNvSpPr/>
              <p:nvPr/>
            </p:nvSpPr>
            <p:spPr>
              <a:xfrm>
                <a:off x="4379760" y="667368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199"/>
            <p:cNvGrpSpPr/>
            <p:nvPr/>
          </p:nvGrpSpPr>
          <p:grpSpPr>
            <a:xfrm>
              <a:off x="6143760" y="6673680"/>
              <a:ext cx="2616120" cy="347400"/>
              <a:chOff x="6143760" y="6673680"/>
              <a:chExt cx="2616120" cy="347400"/>
            </a:xfrm>
          </p:grpSpPr>
          <p:sp>
            <p:nvSpPr>
              <p:cNvPr id="968" name="Rectangle 67"/>
              <p:cNvSpPr/>
              <p:nvPr/>
            </p:nvSpPr>
            <p:spPr>
              <a:xfrm>
                <a:off x="6352560" y="667368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,7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Rectangle 198"/>
              <p:cNvSpPr/>
              <p:nvPr/>
            </p:nvSpPr>
            <p:spPr>
              <a:xfrm>
                <a:off x="6143760" y="667368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Group 201"/>
            <p:cNvGrpSpPr/>
            <p:nvPr/>
          </p:nvGrpSpPr>
          <p:grpSpPr>
            <a:xfrm>
              <a:off x="0" y="7021440"/>
              <a:ext cx="1760760" cy="347760"/>
              <a:chOff x="0" y="7021440"/>
              <a:chExt cx="1760760" cy="347760"/>
            </a:xfrm>
          </p:grpSpPr>
          <p:sp>
            <p:nvSpPr>
              <p:cNvPr id="971" name="Rectangle 68"/>
              <p:cNvSpPr/>
              <p:nvPr/>
            </p:nvSpPr>
            <p:spPr>
              <a:xfrm>
                <a:off x="208800" y="702144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Rectangle 200"/>
              <p:cNvSpPr/>
              <p:nvPr/>
            </p:nvSpPr>
            <p:spPr>
              <a:xfrm>
                <a:off x="0" y="702144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Group 203"/>
            <p:cNvGrpSpPr/>
            <p:nvPr/>
          </p:nvGrpSpPr>
          <p:grpSpPr>
            <a:xfrm>
              <a:off x="1762200" y="7021440"/>
              <a:ext cx="2616120" cy="347760"/>
              <a:chOff x="1762200" y="7021440"/>
              <a:chExt cx="2616120" cy="347760"/>
            </a:xfrm>
          </p:grpSpPr>
          <p:sp>
            <p:nvSpPr>
              <p:cNvPr id="974" name="Rectangle 69"/>
              <p:cNvSpPr/>
              <p:nvPr/>
            </p:nvSpPr>
            <p:spPr>
              <a:xfrm>
                <a:off x="1972800" y="702144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Rectangle 202"/>
              <p:cNvSpPr/>
              <p:nvPr/>
            </p:nvSpPr>
            <p:spPr>
              <a:xfrm>
                <a:off x="1762200" y="702144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Group 205"/>
            <p:cNvGrpSpPr/>
            <p:nvPr/>
          </p:nvGrpSpPr>
          <p:grpSpPr>
            <a:xfrm>
              <a:off x="4379760" y="7021440"/>
              <a:ext cx="1762200" cy="347760"/>
              <a:chOff x="4379760" y="7021440"/>
              <a:chExt cx="1762200" cy="347760"/>
            </a:xfrm>
          </p:grpSpPr>
          <p:sp>
            <p:nvSpPr>
              <p:cNvPr id="977" name="Rectangle 70"/>
              <p:cNvSpPr/>
              <p:nvPr/>
            </p:nvSpPr>
            <p:spPr>
              <a:xfrm>
                <a:off x="4590360" y="702144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Rectangle 204"/>
              <p:cNvSpPr/>
              <p:nvPr/>
            </p:nvSpPr>
            <p:spPr>
              <a:xfrm>
                <a:off x="4379760" y="702144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Group 207"/>
            <p:cNvGrpSpPr/>
            <p:nvPr/>
          </p:nvGrpSpPr>
          <p:grpSpPr>
            <a:xfrm>
              <a:off x="6143760" y="7021440"/>
              <a:ext cx="2616120" cy="347760"/>
              <a:chOff x="6143760" y="7021440"/>
              <a:chExt cx="2616120" cy="347760"/>
            </a:xfrm>
          </p:grpSpPr>
          <p:sp>
            <p:nvSpPr>
              <p:cNvPr id="980" name="Rectangle 71"/>
              <p:cNvSpPr/>
              <p:nvPr/>
            </p:nvSpPr>
            <p:spPr>
              <a:xfrm>
                <a:off x="6352560" y="702144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,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Rectangle 206"/>
              <p:cNvSpPr/>
              <p:nvPr/>
            </p:nvSpPr>
            <p:spPr>
              <a:xfrm>
                <a:off x="6143760" y="702144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Statistika a vý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etní technika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09480" y="1600200"/>
            <a:ext cx="7620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ýpočetní technika zasahuje do všech etap statistického zpracování d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Exploze výpočetní techniky umožňuje provádět výpočty, které byly dříve nerealizovatelné (z důvodů velkého objemu dat, pracnosti, …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a druhou stranu však roste nebezpečí výběru nesprávného postup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5"/>
          <p:cNvSpPr/>
          <p:nvPr/>
        </p:nvSpPr>
        <p:spPr>
          <a:xfrm>
            <a:off x="169560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3" name="Picture 4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488000" cy="4659120"/>
          </a:xfrm>
          <a:prstGeom prst="rect">
            <a:avLst/>
          </a:prstGeom>
          <a:ln w="0">
            <a:noFill/>
          </a:ln>
        </p:spPr>
      </p:pic>
      <p:sp>
        <p:nvSpPr>
          <p:cNvPr id="984" name="TextovéPole 3"/>
          <p:cNvSpPr/>
          <p:nvPr/>
        </p:nvSpPr>
        <p:spPr>
          <a:xfrm>
            <a:off x="625680" y="692280"/>
            <a:ext cx="73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řivka překročení průměrných   ročních průtoků , Lažanka, říjen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TextovéPole 4"/>
          <p:cNvSpPr/>
          <p:nvPr/>
        </p:nvSpPr>
        <p:spPr>
          <a:xfrm>
            <a:off x="1042920" y="587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0                  20                 40                 60                80                 100 %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TextovéPole 5"/>
          <p:cNvSpPr/>
          <p:nvPr/>
        </p:nvSpPr>
        <p:spPr>
          <a:xfrm>
            <a:off x="395280" y="2205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TextovéPole 6"/>
          <p:cNvSpPr/>
          <p:nvPr/>
        </p:nvSpPr>
        <p:spPr>
          <a:xfrm>
            <a:off x="395280" y="371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TextovéPole 7"/>
          <p:cNvSpPr/>
          <p:nvPr/>
        </p:nvSpPr>
        <p:spPr>
          <a:xfrm>
            <a:off x="468360" y="450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TextovéPole 8"/>
          <p:cNvSpPr/>
          <p:nvPr/>
        </p:nvSpPr>
        <p:spPr>
          <a:xfrm>
            <a:off x="611280" y="51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TextovéPole 9"/>
          <p:cNvSpPr/>
          <p:nvPr/>
        </p:nvSpPr>
        <p:spPr>
          <a:xfrm>
            <a:off x="324000" y="292428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1" name="TextovéPole 10" descr=""/>
          <p:cNvPicPr/>
          <p:nvPr/>
        </p:nvPicPr>
        <p:blipFill>
          <a:blip r:embed="rId2"/>
          <a:stretch/>
        </p:blipFill>
        <p:spPr>
          <a:xfrm>
            <a:off x="255600" y="1523880"/>
            <a:ext cx="824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Odhady parametrů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základní soubor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tatistický 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výběrový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náhodný výbě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  základnímu jednomu souboru lze získat více výběrových, různé charakteristi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reprezentativnost výbě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valita výb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prostý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s opakováním a bez opako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oblastní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výběr z každé dílčí části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ystematický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podle pravidla, které nesouvisí se sledovaným znakem, např. sledovaný znak - počet obyvatel obce, seřadit obce podle abecedy a vybrat vždy každou pátou obec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Text Box 1027"/>
          <p:cNvSpPr/>
          <p:nvPr/>
        </p:nvSpPr>
        <p:spPr>
          <a:xfrm>
            <a:off x="1130400" y="19692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ý soubor s norm rozdělením (X, 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ho výběrový soubor  bude  mít norm rozdělení s param (x, s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terval spolehlivosti – pro zvolený koeficient spolehlivosti ( pravděpodobnost , že tam X padne) (např. 95 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počítáme interval,ve kterém s touto pravděpodobností  leží 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1042920" y="1981080"/>
            <a:ext cx="74152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-1335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brázek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Oboustranný test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3560" indent="-1335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1" name="Picture 1" descr="\begin{figure}&#10;\centering&#10;\fbox{\includegraphics[clip, width=\sirka]{eps/g28.eps}}\end{figure}"/>
          <p:cNvPicPr/>
          <p:nvPr/>
        </p:nvPicPr>
        <p:blipFill>
          <a:blip r:embed="rId1"/>
          <a:stretch/>
        </p:blipFill>
        <p:spPr>
          <a:xfrm>
            <a:off x="826920" y="2637000"/>
            <a:ext cx="5832720" cy="4032000"/>
          </a:xfrm>
          <a:prstGeom prst="rect">
            <a:avLst/>
          </a:prstGeom>
          <a:ln w="0">
            <a:noFill/>
          </a:ln>
        </p:spPr>
      </p:pic>
      <p:sp>
        <p:nvSpPr>
          <p:cNvPr id="1002" name="Rectangle 2"/>
          <p:cNvSpPr/>
          <p:nvPr/>
        </p:nvSpPr>
        <p:spPr>
          <a:xfrm>
            <a:off x="4481640" y="-351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 txBox="1"/>
          <p:nvPr/>
        </p:nvSpPr>
        <p:spPr>
          <a:xfrm>
            <a:off x="323640" y="765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vedeme-li výběr o rozsahu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spočteme x , pak průměr  X  leží s pravděpodobností 0,95 ve vzdálenosti menší  než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    od x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j.  v intervalu s krajními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x-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 , x+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)… </a:t>
            </a:r>
            <a:r>
              <a:rPr b="0" i="1" lang="cs-CZ" sz="3200" spc="-1" strike="noStrike">
                <a:solidFill>
                  <a:srgbClr val="ffc000"/>
                </a:solidFill>
                <a:latin typeface="Times New Roman"/>
              </a:rPr>
              <a:t>interval spolehlivosti pro průměr</a:t>
            </a:r>
            <a:r>
              <a:rPr b="0" lang="cs-CZ" sz="3200" spc="-1" strike="noStrike">
                <a:solidFill>
                  <a:srgbClr val="ffc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000"/>
                </a:solidFill>
                <a:latin typeface="Times New Roman"/>
              </a:rPr>
              <a:t>koeficient spolehlivosti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= 0,9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tj. </a:t>
            </a:r>
            <a:r>
              <a:rPr b="0" lang="cs-CZ" sz="3200" spc="-1" strike="noStrike">
                <a:solidFill>
                  <a:srgbClr val="ffc000"/>
                </a:solidFill>
                <a:latin typeface="Times New Roman"/>
              </a:rPr>
              <a:t>hladinu význam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= 0,05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4" name="Obrázek 3" descr="$\bar{x}$"/>
          <p:cNvPicPr/>
          <p:nvPr/>
        </p:nvPicPr>
        <p:blipFill>
          <a:blip r:embed="rId1"/>
          <a:stretch/>
        </p:blipFill>
        <p:spPr>
          <a:xfrm>
            <a:off x="4505400" y="3352680"/>
            <a:ext cx="1332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ze použít intervaly spolehlivosti  např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95 % (μ + - 1,960σ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99 % (μ + - 2,576σ), tj. širší! inte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noty, které leží mimo interval, v tzv.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ritickém ob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e považují za nepřípustné, jejich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dchylky od průměru  za významn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vislost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 jaké míry závisí změna prvku jednoho statistického souboru změnu prvku druhého statistického soubor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podmiňuje změna prvku x změnu prvku 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těsně na sobě závisí prvky dvourozměrného statistického souboru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tahy teplota a nadm. výšk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rážky a odtok v povod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áha a výška člověk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vislost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Výhody 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íta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ového zpracování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 I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24000" y="1484280"/>
            <a:ext cx="3249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řesnost a rychl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niverzál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Graf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Flexibil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4284720" y="1773360"/>
            <a:ext cx="4395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ové veličin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elikost datových souborů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nadný přenos dat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916360" y="5732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nezávislá hodnot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jednoho stat. soubor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dmiňuje hodnotu 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druhého stat.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zájemn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lze rozlišit závislo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nezávislou proměno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upně závis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nkč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pevno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určité hodnotě x odpovídá jediná hodnota y,  vztah x a y lze tedy vyjádřit  mat.  funkcí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např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Konkrétní teplotě  odpovídá jedna hodnota stupně nasycení vodní pár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atistick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jedné hodnotě x odpovídá více hodnot y, hodnoty y mají své rozdělení s průměrem, tento průměr  hodnot y  je i pro různá x  shodný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relač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e změnou hodnot x se mění soubory hodnot y, které mají své rozdělení a různých průměre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apř. pro určitou  těl výšku existuje více hodnot hmotnosti, které budou mít normální rozdělení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různým výškám odpovídají hmotnosti s normálním rozdělením, ale s různým průměr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. Pro 170 cm existuje norm. rozdělení hmotností o průměru 68 kg, pro 180 cm opět normální rozdělení hmotností s průměrem 76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orelační závisl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rčení těsnosti korelační závis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jak těsný je vztah mezi výškou a hmotností člově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Rectangle 3"/>
          <p:cNvSpPr/>
          <p:nvPr/>
        </p:nvSpPr>
        <p:spPr>
          <a:xfrm>
            <a:off x="971640" y="40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Korela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e druh závislosti mezi prvky dvou soubo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Regresní čár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názorňuje graficky tuto  korelační závisl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a pásy spolehlivosti pro lineární regresní závisl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lem regresní přímky lze sestroj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interval spolehliv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ý určuje pro vybrané 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interval, ve kterém se budou s určitou pravděpodobností nacházet hodnoty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. lineární regre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počítejte koeficient korelace pro vztah délky slunečního svitu a teploty na datech meteorol. stanice Tuřany,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4" name=""/>
          <p:cNvGraphicFramePr/>
          <p:nvPr/>
        </p:nvGraphicFramePr>
        <p:xfrm>
          <a:off x="0" y="2666880"/>
          <a:ext cx="8534520" cy="1987560"/>
        </p:xfrm>
        <a:graphic>
          <a:graphicData uri="http://schemas.openxmlformats.org/drawingml/2006/table">
            <a:tbl>
              <a:tblPr/>
              <a:tblGrid>
                <a:gridCol w="1081080"/>
                <a:gridCol w="692280"/>
                <a:gridCol w="657000"/>
                <a:gridCol w="541440"/>
                <a:gridCol w="762120"/>
                <a:gridCol w="682560"/>
                <a:gridCol w="917640"/>
                <a:gridCol w="533160"/>
                <a:gridCol w="457200"/>
                <a:gridCol w="609840"/>
                <a:gridCol w="457200"/>
                <a:gridCol w="487080"/>
                <a:gridCol w="6559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élka slun. svitu (h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55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8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83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69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38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9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88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2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7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8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44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40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plo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° C 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-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3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5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7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9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0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0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4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7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-3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5" name=""/>
          <p:cNvGraphicFramePr/>
          <p:nvPr/>
        </p:nvGraphicFramePr>
        <p:xfrm>
          <a:off x="250920" y="5013360"/>
          <a:ext cx="7416720" cy="1763640"/>
        </p:xfrm>
        <a:graphic>
          <a:graphicData uri="http://schemas.openxmlformats.org/drawingml/2006/table">
            <a:tbl>
              <a:tblPr/>
              <a:tblGrid>
                <a:gridCol w="931680"/>
                <a:gridCol w="1382760"/>
                <a:gridCol w="1376280"/>
                <a:gridCol w="932040"/>
                <a:gridCol w="931680"/>
                <a:gridCol w="930240"/>
                <a:gridCol w="93204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5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2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3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9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3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l h, 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l t, 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27" name="Object 2"/>
          <p:cNvGraphicFramePr/>
          <p:nvPr/>
        </p:nvGraphicFramePr>
        <p:xfrm>
          <a:off x="609480" y="304920"/>
          <a:ext cx="7772400" cy="38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777240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3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458200" cy="5062680"/>
          </a:xfrm>
          <a:prstGeom prst="rect">
            <a:avLst/>
          </a:prstGeom>
          <a:ln w="0">
            <a:noFill/>
          </a:ln>
        </p:spPr>
      </p:pic>
      <p:sp>
        <p:nvSpPr>
          <p:cNvPr id="1030" name="Text Box 4"/>
          <p:cNvSpPr/>
          <p:nvPr/>
        </p:nvSpPr>
        <p:spPr>
          <a:xfrm>
            <a:off x="1876680" y="547560"/>
            <a:ext cx="662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počet koeficientu regrese b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xcel, funkce CORREL, POLE1 -   hodnoty délka slun. Svitu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le2  - hodnoty teplo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2" name="Object 2"/>
          <p:cNvGraphicFramePr/>
          <p:nvPr/>
        </p:nvGraphicFramePr>
        <p:xfrm>
          <a:off x="684360" y="476280"/>
          <a:ext cx="7772400" cy="38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7772400" cy="3878280"/>
                  </a:xfrm>
                  <a:prstGeom prst="rect">
                    <a:avLst/>
                  </a:prstGeom>
                  <a:ln w="9360">
                    <a:solidFill>
                      <a:srgbClr val="66ff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34" name="Line 9"/>
          <p:cNvSpPr/>
          <p:nvPr/>
        </p:nvSpPr>
        <p:spPr>
          <a:xfrm flipH="1">
            <a:off x="2556000" y="1916280"/>
            <a:ext cx="4876560" cy="16002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TextovéPole 6"/>
          <p:cNvSpPr/>
          <p:nvPr/>
        </p:nvSpPr>
        <p:spPr>
          <a:xfrm flipH="1">
            <a:off x="826920" y="4869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ineární regresní čára - Přidat spojnici trendu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Nevýhody 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í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ta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ového zpracování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I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33520" y="106668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Chyby v softwaru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 všechny statistické programy jsou spolehlivé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niverzálnost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ůže vést k výbě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vhodn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é metody zpracov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Je velmi důležité, aby každý, kdo používá statistický software, si byl vědom úrovně svých statistických znalostí a </a:t>
            </a: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žíval pouze ty metody, kterým rozumí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ozor na používání neznámých statistických metod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50920" y="450864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Černá skříňka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Špatná data plodí špatné závěry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Časové řady</a:t>
            </a:r>
            <a:br>
              <a:rPr sz="6600"/>
            </a:b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Bazické a řetězové  </a:t>
            </a:r>
            <a:br>
              <a:rPr sz="6600"/>
            </a:b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Z - diagram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časová řady – základní poj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statistická ř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sloupnost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not znak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uspořádanýc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dle určitého hledis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á řada upořádaná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dle čas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časová řada=dynamická=chronologická = vývoj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estavování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držovat </a:t>
            </a: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zásady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ě dlouhá časová obdob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 přepočet na „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standardizovaný“ 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Times New Roman"/>
              </a:rPr>
              <a:t>měsíc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se 30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dny, přepočet na  počet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hodný počet pracovních d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v měsíci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ě velká území, příp. stejná úroveň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shodná 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loh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povod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řád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oku,  administrativní jednot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ejné jednotk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Text Box 4"/>
          <p:cNvSpPr/>
          <p:nvPr/>
        </p:nvSpPr>
        <p:spPr>
          <a:xfrm>
            <a:off x="1224000" y="1066680"/>
            <a:ext cx="4746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Times New Roman"/>
              </a:rPr>
              <a:t>Cíl – získat porovnatelná čís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 OKAMŽIKOV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eduje se hodnoty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znaku k určitému okamžik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např. počet obyvatel ČR k 31.12.  2000, 2001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 INTERVAL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eduje se hodnota znaku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 interval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dob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denní úhrn srážek, průměrná denní teplota, měsíční těžb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uze k této řadě se vztahuje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ožadavek stejného intervalu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vláště u sledování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 ekonomických ukazatel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nalýza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cíle analýz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jistit  hlavní rysy průběhu časových řad a analyzovat 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průběhu  časové řad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66ff33"/>
                </a:solidFill>
                <a:uFillTx/>
                <a:latin typeface="Times New Roman"/>
              </a:rPr>
              <a:t>stacionár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bo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66ff33"/>
                </a:solidFill>
                <a:uFillTx/>
                <a:latin typeface="Times New Roman"/>
              </a:rPr>
              <a:t>s trend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eriodickým opakováním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výkyvů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bo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bez 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výkyv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šechny možné </a:t>
            </a:r>
            <a:r>
              <a:rPr b="0" lang="cs-CZ" sz="3200" spc="-1" strike="noStrike" u="sng">
                <a:solidFill>
                  <a:srgbClr val="cc99ff"/>
                </a:solidFill>
                <a:uFillTx/>
                <a:latin typeface="Times New Roman"/>
              </a:rPr>
              <a:t>kombinace</a:t>
            </a:r>
            <a:r>
              <a:rPr b="0" lang="cs-CZ" sz="3200" spc="-1" strike="noStrike">
                <a:solidFill>
                  <a:srgbClr val="cc99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růstk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absolutní přírůstek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rozdíl hodnot  po sobě následujících  ( „druhá“ – „ první“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relativní přírůst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íl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Text Box 4"/>
          <p:cNvSpPr/>
          <p:nvPr/>
        </p:nvSpPr>
        <p:spPr>
          <a:xfrm>
            <a:off x="2362320" y="11430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řírůstky a index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tězové a bazické index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bazický inde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/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 100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z 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vní „ základní „ hodnota časové řa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měny  k jedné základní ( bazické) hodno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řetězový index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koeficient růstu )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/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-1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v procentech po sobě následujících hodn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 změny  např. z měsíce na měsíc“ – řetězení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Klouzavé úhr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zvláštní typ součtové čá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hodné pro porovnávání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dvou či více  řa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hodnot za po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obě následující obdob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olís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očního chodu sráž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stup viz. např. skripta Brázdil. a kol. str. 14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200"/>
          <p:cNvGrpSpPr/>
          <p:nvPr/>
        </p:nvGrpSpPr>
        <p:grpSpPr>
          <a:xfrm>
            <a:off x="304920" y="457200"/>
            <a:ext cx="8838360" cy="2438280"/>
            <a:chOff x="304920" y="457200"/>
            <a:chExt cx="8838360" cy="2438280"/>
          </a:xfrm>
        </p:grpSpPr>
        <p:grpSp>
          <p:nvGrpSpPr>
            <p:cNvPr id="1053" name="Group 47"/>
            <p:cNvGrpSpPr/>
            <p:nvPr/>
          </p:nvGrpSpPr>
          <p:grpSpPr>
            <a:xfrm>
              <a:off x="304920" y="457200"/>
              <a:ext cx="2526480" cy="762120"/>
              <a:chOff x="304920" y="457200"/>
              <a:chExt cx="2526480" cy="762120"/>
            </a:xfrm>
          </p:grpSpPr>
          <p:sp>
            <p:nvSpPr>
              <p:cNvPr id="1054" name="Rectangle 46"/>
              <p:cNvSpPr/>
              <p:nvPr/>
            </p:nvSpPr>
            <p:spPr>
              <a:xfrm>
                <a:off x="304920" y="457200"/>
                <a:ext cx="25264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5" name="Group 45"/>
              <p:cNvGrpSpPr/>
              <p:nvPr/>
            </p:nvGrpSpPr>
            <p:grpSpPr>
              <a:xfrm>
                <a:off x="304920" y="457200"/>
                <a:ext cx="2526120" cy="762120"/>
                <a:chOff x="304920" y="457200"/>
                <a:chExt cx="2526120" cy="762120"/>
              </a:xfrm>
            </p:grpSpPr>
            <p:sp>
              <p:nvSpPr>
                <p:cNvPr id="1056" name="Rectangle 5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ěsí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Rectangle 44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8" name="Group 51"/>
            <p:cNvGrpSpPr/>
            <p:nvPr/>
          </p:nvGrpSpPr>
          <p:grpSpPr>
            <a:xfrm>
              <a:off x="2831760" y="457200"/>
              <a:ext cx="700200" cy="762120"/>
              <a:chOff x="2831760" y="457200"/>
              <a:chExt cx="700200" cy="762120"/>
            </a:xfrm>
          </p:grpSpPr>
          <p:sp>
            <p:nvSpPr>
              <p:cNvPr id="1059" name="Rectangle 50"/>
              <p:cNvSpPr/>
              <p:nvPr/>
            </p:nvSpPr>
            <p:spPr>
              <a:xfrm>
                <a:off x="2831760" y="457200"/>
                <a:ext cx="7002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0" name="Group 49"/>
              <p:cNvGrpSpPr/>
              <p:nvPr/>
            </p:nvGrpSpPr>
            <p:grpSpPr>
              <a:xfrm>
                <a:off x="2831760" y="457200"/>
                <a:ext cx="699840" cy="762120"/>
                <a:chOff x="2831760" y="457200"/>
                <a:chExt cx="699840" cy="762120"/>
              </a:xfrm>
            </p:grpSpPr>
            <p:sp>
              <p:nvSpPr>
                <p:cNvPr id="1061" name="Rectangle 6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Rectangle 48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3" name="Group 55"/>
            <p:cNvGrpSpPr/>
            <p:nvPr/>
          </p:nvGrpSpPr>
          <p:grpSpPr>
            <a:xfrm>
              <a:off x="3532680" y="457200"/>
              <a:ext cx="537120" cy="762120"/>
              <a:chOff x="3532680" y="457200"/>
              <a:chExt cx="537120" cy="762120"/>
            </a:xfrm>
          </p:grpSpPr>
          <p:sp>
            <p:nvSpPr>
              <p:cNvPr id="1064" name="Rectangle 54"/>
              <p:cNvSpPr/>
              <p:nvPr/>
            </p:nvSpPr>
            <p:spPr>
              <a:xfrm>
                <a:off x="35326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5" name="Group 53"/>
              <p:cNvGrpSpPr/>
              <p:nvPr/>
            </p:nvGrpSpPr>
            <p:grpSpPr>
              <a:xfrm>
                <a:off x="3532680" y="457200"/>
                <a:ext cx="536760" cy="762120"/>
                <a:chOff x="3532680" y="457200"/>
                <a:chExt cx="536760" cy="762120"/>
              </a:xfrm>
            </p:grpSpPr>
            <p:sp>
              <p:nvSpPr>
                <p:cNvPr id="1066" name="Rectangle 7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Rectangle 52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8" name="Group 59"/>
            <p:cNvGrpSpPr/>
            <p:nvPr/>
          </p:nvGrpSpPr>
          <p:grpSpPr>
            <a:xfrm>
              <a:off x="4070520" y="457200"/>
              <a:ext cx="450720" cy="762120"/>
              <a:chOff x="4070520" y="457200"/>
              <a:chExt cx="450720" cy="762120"/>
            </a:xfrm>
          </p:grpSpPr>
          <p:sp>
            <p:nvSpPr>
              <p:cNvPr id="1069" name="Rectangle 58"/>
              <p:cNvSpPr/>
              <p:nvPr/>
            </p:nvSpPr>
            <p:spPr>
              <a:xfrm>
                <a:off x="4070520" y="457200"/>
                <a:ext cx="4507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70" name="Group 57"/>
              <p:cNvGrpSpPr/>
              <p:nvPr/>
            </p:nvGrpSpPr>
            <p:grpSpPr>
              <a:xfrm>
                <a:off x="4070520" y="457200"/>
                <a:ext cx="450360" cy="762120"/>
                <a:chOff x="4070520" y="457200"/>
                <a:chExt cx="450360" cy="762120"/>
              </a:xfrm>
            </p:grpSpPr>
            <p:sp>
              <p:nvSpPr>
                <p:cNvPr id="1071" name="Rectangle 8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Rectangle 56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3" name="Group 63"/>
            <p:cNvGrpSpPr/>
            <p:nvPr/>
          </p:nvGrpSpPr>
          <p:grpSpPr>
            <a:xfrm>
              <a:off x="4521600" y="457200"/>
              <a:ext cx="404280" cy="762120"/>
              <a:chOff x="4521600" y="457200"/>
              <a:chExt cx="404280" cy="762120"/>
            </a:xfrm>
          </p:grpSpPr>
          <p:sp>
            <p:nvSpPr>
              <p:cNvPr id="1074" name="Rectangle 62"/>
              <p:cNvSpPr/>
              <p:nvPr/>
            </p:nvSpPr>
            <p:spPr>
              <a:xfrm>
                <a:off x="4521600" y="457200"/>
                <a:ext cx="4042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75" name="Group 61"/>
              <p:cNvGrpSpPr/>
              <p:nvPr/>
            </p:nvGrpSpPr>
            <p:grpSpPr>
              <a:xfrm>
                <a:off x="4521600" y="457200"/>
                <a:ext cx="403920" cy="762120"/>
                <a:chOff x="4521600" y="457200"/>
                <a:chExt cx="403920" cy="762120"/>
              </a:xfrm>
            </p:grpSpPr>
            <p:sp>
              <p:nvSpPr>
                <p:cNvPr id="1076" name="Rectangle 9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Rectangle 60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8" name="Group 67"/>
            <p:cNvGrpSpPr/>
            <p:nvPr/>
          </p:nvGrpSpPr>
          <p:grpSpPr>
            <a:xfrm>
              <a:off x="4926600" y="457200"/>
              <a:ext cx="537840" cy="762120"/>
              <a:chOff x="4926600" y="457200"/>
              <a:chExt cx="537840" cy="762120"/>
            </a:xfrm>
          </p:grpSpPr>
          <p:sp>
            <p:nvSpPr>
              <p:cNvPr id="1079" name="Rectangle 66"/>
              <p:cNvSpPr/>
              <p:nvPr/>
            </p:nvSpPr>
            <p:spPr>
              <a:xfrm>
                <a:off x="492660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0" name="Group 65"/>
              <p:cNvGrpSpPr/>
              <p:nvPr/>
            </p:nvGrpSpPr>
            <p:grpSpPr>
              <a:xfrm>
                <a:off x="4926600" y="457200"/>
                <a:ext cx="537480" cy="762120"/>
                <a:chOff x="4926600" y="457200"/>
                <a:chExt cx="537480" cy="762120"/>
              </a:xfrm>
            </p:grpSpPr>
            <p:sp>
              <p:nvSpPr>
                <p:cNvPr id="1081" name="Rectangle 10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Rectangle 64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3" name="Group 71"/>
            <p:cNvGrpSpPr/>
            <p:nvPr/>
          </p:nvGrpSpPr>
          <p:grpSpPr>
            <a:xfrm>
              <a:off x="5465160" y="457200"/>
              <a:ext cx="537120" cy="762120"/>
              <a:chOff x="5465160" y="457200"/>
              <a:chExt cx="537120" cy="762120"/>
            </a:xfrm>
          </p:grpSpPr>
          <p:sp>
            <p:nvSpPr>
              <p:cNvPr id="1084" name="Rectangle 70"/>
              <p:cNvSpPr/>
              <p:nvPr/>
            </p:nvSpPr>
            <p:spPr>
              <a:xfrm>
                <a:off x="546516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5" name="Group 69"/>
              <p:cNvGrpSpPr/>
              <p:nvPr/>
            </p:nvGrpSpPr>
            <p:grpSpPr>
              <a:xfrm>
                <a:off x="5465160" y="457200"/>
                <a:ext cx="536760" cy="762120"/>
                <a:chOff x="5465160" y="457200"/>
                <a:chExt cx="536760" cy="762120"/>
              </a:xfrm>
            </p:grpSpPr>
            <p:sp>
              <p:nvSpPr>
                <p:cNvPr id="1086" name="Rectangle 11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Rectangle 68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8" name="Group 75"/>
            <p:cNvGrpSpPr/>
            <p:nvPr/>
          </p:nvGrpSpPr>
          <p:grpSpPr>
            <a:xfrm>
              <a:off x="6003000" y="457200"/>
              <a:ext cx="537120" cy="762120"/>
              <a:chOff x="6003000" y="457200"/>
              <a:chExt cx="537120" cy="762120"/>
            </a:xfrm>
          </p:grpSpPr>
          <p:sp>
            <p:nvSpPr>
              <p:cNvPr id="1089" name="Rectangle 74"/>
              <p:cNvSpPr/>
              <p:nvPr/>
            </p:nvSpPr>
            <p:spPr>
              <a:xfrm>
                <a:off x="600300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0" name="Group 73"/>
              <p:cNvGrpSpPr/>
              <p:nvPr/>
            </p:nvGrpSpPr>
            <p:grpSpPr>
              <a:xfrm>
                <a:off x="6003000" y="457200"/>
                <a:ext cx="536760" cy="762120"/>
                <a:chOff x="6003000" y="457200"/>
                <a:chExt cx="536760" cy="762120"/>
              </a:xfrm>
            </p:grpSpPr>
            <p:sp>
              <p:nvSpPr>
                <p:cNvPr id="1091" name="Rectangle 1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Rectangle 7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3" name="Group 79"/>
            <p:cNvGrpSpPr/>
            <p:nvPr/>
          </p:nvGrpSpPr>
          <p:grpSpPr>
            <a:xfrm>
              <a:off x="6540840" y="457200"/>
              <a:ext cx="537120" cy="762120"/>
              <a:chOff x="6540840" y="457200"/>
              <a:chExt cx="537120" cy="762120"/>
            </a:xfrm>
          </p:grpSpPr>
          <p:sp>
            <p:nvSpPr>
              <p:cNvPr id="1094" name="Rectangle 78"/>
              <p:cNvSpPr/>
              <p:nvPr/>
            </p:nvSpPr>
            <p:spPr>
              <a:xfrm>
                <a:off x="654084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5" name="Group 77"/>
              <p:cNvGrpSpPr/>
              <p:nvPr/>
            </p:nvGrpSpPr>
            <p:grpSpPr>
              <a:xfrm>
                <a:off x="6540840" y="457200"/>
                <a:ext cx="536760" cy="762120"/>
                <a:chOff x="6540840" y="457200"/>
                <a:chExt cx="536760" cy="762120"/>
              </a:xfrm>
            </p:grpSpPr>
            <p:sp>
              <p:nvSpPr>
                <p:cNvPr id="1096" name="Rectangle 13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Rectangle 76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8" name="Group 83"/>
            <p:cNvGrpSpPr/>
            <p:nvPr/>
          </p:nvGrpSpPr>
          <p:grpSpPr>
            <a:xfrm>
              <a:off x="7078680" y="457200"/>
              <a:ext cx="537840" cy="762120"/>
              <a:chOff x="7078680" y="457200"/>
              <a:chExt cx="537840" cy="762120"/>
            </a:xfrm>
          </p:grpSpPr>
          <p:sp>
            <p:nvSpPr>
              <p:cNvPr id="1099" name="Rectangle 82"/>
              <p:cNvSpPr/>
              <p:nvPr/>
            </p:nvSpPr>
            <p:spPr>
              <a:xfrm>
                <a:off x="707868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00" name="Group 81"/>
              <p:cNvGrpSpPr/>
              <p:nvPr/>
            </p:nvGrpSpPr>
            <p:grpSpPr>
              <a:xfrm>
                <a:off x="7078680" y="457200"/>
                <a:ext cx="537480" cy="762120"/>
                <a:chOff x="7078680" y="457200"/>
                <a:chExt cx="537480" cy="762120"/>
              </a:xfrm>
            </p:grpSpPr>
            <p:sp>
              <p:nvSpPr>
                <p:cNvPr id="1101" name="Rectangle 14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Rectangle 80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3" name="Group 87"/>
            <p:cNvGrpSpPr/>
            <p:nvPr/>
          </p:nvGrpSpPr>
          <p:grpSpPr>
            <a:xfrm>
              <a:off x="7616880" y="457200"/>
              <a:ext cx="537120" cy="762120"/>
              <a:chOff x="7616880" y="457200"/>
              <a:chExt cx="537120" cy="762120"/>
            </a:xfrm>
          </p:grpSpPr>
          <p:sp>
            <p:nvSpPr>
              <p:cNvPr id="1104" name="Rectangle 86"/>
              <p:cNvSpPr/>
              <p:nvPr/>
            </p:nvSpPr>
            <p:spPr>
              <a:xfrm>
                <a:off x="76168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05" name="Group 85"/>
              <p:cNvGrpSpPr/>
              <p:nvPr/>
            </p:nvGrpSpPr>
            <p:grpSpPr>
              <a:xfrm>
                <a:off x="7616880" y="457200"/>
                <a:ext cx="536760" cy="762120"/>
                <a:chOff x="7616880" y="457200"/>
                <a:chExt cx="536760" cy="762120"/>
              </a:xfrm>
            </p:grpSpPr>
            <p:sp>
              <p:nvSpPr>
                <p:cNvPr id="1106" name="Rectangle 15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Rectangle 84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8" name="Group 91"/>
            <p:cNvGrpSpPr/>
            <p:nvPr/>
          </p:nvGrpSpPr>
          <p:grpSpPr>
            <a:xfrm>
              <a:off x="8154720" y="457200"/>
              <a:ext cx="541800" cy="762120"/>
              <a:chOff x="8154720" y="457200"/>
              <a:chExt cx="541800" cy="762120"/>
            </a:xfrm>
          </p:grpSpPr>
          <p:sp>
            <p:nvSpPr>
              <p:cNvPr id="1109" name="Rectangle 90"/>
              <p:cNvSpPr/>
              <p:nvPr/>
            </p:nvSpPr>
            <p:spPr>
              <a:xfrm>
                <a:off x="8154720" y="457200"/>
                <a:ext cx="5418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0" name="Group 89"/>
              <p:cNvGrpSpPr/>
              <p:nvPr/>
            </p:nvGrpSpPr>
            <p:grpSpPr>
              <a:xfrm>
                <a:off x="8154720" y="457200"/>
                <a:ext cx="541440" cy="762120"/>
                <a:chOff x="8154720" y="457200"/>
                <a:chExt cx="541440" cy="762120"/>
              </a:xfrm>
            </p:grpSpPr>
            <p:sp>
              <p:nvSpPr>
                <p:cNvPr id="1111" name="Rectangle 16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Rectangle 88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3" name="Group 95"/>
            <p:cNvGrpSpPr/>
            <p:nvPr/>
          </p:nvGrpSpPr>
          <p:grpSpPr>
            <a:xfrm>
              <a:off x="8697240" y="457200"/>
              <a:ext cx="446040" cy="762120"/>
              <a:chOff x="8697240" y="457200"/>
              <a:chExt cx="446040" cy="762120"/>
            </a:xfrm>
          </p:grpSpPr>
          <p:sp>
            <p:nvSpPr>
              <p:cNvPr id="1114" name="Rectangle 94"/>
              <p:cNvSpPr/>
              <p:nvPr/>
            </p:nvSpPr>
            <p:spPr>
              <a:xfrm>
                <a:off x="8697240" y="457200"/>
                <a:ext cx="4460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5" name="Group 93"/>
              <p:cNvGrpSpPr/>
              <p:nvPr/>
            </p:nvGrpSpPr>
            <p:grpSpPr>
              <a:xfrm>
                <a:off x="8697240" y="457200"/>
                <a:ext cx="445680" cy="762120"/>
                <a:chOff x="8697240" y="457200"/>
                <a:chExt cx="445680" cy="762120"/>
              </a:xfrm>
            </p:grpSpPr>
            <p:sp>
              <p:nvSpPr>
                <p:cNvPr id="1116" name="Rectangle 17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Rectangle 92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8" name="Group 99"/>
            <p:cNvGrpSpPr/>
            <p:nvPr/>
          </p:nvGrpSpPr>
          <p:grpSpPr>
            <a:xfrm>
              <a:off x="304920" y="1219320"/>
              <a:ext cx="2526480" cy="761760"/>
              <a:chOff x="304920" y="1219320"/>
              <a:chExt cx="2526480" cy="761760"/>
            </a:xfrm>
          </p:grpSpPr>
          <p:sp>
            <p:nvSpPr>
              <p:cNvPr id="1119" name="Rectangle 98"/>
              <p:cNvSpPr/>
              <p:nvPr/>
            </p:nvSpPr>
            <p:spPr>
              <a:xfrm>
                <a:off x="304920" y="1219320"/>
                <a:ext cx="25264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20" name="Group 97"/>
              <p:cNvGrpSpPr/>
              <p:nvPr/>
            </p:nvGrpSpPr>
            <p:grpSpPr>
              <a:xfrm>
                <a:off x="304920" y="1219320"/>
                <a:ext cx="2526120" cy="761760"/>
                <a:chOff x="304920" y="1219320"/>
                <a:chExt cx="2526120" cy="761760"/>
              </a:xfrm>
            </p:grpSpPr>
            <p:sp>
              <p:nvSpPr>
                <p:cNvPr id="1121" name="Rectangle 18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2; m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Rectangle 96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3" name="Group 103"/>
            <p:cNvGrpSpPr/>
            <p:nvPr/>
          </p:nvGrpSpPr>
          <p:grpSpPr>
            <a:xfrm>
              <a:off x="2831760" y="1219320"/>
              <a:ext cx="700200" cy="761760"/>
              <a:chOff x="2831760" y="1219320"/>
              <a:chExt cx="700200" cy="761760"/>
            </a:xfrm>
          </p:grpSpPr>
          <p:sp>
            <p:nvSpPr>
              <p:cNvPr id="1124" name="Rectangle 102"/>
              <p:cNvSpPr/>
              <p:nvPr/>
            </p:nvSpPr>
            <p:spPr>
              <a:xfrm>
                <a:off x="2831760" y="1219320"/>
                <a:ext cx="7002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25" name="Group 101"/>
              <p:cNvGrpSpPr/>
              <p:nvPr/>
            </p:nvGrpSpPr>
            <p:grpSpPr>
              <a:xfrm>
                <a:off x="2831760" y="1219320"/>
                <a:ext cx="699840" cy="761760"/>
                <a:chOff x="2831760" y="1219320"/>
                <a:chExt cx="699840" cy="761760"/>
              </a:xfrm>
            </p:grpSpPr>
            <p:sp>
              <p:nvSpPr>
                <p:cNvPr id="1126" name="Rectangle 19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Rectangle 100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8" name="Group 107"/>
            <p:cNvGrpSpPr/>
            <p:nvPr/>
          </p:nvGrpSpPr>
          <p:grpSpPr>
            <a:xfrm>
              <a:off x="3532680" y="1219320"/>
              <a:ext cx="537120" cy="761760"/>
              <a:chOff x="3532680" y="1219320"/>
              <a:chExt cx="537120" cy="761760"/>
            </a:xfrm>
          </p:grpSpPr>
          <p:sp>
            <p:nvSpPr>
              <p:cNvPr id="1129" name="Rectangle 106"/>
              <p:cNvSpPr/>
              <p:nvPr/>
            </p:nvSpPr>
            <p:spPr>
              <a:xfrm>
                <a:off x="35326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0" name="Group 105"/>
              <p:cNvGrpSpPr/>
              <p:nvPr/>
            </p:nvGrpSpPr>
            <p:grpSpPr>
              <a:xfrm>
                <a:off x="3532680" y="1219320"/>
                <a:ext cx="536760" cy="761760"/>
                <a:chOff x="3532680" y="1219320"/>
                <a:chExt cx="536760" cy="761760"/>
              </a:xfrm>
            </p:grpSpPr>
            <p:sp>
              <p:nvSpPr>
                <p:cNvPr id="1131" name="Rectangle 20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Rectangle 104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3" name="Group 111"/>
            <p:cNvGrpSpPr/>
            <p:nvPr/>
          </p:nvGrpSpPr>
          <p:grpSpPr>
            <a:xfrm>
              <a:off x="4070520" y="1219320"/>
              <a:ext cx="450720" cy="761760"/>
              <a:chOff x="4070520" y="1219320"/>
              <a:chExt cx="450720" cy="761760"/>
            </a:xfrm>
          </p:grpSpPr>
          <p:sp>
            <p:nvSpPr>
              <p:cNvPr id="1134" name="Rectangle 110"/>
              <p:cNvSpPr/>
              <p:nvPr/>
            </p:nvSpPr>
            <p:spPr>
              <a:xfrm>
                <a:off x="4070520" y="1219320"/>
                <a:ext cx="4507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5" name="Group 109"/>
              <p:cNvGrpSpPr/>
              <p:nvPr/>
            </p:nvGrpSpPr>
            <p:grpSpPr>
              <a:xfrm>
                <a:off x="4070520" y="1219320"/>
                <a:ext cx="450360" cy="761760"/>
                <a:chOff x="4070520" y="1219320"/>
                <a:chExt cx="450360" cy="761760"/>
              </a:xfrm>
            </p:grpSpPr>
            <p:sp>
              <p:nvSpPr>
                <p:cNvPr id="1136" name="Rectangle 21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Rectangle 108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8" name="Group 115"/>
            <p:cNvGrpSpPr/>
            <p:nvPr/>
          </p:nvGrpSpPr>
          <p:grpSpPr>
            <a:xfrm>
              <a:off x="4521600" y="1219320"/>
              <a:ext cx="404280" cy="761760"/>
              <a:chOff x="4521600" y="1219320"/>
              <a:chExt cx="404280" cy="761760"/>
            </a:xfrm>
          </p:grpSpPr>
          <p:sp>
            <p:nvSpPr>
              <p:cNvPr id="1139" name="Rectangle 114"/>
              <p:cNvSpPr/>
              <p:nvPr/>
            </p:nvSpPr>
            <p:spPr>
              <a:xfrm>
                <a:off x="4521600" y="1219320"/>
                <a:ext cx="4042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0" name="Group 113"/>
              <p:cNvGrpSpPr/>
              <p:nvPr/>
            </p:nvGrpSpPr>
            <p:grpSpPr>
              <a:xfrm>
                <a:off x="4521600" y="1219320"/>
                <a:ext cx="403920" cy="761760"/>
                <a:chOff x="4521600" y="1219320"/>
                <a:chExt cx="403920" cy="761760"/>
              </a:xfrm>
            </p:grpSpPr>
            <p:sp>
              <p:nvSpPr>
                <p:cNvPr id="1141" name="Rectangle 2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Rectangle 11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3" name="Group 119"/>
            <p:cNvGrpSpPr/>
            <p:nvPr/>
          </p:nvGrpSpPr>
          <p:grpSpPr>
            <a:xfrm>
              <a:off x="4926600" y="1219320"/>
              <a:ext cx="537840" cy="761760"/>
              <a:chOff x="4926600" y="1219320"/>
              <a:chExt cx="537840" cy="761760"/>
            </a:xfrm>
          </p:grpSpPr>
          <p:sp>
            <p:nvSpPr>
              <p:cNvPr id="1144" name="Rectangle 118"/>
              <p:cNvSpPr/>
              <p:nvPr/>
            </p:nvSpPr>
            <p:spPr>
              <a:xfrm>
                <a:off x="492660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5" name="Group 117"/>
              <p:cNvGrpSpPr/>
              <p:nvPr/>
            </p:nvGrpSpPr>
            <p:grpSpPr>
              <a:xfrm>
                <a:off x="4926600" y="1219320"/>
                <a:ext cx="537480" cy="761760"/>
                <a:chOff x="4926600" y="1219320"/>
                <a:chExt cx="537480" cy="761760"/>
              </a:xfrm>
            </p:grpSpPr>
            <p:sp>
              <p:nvSpPr>
                <p:cNvPr id="1146" name="Rectangle 23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Rectangle 116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8" name="Group 123"/>
            <p:cNvGrpSpPr/>
            <p:nvPr/>
          </p:nvGrpSpPr>
          <p:grpSpPr>
            <a:xfrm>
              <a:off x="5465160" y="1219320"/>
              <a:ext cx="537120" cy="761760"/>
              <a:chOff x="5465160" y="1219320"/>
              <a:chExt cx="537120" cy="761760"/>
            </a:xfrm>
          </p:grpSpPr>
          <p:sp>
            <p:nvSpPr>
              <p:cNvPr id="1149" name="Rectangle 122"/>
              <p:cNvSpPr/>
              <p:nvPr/>
            </p:nvSpPr>
            <p:spPr>
              <a:xfrm>
                <a:off x="546516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50" name="Group 121"/>
              <p:cNvGrpSpPr/>
              <p:nvPr/>
            </p:nvGrpSpPr>
            <p:grpSpPr>
              <a:xfrm>
                <a:off x="5465160" y="1219320"/>
                <a:ext cx="536760" cy="761760"/>
                <a:chOff x="5465160" y="1219320"/>
                <a:chExt cx="536760" cy="761760"/>
              </a:xfrm>
            </p:grpSpPr>
            <p:sp>
              <p:nvSpPr>
                <p:cNvPr id="1151" name="Rectangle 24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1,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Rectangle 120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3" name="Group 127"/>
            <p:cNvGrpSpPr/>
            <p:nvPr/>
          </p:nvGrpSpPr>
          <p:grpSpPr>
            <a:xfrm>
              <a:off x="6003000" y="1219320"/>
              <a:ext cx="537120" cy="761760"/>
              <a:chOff x="6003000" y="1219320"/>
              <a:chExt cx="537120" cy="761760"/>
            </a:xfrm>
          </p:grpSpPr>
          <p:sp>
            <p:nvSpPr>
              <p:cNvPr id="1154" name="Rectangle 126"/>
              <p:cNvSpPr/>
              <p:nvPr/>
            </p:nvSpPr>
            <p:spPr>
              <a:xfrm>
                <a:off x="600300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55" name="Group 125"/>
              <p:cNvGrpSpPr/>
              <p:nvPr/>
            </p:nvGrpSpPr>
            <p:grpSpPr>
              <a:xfrm>
                <a:off x="6003000" y="1219320"/>
                <a:ext cx="536760" cy="761760"/>
                <a:chOff x="6003000" y="1219320"/>
                <a:chExt cx="536760" cy="761760"/>
              </a:xfrm>
            </p:grpSpPr>
            <p:sp>
              <p:nvSpPr>
                <p:cNvPr id="1156" name="Rectangle 25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Rectangle 124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8" name="Group 131"/>
            <p:cNvGrpSpPr/>
            <p:nvPr/>
          </p:nvGrpSpPr>
          <p:grpSpPr>
            <a:xfrm>
              <a:off x="6540840" y="1219320"/>
              <a:ext cx="537120" cy="761760"/>
              <a:chOff x="6540840" y="1219320"/>
              <a:chExt cx="537120" cy="761760"/>
            </a:xfrm>
          </p:grpSpPr>
          <p:sp>
            <p:nvSpPr>
              <p:cNvPr id="1159" name="Rectangle 130"/>
              <p:cNvSpPr/>
              <p:nvPr/>
            </p:nvSpPr>
            <p:spPr>
              <a:xfrm>
                <a:off x="654084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60" name="Group 129"/>
              <p:cNvGrpSpPr/>
              <p:nvPr/>
            </p:nvGrpSpPr>
            <p:grpSpPr>
              <a:xfrm>
                <a:off x="6540840" y="1219320"/>
                <a:ext cx="536760" cy="761760"/>
                <a:chOff x="6540840" y="1219320"/>
                <a:chExt cx="536760" cy="761760"/>
              </a:xfrm>
            </p:grpSpPr>
            <p:sp>
              <p:nvSpPr>
                <p:cNvPr id="1161" name="Rectangle 26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Rectangle 128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3" name="Group 135"/>
            <p:cNvGrpSpPr/>
            <p:nvPr/>
          </p:nvGrpSpPr>
          <p:grpSpPr>
            <a:xfrm>
              <a:off x="7078680" y="1219320"/>
              <a:ext cx="537840" cy="761760"/>
              <a:chOff x="7078680" y="1219320"/>
              <a:chExt cx="537840" cy="761760"/>
            </a:xfrm>
          </p:grpSpPr>
          <p:sp>
            <p:nvSpPr>
              <p:cNvPr id="1164" name="Rectangle 134"/>
              <p:cNvSpPr/>
              <p:nvPr/>
            </p:nvSpPr>
            <p:spPr>
              <a:xfrm>
                <a:off x="707868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65" name="Group 133"/>
              <p:cNvGrpSpPr/>
              <p:nvPr/>
            </p:nvGrpSpPr>
            <p:grpSpPr>
              <a:xfrm>
                <a:off x="7078680" y="1219320"/>
                <a:ext cx="537480" cy="761760"/>
                <a:chOff x="7078680" y="1219320"/>
                <a:chExt cx="537480" cy="761760"/>
              </a:xfrm>
            </p:grpSpPr>
            <p:sp>
              <p:nvSpPr>
                <p:cNvPr id="1166" name="Rectangle 27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Rectangle 132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8" name="Group 139"/>
            <p:cNvGrpSpPr/>
            <p:nvPr/>
          </p:nvGrpSpPr>
          <p:grpSpPr>
            <a:xfrm>
              <a:off x="7616880" y="1219320"/>
              <a:ext cx="537120" cy="761760"/>
              <a:chOff x="7616880" y="1219320"/>
              <a:chExt cx="537120" cy="761760"/>
            </a:xfrm>
          </p:grpSpPr>
          <p:sp>
            <p:nvSpPr>
              <p:cNvPr id="1169" name="Rectangle 138"/>
              <p:cNvSpPr/>
              <p:nvPr/>
            </p:nvSpPr>
            <p:spPr>
              <a:xfrm>
                <a:off x="76168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0" name="Group 137"/>
              <p:cNvGrpSpPr/>
              <p:nvPr/>
            </p:nvGrpSpPr>
            <p:grpSpPr>
              <a:xfrm>
                <a:off x="7616880" y="1219320"/>
                <a:ext cx="536760" cy="761760"/>
                <a:chOff x="7616880" y="1219320"/>
                <a:chExt cx="536760" cy="761760"/>
              </a:xfrm>
            </p:grpSpPr>
            <p:sp>
              <p:nvSpPr>
                <p:cNvPr id="1171" name="Rectangle 28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1,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Rectangle 136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Group 143"/>
            <p:cNvGrpSpPr/>
            <p:nvPr/>
          </p:nvGrpSpPr>
          <p:grpSpPr>
            <a:xfrm>
              <a:off x="8154720" y="1219320"/>
              <a:ext cx="541800" cy="761760"/>
              <a:chOff x="8154720" y="1219320"/>
              <a:chExt cx="541800" cy="761760"/>
            </a:xfrm>
          </p:grpSpPr>
          <p:sp>
            <p:nvSpPr>
              <p:cNvPr id="1174" name="Rectangle 142"/>
              <p:cNvSpPr/>
              <p:nvPr/>
            </p:nvSpPr>
            <p:spPr>
              <a:xfrm>
                <a:off x="8154720" y="1219320"/>
                <a:ext cx="5418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5" name="Group 141"/>
              <p:cNvGrpSpPr/>
              <p:nvPr/>
            </p:nvGrpSpPr>
            <p:grpSpPr>
              <a:xfrm>
                <a:off x="8154720" y="1219320"/>
                <a:ext cx="541440" cy="761760"/>
                <a:chOff x="8154720" y="1219320"/>
                <a:chExt cx="541440" cy="761760"/>
              </a:xfrm>
            </p:grpSpPr>
            <p:sp>
              <p:nvSpPr>
                <p:cNvPr id="1176" name="Rectangle 29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Rectangle 140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8" name="Group 147"/>
            <p:cNvGrpSpPr/>
            <p:nvPr/>
          </p:nvGrpSpPr>
          <p:grpSpPr>
            <a:xfrm>
              <a:off x="8697240" y="1219320"/>
              <a:ext cx="446040" cy="761760"/>
              <a:chOff x="8697240" y="1219320"/>
              <a:chExt cx="446040" cy="761760"/>
            </a:xfrm>
          </p:grpSpPr>
          <p:sp>
            <p:nvSpPr>
              <p:cNvPr id="1179" name="Rectangle 146"/>
              <p:cNvSpPr/>
              <p:nvPr/>
            </p:nvSpPr>
            <p:spPr>
              <a:xfrm>
                <a:off x="8697240" y="1219320"/>
                <a:ext cx="4460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0" name="Group 145"/>
              <p:cNvGrpSpPr/>
              <p:nvPr/>
            </p:nvGrpSpPr>
            <p:grpSpPr>
              <a:xfrm>
                <a:off x="8697240" y="1219320"/>
                <a:ext cx="445680" cy="761760"/>
                <a:chOff x="8697240" y="1219320"/>
                <a:chExt cx="445680" cy="761760"/>
              </a:xfrm>
            </p:grpSpPr>
            <p:sp>
              <p:nvSpPr>
                <p:cNvPr id="1181" name="Rectangle 30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Rectangle 144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3" name="Group 151"/>
            <p:cNvGrpSpPr/>
            <p:nvPr/>
          </p:nvGrpSpPr>
          <p:grpSpPr>
            <a:xfrm>
              <a:off x="304920" y="1981080"/>
              <a:ext cx="2526480" cy="914400"/>
              <a:chOff x="304920" y="1981080"/>
              <a:chExt cx="2526480" cy="914400"/>
            </a:xfrm>
          </p:grpSpPr>
          <p:sp>
            <p:nvSpPr>
              <p:cNvPr id="1184" name="Rectangle 150"/>
              <p:cNvSpPr/>
              <p:nvPr/>
            </p:nvSpPr>
            <p:spPr>
              <a:xfrm>
                <a:off x="304920" y="1981080"/>
                <a:ext cx="25264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5" name="Group 149"/>
              <p:cNvGrpSpPr/>
              <p:nvPr/>
            </p:nvGrpSpPr>
            <p:grpSpPr>
              <a:xfrm>
                <a:off x="304920" y="1981080"/>
                <a:ext cx="2526120" cy="914400"/>
                <a:chOff x="304920" y="1981080"/>
                <a:chExt cx="2526120" cy="914400"/>
              </a:xfrm>
            </p:grpSpPr>
            <p:sp>
              <p:nvSpPr>
                <p:cNvPr id="1186" name="Rectangle 31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3, m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Rectangle 148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8" name="Group 155"/>
            <p:cNvGrpSpPr/>
            <p:nvPr/>
          </p:nvGrpSpPr>
          <p:grpSpPr>
            <a:xfrm>
              <a:off x="2831760" y="1981080"/>
              <a:ext cx="700200" cy="914400"/>
              <a:chOff x="2831760" y="1981080"/>
              <a:chExt cx="700200" cy="914400"/>
            </a:xfrm>
          </p:grpSpPr>
          <p:sp>
            <p:nvSpPr>
              <p:cNvPr id="1189" name="Rectangle 154"/>
              <p:cNvSpPr/>
              <p:nvPr/>
            </p:nvSpPr>
            <p:spPr>
              <a:xfrm>
                <a:off x="2831760" y="1981080"/>
                <a:ext cx="7002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0" name="Group 153"/>
              <p:cNvGrpSpPr/>
              <p:nvPr/>
            </p:nvGrpSpPr>
            <p:grpSpPr>
              <a:xfrm>
                <a:off x="2831760" y="1981080"/>
                <a:ext cx="699840" cy="914400"/>
                <a:chOff x="2831760" y="1981080"/>
                <a:chExt cx="699840" cy="914400"/>
              </a:xfrm>
            </p:grpSpPr>
            <p:sp>
              <p:nvSpPr>
                <p:cNvPr id="1191" name="Rectangle 3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,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Rectangle 15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3" name="Group 159"/>
            <p:cNvGrpSpPr/>
            <p:nvPr/>
          </p:nvGrpSpPr>
          <p:grpSpPr>
            <a:xfrm>
              <a:off x="3532680" y="1981080"/>
              <a:ext cx="537120" cy="914400"/>
              <a:chOff x="3532680" y="1981080"/>
              <a:chExt cx="537120" cy="914400"/>
            </a:xfrm>
          </p:grpSpPr>
          <p:sp>
            <p:nvSpPr>
              <p:cNvPr id="1194" name="Rectangle 158"/>
              <p:cNvSpPr/>
              <p:nvPr/>
            </p:nvSpPr>
            <p:spPr>
              <a:xfrm>
                <a:off x="35326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5" name="Group 157"/>
              <p:cNvGrpSpPr/>
              <p:nvPr/>
            </p:nvGrpSpPr>
            <p:grpSpPr>
              <a:xfrm>
                <a:off x="3532680" y="1981080"/>
                <a:ext cx="536760" cy="914400"/>
                <a:chOff x="3532680" y="1981080"/>
                <a:chExt cx="536760" cy="914400"/>
              </a:xfrm>
            </p:grpSpPr>
            <p:sp>
              <p:nvSpPr>
                <p:cNvPr id="1196" name="Rectangle 33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Rectangle 156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8" name="Group 163"/>
            <p:cNvGrpSpPr/>
            <p:nvPr/>
          </p:nvGrpSpPr>
          <p:grpSpPr>
            <a:xfrm>
              <a:off x="4070520" y="1981080"/>
              <a:ext cx="450720" cy="914400"/>
              <a:chOff x="4070520" y="1981080"/>
              <a:chExt cx="450720" cy="914400"/>
            </a:xfrm>
          </p:grpSpPr>
          <p:sp>
            <p:nvSpPr>
              <p:cNvPr id="1199" name="Rectangle 162"/>
              <p:cNvSpPr/>
              <p:nvPr/>
            </p:nvSpPr>
            <p:spPr>
              <a:xfrm>
                <a:off x="4070520" y="1981080"/>
                <a:ext cx="4507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0" name="Group 161"/>
              <p:cNvGrpSpPr/>
              <p:nvPr/>
            </p:nvGrpSpPr>
            <p:grpSpPr>
              <a:xfrm>
                <a:off x="4070520" y="1981080"/>
                <a:ext cx="450360" cy="914400"/>
                <a:chOff x="4070520" y="1981080"/>
                <a:chExt cx="450360" cy="914400"/>
              </a:xfrm>
            </p:grpSpPr>
            <p:sp>
              <p:nvSpPr>
                <p:cNvPr id="1201" name="Rectangle 34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Rectangle 160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3" name="Group 167"/>
            <p:cNvGrpSpPr/>
            <p:nvPr/>
          </p:nvGrpSpPr>
          <p:grpSpPr>
            <a:xfrm>
              <a:off x="4521600" y="1981080"/>
              <a:ext cx="404280" cy="914400"/>
              <a:chOff x="4521600" y="1981080"/>
              <a:chExt cx="404280" cy="914400"/>
            </a:xfrm>
          </p:grpSpPr>
          <p:sp>
            <p:nvSpPr>
              <p:cNvPr id="1204" name="Rectangle 166"/>
              <p:cNvSpPr/>
              <p:nvPr/>
            </p:nvSpPr>
            <p:spPr>
              <a:xfrm>
                <a:off x="4521600" y="1981080"/>
                <a:ext cx="4042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5" name="Group 165"/>
              <p:cNvGrpSpPr/>
              <p:nvPr/>
            </p:nvGrpSpPr>
            <p:grpSpPr>
              <a:xfrm>
                <a:off x="4521600" y="1981080"/>
                <a:ext cx="403920" cy="914400"/>
                <a:chOff x="4521600" y="1981080"/>
                <a:chExt cx="403920" cy="914400"/>
              </a:xfrm>
            </p:grpSpPr>
            <p:sp>
              <p:nvSpPr>
                <p:cNvPr id="1206" name="Rectangle 35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Rectangle 164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8" name="Group 171"/>
            <p:cNvGrpSpPr/>
            <p:nvPr/>
          </p:nvGrpSpPr>
          <p:grpSpPr>
            <a:xfrm>
              <a:off x="4926600" y="1981080"/>
              <a:ext cx="537840" cy="914400"/>
              <a:chOff x="4926600" y="1981080"/>
              <a:chExt cx="537840" cy="914400"/>
            </a:xfrm>
          </p:grpSpPr>
          <p:sp>
            <p:nvSpPr>
              <p:cNvPr id="1209" name="Rectangle 170"/>
              <p:cNvSpPr/>
              <p:nvPr/>
            </p:nvSpPr>
            <p:spPr>
              <a:xfrm>
                <a:off x="492660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0" name="Group 169"/>
              <p:cNvGrpSpPr/>
              <p:nvPr/>
            </p:nvGrpSpPr>
            <p:grpSpPr>
              <a:xfrm>
                <a:off x="4926600" y="1981080"/>
                <a:ext cx="537480" cy="914400"/>
                <a:chOff x="4926600" y="1981080"/>
                <a:chExt cx="537480" cy="914400"/>
              </a:xfrm>
            </p:grpSpPr>
            <p:sp>
              <p:nvSpPr>
                <p:cNvPr id="1211" name="Rectangle 36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Rectangle 168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3" name="Group 175"/>
            <p:cNvGrpSpPr/>
            <p:nvPr/>
          </p:nvGrpSpPr>
          <p:grpSpPr>
            <a:xfrm>
              <a:off x="5465160" y="1981080"/>
              <a:ext cx="537120" cy="914400"/>
              <a:chOff x="5465160" y="1981080"/>
              <a:chExt cx="537120" cy="914400"/>
            </a:xfrm>
          </p:grpSpPr>
          <p:sp>
            <p:nvSpPr>
              <p:cNvPr id="1214" name="Rectangle 174"/>
              <p:cNvSpPr/>
              <p:nvPr/>
            </p:nvSpPr>
            <p:spPr>
              <a:xfrm>
                <a:off x="546516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5" name="Group 173"/>
              <p:cNvGrpSpPr/>
              <p:nvPr/>
            </p:nvGrpSpPr>
            <p:grpSpPr>
              <a:xfrm>
                <a:off x="5465160" y="1981080"/>
                <a:ext cx="536760" cy="914400"/>
                <a:chOff x="5465160" y="1981080"/>
                <a:chExt cx="536760" cy="914400"/>
              </a:xfrm>
            </p:grpSpPr>
            <p:sp>
              <p:nvSpPr>
                <p:cNvPr id="1216" name="Rectangle 37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Rectangle 172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8" name="Group 179"/>
            <p:cNvGrpSpPr/>
            <p:nvPr/>
          </p:nvGrpSpPr>
          <p:grpSpPr>
            <a:xfrm>
              <a:off x="6003000" y="1981080"/>
              <a:ext cx="537120" cy="914400"/>
              <a:chOff x="6003000" y="1981080"/>
              <a:chExt cx="537120" cy="914400"/>
            </a:xfrm>
          </p:grpSpPr>
          <p:sp>
            <p:nvSpPr>
              <p:cNvPr id="1219" name="Rectangle 178"/>
              <p:cNvSpPr/>
              <p:nvPr/>
            </p:nvSpPr>
            <p:spPr>
              <a:xfrm>
                <a:off x="600300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0" name="Group 177"/>
              <p:cNvGrpSpPr/>
              <p:nvPr/>
            </p:nvGrpSpPr>
            <p:grpSpPr>
              <a:xfrm>
                <a:off x="6003000" y="1981080"/>
                <a:ext cx="536760" cy="914400"/>
                <a:chOff x="6003000" y="1981080"/>
                <a:chExt cx="536760" cy="914400"/>
              </a:xfrm>
            </p:grpSpPr>
            <p:sp>
              <p:nvSpPr>
                <p:cNvPr id="1221" name="Rectangle 38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Rectangle 176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3" name="Group 183"/>
            <p:cNvGrpSpPr/>
            <p:nvPr/>
          </p:nvGrpSpPr>
          <p:grpSpPr>
            <a:xfrm>
              <a:off x="6540840" y="1981080"/>
              <a:ext cx="537120" cy="914400"/>
              <a:chOff x="6540840" y="1981080"/>
              <a:chExt cx="537120" cy="914400"/>
            </a:xfrm>
          </p:grpSpPr>
          <p:sp>
            <p:nvSpPr>
              <p:cNvPr id="1224" name="Rectangle 182"/>
              <p:cNvSpPr/>
              <p:nvPr/>
            </p:nvSpPr>
            <p:spPr>
              <a:xfrm>
                <a:off x="654084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5" name="Group 181"/>
              <p:cNvGrpSpPr/>
              <p:nvPr/>
            </p:nvGrpSpPr>
            <p:grpSpPr>
              <a:xfrm>
                <a:off x="6540840" y="1981080"/>
                <a:ext cx="536760" cy="914400"/>
                <a:chOff x="6540840" y="1981080"/>
                <a:chExt cx="536760" cy="914400"/>
              </a:xfrm>
            </p:grpSpPr>
            <p:sp>
              <p:nvSpPr>
                <p:cNvPr id="1226" name="Rectangle 39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Rectangle 180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8" name="Group 187"/>
            <p:cNvGrpSpPr/>
            <p:nvPr/>
          </p:nvGrpSpPr>
          <p:grpSpPr>
            <a:xfrm>
              <a:off x="7078680" y="1981080"/>
              <a:ext cx="537840" cy="914400"/>
              <a:chOff x="7078680" y="1981080"/>
              <a:chExt cx="537840" cy="914400"/>
            </a:xfrm>
          </p:grpSpPr>
          <p:sp>
            <p:nvSpPr>
              <p:cNvPr id="1229" name="Rectangle 186"/>
              <p:cNvSpPr/>
              <p:nvPr/>
            </p:nvSpPr>
            <p:spPr>
              <a:xfrm>
                <a:off x="707868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0" name="Group 185"/>
              <p:cNvGrpSpPr/>
              <p:nvPr/>
            </p:nvGrpSpPr>
            <p:grpSpPr>
              <a:xfrm>
                <a:off x="7078680" y="1981080"/>
                <a:ext cx="537480" cy="914400"/>
                <a:chOff x="7078680" y="1981080"/>
                <a:chExt cx="537480" cy="914400"/>
              </a:xfrm>
            </p:grpSpPr>
            <p:sp>
              <p:nvSpPr>
                <p:cNvPr id="1231" name="Rectangle 40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Rectangle 184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3" name="Group 191"/>
            <p:cNvGrpSpPr/>
            <p:nvPr/>
          </p:nvGrpSpPr>
          <p:grpSpPr>
            <a:xfrm>
              <a:off x="7616880" y="1981080"/>
              <a:ext cx="537120" cy="914400"/>
              <a:chOff x="7616880" y="1981080"/>
              <a:chExt cx="537120" cy="914400"/>
            </a:xfrm>
          </p:grpSpPr>
          <p:sp>
            <p:nvSpPr>
              <p:cNvPr id="1234" name="Rectangle 190"/>
              <p:cNvSpPr/>
              <p:nvPr/>
            </p:nvSpPr>
            <p:spPr>
              <a:xfrm>
                <a:off x="76168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5" name="Group 189"/>
              <p:cNvGrpSpPr/>
              <p:nvPr/>
            </p:nvGrpSpPr>
            <p:grpSpPr>
              <a:xfrm>
                <a:off x="7616880" y="1981080"/>
                <a:ext cx="536760" cy="914400"/>
                <a:chOff x="7616880" y="1981080"/>
                <a:chExt cx="536760" cy="914400"/>
              </a:xfrm>
            </p:grpSpPr>
            <p:sp>
              <p:nvSpPr>
                <p:cNvPr id="1236" name="Rectangle 41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,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Rectangle 188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8" name="Group 195"/>
            <p:cNvGrpSpPr/>
            <p:nvPr/>
          </p:nvGrpSpPr>
          <p:grpSpPr>
            <a:xfrm>
              <a:off x="8154720" y="1981080"/>
              <a:ext cx="541800" cy="914400"/>
              <a:chOff x="8154720" y="1981080"/>
              <a:chExt cx="541800" cy="914400"/>
            </a:xfrm>
          </p:grpSpPr>
          <p:sp>
            <p:nvSpPr>
              <p:cNvPr id="1239" name="Rectangle 194"/>
              <p:cNvSpPr/>
              <p:nvPr/>
            </p:nvSpPr>
            <p:spPr>
              <a:xfrm>
                <a:off x="8154720" y="1981080"/>
                <a:ext cx="5418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40" name="Group 193"/>
              <p:cNvGrpSpPr/>
              <p:nvPr/>
            </p:nvGrpSpPr>
            <p:grpSpPr>
              <a:xfrm>
                <a:off x="8154720" y="1981080"/>
                <a:ext cx="541440" cy="914400"/>
                <a:chOff x="8154720" y="1981080"/>
                <a:chExt cx="541440" cy="914400"/>
              </a:xfrm>
            </p:grpSpPr>
            <p:sp>
              <p:nvSpPr>
                <p:cNvPr id="1241" name="Rectangle 4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,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Rectangle 19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3" name="Group 199"/>
            <p:cNvGrpSpPr/>
            <p:nvPr/>
          </p:nvGrpSpPr>
          <p:grpSpPr>
            <a:xfrm>
              <a:off x="8697240" y="1981080"/>
              <a:ext cx="446040" cy="914400"/>
              <a:chOff x="8697240" y="1981080"/>
              <a:chExt cx="446040" cy="914400"/>
            </a:xfrm>
          </p:grpSpPr>
          <p:sp>
            <p:nvSpPr>
              <p:cNvPr id="1244" name="Rectangle 198"/>
              <p:cNvSpPr/>
              <p:nvPr/>
            </p:nvSpPr>
            <p:spPr>
              <a:xfrm>
                <a:off x="8697240" y="1981080"/>
                <a:ext cx="4460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45" name="Group 197"/>
              <p:cNvGrpSpPr/>
              <p:nvPr/>
            </p:nvGrpSpPr>
            <p:grpSpPr>
              <a:xfrm>
                <a:off x="8697240" y="1981080"/>
                <a:ext cx="445680" cy="914400"/>
                <a:chOff x="8697240" y="1981080"/>
                <a:chExt cx="445680" cy="914400"/>
              </a:xfrm>
            </p:grpSpPr>
            <p:sp>
              <p:nvSpPr>
                <p:cNvPr id="1246" name="Rectangle 43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Rectangle 196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48" name="Group 266"/>
          <p:cNvGrpSpPr/>
          <p:nvPr/>
        </p:nvGrpSpPr>
        <p:grpSpPr>
          <a:xfrm>
            <a:off x="685800" y="3505320"/>
            <a:ext cx="8305200" cy="1142280"/>
            <a:chOff x="685800" y="3505320"/>
            <a:chExt cx="8305200" cy="1142280"/>
          </a:xfrm>
        </p:grpSpPr>
        <p:grpSp>
          <p:nvGrpSpPr>
            <p:cNvPr id="1249" name="Group 217"/>
            <p:cNvGrpSpPr/>
            <p:nvPr/>
          </p:nvGrpSpPr>
          <p:grpSpPr>
            <a:xfrm>
              <a:off x="685800" y="3505320"/>
              <a:ext cx="1759320" cy="1142280"/>
              <a:chOff x="685800" y="3505320"/>
              <a:chExt cx="1759320" cy="1142280"/>
            </a:xfrm>
          </p:grpSpPr>
          <p:sp>
            <p:nvSpPr>
              <p:cNvPr id="1250" name="Rectangle 216"/>
              <p:cNvSpPr/>
              <p:nvPr/>
            </p:nvSpPr>
            <p:spPr>
              <a:xfrm>
                <a:off x="685800" y="3505320"/>
                <a:ext cx="175932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51" name="Group 215"/>
              <p:cNvGrpSpPr/>
              <p:nvPr/>
            </p:nvGrpSpPr>
            <p:grpSpPr>
              <a:xfrm>
                <a:off x="685800" y="3505320"/>
                <a:ext cx="1758960" cy="1141920"/>
                <a:chOff x="685800" y="3505320"/>
                <a:chExt cx="1758960" cy="1141920"/>
              </a:xfrm>
            </p:grpSpPr>
            <p:sp>
              <p:nvSpPr>
                <p:cNvPr id="1252" name="Rectangle 201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LOUZAVÝ ÚHR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Rectangle 214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4" name="Group 221"/>
            <p:cNvGrpSpPr/>
            <p:nvPr/>
          </p:nvGrpSpPr>
          <p:grpSpPr>
            <a:xfrm>
              <a:off x="2445480" y="3505320"/>
              <a:ext cx="641880" cy="1142280"/>
              <a:chOff x="2445480" y="3505320"/>
              <a:chExt cx="641880" cy="1142280"/>
            </a:xfrm>
          </p:grpSpPr>
          <p:sp>
            <p:nvSpPr>
              <p:cNvPr id="1255" name="Rectangle 220"/>
              <p:cNvSpPr/>
              <p:nvPr/>
            </p:nvSpPr>
            <p:spPr>
              <a:xfrm>
                <a:off x="24454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56" name="Group 219"/>
              <p:cNvGrpSpPr/>
              <p:nvPr/>
            </p:nvGrpSpPr>
            <p:grpSpPr>
              <a:xfrm>
                <a:off x="2445480" y="3505320"/>
                <a:ext cx="641520" cy="1141920"/>
                <a:chOff x="2445480" y="3505320"/>
                <a:chExt cx="641520" cy="1141920"/>
              </a:xfrm>
            </p:grpSpPr>
            <p:sp>
              <p:nvSpPr>
                <p:cNvPr id="1257" name="Rectangle 202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2,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Rectangle 218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9" name="Group 225"/>
            <p:cNvGrpSpPr/>
            <p:nvPr/>
          </p:nvGrpSpPr>
          <p:grpSpPr>
            <a:xfrm>
              <a:off x="3088080" y="3505320"/>
              <a:ext cx="641880" cy="1142280"/>
              <a:chOff x="3088080" y="3505320"/>
              <a:chExt cx="641880" cy="1142280"/>
            </a:xfrm>
          </p:grpSpPr>
          <p:sp>
            <p:nvSpPr>
              <p:cNvPr id="1260" name="Rectangle 224"/>
              <p:cNvSpPr/>
              <p:nvPr/>
            </p:nvSpPr>
            <p:spPr>
              <a:xfrm>
                <a:off x="30880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1" name="Group 223"/>
              <p:cNvGrpSpPr/>
              <p:nvPr/>
            </p:nvGrpSpPr>
            <p:grpSpPr>
              <a:xfrm>
                <a:off x="3088080" y="3505320"/>
                <a:ext cx="641520" cy="1141920"/>
                <a:chOff x="3088080" y="3505320"/>
                <a:chExt cx="641520" cy="1141920"/>
              </a:xfrm>
            </p:grpSpPr>
            <p:sp>
              <p:nvSpPr>
                <p:cNvPr id="1262" name="Rectangle 203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54,9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222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4" name="Group 229"/>
            <p:cNvGrpSpPr/>
            <p:nvPr/>
          </p:nvGrpSpPr>
          <p:grpSpPr>
            <a:xfrm>
              <a:off x="3730320" y="3505320"/>
              <a:ext cx="513000" cy="1142280"/>
              <a:chOff x="3730320" y="3505320"/>
              <a:chExt cx="513000" cy="1142280"/>
            </a:xfrm>
          </p:grpSpPr>
          <p:sp>
            <p:nvSpPr>
              <p:cNvPr id="1265" name="Rectangle 228"/>
              <p:cNvSpPr/>
              <p:nvPr/>
            </p:nvSpPr>
            <p:spPr>
              <a:xfrm>
                <a:off x="373032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6" name="Group 227"/>
              <p:cNvGrpSpPr/>
              <p:nvPr/>
            </p:nvGrpSpPr>
            <p:grpSpPr>
              <a:xfrm>
                <a:off x="3730320" y="3505320"/>
                <a:ext cx="512640" cy="1141920"/>
                <a:chOff x="3730320" y="3505320"/>
                <a:chExt cx="512640" cy="1141920"/>
              </a:xfrm>
            </p:grpSpPr>
            <p:sp>
              <p:nvSpPr>
                <p:cNvPr id="1267" name="Rectangle 204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226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9" name="Group 233"/>
            <p:cNvGrpSpPr/>
            <p:nvPr/>
          </p:nvGrpSpPr>
          <p:grpSpPr>
            <a:xfrm>
              <a:off x="4244040" y="3505320"/>
              <a:ext cx="512640" cy="1142280"/>
              <a:chOff x="4244040" y="3505320"/>
              <a:chExt cx="512640" cy="1142280"/>
            </a:xfrm>
          </p:grpSpPr>
          <p:sp>
            <p:nvSpPr>
              <p:cNvPr id="1270" name="Rectangle 232"/>
              <p:cNvSpPr/>
              <p:nvPr/>
            </p:nvSpPr>
            <p:spPr>
              <a:xfrm>
                <a:off x="4244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1" name="Group 231"/>
              <p:cNvGrpSpPr/>
              <p:nvPr/>
            </p:nvGrpSpPr>
            <p:grpSpPr>
              <a:xfrm>
                <a:off x="4244040" y="3505320"/>
                <a:ext cx="512280" cy="1141920"/>
                <a:chOff x="4244040" y="3505320"/>
                <a:chExt cx="512280" cy="1141920"/>
              </a:xfrm>
            </p:grpSpPr>
            <p:sp>
              <p:nvSpPr>
                <p:cNvPr id="1272" name="Rectangle 205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2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230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4" name="Group 237"/>
            <p:cNvGrpSpPr/>
            <p:nvPr/>
          </p:nvGrpSpPr>
          <p:grpSpPr>
            <a:xfrm>
              <a:off x="4757040" y="3505320"/>
              <a:ext cx="512640" cy="1142280"/>
              <a:chOff x="4757040" y="3505320"/>
              <a:chExt cx="512640" cy="1142280"/>
            </a:xfrm>
          </p:grpSpPr>
          <p:sp>
            <p:nvSpPr>
              <p:cNvPr id="1275" name="Rectangle 236"/>
              <p:cNvSpPr/>
              <p:nvPr/>
            </p:nvSpPr>
            <p:spPr>
              <a:xfrm>
                <a:off x="4757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6" name="Group 235"/>
              <p:cNvGrpSpPr/>
              <p:nvPr/>
            </p:nvGrpSpPr>
            <p:grpSpPr>
              <a:xfrm>
                <a:off x="4757040" y="3505320"/>
                <a:ext cx="512280" cy="1141920"/>
                <a:chOff x="4757040" y="3505320"/>
                <a:chExt cx="512280" cy="1141920"/>
              </a:xfrm>
            </p:grpSpPr>
            <p:sp>
              <p:nvSpPr>
                <p:cNvPr id="1277" name="Rectangle 206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234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9" name="Group 241"/>
            <p:cNvGrpSpPr/>
            <p:nvPr/>
          </p:nvGrpSpPr>
          <p:grpSpPr>
            <a:xfrm>
              <a:off x="5270040" y="3505320"/>
              <a:ext cx="512640" cy="1142280"/>
              <a:chOff x="5270040" y="3505320"/>
              <a:chExt cx="512640" cy="1142280"/>
            </a:xfrm>
          </p:grpSpPr>
          <p:sp>
            <p:nvSpPr>
              <p:cNvPr id="1280" name="Rectangle 240"/>
              <p:cNvSpPr/>
              <p:nvPr/>
            </p:nvSpPr>
            <p:spPr>
              <a:xfrm>
                <a:off x="5270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1" name="Group 239"/>
              <p:cNvGrpSpPr/>
              <p:nvPr/>
            </p:nvGrpSpPr>
            <p:grpSpPr>
              <a:xfrm>
                <a:off x="5270040" y="3505320"/>
                <a:ext cx="512280" cy="1141920"/>
                <a:chOff x="5270040" y="3505320"/>
                <a:chExt cx="512280" cy="1141920"/>
              </a:xfrm>
            </p:grpSpPr>
            <p:sp>
              <p:nvSpPr>
                <p:cNvPr id="1282" name="Rectangle 207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6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238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4" name="Group 245"/>
            <p:cNvGrpSpPr/>
            <p:nvPr/>
          </p:nvGrpSpPr>
          <p:grpSpPr>
            <a:xfrm>
              <a:off x="5783040" y="3505320"/>
              <a:ext cx="512640" cy="1142280"/>
              <a:chOff x="5783040" y="3505320"/>
              <a:chExt cx="512640" cy="1142280"/>
            </a:xfrm>
          </p:grpSpPr>
          <p:sp>
            <p:nvSpPr>
              <p:cNvPr id="1285" name="Rectangle 244"/>
              <p:cNvSpPr/>
              <p:nvPr/>
            </p:nvSpPr>
            <p:spPr>
              <a:xfrm>
                <a:off x="5783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6" name="Group 243"/>
              <p:cNvGrpSpPr/>
              <p:nvPr/>
            </p:nvGrpSpPr>
            <p:grpSpPr>
              <a:xfrm>
                <a:off x="5783040" y="3505320"/>
                <a:ext cx="512280" cy="1141920"/>
                <a:chOff x="5783040" y="3505320"/>
                <a:chExt cx="512280" cy="1141920"/>
              </a:xfrm>
            </p:grpSpPr>
            <p:sp>
              <p:nvSpPr>
                <p:cNvPr id="1287" name="Rectangle 208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7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242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9" name="Group 249"/>
            <p:cNvGrpSpPr/>
            <p:nvPr/>
          </p:nvGrpSpPr>
          <p:grpSpPr>
            <a:xfrm>
              <a:off x="6296400" y="3505320"/>
              <a:ext cx="512640" cy="1142280"/>
              <a:chOff x="6296400" y="3505320"/>
              <a:chExt cx="512640" cy="1142280"/>
            </a:xfrm>
          </p:grpSpPr>
          <p:sp>
            <p:nvSpPr>
              <p:cNvPr id="1290" name="Rectangle 248"/>
              <p:cNvSpPr/>
              <p:nvPr/>
            </p:nvSpPr>
            <p:spPr>
              <a:xfrm>
                <a:off x="6296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1" name="Group 247"/>
              <p:cNvGrpSpPr/>
              <p:nvPr/>
            </p:nvGrpSpPr>
            <p:grpSpPr>
              <a:xfrm>
                <a:off x="6296400" y="3505320"/>
                <a:ext cx="512280" cy="1141920"/>
                <a:chOff x="6296400" y="3505320"/>
                <a:chExt cx="512280" cy="1141920"/>
              </a:xfrm>
            </p:grpSpPr>
            <p:sp>
              <p:nvSpPr>
                <p:cNvPr id="1292" name="Rectangle 209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1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246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4" name="Group 253"/>
            <p:cNvGrpSpPr/>
            <p:nvPr/>
          </p:nvGrpSpPr>
          <p:grpSpPr>
            <a:xfrm>
              <a:off x="6809400" y="3505320"/>
              <a:ext cx="512640" cy="1142280"/>
              <a:chOff x="6809400" y="3505320"/>
              <a:chExt cx="512640" cy="1142280"/>
            </a:xfrm>
          </p:grpSpPr>
          <p:sp>
            <p:nvSpPr>
              <p:cNvPr id="1295" name="Rectangle 252"/>
              <p:cNvSpPr/>
              <p:nvPr/>
            </p:nvSpPr>
            <p:spPr>
              <a:xfrm>
                <a:off x="6809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6" name="Group 251"/>
              <p:cNvGrpSpPr/>
              <p:nvPr/>
            </p:nvGrpSpPr>
            <p:grpSpPr>
              <a:xfrm>
                <a:off x="6809400" y="3505320"/>
                <a:ext cx="512280" cy="1141920"/>
                <a:chOff x="6809400" y="3505320"/>
                <a:chExt cx="512280" cy="1141920"/>
              </a:xfrm>
            </p:grpSpPr>
            <p:sp>
              <p:nvSpPr>
                <p:cNvPr id="1297" name="Rectangle 21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0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25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9" name="Group 257"/>
            <p:cNvGrpSpPr/>
            <p:nvPr/>
          </p:nvGrpSpPr>
          <p:grpSpPr>
            <a:xfrm>
              <a:off x="7322400" y="3505320"/>
              <a:ext cx="513000" cy="1142280"/>
              <a:chOff x="7322400" y="3505320"/>
              <a:chExt cx="513000" cy="1142280"/>
            </a:xfrm>
          </p:grpSpPr>
          <p:sp>
            <p:nvSpPr>
              <p:cNvPr id="1300" name="Rectangle 256"/>
              <p:cNvSpPr/>
              <p:nvPr/>
            </p:nvSpPr>
            <p:spPr>
              <a:xfrm>
                <a:off x="732240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1" name="Group 255"/>
              <p:cNvGrpSpPr/>
              <p:nvPr/>
            </p:nvGrpSpPr>
            <p:grpSpPr>
              <a:xfrm>
                <a:off x="7322400" y="3505320"/>
                <a:ext cx="512640" cy="1141920"/>
                <a:chOff x="7322400" y="3505320"/>
                <a:chExt cx="512640" cy="1141920"/>
              </a:xfrm>
            </p:grpSpPr>
            <p:sp>
              <p:nvSpPr>
                <p:cNvPr id="1302" name="Rectangle 211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9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254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4" name="Group 261"/>
            <p:cNvGrpSpPr/>
            <p:nvPr/>
          </p:nvGrpSpPr>
          <p:grpSpPr>
            <a:xfrm>
              <a:off x="7835760" y="3505320"/>
              <a:ext cx="641880" cy="1142280"/>
              <a:chOff x="7835760" y="3505320"/>
              <a:chExt cx="641880" cy="1142280"/>
            </a:xfrm>
          </p:grpSpPr>
          <p:sp>
            <p:nvSpPr>
              <p:cNvPr id="1305" name="Rectangle 260"/>
              <p:cNvSpPr/>
              <p:nvPr/>
            </p:nvSpPr>
            <p:spPr>
              <a:xfrm>
                <a:off x="783576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6" name="Group 259"/>
              <p:cNvGrpSpPr/>
              <p:nvPr/>
            </p:nvGrpSpPr>
            <p:grpSpPr>
              <a:xfrm>
                <a:off x="7835760" y="3505320"/>
                <a:ext cx="641520" cy="1141920"/>
                <a:chOff x="7835760" y="3505320"/>
                <a:chExt cx="641520" cy="1141920"/>
              </a:xfrm>
            </p:grpSpPr>
            <p:sp>
              <p:nvSpPr>
                <p:cNvPr id="1307" name="Rectangle 212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74,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258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9" name="Group 265"/>
            <p:cNvGrpSpPr/>
            <p:nvPr/>
          </p:nvGrpSpPr>
          <p:grpSpPr>
            <a:xfrm>
              <a:off x="8478360" y="3505320"/>
              <a:ext cx="512640" cy="1142280"/>
              <a:chOff x="8478360" y="3505320"/>
              <a:chExt cx="512640" cy="1142280"/>
            </a:xfrm>
          </p:grpSpPr>
          <p:sp>
            <p:nvSpPr>
              <p:cNvPr id="1310" name="Rectangle 264"/>
              <p:cNvSpPr/>
              <p:nvPr/>
            </p:nvSpPr>
            <p:spPr>
              <a:xfrm>
                <a:off x="847836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11" name="Group 263"/>
              <p:cNvGrpSpPr/>
              <p:nvPr/>
            </p:nvGrpSpPr>
            <p:grpSpPr>
              <a:xfrm>
                <a:off x="8478360" y="3505320"/>
                <a:ext cx="512280" cy="1141920"/>
                <a:chOff x="8478360" y="3505320"/>
                <a:chExt cx="512280" cy="1141920"/>
              </a:xfrm>
            </p:grpSpPr>
            <p:sp>
              <p:nvSpPr>
                <p:cNvPr id="1312" name="Rectangle 213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262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14" name="Line 267"/>
          <p:cNvSpPr/>
          <p:nvPr/>
        </p:nvSpPr>
        <p:spPr>
          <a:xfrm flipH="1">
            <a:off x="2819520" y="2895480"/>
            <a:ext cx="4572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Text Box 268"/>
          <p:cNvSpPr/>
          <p:nvPr/>
        </p:nvSpPr>
        <p:spPr>
          <a:xfrm>
            <a:off x="426240" y="5229360"/>
            <a:ext cx="85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EDNOVÁ HODNOTA –  SOUČET „NOVÝ“ LEDEN + 11 předchozích 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Text Box 269"/>
          <p:cNvSpPr/>
          <p:nvPr/>
        </p:nvSpPr>
        <p:spPr>
          <a:xfrm>
            <a:off x="1063440" y="5715000"/>
            <a:ext cx="714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ÚNOROVÁ  HODNOTA –  SOUČET „NOVÝ“ LEDEN + ÚN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+STARÉ OSTATNÍ MĚSÍ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TextovéPole 266"/>
          <p:cNvSpPr/>
          <p:nvPr/>
        </p:nvSpPr>
        <p:spPr>
          <a:xfrm>
            <a:off x="516240" y="4797360"/>
            <a:ext cx="89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louzavý úhrn,vždy součet 12 měsíčních hodnot, tj. daný měsíc plus +11 předchozí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 - 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FICKÉ ZNÁZORNĚ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řada běžných hodno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součtová čár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řada klouzavých úhrn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společné bo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 - diagramu( tj. spol. hodno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ýchozí bod součtové č. a řady běžných hodno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lední hodnota součtové čáry a poslední hodnota klouzavého úhr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ymezení základních statistických pojmů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1" name="Rectangle 5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2" name="Picture 4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818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3" name="Object 2"/>
          <p:cNvGraphicFramePr/>
          <p:nvPr/>
        </p:nvGraphicFramePr>
        <p:xfrm>
          <a:off x="609480" y="1066680"/>
          <a:ext cx="8534520" cy="54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534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 - 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34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468360" y="1197000"/>
            <a:ext cx="8077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Hromadné jevy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vy, kter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se vyskytuj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ěcí, událostí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ýsledkem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ůsobení velkého množství příčin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11280" y="4869000"/>
            <a:ext cx="670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: kvalita vody – chem. složení, emise, produkce odpadů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zaměstnanost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novorozenecká úmrtnost,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HMOTNOST NOVOROZENÝCH DĚ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zatížení osob hlukem…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Kdybych měl poslední den života, chtěl bych ho  strávit na přednášce ze statistiky –</a:t>
            </a:r>
            <a:br>
              <a:rPr sz="2800"/>
            </a:b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 -  je tak nekonečně dlouhá ……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533520" y="1176480"/>
            <a:ext cx="8305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Statistická jednotka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je to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rčitý jev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či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ve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 který je předmětem statistického šetření a pro který se zjišťují údaj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á jednotka musí být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řesně vymezen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na počátku vlastního šetření a to z hledisk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ěcného, časového, prostorového.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CO, KDY, K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98560" y="4917960"/>
            <a:ext cx="763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. jednotka – občan, novorozenec, rodina, dům,, obec,výrobní podnik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C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Kd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Statistický zna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je to určitá vlastnost statistické jednotky, kterou se snažíme postihnu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Tzv.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hodné (společné) znak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ymezují příslušnost statistické jednotky k určitému statistickému souboru.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Ostatní jsou znaky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oměnlivé (variabilní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92520" y="5181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295280" y="505764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shodný znak – novoroze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proměnlivé znaky – váha, délka, jméno, národnost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533520" y="1066680"/>
            <a:ext cx="807696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Statistické znaky lze dělit na zna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prostorov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B)  časov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C) věcné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kvalitativn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lternativ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ož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kvantitativn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spoj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iskrétní/nespoj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629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943600" y="0"/>
            <a:ext cx="2754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at. jednot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novorozene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ísto narození: Br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atum: 30.9.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hlaví:mu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árodnost:česk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élka v cm: 5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185360" y="640080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Doplňte další příkl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 flipV="1">
            <a:off x="3276720" y="1676160"/>
            <a:ext cx="2438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2819520" y="236232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V="1">
            <a:off x="4724280" y="3885840"/>
            <a:ext cx="114300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4038480" y="46483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0"/>
          <p:cNvSpPr/>
          <p:nvPr/>
        </p:nvSpPr>
        <p:spPr>
          <a:xfrm flipV="1">
            <a:off x="5257800" y="6095880"/>
            <a:ext cx="6858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é znaky můžeme získat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řím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– (např. měření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zvážení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tj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………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..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nepřím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(výpočtem),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znaky odvozené)  tj. ………….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457200" y="1523880"/>
            <a:ext cx="84582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Arial"/>
              </a:rPr>
              <a:t>Statistický soubor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kupina statistických jednote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ejného druh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(věcně, prostorově a časově vymezený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Je to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nožina všech prvk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, které jsou předmětem daného statistického zkoumání.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Každý z prvků je statistickou jednotko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vky tvořící statistický soubor maj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rčité společné vlastnosti - tzv. </a:t>
            </a:r>
            <a:r>
              <a:rPr b="1" lang="cs-CZ" sz="2800" spc="-1" strike="noStrike">
                <a:solidFill>
                  <a:srgbClr val="ffcc66"/>
                </a:solidFill>
                <a:latin typeface="Times New Roman"/>
              </a:rPr>
              <a:t>shodné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- 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identifikační znaky</a:t>
            </a:r>
            <a:r>
              <a:rPr b="0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ledované znak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  tyto znaky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atisticky šetří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342900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istický soubor Novorozenci v Č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hodný - identifikační znak: novorozen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ledovaný znak: váha, živý, pohlav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209680" y="5105520"/>
            <a:ext cx="769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istický soubor:Občané v produktivním věk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hodný - identifikační zna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52280"/>
            <a:ext cx="85341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ý soubor můžeme podle různých hledisek dále děli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ý soub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jednorozměrný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vícerozměrn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04920" y="5181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421080" y="396252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 –rozm.:3650, 2100, 1200, 3500, 4100, 28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35268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419720" y="4757760"/>
            <a:ext cx="3809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650, 55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100, 47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200, 36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500,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685800" y="342900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(váha  dítěte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811080" y="4800600"/>
            <a:ext cx="2984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vourozm. (váha; délka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! jako dvojice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tatistický soubor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základní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 a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výběrový</a:t>
            </a:r>
            <a:r>
              <a:rPr b="0" lang="cs-CZ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Výběrový soub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je podmnožinou základního souboru. Je vytvořen ze statistických jednotek, vybraných podle určitého hlediska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Novorozenci v Jihomoravském kraj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Reprezentativní výběr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kud zkoumaný výběr dobře odráží strukturu celého zkoumaného souboru, nazýváme jej reprezentativním výběre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šetře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růzkum volebních výsledků, peopleme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Rozsah statistického soubor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čet statistických jednotek v soubor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 – rozsah základního soubor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 – rozsah výběrového soubor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52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0" spc="-1" strike="noStrike" u="sng">
                <a:solidFill>
                  <a:srgbClr val="ffc000"/>
                </a:solidFill>
                <a:uFillTx/>
                <a:latin typeface="Times New Roman"/>
              </a:rPr>
              <a:t>statistika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000"/>
                </a:solidFill>
                <a:latin typeface="Times New Roman"/>
              </a:rPr>
              <a:t>defini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000"/>
                </a:solidFill>
                <a:latin typeface="Times New Roman"/>
              </a:rPr>
              <a:t>pojet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raf – defin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esba podle pravidel  znázorňující kvalitativní a kvantitativní 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prvk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grafického znázorn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.Název, příp. podnáze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.vlastní kres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.stupnice a  její popis (rovnoměrná,  nerovnoměrn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.legenda/klí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.zdroj údaj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světlivky, poznámk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 – ukáz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4" name="Picture 5" descr="G:\STATISTIKA\graf_vyrez_2.GIF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5482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724280" y="5714640"/>
            <a:ext cx="3353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ypy graf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chém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znázorňuje strukturu a vztahy jevu či proce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agra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znázorňuje kvantitativní údaje o soubo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loupcový, bodový, plošný at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tistická map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prostorové rozložení prvku v podkladové map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4572000" y="5977080"/>
            <a:ext cx="885960" cy="880920"/>
          </a:xfrm>
          <a:custGeom>
            <a:avLst/>
            <a:gdLst>
              <a:gd name="textAreaLeft" fmla="*/ 0 w 885960"/>
              <a:gd name="textAreaRight" fmla="*/ 250560 w 885960"/>
              <a:gd name="textAreaTop" fmla="*/ 33876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chém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4" descr="C:\Documents and Settings\svatonova\Dokumenty\ZPand Enviro\schema_propojení.gif"/>
          <p:cNvPicPr/>
          <p:nvPr/>
        </p:nvPicPr>
        <p:blipFill>
          <a:blip r:embed="rId1"/>
          <a:stretch/>
        </p:blipFill>
        <p:spPr>
          <a:xfrm>
            <a:off x="1447920" y="2286000"/>
            <a:ext cx="5736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iagram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1028" descr="C:\Documents and Settings\svatonova\Dokumenty\ZPand Enviro\investice_zp.gif"/>
          <p:cNvPicPr/>
          <p:nvPr/>
        </p:nvPicPr>
        <p:blipFill>
          <a:blip r:embed="rId1"/>
          <a:stretch/>
        </p:blipFill>
        <p:spPr>
          <a:xfrm>
            <a:off x="380880" y="1600200"/>
            <a:ext cx="8058240" cy="52578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29"/>
          <p:cNvSpPr/>
          <p:nvPr/>
        </p:nvSpPr>
        <p:spPr>
          <a:xfrm>
            <a:off x="4343400" y="60958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Diagram_ - věkové složení obyv., tzv.pyramida život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4" descr="G:\STATISTIKA\věk_pyramida_2001.jpg"/>
          <p:cNvPicPr/>
          <p:nvPr/>
        </p:nvPicPr>
        <p:blipFill>
          <a:blip r:embed="rId1"/>
          <a:stretch/>
        </p:blipFill>
        <p:spPr>
          <a:xfrm>
            <a:off x="457200" y="1371600"/>
            <a:ext cx="8077320" cy="49006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5105520" y="6248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Odchylka od průměrné teploty na Zem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1" name="Zástupný symbol pro obsah 3" descr="140let-teplota.gif"/>
          <p:cNvPicPr/>
          <p:nvPr/>
        </p:nvPicPr>
        <p:blipFill>
          <a:blip r:embed="rId1"/>
          <a:stretch/>
        </p:blipFill>
        <p:spPr>
          <a:xfrm>
            <a:off x="214200" y="1714680"/>
            <a:ext cx="84456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3" name="Zástupný symbol pro obsah 3" descr="jazyk.gif"/>
          <p:cNvPicPr/>
          <p:nvPr/>
        </p:nvPicPr>
        <p:blipFill>
          <a:blip r:embed="rId1"/>
          <a:stretch/>
        </p:blipFill>
        <p:spPr>
          <a:xfrm>
            <a:off x="357120" y="525600"/>
            <a:ext cx="835812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5" name="Zástupný symbol pro obsah 3" descr="svet2050.gif"/>
          <p:cNvPicPr/>
          <p:nvPr/>
        </p:nvPicPr>
        <p:blipFill>
          <a:blip r:embed="rId1"/>
          <a:stretch/>
        </p:blipFill>
        <p:spPr>
          <a:xfrm>
            <a:off x="3857760" y="0"/>
            <a:ext cx="5000400" cy="3743280"/>
          </a:xfrm>
          <a:prstGeom prst="rect">
            <a:avLst/>
          </a:prstGeom>
          <a:ln w="0">
            <a:noFill/>
          </a:ln>
        </p:spPr>
      </p:pic>
      <p:pic>
        <p:nvPicPr>
          <p:cNvPr id="236" name="Zástupný symbol pro obsah 3" descr="svet1998.gif"/>
          <p:cNvPicPr/>
          <p:nvPr/>
        </p:nvPicPr>
        <p:blipFill>
          <a:blip r:embed="rId2"/>
          <a:stretch/>
        </p:blipFill>
        <p:spPr>
          <a:xfrm>
            <a:off x="214200" y="3114720"/>
            <a:ext cx="50007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á map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4" descr="G:\STATISTIKA\k5.gif"/>
          <p:cNvPicPr/>
          <p:nvPr/>
        </p:nvPicPr>
        <p:blipFill>
          <a:blip r:embed="rId1"/>
          <a:stretch/>
        </p:blipFill>
        <p:spPr>
          <a:xfrm>
            <a:off x="1600200" y="1600200"/>
            <a:ext cx="5315040" cy="46292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4648320" y="63244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kresní úřad Karviná,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r>
              <a:rPr b="0" i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tistik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je v ur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ém smyslu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jazyke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ro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hrom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žď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vá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zpracování, rozbor, hodnocení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nterpretaci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romadných jevů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užití grafických papírů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i studiu geografických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rafick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snadňuje vynášení prvků do graf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ilimetrov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rovnoměrné stupnice, čáry se jeví v původní, nezkreslené podob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lologaritmick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dvou sítí – rovnoměrné a logaritmick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avděpodobnostní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rovnoměrné a pravděpodobnostní stup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ítě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ojúhelníková síť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znázorňování jevů  o třech prvcích, které mají vždy konstantní souč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půdní dru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ůda A:: 50 % jílu, 25% hlíny, 25%, pís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. Vzdělá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9"/>
          <p:cNvSpPr/>
          <p:nvPr/>
        </p:nvSpPr>
        <p:spPr>
          <a:xfrm flipH="1">
            <a:off x="1828800" y="4800600"/>
            <a:ext cx="12952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3124080" y="4800600"/>
            <a:ext cx="121932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1828800" y="64008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2918160" y="64008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í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3921480" y="507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lí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968400" y="525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ís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955440" y="624852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310640" y="621360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7"/>
          <p:cNvSpPr/>
          <p:nvPr/>
        </p:nvSpPr>
        <p:spPr>
          <a:xfrm>
            <a:off x="2438280" y="55627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8"/>
          <p:cNvSpPr/>
          <p:nvPr/>
        </p:nvSpPr>
        <p:spPr>
          <a:xfrm flipH="1">
            <a:off x="3657240" y="55627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3124080" y="63244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0"/>
          <p:cNvSpPr/>
          <p:nvPr/>
        </p:nvSpPr>
        <p:spPr>
          <a:xfrm flipV="1">
            <a:off x="3124080" y="5943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21"/>
          <p:cNvSpPr/>
          <p:nvPr/>
        </p:nvSpPr>
        <p:spPr>
          <a:xfrm>
            <a:off x="3352680" y="6019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22"/>
          <p:cNvSpPr/>
          <p:nvPr/>
        </p:nvSpPr>
        <p:spPr>
          <a:xfrm>
            <a:off x="2666880" y="5105520"/>
            <a:ext cx="838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3"/>
          <p:cNvSpPr/>
          <p:nvPr/>
        </p:nvSpPr>
        <p:spPr>
          <a:xfrm>
            <a:off x="3276720" y="556272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ítě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ruhová (radiální)  síť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soustředných kružnic a přímek procházejících středem kruž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grafické znázorňování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akujících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jevů, struktury jev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ční cho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epl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měr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ět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29"/>
          <p:cNvSpPr/>
          <p:nvPr/>
        </p:nvSpPr>
        <p:spPr>
          <a:xfrm>
            <a:off x="26002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Picture 1028" descr=""/>
          <p:cNvPicPr/>
          <p:nvPr/>
        </p:nvPicPr>
        <p:blipFill>
          <a:blip r:embed="rId1"/>
          <a:stretch/>
        </p:blipFill>
        <p:spPr>
          <a:xfrm>
            <a:off x="4140360" y="4005360"/>
            <a:ext cx="46670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statistická mapa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: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gram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gram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artogra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rysová kartografická kresba územních celk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e kterých jsou grafickým způsobem (barevný odstín, rast)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lošně znázorněna statistická da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ýkající se různých geografických jevů (lidnatost, využívání ploch apod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5" descr="KARTOGRAM1"/>
          <p:cNvPicPr/>
          <p:nvPr/>
        </p:nvPicPr>
        <p:blipFill>
          <a:blip r:embed="rId1"/>
          <a:stretch/>
        </p:blipFill>
        <p:spPr>
          <a:xfrm>
            <a:off x="4038480" y="0"/>
            <a:ext cx="40388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lze rozdělit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podle územního dělení n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s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geografickými hranicem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 s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geometrickými hranice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rtodiagramy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agramy vložené do mapové kostr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ou tvoří dílčí územní celk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jich údaje se vztahují n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celé území jednotk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de lež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rozdíl od metody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lokalizovaných diagram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údaj vztahující se k urč. bodu – např. chod roční  srážek  na meteorolog. stanic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5" descr="k5"/>
          <p:cNvPicPr/>
          <p:nvPr/>
        </p:nvPicPr>
        <p:blipFill>
          <a:blip r:embed="rId1"/>
          <a:stretch/>
        </p:blipFill>
        <p:spPr>
          <a:xfrm>
            <a:off x="6934320" y="304920"/>
            <a:ext cx="19810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152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kládanými diagram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mohou bý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pojnicové diagram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ro vyjadřování časových ř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loupcové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iagramy (sloupce, věkové pyramidy apod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ůzně dělené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geometrické znač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5" descr="k5"/>
          <p:cNvPicPr/>
          <p:nvPr/>
        </p:nvPicPr>
        <p:blipFill>
          <a:blip r:embed="rId1"/>
          <a:stretch/>
        </p:blipFill>
        <p:spPr>
          <a:xfrm>
            <a:off x="6172200" y="380880"/>
            <a:ext cx="2666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metody analýzy geografických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znázornění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tenzity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jevu v prostor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bsolutními metodam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značková metoda (velikost značky odpovídá velikosti jev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 bodová metoda (počet prvků….velikost jevů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lativními metodam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např. šrafování- hustota obyv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ovéPole 3"/>
          <p:cNvSpPr/>
          <p:nvPr/>
        </p:nvSpPr>
        <p:spPr>
          <a:xfrm>
            <a:off x="1116000" y="595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názornění 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struktury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jevu v prost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užití výsečových grafů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pouze strukturu vyjádříme výsečovými grafy se stejným polomě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strukturu a  velikost celku ( výsečový graf + velikost poloměru odp. velikosti jev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ovéPole 3"/>
          <p:cNvSpPr/>
          <p:nvPr/>
        </p:nvSpPr>
        <p:spPr>
          <a:xfrm>
            <a:off x="1116000" y="595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Obdélník 4"/>
          <p:cNvSpPr/>
          <p:nvPr/>
        </p:nvSpPr>
        <p:spPr>
          <a:xfrm>
            <a:off x="1116000" y="549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Grafické metody analýzy geografických jev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romadný jev ve statisti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Obdélník 2"/>
          <p:cNvSpPr/>
          <p:nvPr/>
        </p:nvSpPr>
        <p:spPr>
          <a:xfrm>
            <a:off x="539640" y="2708280"/>
            <a:ext cx="6858000" cy="41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tistika se zabý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hromadnými jev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tj. jevy, které se vyskytuj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ěcí, událostí  bu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vantitativní formě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valitativní formě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voditelné na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íseln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romadné jevy – příklad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 souboru lidí hromadný jev:věk osob, váha, dosažené vzdělání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……studenti dopíší další příklady ( např. viz. statistické ročenky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Náležitosti statistické map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Obsah map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tvoří všechny objekty, jevy a jejich vztahy, které jsou v mapě kartograficky znázorně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ladní údaje tvoř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Název map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- stručně  a výstižně charakterizuje zobrazené území, druh mapy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ze i název hlavní a vedlejš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Mapový rámec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– „vlastní mapa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Měřítko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 číselné, grafické nebo slovní form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Legenda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vysvětlivky) – podávají výklad použitých mapových značek a ostatních kartografických vyjadřovacích prostředků včetně barevných a velikostních stupnic, legenda musí bý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Úplná, logicky uspořádaná, přehledná a zapamatovatelná, </a:t>
            </a: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POZOR na intervaly, na barevnou škál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Autoř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alšími údaji mohou být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yznačení severu nebo směrová růžice, souřadnicový systém, přehled použitých mapových podkladů, datum, ke kterému se obsah mapy vztahu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obrázky, grafy, tabulky, 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Group 6"/>
          <p:cNvGrpSpPr/>
          <p:nvPr/>
        </p:nvGrpSpPr>
        <p:grpSpPr>
          <a:xfrm>
            <a:off x="533520" y="533520"/>
            <a:ext cx="8305200" cy="6153840"/>
            <a:chOff x="533520" y="533520"/>
            <a:chExt cx="8305200" cy="6153840"/>
          </a:xfrm>
        </p:grpSpPr>
        <p:sp>
          <p:nvSpPr>
            <p:cNvPr id="288" name="Rectangle 5"/>
            <p:cNvSpPr/>
            <p:nvPr/>
          </p:nvSpPr>
          <p:spPr>
            <a:xfrm>
              <a:off x="533520" y="533520"/>
              <a:ext cx="8305200" cy="60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9" name="Picture 4" descr="KARTOGRAM1"/>
            <p:cNvPicPr/>
            <p:nvPr/>
          </p:nvPicPr>
          <p:blipFill>
            <a:blip r:embed="rId1"/>
            <a:stretch/>
          </p:blipFill>
          <p:spPr>
            <a:xfrm>
              <a:off x="882720" y="1270440"/>
              <a:ext cx="6994440" cy="541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Text Box 7"/>
          <p:cNvSpPr/>
          <p:nvPr/>
        </p:nvSpPr>
        <p:spPr>
          <a:xfrm>
            <a:off x="1143000" y="609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92" name="Picture 3" descr="k5"/>
          <p:cNvPicPr/>
          <p:nvPr/>
        </p:nvPicPr>
        <p:blipFill>
          <a:blip r:embed="rId1"/>
          <a:stretch/>
        </p:blipFill>
        <p:spPr>
          <a:xfrm>
            <a:off x="2195640" y="1150920"/>
            <a:ext cx="6553080" cy="57070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1143000" y="304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94" name="Přímá spojovací šipka 6"/>
          <p:cNvCxnSpPr/>
          <p:nvPr/>
        </p:nvCxnSpPr>
        <p:spPr>
          <a:xfrm flipV="1">
            <a:off x="1403280" y="2636640"/>
            <a:ext cx="3385440" cy="864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5" name="Přímá spojovací šipka 7"/>
          <p:cNvCxnSpPr/>
          <p:nvPr/>
        </p:nvCxnSpPr>
        <p:spPr>
          <a:xfrm flipV="1">
            <a:off x="1267920" y="2997000"/>
            <a:ext cx="4025160" cy="584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6" name="Přímá spojovací šipka 9"/>
          <p:cNvCxnSpPr/>
          <p:nvPr/>
        </p:nvCxnSpPr>
        <p:spPr>
          <a:xfrm>
            <a:off x="1332000" y="3573360"/>
            <a:ext cx="6625440" cy="1512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7" name="Přímá spojovací šipka 13"/>
          <p:cNvCxnSpPr/>
          <p:nvPr/>
        </p:nvCxnSpPr>
        <p:spPr>
          <a:xfrm flipV="1">
            <a:off x="1258920" y="2924280"/>
            <a:ext cx="4682160" cy="576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8" name="Přímá spojovací šipka 16"/>
          <p:cNvCxnSpPr/>
          <p:nvPr/>
        </p:nvCxnSpPr>
        <p:spPr>
          <a:xfrm>
            <a:off x="1116000" y="3428640"/>
            <a:ext cx="547272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00" name="Group 6"/>
          <p:cNvGrpSpPr/>
          <p:nvPr/>
        </p:nvGrpSpPr>
        <p:grpSpPr>
          <a:xfrm>
            <a:off x="395280" y="990720"/>
            <a:ext cx="8457840" cy="5866920"/>
            <a:chOff x="395280" y="990720"/>
            <a:chExt cx="8457840" cy="5866920"/>
          </a:xfrm>
        </p:grpSpPr>
        <p:sp>
          <p:nvSpPr>
            <p:cNvPr id="301" name="Rectangle 5"/>
            <p:cNvSpPr/>
            <p:nvPr/>
          </p:nvSpPr>
          <p:spPr>
            <a:xfrm>
              <a:off x="395280" y="990720"/>
              <a:ext cx="8457840" cy="58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2" name="Picture 4" descr="kARTOGRAM2"/>
            <p:cNvPicPr/>
            <p:nvPr/>
          </p:nvPicPr>
          <p:blipFill>
            <a:blip r:embed="rId1"/>
            <a:stretch/>
          </p:blipFill>
          <p:spPr>
            <a:xfrm>
              <a:off x="490320" y="1095120"/>
              <a:ext cx="7980840" cy="565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ovéPole 5"/>
          <p:cNvSpPr/>
          <p:nvPr/>
        </p:nvSpPr>
        <p:spPr>
          <a:xfrm>
            <a:off x="1042920" y="26028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studenti  samostatn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457200" y="914400"/>
            <a:ext cx="7238520" cy="5486040"/>
            <a:chOff x="457200" y="914400"/>
            <a:chExt cx="7238520" cy="5486040"/>
          </a:xfrm>
        </p:grpSpPr>
        <p:sp>
          <p:nvSpPr>
            <p:cNvPr id="306" name="Rectangle 5"/>
            <p:cNvSpPr/>
            <p:nvPr/>
          </p:nvSpPr>
          <p:spPr>
            <a:xfrm>
              <a:off x="457200" y="914400"/>
              <a:ext cx="7238520" cy="54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7" name="Picture 4" descr="KARTOGRAM3"/>
            <p:cNvPicPr/>
            <p:nvPr/>
          </p:nvPicPr>
          <p:blipFill>
            <a:blip r:embed="rId1"/>
            <a:stretch/>
          </p:blipFill>
          <p:spPr>
            <a:xfrm>
              <a:off x="618480" y="1589400"/>
              <a:ext cx="6742800" cy="455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 Box 7"/>
          <p:cNvSpPr/>
          <p:nvPr/>
        </p:nvSpPr>
        <p:spPr>
          <a:xfrm>
            <a:off x="1143000" y="304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6"/>
          <p:cNvGrpSpPr/>
          <p:nvPr/>
        </p:nvGrpSpPr>
        <p:grpSpPr>
          <a:xfrm>
            <a:off x="1835280" y="1125360"/>
            <a:ext cx="6705000" cy="5410080"/>
            <a:chOff x="1835280" y="1125360"/>
            <a:chExt cx="6705000" cy="5410080"/>
          </a:xfrm>
        </p:grpSpPr>
        <p:sp>
          <p:nvSpPr>
            <p:cNvPr id="310" name="Rectangle 5"/>
            <p:cNvSpPr/>
            <p:nvPr/>
          </p:nvSpPr>
          <p:spPr>
            <a:xfrm>
              <a:off x="1835280" y="1125360"/>
              <a:ext cx="6621840" cy="541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1" name="Picture 4" descr="kompoz9"/>
            <p:cNvPicPr/>
            <p:nvPr/>
          </p:nvPicPr>
          <p:blipFill>
            <a:blip r:embed="rId1"/>
            <a:stretch/>
          </p:blipFill>
          <p:spPr>
            <a:xfrm>
              <a:off x="1946520" y="1219680"/>
              <a:ext cx="6593760" cy="512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Text Box 7"/>
          <p:cNvSpPr/>
          <p:nvPr/>
        </p:nvSpPr>
        <p:spPr>
          <a:xfrm>
            <a:off x="250920" y="549360"/>
            <a:ext cx="31240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Jak byla vymezena st. jednotk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Vel .stupnice?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Barevnost?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4" descr="C:\Documents and Settings\svatonova\Dokumenty\STATISTIKA\JARO_07\mapa202.jpg"/>
          <p:cNvPicPr/>
          <p:nvPr/>
        </p:nvPicPr>
        <p:blipFill>
          <a:blip r:embed="rId1"/>
          <a:stretch/>
        </p:blipFill>
        <p:spPr>
          <a:xfrm>
            <a:off x="0" y="757080"/>
            <a:ext cx="884088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Picture 4" descr="C:\Documents and Settings\svatonova\Dokumenty\STATISTIKA\JARO_07\mapa306.jpg"/>
          <p:cNvPicPr/>
          <p:nvPr/>
        </p:nvPicPr>
        <p:blipFill>
          <a:blip r:embed="rId1"/>
          <a:stretch/>
        </p:blipFill>
        <p:spPr>
          <a:xfrm>
            <a:off x="0" y="714240"/>
            <a:ext cx="9064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4" descr="C:\Documents and Settings\svatonova\Dokumenty\STATISTIKA\JARO_07\mapa304.jpg"/>
          <p:cNvPicPr/>
          <p:nvPr/>
        </p:nvPicPr>
        <p:blipFill>
          <a:blip r:embed="rId1"/>
          <a:stretch/>
        </p:blipFill>
        <p:spPr>
          <a:xfrm>
            <a:off x="0" y="190440"/>
            <a:ext cx="975348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zolinie – konstrukce a vlas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linie – čáry, které v grafu spojují body se stejnou intenzitou (velikostí, hodnotou) jev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ískávají se 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todou prostorové interpolace hodno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nesených do graf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lynulé čá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bary, izotermy, vrstevnice at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strukce izolinie  - 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Co je typické pro statistiku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90720" y="1676520"/>
            <a:ext cx="71625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oumá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hromadné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jev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abývá se proměnlivými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ariabilním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lastnost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uje s čís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oužívá výpočetní technik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bsolutní, relativní kumulované če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et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počet výskytu určité hodnoty v souboru,                      frekvence hodno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dělení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– počty prvků  s určitými  hodnotami statistického znaku, obvykle pro nespojité hodno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kupinové rozdělení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-  počty prvků s hodnotami statistického znaku, které patří do určitého intervalu, obvykle pro spojité hodno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kupinové 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třídím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atistické jednotky podle velikosti jejich statistického znaku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interva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terval – hranice, dolní a horní mez, šířka  (dél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zásad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ené hranice pro jednoznačné zařazení prvk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vyk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á šíř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měřený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če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nterval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Če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bsolutní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čet jednotek v interva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lativní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díl četností na rozsahu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umulovaná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čet jednotek s hodnotami menšími nebo rovny horní hranici interva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611280" y="1700280"/>
          <a:ext cx="7391160" cy="4782960"/>
        </p:xfrm>
        <a:graphic>
          <a:graphicData uri="http://schemas.openxmlformats.org/drawingml/2006/table">
            <a:tbl>
              <a:tblPr/>
              <a:tblGrid>
                <a:gridCol w="1523880"/>
                <a:gridCol w="939960"/>
                <a:gridCol w="1231920"/>
                <a:gridCol w="1231920"/>
                <a:gridCol w="1231560"/>
                <a:gridCol w="1231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ř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s. č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ativ. č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umul. ab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umul. rela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 - 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1 - 1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1 -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Text Box 62"/>
          <p:cNvSpPr/>
          <p:nvPr/>
        </p:nvSpPr>
        <p:spPr>
          <a:xfrm>
            <a:off x="604800" y="422280"/>
            <a:ext cx="48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Tab.S Skupinové rozdělení četností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ukázka – příklad váha 50 novorozenců v JM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ist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lyg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ára kumulovaných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401480" y="5867280"/>
            <a:ext cx="599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součtová čár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graf kumulované četnosti, vždy k horní hranici interv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ist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Histogra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– sloupcový diagram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šířka sloupce – šířka intervalu, výška sloupce - čet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lyg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lygon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– spojnicový diagram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odnoty četnosti se vynáší ke středům interva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Čára kumulovaných četností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součtová čár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raf kumulované četnosti, vždy k horní hranici interva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histogram – věkové složení obyvatelstva, věková struktura, pyramida život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6" name="Picture 4" descr="G:\STATISTIKA\věk_pyramida_2001.jpg"/>
          <p:cNvPicPr/>
          <p:nvPr/>
        </p:nvPicPr>
        <p:blipFill>
          <a:blip r:embed="rId1"/>
          <a:stretch/>
        </p:blipFill>
        <p:spPr>
          <a:xfrm>
            <a:off x="250920" y="1646280"/>
            <a:ext cx="85914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ka – dva významy - dvě poje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dní disciplí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dmět zkoumání : stav a vývoj číselně vyjádřených hromadných jev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aktická čin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 zaznamenání, třídění, shrnování číselných  údajů o skutečnostech,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udělám si statistiku …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Picture 4" descr="C:\Documents and Settings\svatonova\Dokumenty\STATISTIKA\JARO_06\cviceni_jaro 2006\pyramida_1946.gif"/>
          <p:cNvPicPr/>
          <p:nvPr/>
        </p:nvPicPr>
        <p:blipFill>
          <a:blip r:embed="rId1"/>
          <a:stretch/>
        </p:blipFill>
        <p:spPr>
          <a:xfrm>
            <a:off x="228600" y="0"/>
            <a:ext cx="3290760" cy="3429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C:\Documents and Settings\svatonova\Dokumenty\STATISTIKA\JARO_06\cviceni_jaro 2006\pyramida_2003.gif"/>
          <p:cNvPicPr/>
          <p:nvPr/>
        </p:nvPicPr>
        <p:blipFill>
          <a:blip r:embed="rId2"/>
          <a:stretch/>
        </p:blipFill>
        <p:spPr>
          <a:xfrm>
            <a:off x="3809880" y="152280"/>
            <a:ext cx="5193000" cy="5410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C:\Documents and Settings\svatonova\Dokumenty\STATISTIKA\JARO_06\cviceni_jaro 2006\pyramida_1985.gif"/>
          <p:cNvPicPr/>
          <p:nvPr/>
        </p:nvPicPr>
        <p:blipFill>
          <a:blip r:embed="rId3"/>
          <a:stretch/>
        </p:blipFill>
        <p:spPr>
          <a:xfrm>
            <a:off x="380880" y="3429000"/>
            <a:ext cx="314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7724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685800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tatistické charakteristi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ladní statistické charakteristiky „popisují“  statistický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úrovně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tzv. střední hodn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symetrie a špičat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tatistické charakteristi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cxnSp>
        <p:nvCxnSpPr>
          <p:cNvPr id="360" name="Přímá spojovací šipka 4"/>
          <p:cNvCxnSpPr/>
          <p:nvPr/>
        </p:nvCxnSpPr>
        <p:spPr>
          <a:xfrm flipV="1">
            <a:off x="6084360" y="1341360"/>
            <a:ext cx="1367640" cy="1440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1" name="TextovéPole 5"/>
          <p:cNvSpPr/>
          <p:nvPr/>
        </p:nvSpPr>
        <p:spPr>
          <a:xfrm>
            <a:off x="7451640" y="549360"/>
            <a:ext cx="14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Popisná statisti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hodno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ísto jednotlivých hodno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jednorozměrného statistického souboru používáme   často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řední hodn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řední hodnoty umožňují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rovnávání soubo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hodno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itmetický prům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+ vážený aritm. průměr, geometrický průměr, harmonický průmě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od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itmetický stř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ián a kvant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geografický medi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ritmetický průmě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jčastěji používaná st.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ypický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typický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ůmě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jedno a více  vrcholová rozdělení četnost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pický aritm. průměr – jednovrcholové rozdělení četností + blízký nejčetnější hodnot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1859040" y="568008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ážený aritmetický průmě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 výpočtu množství srážek  v povodí – váha – ploch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klimatologii – výpočet denního průměru teplot ze tří měř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699560" y="507060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. výpoč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Mod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u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nejčetnější hodnota kvantitativního znaku ve studovaném soubo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namný především u souboru nespojitých velič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ální interva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interval zahrnující největší počet jednotek, závisí však na stanovení hranic interva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dělení  s více mody –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lymodální rozděl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066320"/>
            <a:ext cx="716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statistika popisn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matematická statistik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STATISTIKA jako vědní disciplín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ritmetický stř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ritm. střed je polovina součtu min. a max. hodnoty znaku v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kud soubor obsahuje extrémní hodnoty, je aritmetický střed značně zkreslující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1198440" y="4994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Medi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diá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tzv.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střední  hodno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to prvek řady uspořádané v neklesajícím pořadí ( od nejm. po největší), který ji dělí na dvě poloviny, které mají menší a větší hodnotu zna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ZOR: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soubor je třeba vždy uspořád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řadí  prvku (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kolikátý prvek to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je, hodnota prvku je medián!)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rčují vzorc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 řadu s lichým počtem prvků (n+1)/2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řadu o sudém počtu je medián průměr z hodnot mezi prvkem na (n/2) a (n/2+1) mís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vantil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edián je kvantil dělící soubor na dvě poloviny dle předch. pravi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dobn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rtily – na čtvrtiny, 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, 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75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c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rcent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ntily obecně široké použití ve statistice a v geograf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274760" y="6137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eografický medi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eografický medián je čára dělící plochu, kde se jev vyskytuje tak, aby hodnota jevu byla v obou plochách stejn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variabil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ariační rozpě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ntilov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měrn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pt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měrodatn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ariační koe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ariační rozpě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díl největší a nejmenší hodnoty sledovaného statist.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=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dnoduchá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éhá extrémním hodnotám, které mohou být i chyba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růměrné odchyl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měrná odchylka je definována jako aritmetický průměr odchylek  jednotlivých hodnot znaku od vybrané střední hodnoty (tj. od aritmetického průměru, mediánu, modu apo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vantilové odchyl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loženy na kladných odchylkách jednotlivých sousedních kvantil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kvart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c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rcent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difere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ef. jako aritmetický průměr absolutních hodnot všech možných rozdílů jednotlivých hodnot sledovaného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praxi vhodná pouze pro malé sou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2038680" y="4842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Rozptyl a směrodatná odchyl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jdůležitější charakteristiky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zptyl s</a:t>
            </a:r>
            <a:r>
              <a:rPr b="1" lang="cs-CZ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0" lang="cs-CZ" sz="3200" spc="-1" strike="noStrike" baseline="30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  n hodnot znaku x  je průměr druhých mocnin odchylek  jednotlivých hodnot znaku od  aritmetického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měrodatná odchylk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  je mírou měnlivosti hodnot souboru kolem aritmetického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ruhou odmocnina rozpty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380880" y="13716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Statistika jako praktická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in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09480" y="2533680"/>
            <a:ext cx="8001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Činnost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tatistická evidence ( např. sběr údajů, třídění, sumarizace apod.), 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stitu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 která tuto evidenci provádí (např. ČSÚ, ministerstva aj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sledek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S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uhrn údajů o nějaké skutečnosti (statistika nezaměstnanost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 ročenka meteorologických pozorování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td.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ariační koefici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častou používanou relativní mírou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efinován jako poměr směrodatné odchylky k aritmetickému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asymetri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arakteristiky asymetrie ( míry šikmosti) jsou  čísla dávající představ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 </a:t>
            </a: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souměrnosti tvaru</a:t>
            </a: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 rozdělení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íra šikmosti pro souměrné rozdělení je n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nesouměrné je kladná nebo záporn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asymetri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5" name="Picture 4" descr="C:\Documents and Settings\svatonova\Dokumenty\Obrázky\as1.bmp"/>
          <p:cNvPicPr/>
          <p:nvPr/>
        </p:nvPicPr>
        <p:blipFill>
          <a:blip r:embed="rId1"/>
          <a:stretch/>
        </p:blipFill>
        <p:spPr>
          <a:xfrm>
            <a:off x="304920" y="1295280"/>
            <a:ext cx="3132000" cy="2365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Documents and Settings\svatonova\Dokumenty\Obrázky\as3_klad.bmp"/>
          <p:cNvPicPr/>
          <p:nvPr/>
        </p:nvPicPr>
        <p:blipFill>
          <a:blip r:embed="rId2"/>
          <a:stretch/>
        </p:blipFill>
        <p:spPr>
          <a:xfrm>
            <a:off x="5943600" y="4191120"/>
            <a:ext cx="3200400" cy="2160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C:\Documents and Settings\svatonova\Dokumenty\Obrázky\as2_zap.bmp"/>
          <p:cNvPicPr/>
          <p:nvPr/>
        </p:nvPicPr>
        <p:blipFill>
          <a:blip r:embed="rId3"/>
          <a:stretch/>
        </p:blipFill>
        <p:spPr>
          <a:xfrm>
            <a:off x="3429000" y="2514600"/>
            <a:ext cx="2925720" cy="21607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7"/>
          <p:cNvSpPr/>
          <p:nvPr/>
        </p:nvSpPr>
        <p:spPr>
          <a:xfrm>
            <a:off x="990720" y="129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ymetrick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37339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Záporně sešikme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731520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ladně sešikme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1066680" y="4952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r. průměr, medián, mod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Line 11"/>
          <p:cNvSpPr/>
          <p:nvPr/>
        </p:nvSpPr>
        <p:spPr>
          <a:xfrm>
            <a:off x="1523880" y="34290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Line 12"/>
          <p:cNvSpPr/>
          <p:nvPr/>
        </p:nvSpPr>
        <p:spPr>
          <a:xfrm>
            <a:off x="1752480" y="3429000"/>
            <a:ext cx="12193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Line 13"/>
          <p:cNvSpPr/>
          <p:nvPr/>
        </p:nvSpPr>
        <p:spPr>
          <a:xfrm>
            <a:off x="2133720" y="3505320"/>
            <a:ext cx="167616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špičat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arakteristiky špičatosti ( míry špičatosti)  jsou čísla charakterizující koncentraci prvků souboru v blízkosti určité hodnoty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008000" y="407988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br. Špičaté, normální a ploché rozděl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špičat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Picture 4" descr="C:\Documents and Settings\svatonova\Dokumenty\Obrázky\spicatost.bmp"/>
          <p:cNvPicPr/>
          <p:nvPr/>
        </p:nvPicPr>
        <p:blipFill>
          <a:blip r:embed="rId1"/>
          <a:stretch/>
        </p:blipFill>
        <p:spPr>
          <a:xfrm>
            <a:off x="1143000" y="2057400"/>
            <a:ext cx="4952880" cy="36385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5"/>
          <p:cNvSpPr/>
          <p:nvPr/>
        </p:nvSpPr>
        <p:spPr>
          <a:xfrm>
            <a:off x="6553080" y="2286000"/>
            <a:ext cx="1905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 – špiča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 – normál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 – ploch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ozděl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1640" y="2785680"/>
            <a:ext cx="378612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arl Friedrich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Gauss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1777-185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696960" y="1604880"/>
            <a:ext cx="3535200" cy="45259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"/>
          <p:cNvSpPr/>
          <p:nvPr/>
        </p:nvSpPr>
        <p:spPr>
          <a:xfrm>
            <a:off x="107172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V GEOGRAF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eoretická rozdělení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Základní pojm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áhodná veličina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spojit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ůže teoreticky nabývat nekonečného množství hodnot z určitého intervalu např.teplota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áhodná veličina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nespojitá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bývá jen konečného množství hodnot urč. intervalu. Např. počet měsíců s teplotou nad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aždé hodnotě je možno přiřadit pravděpodobnost jejího výskytu, součet  všech dílčích pravděpodobností j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eoretická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histogram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grafické znázornění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zsah soub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e blíží k  nekonečnu + náhodná veličina je spojit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frekvenční funkce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/ hustota pravděpodob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0956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Object 4" descr=""/>
          <p:cNvPicPr/>
          <p:nvPr/>
        </p:nvPicPr>
        <p:blipFill>
          <a:blip r:embed="rId1"/>
          <a:stretch/>
        </p:blipFill>
        <p:spPr>
          <a:xfrm>
            <a:off x="1752480" y="3281400"/>
            <a:ext cx="5791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umulativní relativní četnost tj. součtová čára 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distribuční funk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Normální rozdělení / Gaussovo, Laplaceovo- Gaussov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ormální rozdělení se univerzálně používá k aproximaci (k přibližnému vyjádření)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r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zdělení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avděpodobnosti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elkého množství náhodných veliči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 biologii, technice, ekonomii atd.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531000" y="3276720"/>
            <a:ext cx="75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Hustota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avděpodobno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ti normálního rozdělení 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ymetrická zvonovitá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Gaussova křivk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6" name="Picture 6" descr="C:\Documents and Settings\svatonova\Dokumenty\STATISTIKA\JARO_07\180px-Normalni_rozdeleni_hustota_svg.png"/>
          <p:cNvPicPr/>
          <p:nvPr/>
        </p:nvPicPr>
        <p:blipFill>
          <a:blip r:embed="rId1"/>
          <a:stretch/>
        </p:blipFill>
        <p:spPr>
          <a:xfrm>
            <a:off x="2268360" y="4437000"/>
            <a:ext cx="35244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9:55:13Z</dcterms:created>
  <dc:creator>Svatonova</dc:creator>
  <dc:description/>
  <dc:language>en-US</dc:language>
  <cp:lastModifiedBy>Svatonova</cp:lastModifiedBy>
  <dcterms:modified xsi:type="dcterms:W3CDTF">2012-10-19T08:51:18Z</dcterms:modified>
  <cp:revision>114</cp:revision>
  <dc:subject/>
  <dc:title>Prezentace aplikace PowerPoint</dc:title>
</cp:coreProperties>
</file>