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  <p:sldId id="291" r:id="rId44"/>
    <p:sldId id="292" r:id="rId45"/>
    <p:sldId id="293" r:id="rId46"/>
    <p:sldId id="294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slide" Target="slides/slide36.xml"/><Relationship Id="rId45" Type="http://schemas.openxmlformats.org/officeDocument/2006/relationships/slide" Target="slides/slide37.xml"/><Relationship Id="rId46" Type="http://schemas.openxmlformats.org/officeDocument/2006/relationships/slide" Target="slides/slide38.xml"/><Relationship Id="rId47" Type="http://schemas.openxmlformats.org/officeDocument/2006/relationships/slide" Target="slides/slide39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9F472-5C20-4BA3-8A06-D2C619751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D8C6F-55F5-4C2F-AC4E-BE1BF890B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727C6-CE1B-4E1E-88CC-A5A6AB34D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3FC54-17F9-4767-88B0-462B4BC47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8F28B-2E88-4EDC-9071-C098611CF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EA68F-A4E6-477D-ABF9-DDB88F0FF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092A8-671F-45C7-A5EF-7337D322D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E4851-2D9A-4192-884E-521F33BB2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CE95D-7517-4790-9799-B348D1B25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0AD73-C9FA-4C73-B1BA-7089FEB32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17C37-A1B7-4EC2-A7A3-B9E6C340F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317EE-6253-4A98-A778-02A27D5B6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300F1-BD52-4351-8573-9A718A53C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0040D-E335-425D-892A-E56E98788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67372-BAA3-4B39-8F3E-89746B567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EAD3E-205E-4E2B-A78D-06FE22C86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D9C80-8F5C-4B4D-8269-8C16ACB47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CBA643-6BB9-4981-A340-2CA47FF26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0753B1-5DAD-4671-B5BF-1819289FD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A925A9-8059-4E96-829E-F7423B520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6028AB-5BAF-48DB-A61F-94281F61D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0F3E9D-E147-405B-984C-303524649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FEEB6-B7CF-40E8-A68E-241C66436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2BA03B-E279-47A5-A1A2-8E21E0A4F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C42926-B80B-4D03-A839-E68EFFCD3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9E8F60-32B5-467A-97E0-379C83204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4A1C63-E391-4B87-9E4C-39FA4C5F1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AEA6EA-1D06-49A0-9183-C4649FB08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76D80A-977B-464B-9817-9F2BC3903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502E8A-0132-4B7F-B2B8-7EFC3715A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C7851B-5B59-4B3D-B8DC-DE4B223C3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0BF4B8-E462-45D1-862F-D9A0567C7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541615-2427-48DB-8581-0229BD77B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3B59B-BA7B-4366-946E-BAAA8A246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AF81F8-1577-4AB2-B73E-07E9145D4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73B969-838A-4237-9AF4-239806B25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B13FA5-5F79-4889-879B-8A1E1B3A1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5AEE59-9561-4E2A-92CB-703D7FFAD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21D0BD-BE33-4E76-93B2-1565F23B2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0996A8-4EC7-4314-8D53-1B0C7EFE9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0D55C4-AE84-4165-A143-0D96C5AFE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85E27A-B2A5-47E5-905C-CB747E116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E06709-A216-48EF-9829-431426B47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203D85-1052-40C4-8796-D85F48CD0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20058-F87A-4A21-97B2-B45CEFDE7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E93881-6FA0-4006-897C-6D3BC5F23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2A2EA5-2B01-4127-BBD7-738D456A4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5EB339-C5B4-4518-AB92-82AFF718D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5481F0-4BAB-4970-845C-F7B6EF6A3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37CD0E-A840-4179-A1E9-ADBE90C75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EA3367-D391-4B61-82B6-6EE3C8495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CCFB26-0783-4CF2-BB2D-14A511AA7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0317B0-614C-4169-90E6-8CBAD4DF4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FD2C35-7D8E-4993-AEE7-4F965375B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023FB1-BA22-44A2-93C7-AE8D0C30D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E93B4-015F-4793-BB57-CDB35C030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C6DBFF-A793-42DA-8B2D-C0E2E5E6B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DEF49C-F75D-4582-BB9F-5CE26B822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31A62A-08EE-450B-9D9D-41E3EE3D8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629744-2791-4EAF-A4FE-0443E9776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FFEA2D-9483-4DE8-AADC-CAAF1B526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3166EB-2BAF-42CC-890E-7005E2C29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04BE42-3520-47D1-A5D0-FD542BC0E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E2C05B-C9F1-49A4-8FC5-BD96DB9F6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85D821-2496-4DAD-B6E0-EA205A1A8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58A2F2-EFA2-4DE4-A18C-0C58AFEAC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4D413-BC11-42CC-AB82-71AAD5E5E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62EA1E-A839-4FD1-89DA-C8816A3FE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F8FF1F-96BD-4AB2-9524-F4AF39267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25DD7F-C75F-45DF-9079-CF4747985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472708-D668-482B-9032-725E69510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B0E750-D55F-4E45-B47C-114E02B31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65E32A-993F-464D-8FDE-66463C7FC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94DBBC-C751-4C6A-9EAA-684A549C4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4A1DAC-CE93-467A-A3E9-75BE3F22F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4F51B7-E764-48DA-B96E-821582784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AD2C52-8E20-45AA-8ADD-FC4043ACD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B3609-EE29-4FC4-BCC2-C98DD033F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F65EA4-C83D-4682-A934-996DA94DA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F09324-D9B4-4AAE-9C29-BDF76BABA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0BF5C9-4C38-41D1-B3BE-3841BE3ED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707C5C-E049-48B7-9133-F6EE3FA91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71894C-254D-4981-9A58-A5A5A0ECD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19A8F-BEC7-4D8E-9932-7785EC5EF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f5d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Obdélník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Obdélník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Obdélník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Obdélník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Obdélník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Obdélník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Obdélník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Obdélník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Obdélník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4f1da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c0504d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c0504d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9bbb59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100" spc="-1" strike="noStrike">
                <a:solidFill>
                  <a:srgbClr val="eeece1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eeece1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eeece1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7F2BB-1F1A-48A5-B2EC-1558C45B0C3E}" type="slidenum">
              <a:rPr b="0" lang="cs-CZ" sz="1200" spc="-1" strike="noStrike">
                <a:solidFill>
                  <a:srgbClr val="eeece1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f5d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Obdélník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Obdélník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Obdélník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Obdélník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Obdélník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Obdélník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Obdélník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Obdélník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Obdélník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4f1da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c0504d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c0504d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9bbb59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100" spc="-1" strike="noStrike">
                <a:solidFill>
                  <a:srgbClr val="eeece1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eeece1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eeece1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A0AFB-01BE-4C2A-A75D-E9F048A92DA8}" type="slidenum">
              <a:rPr b="0" lang="cs-CZ" sz="1200" spc="-1" strike="noStrike">
                <a:solidFill>
                  <a:srgbClr val="eeece1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f5d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Obdélník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Obdélník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Obdélník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Obdélník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Obdélník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Obdélník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Obdélník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Obdélník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Obdélník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Volný tvar 17"/>
          <p:cNvSpPr/>
          <p:nvPr/>
        </p:nvSpPr>
        <p:spPr>
          <a:xfrm>
            <a:off x="4829040" y="1073160"/>
            <a:ext cx="4321440" cy="5791320"/>
          </a:xfrm>
          <a:custGeom>
            <a:avLst/>
            <a:gdLst>
              <a:gd name="textAreaLeft" fmla="*/ 0 w 4321440"/>
              <a:gd name="textAreaRight" fmla="*/ 4321800 w 4321440"/>
              <a:gd name="textAreaTop" fmla="*/ 0 h 5791320"/>
              <a:gd name="textAreaBottom" fmla="*/ 5791680 h 5791320"/>
            </a:gdLst>
            <a:ahLst/>
            <a:rect l="textAreaLeft" t="textAreaTop" r="textAreaRight" b="textAreaBottom"/>
            <a:pathLst>
              <a:path w="2736" h="3648">
                <a:moveTo>
                  <a:pt x="0" y="3648"/>
                </a:moveTo>
                <a:lnTo>
                  <a:pt x="720" y="2016"/>
                </a:lnTo>
                <a:lnTo>
                  <a:pt x="2736" y="672"/>
                </a:lnTo>
                <a:lnTo>
                  <a:pt x="2736" y="720"/>
                </a:lnTo>
                <a:lnTo>
                  <a:pt x="744" y="2038"/>
                </a:lnTo>
                <a:lnTo>
                  <a:pt x="48" y="3648"/>
                </a:lnTo>
                <a:lnTo>
                  <a:pt x="48" y="3648"/>
                </a:lnTo>
                <a:close/>
              </a:path>
            </a:pathLst>
          </a:custGeom>
          <a:noFill/>
          <a:ln w="3240">
            <a:solidFill>
              <a:srgbClr val="c0504d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Volný tvar 18"/>
          <p:cNvSpPr/>
          <p:nvPr/>
        </p:nvSpPr>
        <p:spPr>
          <a:xfrm>
            <a:off x="374760" y="0"/>
            <a:ext cx="5513400" cy="6615000"/>
          </a:xfrm>
          <a:custGeom>
            <a:avLst/>
            <a:gdLst>
              <a:gd name="textAreaLeft" fmla="*/ 0 w 5513400"/>
              <a:gd name="textAreaRight" fmla="*/ 5513760 w 5513400"/>
              <a:gd name="textAreaTop" fmla="*/ 0 h 6615000"/>
              <a:gd name="textAreaBottom" fmla="*/ 6615360 h 6615000"/>
            </a:gdLst>
            <a:ahLst/>
            <a:rect l="textAreaLeft" t="textAreaTop" r="textAreaRight" b="textAreaBottom"/>
            <a:pathLst>
              <a:path w="3504" h="4128">
                <a:moveTo>
                  <a:pt x="0" y="4080"/>
                </a:moveTo>
                <a:lnTo>
                  <a:pt x="0" y="4128"/>
                </a:lnTo>
                <a:lnTo>
                  <a:pt x="3504" y="2640"/>
                </a:lnTo>
                <a:lnTo>
                  <a:pt x="2880" y="0"/>
                </a:lnTo>
                <a:lnTo>
                  <a:pt x="2832" y="0"/>
                </a:lnTo>
                <a:lnTo>
                  <a:pt x="3465" y="2619"/>
                </a:lnTo>
                <a:lnTo>
                  <a:pt x="0" y="4080"/>
                </a:lnTo>
                <a:close/>
              </a:path>
            </a:pathLst>
          </a:custGeom>
          <a:noFill/>
          <a:ln w="3240">
            <a:solidFill>
              <a:srgbClr val="c0504d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Volný tvar 19"/>
          <p:cNvSpPr/>
          <p:nvPr/>
        </p:nvSpPr>
        <p:spPr>
          <a:xfrm rot="5236200">
            <a:off x="4461120" y="1483200"/>
            <a:ext cx="4114800" cy="1189080"/>
          </a:xfrm>
          <a:custGeom>
            <a:avLst/>
            <a:gdLst>
              <a:gd name="textAreaLeft" fmla="*/ 0 w 4114800"/>
              <a:gd name="textAreaRight" fmla="*/ 4115160 w 4114800"/>
              <a:gd name="textAreaTop" fmla="*/ 0 h 1189080"/>
              <a:gd name="textAreaBottom" fmla="*/ 1189440 h 118908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2d58a2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Volný tvar 20"/>
          <p:cNvSpPr/>
          <p:nvPr/>
        </p:nvSpPr>
        <p:spPr>
          <a:xfrm>
            <a:off x="5943600" y="0"/>
            <a:ext cx="2743200" cy="4267080"/>
          </a:xfrm>
          <a:custGeom>
            <a:avLst/>
            <a:gdLst>
              <a:gd name="textAreaLeft" fmla="*/ 0 w 2743200"/>
              <a:gd name="textAreaRight" fmla="*/ 2743200 w 27432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1728" h="2688">
                <a:moveTo>
                  <a:pt x="1104" y="0"/>
                </a:moveTo>
                <a:lnTo>
                  <a:pt x="1728" y="0"/>
                </a:lnTo>
                <a:lnTo>
                  <a:pt x="0" y="2688"/>
                </a:lnTo>
                <a:lnTo>
                  <a:pt x="1104" y="0"/>
                </a:lnTo>
                <a:close/>
              </a:path>
            </a:pathLst>
          </a:custGeom>
          <a:solidFill>
            <a:srgbClr val="2756a8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Volný tvar 23"/>
          <p:cNvSpPr/>
          <p:nvPr/>
        </p:nvSpPr>
        <p:spPr>
          <a:xfrm>
            <a:off x="5943600" y="4267080"/>
            <a:ext cx="3200400" cy="11430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016" h="720">
                <a:moveTo>
                  <a:pt x="0" y="0"/>
                </a:moveTo>
                <a:lnTo>
                  <a:pt x="2016" y="240"/>
                </a:lnTo>
                <a:lnTo>
                  <a:pt x="2016" y="720"/>
                </a:lnTo>
                <a:lnTo>
                  <a:pt x="0" y="0"/>
                </a:lnTo>
                <a:close/>
              </a:path>
            </a:pathLst>
          </a:custGeom>
          <a:solidFill>
            <a:srgbClr val="2756a8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Volný tvar 24"/>
          <p:cNvSpPr/>
          <p:nvPr/>
        </p:nvSpPr>
        <p:spPr>
          <a:xfrm>
            <a:off x="5943600" y="0"/>
            <a:ext cx="1371600" cy="42670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864" h="2688">
                <a:moveTo>
                  <a:pt x="864" y="0"/>
                </a:moveTo>
                <a:lnTo>
                  <a:pt x="0" y="2688"/>
                </a:lnTo>
                <a:lnTo>
                  <a:pt x="768" y="0"/>
                </a:lnTo>
                <a:lnTo>
                  <a:pt x="864" y="0"/>
                </a:lnTo>
                <a:close/>
              </a:path>
            </a:pathLst>
          </a:custGeom>
          <a:solidFill>
            <a:srgbClr val="2756a8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Volný tvar 25"/>
          <p:cNvSpPr/>
          <p:nvPr/>
        </p:nvSpPr>
        <p:spPr>
          <a:xfrm>
            <a:off x="5948280" y="4246560"/>
            <a:ext cx="2090880" cy="2611440"/>
          </a:xfrm>
          <a:custGeom>
            <a:avLst/>
            <a:gdLst>
              <a:gd name="textAreaLeft" fmla="*/ 0 w 2090880"/>
              <a:gd name="textAreaRight" fmla="*/ 2091240 w 2090880"/>
              <a:gd name="textAreaTop" fmla="*/ 0 h 2611440"/>
              <a:gd name="textAreaBottom" fmla="*/ 2611800 h 2611440"/>
            </a:gdLst>
            <a:ahLst/>
            <a:rect l="textAreaLeft" t="textAreaTop" r="textAreaRight" b="textAreaBottom"/>
            <a:pathLst>
              <a:path w="1317" h="1645">
                <a:moveTo>
                  <a:pt x="1071" y="1645"/>
                </a:moveTo>
                <a:lnTo>
                  <a:pt x="1317" y="1645"/>
                </a:lnTo>
                <a:lnTo>
                  <a:pt x="0" y="0"/>
                </a:lnTo>
                <a:lnTo>
                  <a:pt x="1071" y="1645"/>
                </a:lnTo>
                <a:close/>
              </a:path>
            </a:pathLst>
          </a:custGeom>
          <a:solidFill>
            <a:srgbClr val="2756a8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Volný tvar 26"/>
          <p:cNvSpPr/>
          <p:nvPr/>
        </p:nvSpPr>
        <p:spPr>
          <a:xfrm>
            <a:off x="5943600" y="4267080"/>
            <a:ext cx="1600200" cy="259092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1008" h="1632">
                <a:moveTo>
                  <a:pt x="1008" y="1632"/>
                </a:moveTo>
                <a:lnTo>
                  <a:pt x="0" y="0"/>
                </a:lnTo>
                <a:lnTo>
                  <a:pt x="960" y="1632"/>
                </a:lnTo>
                <a:lnTo>
                  <a:pt x="1008" y="1632"/>
                </a:lnTo>
                <a:close/>
              </a:path>
            </a:pathLst>
          </a:custGeom>
          <a:solidFill>
            <a:srgbClr val="2756a8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Volný tvar 27"/>
          <p:cNvSpPr/>
          <p:nvPr/>
        </p:nvSpPr>
        <p:spPr>
          <a:xfrm>
            <a:off x="5943600" y="1371600"/>
            <a:ext cx="3200400" cy="289548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016" h="1824">
                <a:moveTo>
                  <a:pt x="2016" y="0"/>
                </a:moveTo>
                <a:lnTo>
                  <a:pt x="2016" y="144"/>
                </a:lnTo>
                <a:lnTo>
                  <a:pt x="0" y="1824"/>
                </a:lnTo>
                <a:lnTo>
                  <a:pt x="2016" y="0"/>
                </a:lnTo>
                <a:close/>
              </a:path>
            </a:pathLst>
          </a:custGeom>
          <a:solidFill>
            <a:srgbClr val="2756a8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Volný tvar 28"/>
          <p:cNvSpPr/>
          <p:nvPr/>
        </p:nvSpPr>
        <p:spPr>
          <a:xfrm>
            <a:off x="5943600" y="1752480"/>
            <a:ext cx="3200400" cy="25146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016" h="1584">
                <a:moveTo>
                  <a:pt x="2016" y="0"/>
                </a:moveTo>
                <a:lnTo>
                  <a:pt x="0" y="1584"/>
                </a:lnTo>
                <a:lnTo>
                  <a:pt x="2016" y="48"/>
                </a:lnTo>
                <a:lnTo>
                  <a:pt x="2016" y="0"/>
                </a:lnTo>
                <a:close/>
              </a:path>
            </a:pathLst>
          </a:custGeom>
          <a:solidFill>
            <a:srgbClr val="2756a8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Volný tvar 29"/>
          <p:cNvSpPr/>
          <p:nvPr/>
        </p:nvSpPr>
        <p:spPr>
          <a:xfrm>
            <a:off x="990720" y="4267080"/>
            <a:ext cx="4952880" cy="2590920"/>
          </a:xfrm>
          <a:custGeom>
            <a:avLst/>
            <a:gdLst/>
            <a:ahLst/>
            <a:rect l="l" t="t" r="r" b="b"/>
            <a:pathLst>
              <a:path w="3120" h="1632">
                <a:moveTo>
                  <a:pt x="0" y="1632"/>
                </a:moveTo>
                <a:lnTo>
                  <a:pt x="3120" y="0"/>
                </a:lnTo>
                <a:lnTo>
                  <a:pt x="1056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2756a8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Volný tvar 30"/>
          <p:cNvSpPr/>
          <p:nvPr/>
        </p:nvSpPr>
        <p:spPr>
          <a:xfrm>
            <a:off x="533520" y="4267080"/>
            <a:ext cx="5333760" cy="2590920"/>
          </a:xfrm>
          <a:custGeom>
            <a:avLst/>
            <a:gdLst>
              <a:gd name="textAreaLeft" fmla="*/ 0 w 5333760"/>
              <a:gd name="textAreaRight" fmla="*/ 5334120 w 533376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3360" h="1632">
                <a:moveTo>
                  <a:pt x="0" y="1632"/>
                </a:moveTo>
                <a:lnTo>
                  <a:pt x="3360" y="0"/>
                </a:lnTo>
                <a:lnTo>
                  <a:pt x="144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2756a8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Volný tvar 31"/>
          <p:cNvSpPr/>
          <p:nvPr/>
        </p:nvSpPr>
        <p:spPr>
          <a:xfrm>
            <a:off x="366840" y="2438280"/>
            <a:ext cx="5638680" cy="182880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3552" h="1152">
                <a:moveTo>
                  <a:pt x="0" y="0"/>
                </a:moveTo>
                <a:lnTo>
                  <a:pt x="3504" y="1152"/>
                </a:lnTo>
                <a:lnTo>
                  <a:pt x="0" y="384"/>
                </a:lnTo>
                <a:lnTo>
                  <a:pt x="0" y="0"/>
                </a:lnTo>
                <a:close/>
              </a:path>
            </a:pathLst>
          </a:custGeom>
          <a:solidFill>
            <a:srgbClr val="2756a8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Volný tvar 32"/>
          <p:cNvSpPr/>
          <p:nvPr/>
        </p:nvSpPr>
        <p:spPr>
          <a:xfrm>
            <a:off x="366840" y="2133720"/>
            <a:ext cx="5638680" cy="213336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2133360"/>
              <a:gd name="textAreaBottom" fmla="*/ 2133720 h 213336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2756a8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Volný tvar 33"/>
          <p:cNvSpPr/>
          <p:nvPr/>
        </p:nvSpPr>
        <p:spPr>
          <a:xfrm>
            <a:off x="4572000" y="4267080"/>
            <a:ext cx="1371600" cy="25909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864" h="1632">
                <a:moveTo>
                  <a:pt x="0" y="1632"/>
                </a:moveTo>
                <a:lnTo>
                  <a:pt x="96" y="1632"/>
                </a:lnTo>
                <a:lnTo>
                  <a:pt x="864" y="0"/>
                </a:lnTo>
                <a:lnTo>
                  <a:pt x="0" y="1632"/>
                </a:lnTo>
                <a:close/>
              </a:path>
            </a:pathLst>
          </a:custGeom>
          <a:solidFill>
            <a:srgbClr val="2d58a2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Obdélník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2d58a2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Obdélník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Obdélník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Obdélník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Obdélník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Obdélník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4f1da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c0504d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c0504d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9bbb59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100" spc="-1" strike="noStrike">
                <a:solidFill>
                  <a:srgbClr val="eeece1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eeece1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eeece1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CE010-87CC-46F9-9C07-C94196E774E3}" type="slidenum">
              <a:rPr b="0" lang="cs-CZ" sz="1200" spc="-1" strike="noStrike">
                <a:solidFill>
                  <a:srgbClr val="eeece1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f5d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4f1da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c0504d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c0504d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9bbb59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100" spc="-1" strike="noStrike">
                <a:solidFill>
                  <a:srgbClr val="eeece1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eeece1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eeece1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B55D9-4F7B-44D3-86EE-AB09A6443B64}" type="slidenum">
              <a:rPr b="0" lang="cs-CZ" sz="1200" spc="-1" strike="noStrike">
                <a:solidFill>
                  <a:srgbClr val="eeece1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f5d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Obdélník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2d58a2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Obdélník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Obdélník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Obdélník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Obdélník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Obdélník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Obdélník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Obdélník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Obdélník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Obdélník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4f1da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c0504d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c0504d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9bbb59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100" spc="-1" strike="noStrike">
                <a:solidFill>
                  <a:srgbClr val="eeece1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eeece1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eeece1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BFA84-F5FF-4AEB-AF7E-8BA5E4E5B023}" type="slidenum">
              <a:rPr b="0" lang="cs-CZ" sz="1200" spc="-1" strike="noStrike">
                <a:solidFill>
                  <a:srgbClr val="eeece1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f5d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4f1da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c0504d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c0504d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9bbb59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100" spc="-1" strike="noStrike">
                <a:solidFill>
                  <a:srgbClr val="eeece1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eeece1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eeece1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E0533-18AD-409E-B64E-0E833F157351}" type="slidenum">
              <a:rPr b="0" lang="cs-CZ" sz="1200" spc="-1" strike="noStrike">
                <a:solidFill>
                  <a:srgbClr val="eeece1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f5d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Obdélník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Obdélník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Obdélník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Obdélník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Obdélník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Obdélník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Obdélník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Obdélník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Obdélník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Obdélník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římá spojovací čára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5" name="Skupina 19"/>
          <p:cNvGrpSpPr/>
          <p:nvPr/>
        </p:nvGrpSpPr>
        <p:grpSpPr>
          <a:xfrm>
            <a:off x="8516880" y="1217520"/>
            <a:ext cx="128520" cy="131400"/>
            <a:chOff x="8516880" y="1217520"/>
            <a:chExt cx="128520" cy="131400"/>
          </a:xfrm>
        </p:grpSpPr>
        <p:sp>
          <p:nvSpPr>
            <p:cNvPr id="316" name="Přímá spojovací čára 20"/>
            <p:cNvSpPr/>
            <p:nvPr/>
          </p:nvSpPr>
          <p:spPr>
            <a:xfrm>
              <a:off x="8575920" y="1217520"/>
              <a:ext cx="6948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Přímá spojovací čára 23"/>
            <p:cNvSpPr/>
            <p:nvPr/>
          </p:nvSpPr>
          <p:spPr>
            <a:xfrm>
              <a:off x="8516880" y="1282680"/>
              <a:ext cx="982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Přímá spojovací čára 24"/>
            <p:cNvSpPr/>
            <p:nvPr/>
          </p:nvSpPr>
          <p:spPr>
            <a:xfrm flipV="1">
              <a:off x="8575920" y="1282320"/>
              <a:ext cx="6948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9" name="Skupina 25"/>
          <p:cNvGrpSpPr/>
          <p:nvPr/>
        </p:nvGrpSpPr>
        <p:grpSpPr>
          <a:xfrm>
            <a:off x="8669160" y="1370160"/>
            <a:ext cx="128880" cy="131400"/>
            <a:chOff x="8669160" y="1370160"/>
            <a:chExt cx="128880" cy="131400"/>
          </a:xfrm>
        </p:grpSpPr>
        <p:sp>
          <p:nvSpPr>
            <p:cNvPr id="320" name="Přímá spojovací čára 26"/>
            <p:cNvSpPr/>
            <p:nvPr/>
          </p:nvSpPr>
          <p:spPr>
            <a:xfrm>
              <a:off x="8728200" y="1370160"/>
              <a:ext cx="6984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Přímá spojovací čára 27"/>
            <p:cNvSpPr/>
            <p:nvPr/>
          </p:nvSpPr>
          <p:spPr>
            <a:xfrm>
              <a:off x="8669160" y="1435320"/>
              <a:ext cx="9864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Přímá spojovací čára 28"/>
            <p:cNvSpPr/>
            <p:nvPr/>
          </p:nvSpPr>
          <p:spPr>
            <a:xfrm flipV="1">
              <a:off x="8728200" y="1434960"/>
              <a:ext cx="6984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3" name="Skupina 29"/>
          <p:cNvGrpSpPr/>
          <p:nvPr/>
        </p:nvGrpSpPr>
        <p:grpSpPr>
          <a:xfrm>
            <a:off x="8321760" y="1473120"/>
            <a:ext cx="128520" cy="131400"/>
            <a:chOff x="8321760" y="1473120"/>
            <a:chExt cx="128520" cy="131400"/>
          </a:xfrm>
        </p:grpSpPr>
        <p:sp>
          <p:nvSpPr>
            <p:cNvPr id="324" name="Přímá spojovací čára 30"/>
            <p:cNvSpPr/>
            <p:nvPr/>
          </p:nvSpPr>
          <p:spPr>
            <a:xfrm>
              <a:off x="8380800" y="1473120"/>
              <a:ext cx="6948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Přímá spojovací čára 31"/>
            <p:cNvSpPr/>
            <p:nvPr/>
          </p:nvSpPr>
          <p:spPr>
            <a:xfrm>
              <a:off x="8321760" y="1538280"/>
              <a:ext cx="982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Přímá spojovací čára 32"/>
            <p:cNvSpPr/>
            <p:nvPr/>
          </p:nvSpPr>
          <p:spPr>
            <a:xfrm flipV="1">
              <a:off x="8380800" y="1537920"/>
              <a:ext cx="6948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4f1da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c0504d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c0504d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9bbb59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100" spc="-1" strike="noStrike">
                <a:solidFill>
                  <a:srgbClr val="eeece1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eeece1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eeece1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DED31-8DF1-411F-9703-ED4527B8FB09}" type="slidenum">
              <a:rPr b="0" lang="cs-CZ" sz="1200" spc="-1" strike="noStrike">
                <a:solidFill>
                  <a:srgbClr val="eeece1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914400" y="512280"/>
            <a:ext cx="7905600" cy="14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4f1da"/>
                </a:solidFill>
                <a:latin typeface="Consolas"/>
              </a:rPr>
              <a:t>Obsah přednášky</a:t>
            </a:r>
            <a:br>
              <a:rPr sz="4000"/>
            </a:br>
            <a:r>
              <a:rPr b="0" lang="cs-CZ" sz="4000" spc="-1" strike="noStrike">
                <a:solidFill>
                  <a:srgbClr val="f4f1da"/>
                </a:solidFill>
                <a:latin typeface="Consolas"/>
              </a:rPr>
              <a:t>Věda * Geografie jako věda</a:t>
            </a:r>
            <a:br>
              <a:rPr sz="4000"/>
            </a:b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971640" y="2286000"/>
            <a:ext cx="7632720" cy="32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Věda,  její  definice, vývoj vědy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Vědecký výzkum, systémový přístup, modelování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Geografie vědou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Thinking and working geographically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Členění geografie na dílčí disciplíny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4f1da"/>
                </a:solidFill>
                <a:latin typeface="Consolas"/>
              </a:rPr>
              <a:t>Vědy a jejich dělení</a:t>
            </a: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Corbel"/>
              </a:rPr>
              <a:t>Vědy se liší objektem studia, předmětem studia, metodami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Corbel"/>
              </a:rPr>
              <a:t>Podle 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Corbel"/>
              </a:rPr>
              <a:t>metod</a:t>
            </a:r>
            <a:r>
              <a:rPr b="0" lang="cs-CZ" sz="2800" spc="-1" strike="noStrike">
                <a:solidFill>
                  <a:srgbClr val="ffffff"/>
                </a:solidFill>
                <a:latin typeface="Corbel"/>
              </a:rPr>
              <a:t> se vědy dělí: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01"/>
              </a:spcBef>
              <a:buClr>
                <a:srgbClr val="c0504d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orbel"/>
              </a:rPr>
              <a:t>formální (matematika a logika)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01"/>
              </a:spcBef>
              <a:buClr>
                <a:srgbClr val="c0504d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orbel"/>
              </a:rPr>
              <a:t>přírodní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01"/>
              </a:spcBef>
              <a:buClr>
                <a:srgbClr val="c0504d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orbel"/>
              </a:rPr>
              <a:t>humanitní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Corbel"/>
              </a:rPr>
              <a:t>Podle 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Corbel"/>
              </a:rPr>
              <a:t>stupně obecnosti</a:t>
            </a:r>
            <a:r>
              <a:rPr b="0" lang="cs-CZ" sz="2800" spc="-1" strike="noStrike">
                <a:solidFill>
                  <a:srgbClr val="ffffff"/>
                </a:solidFill>
                <a:latin typeface="Corbe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01"/>
              </a:spcBef>
              <a:buClr>
                <a:srgbClr val="c0504d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orbel"/>
              </a:rPr>
              <a:t>teoretické a aplikované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42960" y="100008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408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f4f1da"/>
                </a:solidFill>
                <a:latin typeface="Consolas"/>
              </a:rPr>
              <a:t>Vývoj vědy</a:t>
            </a:r>
            <a:endParaRPr b="0" lang="en-US" sz="38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706320" y="1351080"/>
            <a:ext cx="5718240" cy="9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Text Box 8"/>
          <p:cNvSpPr/>
          <p:nvPr/>
        </p:nvSpPr>
        <p:spPr>
          <a:xfrm>
            <a:off x="1371600" y="3429000"/>
            <a:ext cx="472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orbel"/>
              </a:rPr>
              <a:t>Geocentrická  teori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Text Box 9"/>
          <p:cNvSpPr/>
          <p:nvPr/>
        </p:nvSpPr>
        <p:spPr>
          <a:xfrm>
            <a:off x="3505320" y="4038480"/>
            <a:ext cx="472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orbel"/>
              </a:rPr>
              <a:t>Heliocentrická  teori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Consolas"/>
              </a:rPr>
              <a:t>Dějiny vědy jsou posety odloženými hypotézami</a:t>
            </a:r>
            <a:br>
              <a:rPr sz="3200"/>
            </a:br>
            <a:r>
              <a:rPr b="0" lang="cs-CZ" sz="3200" spc="-1" strike="noStrike">
                <a:solidFill>
                  <a:srgbClr val="ffffff"/>
                </a:solidFill>
                <a:latin typeface="Consolas"/>
              </a:rPr>
              <a:t>  překonanými teoriemi i platnými teoriemi</a:t>
            </a:r>
            <a:endParaRPr b="0" lang="en-US" sz="32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396" name="Text Box 13"/>
          <p:cNvSpPr/>
          <p:nvPr/>
        </p:nvSpPr>
        <p:spPr>
          <a:xfrm>
            <a:off x="1480320" y="2174760"/>
            <a:ext cx="18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orbel"/>
              </a:rPr>
              <a:t>Země je plochá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Text Box 14"/>
          <p:cNvSpPr/>
          <p:nvPr/>
        </p:nvSpPr>
        <p:spPr>
          <a:xfrm>
            <a:off x="2998080" y="2860560"/>
            <a:ext cx="175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orbel"/>
              </a:rPr>
              <a:t>Země je kulatá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Text Box 15"/>
          <p:cNvSpPr/>
          <p:nvPr/>
        </p:nvSpPr>
        <p:spPr>
          <a:xfrm>
            <a:off x="1046520" y="5029200"/>
            <a:ext cx="465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orbel"/>
              </a:rPr>
              <a:t>Wegenerova teorie kontinentálního drift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4f1da"/>
                </a:solidFill>
                <a:latin typeface="Consolas"/>
              </a:rPr>
              <a:t>Kuhn</a:t>
            </a: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642960" y="2428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98520" indent="-33228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orbel"/>
              </a:rPr>
              <a:t>T. S. Kuhn přinesl přesvědčivé argumenty i o tom, že </a:t>
            </a:r>
            <a:r>
              <a:rPr b="0" lang="cs-CZ" sz="2400" spc="-1" strike="noStrike" u="sng">
                <a:solidFill>
                  <a:srgbClr val="ffffff"/>
                </a:solidFill>
                <a:uFillTx/>
                <a:latin typeface="Corbel"/>
              </a:rPr>
              <a:t>pokrok vědeckého poznání není přímočarý</a:t>
            </a:r>
            <a:r>
              <a:rPr b="0" lang="cs-CZ" sz="2400" spc="-1" strike="noStrike">
                <a:solidFill>
                  <a:srgbClr val="ffffff"/>
                </a:solidFill>
                <a:latin typeface="Corbel"/>
              </a:rPr>
              <a:t>,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orbel"/>
              </a:rPr>
              <a:t>nýbrž že je čas od času přerušován </a:t>
            </a:r>
            <a:r>
              <a:rPr b="0" lang="cs-CZ" sz="2400" spc="-1" strike="noStrike" u="sng">
                <a:solidFill>
                  <a:srgbClr val="ffffff"/>
                </a:solidFill>
                <a:uFillTx/>
                <a:latin typeface="Corbel"/>
              </a:rPr>
              <a:t>zásadními zvraty – vědeckými revolucemi, </a:t>
            </a:r>
            <a:r>
              <a:rPr b="0" lang="cs-CZ" sz="2400" spc="-1" strike="noStrike">
                <a:solidFill>
                  <a:srgbClr val="ffffff"/>
                </a:solidFill>
                <a:latin typeface="Corbel"/>
              </a:rPr>
              <a:t>při nichž dochází k revizi samotných základů dosavadního vědění. Vědecké poznání nesměřuje k nějaké jediné Pravdě o světě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Corbel"/>
              </a:rPr>
              <a:t>Paradigma – vědecká revoluce – nové paradigma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717480" indent="-277200">
              <a:spcBef>
                <a:spcPts val="499"/>
              </a:spcBef>
              <a:buClr>
                <a:srgbClr val="c0504d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Corbel"/>
              </a:rPr>
              <a:t>Podrobněji čas. Vesmír 9/2008, 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1" marL="717480" indent="-277200">
              <a:spcBef>
                <a:spcPts val="499"/>
              </a:spcBef>
              <a:buClr>
                <a:srgbClr val="c0504d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Corbel"/>
              </a:rPr>
              <a:t>KnihaT.S. Kuhn: Koperníkovská revoluce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01" name="Obrázek 3" descr="uvod_kuhn.jpg"/>
          <p:cNvPicPr/>
          <p:nvPr/>
        </p:nvPicPr>
        <p:blipFill>
          <a:blip r:embed="rId1"/>
          <a:stretch/>
        </p:blipFill>
        <p:spPr>
          <a:xfrm>
            <a:off x="6643800" y="571680"/>
            <a:ext cx="2071440" cy="180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4f1da"/>
                </a:solidFill>
                <a:latin typeface="Consolas"/>
              </a:rPr>
              <a:t>PARADIGMA</a:t>
            </a: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1066680" y="2101680"/>
            <a:ext cx="7772400" cy="10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349200" indent="-291240">
              <a:lnSpc>
                <a:spcPct val="80000"/>
              </a:lnSpc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100" spc="-1" strike="noStrike">
                <a:solidFill>
                  <a:srgbClr val="ffffff"/>
                </a:solidFill>
                <a:latin typeface="Corbel"/>
              </a:rPr>
              <a:t>určitý vědecký styl dané epochy či vědeckého společenství</a:t>
            </a: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  <a:p>
            <a:pPr marL="349200" indent="-291240">
              <a:lnSpc>
                <a:spcPct val="80000"/>
              </a:lnSpc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ffffff"/>
                </a:solidFill>
                <a:latin typeface="Corbel"/>
              </a:rPr>
              <a:t>souhrn všeobecně uznávaných teoretických a metodologických předpokladů, postupů v určité etapě vývoje vědeckého bádání</a:t>
            </a:r>
            <a:r>
              <a:rPr b="1" lang="cs-CZ" sz="2100" spc="-1" strike="noStrike">
                <a:solidFill>
                  <a:srgbClr val="ffffff"/>
                </a:solidFill>
                <a:latin typeface="Corbel"/>
              </a:rPr>
              <a:t>.</a:t>
            </a: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  <a:p>
            <a:pPr marL="349200" indent="-291240">
              <a:lnSpc>
                <a:spcPct val="80000"/>
              </a:lnSpc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4f1da"/>
                </a:solidFill>
                <a:latin typeface="Consolas"/>
              </a:rPr>
              <a:t>Vývoj vědy</a:t>
            </a: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teorie T.S. Kuhna o proměně věd: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paradigma 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vědecká revoluce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nové paradigma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6" name="Rectangle 6"/>
          <p:cNvSpPr/>
          <p:nvPr/>
        </p:nvSpPr>
        <p:spPr>
          <a:xfrm>
            <a:off x="7772400" y="4724280"/>
            <a:ext cx="380880" cy="1905120"/>
          </a:xfrm>
          <a:prstGeom prst="rect">
            <a:avLst/>
          </a:pr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orbel"/>
              </a:rPr>
              <a:t>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orbel"/>
              </a:rPr>
              <a:t>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7" name="Group 10"/>
          <p:cNvGrpSpPr/>
          <p:nvPr/>
        </p:nvGrpSpPr>
        <p:grpSpPr>
          <a:xfrm>
            <a:off x="5181480" y="1676520"/>
            <a:ext cx="2210040" cy="3047760"/>
            <a:chOff x="5181480" y="1676520"/>
            <a:chExt cx="2210040" cy="3047760"/>
          </a:xfrm>
        </p:grpSpPr>
        <p:sp>
          <p:nvSpPr>
            <p:cNvPr id="408" name="Rectangle 5"/>
            <p:cNvSpPr/>
            <p:nvPr/>
          </p:nvSpPr>
          <p:spPr>
            <a:xfrm>
              <a:off x="5181480" y="1676520"/>
              <a:ext cx="381240" cy="304776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ffffff"/>
                  </a:solidFill>
                  <a:latin typeface="Corbel"/>
                </a:rPr>
                <a:t>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Rectangle 7"/>
            <p:cNvSpPr/>
            <p:nvPr/>
          </p:nvSpPr>
          <p:spPr>
            <a:xfrm>
              <a:off x="5791320" y="4572000"/>
              <a:ext cx="1600200" cy="15228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ffffff"/>
                  </a:solidFill>
                  <a:latin typeface="Corbel"/>
                </a:rPr>
                <a:t>V 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4f1da"/>
                </a:solidFill>
                <a:latin typeface="Consolas"/>
              </a:rPr>
              <a:t>Vědecký výzkum</a:t>
            </a: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12" name="Picture 2" descr="G:\ocean\teory.jpg"/>
          <p:cNvPicPr/>
          <p:nvPr/>
        </p:nvPicPr>
        <p:blipFill>
          <a:blip r:embed="rId1"/>
          <a:srcRect l="0" t="0" r="0" b="21416"/>
          <a:stretch/>
        </p:blipFill>
        <p:spPr>
          <a:xfrm>
            <a:off x="1116000" y="1270080"/>
            <a:ext cx="6500880" cy="43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4f1da"/>
                </a:solidFill>
                <a:latin typeface="Consolas"/>
              </a:rPr>
              <a:t>hypotéza</a:t>
            </a: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Hypotéza, domněnka, předpoklad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výchozí, dosud ale neprokázané tvrzení, které se předkládá na zkoušku k ověření (experimentem, zkušeností)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Pracovní hypotézy ukazují další cestu vědeckého zkoumání, mohou se stát základem vědecké teorie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000080" y="92844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408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f4f1da"/>
                </a:solidFill>
                <a:latin typeface="Consolas"/>
              </a:rPr>
              <a:t>teorie</a:t>
            </a:r>
            <a:endParaRPr b="0" lang="en-US" sz="38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71680" y="1642680"/>
            <a:ext cx="7772400" cy="1120680"/>
          </a:xfrm>
          <a:prstGeom prst="rect">
            <a:avLst/>
          </a:prstGeom>
          <a:noFill/>
          <a:ln w="0">
            <a:noFill/>
          </a:ln>
        </p:spPr>
        <p:txBody>
          <a:bodyPr lIns="82440" bIns="0" anchor="t">
            <a:normAutofit fontScale="98000"/>
          </a:bodyPr>
          <a:p>
            <a:pPr marL="52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orbel"/>
              </a:rPr>
              <a:t>Řádně  doložené objasnění některého přírodního (sociálního) jevu, které zahrnuje fakta, zevšeobecněné zákony, logické  dedukce a otestované dílčí hypotézy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7" name="TextovéPole 3"/>
          <p:cNvSpPr/>
          <p:nvPr/>
        </p:nvSpPr>
        <p:spPr>
          <a:xfrm>
            <a:off x="714240" y="3000240"/>
            <a:ext cx="5929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orbel"/>
              </a:rPr>
              <a:t>Teorie není dohad  nebo tušení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orbel"/>
              </a:rPr>
              <a:t>ale vysvětlení vycházející z rozsáhlého pozorování , experimentů a tvořivých úva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TextovéPole 4"/>
          <p:cNvSpPr/>
          <p:nvPr/>
        </p:nvSpPr>
        <p:spPr>
          <a:xfrm>
            <a:off x="1034640" y="4572000"/>
            <a:ext cx="4153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orbel"/>
              </a:rPr>
              <a:t>Příklady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orbel"/>
              </a:rPr>
              <a:t>heliocentrická teorie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orbel"/>
              </a:rPr>
              <a:t>teorie deskové tektoniky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cs-CZ" sz="1800" spc="-1" strike="noStrike">
                <a:solidFill>
                  <a:srgbClr val="ffffff"/>
                </a:solidFill>
                <a:latin typeface="Corbel"/>
              </a:rPr>
              <a:t>teorie evolučního vývoje organismů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071720" y="128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4f1da"/>
                </a:solidFill>
                <a:latin typeface="Consolas"/>
              </a:rPr>
              <a:t>Systémové  paradigma </a:t>
            </a:r>
            <a:br>
              <a:rPr sz="4000"/>
            </a:b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teorie systémů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c0504d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Corbel"/>
              </a:rPr>
              <a:t>výchozí předpoklady: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601"/>
              </a:spcBef>
              <a:buClr>
                <a:srgbClr val="c0504d"/>
              </a:buClr>
              <a:buFont typeface="Wingdings 2" charset="2"/>
              <a:buChar char="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orbel"/>
              </a:rPr>
              <a:t>každý dílčí prvek je součástí většího celku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601"/>
              </a:spcBef>
              <a:buClr>
                <a:srgbClr val="c0504d"/>
              </a:buClr>
              <a:buFont typeface="Wingdings 2" charset="2"/>
              <a:buChar char="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orbel"/>
              </a:rPr>
              <a:t>tedy i každý objekt  se složen z menších částí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1" name="AutoShape 4"/>
          <p:cNvSpPr/>
          <p:nvPr/>
        </p:nvSpPr>
        <p:spPr>
          <a:xfrm>
            <a:off x="4284720" y="3213000"/>
            <a:ext cx="457200" cy="45720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/>
          </p:nvPr>
        </p:nvSpPr>
        <p:spPr>
          <a:xfrm>
            <a:off x="1834920" y="2492280"/>
            <a:ext cx="3516120" cy="12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c4bd97"/>
                </a:solidFill>
                <a:latin typeface="Corbel"/>
              </a:rPr>
              <a:t>Co je to věda?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title"/>
          </p:nvPr>
        </p:nvSpPr>
        <p:spPr>
          <a:xfrm>
            <a:off x="1371240" y="1483920"/>
            <a:ext cx="55767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4f1da"/>
                </a:solidFill>
                <a:latin typeface="Consolas"/>
              </a:rPr>
              <a:t>Je geografie vědou?</a:t>
            </a: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4f1da"/>
                </a:solidFill>
                <a:latin typeface="Consolas"/>
              </a:rPr>
              <a:t>Systém</a:t>
            </a: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systém - </a:t>
            </a:r>
            <a:r>
              <a:rPr b="0" lang="cs-CZ" sz="3000" spc="-1" strike="noStrike" u="sng">
                <a:solidFill>
                  <a:srgbClr val="ffffff"/>
                </a:solidFill>
                <a:uFillTx/>
                <a:latin typeface="Corbel"/>
              </a:rPr>
              <a:t>skupina objektů propojená vazbami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počet objektů i vazeb systému   je konečný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objekty i vazby ( vzájemné vztahy) lze zkou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objekty jsou uspořádány hierarchicky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4f1da"/>
                </a:solidFill>
                <a:latin typeface="Consolas"/>
              </a:rPr>
              <a:t>Systémový přístup</a:t>
            </a: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 u="sng">
                <a:solidFill>
                  <a:srgbClr val="ffffff"/>
                </a:solidFill>
                <a:uFillTx/>
                <a:latin typeface="Corbel"/>
              </a:rPr>
              <a:t>vědecky zjednodušuje</a:t>
            </a: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 realitu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odhaluje hlubší strukturovanou podstatu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4f1da"/>
                </a:solidFill>
                <a:latin typeface="Consolas"/>
              </a:rPr>
              <a:t>Model</a:t>
            </a: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Model - zjednodušené zobrazení systému , není se systémem či původním objektem, který systém popisuje shodný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2590560" y="2590560"/>
            <a:ext cx="3886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f4f1da"/>
                </a:solidFill>
                <a:latin typeface="Consolas"/>
              </a:rPr>
              <a:t>Geografie</a:t>
            </a:r>
            <a:endParaRPr b="0" lang="en-US" sz="6000" spc="-1" strike="noStrike">
              <a:solidFill>
                <a:srgbClr val="f4f1da"/>
              </a:solidFill>
              <a:latin typeface="Consola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4f1da"/>
                </a:solidFill>
                <a:latin typeface="Consolas"/>
              </a:rPr>
              <a:t>Geografie</a:t>
            </a: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100000"/>
              </a:lnSpc>
              <a:buClr>
                <a:srgbClr val="ffff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je  založena na schopnosti geograficky myslet –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buClr>
                <a:srgbClr val="ffff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ffffff"/>
                </a:solidFill>
                <a:uFillTx/>
                <a:latin typeface="Arial"/>
              </a:rPr>
              <a:t>tj. jasně formulovat nejrůznější prostorové vlastnosti geografických jevů ,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schopnost systematicky třídit, analyzovat, aplikovat geografické teorie, provádět syntézy, realizovat modely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buClr>
                <a:srgbClr val="ffff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není encyklopedická znalost geografických objektů a jejich prostorová lokalizace (jak je často prezentováno ve školské praxi, tj. </a:t>
            </a:r>
            <a:r>
              <a:rPr b="0" lang="cs-CZ" sz="2400" spc="-1" strike="noStrike" u="sng">
                <a:solidFill>
                  <a:srgbClr val="ffffff"/>
                </a:solidFill>
                <a:uFillTx/>
                <a:latin typeface="Arial"/>
              </a:rPr>
              <a:t>ne jen KDE to je, ale i PROČ to tam je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4f1da"/>
                </a:solidFill>
                <a:latin typeface="Consolas"/>
              </a:rPr>
              <a:t>Thinking geography</a:t>
            </a: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826920" y="1413000"/>
            <a:ext cx="756144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02840" indent="-3355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Chapter  1 – Thinking and working geographically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24680" indent="-280080">
              <a:spcBef>
                <a:spcPts val="649"/>
              </a:spcBef>
              <a:buClr>
                <a:srgbClr val="c0504d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Corbel"/>
              </a:rPr>
              <a:t>Why do geographers  ask  question?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2" marL="975240" indent="-223920">
              <a:spcBef>
                <a:spcPts val="601"/>
              </a:spcBef>
              <a:buClr>
                <a:srgbClr val="c0504d"/>
              </a:buClr>
              <a:buFont typeface="Wingdings 2" charset="2"/>
              <a:buChar char="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orbel"/>
              </a:rPr>
              <a:t>Skills -  understanding  the spatial  concepts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2" marL="975240" indent="-223920">
              <a:spcBef>
                <a:spcPts val="601"/>
              </a:spcBef>
              <a:buClr>
                <a:srgbClr val="c0504d"/>
              </a:buClr>
              <a:buFont typeface="Wingdings 2" charset="2"/>
              <a:buChar char="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724680" indent="-280080">
              <a:spcBef>
                <a:spcPts val="649"/>
              </a:spcBef>
              <a:buClr>
                <a:srgbClr val="c0504d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Corbel"/>
              </a:rPr>
              <a:t>How do geographers  gather  data?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2" marL="975240" indent="-223920">
              <a:spcBef>
                <a:spcPts val="601"/>
              </a:spcBef>
              <a:buClr>
                <a:srgbClr val="c0504d"/>
              </a:buClr>
              <a:buFont typeface="Wingdings 2" charset="2"/>
              <a:buChar char="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orbel"/>
              </a:rPr>
              <a:t>(primary data sources and secondary data sources)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724680" indent="-280080">
              <a:spcBef>
                <a:spcPts val="649"/>
              </a:spcBef>
              <a:buClr>
                <a:srgbClr val="c0504d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Corbel"/>
              </a:rPr>
              <a:t>Writin geographical reports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2" marL="975240" indent="-223920">
              <a:spcBef>
                <a:spcPts val="601"/>
              </a:spcBef>
              <a:buClr>
                <a:srgbClr val="c0504d"/>
              </a:buClr>
              <a:buFont typeface="Wingdings 2" charset="2"/>
              <a:buChar char="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orbel"/>
              </a:rPr>
              <a:t>Table of contens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724680" indent="-280080">
              <a:spcBef>
                <a:spcPts val="649"/>
              </a:spcBef>
              <a:buClr>
                <a:srgbClr val="c0504d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Corbel"/>
              </a:rPr>
              <a:t>What do geographers do?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301680" y="115920"/>
            <a:ext cx="8540640" cy="17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4f1da"/>
                </a:solidFill>
                <a:latin typeface="Consolas"/>
              </a:rPr>
              <a:t>  </a:t>
            </a:r>
            <a:r>
              <a:rPr b="0" lang="cs-CZ" sz="3400" spc="-1" strike="noStrike">
                <a:solidFill>
                  <a:srgbClr val="f4f1da"/>
                </a:solidFill>
                <a:latin typeface="Consolas"/>
              </a:rPr>
              <a:t>Pro správné pochopení výuky zeměpisu (geografie) je nutné naučit se klást zeměpisné (geografické) otázky:</a:t>
            </a:r>
            <a:endParaRPr b="0" lang="en-US" sz="34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50560" y="1844640"/>
            <a:ext cx="87138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ffff"/>
                </a:solidFill>
                <a:latin typeface="Corbel"/>
              </a:rPr>
              <a:t>Kde to je?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ffff"/>
                </a:solidFill>
                <a:latin typeface="Corbel"/>
              </a:rPr>
              <a:t>Jaké to je?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ffff"/>
                </a:solidFill>
                <a:latin typeface="Corbel"/>
              </a:rPr>
              <a:t>Proč je to tam?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ffff"/>
                </a:solidFill>
                <a:latin typeface="Corbel"/>
              </a:rPr>
              <a:t>Jak to vzniklo?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ffff"/>
                </a:solidFill>
                <a:latin typeface="Corbel"/>
              </a:rPr>
              <a:t>Jaký to má vliv?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ffff"/>
                </a:solidFill>
                <a:latin typeface="Corbel"/>
              </a:rPr>
              <a:t>Jak by to mělo být uzpůsobeno k vzájemnému užitku člověka a přírody?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4f1da"/>
                </a:solidFill>
                <a:latin typeface="Consolas"/>
              </a:rPr>
              <a:t>Geografie a její definice</a:t>
            </a: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buClr>
                <a:srgbClr val="c4bd97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4bd97"/>
                </a:solidFill>
                <a:latin typeface="Arial"/>
                <a:ea typeface="Arial"/>
              </a:rPr>
              <a:t>Geografie  je vědu zkoumající zákonitosti vývoje  krajinné sféry a jejích objektů, zvláště vztahy územní diferenciace a integrace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4bd97"/>
                </a:solidFill>
                <a:latin typeface="Arial"/>
                <a:ea typeface="Arial"/>
              </a:rPr>
              <a:t> </a:t>
            </a:r>
            <a:r>
              <a:rPr b="1" lang="cs-CZ" sz="2400" spc="-1" strike="noStrike">
                <a:solidFill>
                  <a:srgbClr val="c4bd97"/>
                </a:solidFill>
                <a:latin typeface="Arial"/>
                <a:ea typeface="Arial"/>
              </a:rPr>
              <a:t>geografie je vědou studující prostorové rozšíření jevů  v krajinné sféře Země, jejich vzájemnou interakci a vývoj v čase. (Wikipedia)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Corbel"/>
              </a:rPr>
              <a:t>Úkol: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Corbel"/>
              </a:rPr>
              <a:t>vyhledejte ještě min. dvě definice geografie od různých autorů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4f1da"/>
                </a:solidFill>
                <a:latin typeface="Consolas"/>
              </a:rPr>
              <a:t>Zařazení geografie</a:t>
            </a: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Geografie je vědou na rozhranní věd přírodních a společenských,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skupina věd o Zemi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soubor metod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objekt studia příp. předmět studia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371600" y="164304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408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f4f1da"/>
                </a:solidFill>
                <a:latin typeface="Consolas"/>
              </a:rPr>
              <a:t>Objekt geografie a předmět geografie </a:t>
            </a:r>
            <a:endParaRPr b="0" lang="en-US" sz="38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440" name="TextovéPole 3"/>
          <p:cNvSpPr/>
          <p:nvPr/>
        </p:nvSpPr>
        <p:spPr>
          <a:xfrm>
            <a:off x="838800" y="4581360"/>
            <a:ext cx="7067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Corbel"/>
              </a:rPr>
              <a:t>Předmětem</a:t>
            </a:r>
            <a:r>
              <a:rPr b="0" lang="cs-CZ" sz="2800" spc="-1" strike="noStrike">
                <a:solidFill>
                  <a:srgbClr val="ffffff"/>
                </a:solidFill>
                <a:latin typeface="Corbel"/>
              </a:rPr>
              <a:t> geografie jso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Corbel"/>
              </a:rPr>
              <a:t>funkční </a:t>
            </a:r>
            <a:r>
              <a:rPr b="0" lang="cs-CZ" sz="2800" spc="-1" strike="noStrike">
                <a:solidFill>
                  <a:srgbClr val="ff0000"/>
                </a:solidFill>
                <a:latin typeface="Corbel"/>
              </a:rPr>
              <a:t>analýza vztahů a vaze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Corbel"/>
              </a:rPr>
              <a:t>mezi jednotlivými. složkami </a:t>
            </a:r>
            <a:r>
              <a:rPr b="0" i="1" lang="cs-CZ" sz="2800" spc="-1" strike="noStrike">
                <a:solidFill>
                  <a:srgbClr val="ffffff"/>
                </a:solidFill>
                <a:latin typeface="Corbel"/>
              </a:rPr>
              <a:t>krajinné sfé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TextovéPole 4"/>
          <p:cNvSpPr/>
          <p:nvPr/>
        </p:nvSpPr>
        <p:spPr>
          <a:xfrm flipH="1">
            <a:off x="826920" y="3284640"/>
            <a:ext cx="777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Corbel"/>
              </a:rPr>
              <a:t>Objektem</a:t>
            </a:r>
            <a:r>
              <a:rPr b="0" lang="cs-CZ" sz="2800" spc="-1" strike="noStrike">
                <a:solidFill>
                  <a:srgbClr val="ffffff"/>
                </a:solidFill>
                <a:latin typeface="Corbel"/>
              </a:rPr>
              <a:t> studia geografie je </a:t>
            </a:r>
            <a:r>
              <a:rPr b="0" lang="cs-CZ" sz="2800" spc="-1" strike="noStrike">
                <a:solidFill>
                  <a:srgbClr val="ff0000"/>
                </a:solidFill>
                <a:latin typeface="Corbel"/>
              </a:rPr>
              <a:t>krajinná sfér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071720" y="128556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408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f4f1da"/>
                </a:solidFill>
                <a:latin typeface="Consolas"/>
              </a:rPr>
              <a:t>Definice vědy</a:t>
            </a:r>
            <a:endParaRPr b="0" lang="en-US" sz="38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706320" y="1351080"/>
            <a:ext cx="5718240" cy="9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/>
          </p:nvPr>
        </p:nvSpPr>
        <p:spPr>
          <a:xfrm>
            <a:off x="1980720" y="3276720"/>
            <a:ext cx="4496040" cy="2178000"/>
          </a:xfrm>
          <a:prstGeom prst="rect">
            <a:avLst/>
          </a:prstGeom>
          <a:gradFill rotWithShape="0">
            <a:gsLst>
              <a:gs pos="0">
                <a:srgbClr val="253c57"/>
              </a:gs>
              <a:gs pos="50000">
                <a:srgbClr val="4f81bd"/>
              </a:gs>
              <a:gs pos="100000">
                <a:srgbClr val="253c57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411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orbel"/>
              </a:rPr>
              <a:t>    </a:t>
            </a:r>
            <a:r>
              <a:rPr b="0" lang="cs-CZ" sz="3000" spc="-1" strike="noStrike">
                <a:solidFill>
                  <a:srgbClr val="000000"/>
                </a:solidFill>
                <a:latin typeface="Corbel"/>
              </a:rPr>
              <a:t>krajinná sféra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4f1da"/>
                </a:solidFill>
                <a:latin typeface="Consolas"/>
              </a:rPr>
              <a:t>Přehled systému geografických věd</a:t>
            </a:r>
            <a:endParaRPr b="0" lang="en-US" sz="32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444" name="Rectangle 4"/>
          <p:cNvSpPr/>
          <p:nvPr/>
        </p:nvSpPr>
        <p:spPr>
          <a:xfrm>
            <a:off x="2438280" y="4038480"/>
            <a:ext cx="1143000" cy="381240"/>
          </a:xfrm>
          <a:prstGeom prst="rect">
            <a:avLst/>
          </a:prstGeom>
          <a:gradFill rotWithShape="0">
            <a:gsLst>
              <a:gs pos="0">
                <a:srgbClr val="78cb6f"/>
              </a:gs>
              <a:gs pos="50000">
                <a:srgbClr val="385e33"/>
              </a:gs>
              <a:gs pos="100000">
                <a:srgbClr val="78cb6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rbel"/>
              </a:rPr>
              <a:t>FZ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Rectangle 6"/>
          <p:cNvSpPr/>
          <p:nvPr/>
        </p:nvSpPr>
        <p:spPr>
          <a:xfrm>
            <a:off x="4038480" y="4038480"/>
            <a:ext cx="1219320" cy="381240"/>
          </a:xfrm>
          <a:prstGeom prst="rect">
            <a:avLst/>
          </a:prstGeom>
          <a:gradFill rotWithShape="0">
            <a:gsLst>
              <a:gs pos="0">
                <a:srgbClr val="28345b"/>
              </a:gs>
              <a:gs pos="50000">
                <a:srgbClr val="5670c4"/>
              </a:gs>
              <a:gs pos="100000">
                <a:srgbClr val="28345b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rbel"/>
              </a:rPr>
              <a:t>S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Rectangle 8"/>
          <p:cNvSpPr/>
          <p:nvPr/>
        </p:nvSpPr>
        <p:spPr>
          <a:xfrm>
            <a:off x="838080" y="1447920"/>
            <a:ext cx="7391520" cy="914400"/>
          </a:xfrm>
          <a:prstGeom prst="rect">
            <a:avLst/>
          </a:prstGeom>
          <a:gradFill rotWithShape="0">
            <a:gsLst>
              <a:gs pos="0">
                <a:srgbClr val="7ec53d"/>
              </a:gs>
              <a:gs pos="100000">
                <a:srgbClr val="3a5b1c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rbel"/>
              </a:rPr>
              <a:t>kartografie a geoinformatik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rbel"/>
              </a:rPr>
              <a:t>obecná k, tematická k., GIS, DPZ, GPS, fotogrammetrie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Rectangle 9"/>
          <p:cNvSpPr/>
          <p:nvPr/>
        </p:nvSpPr>
        <p:spPr>
          <a:xfrm>
            <a:off x="457200" y="2819520"/>
            <a:ext cx="2133720" cy="685800"/>
          </a:xfrm>
          <a:prstGeom prst="rect">
            <a:avLst/>
          </a:prstGeom>
          <a:gradFill rotWithShape="0">
            <a:gsLst>
              <a:gs pos="0">
                <a:srgbClr val="385e33"/>
              </a:gs>
              <a:gs pos="100000">
                <a:srgbClr val="78cb6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rbel"/>
              </a:rPr>
              <a:t>Vědy o  fzg. komplexu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rbel"/>
              </a:rPr>
              <a:t>obecná fyzická geografi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rbel"/>
              </a:rPr>
              <a:t>paleogeografi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Rectangle 10"/>
          <p:cNvSpPr/>
          <p:nvPr/>
        </p:nvSpPr>
        <p:spPr>
          <a:xfrm>
            <a:off x="228600" y="3962520"/>
            <a:ext cx="2133720" cy="1828800"/>
          </a:xfrm>
          <a:prstGeom prst="rect">
            <a:avLst/>
          </a:prstGeom>
          <a:solidFill>
            <a:srgbClr val="78cb6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rbel"/>
              </a:rPr>
              <a:t>Vědy  fzg.složkách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rbel"/>
              </a:rPr>
              <a:t>geomorfologi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rbel"/>
              </a:rPr>
              <a:t>klimatologi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rbel"/>
              </a:rPr>
              <a:t>hydrogeografie a oceanografi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rbel"/>
              </a:rPr>
              <a:t>pedogeogfrafi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rbel"/>
              </a:rPr>
              <a:t>biogeografi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rbel"/>
              </a:rPr>
              <a:t>geografie přír. zdrojů“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Rectangle 11"/>
          <p:cNvSpPr/>
          <p:nvPr/>
        </p:nvSpPr>
        <p:spPr>
          <a:xfrm>
            <a:off x="5562720" y="2514600"/>
            <a:ext cx="3124080" cy="1219320"/>
          </a:xfrm>
          <a:prstGeom prst="rect">
            <a:avLst/>
          </a:prstGeom>
          <a:gradFill rotWithShape="0">
            <a:gsLst>
              <a:gs pos="0">
                <a:srgbClr val="28345b"/>
              </a:gs>
              <a:gs pos="100000">
                <a:srgbClr val="5670c4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000000"/>
                </a:solidFill>
                <a:uFillTx/>
                <a:latin typeface="Corbel"/>
              </a:rPr>
              <a:t>Vědy o sg. komplex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rbel"/>
              </a:rPr>
              <a:t>obecná socioekonomická geografi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rbel"/>
              </a:rPr>
              <a:t>historická geografi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Rectangle 12"/>
          <p:cNvSpPr/>
          <p:nvPr/>
        </p:nvSpPr>
        <p:spPr>
          <a:xfrm>
            <a:off x="5486400" y="3733920"/>
            <a:ext cx="3657600" cy="1447560"/>
          </a:xfrm>
          <a:prstGeom prst="rect">
            <a:avLst/>
          </a:prstGeom>
          <a:solidFill>
            <a:srgbClr val="5670c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000000"/>
                </a:solidFill>
                <a:uFillTx/>
                <a:latin typeface="Corbel"/>
              </a:rPr>
              <a:t>Vědy o sg.složkách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rbel"/>
              </a:rPr>
              <a:t>g. obyvatel,  g. síd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rbel"/>
              </a:rPr>
              <a:t>g. průmyslu, g. zemědělství, g. doprav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rbel"/>
              </a:rPr>
              <a:t>g. služeb, g. rekre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rbel"/>
              </a:rPr>
              <a:t>g. vědy a kultu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Rectangle 14"/>
          <p:cNvSpPr/>
          <p:nvPr/>
        </p:nvSpPr>
        <p:spPr>
          <a:xfrm>
            <a:off x="1905120" y="5486400"/>
            <a:ext cx="2286000" cy="914400"/>
          </a:xfrm>
          <a:prstGeom prst="rect">
            <a:avLst/>
          </a:prstGeom>
          <a:gradFill rotWithShape="0">
            <a:gsLst>
              <a:gs pos="0">
                <a:srgbClr val="253c57"/>
              </a:gs>
              <a:gs pos="100000">
                <a:srgbClr val="4f81bd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000000"/>
                </a:solidFill>
                <a:uFillTx/>
                <a:latin typeface="Corbel"/>
              </a:rPr>
              <a:t>Vědy o regionech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rbel"/>
              </a:rPr>
              <a:t>regionální geografi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rbel"/>
              </a:rPr>
              <a:t>politická geografi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Rectangle 16"/>
          <p:cNvSpPr/>
          <p:nvPr/>
        </p:nvSpPr>
        <p:spPr>
          <a:xfrm>
            <a:off x="4191120" y="5181480"/>
            <a:ext cx="2743200" cy="1676520"/>
          </a:xfrm>
          <a:prstGeom prst="rect">
            <a:avLst/>
          </a:prstGeom>
          <a:gradFill rotWithShape="0">
            <a:gsLst>
              <a:gs pos="0">
                <a:srgbClr val="253c57"/>
              </a:gs>
              <a:gs pos="100000">
                <a:srgbClr val="4f81bd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000000"/>
                </a:solidFill>
                <a:uFillTx/>
                <a:latin typeface="Corbel"/>
              </a:rPr>
              <a:t>Vědy o systémech a věd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rbel"/>
              </a:rPr>
              <a:t>nauka o krajin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rbel"/>
              </a:rPr>
              <a:t>geoekologi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rbel"/>
              </a:rPr>
              <a:t>planetární geografi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rbel"/>
              </a:rPr>
              <a:t>teoretická geografi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4f1da"/>
                </a:solidFill>
                <a:latin typeface="Consolas"/>
              </a:rPr>
              <a:t> </a:t>
            </a:r>
            <a:r>
              <a:rPr b="0" lang="cs-CZ" sz="4000" spc="-1" strike="noStrike">
                <a:solidFill>
                  <a:srgbClr val="f4f1da"/>
                </a:solidFill>
                <a:latin typeface="Consolas"/>
              </a:rPr>
              <a:t>Geosféra</a:t>
            </a: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geosféra - koncentrická vrstva Země – prostor se specifickým výskytem určitých jevů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ffff"/>
                </a:solidFill>
                <a:latin typeface="Corbel"/>
              </a:rPr>
              <a:t>z řeckého „sfaira „– koule, zeměkoule, globus, přeneseně i jako prostor např. sféra zájmů apod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4f1da"/>
                </a:solidFill>
                <a:latin typeface="Consolas"/>
              </a:rPr>
              <a:t>Geosféry Země</a:t>
            </a: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Země vnitřní struktura  - vrstvy lišící se hustotou a složením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„</a:t>
            </a: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slupky cibule“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rotace – uspořádání od nejhustšího po nejřidší, od jádra se železa, niklu a síry po atmosféru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pevná část, tekutá část a plynná čás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4f1da"/>
                </a:solidFill>
                <a:latin typeface="Consolas"/>
              </a:rPr>
              <a:t>Geosféry Země</a:t>
            </a: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Země vnitřní struktura  - vrstvy lišící se hustotou a složením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„</a:t>
            </a: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slupky cibule“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rotace – uspořádání od nejhustšího po nejřidší, od jádra se železa, niklu a síry po atmosféru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pevná část, tekutá část a plynná čás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4f1da"/>
                </a:solidFill>
                <a:latin typeface="Consolas"/>
              </a:rPr>
              <a:t>Geosféry Země</a:t>
            </a: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06800" indent="-3391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Corbel"/>
              </a:rPr>
              <a:t>Homogenní: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06800" indent="-3391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ffffff"/>
                </a:solidFill>
                <a:uFillTx/>
                <a:latin typeface="Corbel"/>
              </a:rPr>
              <a:t>Litosféra</a:t>
            </a:r>
            <a:r>
              <a:rPr b="0" lang="cs-CZ" sz="2800" spc="-1" strike="noStrike">
                <a:solidFill>
                  <a:srgbClr val="ffffff"/>
                </a:solidFill>
                <a:latin typeface="Corbel"/>
              </a:rPr>
              <a:t>, tj. kamenný obal Země – zemský kůra a spodní část zemského pláště ( pod ním je již plastická astenosféra) ( - 100 km až 8,8 km)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06800" indent="-3391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ffffff"/>
                </a:solidFill>
                <a:uFillTx/>
                <a:latin typeface="Corbel"/>
              </a:rPr>
              <a:t>Hydrosféra </a:t>
            </a:r>
            <a:r>
              <a:rPr b="0" lang="cs-CZ" sz="2800" spc="-1" strike="noStrike">
                <a:solidFill>
                  <a:srgbClr val="ffffff"/>
                </a:solidFill>
                <a:latin typeface="Corbel"/>
              </a:rPr>
              <a:t>(-4 km až 0 km)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06800" indent="-3391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ffffff"/>
                </a:solidFill>
                <a:uFillTx/>
                <a:latin typeface="Corbel"/>
              </a:rPr>
              <a:t>Atmosféra </a:t>
            </a:r>
            <a:r>
              <a:rPr b="0" lang="cs-CZ" sz="2800" spc="-1" strike="noStrike">
                <a:solidFill>
                  <a:srgbClr val="ffffff"/>
                </a:solidFill>
                <a:latin typeface="Corbel"/>
              </a:rPr>
              <a:t>(0  až 40 tisíc km, řadu dílčích vrstev, t, s, m, i, t, e – z.k.) , pozn. hranice zemské korony je považována za hranici planety Země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4f1da"/>
                </a:solidFill>
                <a:latin typeface="Consolas"/>
              </a:rPr>
              <a:t>Geosféry Země</a:t>
            </a: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ffff"/>
                </a:solidFill>
                <a:latin typeface="Corbel"/>
              </a:rPr>
              <a:t>Heterogenní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 u="sng">
                <a:solidFill>
                  <a:srgbClr val="ffffff"/>
                </a:solidFill>
                <a:uFillTx/>
                <a:latin typeface="Corbel"/>
              </a:rPr>
              <a:t>Pedosféra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 u="sng">
                <a:solidFill>
                  <a:srgbClr val="ffffff"/>
                </a:solidFill>
                <a:uFillTx/>
                <a:latin typeface="Corbel"/>
              </a:rPr>
              <a:t>biosféra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 u="sng">
                <a:solidFill>
                  <a:srgbClr val="ffffff"/>
                </a:solidFill>
                <a:uFillTx/>
                <a:latin typeface="Corbel"/>
              </a:rPr>
              <a:t>antroposféra, sociosféra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4f1da"/>
                </a:solidFill>
                <a:latin typeface="Consolas"/>
              </a:rPr>
              <a:t>Definice krajinné sféry</a:t>
            </a: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tenká heterogenní geosféra kolem pevného povrchu Země, která je  geosystémem nejvyššího řádu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4f1da"/>
                </a:solidFill>
                <a:latin typeface="Consolas"/>
              </a:rPr>
              <a:t>Krajinná sféra a její hranice</a:t>
            </a: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je vymezena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c0504d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Corbel"/>
              </a:rPr>
              <a:t>Mohorovičičovou vrstvou diskontinuity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c0504d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Corbel"/>
              </a:rPr>
              <a:t>tropopauzou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ke krajinné sféře náleží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c0504d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Corbel"/>
              </a:rPr>
              <a:t>část litosféry - zemská kůra: pevninská a oceánská, hydrosféra a kryosféra, pedosféra, biosféra, antroposféra a troposféra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4f1da"/>
                </a:solidFill>
                <a:latin typeface="Consolas"/>
              </a:rPr>
              <a:t>Mocnost krajinné sféry</a:t>
            </a: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krajinná sféra – její „tloušťka“?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cca 30 km,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Země - od zemského jádra po horní hranici atmosféry – více než 46 tisíc km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0000"/>
                </a:solidFill>
                <a:latin typeface="Corbel"/>
              </a:rPr>
              <a:t>Úkol:jakým dílem je vertikální mocnost krajinné sféry vůči celé Zemi?“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krajinná sféra  -  jediná známá sféra života ve vesmíru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TextovéPole 1"/>
          <p:cNvSpPr/>
          <p:nvPr/>
        </p:nvSpPr>
        <p:spPr>
          <a:xfrm>
            <a:off x="1128600" y="2133720"/>
            <a:ext cx="676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Corbel"/>
              </a:rPr>
              <a:t>Statistické metody  v geografii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4f1da"/>
                </a:solidFill>
                <a:latin typeface="Consolas"/>
              </a:rPr>
              <a:t>Věda</a:t>
            </a: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Věda je </a:t>
            </a:r>
            <a:r>
              <a:rPr b="0" lang="cs-CZ" sz="3000" spc="-1" strike="noStrike" u="sng">
                <a:solidFill>
                  <a:srgbClr val="ffffff"/>
                </a:solidFill>
                <a:uFillTx/>
                <a:latin typeface="Corbel"/>
              </a:rPr>
              <a:t>nepřetržitý proces lidského poznávání </a:t>
            </a: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přírody, společnosti, člověka, lidského myšlení a kultury.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/>
          </p:nvPr>
        </p:nvSpPr>
        <p:spPr>
          <a:xfrm>
            <a:off x="1371600" y="3352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39800" indent="-285840">
              <a:spcBef>
                <a:spcPts val="649"/>
              </a:spcBef>
              <a:buClr>
                <a:srgbClr val="c0504d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Corbel"/>
              </a:rPr>
              <a:t>systematické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c0504d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cs-CZ" sz="2600" spc="-1" strike="noStrike">
                <a:solidFill>
                  <a:srgbClr val="ffffff"/>
                </a:solidFill>
                <a:latin typeface="Corbel"/>
              </a:rPr>
              <a:t>racionální  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c0504d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Corbel"/>
              </a:rPr>
              <a:t>a metodické vyvozování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c0504d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cs-CZ" sz="2600" spc="-1" strike="noStrike">
                <a:solidFill>
                  <a:srgbClr val="ffffff"/>
                </a:solidFill>
                <a:latin typeface="Corbel"/>
              </a:rPr>
              <a:t>zobecňování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title"/>
          </p:nvPr>
        </p:nvSpPr>
        <p:spPr>
          <a:xfrm>
            <a:off x="1219320" y="1341360"/>
            <a:ext cx="6377040" cy="17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cs-CZ" sz="3200" spc="-1" strike="noStrike">
                <a:solidFill>
                  <a:srgbClr val="ff3300"/>
                </a:solidFill>
                <a:latin typeface="Consolas"/>
              </a:rPr>
              <a:t>Věda: na základě </a:t>
            </a:r>
            <a:r>
              <a:rPr b="0" lang="cs-CZ" sz="3200" spc="-1" strike="noStrike" u="sng">
                <a:solidFill>
                  <a:srgbClr val="ff3300"/>
                </a:solidFill>
                <a:uFillTx/>
                <a:latin typeface="Consolas"/>
              </a:rPr>
              <a:t>abstraktního myšlení a teoretické činnosti 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378" name="Text Box 4"/>
          <p:cNvSpPr/>
          <p:nvPr/>
        </p:nvSpPr>
        <p:spPr>
          <a:xfrm>
            <a:off x="6858000" y="3886200"/>
            <a:ext cx="1574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Corbel"/>
              </a:rPr>
              <a:t>nový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Corbel"/>
              </a:rPr>
              <a:t>poznatk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AutoShape 5"/>
          <p:cNvSpPr/>
          <p:nvPr/>
        </p:nvSpPr>
        <p:spPr>
          <a:xfrm>
            <a:off x="6248520" y="3657600"/>
            <a:ext cx="533160" cy="1600200"/>
          </a:xfrm>
          <a:custGeom>
            <a:avLst/>
            <a:gdLst>
              <a:gd name="textAreaLeft" fmla="*/ 0 w 533160"/>
              <a:gd name="textAreaRight" fmla="*/ 192600 w 53316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Rectangle 6"/>
          <p:cNvSpPr/>
          <p:nvPr/>
        </p:nvSpPr>
        <p:spPr>
          <a:xfrm>
            <a:off x="1332000" y="1628640"/>
            <a:ext cx="6480000" cy="1513080"/>
          </a:xfrm>
          <a:prstGeom prst="rect">
            <a:avLst/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TextovéPole 6"/>
          <p:cNvSpPr/>
          <p:nvPr/>
        </p:nvSpPr>
        <p:spPr>
          <a:xfrm>
            <a:off x="2050920" y="476280"/>
            <a:ext cx="633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3300"/>
                </a:solidFill>
                <a:latin typeface="Corbel"/>
              </a:rPr>
              <a:t>Věda versus lidské poznávání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4f1da"/>
                </a:solidFill>
                <a:latin typeface="Consolas"/>
              </a:rPr>
              <a:t>Věda</a:t>
            </a: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Corbel"/>
              </a:rPr>
              <a:t>Věda nastoluje požadavek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lnSpc>
                <a:spcPct val="90000"/>
              </a:lnSpc>
              <a:spcBef>
                <a:spcPts val="649"/>
              </a:spcBef>
              <a:buClr>
                <a:srgbClr val="c0504d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cs-CZ" sz="2600" spc="-1" strike="noStrike" u="sng">
                <a:solidFill>
                  <a:srgbClr val="ffffff"/>
                </a:solidFill>
                <a:uFillTx/>
                <a:latin typeface="Corbel"/>
              </a:rPr>
              <a:t>obecného poznání</a:t>
            </a:r>
            <a:r>
              <a:rPr b="0" lang="cs-CZ" sz="2600" spc="-1" strike="noStrike">
                <a:solidFill>
                  <a:srgbClr val="ffffff"/>
                </a:solidFill>
                <a:latin typeface="Corbel"/>
              </a:rPr>
              <a:t>, na základě něhož lze v nepřehledném světě 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lnSpc>
                <a:spcPct val="90000"/>
              </a:lnSpc>
              <a:spcBef>
                <a:spcPts val="649"/>
              </a:spcBef>
              <a:buClr>
                <a:srgbClr val="c0504d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 u="sng">
                <a:solidFill>
                  <a:srgbClr val="ffffff"/>
                </a:solidFill>
                <a:uFillTx/>
                <a:latin typeface="Corbel"/>
              </a:rPr>
              <a:t>oddělit podstatné od nepodstatného  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lnSpc>
                <a:spcPct val="90000"/>
              </a:lnSpc>
              <a:spcBef>
                <a:spcPts val="601"/>
              </a:spcBef>
              <a:buClr>
                <a:srgbClr val="c0504d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Corbel"/>
              </a:rPr>
              <a:t>a určit </a:t>
            </a:r>
            <a:r>
              <a:rPr b="0" lang="cs-CZ" sz="2600" spc="-1" strike="noStrike" u="sng">
                <a:solidFill>
                  <a:srgbClr val="ffffff"/>
                </a:solidFill>
                <a:uFillTx/>
                <a:latin typeface="Corbel"/>
              </a:rPr>
              <a:t>obecně platné zákony</a:t>
            </a:r>
            <a:r>
              <a:rPr b="0" lang="cs-CZ" sz="2400" spc="-1" strike="noStrike">
                <a:solidFill>
                  <a:srgbClr val="ffffff"/>
                </a:solidFill>
                <a:latin typeface="Corbe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Corbel"/>
              </a:rPr>
              <a:t>tyto zákony dovolují  předvídat, předpovědi modelovat atd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4f1da"/>
                </a:solidFill>
                <a:latin typeface="Consolas"/>
              </a:rPr>
              <a:t>Základní metody vědy</a:t>
            </a: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vědecké pozorování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analýza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syntéza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indukce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dedukce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3300"/>
                </a:solidFill>
                <a:latin typeface="Corbel"/>
              </a:rPr>
              <a:t>Úkol – definice  jmenovaných metod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/>
          </p:nvPr>
        </p:nvSpPr>
        <p:spPr>
          <a:xfrm>
            <a:off x="785520" y="928800"/>
            <a:ext cx="835812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Od novověku je </a:t>
            </a:r>
            <a:r>
              <a:rPr b="0" lang="cs-CZ" sz="3000" spc="-1" strike="noStrike" u="sng">
                <a:solidFill>
                  <a:srgbClr val="ffffff"/>
                </a:solidFill>
                <a:uFillTx/>
                <a:latin typeface="Corbel"/>
              </a:rPr>
              <a:t>věda založena </a:t>
            </a: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na představě </a:t>
            </a:r>
            <a:r>
              <a:rPr b="0" lang="cs-CZ" sz="3000" spc="-1" strike="noStrike" u="sng">
                <a:solidFill>
                  <a:srgbClr val="ffffff"/>
                </a:solidFill>
                <a:uFillTx/>
                <a:latin typeface="Corbel"/>
              </a:rPr>
              <a:t>zákonitého (a matematizovatelného) chování skutečnosti,</a:t>
            </a: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která se odhaluje </a:t>
            </a:r>
            <a:r>
              <a:rPr b="0" lang="cs-CZ" sz="3000" spc="-1" strike="noStrike" u="sng">
                <a:solidFill>
                  <a:srgbClr val="ffffff"/>
                </a:solidFill>
                <a:uFillTx/>
                <a:latin typeface="Corbel"/>
              </a:rPr>
              <a:t>hypotézou</a:t>
            </a: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,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ověřuje </a:t>
            </a:r>
            <a:r>
              <a:rPr b="0" lang="cs-CZ" sz="3000" spc="-1" strike="noStrike" u="sng">
                <a:solidFill>
                  <a:srgbClr val="ffffff"/>
                </a:solidFill>
                <a:uFillTx/>
                <a:latin typeface="Corbel"/>
              </a:rPr>
              <a:t>experimentem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zobecňuje </a:t>
            </a:r>
            <a:r>
              <a:rPr b="0" lang="cs-CZ" sz="3000" spc="-1" strike="noStrike" u="sng">
                <a:solidFill>
                  <a:srgbClr val="ffffff"/>
                </a:solidFill>
                <a:uFillTx/>
                <a:latin typeface="Corbel"/>
              </a:rPr>
              <a:t>v teorii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4f1da"/>
                </a:solidFill>
                <a:latin typeface="Consolas"/>
              </a:rPr>
              <a:t>Věda v euroamerické civilizaci</a:t>
            </a: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v euroamerické společnosti je od 17.st. privilegována věda oproti jiným formám poznání (mimovědní poznání)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6T07:54:08Z</dcterms:created>
  <dc:creator>Svatonova</dc:creator>
  <dc:description/>
  <dc:language>en-US</dc:language>
  <cp:lastModifiedBy>Svatonova</cp:lastModifiedBy>
  <dcterms:modified xsi:type="dcterms:W3CDTF">2011-09-27T08:29:16Z</dcterms:modified>
  <cp:revision>37</cp:revision>
  <dc:subject/>
  <dc:title>Pedagogická fakulta   </dc:title>
</cp:coreProperties>
</file>