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CDB-E4BA-4EF6-BEC2-17C69FDD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FF2-A2B3-4093-A948-FBCD85CA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FF7-5031-4784-A37C-C6C6CBAC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8DC-E137-4566-A910-A287589B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DF48-9D3A-48AE-B456-0DE12219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31AD-39B3-49E8-B5F2-71970022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DA61-ED60-4995-998E-58436531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CCE5-DEC4-48A4-8CFC-6927C6EE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8222-DD96-41C5-81B8-39C9505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D22E-3CA7-4F91-9164-347A2B7A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35819-330E-4415-81BB-DDEBD2D0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F61-93B4-4154-B4DC-279702D2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49C6-CF4F-49DD-8D8D-195F7D8D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BF3C-4E22-4912-8B06-99794FC4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EFEF-501E-4653-A58B-FE6C69F64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A51C-522C-40A8-BF09-F564C468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4ABA-6207-4ED1-9CBD-4B93DF10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56302-79A0-4B4B-BA19-C7FEDFBEC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875CA-C65F-45FD-BDED-CDBCB107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FEF6-1054-473F-82FA-98655CD4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FEF3-9C24-472E-8FB0-9771E1C5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8C09D-6FE8-4319-A40D-05D2E578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06E-2DC6-4DCA-A244-A323A2C8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EFE39-482B-429A-B621-8FE43FEA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AFA1-1534-4685-AA5D-35AA9FE6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1741-294D-4DAE-B489-C547C540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E39B4-3BBF-44C3-9BF7-6DE0E227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86C80-C355-4C03-B657-CE4CDB77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C0ACD-EB19-4C50-89B8-9FE073E0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15B99-5EF5-4988-81A7-4D79472D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45E7C-BCB9-4F31-B32D-A221F084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45EC2-AC7F-436B-9D96-E51CA845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76E4-83AB-43C8-9422-B10B2A39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0315-4360-46CA-B77B-F4FB29E3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EC7E3-A16F-458C-9C7F-FA361B8F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9ED4-3CE7-4E9C-90C1-99B49F75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83205-3481-4E87-A9D1-7069E0F9A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66954-39A7-4BDB-8937-C986A3A4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ACF23-37B3-42A7-9D96-72894856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4186B-17E5-433F-9651-0C5D4283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6DE00-AE44-428A-AA59-D097A6E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051A-F730-41EA-AD13-91FD5EEB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D75A2-78E8-45AB-8232-E01DAD60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390D2-FF5B-41F9-83A0-15C1D16B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0965-3D61-4DBC-A8BA-EBA657F9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7AAFD-814F-4710-83B6-91C1E6F6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F4DA-8B0E-4ACF-8FC2-85EB021A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91742-52CA-451E-9119-B2449999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0A1F9-DC28-459C-BA8D-CA64FFBA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5E148-DADA-450D-8084-B060C371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EE062-71F1-48E4-9B0D-0DBA6441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B6188-F8D0-4CF7-9BCB-752F311D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F049E-871C-40D5-B069-6C2C113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BE55-64FA-420E-8188-D4A5D16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20C52-A0B9-443A-91BD-AA8EF3F4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1FB-A642-41C8-8E58-DB4CA509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A0A12-7FC6-41CF-AC79-8BD7DCF1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C698C-A781-4D75-AFF0-4C779B7A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9871A-A5BB-4E8B-8D62-BE7DDE11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70D6E-D4F1-4BD0-BDCA-3C67B8D3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5BBD9-35A8-4E3F-8F7E-D65EB225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D6650-5546-4291-AC56-A69967D1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BA1C-2136-487B-891A-B4527486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1DE84-F539-4A4A-979D-325FFE36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8ADD5-CADE-4F8B-B5B3-41BDCB34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D711E-0012-4BB0-897D-2664875D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76EE-2132-4392-9130-E3CFC94C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0988-E7D9-40BF-9708-716A8CB7C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5A916-7D62-4BEF-9BB1-D0C01FE9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4C12B-5489-4A4F-A83B-F5065C432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4F332-E215-4705-A945-9E5F8FD2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5C4FF-EF29-4334-A26A-1E1BA6E8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2106A-F5B9-482C-BB77-6FB60950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1C291-3BFE-4299-97CA-8FFF4843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9ECD0-5596-4483-817A-3FF3C1AB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6246B-8DBC-4EAA-8B03-1645900B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910A8-497F-41FF-9FBC-D8B65FEE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908-0E26-4FD8-AC54-115909C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2A8EC-3BEF-4668-ABD9-6EF330FD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503FD-3A2E-4286-83BA-217B96D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C0E87-3FBB-4F0F-BEC9-F39D1FBF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13063-ABD1-4DDA-95FB-6429C573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C6B7F-8766-4222-8687-08EA9D52B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9C6-9571-426D-ACF4-9758BC71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D6FB-5467-4591-8BEC-C315740C88D6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Obdélník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Obdélník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bdélník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bdélník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Obdélník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bdélník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bdélník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bdélník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bdélník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6B448-293E-4FB7-B99B-12091FF9C9C7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Volný tvar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Volný tvar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c0504d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Volný tvar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Volný tvar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Volný tvar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Volný tvar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Volný tvar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Volný tvar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Volný tvar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Volný tvar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Volný tvar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Volný tvar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Volný tvar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Volný tvar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2756a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Volný tvar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2d58a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bdélník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bdélník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bdélník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bdélník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bdélník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bdélník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DA7F-514A-4D7C-973F-450DD86588B9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754A-B650-40C9-809F-8243DE937BC8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Obdélník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2d58a2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bdélník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Obdélník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Obdélník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Obdélník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Obdélník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Obdélník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Obdélník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Obdélník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Obdélník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009-93CE-466B-9E2B-7FBF578D2EE0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7D49-DFC3-4C01-B455-79D9F573BC9E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Obdélník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Obdélník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bdélník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bdélník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bdélník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bdélník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bdélník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bdélník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bdélník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bdélník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římá spojovací čára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Skupina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Přímá spojovací čára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Přímá spojovací čára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Přímá spojovací čára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Skupina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Přímá spojovací čára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Přímá spojovací čára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Přímá spojovací čára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Skupina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Přímá spojovací čára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Přímá spojovací čára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Přímá spojovací čára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f1da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bbb5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1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eeece1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eeece1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E37F-6DE1-4913-A654-E0333FEFEF03}" type="slidenum">
              <a:rPr b="0" lang="cs-CZ" sz="1200" spc="-1" strike="noStrike">
                <a:solidFill>
                  <a:srgbClr val="eeece1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90560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Obsah přednášky</a:t>
            </a:r>
            <a:br>
              <a:rPr sz="4000"/>
            </a:b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* Geografie jako věda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71640" y="2286000"/>
            <a:ext cx="7632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,  její  definice, vývoj věd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ý výzkum, systémový přístup, model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vědo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Členění geografie na dílčí disciplín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y a jejich dělení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y se liší objektem studia, předmětem studia, metodami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metod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e vědy děl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formální (matematika a logik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írod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humanitní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dle </a:t>
            </a: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stupně obecnosti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oretické a aplikované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8"/>
          <p:cNvSpPr/>
          <p:nvPr/>
        </p:nvSpPr>
        <p:spPr>
          <a:xfrm>
            <a:off x="1371600" y="3429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Ge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3505320" y="40384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 teor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8377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Dějiny vědy jsou posety odloženými hypotézami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Consolas"/>
              </a:rPr>
              <a:t>  překonanými teoriemi i platnými teoriemi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1480320" y="21747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ploch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4"/>
          <p:cNvSpPr/>
          <p:nvPr/>
        </p:nvSpPr>
        <p:spPr>
          <a:xfrm>
            <a:off x="2998080" y="286056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Země je kula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1046520" y="5029200"/>
            <a:ext cx="46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Wegenerova teorie kontinentálního drif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uhn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42960" y="2428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. S. Kuhn přinesl přesvědčivé argumenty i o tom, že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pokrok vědeckého poznání není přímočarý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nýbrž že je čas od času přerušován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Corbel"/>
              </a:rPr>
              <a:t>zásadními zvraty – vědeckými revolucemi, 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při nichž dochází k revizi samotných základů dosavadního vědění. Vědecké poznání nesměřuje k nějaké jediné Pravdě o světě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orbel"/>
              </a:rPr>
              <a:t>Paradigma – vědecká revoluce – nové paradigm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Podrobněji čas. Vesmír 9/2008,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17480" indent="-277200">
              <a:spcBef>
                <a:spcPts val="49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orbel"/>
              </a:rPr>
              <a:t>KnihaT.S. Kuhn: Koperníkovská revolu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Obrázek 3" descr="uvod_kuhn.jpg"/>
          <p:cNvPicPr/>
          <p:nvPr/>
        </p:nvPicPr>
        <p:blipFill>
          <a:blip r:embed="rId1"/>
          <a:stretch/>
        </p:blipFill>
        <p:spPr>
          <a:xfrm>
            <a:off x="6643800" y="571680"/>
            <a:ext cx="207144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PARADIGM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066680" y="21016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určitý vědecký styl dané epochy či vědeckého společenství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ffffff"/>
                </a:solidFill>
                <a:latin typeface="Corbel"/>
              </a:rPr>
              <a:t>souhrn všeobecně uznávaných teoretických a metodologických předpokladů, postupů v určité etapě vývoje vědeckého bádání</a:t>
            </a:r>
            <a:r>
              <a:rPr b="1" lang="cs-CZ" sz="21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49200" indent="-291240">
              <a:lnSpc>
                <a:spcPct val="8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ývoj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T.S. Kuhna o proměně věd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aradigma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á revolu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ové paradigm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Rectangle 6"/>
          <p:cNvSpPr/>
          <p:nvPr/>
        </p:nvSpPr>
        <p:spPr>
          <a:xfrm>
            <a:off x="7772400" y="4724280"/>
            <a:ext cx="380880" cy="1905120"/>
          </a:xfrm>
          <a:prstGeom prst="rect">
            <a:avLst/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0"/>
          <p:cNvGrpSpPr/>
          <p:nvPr/>
        </p:nvGrpSpPr>
        <p:grpSpPr>
          <a:xfrm>
            <a:off x="5181480" y="1676520"/>
            <a:ext cx="2210040" cy="3047760"/>
            <a:chOff x="5181480" y="1676520"/>
            <a:chExt cx="2210040" cy="3047760"/>
          </a:xfrm>
        </p:grpSpPr>
        <p:sp>
          <p:nvSpPr>
            <p:cNvPr id="408" name="Rectangle 5"/>
            <p:cNvSpPr/>
            <p:nvPr/>
          </p:nvSpPr>
          <p:spPr>
            <a:xfrm>
              <a:off x="5181480" y="1676520"/>
              <a:ext cx="381240" cy="304776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5791320" y="4572000"/>
              <a:ext cx="160020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orbel"/>
                </a:rPr>
                <a:t>V 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ecký výzku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2" descr="G:\ocean\teory.jpg"/>
          <p:cNvPicPr/>
          <p:nvPr/>
        </p:nvPicPr>
        <p:blipFill>
          <a:blip r:embed="rId1"/>
          <a:srcRect l="0" t="0" r="0" b="21416"/>
          <a:stretch/>
        </p:blipFill>
        <p:spPr>
          <a:xfrm>
            <a:off x="1116000" y="1270080"/>
            <a:ext cx="650088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hypotéz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Hypotéza, domněnka, předpoklad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ýchozí, dosud ale neprokázané tvrzení, které se předkládá na zkoušku k ověření (experimentem, zkušeností)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racovní hypotézy ukazují další cestu vědeckého zkoumání, mohou se stát základem vědecké teorie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00080" y="92844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teorie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772400" cy="1120680"/>
          </a:xfrm>
          <a:prstGeom prst="rect">
            <a:avLst/>
          </a:prstGeom>
          <a:noFill/>
          <a:ln w="0">
            <a:noFill/>
          </a:ln>
        </p:spPr>
        <p:txBody>
          <a:bodyPr lIns="82440" bIns="0" anchor="t">
            <a:normAutofit fontScale="98000"/>
          </a:bodyPr>
          <a:p>
            <a:pPr marL="52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Řádně  doložené objasnění některého přírodního (sociálního) jevu, které zahrnuje fakta, zevšeobecněné zákony, logické  dedukce a otestované dílčí hypotéz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TextovéPole 3"/>
          <p:cNvSpPr/>
          <p:nvPr/>
        </p:nvSpPr>
        <p:spPr>
          <a:xfrm>
            <a:off x="714240" y="3000240"/>
            <a:ext cx="592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není dohad  nebo tušení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ale vysvětlení vycházející z rozsáhlého pozorování , experimentů a tvořivých úva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ovéPole 4"/>
          <p:cNvSpPr/>
          <p:nvPr/>
        </p:nvSpPr>
        <p:spPr>
          <a:xfrm>
            <a:off x="1034640" y="4572000"/>
            <a:ext cx="41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Příklady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heliocentrická teo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deskové tektonik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Corbel"/>
              </a:rPr>
              <a:t>teorie evolučního vývoje organism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é  paradigma </a:t>
            </a:r>
            <a:br>
              <a:rPr sz="4000"/>
            </a:b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orie systém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výchozí předpoklady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každý dílčí prvek je součástí většího celku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edy i každý objekt  se složen z menších částí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4720" y="3213000"/>
            <a:ext cx="45720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834920" y="2492280"/>
            <a:ext cx="351612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4bd97"/>
                </a:solidFill>
                <a:latin typeface="Corbel"/>
              </a:rPr>
              <a:t>Co je to věda?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371240" y="1483920"/>
            <a:ext cx="5576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Je geografie vědou?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stém -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skupina objektů propojená vazba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očet objektů i vazeb systému   je koneč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i vazby ( vzájemné vztahy) lze zkou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y jsou uspořádány hierarchick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Systémový přístup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ecky zjednodušuje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realit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haluje hlubší strukturovanou podstat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del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Model - zjednodušené zobrazení systému , není se systémem či původním objektem, který systém popisuje shodný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90560" y="25905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6000" spc="-1" strike="noStrike">
              <a:solidFill>
                <a:srgbClr val="f4f1da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je  založena na schopnosti geograficky myslet –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tj. jasně formulovat nejrůznější prostorové vlastnosti geografických jevů , 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schopnost systematicky třídit, analyzovat, aplikovat geografické teorie, provádět syntézy, realizovat modely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není encyklopedická znalost geografických objektů a jejich prostorová lokalizace (jak je často prezentováno ve školské praxi, tj. </a:t>
            </a:r>
            <a:r>
              <a:rPr b="0" lang="cs-CZ" sz="2400" spc="-1" strike="noStrike" u="sng">
                <a:solidFill>
                  <a:srgbClr val="ffffff"/>
                </a:solidFill>
                <a:uFillTx/>
                <a:latin typeface="Arial"/>
              </a:rPr>
              <a:t>ne jen KDE to je, ale i PROČ to tam je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Thinking geograph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26920" y="1413000"/>
            <a:ext cx="7561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hapter  1 – Thinking and working geographicall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y do geographers  ask  question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Skills -  understanding  the spatial  concept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How do geographers  gather  data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(primary data sources and secondary data sources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ritin geographical report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2" marL="975240" indent="-223920">
              <a:spcBef>
                <a:spcPts val="601"/>
              </a:spcBef>
              <a:buClr>
                <a:srgbClr val="c0504d"/>
              </a:buClr>
              <a:buFont typeface="Wingdings 2" charset="2"/>
              <a:buChar char="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Table of conte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724680" indent="-28008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What do geographers do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115920"/>
            <a:ext cx="85406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4f1da"/>
                </a:solidFill>
                <a:latin typeface="Consolas"/>
              </a:rPr>
              <a:t>  </a:t>
            </a:r>
            <a:r>
              <a:rPr b="0" lang="cs-CZ" sz="3400" spc="-1" strike="noStrike">
                <a:solidFill>
                  <a:srgbClr val="f4f1da"/>
                </a:solidFill>
                <a:latin typeface="Consolas"/>
              </a:rPr>
              <a:t>Pro správné pochopení výuky zeměpisu (geografie) je nutné naučit se klást zeměpisné (geografické) otázky:</a:t>
            </a:r>
            <a:endParaRPr b="0" lang="en-US" sz="34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Kde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é to je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Proč je to tam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to vzniklo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ý to má vliv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Jak by to mělo být uzpůsobeno k vzájemnému užitku člověka a přírody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grafie a její defi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buClr>
                <a:srgbClr val="c4bd9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 je vědu zkoumající zákonitosti vývoje  krajinné sféry a jejích objektů, zvláště vztahy územní diferenciace a integra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c4bd97"/>
                </a:solidFill>
                <a:latin typeface="Arial"/>
                <a:ea typeface="Arial"/>
              </a:rPr>
              <a:t>geografie je vědou studující prostorové rozšíření jevů  v krajinné sféře Země, jejich vzájemnou interakci a vývoj v čase. (Wikipedia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Úkol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Corbel"/>
              </a:rPr>
              <a:t>vyhledejte ještě min. dvě definice geografie od různých autorů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ařazení geografi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grafie je vědou na rozhranní věd přírodních a společenských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kupina věd o Zemi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oubor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bjekt studia příp. předmět studi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64304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Objekt geografie a předmět geografie 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0" name="TextovéPole 3"/>
          <p:cNvSpPr/>
          <p:nvPr/>
        </p:nvSpPr>
        <p:spPr>
          <a:xfrm>
            <a:off x="838800" y="4581360"/>
            <a:ext cx="7067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Předmě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geografie jso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funkční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analýza vztahů a vaze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mezi jednotlivými. složkami </a:t>
            </a:r>
            <a:r>
              <a:rPr b="0" i="1" lang="cs-CZ" sz="2800" spc="-1" strike="noStrike">
                <a:solidFill>
                  <a:srgbClr val="ffffff"/>
                </a:solidFill>
                <a:latin typeface="Corbel"/>
              </a:rPr>
              <a:t>krajinné sfé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ovéPole 4"/>
          <p:cNvSpPr/>
          <p:nvPr/>
        </p:nvSpPr>
        <p:spPr>
          <a:xfrm flipH="1">
            <a:off x="826920" y="328464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Objektem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studia geografie je </a:t>
            </a:r>
            <a:r>
              <a:rPr b="0" lang="cs-CZ" sz="2800" spc="-1" strike="noStrike">
                <a:solidFill>
                  <a:srgbClr val="ff0000"/>
                </a:solidFill>
                <a:latin typeface="Corbel"/>
              </a:rPr>
              <a:t>krajinná sfé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71720" y="1285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f4f1da"/>
                </a:solidFill>
                <a:latin typeface="Consolas"/>
              </a:rPr>
              <a:t>Definice vědy</a:t>
            </a:r>
            <a:endParaRPr b="0" lang="en-US" sz="38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1980720" y="3276720"/>
            <a:ext cx="4496040" cy="21780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cs-CZ" sz="3000" spc="-1" strike="noStrike">
                <a:solidFill>
                  <a:srgbClr val="000000"/>
                </a:solidFill>
                <a:latin typeface="Corbel"/>
              </a:rPr>
              <a:t>krajinná 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4f1da"/>
                </a:solidFill>
                <a:latin typeface="Consolas"/>
              </a:rPr>
              <a:t>Přehled systému geografických věd</a:t>
            </a: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44" name="Rectangle 4"/>
          <p:cNvSpPr/>
          <p:nvPr/>
        </p:nvSpPr>
        <p:spPr>
          <a:xfrm>
            <a:off x="2438280" y="4038480"/>
            <a:ext cx="1143000" cy="381240"/>
          </a:xfrm>
          <a:prstGeom prst="rect">
            <a:avLst/>
          </a:prstGeom>
          <a:gradFill rotWithShape="0">
            <a:gsLst>
              <a:gs pos="0">
                <a:srgbClr val="78cb6f"/>
              </a:gs>
              <a:gs pos="5000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FZ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4038480" y="4038480"/>
            <a:ext cx="1219320" cy="38124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50000">
                <a:srgbClr val="5670c4"/>
              </a:gs>
              <a:gs pos="100000">
                <a:srgbClr val="28345b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S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838080" y="1447920"/>
            <a:ext cx="7391520" cy="914400"/>
          </a:xfrm>
          <a:prstGeom prst="rect">
            <a:avLst/>
          </a:prstGeom>
          <a:gradFill rotWithShape="0">
            <a:gsLst>
              <a:gs pos="0">
                <a:srgbClr val="7ec53d"/>
              </a:gs>
              <a:gs pos="100000">
                <a:srgbClr val="3a5b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kartografie a geoinformat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rbel"/>
              </a:rPr>
              <a:t>obecná k, tematická k., GIS, DPZ, GPS, fotogrammetri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457200" y="2819520"/>
            <a:ext cx="2133720" cy="685800"/>
          </a:xfrm>
          <a:prstGeom prst="rect">
            <a:avLst/>
          </a:prstGeom>
          <a:gradFill rotWithShape="0">
            <a:gsLst>
              <a:gs pos="0">
                <a:srgbClr val="385e33"/>
              </a:gs>
              <a:gs pos="100000">
                <a:srgbClr val="78cb6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o  fzg. komplex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fyz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ale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228600" y="3962520"/>
            <a:ext cx="2133720" cy="1828800"/>
          </a:xfrm>
          <a:prstGeom prst="rect">
            <a:avLst/>
          </a:prstGeom>
          <a:solidFill>
            <a:srgbClr val="78cb6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Vědy  fz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morf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klimat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ydrogeografie a ocean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edogeogf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bio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grafie přír. zdrojů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5562720" y="2514600"/>
            <a:ext cx="3124080" cy="1219320"/>
          </a:xfrm>
          <a:prstGeom prst="rect">
            <a:avLst/>
          </a:prstGeom>
          <a:gradFill rotWithShape="0">
            <a:gsLst>
              <a:gs pos="0">
                <a:srgbClr val="28345b"/>
              </a:gs>
              <a:gs pos="100000">
                <a:srgbClr val="5670c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 komplex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obecná socioekonom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histor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486400" y="3733920"/>
            <a:ext cx="3657600" cy="1447560"/>
          </a:xfrm>
          <a:prstGeom prst="rect">
            <a:avLst/>
          </a:prstGeom>
          <a:solidFill>
            <a:srgbClr val="5670c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g.složká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obyvatel,  g. sí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průmyslu, g. zemědělství, g. doprav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služeb, g. rekre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. vědy a kultu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1905120" y="5486400"/>
            <a:ext cx="2286000" cy="91440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regione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regionál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oli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6"/>
          <p:cNvSpPr/>
          <p:nvPr/>
        </p:nvSpPr>
        <p:spPr>
          <a:xfrm>
            <a:off x="4191120" y="5181480"/>
            <a:ext cx="2743200" cy="1676520"/>
          </a:xfrm>
          <a:prstGeom prst="rect">
            <a:avLst/>
          </a:prstGeom>
          <a:gradFill rotWithShape="0">
            <a:gsLst>
              <a:gs pos="0">
                <a:srgbClr val="253c57"/>
              </a:gs>
              <a:gs pos="100000">
                <a:srgbClr val="4f81bd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Corbel"/>
              </a:rPr>
              <a:t>Vědy o systémech a věd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nauka o kraji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geoekolog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planetární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rbel"/>
              </a:rPr>
              <a:t>teoretická geograf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 </a:t>
            </a: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geosféra - koncentrická vrstva Země – prostor se specifickým výskytem určitých jevů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ffff"/>
                </a:solidFill>
                <a:latin typeface="Corbel"/>
              </a:rPr>
              <a:t>z řeckého „sfaira „– koule, zeměkoule, globus, přeneseně i jako prostor např. sféra zájmů apod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vnitřní struktura  - vrstvy lišící se hustotou a složení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„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lupky cibule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rotace – uspořádání od nejhustšího po nejřidší, od jádra se železa, niklu a síry po atmosféru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evná část, tekutá část a plynná čá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rbel"/>
              </a:rPr>
              <a:t>Homogenní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Litosféra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, tj. kamenný obal Země – zemský kůra a spodní část zemského pláště ( pod ním je již plastická astenosféra) ( - 100 km až 8,8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Hydr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-4 km až 0 km)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Corbel"/>
              </a:rPr>
              <a:t>Atmosféra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(0  až 40 tisíc km, řadu dílčích vrstev, t, s, m, i, t, e – z.k.) , pozn. hranice zemské korony je považována za hranici planety Země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Geosféry Země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ffff"/>
                </a:solidFill>
                <a:latin typeface="Corbel"/>
              </a:rPr>
              <a:t>Heterogen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Ped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b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antroposféra, sociosfér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Definice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tenká heterogenní geosféra kolem pevného povrchu Země, která je  geosystémem nejvyššího řád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Krajinná sféra a její hranice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je vymezena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Mohorovičičovou vrstvou diskontinuit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tropopauzou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e krajinné sféře nálež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část litosféry - zemská kůra: pevninská a oceánská, hydrosféra a kryosféra, pedosféra, biosféra, antroposféra a troposfér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Mocnost krajinné sfér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– její „tloušťka“?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cca 30 km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emě - od zemského jádra po horní hranici atmosféry – více než 46 tisíc k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0000"/>
                </a:solidFill>
                <a:latin typeface="Corbel"/>
              </a:rPr>
              <a:t>Úkol:jakým dílem je vertikální mocnost krajinné sféry vůči celé Zemi?“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rajinná sféra  -  jediná známá sféra života ve vesmíru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ovéPole 1"/>
          <p:cNvSpPr/>
          <p:nvPr/>
        </p:nvSpPr>
        <p:spPr>
          <a:xfrm>
            <a:off x="1128600" y="2133720"/>
            <a:ext cx="67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orbel"/>
              </a:rPr>
              <a:t>Statistické metody  v geografi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a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nepřetržitý proces lidského poznávání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přírody, společnosti, člověka, lidského myšlení a kultu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1371600" y="3352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systematické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racionální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metodické vyvoz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zobecňování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219320" y="1341360"/>
            <a:ext cx="63770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cs-CZ" sz="3200" spc="-1" strike="noStrike">
                <a:solidFill>
                  <a:srgbClr val="ff3300"/>
                </a:solidFill>
                <a:latin typeface="Consolas"/>
              </a:rPr>
              <a:t>Věda: na základě </a:t>
            </a:r>
            <a:r>
              <a:rPr b="0" lang="cs-CZ" sz="3200" spc="-1" strike="noStrike" u="sng">
                <a:solidFill>
                  <a:srgbClr val="ff3300"/>
                </a:solidFill>
                <a:uFillTx/>
                <a:latin typeface="Consolas"/>
              </a:rPr>
              <a:t>abstraktního myšlení a teoretické činnosti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858000" y="3886200"/>
            <a:ext cx="1574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nový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poznatk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6248520" y="3657600"/>
            <a:ext cx="533160" cy="1600200"/>
          </a:xfrm>
          <a:custGeom>
            <a:avLst/>
            <a:gdLst>
              <a:gd name="textAreaLeft" fmla="*/ 0 w 533160"/>
              <a:gd name="textAreaRight" fmla="*/ 192600 w 5331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332000" y="1628640"/>
            <a:ext cx="6480000" cy="151308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ovéPole 6"/>
          <p:cNvSpPr/>
          <p:nvPr/>
        </p:nvSpPr>
        <p:spPr>
          <a:xfrm>
            <a:off x="2050920" y="476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3300"/>
                </a:solidFill>
                <a:latin typeface="Corbel"/>
              </a:rPr>
              <a:t>Věda versus lidské pozná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Věda nastoluje požadavek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ého poznání</a:t>
            </a: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, na základě něhož lze v nepřehledném světě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49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ddělit podstatné od nepodstatného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c0504d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ffffff"/>
                </a:solidFill>
                <a:latin typeface="Corbel"/>
              </a:rPr>
              <a:t>a určit </a:t>
            </a:r>
            <a:r>
              <a:rPr b="0" lang="cs-CZ" sz="2600" spc="-1" strike="noStrike" u="sng">
                <a:solidFill>
                  <a:srgbClr val="ffffff"/>
                </a:solidFill>
                <a:uFillTx/>
                <a:latin typeface="Corbel"/>
              </a:rPr>
              <a:t>obecně platné zákony</a:t>
            </a:r>
            <a:r>
              <a:rPr b="0" lang="cs-CZ" sz="2400" spc="-1" strike="noStrike">
                <a:solidFill>
                  <a:srgbClr val="ffffff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orbel"/>
              </a:rPr>
              <a:t>tyto zákony dovolují  předvídat, předpovědi modelovat atd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Základní metody vědy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ědecké pozorování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analý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syntéz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in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deduk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3300"/>
                </a:solidFill>
                <a:latin typeface="Corbel"/>
              </a:rPr>
              <a:t>Úkol – definice  jmenovaných meto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85520" y="928800"/>
            <a:ext cx="8358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d novověku 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ěda založena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na představě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zákonitého (a matematizovatelného) chování skutečnosti,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která se odhal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hypotézou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,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ověř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experimentem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zobecňuje </a:t>
            </a:r>
            <a:r>
              <a:rPr b="0" lang="cs-CZ" sz="3000" spc="-1" strike="noStrike" u="sng">
                <a:solidFill>
                  <a:srgbClr val="ffffff"/>
                </a:solidFill>
                <a:uFillTx/>
                <a:latin typeface="Corbel"/>
              </a:rPr>
              <a:t>v teorii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4f1da"/>
                </a:solidFill>
                <a:latin typeface="Consolas"/>
              </a:rPr>
              <a:t>Věda v euroamerické civilizaci</a:t>
            </a:r>
            <a:endParaRPr b="0" lang="en-US" sz="4000" spc="-1" strike="noStrike">
              <a:solidFill>
                <a:srgbClr val="f4f1da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eeece1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ffff"/>
                </a:solidFill>
                <a:latin typeface="Corbel"/>
              </a:rPr>
              <a:t>v euroamerické společnosti je od 17.st. privilegována věda oproti jiným formám poznání (mimovědní poznání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54:08Z</dcterms:created>
  <dc:creator>Svatonova</dc:creator>
  <dc:description/>
  <dc:language>en-US</dc:language>
  <cp:lastModifiedBy>Svatonova</cp:lastModifiedBy>
  <dcterms:modified xsi:type="dcterms:W3CDTF">2011-09-27T08:29:16Z</dcterms:modified>
  <cp:revision>37</cp:revision>
  <dc:subject/>
  <dc:title>Pedagogická fakulta   </dc:title>
</cp:coreProperties>
</file>