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3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15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8.wmf" ContentType="image/x-wmf"/>
  <Override PartName="/ppt/media/image34.jpeg" ContentType="image/jpeg"/>
  <Override PartName="/ppt/media/image50.png" ContentType="image/png"/>
  <Override PartName="/ppt/media/image48.wmf" ContentType="image/x-wmf"/>
  <Override PartName="/ppt/media/image5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6.png" ContentType="image/png"/>
  <Override PartName="/ppt/media/image36.png" ContentType="image/png"/>
  <Override PartName="/ppt/media/image31.png" ContentType="image/png"/>
  <Override PartName="/ppt/media/image29.wmf" ContentType="image/x-wmf"/>
  <Override PartName="/ppt/media/image60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24.png" ContentType="image/png"/>
  <Override PartName="/ppt/media/image16.jpeg" ContentType="image/jpeg"/>
  <Override PartName="/ppt/media/image11.png" ContentType="image/png"/>
  <Override PartName="/ppt/media/image51.wmf" ContentType="image/x-wmf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10.png" ContentType="image/png"/>
  <Override PartName="/ppt/media/image47.png" ContentType="image/png"/>
  <Override PartName="/ppt/media/image30.png" ContentType="image/png"/>
  <Override PartName="/ppt/media/image35.png" ContentType="image/png"/>
  <Override PartName="/ppt/media/image38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9.wmf" ContentType="image/x-wmf"/>
  <Override PartName="/ppt/media/image52.png" ContentType="image/png"/>
  <Override PartName="/ppt/media/image53.png" ContentType="image/png"/>
  <Override PartName="/ppt/media/image55.png" ContentType="image/png"/>
  <Override PartName="/ppt/media/image5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53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41.xml.rels" ContentType="application/vnd.openxmlformats-package.relationships+xml"/>
  <Override PartName="/ppt/slides/_rels/slide169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9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7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7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  <p:sldId id="413" r:id="rId163"/>
    <p:sldId id="414" r:id="rId164"/>
    <p:sldId id="415" r:id="rId165"/>
    <p:sldId id="416" r:id="rId166"/>
    <p:sldId id="417" r:id="rId167"/>
    <p:sldId id="418" r:id="rId168"/>
    <p:sldId id="419" r:id="rId169"/>
    <p:sldId id="420" r:id="rId170"/>
    <p:sldId id="421" r:id="rId171"/>
    <p:sldId id="422" r:id="rId172"/>
    <p:sldId id="423" r:id="rId173"/>
    <p:sldId id="424" r:id="rId174"/>
    <p:sldId id="425" r:id="rId175"/>
    <p:sldId id="426" r:id="rId1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slide" Target="slides/slide158.xml"/><Relationship Id="rId164" Type="http://schemas.openxmlformats.org/officeDocument/2006/relationships/slide" Target="slides/slide159.xml"/><Relationship Id="rId165" Type="http://schemas.openxmlformats.org/officeDocument/2006/relationships/slide" Target="slides/slide160.xml"/><Relationship Id="rId166" Type="http://schemas.openxmlformats.org/officeDocument/2006/relationships/slide" Target="slides/slide161.xml"/><Relationship Id="rId167" Type="http://schemas.openxmlformats.org/officeDocument/2006/relationships/slide" Target="slides/slide162.xml"/><Relationship Id="rId168" Type="http://schemas.openxmlformats.org/officeDocument/2006/relationships/slide" Target="slides/slide163.xml"/><Relationship Id="rId169" Type="http://schemas.openxmlformats.org/officeDocument/2006/relationships/slide" Target="slides/slide164.xml"/><Relationship Id="rId170" Type="http://schemas.openxmlformats.org/officeDocument/2006/relationships/slide" Target="slides/slide165.xml"/><Relationship Id="rId171" Type="http://schemas.openxmlformats.org/officeDocument/2006/relationships/slide" Target="slides/slide166.xml"/><Relationship Id="rId172" Type="http://schemas.openxmlformats.org/officeDocument/2006/relationships/slide" Target="slides/slide167.xml"/><Relationship Id="rId173" Type="http://schemas.openxmlformats.org/officeDocument/2006/relationships/slide" Target="slides/slide168.xml"/><Relationship Id="rId174" Type="http://schemas.openxmlformats.org/officeDocument/2006/relationships/slide" Target="slides/slide169.xml"/><Relationship Id="rId175" Type="http://schemas.openxmlformats.org/officeDocument/2006/relationships/slide" Target="slides/slide170.xml"/><Relationship Id="rId176" Type="http://schemas.openxmlformats.org/officeDocument/2006/relationships/slide" Target="slides/slide171.xml"/><Relationship Id="rId1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4BC7-EC14-4113-A7C4-98273AB6942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A42A-F0F6-46F4-B20E-672F884B339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290F-BE80-4304-825C-24BE132AF2C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E492-346F-467B-871B-849BAD6D801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F49-58CC-4181-9D32-0C718D482B3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D294-BEF9-41CE-B914-E638249FE49D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EBB0-2451-4BE6-A97D-8E5E5A74508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4896-4F83-4CEC-8700-EB22E4B1004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C789-37CF-4E1F-9F91-BF41E747344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3FD6-0C1C-47EE-B9C8-82D21E6C844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2906-2592-4138-82B3-614DD882E90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CA8E-70FE-4075-828A-D19B5707CCA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AC9F-0F2B-45BF-B3AA-B66EDB9FB2C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0E78-4872-4511-961B-4BA71D7F9E5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3D16-1759-447F-8F13-480738953F1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D2EA-3D71-4BD8-B052-B342689CB42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CBA8-6F4E-49FD-A279-147C5D8F531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3F79-82DE-49C1-8332-4DC53E3F93D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00D-468C-4A2F-8921-4A0F757D86F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FF73-4513-4C6C-8CD7-EF2F597A2B7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12AA-CD14-40A7-AA89-95610DCDDAF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CA9-D689-45D5-BED0-E21F45BE84F0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F1FB-97BB-483E-BB8B-600526208DC7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D904-D6FF-4B79-A0F5-8439A3355B39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05CF-BB6C-4BDD-9A87-18D1C29BF17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9C7E-A735-4C52-8E9A-4F3A6A9CBC4F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4BD-F7BB-41CC-8279-214750156CB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D8CA-FAB4-46FC-84B2-A43DFBE7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6FA8-C500-4AA4-B3EF-1DD7710B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7C7-51D9-4E24-B039-6660B27D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95A-F743-41CE-B98B-99AD7AEC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BA38-B223-4466-A76F-6C2A3FB36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A1ED-ED37-45E8-8333-E788D9FB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CFBB-6C9E-40A2-A7CA-B67DBEF8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E3AD-5C84-4AE6-88BE-DD769F36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4DDE-D7C3-421D-83DD-DB160F0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E359-C29D-4793-B38E-C81A0F50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F529-3D52-4B58-88D7-A99F3A24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F31A-A740-492C-A11E-9C0492C0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755A-4C1B-485C-81B0-409B6CD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3AD1-9BE3-40CC-A085-9E66FD2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C1F8-5BDD-4F29-91A3-FA4BB488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FD0F-36F0-4508-9B11-4C4A9DB8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AC96-5096-4005-A53A-440BA750C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3661-B150-4C4C-AF16-18302310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8E038-CC75-4614-8D59-0088D234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9F59C-FF2B-4903-A3CD-EFA65770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FB7C7-216A-4E2A-8E12-A24AE59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09628-362A-4C56-B2B2-24DF31DF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A7A-EA8F-4836-A68C-19848371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9BE9-E97B-4359-A172-F076E883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9AB5-3BB6-49CF-A25F-C3C1CADF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6175-C05E-4656-A697-104A12D3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89AA4-909F-438B-BF44-F6B7E479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A7C33-C88C-4710-911D-436D9AA5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51689-FC6C-4B21-A8B6-9E53449E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E80DA-9E90-4AAB-B07A-1ACBD0B1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00E-E6A8-4830-AD69-10B221A8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0428-2B1E-4630-9391-7CF51836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E10-7640-4B16-8EFE-2DE95275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0AE-CB9F-4EBB-9284-1F6CCAD9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3F1-011D-4BC1-B9E7-A82C8A01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5FB-56A7-4A49-8B14-672D9FCE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FA68-DEE3-4B49-9F67-950269517FE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CA3A-D8E5-4C1E-AD36-43195E9AA15A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D72-3ECB-493A-AEC1-F197C1D8674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39640" y="2708280"/>
            <a:ext cx="7848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/ Sběr údaj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eriodicita sběr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24000" y="39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spořádání, sumarizac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počet charakteristik, měření závislostí, srovnávání, měření dynami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tabulkové či grafické vyjádření a slovní zhodnocení výsledků předcházejících etap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ormální rozdělení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380880" y="2529000"/>
            <a:ext cx="624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0" name="Picture 9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4500720" y="3068640"/>
            <a:ext cx="435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618920" y="4437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s parametr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tejný průměr, různé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čím větší odchylka , tím „plošší tvar rozdělen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5" name="Picture 4" descr="C:\Documents and Settings\svatonova\Dokumenty\STATISTIKA\JARO_07\normalní podle smer_odchylek.gif"/>
          <p:cNvPicPr/>
          <p:nvPr/>
        </p:nvPicPr>
        <p:blipFill>
          <a:blip r:embed="rId1"/>
          <a:stretch/>
        </p:blipFill>
        <p:spPr>
          <a:xfrm>
            <a:off x="1619280" y="549360"/>
            <a:ext cx="4960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49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ůzné průměry, stejná směrodatná odchyl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Normální křivka a osa x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vymezují plochu 100%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ze stanovit pravděpodobnosti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 s nimiž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leží hodnoty v určitém intervalu,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ranice intervalu tvoří průměr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a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násobky směrodatné odchyl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4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Picture 1028" descr="C:\Documents and Settings\svatonova\Dokumenty\STATISTIKA\JARO_07\IQ_normální rozdělení.jpg"/>
          <p:cNvPicPr/>
          <p:nvPr/>
        </p:nvPicPr>
        <p:blipFill>
          <a:blip r:embed="rId1"/>
          <a:stretch/>
        </p:blipFill>
        <p:spPr>
          <a:xfrm>
            <a:off x="152280" y="762120"/>
            <a:ext cx="8991720" cy="51991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1029"/>
          <p:cNvSpPr/>
          <p:nvPr/>
        </p:nvSpPr>
        <p:spPr>
          <a:xfrm>
            <a:off x="1901880" y="22860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Normální rozdělení pro I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30"/>
          <p:cNvSpPr/>
          <p:nvPr/>
        </p:nvSpPr>
        <p:spPr>
          <a:xfrm>
            <a:off x="1523880" y="6095880"/>
            <a:ext cx="9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eb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Text Box 1031"/>
          <p:cNvSpPr/>
          <p:nvPr/>
        </p:nvSpPr>
        <p:spPr>
          <a:xfrm>
            <a:off x="152280" y="6019920"/>
            <a:ext cx="11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mbeci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Text Box 1032"/>
          <p:cNvSpPr/>
          <p:nvPr/>
        </p:nvSpPr>
        <p:spPr>
          <a:xfrm>
            <a:off x="2437920" y="60199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hká 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1033"/>
          <p:cNvSpPr/>
          <p:nvPr/>
        </p:nvSpPr>
        <p:spPr>
          <a:xfrm>
            <a:off x="4037400" y="6095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ůmě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1034"/>
          <p:cNvSpPr/>
          <p:nvPr/>
        </p:nvSpPr>
        <p:spPr>
          <a:xfrm>
            <a:off x="5485680" y="60199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nikajíc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1035"/>
          <p:cNvSpPr/>
          <p:nvPr/>
        </p:nvSpPr>
        <p:spPr>
          <a:xfrm>
            <a:off x="7375680" y="5881680"/>
            <a:ext cx="10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eniali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036"/>
          <p:cNvSpPr/>
          <p:nvPr/>
        </p:nvSpPr>
        <p:spPr>
          <a:xfrm>
            <a:off x="0" y="6461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idioci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4000" y="1628640"/>
            <a:ext cx="754524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Q (v bodech)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peň inteligen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nto zkoumaných případů (v 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éně než 2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oci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 - 4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bec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 - 6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 - 7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zv. lehká debi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,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 - 89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 - 10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 - 11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průměrná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0 - 139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ynikajíc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0 a více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ialita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ě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ů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79898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Obdélník 3"/>
          <p:cNvSpPr/>
          <p:nvPr/>
        </p:nvSpPr>
        <p:spPr>
          <a:xfrm>
            <a:off x="324000" y="5157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 hranice intervalu hodnot výšky , ve kterých  se nachází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A)68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B) 95%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C)99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slušné popu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837720" y="4572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949560" y="4149720"/>
            <a:ext cx="519444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V normálním rozdělení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68, 27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průměr + - směr. odchylk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5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1,9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99% leží v intervalu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cs-CZ" sz="1600" spc="-1" strike="noStrike">
                <a:solidFill>
                  <a:srgbClr val="ffcc66"/>
                </a:solidFill>
                <a:latin typeface="Times New Roman"/>
              </a:rPr>
              <a:t>(ar. průměr +- 2,576 směr. odchylk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dá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0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4,5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vděpodobnost, že výška nabude hodnoty menší nebo rovné 93 cm, je vyjádřena hodnotou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stribuční funkc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(93) pro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arametry normálního rozdělení 102;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0" name="Picture 4" descr="C:\Documents and Settings\Svatonova\Dokumenty\STATISTIKA\JARO_06\PRÍKLAD1.bmp"/>
          <p:cNvPicPr/>
          <p:nvPr/>
        </p:nvPicPr>
        <p:blipFill>
          <a:blip r:embed="rId1"/>
          <a:stretch/>
        </p:blipFill>
        <p:spPr>
          <a:xfrm>
            <a:off x="533520" y="2133720"/>
            <a:ext cx="7727760" cy="41274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5"/>
          <p:cNvSpPr/>
          <p:nvPr/>
        </p:nvSpPr>
        <p:spPr>
          <a:xfrm>
            <a:off x="664200" y="6289560"/>
            <a:ext cx="87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dpověď: 2,27 % chlapců ve věku 3,5 – 4 roky je menších než 93 c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ula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4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   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meze pro 50 %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žské popul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6" name="Group 4"/>
          <p:cNvGrpSpPr/>
          <p:nvPr/>
        </p:nvGrpSpPr>
        <p:grpSpPr>
          <a:xfrm>
            <a:off x="1243080" y="2622600"/>
            <a:ext cx="2414160" cy="1263240"/>
            <a:chOff x="1243080" y="2622600"/>
            <a:chExt cx="2414160" cy="1263240"/>
          </a:xfrm>
        </p:grpSpPr>
        <p:sp>
          <p:nvSpPr>
            <p:cNvPr id="487" name="Line 5"/>
            <p:cNvSpPr/>
            <p:nvPr/>
          </p:nvSpPr>
          <p:spPr>
            <a:xfrm>
              <a:off x="1243080" y="3808800"/>
              <a:ext cx="22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6"/>
            <p:cNvSpPr/>
            <p:nvPr/>
          </p:nvSpPr>
          <p:spPr>
            <a:xfrm>
              <a:off x="305388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7"/>
            <p:cNvSpPr/>
            <p:nvPr/>
          </p:nvSpPr>
          <p:spPr>
            <a:xfrm>
              <a:off x="1544760" y="3465000"/>
              <a:ext cx="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0" name="Group 8"/>
            <p:cNvGrpSpPr/>
            <p:nvPr/>
          </p:nvGrpSpPr>
          <p:grpSpPr>
            <a:xfrm>
              <a:off x="1393920" y="2622600"/>
              <a:ext cx="2263320" cy="1166040"/>
              <a:chOff x="1393920" y="2622600"/>
              <a:chExt cx="2263320" cy="1166040"/>
            </a:xfrm>
          </p:grpSpPr>
          <p:sp>
            <p:nvSpPr>
              <p:cNvPr id="491" name="Freeform 9"/>
              <p:cNvSpPr/>
              <p:nvPr/>
            </p:nvSpPr>
            <p:spPr>
              <a:xfrm>
                <a:off x="1393920" y="3055320"/>
                <a:ext cx="1810800" cy="631800"/>
              </a:xfrm>
              <a:custGeom>
                <a:avLst/>
                <a:gdLst>
                  <a:gd name="textAreaLeft" fmla="*/ 0 w 1810800"/>
                  <a:gd name="textAreaRight" fmla="*/ 1811160 w 1810800"/>
                  <a:gd name="textAreaTop" fmla="*/ 0 h 631800"/>
                  <a:gd name="textAreaBottom" fmla="*/ 632160 h 631800"/>
                </a:gdLst>
                <a:ahLst/>
                <a:rect l="textAreaLeft" t="textAreaTop" r="textAreaRight" b="textAreaBottom"/>
                <a:pathLst>
                  <a:path w="20000" h="20000">
                    <a:moveTo>
                      <a:pt x="0" y="19963"/>
                    </a:moveTo>
                    <a:lnTo>
                      <a:pt x="1250" y="16259"/>
                    </a:lnTo>
                    <a:lnTo>
                      <a:pt x="1889" y="14444"/>
                    </a:lnTo>
                    <a:lnTo>
                      <a:pt x="2500" y="12630"/>
                    </a:lnTo>
                    <a:lnTo>
                      <a:pt x="3139" y="10926"/>
                    </a:lnTo>
                    <a:lnTo>
                      <a:pt x="3741" y="9259"/>
                    </a:lnTo>
                    <a:lnTo>
                      <a:pt x="4380" y="7704"/>
                    </a:lnTo>
                    <a:lnTo>
                      <a:pt x="4991" y="6222"/>
                    </a:lnTo>
                    <a:lnTo>
                      <a:pt x="5315" y="5556"/>
                    </a:lnTo>
                    <a:lnTo>
                      <a:pt x="5630" y="4889"/>
                    </a:lnTo>
                    <a:lnTo>
                      <a:pt x="5917" y="4296"/>
                    </a:lnTo>
                    <a:lnTo>
                      <a:pt x="6241" y="3667"/>
                    </a:lnTo>
                    <a:lnTo>
                      <a:pt x="6556" y="3148"/>
                    </a:lnTo>
                    <a:lnTo>
                      <a:pt x="6880" y="2630"/>
                    </a:lnTo>
                    <a:lnTo>
                      <a:pt x="7167" y="2148"/>
                    </a:lnTo>
                    <a:lnTo>
                      <a:pt x="7491" y="1741"/>
                    </a:lnTo>
                    <a:lnTo>
                      <a:pt x="7806" y="1333"/>
                    </a:lnTo>
                    <a:lnTo>
                      <a:pt x="8130" y="1000"/>
                    </a:lnTo>
                    <a:lnTo>
                      <a:pt x="8417" y="704"/>
                    </a:lnTo>
                    <a:lnTo>
                      <a:pt x="8731" y="444"/>
                    </a:lnTo>
                    <a:lnTo>
                      <a:pt x="9056" y="259"/>
                    </a:lnTo>
                    <a:lnTo>
                      <a:pt x="9380" y="111"/>
                    </a:lnTo>
                    <a:lnTo>
                      <a:pt x="9667" y="37"/>
                    </a:lnTo>
                    <a:lnTo>
                      <a:pt x="9981" y="0"/>
                    </a:lnTo>
                    <a:lnTo>
                      <a:pt x="10306" y="74"/>
                    </a:lnTo>
                    <a:lnTo>
                      <a:pt x="10620" y="185"/>
                    </a:lnTo>
                    <a:lnTo>
                      <a:pt x="10972" y="407"/>
                    </a:lnTo>
                    <a:lnTo>
                      <a:pt x="11296" y="741"/>
                    </a:lnTo>
                    <a:lnTo>
                      <a:pt x="11648" y="1111"/>
                    </a:lnTo>
                    <a:lnTo>
                      <a:pt x="12000" y="1556"/>
                    </a:lnTo>
                    <a:lnTo>
                      <a:pt x="12352" y="2074"/>
                    </a:lnTo>
                    <a:lnTo>
                      <a:pt x="12731" y="2667"/>
                    </a:lnTo>
                    <a:lnTo>
                      <a:pt x="13093" y="3296"/>
                    </a:lnTo>
                    <a:lnTo>
                      <a:pt x="13444" y="3963"/>
                    </a:lnTo>
                    <a:lnTo>
                      <a:pt x="13824" y="4667"/>
                    </a:lnTo>
                    <a:lnTo>
                      <a:pt x="14176" y="5444"/>
                    </a:lnTo>
                    <a:lnTo>
                      <a:pt x="14907" y="7037"/>
                    </a:lnTo>
                    <a:lnTo>
                      <a:pt x="15620" y="8741"/>
                    </a:lnTo>
                    <a:lnTo>
                      <a:pt x="16324" y="10481"/>
                    </a:lnTo>
                    <a:lnTo>
                      <a:pt x="16991" y="12185"/>
                    </a:lnTo>
                    <a:lnTo>
                      <a:pt x="17602" y="13852"/>
                    </a:lnTo>
                    <a:lnTo>
                      <a:pt x="17917" y="14667"/>
                    </a:lnTo>
                    <a:lnTo>
                      <a:pt x="18204" y="15444"/>
                    </a:lnTo>
                    <a:lnTo>
                      <a:pt x="18463" y="16185"/>
                    </a:lnTo>
                    <a:lnTo>
                      <a:pt x="18750" y="16889"/>
                    </a:lnTo>
                    <a:lnTo>
                      <a:pt x="19009" y="17519"/>
                    </a:lnTo>
                    <a:lnTo>
                      <a:pt x="19231" y="18148"/>
                    </a:lnTo>
                    <a:lnTo>
                      <a:pt x="19454" y="18704"/>
                    </a:lnTo>
                    <a:lnTo>
                      <a:pt x="19648" y="19185"/>
                    </a:lnTo>
                    <a:lnTo>
                      <a:pt x="19843" y="19630"/>
                    </a:lnTo>
                    <a:lnTo>
                      <a:pt x="20000" y="19963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Line 10"/>
              <p:cNvSpPr/>
              <p:nvPr/>
            </p:nvSpPr>
            <p:spPr>
              <a:xfrm flipH="1">
                <a:off x="2601000" y="2622600"/>
                <a:ext cx="1056240" cy="84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Line 11"/>
              <p:cNvSpPr/>
              <p:nvPr/>
            </p:nvSpPr>
            <p:spPr>
              <a:xfrm flipH="1">
                <a:off x="1591200" y="3043440"/>
                <a:ext cx="405720" cy="74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4" name="Line 12"/>
            <p:cNvSpPr/>
            <p:nvPr/>
          </p:nvSpPr>
          <p:spPr>
            <a:xfrm flipH="1">
              <a:off x="1886760" y="3043440"/>
              <a:ext cx="412560" cy="78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13"/>
            <p:cNvSpPr/>
            <p:nvPr/>
          </p:nvSpPr>
          <p:spPr>
            <a:xfrm flipH="1">
              <a:off x="2200680" y="3043440"/>
              <a:ext cx="399960" cy="75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 flipH="1">
              <a:off x="2515320" y="3254400"/>
              <a:ext cx="38700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15"/>
            <p:cNvSpPr/>
            <p:nvPr/>
          </p:nvSpPr>
          <p:spPr>
            <a:xfrm flipH="1">
              <a:off x="2799000" y="3465000"/>
              <a:ext cx="25488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8" name="Text Box 16"/>
          <p:cNvSpPr/>
          <p:nvPr/>
        </p:nvSpPr>
        <p:spPr>
          <a:xfrm>
            <a:off x="3643200" y="232740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17"/>
          <p:cNvSpPr/>
          <p:nvPr/>
        </p:nvSpPr>
        <p:spPr>
          <a:xfrm>
            <a:off x="370800" y="4267080"/>
            <a:ext cx="821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ledáme dolní a horní meze  intervalu ( hodnot IQ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e které se bude nacházet 50%  mužské populace, tj 1. a 3. kvart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Line 18"/>
          <p:cNvSpPr/>
          <p:nvPr/>
        </p:nvSpPr>
        <p:spPr>
          <a:xfrm>
            <a:off x="2286000" y="28195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19"/>
          <p:cNvSpPr/>
          <p:nvPr/>
        </p:nvSpPr>
        <p:spPr>
          <a:xfrm>
            <a:off x="2347920" y="2403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1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3"/>
          <p:cNvGraphicFramePr/>
          <p:nvPr/>
        </p:nvGraphicFramePr>
        <p:xfrm>
          <a:off x="0" y="2133720"/>
          <a:ext cx="5992920" cy="37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5992920" cy="37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Object 5"/>
          <p:cNvGraphicFramePr/>
          <p:nvPr/>
        </p:nvGraphicFramePr>
        <p:xfrm>
          <a:off x="3809880" y="228600"/>
          <a:ext cx="4972320" cy="314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28600"/>
                    <a:ext cx="497232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Text Box 6"/>
          <p:cNvSpPr/>
          <p:nvPr/>
        </p:nvSpPr>
        <p:spPr>
          <a:xfrm>
            <a:off x="6018480" y="4038480"/>
            <a:ext cx="2622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le parametrů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aného normální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rozděl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50  popula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má IQ v interval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98,6 a 109,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457200" y="228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2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04920" y="7621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Excel, statistická funkce inverzní k e Gauss. - NORMIN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1" name="Group 6"/>
          <p:cNvGrpSpPr/>
          <p:nvPr/>
        </p:nvGrpSpPr>
        <p:grpSpPr>
          <a:xfrm>
            <a:off x="380880" y="2209680"/>
            <a:ext cx="6095520" cy="2971800"/>
            <a:chOff x="380880" y="2209680"/>
            <a:chExt cx="6095520" cy="2971800"/>
          </a:xfrm>
        </p:grpSpPr>
        <p:grpSp>
          <p:nvGrpSpPr>
            <p:cNvPr id="512" name="Group 7"/>
            <p:cNvGrpSpPr/>
            <p:nvPr/>
          </p:nvGrpSpPr>
          <p:grpSpPr>
            <a:xfrm>
              <a:off x="1147320" y="2209680"/>
              <a:ext cx="5329080" cy="2971800"/>
              <a:chOff x="1147320" y="2209680"/>
              <a:chExt cx="5329080" cy="2971800"/>
            </a:xfrm>
          </p:grpSpPr>
          <p:graphicFrame>
            <p:nvGraphicFramePr>
              <p:cNvPr id="513" name="Object 8"/>
              <p:cNvGraphicFramePr/>
              <p:nvPr/>
            </p:nvGraphicFramePr>
            <p:xfrm>
              <a:off x="1147320" y="2209680"/>
              <a:ext cx="5215680" cy="22831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514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47320" y="2209680"/>
                        <a:ext cx="5215680" cy="2283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15" name="Text Box 9"/>
              <p:cNvSpPr/>
              <p:nvPr/>
            </p:nvSpPr>
            <p:spPr>
              <a:xfrm>
                <a:off x="5634720" y="4575600"/>
                <a:ext cx="841680" cy="605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6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000000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ffffff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7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1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522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523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524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527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530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533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536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539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542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545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548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551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554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557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560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563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566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569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572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575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7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8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581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582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583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586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589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592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595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598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601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3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604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607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610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2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613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5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616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619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622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625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628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631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634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6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783576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statistika „umí“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50920" y="2019240"/>
            <a:ext cx="8458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Z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P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ov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strukt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a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é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v čase nebo prost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it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diskrétní náhodné proměnné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mohou nabývat pouze dvou hodnot ( např. ano, 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 +q = 1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(100 %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 výpočtu se používá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binomický rozv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5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1 –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1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2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3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654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5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656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657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658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0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661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3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664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6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667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9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670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2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673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5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676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78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679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0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1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682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4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685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7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688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0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691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694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6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697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9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700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2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703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5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706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08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709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ffffff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1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2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4038480" y="3073320"/>
          <a:ext cx="5334120" cy="35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073320"/>
                    <a:ext cx="5334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5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6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8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719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ravděpodobnost narození dívky je 0,4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Picture 5" descr="\begin{displaymath}\ensuremath{\mathrm{P}} (k = 3) = {8 \choose 3} 0{,}49^3 \cdo...&#10;...\cdot2\cdot1} \cdot 0{,}118 \cdot&#10;0{,}035 = 0{,}23. \ \Diamond&#10;\end{displaymath}"/>
          <p:cNvPicPr/>
          <p:nvPr/>
        </p:nvPicPr>
        <p:blipFill>
          <a:blip r:embed="rId1"/>
          <a:stretch/>
        </p:blipFill>
        <p:spPr>
          <a:xfrm>
            <a:off x="228600" y="2895480"/>
            <a:ext cx="8610480" cy="9162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9"/>
          <p:cNvSpPr/>
          <p:nvPr/>
        </p:nvSpPr>
        <p:spPr>
          <a:xfrm>
            <a:off x="-14400" y="4114800"/>
            <a:ext cx="910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avděpodobnost, že v rodině s 8 dětmi jsou tři dívky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0,23, tj. 23 %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íklad 2, binomické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kretiza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last Oxford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dobí 1851 – 1943, tj. 1116 měsíců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Suchý měsí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617 měsíců  hodnocených jako suché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499 – vlhké měsí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617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= 0,5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9/11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4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2" name="Object 2"/>
          <p:cNvGraphicFramePr/>
          <p:nvPr/>
        </p:nvGraphicFramePr>
        <p:xfrm>
          <a:off x="6300720" y="620640"/>
          <a:ext cx="2548080" cy="471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620640"/>
                    <a:ext cx="254808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49" name="Object 2"/>
          <p:cNvGraphicFramePr/>
          <p:nvPr/>
        </p:nvGraphicFramePr>
        <p:xfrm>
          <a:off x="4500720" y="260280"/>
          <a:ext cx="4389120" cy="219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0280"/>
                    <a:ext cx="4389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1" name="Picture 4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913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1219320" y="762120"/>
          <a:ext cx="6858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762120"/>
                    <a:ext cx="6858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9280" y="2349360"/>
            <a:ext cx="82026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adekvátn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číselné úd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má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k dispozic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ostatečně rozsáhlý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soubor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í-l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 datech přítom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měnlivos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ariabilita)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oissonovo rozděl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o rozdělení vzácných případ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zimní bouřka, výskyt mutace apod.).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isson - příkl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 = 0,001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2" name="Object 2"/>
          <p:cNvGraphicFramePr/>
          <p:nvPr/>
        </p:nvGraphicFramePr>
        <p:xfrm>
          <a:off x="2819520" y="1523880"/>
          <a:ext cx="6019560" cy="40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523880"/>
                    <a:ext cx="601956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Text Box 5"/>
          <p:cNvSpPr/>
          <p:nvPr/>
        </p:nvSpPr>
        <p:spPr>
          <a:xfrm>
            <a:off x="300240" y="5943600"/>
            <a:ext cx="65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ravděpodobnost, že neobsahuje albína, je 90,47 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šení 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2514600" y="1066680"/>
          <a:ext cx="66294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066680"/>
                    <a:ext cx="66294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albína, je  9 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cc66"/>
                </a:solidFill>
                <a:latin typeface="Arial"/>
              </a:rPr>
              <a:t>Další rozdělení</a:t>
            </a:r>
            <a:br>
              <a:rPr sz="60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Pearsonova křivka III. typu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earsonova křivka III. ty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-  z křivky lze např. vyčíst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pravděpodobnost  se kterou bude hodnota sledovaného statistického znaku dosaž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tzv.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čára překročen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7" name="Group 208"/>
          <p:cNvGrpSpPr/>
          <p:nvPr/>
        </p:nvGrpSpPr>
        <p:grpSpPr>
          <a:xfrm>
            <a:off x="0" y="1197000"/>
            <a:ext cx="8759880" cy="6172200"/>
            <a:chOff x="0" y="1197000"/>
            <a:chExt cx="8759880" cy="6172200"/>
          </a:xfrm>
        </p:grpSpPr>
        <p:grpSp>
          <p:nvGrpSpPr>
            <p:cNvPr id="778" name="Group 73"/>
            <p:cNvGrpSpPr/>
            <p:nvPr/>
          </p:nvGrpSpPr>
          <p:grpSpPr>
            <a:xfrm>
              <a:off x="0" y="1197000"/>
              <a:ext cx="1760760" cy="608400"/>
              <a:chOff x="0" y="1197000"/>
              <a:chExt cx="1760760" cy="608400"/>
            </a:xfrm>
          </p:grpSpPr>
          <p:sp>
            <p:nvSpPr>
              <p:cNvPr id="779" name="Rectangle 72"/>
              <p:cNvSpPr/>
              <p:nvPr/>
            </p:nvSpPr>
            <p:spPr>
              <a:xfrm>
                <a:off x="0" y="1197000"/>
                <a:ext cx="176076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Rectangle 4"/>
              <p:cNvSpPr/>
              <p:nvPr/>
            </p:nvSpPr>
            <p:spPr>
              <a:xfrm>
                <a:off x="208800" y="1197000"/>
                <a:ext cx="13424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75"/>
            <p:cNvGrpSpPr/>
            <p:nvPr/>
          </p:nvGrpSpPr>
          <p:grpSpPr>
            <a:xfrm>
              <a:off x="1762200" y="1197000"/>
              <a:ext cx="2616120" cy="608400"/>
              <a:chOff x="1762200" y="1197000"/>
              <a:chExt cx="2616120" cy="608400"/>
            </a:xfrm>
          </p:grpSpPr>
          <p:sp>
            <p:nvSpPr>
              <p:cNvPr id="782" name="Rectangle 74"/>
              <p:cNvSpPr/>
              <p:nvPr/>
            </p:nvSpPr>
            <p:spPr>
              <a:xfrm>
                <a:off x="176220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Rectangle 5"/>
              <p:cNvSpPr/>
              <p:nvPr/>
            </p:nvSpPr>
            <p:spPr>
              <a:xfrm>
                <a:off x="197280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77"/>
            <p:cNvGrpSpPr/>
            <p:nvPr/>
          </p:nvGrpSpPr>
          <p:grpSpPr>
            <a:xfrm>
              <a:off x="4379760" y="1197000"/>
              <a:ext cx="1762200" cy="608400"/>
              <a:chOff x="4379760" y="1197000"/>
              <a:chExt cx="1762200" cy="608400"/>
            </a:xfrm>
          </p:grpSpPr>
          <p:sp>
            <p:nvSpPr>
              <p:cNvPr id="785" name="Rectangle 76"/>
              <p:cNvSpPr/>
              <p:nvPr/>
            </p:nvSpPr>
            <p:spPr>
              <a:xfrm>
                <a:off x="4379760" y="1197000"/>
                <a:ext cx="17622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Rectangle 6"/>
              <p:cNvSpPr/>
              <p:nvPr/>
            </p:nvSpPr>
            <p:spPr>
              <a:xfrm>
                <a:off x="4590360" y="1197000"/>
                <a:ext cx="134064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79"/>
            <p:cNvGrpSpPr/>
            <p:nvPr/>
          </p:nvGrpSpPr>
          <p:grpSpPr>
            <a:xfrm>
              <a:off x="6143760" y="1197000"/>
              <a:ext cx="2616120" cy="608400"/>
              <a:chOff x="6143760" y="1197000"/>
              <a:chExt cx="2616120" cy="608400"/>
            </a:xfrm>
          </p:grpSpPr>
          <p:sp>
            <p:nvSpPr>
              <p:cNvPr id="788" name="Rectangle 78"/>
              <p:cNvSpPr/>
              <p:nvPr/>
            </p:nvSpPr>
            <p:spPr>
              <a:xfrm>
                <a:off x="6143760" y="1197000"/>
                <a:ext cx="261612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Rectangle 7"/>
              <p:cNvSpPr/>
              <p:nvPr/>
            </p:nvSpPr>
            <p:spPr>
              <a:xfrm>
                <a:off x="6352560" y="1197000"/>
                <a:ext cx="2196000" cy="608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ůtok Qd (m3/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81"/>
            <p:cNvGrpSpPr/>
            <p:nvPr/>
          </p:nvGrpSpPr>
          <p:grpSpPr>
            <a:xfrm>
              <a:off x="0" y="1805400"/>
              <a:ext cx="1760760" cy="347760"/>
              <a:chOff x="0" y="1805400"/>
              <a:chExt cx="1760760" cy="347760"/>
            </a:xfrm>
          </p:grpSpPr>
          <p:sp>
            <p:nvSpPr>
              <p:cNvPr id="791" name="Rectangle 8"/>
              <p:cNvSpPr/>
              <p:nvPr/>
            </p:nvSpPr>
            <p:spPr>
              <a:xfrm>
                <a:off x="208800" y="18054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Rectangle 80"/>
              <p:cNvSpPr/>
              <p:nvPr/>
            </p:nvSpPr>
            <p:spPr>
              <a:xfrm>
                <a:off x="0" y="18054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83"/>
            <p:cNvGrpSpPr/>
            <p:nvPr/>
          </p:nvGrpSpPr>
          <p:grpSpPr>
            <a:xfrm>
              <a:off x="1762200" y="1805400"/>
              <a:ext cx="2616120" cy="347760"/>
              <a:chOff x="1762200" y="1805400"/>
              <a:chExt cx="2616120" cy="347760"/>
            </a:xfrm>
          </p:grpSpPr>
          <p:sp>
            <p:nvSpPr>
              <p:cNvPr id="794" name="Rectangle 9"/>
              <p:cNvSpPr/>
              <p:nvPr/>
            </p:nvSpPr>
            <p:spPr>
              <a:xfrm>
                <a:off x="197280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Rectangle 82"/>
              <p:cNvSpPr/>
              <p:nvPr/>
            </p:nvSpPr>
            <p:spPr>
              <a:xfrm>
                <a:off x="176220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85"/>
            <p:cNvGrpSpPr/>
            <p:nvPr/>
          </p:nvGrpSpPr>
          <p:grpSpPr>
            <a:xfrm>
              <a:off x="4379760" y="1805400"/>
              <a:ext cx="1762200" cy="347760"/>
              <a:chOff x="4379760" y="1805400"/>
              <a:chExt cx="1762200" cy="347760"/>
            </a:xfrm>
          </p:grpSpPr>
          <p:sp>
            <p:nvSpPr>
              <p:cNvPr id="797" name="Rectangle 10"/>
              <p:cNvSpPr/>
              <p:nvPr/>
            </p:nvSpPr>
            <p:spPr>
              <a:xfrm>
                <a:off x="4590360" y="18054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Rectangle 84"/>
              <p:cNvSpPr/>
              <p:nvPr/>
            </p:nvSpPr>
            <p:spPr>
              <a:xfrm>
                <a:off x="4379760" y="18054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87"/>
            <p:cNvGrpSpPr/>
            <p:nvPr/>
          </p:nvGrpSpPr>
          <p:grpSpPr>
            <a:xfrm>
              <a:off x="6143760" y="1805400"/>
              <a:ext cx="2616120" cy="347760"/>
              <a:chOff x="6143760" y="1805400"/>
              <a:chExt cx="2616120" cy="347760"/>
            </a:xfrm>
          </p:grpSpPr>
          <p:sp>
            <p:nvSpPr>
              <p:cNvPr id="800" name="Rectangle 11"/>
              <p:cNvSpPr/>
              <p:nvPr/>
            </p:nvSpPr>
            <p:spPr>
              <a:xfrm>
                <a:off x="6352560" y="18054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9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Rectangle 86"/>
              <p:cNvSpPr/>
              <p:nvPr/>
            </p:nvSpPr>
            <p:spPr>
              <a:xfrm>
                <a:off x="6143760" y="18054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89"/>
            <p:cNvGrpSpPr/>
            <p:nvPr/>
          </p:nvGrpSpPr>
          <p:grpSpPr>
            <a:xfrm>
              <a:off x="0" y="2153160"/>
              <a:ext cx="1760760" cy="347400"/>
              <a:chOff x="0" y="2153160"/>
              <a:chExt cx="1760760" cy="347400"/>
            </a:xfrm>
          </p:grpSpPr>
          <p:sp>
            <p:nvSpPr>
              <p:cNvPr id="803" name="Rectangle 12"/>
              <p:cNvSpPr/>
              <p:nvPr/>
            </p:nvSpPr>
            <p:spPr>
              <a:xfrm>
                <a:off x="208800" y="215316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Rectangle 88"/>
              <p:cNvSpPr/>
              <p:nvPr/>
            </p:nvSpPr>
            <p:spPr>
              <a:xfrm>
                <a:off x="0" y="215316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91"/>
            <p:cNvGrpSpPr/>
            <p:nvPr/>
          </p:nvGrpSpPr>
          <p:grpSpPr>
            <a:xfrm>
              <a:off x="1762200" y="2153160"/>
              <a:ext cx="2616120" cy="347400"/>
              <a:chOff x="1762200" y="2153160"/>
              <a:chExt cx="2616120" cy="347400"/>
            </a:xfrm>
          </p:grpSpPr>
          <p:sp>
            <p:nvSpPr>
              <p:cNvPr id="806" name="Rectangle 13"/>
              <p:cNvSpPr/>
              <p:nvPr/>
            </p:nvSpPr>
            <p:spPr>
              <a:xfrm>
                <a:off x="197280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Rectangle 90"/>
              <p:cNvSpPr/>
              <p:nvPr/>
            </p:nvSpPr>
            <p:spPr>
              <a:xfrm>
                <a:off x="176220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93"/>
            <p:cNvGrpSpPr/>
            <p:nvPr/>
          </p:nvGrpSpPr>
          <p:grpSpPr>
            <a:xfrm>
              <a:off x="4379760" y="2153160"/>
              <a:ext cx="1762200" cy="347400"/>
              <a:chOff x="4379760" y="2153160"/>
              <a:chExt cx="1762200" cy="347400"/>
            </a:xfrm>
          </p:grpSpPr>
          <p:sp>
            <p:nvSpPr>
              <p:cNvPr id="809" name="Rectangle 14"/>
              <p:cNvSpPr/>
              <p:nvPr/>
            </p:nvSpPr>
            <p:spPr>
              <a:xfrm>
                <a:off x="4590360" y="215316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0" name="Rectangle 92"/>
              <p:cNvSpPr/>
              <p:nvPr/>
            </p:nvSpPr>
            <p:spPr>
              <a:xfrm>
                <a:off x="4379760" y="215316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95"/>
            <p:cNvGrpSpPr/>
            <p:nvPr/>
          </p:nvGrpSpPr>
          <p:grpSpPr>
            <a:xfrm>
              <a:off x="6143760" y="2153160"/>
              <a:ext cx="2616120" cy="347400"/>
              <a:chOff x="6143760" y="2153160"/>
              <a:chExt cx="2616120" cy="347400"/>
            </a:xfrm>
          </p:grpSpPr>
          <p:sp>
            <p:nvSpPr>
              <p:cNvPr id="812" name="Rectangle 15"/>
              <p:cNvSpPr/>
              <p:nvPr/>
            </p:nvSpPr>
            <p:spPr>
              <a:xfrm>
                <a:off x="6352560" y="215316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6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3" name="Rectangle 94"/>
              <p:cNvSpPr/>
              <p:nvPr/>
            </p:nvSpPr>
            <p:spPr>
              <a:xfrm>
                <a:off x="6143760" y="215316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97"/>
            <p:cNvGrpSpPr/>
            <p:nvPr/>
          </p:nvGrpSpPr>
          <p:grpSpPr>
            <a:xfrm>
              <a:off x="0" y="2500920"/>
              <a:ext cx="1760760" cy="347400"/>
              <a:chOff x="0" y="2500920"/>
              <a:chExt cx="1760760" cy="347400"/>
            </a:xfrm>
          </p:grpSpPr>
          <p:sp>
            <p:nvSpPr>
              <p:cNvPr id="815" name="Rectangle 16"/>
              <p:cNvSpPr/>
              <p:nvPr/>
            </p:nvSpPr>
            <p:spPr>
              <a:xfrm>
                <a:off x="208800" y="2500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Rectangle 96"/>
              <p:cNvSpPr/>
              <p:nvPr/>
            </p:nvSpPr>
            <p:spPr>
              <a:xfrm>
                <a:off x="0" y="2500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99"/>
            <p:cNvGrpSpPr/>
            <p:nvPr/>
          </p:nvGrpSpPr>
          <p:grpSpPr>
            <a:xfrm>
              <a:off x="1762200" y="2500920"/>
              <a:ext cx="2616120" cy="347400"/>
              <a:chOff x="1762200" y="2500920"/>
              <a:chExt cx="2616120" cy="347400"/>
            </a:xfrm>
          </p:grpSpPr>
          <p:sp>
            <p:nvSpPr>
              <p:cNvPr id="818" name="Rectangle 17"/>
              <p:cNvSpPr/>
              <p:nvPr/>
            </p:nvSpPr>
            <p:spPr>
              <a:xfrm>
                <a:off x="197280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>
                <a:off x="176220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101"/>
            <p:cNvGrpSpPr/>
            <p:nvPr/>
          </p:nvGrpSpPr>
          <p:grpSpPr>
            <a:xfrm>
              <a:off x="4379760" y="2500920"/>
              <a:ext cx="1762200" cy="347400"/>
              <a:chOff x="4379760" y="2500920"/>
              <a:chExt cx="1762200" cy="347400"/>
            </a:xfrm>
          </p:grpSpPr>
          <p:sp>
            <p:nvSpPr>
              <p:cNvPr id="821" name="Rectangle 18"/>
              <p:cNvSpPr/>
              <p:nvPr/>
            </p:nvSpPr>
            <p:spPr>
              <a:xfrm>
                <a:off x="4590360" y="2500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Rectangle 100"/>
              <p:cNvSpPr/>
              <p:nvPr/>
            </p:nvSpPr>
            <p:spPr>
              <a:xfrm>
                <a:off x="4379760" y="2500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103"/>
            <p:cNvGrpSpPr/>
            <p:nvPr/>
          </p:nvGrpSpPr>
          <p:grpSpPr>
            <a:xfrm>
              <a:off x="6143760" y="2500920"/>
              <a:ext cx="2616120" cy="347400"/>
              <a:chOff x="6143760" y="2500920"/>
              <a:chExt cx="2616120" cy="347400"/>
            </a:xfrm>
          </p:grpSpPr>
          <p:sp>
            <p:nvSpPr>
              <p:cNvPr id="824" name="Rectangle 19"/>
              <p:cNvSpPr/>
              <p:nvPr/>
            </p:nvSpPr>
            <p:spPr>
              <a:xfrm>
                <a:off x="6352560" y="2500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Rectangle 102"/>
              <p:cNvSpPr/>
              <p:nvPr/>
            </p:nvSpPr>
            <p:spPr>
              <a:xfrm>
                <a:off x="6143760" y="2500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105"/>
            <p:cNvGrpSpPr/>
            <p:nvPr/>
          </p:nvGrpSpPr>
          <p:grpSpPr>
            <a:xfrm>
              <a:off x="0" y="2848320"/>
              <a:ext cx="1760760" cy="347760"/>
              <a:chOff x="0" y="2848320"/>
              <a:chExt cx="1760760" cy="347760"/>
            </a:xfrm>
          </p:grpSpPr>
          <p:sp>
            <p:nvSpPr>
              <p:cNvPr id="827" name="Rectangle 20"/>
              <p:cNvSpPr/>
              <p:nvPr/>
            </p:nvSpPr>
            <p:spPr>
              <a:xfrm>
                <a:off x="208800" y="284832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Rectangle 104"/>
              <p:cNvSpPr/>
              <p:nvPr/>
            </p:nvSpPr>
            <p:spPr>
              <a:xfrm>
                <a:off x="0" y="284832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107"/>
            <p:cNvGrpSpPr/>
            <p:nvPr/>
          </p:nvGrpSpPr>
          <p:grpSpPr>
            <a:xfrm>
              <a:off x="1762200" y="2848320"/>
              <a:ext cx="2616120" cy="347760"/>
              <a:chOff x="1762200" y="2848320"/>
              <a:chExt cx="2616120" cy="347760"/>
            </a:xfrm>
          </p:grpSpPr>
          <p:sp>
            <p:nvSpPr>
              <p:cNvPr id="830" name="Rectangle 21"/>
              <p:cNvSpPr/>
              <p:nvPr/>
            </p:nvSpPr>
            <p:spPr>
              <a:xfrm>
                <a:off x="197280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Rectangle 106"/>
              <p:cNvSpPr/>
              <p:nvPr/>
            </p:nvSpPr>
            <p:spPr>
              <a:xfrm>
                <a:off x="176220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109"/>
            <p:cNvGrpSpPr/>
            <p:nvPr/>
          </p:nvGrpSpPr>
          <p:grpSpPr>
            <a:xfrm>
              <a:off x="4379760" y="2848320"/>
              <a:ext cx="1762200" cy="347760"/>
              <a:chOff x="4379760" y="2848320"/>
              <a:chExt cx="1762200" cy="347760"/>
            </a:xfrm>
          </p:grpSpPr>
          <p:sp>
            <p:nvSpPr>
              <p:cNvPr id="833" name="Rectangle 22"/>
              <p:cNvSpPr/>
              <p:nvPr/>
            </p:nvSpPr>
            <p:spPr>
              <a:xfrm>
                <a:off x="4590360" y="284832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Rectangle 108"/>
              <p:cNvSpPr/>
              <p:nvPr/>
            </p:nvSpPr>
            <p:spPr>
              <a:xfrm>
                <a:off x="4379760" y="284832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111"/>
            <p:cNvGrpSpPr/>
            <p:nvPr/>
          </p:nvGrpSpPr>
          <p:grpSpPr>
            <a:xfrm>
              <a:off x="6143760" y="2848320"/>
              <a:ext cx="2616120" cy="347760"/>
              <a:chOff x="6143760" y="2848320"/>
              <a:chExt cx="2616120" cy="347760"/>
            </a:xfrm>
          </p:grpSpPr>
          <p:sp>
            <p:nvSpPr>
              <p:cNvPr id="836" name="Rectangle 23"/>
              <p:cNvSpPr/>
              <p:nvPr/>
            </p:nvSpPr>
            <p:spPr>
              <a:xfrm>
                <a:off x="6352560" y="284832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,7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Rectangle 110"/>
              <p:cNvSpPr/>
              <p:nvPr/>
            </p:nvSpPr>
            <p:spPr>
              <a:xfrm>
                <a:off x="6143760" y="284832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113"/>
            <p:cNvGrpSpPr/>
            <p:nvPr/>
          </p:nvGrpSpPr>
          <p:grpSpPr>
            <a:xfrm>
              <a:off x="0" y="3196440"/>
              <a:ext cx="1760760" cy="347400"/>
              <a:chOff x="0" y="3196440"/>
              <a:chExt cx="1760760" cy="347400"/>
            </a:xfrm>
          </p:grpSpPr>
          <p:sp>
            <p:nvSpPr>
              <p:cNvPr id="839" name="Rectangle 24"/>
              <p:cNvSpPr/>
              <p:nvPr/>
            </p:nvSpPr>
            <p:spPr>
              <a:xfrm>
                <a:off x="208800" y="31964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Rectangle 112"/>
              <p:cNvSpPr/>
              <p:nvPr/>
            </p:nvSpPr>
            <p:spPr>
              <a:xfrm>
                <a:off x="0" y="31964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115"/>
            <p:cNvGrpSpPr/>
            <p:nvPr/>
          </p:nvGrpSpPr>
          <p:grpSpPr>
            <a:xfrm>
              <a:off x="1762200" y="3196440"/>
              <a:ext cx="2616120" cy="347400"/>
              <a:chOff x="1762200" y="3196440"/>
              <a:chExt cx="2616120" cy="347400"/>
            </a:xfrm>
          </p:grpSpPr>
          <p:sp>
            <p:nvSpPr>
              <p:cNvPr id="842" name="Rectangle 25"/>
              <p:cNvSpPr/>
              <p:nvPr/>
            </p:nvSpPr>
            <p:spPr>
              <a:xfrm>
                <a:off x="197280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Rectangle 114"/>
              <p:cNvSpPr/>
              <p:nvPr/>
            </p:nvSpPr>
            <p:spPr>
              <a:xfrm>
                <a:off x="176220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Group 117"/>
            <p:cNvGrpSpPr/>
            <p:nvPr/>
          </p:nvGrpSpPr>
          <p:grpSpPr>
            <a:xfrm>
              <a:off x="4379760" y="3196440"/>
              <a:ext cx="1762200" cy="347400"/>
              <a:chOff x="4379760" y="3196440"/>
              <a:chExt cx="1762200" cy="347400"/>
            </a:xfrm>
          </p:grpSpPr>
          <p:sp>
            <p:nvSpPr>
              <p:cNvPr id="845" name="Rectangle 26"/>
              <p:cNvSpPr/>
              <p:nvPr/>
            </p:nvSpPr>
            <p:spPr>
              <a:xfrm>
                <a:off x="4590360" y="31964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6" name="Rectangle 116"/>
              <p:cNvSpPr/>
              <p:nvPr/>
            </p:nvSpPr>
            <p:spPr>
              <a:xfrm>
                <a:off x="4379760" y="31964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Group 119"/>
            <p:cNvGrpSpPr/>
            <p:nvPr/>
          </p:nvGrpSpPr>
          <p:grpSpPr>
            <a:xfrm>
              <a:off x="6143760" y="3196440"/>
              <a:ext cx="2616120" cy="347400"/>
              <a:chOff x="6143760" y="3196440"/>
              <a:chExt cx="2616120" cy="347400"/>
            </a:xfrm>
          </p:grpSpPr>
          <p:sp>
            <p:nvSpPr>
              <p:cNvPr id="848" name="Rectangle 27"/>
              <p:cNvSpPr/>
              <p:nvPr/>
            </p:nvSpPr>
            <p:spPr>
              <a:xfrm>
                <a:off x="6352560" y="31964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3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Rectangle 118"/>
              <p:cNvSpPr/>
              <p:nvPr/>
            </p:nvSpPr>
            <p:spPr>
              <a:xfrm>
                <a:off x="6143760" y="31964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Group 121"/>
            <p:cNvGrpSpPr/>
            <p:nvPr/>
          </p:nvGrpSpPr>
          <p:grpSpPr>
            <a:xfrm>
              <a:off x="0" y="3544200"/>
              <a:ext cx="1760760" cy="347400"/>
              <a:chOff x="0" y="3544200"/>
              <a:chExt cx="1760760" cy="347400"/>
            </a:xfrm>
          </p:grpSpPr>
          <p:sp>
            <p:nvSpPr>
              <p:cNvPr id="851" name="Rectangle 28"/>
              <p:cNvSpPr/>
              <p:nvPr/>
            </p:nvSpPr>
            <p:spPr>
              <a:xfrm>
                <a:off x="208800" y="35442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Rectangle 120"/>
              <p:cNvSpPr/>
              <p:nvPr/>
            </p:nvSpPr>
            <p:spPr>
              <a:xfrm>
                <a:off x="0" y="35442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3" name="Group 123"/>
            <p:cNvGrpSpPr/>
            <p:nvPr/>
          </p:nvGrpSpPr>
          <p:grpSpPr>
            <a:xfrm>
              <a:off x="1762200" y="3544200"/>
              <a:ext cx="2616120" cy="347400"/>
              <a:chOff x="1762200" y="3544200"/>
              <a:chExt cx="2616120" cy="347400"/>
            </a:xfrm>
          </p:grpSpPr>
          <p:sp>
            <p:nvSpPr>
              <p:cNvPr id="854" name="Rectangle 29"/>
              <p:cNvSpPr/>
              <p:nvPr/>
            </p:nvSpPr>
            <p:spPr>
              <a:xfrm>
                <a:off x="197280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Rectangle 122"/>
              <p:cNvSpPr/>
              <p:nvPr/>
            </p:nvSpPr>
            <p:spPr>
              <a:xfrm>
                <a:off x="176220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6" name="Group 125"/>
            <p:cNvGrpSpPr/>
            <p:nvPr/>
          </p:nvGrpSpPr>
          <p:grpSpPr>
            <a:xfrm>
              <a:off x="4379760" y="3544200"/>
              <a:ext cx="1762200" cy="347400"/>
              <a:chOff x="4379760" y="3544200"/>
              <a:chExt cx="1762200" cy="347400"/>
            </a:xfrm>
          </p:grpSpPr>
          <p:sp>
            <p:nvSpPr>
              <p:cNvPr id="857" name="Rectangle 30"/>
              <p:cNvSpPr/>
              <p:nvPr/>
            </p:nvSpPr>
            <p:spPr>
              <a:xfrm>
                <a:off x="4590360" y="35442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Rectangle 124"/>
              <p:cNvSpPr/>
              <p:nvPr/>
            </p:nvSpPr>
            <p:spPr>
              <a:xfrm>
                <a:off x="4379760" y="35442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59" name="Group 127"/>
            <p:cNvGrpSpPr/>
            <p:nvPr/>
          </p:nvGrpSpPr>
          <p:grpSpPr>
            <a:xfrm>
              <a:off x="6143760" y="3544200"/>
              <a:ext cx="2616120" cy="347400"/>
              <a:chOff x="6143760" y="3544200"/>
              <a:chExt cx="2616120" cy="347400"/>
            </a:xfrm>
          </p:grpSpPr>
          <p:sp>
            <p:nvSpPr>
              <p:cNvPr id="860" name="Rectangle 31"/>
              <p:cNvSpPr/>
              <p:nvPr/>
            </p:nvSpPr>
            <p:spPr>
              <a:xfrm>
                <a:off x="6352560" y="35442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Rectangle 126"/>
              <p:cNvSpPr/>
              <p:nvPr/>
            </p:nvSpPr>
            <p:spPr>
              <a:xfrm>
                <a:off x="6143760" y="35442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2" name="Group 129"/>
            <p:cNvGrpSpPr/>
            <p:nvPr/>
          </p:nvGrpSpPr>
          <p:grpSpPr>
            <a:xfrm>
              <a:off x="0" y="3891600"/>
              <a:ext cx="1760760" cy="347760"/>
              <a:chOff x="0" y="3891600"/>
              <a:chExt cx="1760760" cy="347760"/>
            </a:xfrm>
          </p:grpSpPr>
          <p:sp>
            <p:nvSpPr>
              <p:cNvPr id="863" name="Rectangle 32"/>
              <p:cNvSpPr/>
              <p:nvPr/>
            </p:nvSpPr>
            <p:spPr>
              <a:xfrm>
                <a:off x="208800" y="389160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Rectangle 128"/>
              <p:cNvSpPr/>
              <p:nvPr/>
            </p:nvSpPr>
            <p:spPr>
              <a:xfrm>
                <a:off x="0" y="389160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5" name="Group 131"/>
            <p:cNvGrpSpPr/>
            <p:nvPr/>
          </p:nvGrpSpPr>
          <p:grpSpPr>
            <a:xfrm>
              <a:off x="1762200" y="3891600"/>
              <a:ext cx="2616120" cy="347760"/>
              <a:chOff x="1762200" y="3891600"/>
              <a:chExt cx="2616120" cy="347760"/>
            </a:xfrm>
          </p:grpSpPr>
          <p:sp>
            <p:nvSpPr>
              <p:cNvPr id="866" name="Rectangle 33"/>
              <p:cNvSpPr/>
              <p:nvPr/>
            </p:nvSpPr>
            <p:spPr>
              <a:xfrm>
                <a:off x="197280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,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Rectangle 130"/>
              <p:cNvSpPr/>
              <p:nvPr/>
            </p:nvSpPr>
            <p:spPr>
              <a:xfrm>
                <a:off x="176220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Group 133"/>
            <p:cNvGrpSpPr/>
            <p:nvPr/>
          </p:nvGrpSpPr>
          <p:grpSpPr>
            <a:xfrm>
              <a:off x="4379760" y="3891600"/>
              <a:ext cx="1762200" cy="347760"/>
              <a:chOff x="4379760" y="3891600"/>
              <a:chExt cx="1762200" cy="347760"/>
            </a:xfrm>
          </p:grpSpPr>
          <p:sp>
            <p:nvSpPr>
              <p:cNvPr id="869" name="Rectangle 34"/>
              <p:cNvSpPr/>
              <p:nvPr/>
            </p:nvSpPr>
            <p:spPr>
              <a:xfrm>
                <a:off x="4590360" y="389160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Rectangle 132"/>
              <p:cNvSpPr/>
              <p:nvPr/>
            </p:nvSpPr>
            <p:spPr>
              <a:xfrm>
                <a:off x="4379760" y="389160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1" name="Group 135"/>
            <p:cNvGrpSpPr/>
            <p:nvPr/>
          </p:nvGrpSpPr>
          <p:grpSpPr>
            <a:xfrm>
              <a:off x="6143760" y="3891600"/>
              <a:ext cx="2616120" cy="347760"/>
              <a:chOff x="6143760" y="3891600"/>
              <a:chExt cx="2616120" cy="347760"/>
            </a:xfrm>
          </p:grpSpPr>
          <p:sp>
            <p:nvSpPr>
              <p:cNvPr id="872" name="Rectangle 35"/>
              <p:cNvSpPr/>
              <p:nvPr/>
            </p:nvSpPr>
            <p:spPr>
              <a:xfrm>
                <a:off x="6352560" y="389160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Rectangle 134"/>
              <p:cNvSpPr/>
              <p:nvPr/>
            </p:nvSpPr>
            <p:spPr>
              <a:xfrm>
                <a:off x="6143760" y="389160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4" name="Group 137"/>
            <p:cNvGrpSpPr/>
            <p:nvPr/>
          </p:nvGrpSpPr>
          <p:grpSpPr>
            <a:xfrm>
              <a:off x="0" y="4239720"/>
              <a:ext cx="1760760" cy="347400"/>
              <a:chOff x="0" y="4239720"/>
              <a:chExt cx="1760760" cy="347400"/>
            </a:xfrm>
          </p:grpSpPr>
          <p:sp>
            <p:nvSpPr>
              <p:cNvPr id="875" name="Rectangle 36"/>
              <p:cNvSpPr/>
              <p:nvPr/>
            </p:nvSpPr>
            <p:spPr>
              <a:xfrm>
                <a:off x="208800" y="42397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Rectangle 136"/>
              <p:cNvSpPr/>
              <p:nvPr/>
            </p:nvSpPr>
            <p:spPr>
              <a:xfrm>
                <a:off x="0" y="42397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Group 139"/>
            <p:cNvGrpSpPr/>
            <p:nvPr/>
          </p:nvGrpSpPr>
          <p:grpSpPr>
            <a:xfrm>
              <a:off x="1762200" y="4239720"/>
              <a:ext cx="2616120" cy="347400"/>
              <a:chOff x="1762200" y="4239720"/>
              <a:chExt cx="2616120" cy="347400"/>
            </a:xfrm>
          </p:grpSpPr>
          <p:sp>
            <p:nvSpPr>
              <p:cNvPr id="878" name="Rectangle 37"/>
              <p:cNvSpPr/>
              <p:nvPr/>
            </p:nvSpPr>
            <p:spPr>
              <a:xfrm>
                <a:off x="197280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8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Rectangle 138"/>
              <p:cNvSpPr/>
              <p:nvPr/>
            </p:nvSpPr>
            <p:spPr>
              <a:xfrm>
                <a:off x="176220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141"/>
            <p:cNvGrpSpPr/>
            <p:nvPr/>
          </p:nvGrpSpPr>
          <p:grpSpPr>
            <a:xfrm>
              <a:off x="4379760" y="4239720"/>
              <a:ext cx="1762200" cy="347400"/>
              <a:chOff x="4379760" y="4239720"/>
              <a:chExt cx="1762200" cy="347400"/>
            </a:xfrm>
          </p:grpSpPr>
          <p:sp>
            <p:nvSpPr>
              <p:cNvPr id="881" name="Rectangle 38"/>
              <p:cNvSpPr/>
              <p:nvPr/>
            </p:nvSpPr>
            <p:spPr>
              <a:xfrm>
                <a:off x="4590360" y="42397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Rectangle 140"/>
              <p:cNvSpPr/>
              <p:nvPr/>
            </p:nvSpPr>
            <p:spPr>
              <a:xfrm>
                <a:off x="4379760" y="42397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3" name="Group 143"/>
            <p:cNvGrpSpPr/>
            <p:nvPr/>
          </p:nvGrpSpPr>
          <p:grpSpPr>
            <a:xfrm>
              <a:off x="6143760" y="4239720"/>
              <a:ext cx="2616120" cy="347400"/>
              <a:chOff x="6143760" y="4239720"/>
              <a:chExt cx="2616120" cy="347400"/>
            </a:xfrm>
          </p:grpSpPr>
          <p:sp>
            <p:nvSpPr>
              <p:cNvPr id="884" name="Rectangle 39"/>
              <p:cNvSpPr/>
              <p:nvPr/>
            </p:nvSpPr>
            <p:spPr>
              <a:xfrm>
                <a:off x="6352560" y="42397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4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Rectangle 142"/>
              <p:cNvSpPr/>
              <p:nvPr/>
            </p:nvSpPr>
            <p:spPr>
              <a:xfrm>
                <a:off x="6143760" y="42397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6" name="Group 145"/>
            <p:cNvGrpSpPr/>
            <p:nvPr/>
          </p:nvGrpSpPr>
          <p:grpSpPr>
            <a:xfrm>
              <a:off x="0" y="4587120"/>
              <a:ext cx="1760760" cy="347400"/>
              <a:chOff x="0" y="4587120"/>
              <a:chExt cx="1760760" cy="347400"/>
            </a:xfrm>
          </p:grpSpPr>
          <p:sp>
            <p:nvSpPr>
              <p:cNvPr id="887" name="Rectangle 40"/>
              <p:cNvSpPr/>
              <p:nvPr/>
            </p:nvSpPr>
            <p:spPr>
              <a:xfrm>
                <a:off x="208800" y="45871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Rectangle 144"/>
              <p:cNvSpPr/>
              <p:nvPr/>
            </p:nvSpPr>
            <p:spPr>
              <a:xfrm>
                <a:off x="0" y="45871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89" name="Group 147"/>
            <p:cNvGrpSpPr/>
            <p:nvPr/>
          </p:nvGrpSpPr>
          <p:grpSpPr>
            <a:xfrm>
              <a:off x="1762200" y="4587120"/>
              <a:ext cx="2616120" cy="347400"/>
              <a:chOff x="1762200" y="4587120"/>
              <a:chExt cx="2616120" cy="347400"/>
            </a:xfrm>
          </p:grpSpPr>
          <p:sp>
            <p:nvSpPr>
              <p:cNvPr id="890" name="Rectangle 41"/>
              <p:cNvSpPr/>
              <p:nvPr/>
            </p:nvSpPr>
            <p:spPr>
              <a:xfrm>
                <a:off x="197280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Rectangle 146"/>
              <p:cNvSpPr/>
              <p:nvPr/>
            </p:nvSpPr>
            <p:spPr>
              <a:xfrm>
                <a:off x="176220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Group 149"/>
            <p:cNvGrpSpPr/>
            <p:nvPr/>
          </p:nvGrpSpPr>
          <p:grpSpPr>
            <a:xfrm>
              <a:off x="4379760" y="4587120"/>
              <a:ext cx="1762200" cy="347400"/>
              <a:chOff x="4379760" y="4587120"/>
              <a:chExt cx="1762200" cy="347400"/>
            </a:xfrm>
          </p:grpSpPr>
          <p:sp>
            <p:nvSpPr>
              <p:cNvPr id="893" name="Rectangle 42"/>
              <p:cNvSpPr/>
              <p:nvPr/>
            </p:nvSpPr>
            <p:spPr>
              <a:xfrm>
                <a:off x="4590360" y="45871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Rectangle 148"/>
              <p:cNvSpPr/>
              <p:nvPr/>
            </p:nvSpPr>
            <p:spPr>
              <a:xfrm>
                <a:off x="4379760" y="45871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5" name="Group 151"/>
            <p:cNvGrpSpPr/>
            <p:nvPr/>
          </p:nvGrpSpPr>
          <p:grpSpPr>
            <a:xfrm>
              <a:off x="6143760" y="4587120"/>
              <a:ext cx="2616120" cy="347400"/>
              <a:chOff x="6143760" y="4587120"/>
              <a:chExt cx="2616120" cy="347400"/>
            </a:xfrm>
          </p:grpSpPr>
          <p:sp>
            <p:nvSpPr>
              <p:cNvPr id="896" name="Rectangle 43"/>
              <p:cNvSpPr/>
              <p:nvPr/>
            </p:nvSpPr>
            <p:spPr>
              <a:xfrm>
                <a:off x="6352560" y="45871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3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Rectangle 150"/>
              <p:cNvSpPr/>
              <p:nvPr/>
            </p:nvSpPr>
            <p:spPr>
              <a:xfrm>
                <a:off x="6143760" y="45871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Group 153"/>
            <p:cNvGrpSpPr/>
            <p:nvPr/>
          </p:nvGrpSpPr>
          <p:grpSpPr>
            <a:xfrm>
              <a:off x="0" y="4934880"/>
              <a:ext cx="1760760" cy="347760"/>
              <a:chOff x="0" y="4934880"/>
              <a:chExt cx="1760760" cy="347760"/>
            </a:xfrm>
          </p:grpSpPr>
          <p:sp>
            <p:nvSpPr>
              <p:cNvPr id="899" name="Rectangle 44"/>
              <p:cNvSpPr/>
              <p:nvPr/>
            </p:nvSpPr>
            <p:spPr>
              <a:xfrm>
                <a:off x="208800" y="493488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Rectangle 152"/>
              <p:cNvSpPr/>
              <p:nvPr/>
            </p:nvSpPr>
            <p:spPr>
              <a:xfrm>
                <a:off x="0" y="493488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Group 155"/>
            <p:cNvGrpSpPr/>
            <p:nvPr/>
          </p:nvGrpSpPr>
          <p:grpSpPr>
            <a:xfrm>
              <a:off x="1762200" y="4934880"/>
              <a:ext cx="2616120" cy="347760"/>
              <a:chOff x="1762200" y="4934880"/>
              <a:chExt cx="2616120" cy="347760"/>
            </a:xfrm>
          </p:grpSpPr>
          <p:sp>
            <p:nvSpPr>
              <p:cNvPr id="902" name="Rectangle 45"/>
              <p:cNvSpPr/>
              <p:nvPr/>
            </p:nvSpPr>
            <p:spPr>
              <a:xfrm>
                <a:off x="197280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Rectangle 154"/>
              <p:cNvSpPr/>
              <p:nvPr/>
            </p:nvSpPr>
            <p:spPr>
              <a:xfrm>
                <a:off x="176220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Group 157"/>
            <p:cNvGrpSpPr/>
            <p:nvPr/>
          </p:nvGrpSpPr>
          <p:grpSpPr>
            <a:xfrm>
              <a:off x="4379760" y="4934880"/>
              <a:ext cx="1762200" cy="347760"/>
              <a:chOff x="4379760" y="4934880"/>
              <a:chExt cx="1762200" cy="347760"/>
            </a:xfrm>
          </p:grpSpPr>
          <p:sp>
            <p:nvSpPr>
              <p:cNvPr id="905" name="Rectangle 46"/>
              <p:cNvSpPr/>
              <p:nvPr/>
            </p:nvSpPr>
            <p:spPr>
              <a:xfrm>
                <a:off x="4590360" y="493488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Rectangle 156"/>
              <p:cNvSpPr/>
              <p:nvPr/>
            </p:nvSpPr>
            <p:spPr>
              <a:xfrm>
                <a:off x="4379760" y="493488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7" name="Group 159"/>
            <p:cNvGrpSpPr/>
            <p:nvPr/>
          </p:nvGrpSpPr>
          <p:grpSpPr>
            <a:xfrm>
              <a:off x="6143760" y="4934880"/>
              <a:ext cx="2616120" cy="347760"/>
              <a:chOff x="6143760" y="4934880"/>
              <a:chExt cx="2616120" cy="347760"/>
            </a:xfrm>
          </p:grpSpPr>
          <p:sp>
            <p:nvSpPr>
              <p:cNvPr id="908" name="Rectangle 47"/>
              <p:cNvSpPr/>
              <p:nvPr/>
            </p:nvSpPr>
            <p:spPr>
              <a:xfrm>
                <a:off x="6352560" y="493488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5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Rectangle 158"/>
              <p:cNvSpPr/>
              <p:nvPr/>
            </p:nvSpPr>
            <p:spPr>
              <a:xfrm>
                <a:off x="6143760" y="493488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Group 161"/>
            <p:cNvGrpSpPr/>
            <p:nvPr/>
          </p:nvGrpSpPr>
          <p:grpSpPr>
            <a:xfrm>
              <a:off x="0" y="5282640"/>
              <a:ext cx="1760760" cy="347400"/>
              <a:chOff x="0" y="5282640"/>
              <a:chExt cx="1760760" cy="347400"/>
            </a:xfrm>
          </p:grpSpPr>
          <p:sp>
            <p:nvSpPr>
              <p:cNvPr id="911" name="Rectangle 48"/>
              <p:cNvSpPr/>
              <p:nvPr/>
            </p:nvSpPr>
            <p:spPr>
              <a:xfrm>
                <a:off x="208800" y="528264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Rectangle 160"/>
              <p:cNvSpPr/>
              <p:nvPr/>
            </p:nvSpPr>
            <p:spPr>
              <a:xfrm>
                <a:off x="0" y="528264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163"/>
            <p:cNvGrpSpPr/>
            <p:nvPr/>
          </p:nvGrpSpPr>
          <p:grpSpPr>
            <a:xfrm>
              <a:off x="1762200" y="5282640"/>
              <a:ext cx="2616120" cy="347400"/>
              <a:chOff x="1762200" y="5282640"/>
              <a:chExt cx="2616120" cy="347400"/>
            </a:xfrm>
          </p:grpSpPr>
          <p:sp>
            <p:nvSpPr>
              <p:cNvPr id="914" name="Rectangle 49"/>
              <p:cNvSpPr/>
              <p:nvPr/>
            </p:nvSpPr>
            <p:spPr>
              <a:xfrm>
                <a:off x="197280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,8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Rectangle 162"/>
              <p:cNvSpPr/>
              <p:nvPr/>
            </p:nvSpPr>
            <p:spPr>
              <a:xfrm>
                <a:off x="176220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Group 165"/>
            <p:cNvGrpSpPr/>
            <p:nvPr/>
          </p:nvGrpSpPr>
          <p:grpSpPr>
            <a:xfrm>
              <a:off x="4379760" y="5282640"/>
              <a:ext cx="1762200" cy="347400"/>
              <a:chOff x="4379760" y="5282640"/>
              <a:chExt cx="1762200" cy="347400"/>
            </a:xfrm>
          </p:grpSpPr>
          <p:sp>
            <p:nvSpPr>
              <p:cNvPr id="917" name="Rectangle 50"/>
              <p:cNvSpPr/>
              <p:nvPr/>
            </p:nvSpPr>
            <p:spPr>
              <a:xfrm>
                <a:off x="4590360" y="528264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Rectangle 164"/>
              <p:cNvSpPr/>
              <p:nvPr/>
            </p:nvSpPr>
            <p:spPr>
              <a:xfrm>
                <a:off x="4379760" y="528264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9" name="Group 167"/>
            <p:cNvGrpSpPr/>
            <p:nvPr/>
          </p:nvGrpSpPr>
          <p:grpSpPr>
            <a:xfrm>
              <a:off x="6143760" y="5282640"/>
              <a:ext cx="2616120" cy="347400"/>
              <a:chOff x="6143760" y="5282640"/>
              <a:chExt cx="2616120" cy="347400"/>
            </a:xfrm>
          </p:grpSpPr>
          <p:sp>
            <p:nvSpPr>
              <p:cNvPr id="920" name="Rectangle 51"/>
              <p:cNvSpPr/>
              <p:nvPr/>
            </p:nvSpPr>
            <p:spPr>
              <a:xfrm>
                <a:off x="6352560" y="528264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1" name="Rectangle 166"/>
              <p:cNvSpPr/>
              <p:nvPr/>
            </p:nvSpPr>
            <p:spPr>
              <a:xfrm>
                <a:off x="6143760" y="528264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169"/>
            <p:cNvGrpSpPr/>
            <p:nvPr/>
          </p:nvGrpSpPr>
          <p:grpSpPr>
            <a:xfrm>
              <a:off x="0" y="5630400"/>
              <a:ext cx="1760760" cy="347400"/>
              <a:chOff x="0" y="5630400"/>
              <a:chExt cx="1760760" cy="347400"/>
            </a:xfrm>
          </p:grpSpPr>
          <p:sp>
            <p:nvSpPr>
              <p:cNvPr id="923" name="Rectangle 52"/>
              <p:cNvSpPr/>
              <p:nvPr/>
            </p:nvSpPr>
            <p:spPr>
              <a:xfrm>
                <a:off x="208800" y="563040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Rectangle 168"/>
              <p:cNvSpPr/>
              <p:nvPr/>
            </p:nvSpPr>
            <p:spPr>
              <a:xfrm>
                <a:off x="0" y="563040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Group 171"/>
            <p:cNvGrpSpPr/>
            <p:nvPr/>
          </p:nvGrpSpPr>
          <p:grpSpPr>
            <a:xfrm>
              <a:off x="1762200" y="5630400"/>
              <a:ext cx="2616120" cy="347400"/>
              <a:chOff x="1762200" y="5630400"/>
              <a:chExt cx="2616120" cy="347400"/>
            </a:xfrm>
          </p:grpSpPr>
          <p:sp>
            <p:nvSpPr>
              <p:cNvPr id="926" name="Rectangle 53"/>
              <p:cNvSpPr/>
              <p:nvPr/>
            </p:nvSpPr>
            <p:spPr>
              <a:xfrm>
                <a:off x="197280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2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Rectangle 170"/>
              <p:cNvSpPr/>
              <p:nvPr/>
            </p:nvSpPr>
            <p:spPr>
              <a:xfrm>
                <a:off x="176220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28" name="Group 173"/>
            <p:cNvGrpSpPr/>
            <p:nvPr/>
          </p:nvGrpSpPr>
          <p:grpSpPr>
            <a:xfrm>
              <a:off x="4379760" y="5630400"/>
              <a:ext cx="1762200" cy="347400"/>
              <a:chOff x="4379760" y="5630400"/>
              <a:chExt cx="1762200" cy="347400"/>
            </a:xfrm>
          </p:grpSpPr>
          <p:sp>
            <p:nvSpPr>
              <p:cNvPr id="929" name="Rectangle 54"/>
              <p:cNvSpPr/>
              <p:nvPr/>
            </p:nvSpPr>
            <p:spPr>
              <a:xfrm>
                <a:off x="4590360" y="563040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7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Rectangle 172"/>
              <p:cNvSpPr/>
              <p:nvPr/>
            </p:nvSpPr>
            <p:spPr>
              <a:xfrm>
                <a:off x="4379760" y="563040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175"/>
            <p:cNvGrpSpPr/>
            <p:nvPr/>
          </p:nvGrpSpPr>
          <p:grpSpPr>
            <a:xfrm>
              <a:off x="6143760" y="5630400"/>
              <a:ext cx="2616120" cy="347400"/>
              <a:chOff x="6143760" y="5630400"/>
              <a:chExt cx="2616120" cy="347400"/>
            </a:xfrm>
          </p:grpSpPr>
          <p:sp>
            <p:nvSpPr>
              <p:cNvPr id="932" name="Rectangle 55"/>
              <p:cNvSpPr/>
              <p:nvPr/>
            </p:nvSpPr>
            <p:spPr>
              <a:xfrm>
                <a:off x="6352560" y="563040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0,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Rectangle 174"/>
              <p:cNvSpPr/>
              <p:nvPr/>
            </p:nvSpPr>
            <p:spPr>
              <a:xfrm>
                <a:off x="6143760" y="563040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177"/>
            <p:cNvGrpSpPr/>
            <p:nvPr/>
          </p:nvGrpSpPr>
          <p:grpSpPr>
            <a:xfrm>
              <a:off x="0" y="5978160"/>
              <a:ext cx="1760760" cy="347760"/>
              <a:chOff x="0" y="5978160"/>
              <a:chExt cx="1760760" cy="347760"/>
            </a:xfrm>
          </p:grpSpPr>
          <p:sp>
            <p:nvSpPr>
              <p:cNvPr id="935" name="Rectangle 56"/>
              <p:cNvSpPr/>
              <p:nvPr/>
            </p:nvSpPr>
            <p:spPr>
              <a:xfrm>
                <a:off x="208800" y="597816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Rectangle 176"/>
              <p:cNvSpPr/>
              <p:nvPr/>
            </p:nvSpPr>
            <p:spPr>
              <a:xfrm>
                <a:off x="0" y="597816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179"/>
            <p:cNvGrpSpPr/>
            <p:nvPr/>
          </p:nvGrpSpPr>
          <p:grpSpPr>
            <a:xfrm>
              <a:off x="1762200" y="5978160"/>
              <a:ext cx="2616120" cy="347760"/>
              <a:chOff x="1762200" y="5978160"/>
              <a:chExt cx="2616120" cy="347760"/>
            </a:xfrm>
          </p:grpSpPr>
          <p:sp>
            <p:nvSpPr>
              <p:cNvPr id="938" name="Rectangle 57"/>
              <p:cNvSpPr/>
              <p:nvPr/>
            </p:nvSpPr>
            <p:spPr>
              <a:xfrm>
                <a:off x="197280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7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Rectangle 178"/>
              <p:cNvSpPr/>
              <p:nvPr/>
            </p:nvSpPr>
            <p:spPr>
              <a:xfrm>
                <a:off x="176220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Group 181"/>
            <p:cNvGrpSpPr/>
            <p:nvPr/>
          </p:nvGrpSpPr>
          <p:grpSpPr>
            <a:xfrm>
              <a:off x="4379760" y="5978160"/>
              <a:ext cx="1762200" cy="347760"/>
              <a:chOff x="4379760" y="5978160"/>
              <a:chExt cx="1762200" cy="347760"/>
            </a:xfrm>
          </p:grpSpPr>
          <p:sp>
            <p:nvSpPr>
              <p:cNvPr id="941" name="Rectangle 58"/>
              <p:cNvSpPr/>
              <p:nvPr/>
            </p:nvSpPr>
            <p:spPr>
              <a:xfrm>
                <a:off x="4590360" y="597816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8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Rectangle 180"/>
              <p:cNvSpPr/>
              <p:nvPr/>
            </p:nvSpPr>
            <p:spPr>
              <a:xfrm>
                <a:off x="4379760" y="597816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Group 183"/>
            <p:cNvGrpSpPr/>
            <p:nvPr/>
          </p:nvGrpSpPr>
          <p:grpSpPr>
            <a:xfrm>
              <a:off x="6143760" y="5978160"/>
              <a:ext cx="2616120" cy="347760"/>
              <a:chOff x="6143760" y="5978160"/>
              <a:chExt cx="2616120" cy="347760"/>
            </a:xfrm>
          </p:grpSpPr>
          <p:sp>
            <p:nvSpPr>
              <p:cNvPr id="944" name="Rectangle 59"/>
              <p:cNvSpPr/>
              <p:nvPr/>
            </p:nvSpPr>
            <p:spPr>
              <a:xfrm>
                <a:off x="6352560" y="597816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6,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Rectangle 182"/>
              <p:cNvSpPr/>
              <p:nvPr/>
            </p:nvSpPr>
            <p:spPr>
              <a:xfrm>
                <a:off x="6143760" y="597816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6" name="Group 185"/>
            <p:cNvGrpSpPr/>
            <p:nvPr/>
          </p:nvGrpSpPr>
          <p:grpSpPr>
            <a:xfrm>
              <a:off x="0" y="6325920"/>
              <a:ext cx="1760760" cy="347400"/>
              <a:chOff x="0" y="6325920"/>
              <a:chExt cx="1760760" cy="347400"/>
            </a:xfrm>
          </p:grpSpPr>
          <p:sp>
            <p:nvSpPr>
              <p:cNvPr id="947" name="Rectangle 60"/>
              <p:cNvSpPr/>
              <p:nvPr/>
            </p:nvSpPr>
            <p:spPr>
              <a:xfrm>
                <a:off x="208800" y="632592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Rectangle 184"/>
              <p:cNvSpPr/>
              <p:nvPr/>
            </p:nvSpPr>
            <p:spPr>
              <a:xfrm>
                <a:off x="0" y="632592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49" name="Group 187"/>
            <p:cNvGrpSpPr/>
            <p:nvPr/>
          </p:nvGrpSpPr>
          <p:grpSpPr>
            <a:xfrm>
              <a:off x="1762200" y="6325920"/>
              <a:ext cx="2616120" cy="347400"/>
              <a:chOff x="1762200" y="6325920"/>
              <a:chExt cx="2616120" cy="347400"/>
            </a:xfrm>
          </p:grpSpPr>
          <p:sp>
            <p:nvSpPr>
              <p:cNvPr id="950" name="Rectangle 61"/>
              <p:cNvSpPr/>
              <p:nvPr/>
            </p:nvSpPr>
            <p:spPr>
              <a:xfrm>
                <a:off x="197280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1" name="Rectangle 186"/>
              <p:cNvSpPr/>
              <p:nvPr/>
            </p:nvSpPr>
            <p:spPr>
              <a:xfrm>
                <a:off x="176220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189"/>
            <p:cNvGrpSpPr/>
            <p:nvPr/>
          </p:nvGrpSpPr>
          <p:grpSpPr>
            <a:xfrm>
              <a:off x="4379760" y="6325920"/>
              <a:ext cx="1762200" cy="347400"/>
              <a:chOff x="4379760" y="6325920"/>
              <a:chExt cx="1762200" cy="347400"/>
            </a:xfrm>
          </p:grpSpPr>
          <p:sp>
            <p:nvSpPr>
              <p:cNvPr id="953" name="Rectangle 62"/>
              <p:cNvSpPr/>
              <p:nvPr/>
            </p:nvSpPr>
            <p:spPr>
              <a:xfrm>
                <a:off x="4590360" y="632592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29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4" name="Rectangle 188"/>
              <p:cNvSpPr/>
              <p:nvPr/>
            </p:nvSpPr>
            <p:spPr>
              <a:xfrm>
                <a:off x="4379760" y="632592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5" name="Group 191"/>
            <p:cNvGrpSpPr/>
            <p:nvPr/>
          </p:nvGrpSpPr>
          <p:grpSpPr>
            <a:xfrm>
              <a:off x="6143760" y="6325920"/>
              <a:ext cx="2616120" cy="347400"/>
              <a:chOff x="6143760" y="6325920"/>
              <a:chExt cx="2616120" cy="347400"/>
            </a:xfrm>
          </p:grpSpPr>
          <p:sp>
            <p:nvSpPr>
              <p:cNvPr id="956" name="Rectangle 63"/>
              <p:cNvSpPr/>
              <p:nvPr/>
            </p:nvSpPr>
            <p:spPr>
              <a:xfrm>
                <a:off x="6352560" y="632592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4,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7" name="Rectangle 190"/>
              <p:cNvSpPr/>
              <p:nvPr/>
            </p:nvSpPr>
            <p:spPr>
              <a:xfrm>
                <a:off x="6143760" y="632592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Group 193"/>
            <p:cNvGrpSpPr/>
            <p:nvPr/>
          </p:nvGrpSpPr>
          <p:grpSpPr>
            <a:xfrm>
              <a:off x="0" y="6673680"/>
              <a:ext cx="1760760" cy="347400"/>
              <a:chOff x="0" y="6673680"/>
              <a:chExt cx="1760760" cy="347400"/>
            </a:xfrm>
          </p:grpSpPr>
          <p:sp>
            <p:nvSpPr>
              <p:cNvPr id="959" name="Rectangle 64"/>
              <p:cNvSpPr/>
              <p:nvPr/>
            </p:nvSpPr>
            <p:spPr>
              <a:xfrm>
                <a:off x="208800" y="6673680"/>
                <a:ext cx="13424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1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0" name="Rectangle 192"/>
              <p:cNvSpPr/>
              <p:nvPr/>
            </p:nvSpPr>
            <p:spPr>
              <a:xfrm>
                <a:off x="0" y="6673680"/>
                <a:ext cx="176076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1" name="Group 195"/>
            <p:cNvGrpSpPr/>
            <p:nvPr/>
          </p:nvGrpSpPr>
          <p:grpSpPr>
            <a:xfrm>
              <a:off x="1762200" y="6673680"/>
              <a:ext cx="2616120" cy="347400"/>
              <a:chOff x="1762200" y="6673680"/>
              <a:chExt cx="2616120" cy="347400"/>
            </a:xfrm>
          </p:grpSpPr>
          <p:sp>
            <p:nvSpPr>
              <p:cNvPr id="962" name="Rectangle 65"/>
              <p:cNvSpPr/>
              <p:nvPr/>
            </p:nvSpPr>
            <p:spPr>
              <a:xfrm>
                <a:off x="197280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,0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Rectangle 194"/>
              <p:cNvSpPr/>
              <p:nvPr/>
            </p:nvSpPr>
            <p:spPr>
              <a:xfrm>
                <a:off x="176220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Group 197"/>
            <p:cNvGrpSpPr/>
            <p:nvPr/>
          </p:nvGrpSpPr>
          <p:grpSpPr>
            <a:xfrm>
              <a:off x="4379760" y="6673680"/>
              <a:ext cx="1762200" cy="347400"/>
              <a:chOff x="4379760" y="6673680"/>
              <a:chExt cx="1762200" cy="347400"/>
            </a:xfrm>
          </p:grpSpPr>
          <p:sp>
            <p:nvSpPr>
              <p:cNvPr id="965" name="Rectangle 66"/>
              <p:cNvSpPr/>
              <p:nvPr/>
            </p:nvSpPr>
            <p:spPr>
              <a:xfrm>
                <a:off x="4590360" y="6673680"/>
                <a:ext cx="134064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Rectangle 196"/>
              <p:cNvSpPr/>
              <p:nvPr/>
            </p:nvSpPr>
            <p:spPr>
              <a:xfrm>
                <a:off x="4379760" y="6673680"/>
                <a:ext cx="176220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67" name="Group 199"/>
            <p:cNvGrpSpPr/>
            <p:nvPr/>
          </p:nvGrpSpPr>
          <p:grpSpPr>
            <a:xfrm>
              <a:off x="6143760" y="6673680"/>
              <a:ext cx="2616120" cy="347400"/>
              <a:chOff x="6143760" y="6673680"/>
              <a:chExt cx="2616120" cy="347400"/>
            </a:xfrm>
          </p:grpSpPr>
          <p:sp>
            <p:nvSpPr>
              <p:cNvPr id="968" name="Rectangle 67"/>
              <p:cNvSpPr/>
              <p:nvPr/>
            </p:nvSpPr>
            <p:spPr>
              <a:xfrm>
                <a:off x="6352560" y="6673680"/>
                <a:ext cx="2196000" cy="34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7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Rectangle 198"/>
              <p:cNvSpPr/>
              <p:nvPr/>
            </p:nvSpPr>
            <p:spPr>
              <a:xfrm>
                <a:off x="6143760" y="6673680"/>
                <a:ext cx="2616120" cy="347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0" name="Group 201"/>
            <p:cNvGrpSpPr/>
            <p:nvPr/>
          </p:nvGrpSpPr>
          <p:grpSpPr>
            <a:xfrm>
              <a:off x="0" y="7021440"/>
              <a:ext cx="1760760" cy="347760"/>
              <a:chOff x="0" y="7021440"/>
              <a:chExt cx="1760760" cy="347760"/>
            </a:xfrm>
          </p:grpSpPr>
          <p:sp>
            <p:nvSpPr>
              <p:cNvPr id="971" name="Rectangle 68"/>
              <p:cNvSpPr/>
              <p:nvPr/>
            </p:nvSpPr>
            <p:spPr>
              <a:xfrm>
                <a:off x="208800" y="7021440"/>
                <a:ext cx="13424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Rectangle 200"/>
              <p:cNvSpPr/>
              <p:nvPr/>
            </p:nvSpPr>
            <p:spPr>
              <a:xfrm>
                <a:off x="0" y="7021440"/>
                <a:ext cx="176076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3" name="Group 203"/>
            <p:cNvGrpSpPr/>
            <p:nvPr/>
          </p:nvGrpSpPr>
          <p:grpSpPr>
            <a:xfrm>
              <a:off x="1762200" y="7021440"/>
              <a:ext cx="2616120" cy="347760"/>
              <a:chOff x="1762200" y="7021440"/>
              <a:chExt cx="2616120" cy="347760"/>
            </a:xfrm>
          </p:grpSpPr>
          <p:sp>
            <p:nvSpPr>
              <p:cNvPr id="974" name="Rectangle 69"/>
              <p:cNvSpPr/>
              <p:nvPr/>
            </p:nvSpPr>
            <p:spPr>
              <a:xfrm>
                <a:off x="197280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 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Rectangle 202"/>
              <p:cNvSpPr/>
              <p:nvPr/>
            </p:nvSpPr>
            <p:spPr>
              <a:xfrm>
                <a:off x="176220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6" name="Group 205"/>
            <p:cNvGrpSpPr/>
            <p:nvPr/>
          </p:nvGrpSpPr>
          <p:grpSpPr>
            <a:xfrm>
              <a:off x="4379760" y="7021440"/>
              <a:ext cx="1762200" cy="347760"/>
              <a:chOff x="4379760" y="7021440"/>
              <a:chExt cx="1762200" cy="347760"/>
            </a:xfrm>
          </p:grpSpPr>
          <p:sp>
            <p:nvSpPr>
              <p:cNvPr id="977" name="Rectangle 70"/>
              <p:cNvSpPr/>
              <p:nvPr/>
            </p:nvSpPr>
            <p:spPr>
              <a:xfrm>
                <a:off x="4590360" y="7021440"/>
                <a:ext cx="13406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Rectangle 204"/>
              <p:cNvSpPr/>
              <p:nvPr/>
            </p:nvSpPr>
            <p:spPr>
              <a:xfrm>
                <a:off x="4379760" y="7021440"/>
                <a:ext cx="176220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Group 207"/>
            <p:cNvGrpSpPr/>
            <p:nvPr/>
          </p:nvGrpSpPr>
          <p:grpSpPr>
            <a:xfrm>
              <a:off x="6143760" y="7021440"/>
              <a:ext cx="2616120" cy="347760"/>
              <a:chOff x="6143760" y="7021440"/>
              <a:chExt cx="2616120" cy="347760"/>
            </a:xfrm>
          </p:grpSpPr>
          <p:sp>
            <p:nvSpPr>
              <p:cNvPr id="980" name="Rectangle 71"/>
              <p:cNvSpPr/>
              <p:nvPr/>
            </p:nvSpPr>
            <p:spPr>
              <a:xfrm>
                <a:off x="6352560" y="7021440"/>
                <a:ext cx="219600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5,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Rectangle 206"/>
              <p:cNvSpPr/>
              <p:nvPr/>
            </p:nvSpPr>
            <p:spPr>
              <a:xfrm>
                <a:off x="6143760" y="7021440"/>
                <a:ext cx="2616120" cy="347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3" name="Picture 4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488000" cy="4659120"/>
          </a:xfrm>
          <a:prstGeom prst="rect">
            <a:avLst/>
          </a:prstGeom>
          <a:ln w="0">
            <a:noFill/>
          </a:ln>
        </p:spPr>
      </p:pic>
      <p:sp>
        <p:nvSpPr>
          <p:cNvPr id="984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1" name="TextovéPole 10" descr=""/>
          <p:cNvPicPr/>
          <p:nvPr/>
        </p:nvPicPr>
        <p:blipFill>
          <a:blip r:embed="rId2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hady paramet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základní soubor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tatistický 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výběrov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náhodný výb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reprezentativnost výbě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valita výb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prost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s opakováním a bez opakován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oblastní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výběr z každé dílčí části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ystematický náhodný výb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odle pravidla, které nesouvisí se sledovaným znakem, např. sledovaný znak - počet obyvatel obce, seřadit obce podle abecedy a vybrat vždy každou pátou obec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cc66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spolehliv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ormální rozdělení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ý soubor s norm rozdělením (X, 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042920" y="1981080"/>
            <a:ext cx="7415280" cy="7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Obrázek: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Oboustranný test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33560" indent="-1335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1" name="Picture 1" descr="\begin{figure}&#10;\centering&#10;\fbox{\includegraphics[clip, width=\sirka]{eps/g28.eps}}\end{figure}"/>
          <p:cNvPicPr/>
          <p:nvPr/>
        </p:nvPicPr>
        <p:blipFill>
          <a:blip r:embed="rId1"/>
          <a:stretch/>
        </p:blipFill>
        <p:spPr>
          <a:xfrm>
            <a:off x="826920" y="2637000"/>
            <a:ext cx="5832720" cy="4032000"/>
          </a:xfrm>
          <a:prstGeom prst="rect">
            <a:avLst/>
          </a:prstGeom>
          <a:ln w="0">
            <a:noFill/>
          </a:ln>
        </p:spPr>
      </p:pic>
      <p:sp>
        <p:nvSpPr>
          <p:cNvPr id="1002" name="Rectangle 2"/>
          <p:cNvSpPr/>
          <p:nvPr/>
        </p:nvSpPr>
        <p:spPr>
          <a:xfrm>
            <a:off x="4481640" y="-351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vedeme-li výběr o rozsahu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   od x 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j.  v intervalu s krajními bo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x-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 , x+ 1,96 s /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Times New Roman"/>
              </a:rPr>
              <a:t>koeficient spolehlivosti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9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Times New Roman"/>
              </a:rPr>
              <a:t>hladinu významn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= 0,05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4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ze použít intervaly spolehlivosti  např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5 % (μ + - 1,960σ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99 % (μ + - 2,576σ), tj. širší! inte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itickém o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dchylky od průměru  za významn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podmiňuje změna prvku x změnu prvku 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p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tahy teplota a nadm. výš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ážky a odtok v povod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áha a výška člověk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vislost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 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stran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nezávislá hodnot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jednoho stat. soubor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miňuje hodnotu 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druhého stat.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ájemné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lze rozlišit závislo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nezávislou promě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upně závisl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Funkč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 pevno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např.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ffff"/>
                </a:solidFill>
                <a:latin typeface="Times New Roman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ztahy náhodných velič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relač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např. pro určitou  těl výšku existuje více hodnot hmotnosti, které budou mít normální rozdělení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různým výškám odpovídají hmotnosti s normálním rozdělením, ale s různým průměr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. Pro 170 cm existuje norm. rozdělení hmotností o průměru 68 kg, pro 180 cm opět normální rozdělení hmotností s průměrem 76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orelač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ení těsnosti korelační závisl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jak těsný je vztah mezi výškou a hmotností člově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Korela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je druh závislosti mezi prvky dvou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Regresní čár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ňuje graficky tuto  korelační závis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ntervaly a pásy spolehlivosti pro lineární regresní závislos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lem regresní přímky lze sestroj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interval spolehlivost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terý určuje pro vybrané x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. lineární regre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5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27" name="Object 2"/>
          <p:cNvGraphicFramePr/>
          <p:nvPr/>
        </p:nvGraphicFramePr>
        <p:xfrm>
          <a:off x="609480" y="30492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04920"/>
                    <a:ext cx="777240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8458200" cy="5062680"/>
          </a:xfrm>
          <a:prstGeom prst="rect">
            <a:avLst/>
          </a:prstGeom>
          <a:ln w="0">
            <a:noFill/>
          </a:ln>
        </p:spPr>
      </p:pic>
      <p:sp>
        <p:nvSpPr>
          <p:cNvPr id="1030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32" name="Object 2"/>
          <p:cNvGraphicFramePr/>
          <p:nvPr/>
        </p:nvGraphicFramePr>
        <p:xfrm>
          <a:off x="684360" y="476280"/>
          <a:ext cx="7772400" cy="38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7772400" cy="3878280"/>
                  </a:xfrm>
                  <a:prstGeom prst="rect">
                    <a:avLst/>
                  </a:prstGeom>
                  <a:ln w="9360">
                    <a:solidFill>
                      <a:srgbClr val="66ff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34" name="Line 9"/>
          <p:cNvSpPr/>
          <p:nvPr/>
        </p:nvSpPr>
        <p:spPr>
          <a:xfrm flipH="1">
            <a:off x="2556000" y="1916280"/>
            <a:ext cx="4876560" cy="16002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5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í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I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ffffff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Časové řady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Bazické a řetězové  </a:t>
            </a:r>
            <a:br>
              <a:rPr sz="6600"/>
            </a:br>
            <a:r>
              <a:rPr b="0" lang="cs-CZ" sz="6600" spc="-1" strike="noStrike">
                <a:solidFill>
                  <a:srgbClr val="ffcc66"/>
                </a:solidFill>
                <a:latin typeface="Arial"/>
              </a:rPr>
              <a:t>Z - diagram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časová řady – základní poj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cc66"/>
                </a:solidFill>
                <a:latin typeface="Times New Roman"/>
              </a:rPr>
              <a:t>statistick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loupnost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odnot znak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uspořádaných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odle určitého hledis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stická řada upořádaná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dle čas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časová řada=dynamická=chronologická = vývoj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estavování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održovat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ásady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dlouhá časová obdob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 přepočet na „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standardizovaný“ </a:t>
            </a:r>
            <a:r>
              <a:rPr b="0" lang="cs-CZ" sz="2400" spc="-1" strike="noStrike" u="sng">
                <a:solidFill>
                  <a:srgbClr val="ffcc66"/>
                </a:solidFill>
                <a:uFillTx/>
                <a:latin typeface="Times New Roman"/>
              </a:rPr>
              <a:t>měsíc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 se 30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dny, přepočet na  počet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shodný počet pracovních d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v měsíci 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(shodná 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loh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povodí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řád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oku,  administrativní jednot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stejné jednot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1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OKAMŽIKOVÁ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y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znaku k určitému okamžik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Times New Roman"/>
              </a:rPr>
              <a:t>např. počet obyvatel ČR k 31.12.  2000, 2001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časová řada INTERVAL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leduje se hodnota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v intervalu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,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dob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Times New Roman"/>
              </a:rPr>
              <a:t>denní úhrn srážek, průměrná denní teplota, měsíční těžb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ožadavek stejného intervalu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  ekonomických ukazatel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nalýza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cíle analýz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jistit  hlavní rysy průběhu časových řad a analyzovat j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e průběhu  časové řad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tacionární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Times New Roman"/>
              </a:rPr>
              <a:t>s trend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periodickým opakováním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 výkyvů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bo </a:t>
            </a:r>
            <a:r>
              <a:rPr b="1" lang="cs-CZ" sz="3200" spc="-1" strike="noStrike" u="sng">
                <a:solidFill>
                  <a:srgbClr val="ffff00"/>
                </a:solidFill>
                <a:uFillTx/>
                <a:latin typeface="Times New Roman"/>
              </a:rPr>
              <a:t>bez  </a:t>
            </a:r>
            <a:r>
              <a:rPr b="0" lang="cs-CZ" sz="3200" spc="-1" strike="noStrike">
                <a:solidFill>
                  <a:srgbClr val="ffff00"/>
                </a:solidFill>
                <a:latin typeface="Times New Roman"/>
              </a:rPr>
              <a:t>výky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Times New Roman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časových řa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růstk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absolutní přírůstek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zdíl hodnot  po sobě následujících  ( „druhá“ – „ první“)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relativní přírůst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/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7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Řetězové a bazické index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bazický index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,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z  -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vní „ základní „ hodnota časové ř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měny  k jedné základní ( bazické) hodno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řetězový index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koeficient růstu )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/ x </a:t>
            </a:r>
            <a:r>
              <a:rPr b="0" lang="cs-CZ" sz="2800" spc="-1" strike="noStrike" baseline="-25000">
                <a:solidFill>
                  <a:srgbClr val="ffffff"/>
                </a:solidFill>
                <a:latin typeface="Times New Roman"/>
              </a:rPr>
              <a:t>i-1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*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díl v procentech po sobě následujících hodn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měny  např. z měsíce na měsíc“ – řetězení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cc66"/>
                </a:solidFill>
                <a:latin typeface="Arial"/>
              </a:rPr>
              <a:t>Klouzavé úhrn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zvláštní typ součtov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hodné pro porovnávání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dvou či více  řa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hodnot za po 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sobě následující obdob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olísání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ročního chodu sráž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stup viz. např. skripta Brázdil. a kol. str. 1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1053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1054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55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1056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8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1059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0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1061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3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1064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5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1066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8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1069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0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3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1074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75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1076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78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1079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0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1081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3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1084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85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1086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88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1089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0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1091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3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1094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95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1096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8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1099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0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1101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3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1104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05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1106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8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1109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0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1111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3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1114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15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1116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8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1119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0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1121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3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1124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25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1126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28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1129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0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1131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3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1134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35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1136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38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1139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0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1141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3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1144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5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1146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1149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0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1151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1154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55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1156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8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1159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0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1161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3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1164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65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1166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8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1169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0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1171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1174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75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1176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8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1179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0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1181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3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1184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85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1186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8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1189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0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1191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3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1194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95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1196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8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1199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0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1201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3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1204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05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1206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08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1209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0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1211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3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1214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5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1216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18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1219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1221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3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1224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5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1226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8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1229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0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1231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3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1234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35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1236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38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1239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0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1241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3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1244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45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1246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48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1249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1250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1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1252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4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1255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6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1257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9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1260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1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1262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4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1265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6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1267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69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1270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1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1272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4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1275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76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1277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79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1280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1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1282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4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1285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86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1287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89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1290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1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1292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4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1295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96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1297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99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1300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1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1302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4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1305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6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1307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9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1310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11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1312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14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RAFICKÉ ZNÁZORNĚ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běžných hodnot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oučtová čára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řada klouzavých úhrn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společné bod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Z - diagramu( tj. spol. hodno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ýchozí bod součtové č. a řady běžných hodno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slední hodnota součtové čáry a poslední hodnota klouzavého úhrn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1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2" name="Picture 4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3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 - 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ůsobení velkého množství příčin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11280" y="4869000"/>
            <a:ext cx="670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 kvalita vody – chem. složení, emise, produkce odpadů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městnanost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novorozenecká úmrtnost,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HMOTNOST NOVOROZENÝCH DĚ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zatížení osob hlukem…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ffcc66"/>
                </a:solidFill>
                <a:latin typeface="Arial"/>
              </a:rPr>
              <a:t> -  je tak nekonečně dlouhá ……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: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 to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určitý jev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či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ve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, který je předmětem statistického šetření a pro který se zjišťují údaje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ěcného, časového, prostorového.</a:t>
            </a: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 (CO, KDY, K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. jednotka – občan, novorozenec, rodina, dům,, obec,výrobní podnik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je to určitá vlastnost statistické jednotky, kterou se snažíme postihnu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ymezují příslušnost statistické jednotky k určitému statistickému souboru.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oměnlivé (variabilní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shodný znak – novoroze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ff66"/>
                </a:solidFill>
                <a:latin typeface="Arial"/>
              </a:rPr>
              <a:t>proměnlivé znaky – váha, délka, jméno, národnost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5943600" y="0"/>
            <a:ext cx="275436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stat. jednot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ovorozene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místo narození: Br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atum: 30.9.2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ohlaví:mu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národnost:česká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délka v cm: 5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– (např. měř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, zvážením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t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………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..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nepřímo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(výpočtem),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(znaky odvozené)  tj. ………….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457200" y="1523880"/>
            <a:ext cx="84582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kupina statistických jednotek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tejného druhu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 (věcně, prostorově a časově vymezenýc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ffcc66"/>
                </a:solidFill>
                <a:latin typeface="Times New Roman"/>
              </a:rPr>
              <a:t>shodné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identifikační znaky</a:t>
            </a:r>
            <a:r>
              <a:rPr b="0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- 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ledované znaky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 Novorozenci v Č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 novorozen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 váha, živý, pohlav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 a </a:t>
            </a:r>
            <a:r>
              <a:rPr b="1" lang="cs-CZ" sz="2800" spc="-1" strike="noStrike">
                <a:solidFill>
                  <a:srgbClr val="ffcc66"/>
                </a:solidFill>
                <a:latin typeface="Arial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je podmnožinou základního souboru. Je vytvořen ze statistických jednotek, vybraných podle určitého hlediska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Jihomoravském kraj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kud zkoumaný výběr dobře odráží strukturu celého zkoumaného souboru, nazýváme jej reprezentativním výběre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šetře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růzkum volebních výsledků, peopleme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52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0" spc="-1" strike="noStrike" u="sng">
                <a:solidFill>
                  <a:srgbClr val="ffc000"/>
                </a:solidFill>
                <a:uFillTx/>
                <a:latin typeface="Times New Roman"/>
              </a:rPr>
              <a:t>statistik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defini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1131480" indent="-226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ffc000"/>
                </a:solidFill>
                <a:latin typeface="Times New Roman"/>
              </a:rPr>
              <a:t>pojetí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raf – defin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Základní prvk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grafického znázorn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1.Název, příp. podnáze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2.vlastní kres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3.stupnice a  její popis (rovnoměrná,  nerovnoměrn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4.legenda/klí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5.zdroj údaj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světlivky, poznámky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 – ukáz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14" name="Picture 5" descr="G:\STATISTIKA\graf_vyrez_2.GIF"/>
          <p:cNvPicPr/>
          <p:nvPr/>
        </p:nvPicPr>
        <p:blipFill>
          <a:blip r:embed="rId1"/>
          <a:stretch/>
        </p:blipFill>
        <p:spPr>
          <a:xfrm>
            <a:off x="380880" y="990720"/>
            <a:ext cx="8763120" cy="45482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ypy graf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chém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strukturu a vztahy jevu či proc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a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znázorňuje kvantitativní údaje o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loupcový, bodový, plošný at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atistická map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rostorové rozložení prvku v podkladové map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4" descr="C:\Documents and Settings\svatonova\Dokumenty\ZPand Enviro\schema_propojení.gif"/>
          <p:cNvPicPr/>
          <p:nvPr/>
        </p:nvPicPr>
        <p:blipFill>
          <a:blip r:embed="rId1"/>
          <a:stretch/>
        </p:blipFill>
        <p:spPr>
          <a:xfrm>
            <a:off x="1447920" y="2286000"/>
            <a:ext cx="57369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Diagram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1028" descr="C:\Documents and Settings\svatonova\Dokumenty\ZPand Enviro\investice_zp.gif"/>
          <p:cNvPicPr/>
          <p:nvPr/>
        </p:nvPicPr>
        <p:blipFill>
          <a:blip r:embed="rId1"/>
          <a:stretch/>
        </p:blipFill>
        <p:spPr>
          <a:xfrm>
            <a:off x="380880" y="1600200"/>
            <a:ext cx="8058240" cy="52578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Diagram_ - věkové složení obyv., tzv.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457200" y="1371600"/>
            <a:ext cx="8077320" cy="49006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Odchylka od průměrné teploty na Zem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1" name="Zástupný symbol pro obsah 3" descr="140let-teplota.gif"/>
          <p:cNvPicPr/>
          <p:nvPr/>
        </p:nvPicPr>
        <p:blipFill>
          <a:blip r:embed="rId1"/>
          <a:stretch/>
        </p:blipFill>
        <p:spPr>
          <a:xfrm>
            <a:off x="214200" y="1714680"/>
            <a:ext cx="844560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3" name="Zástupný symbol pro obsah 3" descr="jazyk.gif"/>
          <p:cNvPicPr/>
          <p:nvPr/>
        </p:nvPicPr>
        <p:blipFill>
          <a:blip r:embed="rId1"/>
          <a:stretch/>
        </p:blipFill>
        <p:spPr>
          <a:xfrm>
            <a:off x="357120" y="525600"/>
            <a:ext cx="835812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Zástupný symbol pro obsah 3" descr="svet2050.gif"/>
          <p:cNvPicPr/>
          <p:nvPr/>
        </p:nvPicPr>
        <p:blipFill>
          <a:blip r:embed="rId1"/>
          <a:stretch/>
        </p:blipFill>
        <p:spPr>
          <a:xfrm>
            <a:off x="3857760" y="0"/>
            <a:ext cx="5000400" cy="3743280"/>
          </a:xfrm>
          <a:prstGeom prst="rect">
            <a:avLst/>
          </a:prstGeom>
          <a:ln w="0">
            <a:noFill/>
          </a:ln>
        </p:spPr>
      </p:pic>
      <p:pic>
        <p:nvPicPr>
          <p:cNvPr id="236" name="Zástupný symbol pro obsah 3" descr="svet1998.gif"/>
          <p:cNvPicPr/>
          <p:nvPr/>
        </p:nvPicPr>
        <p:blipFill>
          <a:blip r:embed="rId2"/>
          <a:stretch/>
        </p:blipFill>
        <p:spPr>
          <a:xfrm>
            <a:off x="214200" y="3114720"/>
            <a:ext cx="50007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á mapa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4" descr="G:\STATISTIKA\k5.gif"/>
          <p:cNvPicPr/>
          <p:nvPr/>
        </p:nvPicPr>
        <p:blipFill>
          <a:blip r:embed="rId1"/>
          <a:stretch/>
        </p:blipFill>
        <p:spPr>
          <a:xfrm>
            <a:off x="1600200" y="1600200"/>
            <a:ext cx="5315040" cy="46292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ffcc66"/>
                </a:solidFill>
                <a:latin typeface="Arial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č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žď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nterpretaci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hromadných jevů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užití grafických papírů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ři studiu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Graf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snadňuje vynášení prvků do graf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ilimetrov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lologaritmický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dvou sítí – rovnoměrné a logaritmick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avděpodobnostní papí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rovnoměrné a pravděpodobnostní stup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rojúhelníková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půdní dru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ůda A:: 50 % jílu, 25% hlíny, 25%, pís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. Vzdělán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 flipH="1">
            <a:off x="1828800" y="4800600"/>
            <a:ext cx="129528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3124080" y="4800600"/>
            <a:ext cx="121932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1828800" y="640080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955440" y="6248520"/>
            <a:ext cx="58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4310640" y="621360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7"/>
          <p:cNvSpPr/>
          <p:nvPr/>
        </p:nvSpPr>
        <p:spPr>
          <a:xfrm>
            <a:off x="2438280" y="5562720"/>
            <a:ext cx="7632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8"/>
          <p:cNvSpPr/>
          <p:nvPr/>
        </p:nvSpPr>
        <p:spPr>
          <a:xfrm flipH="1">
            <a:off x="3657240" y="5562720"/>
            <a:ext cx="15228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20"/>
          <p:cNvSpPr/>
          <p:nvPr/>
        </p:nvSpPr>
        <p:spPr>
          <a:xfrm flipV="1">
            <a:off x="3124080" y="5943600"/>
            <a:ext cx="3812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21"/>
          <p:cNvSpPr/>
          <p:nvPr/>
        </p:nvSpPr>
        <p:spPr>
          <a:xfrm>
            <a:off x="3352680" y="60199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22"/>
          <p:cNvSpPr/>
          <p:nvPr/>
        </p:nvSpPr>
        <p:spPr>
          <a:xfrm>
            <a:off x="2666880" y="5105520"/>
            <a:ext cx="83844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3276720" y="5562720"/>
            <a:ext cx="35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ítě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ruhová (radiální)  síť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grafické znázorňován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pakujících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jevů, struktury jev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ční chod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tepl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ět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3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ffcc66"/>
                </a:solidFill>
                <a:uFillTx/>
                <a:latin typeface="Arial"/>
              </a:rPr>
              <a:t>statistická mapa</a:t>
            </a: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gram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Kartogram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j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lošně znázorněna statistická dat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grafickými hranice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Arial"/>
              </a:rPr>
              <a:t>geometrickými hranicem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artodiagramy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sou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agramy vložené do mapové kostr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terou tvoří dílčí územní celk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jich údaje se vztahují n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celé území jednotky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kde lež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 rozdíl od metody </a:t>
            </a: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lokalizovaných diagramu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údaj vztahující se k urč. bodu – např. chod roční  srážek  na meteorolog. stanici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artodiagra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pojnicové diagramy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sloupcové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diagramy (sloupce, věkové pyramidy apod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geometrické značk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metody analýzy geografických jevů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enzit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jevu v prostor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značková metoda (velikost značky odpovídá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 bodová metoda (počet prvků….velikost jevů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mi metodami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např. šrafování- hustota obyv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Times New Roman"/>
              </a:rPr>
              <a:t>struktury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jevu v prost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užití výsečových grafů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pouze strukturu vyjádříme výsečovými grafy se stejným polomě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*strukturu a  velikost celku ( výsečový graf + velikost poloměru odp. velikosti jevu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ovéPole 3"/>
          <p:cNvSpPr/>
          <p:nvPr/>
        </p:nvSpPr>
        <p:spPr>
          <a:xfrm>
            <a:off x="1116000" y="595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p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Obdélník 4"/>
          <p:cNvSpPr/>
          <p:nvPr/>
        </p:nvSpPr>
        <p:spPr>
          <a:xfrm>
            <a:off x="1116000" y="5493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Grafické metody analýzy geografick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romadný jev ve statisti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Obdélník 2"/>
          <p:cNvSpPr/>
          <p:nvPr/>
        </p:nvSpPr>
        <p:spPr>
          <a:xfrm>
            <a:off x="539640" y="2708280"/>
            <a:ext cx="6858000" cy="41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tj. jevy, které se vyskytují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nt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kvalitativní formě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voditelné na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íseln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romadné jevy – příkl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u souboru lidí hromadný jev:věk osob, váha, dosažené vzdělání 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…studenti dopíší další příklady ( např. viz. statistické ročenky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Náležitosti statistické map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Obsah mapy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kladní údaje tvoř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Název map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lze i název hlavní a vedlejší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apový rámec 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– „vlastní mapa“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Měřítko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 číselné, grafické nebo slovní form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Legenda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Times New Roman"/>
              </a:rPr>
              <a:t>POZOR na intervaly, na barevnou škál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Autoř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533520" y="533520"/>
            <a:ext cx="8305200" cy="6153840"/>
            <a:chOff x="533520" y="533520"/>
            <a:chExt cx="8305200" cy="6153840"/>
          </a:xfrm>
        </p:grpSpPr>
        <p:sp>
          <p:nvSpPr>
            <p:cNvPr id="288" name="Rectangle 5"/>
            <p:cNvSpPr/>
            <p:nvPr/>
          </p:nvSpPr>
          <p:spPr>
            <a:xfrm>
              <a:off x="533520" y="533520"/>
              <a:ext cx="8305200" cy="608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9" name="Picture 4" descr="KARTOGRAM1"/>
            <p:cNvPicPr/>
            <p:nvPr/>
          </p:nvPicPr>
          <p:blipFill>
            <a:blip r:embed="rId1"/>
            <a:stretch/>
          </p:blipFill>
          <p:spPr>
            <a:xfrm>
              <a:off x="882720" y="1270440"/>
              <a:ext cx="6994440" cy="541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Text Box 7"/>
          <p:cNvSpPr/>
          <p:nvPr/>
        </p:nvSpPr>
        <p:spPr>
          <a:xfrm>
            <a:off x="1143000" y="609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92" name="Picture 3" descr="k5"/>
          <p:cNvPicPr/>
          <p:nvPr/>
        </p:nvPicPr>
        <p:blipFill>
          <a:blip r:embed="rId1"/>
          <a:stretch/>
        </p:blipFill>
        <p:spPr>
          <a:xfrm>
            <a:off x="2195640" y="1150920"/>
            <a:ext cx="6553080" cy="57070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4"/>
          <p:cNvSpPr/>
          <p:nvPr/>
        </p:nvSpPr>
        <p:spPr>
          <a:xfrm>
            <a:off x="11430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94" name="Přímá spojovací šipka 6"/>
          <p:cNvCxnSpPr/>
          <p:nvPr/>
        </p:nvCxnSpPr>
        <p:spPr>
          <a:xfrm flipV="1">
            <a:off x="1403280" y="2636640"/>
            <a:ext cx="3385440" cy="864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5" name="Přímá spojovací šipka 7"/>
          <p:cNvCxnSpPr/>
          <p:nvPr/>
        </p:nvCxnSpPr>
        <p:spPr>
          <a:xfrm flipV="1">
            <a:off x="1267920" y="2997000"/>
            <a:ext cx="4025160" cy="58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6" name="Přímá spojovací šipka 9"/>
          <p:cNvCxnSpPr/>
          <p:nvPr/>
        </p:nvCxnSpPr>
        <p:spPr>
          <a:xfrm>
            <a:off x="1332000" y="3573360"/>
            <a:ext cx="662544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7" name="Přímá spojovací šipka 13"/>
          <p:cNvCxnSpPr/>
          <p:nvPr/>
        </p:nvCxnSpPr>
        <p:spPr>
          <a:xfrm flipV="1">
            <a:off x="1258920" y="2924280"/>
            <a:ext cx="4682160" cy="576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8" name="Přímá spojovací šipka 16"/>
          <p:cNvCxnSpPr/>
          <p:nvPr/>
        </p:nvCxnSpPr>
        <p:spPr>
          <a:xfrm>
            <a:off x="1116000" y="3428640"/>
            <a:ext cx="547272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0" name="Group 6"/>
          <p:cNvGrpSpPr/>
          <p:nvPr/>
        </p:nvGrpSpPr>
        <p:grpSpPr>
          <a:xfrm>
            <a:off x="395280" y="990720"/>
            <a:ext cx="8457840" cy="5866920"/>
            <a:chOff x="395280" y="990720"/>
            <a:chExt cx="8457840" cy="5866920"/>
          </a:xfrm>
        </p:grpSpPr>
        <p:sp>
          <p:nvSpPr>
            <p:cNvPr id="301" name="Rectangle 5"/>
            <p:cNvSpPr/>
            <p:nvPr/>
          </p:nvSpPr>
          <p:spPr>
            <a:xfrm>
              <a:off x="395280" y="990720"/>
              <a:ext cx="8457840" cy="58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2" name="Picture 4" descr="kARTOGRAM2"/>
            <p:cNvPicPr/>
            <p:nvPr/>
          </p:nvPicPr>
          <p:blipFill>
            <a:blip r:embed="rId1"/>
            <a:stretch/>
          </p:blipFill>
          <p:spPr>
            <a:xfrm>
              <a:off x="490320" y="1095120"/>
              <a:ext cx="7980840" cy="565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TextovéPole 5"/>
          <p:cNvSpPr/>
          <p:nvPr/>
        </p:nvSpPr>
        <p:spPr>
          <a:xfrm>
            <a:off x="1042920" y="26028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000"/>
                </a:solidFill>
                <a:latin typeface="Times New Roman"/>
              </a:rPr>
              <a:t>studenti  samostatn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305" name="Group 6"/>
          <p:cNvGrpSpPr/>
          <p:nvPr/>
        </p:nvGrpSpPr>
        <p:grpSpPr>
          <a:xfrm>
            <a:off x="457200" y="914400"/>
            <a:ext cx="7238520" cy="5486040"/>
            <a:chOff x="457200" y="914400"/>
            <a:chExt cx="7238520" cy="5486040"/>
          </a:xfrm>
        </p:grpSpPr>
        <p:sp>
          <p:nvSpPr>
            <p:cNvPr id="306" name="Rectangle 5"/>
            <p:cNvSpPr/>
            <p:nvPr/>
          </p:nvSpPr>
          <p:spPr>
            <a:xfrm>
              <a:off x="457200" y="914400"/>
              <a:ext cx="7238520" cy="548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7" name="Picture 4" descr="KARTOGRAM3"/>
            <p:cNvPicPr/>
            <p:nvPr/>
          </p:nvPicPr>
          <p:blipFill>
            <a:blip r:embed="rId1"/>
            <a:stretch/>
          </p:blipFill>
          <p:spPr>
            <a:xfrm>
              <a:off x="618480" y="1589400"/>
              <a:ext cx="6742800" cy="45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7"/>
          <p:cNvSpPr/>
          <p:nvPr/>
        </p:nvSpPr>
        <p:spPr>
          <a:xfrm>
            <a:off x="1143000" y="30492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Hledejme chyb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6"/>
          <p:cNvGrpSpPr/>
          <p:nvPr/>
        </p:nvGrpSpPr>
        <p:grpSpPr>
          <a:xfrm>
            <a:off x="1835280" y="1125360"/>
            <a:ext cx="6705000" cy="5410080"/>
            <a:chOff x="1835280" y="1125360"/>
            <a:chExt cx="6705000" cy="5410080"/>
          </a:xfrm>
        </p:grpSpPr>
        <p:sp>
          <p:nvSpPr>
            <p:cNvPr id="310" name="Rectangle 5"/>
            <p:cNvSpPr/>
            <p:nvPr/>
          </p:nvSpPr>
          <p:spPr>
            <a:xfrm>
              <a:off x="1835280" y="1125360"/>
              <a:ext cx="6621840" cy="5410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1" name="Picture 4" descr="kompoz9"/>
            <p:cNvPicPr/>
            <p:nvPr/>
          </p:nvPicPr>
          <p:blipFill>
            <a:blip r:embed="rId1"/>
            <a:stretch/>
          </p:blipFill>
          <p:spPr>
            <a:xfrm>
              <a:off x="1946520" y="1219680"/>
              <a:ext cx="6593760" cy="512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Text Box 7"/>
          <p:cNvSpPr/>
          <p:nvPr/>
        </p:nvSpPr>
        <p:spPr>
          <a:xfrm>
            <a:off x="250920" y="549360"/>
            <a:ext cx="31240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Jak byla vymezena st. jednotk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Vel .stupnice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Barevnost?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4" descr="C:\Documents and Settings\svatonova\Dokumenty\STATISTIKA\JARO_07\mapa202.jpg"/>
          <p:cNvPicPr/>
          <p:nvPr/>
        </p:nvPicPr>
        <p:blipFill>
          <a:blip r:embed="rId1"/>
          <a:stretch/>
        </p:blipFill>
        <p:spPr>
          <a:xfrm>
            <a:off x="0" y="757080"/>
            <a:ext cx="884088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4" descr="C:\Documents and Settings\svatonova\Dokumenty\STATISTIKA\JARO_07\mapa306.jpg"/>
          <p:cNvPicPr/>
          <p:nvPr/>
        </p:nvPicPr>
        <p:blipFill>
          <a:blip r:embed="rId1"/>
          <a:stretch/>
        </p:blipFill>
        <p:spPr>
          <a:xfrm>
            <a:off x="0" y="714240"/>
            <a:ext cx="9064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4" descr="C:\Documents and Settings\svatonova\Dokumenty\STATISTIKA\JARO_07\mapa304.jpg"/>
          <p:cNvPicPr/>
          <p:nvPr/>
        </p:nvPicPr>
        <p:blipFill>
          <a:blip r:embed="rId1"/>
          <a:stretch/>
        </p:blipFill>
        <p:spPr>
          <a:xfrm>
            <a:off x="0" y="190440"/>
            <a:ext cx="9753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Izolinie – konstrukce a vlas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linie – čáry, které v grafu spojují body se stejnou intenzitou (velikostí, hodnotou) jev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ískávají se 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todou prostorové interpolace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vynesených do graf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lynulé čá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zobary, izotermy, vrstevnice at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onstrukce izolinie  - 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676520"/>
            <a:ext cx="71625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koumá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hromadné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jev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Zabývá se proměnlivými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variabilními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 vlastnostm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racuje s čís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Používá výpočetní techniku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bsolutní, relativní kumulované 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etnos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počet výskytu určité hodnoty v souboru,                      frekvence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– počty prvků  s určitými  hodnotami statistického znaku, obvykle pro nespojité hodno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kupinové rozdělení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 -  počty prvků s hodnotami statistického znaku, které patří do určitého intervalu, obvykle pro spojité hodno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kupinové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ztřídíme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do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terval – hranice, dolní a horní mez, šířka  (délk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zásad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é hranice pro jednoznačné zařazení prvk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bvyk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stejná šíř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iměřený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če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intervalů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Četn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bsolut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v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lativní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díl četností na rozsahu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kumulovaná četnos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počet jednotek s hodnotami menšími nebo rovny horní hranici interva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kl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1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0%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62"/>
          <p:cNvSpPr/>
          <p:nvPr/>
        </p:nvSpPr>
        <p:spPr>
          <a:xfrm>
            <a:off x="604800" y="422280"/>
            <a:ext cx="48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ukázka – příklad váha 50 novorozenců v JM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rafické znázornění rozdělení četnos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hist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lyg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ára kumulovaných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Hist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loup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šířka sloupce – šířka intervalu, výška sloupce - čet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lygon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– spojnicový diagram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hodnoty četnosti se vynáší ke středům interval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cc66"/>
                </a:solidFill>
                <a:latin typeface="Arial"/>
              </a:rPr>
              <a:t>Čára kumulovaných četností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součtová čára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graf kumulované četnosti, vždy k horní hranici interval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ovéPole 3"/>
          <p:cNvSpPr/>
          <p:nvPr/>
        </p:nvSpPr>
        <p:spPr>
          <a:xfrm>
            <a:off x="2918880" y="47973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náč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histogram – věkové složení obyvatelstva, věková struktura, pyramida život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6" name="Picture 4" descr="G:\STATISTIKA\věk_pyramida_2001.jpg"/>
          <p:cNvPicPr/>
          <p:nvPr/>
        </p:nvPicPr>
        <p:blipFill>
          <a:blip r:embed="rId1"/>
          <a:stretch/>
        </p:blipFill>
        <p:spPr>
          <a:xfrm>
            <a:off x="250920" y="1646280"/>
            <a:ext cx="859140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ka – dva významy - dvě poje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vědní disciplí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cs-CZ" sz="3200" spc="-1" strike="noStrike">
                <a:solidFill>
                  <a:srgbClr val="ffffff"/>
                </a:solidFill>
                <a:latin typeface="Times New Roman"/>
              </a:rPr>
              <a:t>praktická č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ffffff"/>
                </a:solidFill>
                <a:latin typeface="Times New Roman"/>
              </a:rPr>
              <a:t>udělám si statistiku …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9" name="Picture 4" descr="C:\Documents and Settings\svatonova\Dokumenty\STATISTIKA\JARO_06\cviceni_jaro 2006\pyramida_1946.gif"/>
          <p:cNvPicPr/>
          <p:nvPr/>
        </p:nvPicPr>
        <p:blipFill>
          <a:blip r:embed="rId1"/>
          <a:stretch/>
        </p:blipFill>
        <p:spPr>
          <a:xfrm>
            <a:off x="228600" y="0"/>
            <a:ext cx="3290760" cy="3429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C:\Documents and Settings\svatonova\Dokumenty\STATISTIKA\JARO_06\cviceni_jaro 2006\pyramida_2003.gif"/>
          <p:cNvPicPr/>
          <p:nvPr/>
        </p:nvPicPr>
        <p:blipFill>
          <a:blip r:embed="rId2"/>
          <a:stretch/>
        </p:blipFill>
        <p:spPr>
          <a:xfrm>
            <a:off x="3809880" y="152280"/>
            <a:ext cx="5193000" cy="5410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svatonova\Dokumenty\STATISTIKA\JARO_06\cviceni_jaro 2006\pyramida_1985.gif"/>
          <p:cNvPicPr/>
          <p:nvPr/>
        </p:nvPicPr>
        <p:blipFill>
          <a:blip r:embed="rId3"/>
          <a:stretch/>
        </p:blipFill>
        <p:spPr>
          <a:xfrm>
            <a:off x="380880" y="3429000"/>
            <a:ext cx="314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7724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324000" y="0"/>
            <a:ext cx="6858000" cy="66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úrovně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– tzv. 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b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) charakteristiky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symetrie a špičat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Základní statistické charakteristi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cxnSp>
        <p:nvCxnSpPr>
          <p:cNvPr id="360" name="Přímá spojovací šipka 4"/>
          <p:cNvCxnSpPr/>
          <p:nvPr/>
        </p:nvCxnSpPr>
        <p:spPr>
          <a:xfrm flipV="1">
            <a:off x="6084360" y="1341360"/>
            <a:ext cx="1367640" cy="1440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61" name="TextovéPole 5"/>
          <p:cNvSpPr/>
          <p:nvPr/>
        </p:nvSpPr>
        <p:spPr>
          <a:xfrm>
            <a:off x="7451640" y="549360"/>
            <a:ext cx="144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000"/>
                </a:solidFill>
                <a:latin typeface="Times New Roman"/>
              </a:rPr>
              <a:t>Popisná statisti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ísto jednotlivých hodnot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u jednorozměrného statistického souboru používáme   často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třední hodno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řední hodnoty umožňují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rovnávání soubor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hodno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průměr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(+ vážený aritm. průměr, geometrický průměr, harmonický průmě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aritmetický stř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medián a kva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geografický mediá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častěji používaná st.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a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typick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průmě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jedno a více  vrcholová rozdělení četností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typický aritm. průměr – jednovrcholové rozdělení četností + blízký nejčetnější hodnot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ážený aritmetický průmě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i výpočtu množství srážek  v povodí – váha – ploch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klimatologii – výpočet denního průměru teplot ze tří měř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odu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u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- nejčetnější hodnota kvantitativního znaku ve studovaném soubo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ýznamný především u souboru nespojitých velič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ální interval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– interval zahrnující největší počet jednotek, závisí však na stanovení hranic interval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zdělení  s více mody –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lymodální rozděl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statistika popisn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ffffff"/>
                </a:solidFill>
                <a:uFillTx/>
                <a:latin typeface="Times New Roman"/>
              </a:rPr>
              <a:t>matematická statistik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STATISTIKA jako vědní disciplí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Aritmetický stř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Medián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– tzv. </a:t>
            </a:r>
            <a:r>
              <a:rPr b="1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ostřední  hodnota</a:t>
            </a: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to prvek řady uspořádané v neklesajícím pořadí ( od nejm. po největší), který ji dělí na dvě poloviny, které mají menší a větší hodnotu znak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ZOR: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oubor je třeba vždy uspořád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pořadí  prvku (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kolikátý prvek to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 je, hodnota prvku je medián!)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rčují vzorc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 řadu s lichým počtem prvků (n+1)/2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o řadu o sudém počtu je medián průměr z hodnot mezi prvkem na (n/2) a (n/2+1) míst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edián je kvantil dělící soubor na dvě poloviny dle předch. prav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dobn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rtily – na čtvrtiny, 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,  x 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75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y obecně široké použití ve statistice a v geografi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Geografický mediá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Geografický medián je čára dělící plochu, kde se jev vyskytuje tak, aby hodnota jevu byla v obou plochách stej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variabil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rozp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vantilov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é odchylk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pty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měrodatn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ariační koefic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rozpět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=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x</a:t>
            </a:r>
            <a:r>
              <a:rPr b="0" lang="cs-CZ" sz="3200" spc="-1" strike="noStrike" baseline="-25000">
                <a:solidFill>
                  <a:srgbClr val="ffffff"/>
                </a:solidFill>
                <a:latin typeface="Times New Roman"/>
              </a:rPr>
              <a:t>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dnoduchá charakteristi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odléhá extrémním hodnotám, které mohou být i chyba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Průměrn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ůměrná odchylka je definována jako aritmetický průměr odchylek  jednotlivých hodnot znaku od vybrané střední hodnoty (tj. od aritmetického průměru, mediánu, modu apod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Kvantilové odchylk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apř. kvar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ec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rcentilová odchyl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řední difer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. jako aritmetický průměr absolutních hodnot všech možných rozdílů jednotlivých hodnot sledovaného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 praxi vhodná pouze pro malé sou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Rozptyl a směrodatná odchylk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jdůležitější charakteristiky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ptyl s</a:t>
            </a:r>
            <a:r>
              <a:rPr b="1" lang="cs-CZ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0" lang="cs-CZ" sz="3200" spc="-1" strike="noStrike" baseline="30000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směrodatná odchylka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ruhou odmocnina rozptyl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09480" y="2533680"/>
            <a:ext cx="8001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Činnost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tatistická evidence ( např. sběr údajů, třídění, sumarizace apod.), 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, která tuto evidenci provádí (např. ČSÚ, ministerstva aj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- S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uhrn údajů o nějaké skutečnosti (statistika nezaměstnanosti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, ročenka meteorologických pozorování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atd.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Variační koefici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častou používanou relativní mírou vari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o </a:t>
            </a:r>
            <a:r>
              <a:rPr b="1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souměrnosti tvaru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 rozděle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íra šikmosti pro souměrné rozdělení je nu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ro nesouměrné je kladná nebo záporn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asymetri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4" descr="C:\Documents and Settings\svatonova\Dokumenty\Obrázky\as1.bmp"/>
          <p:cNvPicPr/>
          <p:nvPr/>
        </p:nvPicPr>
        <p:blipFill>
          <a:blip r:embed="rId1"/>
          <a:stretch/>
        </p:blipFill>
        <p:spPr>
          <a:xfrm>
            <a:off x="304920" y="1295280"/>
            <a:ext cx="3132000" cy="23655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Documents and Settings\svatonova\Dokumenty\Obrázky\as3_klad.bmp"/>
          <p:cNvPicPr/>
          <p:nvPr/>
        </p:nvPicPr>
        <p:blipFill>
          <a:blip r:embed="rId2"/>
          <a:stretch/>
        </p:blipFill>
        <p:spPr>
          <a:xfrm>
            <a:off x="5943600" y="4191120"/>
            <a:ext cx="3200400" cy="21603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C:\Documents and Settings\svatonova\Dokumenty\Obrázky\as2_zap.bmp"/>
          <p:cNvPicPr/>
          <p:nvPr/>
        </p:nvPicPr>
        <p:blipFill>
          <a:blip r:embed="rId3"/>
          <a:stretch/>
        </p:blipFill>
        <p:spPr>
          <a:xfrm>
            <a:off x="3429000" y="2514600"/>
            <a:ext cx="2925720" cy="2160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1"/>
          <p:cNvSpPr/>
          <p:nvPr/>
        </p:nvSpPr>
        <p:spPr>
          <a:xfrm>
            <a:off x="1523880" y="3429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2"/>
          <p:cNvSpPr/>
          <p:nvPr/>
        </p:nvSpPr>
        <p:spPr>
          <a:xfrm>
            <a:off x="1752480" y="3429000"/>
            <a:ext cx="121932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3"/>
          <p:cNvSpPr/>
          <p:nvPr/>
        </p:nvSpPr>
        <p:spPr>
          <a:xfrm>
            <a:off x="2133720" y="3505320"/>
            <a:ext cx="167616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Charakteristiky špičatosti ( míry špičatosti)  jsou čísla charakterizující koncentraci prvků souboru v blízkosti určité hodnoty znak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charakteristiky špičatos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0" name="Picture 4" descr="C:\Documents and Settings\svatonova\Dokumenty\Obrázky\spicatost.bmp"/>
          <p:cNvPicPr/>
          <p:nvPr/>
        </p:nvPicPr>
        <p:blipFill>
          <a:blip r:embed="rId1"/>
          <a:stretch/>
        </p:blipFill>
        <p:spPr>
          <a:xfrm>
            <a:off x="1143000" y="2057400"/>
            <a:ext cx="4952880" cy="36385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arl Friedrich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Gauss</a:t>
            </a:r>
            <a:br>
              <a:rPr sz="4400"/>
            </a:b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 1777-1855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V GEOGRAF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cc66"/>
                </a:solidFill>
                <a:latin typeface="Arial"/>
              </a:rPr>
              <a:t>Základní pojm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spojitá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náhodná veličina </a:t>
            </a:r>
            <a:r>
              <a:rPr b="0" lang="cs-CZ" sz="2800" spc="-1" strike="noStrike" u="sng">
                <a:solidFill>
                  <a:srgbClr val="ffcc66"/>
                </a:solidFill>
                <a:uFillTx/>
                <a:latin typeface="Times New Roman"/>
              </a:rPr>
              <a:t>nespojitá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Arial"/>
              </a:rPr>
              <a:t>Teoretická rozdělení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histogram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grafické znázornění četnos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zsah souboru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se blíží k  nekonečnu + náhodná veličina je spojit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frekvenční funkce</a:t>
            </a:r>
            <a:r>
              <a:rPr b="0" lang="cs-CZ" sz="3200" spc="-1" strike="noStrike">
                <a:solidFill>
                  <a:srgbClr val="ffcc66"/>
                </a:solidFill>
                <a:latin typeface="Times New Roman"/>
              </a:rPr>
              <a:t> / hustota pravděpodobnos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umulativní relativní četnost tj. součtová čára  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cc66"/>
                </a:solidFill>
                <a:uFillTx/>
                <a:latin typeface="Times New Roman"/>
              </a:rPr>
              <a:t>distribuční funkce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Arial"/>
              </a:rPr>
              <a:t>Normální rozdělení / Gaussovo, Laplaceovo- Gaussovo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Picture 6" descr="C:\Documents and Settings\svatonova\Dokumenty\STATISTIKA\JARO_07\180px-Normalni_rozdeleni_hustota_svg.png"/>
          <p:cNvPicPr/>
          <p:nvPr/>
        </p:nvPicPr>
        <p:blipFill>
          <a:blip r:embed="rId1"/>
          <a:stretch/>
        </p:blipFill>
        <p:spPr>
          <a:xfrm>
            <a:off x="2268360" y="4437000"/>
            <a:ext cx="35244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9T08:51:18Z</dcterms:modified>
  <cp:revision>114</cp:revision>
  <dc:subject/>
  <dc:title>Prezentace aplikace PowerPoint</dc:title>
</cp:coreProperties>
</file>