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31FA-FD2B-43BD-B92A-ABF30F7D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274D-F8AD-4663-A729-6B9B063D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A584-62E2-4A4F-8F72-92B3CCAE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FDE-A2BF-4461-921F-D9378354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9B14-54B6-4E13-92F4-EF65B19A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D45-5568-4930-9500-7F735892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5FC9-1031-49F8-9F52-5191AB25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33E-AC32-402D-BB84-CC3C6206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31F-12FB-41DB-805C-0DCCB8FD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F38-0035-499D-97E9-42619A51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7C51-B946-4BA0-A74C-2D18A5D4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C8B-CCF8-40DB-9668-59B99678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6F27-0EA9-4F93-9378-A80DF9028E8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6200" y="496800"/>
            <a:ext cx="8372520" cy="573300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pembův  j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cs-CZ" sz="2000" spc="-1" strike="noStrike">
                <a:solidFill>
                  <a:srgbClr val="000000"/>
                </a:solidFill>
                <a:latin typeface="Monotype Corsiva"/>
              </a:rPr>
              <a:t>Navrátil Vladislav, Jenišová Dag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. Úv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Historie Mpembova je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rasto Mpemba – Tanzá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mrzlina“ – mléko + cuk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r. Osborne (Univ. Dar es Sal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ž staří Řekové“, polévání kluziš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laboratorních podmínkách potvrzeno i nepotvrz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ybí přesné údaje o experimentálních podmínk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9120" y="47628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mrzlina s tvarohem (Míš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9120" y="568440"/>
            <a:ext cx="80852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x převařená destilovaná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423720"/>
            <a:ext cx="8353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0,05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7840" y="496800"/>
            <a:ext cx="8084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1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5684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2 wt.%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7840" y="56844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5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7840" y="49680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10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76200" y="496800"/>
            <a:ext cx="8299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5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404640"/>
            <a:ext cx="801396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12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337520" cy="40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76200" y="423720"/>
            <a:ext cx="8443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19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33716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47840" y="496800"/>
            <a:ext cx="8084880" cy="609984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. Možná teoretická vysvět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Různá rychlost proud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Chemické slož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měna mikrostruktury (klastr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echlazení kapal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enší množství teplejší kapaliny (vypařování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rotavení teplejší kapaliny do ledem pokryté podlož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.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plotní čidlo GMH (+ software GSOFT 30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razn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ystyrénová podlož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ě stejné plastové nádob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zné kapaliny (destilovaná voda, studniční vo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zně koncentrované roztoky NaCl a kyseliny askorbové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léko, mléko s cukrem, zmrzlina,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7840" y="49680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38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47840" y="496800"/>
            <a:ext cx="8227800" cy="5886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5. 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pembův jev nebyl pozorován ani na jedi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 proměřených kapa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edná se tedy zřejmě o fyzikální jev v prav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 smys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á vysvětle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otavení nádobky s teplejší kapal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ledu na dně mraznič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menší množství teplejší kapaliny ve srov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kapalinou chladnější (dokázali jsme, 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čí rozdíl v hmotnosti cca 10 wt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19120" y="639720"/>
            <a:ext cx="7940520" cy="54889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Děkujeme  za 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7840" y="568440"/>
            <a:ext cx="8227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tilovaná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7840" y="5684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niční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568440"/>
            <a:ext cx="8353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dní roztok kyseliny askorbové (5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7840" y="568440"/>
            <a:ext cx="8227800" cy="5580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éko neslaz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léko oslazené (10 wt.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7840" y="496800"/>
            <a:ext cx="8227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léko silně oslazené (30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47840" y="4046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ská zmrzl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20:25:11Z</dcterms:created>
  <dc:creator>Vladislav Navrátil</dc:creator>
  <dc:description/>
  <dc:language>en-US</dc:language>
  <cp:lastModifiedBy>Vladislav Navrátil</cp:lastModifiedBy>
  <dcterms:modified xsi:type="dcterms:W3CDTF">2012-09-16T17:29:47Z</dcterms:modified>
  <cp:revision>25</cp:revision>
  <dc:subject/>
  <dc:title>Snímek 1</dc:title>
</cp:coreProperties>
</file>