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9.png" ContentType="image/pn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5.png" ContentType="image/pn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A115-26F7-4D11-9D0F-652F64A14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1B47-BD76-47CF-AE59-27DFB36CC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C4F7-15A6-4180-A628-98FA13286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4062-3E56-4A6C-83F5-EE58EBC65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AA33-C8CF-4F4A-8DFB-8189FA02B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30E7-C7D7-4E31-BBEC-4A8241E57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8299-485A-4865-9208-73C8156CA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12AB-0CCB-42D1-9F03-5D04C949A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921E-E08C-4BAB-B91A-86E0D3262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764D-81AA-43A4-9032-8EB2BF23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758C-01AB-4BB7-8425-485E08E7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688B-8E16-4B26-A053-F900ABD8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E8C2-EC09-4FE9-98A8-475F752686E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tm.ch.cam.ac.uk/tour/atmosphere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atm.ch.cam.ac.uk/tour/tour_images/total_ozone.gif" TargetMode="Externa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447840" y="496800"/>
            <a:ext cx="8300880" cy="597672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Ozonová díra a lidské zdra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1. Oz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duch: 21% 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Ozon 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ilný oxid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roposféra-polu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luneční záření, N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ratosféra (9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štít proti UV zářen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obrázek 322" descr="http://www.theozonehole.com/images/Bonds.jpg"/>
          <p:cNvPicPr/>
          <p:nvPr/>
        </p:nvPicPr>
        <p:blipFill>
          <a:blip r:embed="rId1"/>
          <a:stretch/>
        </p:blipFill>
        <p:spPr>
          <a:xfrm>
            <a:off x="3995640" y="1989000"/>
            <a:ext cx="3791160" cy="37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447840" y="496800"/>
            <a:ext cx="8011800" cy="585468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1" descr="Map of total ozone over the antarctic on October 4, 2004 with the area under 200 Dobson Units highlighted"/>
          <p:cNvPicPr/>
          <p:nvPr/>
        </p:nvPicPr>
        <p:blipFill>
          <a:blip r:embed="rId1"/>
          <a:stretch/>
        </p:blipFill>
        <p:spPr>
          <a:xfrm>
            <a:off x="2268360" y="836640"/>
            <a:ext cx="4927680" cy="5324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324000" y="682560"/>
            <a:ext cx="8424720" cy="579240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obrázek 224" descr="http://www.atm.ch.cam.ac.uk/tour/tour_images/oct_ozone.gif"/>
          <p:cNvPicPr/>
          <p:nvPr/>
        </p:nvPicPr>
        <p:blipFill>
          <a:blip r:embed="rId1"/>
          <a:stretch/>
        </p:blipFill>
        <p:spPr>
          <a:xfrm>
            <a:off x="755640" y="1341360"/>
            <a:ext cx="7601040" cy="39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376200" y="352440"/>
            <a:ext cx="8372520" cy="585468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lastnosti freonů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extremálně chemicky stabilní, v troposféře až v100 let (průhledný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luneční záření, ve vodě nerozpustný, neoxiduj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mohou dosáhnout stratosféry a tam za působení UV záření dochází 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atalytické řetězové reak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l + 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ClO + 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lO + O 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Cl + 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aždý atom Cl „zničí“ asi 100 000 molekul 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 „řádí“ ve stratosféř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ca 2 ro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e stratosféry může odejít tak, že ClO vytvoří s N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itrát chloru ClON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en se ale může opět rozložit na volný chlór a dále škod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alší možnost: Cl + CH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znikne HCl a ta je dobře rozpustná ve vod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735120" y="712800"/>
            <a:ext cx="7724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obrázek 304" descr="http://upload.wikimedia.org/wikipedia/commons/thumb/d/d5/Sources_of_stratospheric_chlorine.png/280px-Sources_of_stratospheric_chlorine.png"/>
          <p:cNvPicPr/>
          <p:nvPr/>
        </p:nvPicPr>
        <p:blipFill>
          <a:blip r:embed="rId1"/>
          <a:stretch/>
        </p:blipFill>
        <p:spPr>
          <a:xfrm>
            <a:off x="2340000" y="1197000"/>
            <a:ext cx="4728960" cy="444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7" name="Text Box 6"/>
          <p:cNvSpPr/>
          <p:nvPr/>
        </p:nvSpPr>
        <p:spPr>
          <a:xfrm>
            <a:off x="519120" y="639720"/>
            <a:ext cx="8229600" cy="558036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obrázek 304" descr="http://upload.wikimedia.org/wikipedia/commons/thumb/d/d5/Sources_of_stratospheric_chlorine.png/280px-Sources_of_stratospheric_chlorine.png"/>
          <p:cNvPicPr/>
          <p:nvPr/>
        </p:nvPicPr>
        <p:blipFill>
          <a:blip r:embed="rId2"/>
          <a:stretch/>
        </p:blipFill>
        <p:spPr>
          <a:xfrm>
            <a:off x="2268360" y="1125360"/>
            <a:ext cx="5002560" cy="4699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663480" y="189000"/>
            <a:ext cx="7940880" cy="643392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5. Polární stratosférické mra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zorovány před cca 100 lety ve výšce asi 20 km nad polární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lastmi (jsou 10 – 100 km dlouhé a několik km tlusté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ormují se v zimě, kdy se zejména nad Antarktidou vytvoří tz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olární vír 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zolovaná masa chladného vzduchu, která teplo vyzařuj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le nepřijímá (Slunce ji neohřívá). Teplota je velmi nízká, cca -80 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chází ke složitým chemickým reakcím, které mají za následek vzn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zonové díry právě nad jižním pólem(nad severním též, ale v menší míře)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obrázek 2" descr="Photograph of a polar stratospheric cloud"/>
          <p:cNvPicPr/>
          <p:nvPr/>
        </p:nvPicPr>
        <p:blipFill>
          <a:blip r:embed="rId1"/>
          <a:stretch/>
        </p:blipFill>
        <p:spPr>
          <a:xfrm>
            <a:off x="2124000" y="3213000"/>
            <a:ext cx="492300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376200" y="352440"/>
            <a:ext cx="8372520" cy="612900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2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2050920" y="620640"/>
            <a:ext cx="5229360" cy="5668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468360" y="639720"/>
            <a:ext cx="8136000" cy="567216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6. Ozonová díra a lidské zdra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 roku 1975 dramaticky narůstá výskyt rakoviny kůže zejmé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Austrálii (ale i v USA a Evropě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% poklesu koncentrace ozonu způsobí vzrůst UVB o 1 – 2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každé procento UVB záření vzrůstá výskyt rakoviny kůže o cca 2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 roku 1970 poklesla koncentrace ozonu cca o 10%, což by mě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 následek nárůst případů rakoviny kůže o cca 20 – 40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kutečný nárůst byl ale 90%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řejmě se uplatňují i jiné faktory (delší průměrný věk, apod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akovina kůže se vyvíjí i více než 10 l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7. Závěr (doporu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Neopalovat se na prudkém slun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Nosit i v létě lehké oblečení a pokrývku hla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Používat ochranné kré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Sledovat zprávy o stavu ozonové vrstv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519120" y="568440"/>
            <a:ext cx="7869240" cy="585468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1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547640" y="1052640"/>
            <a:ext cx="5689800" cy="4910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447840" y="496800"/>
            <a:ext cx="8011800" cy="585468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obrázek 3" descr="http://www.atm.ch.cam.ac.uk/tour/tour_images/atmosphere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1557360"/>
            <a:ext cx="6635880" cy="3816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Ozonová vrstva - náčrt"/>
          <p:cNvPicPr/>
          <p:nvPr/>
        </p:nvPicPr>
        <p:blipFill>
          <a:blip r:embed="rId1"/>
          <a:stretch/>
        </p:blipFill>
        <p:spPr>
          <a:xfrm>
            <a:off x="1692360" y="1125360"/>
            <a:ext cx="5761080" cy="49690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684360" y="549360"/>
            <a:ext cx="8011800" cy="585468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Ozonová vrstva - náčrt"/>
          <p:cNvPicPr/>
          <p:nvPr/>
        </p:nvPicPr>
        <p:blipFill>
          <a:blip r:embed="rId2"/>
          <a:stretch/>
        </p:blipFill>
        <p:spPr>
          <a:xfrm>
            <a:off x="1835280" y="981000"/>
            <a:ext cx="5761080" cy="4969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592200" y="639720"/>
            <a:ext cx="7867440" cy="558036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obrázek 323" descr="http://www.theozonehole.com/images/uv_abc.gif"/>
          <p:cNvPicPr/>
          <p:nvPr/>
        </p:nvPicPr>
        <p:blipFill>
          <a:blip r:embed="rId1"/>
          <a:stretch/>
        </p:blipFill>
        <p:spPr>
          <a:xfrm>
            <a:off x="1692360" y="1052640"/>
            <a:ext cx="5668920" cy="4859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539640" y="549360"/>
            <a:ext cx="8156520" cy="588528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2. Vznik ozonu ve stratosféř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áření UVA, UVB, U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0,1 – 0,4 m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V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O + O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 + 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chrana před UV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UVA dopadne na Zem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326" descr="http://www.theozonehole.com/images/ozone.37.jpg"/>
          <p:cNvPicPr/>
          <p:nvPr/>
        </p:nvPicPr>
        <p:blipFill>
          <a:blip r:embed="rId1"/>
          <a:stretch/>
        </p:blipFill>
        <p:spPr>
          <a:xfrm>
            <a:off x="3419640" y="2133720"/>
            <a:ext cx="4735440" cy="3706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519120" y="496800"/>
            <a:ext cx="8085240" cy="585468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329" descr="http://www.theozonehole.com/images/ozone.38.jpg"/>
          <p:cNvPicPr/>
          <p:nvPr/>
        </p:nvPicPr>
        <p:blipFill>
          <a:blip r:embed="rId1"/>
          <a:stretch/>
        </p:blipFill>
        <p:spPr>
          <a:xfrm>
            <a:off x="2050920" y="765000"/>
            <a:ext cx="4930920" cy="5369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447840" y="423720"/>
            <a:ext cx="8300880" cy="600768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3. Měření koncentrace ozo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 roku 1920 (Dobsonův UV spektromet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 DU odpovídá koncentraci 1ppb 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mocí satelitů od r. 19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4. Ozonová dí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prvé pozorována 1985 (Britská expedice v Antarktidě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yní pokrývá celou Antarktidu s přilehlými oblastmi (část Patagoni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loha 26 milionů km2 (zatím největší byla v letech 2000-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 porovnání: Rozloha Afriky je cca 30 milionů k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6 září – den ozonu (16.9.1987 – podepsán Montrealský protok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 ochraně ozonové vrstv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činy vzniku ozonové díry: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reony (chlorofluorokarbony CFCs) – M. Molina a F.S. Row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hnací plyn ve sprayích, ledničky, atd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250920" y="260280"/>
            <a:ext cx="8713800" cy="640332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obrázek 4" descr="http://www.atm.ch.cam.ac.uk/tour/tour_images/total_ozone.s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773360"/>
            <a:ext cx="2263680" cy="3133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9" name="obrázek 362" descr="http://home.tiscali.cz/polarsection/Recovery.gif"/>
          <p:cNvPicPr/>
          <p:nvPr/>
        </p:nvPicPr>
        <p:blipFill>
          <a:blip r:embed="rId3"/>
          <a:stretch/>
        </p:blipFill>
        <p:spPr>
          <a:xfrm>
            <a:off x="2843280" y="1341360"/>
            <a:ext cx="5762520" cy="4038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3T18:52:29Z</dcterms:created>
  <dc:creator>Vladislav Navrátil</dc:creator>
  <dc:description/>
  <dc:language>en-US</dc:language>
  <cp:lastModifiedBy>Vladislav Navrátil</cp:lastModifiedBy>
  <dcterms:modified xsi:type="dcterms:W3CDTF">2012-09-16T17:22:43Z</dcterms:modified>
  <cp:revision>21</cp:revision>
  <dc:subject/>
  <dc:title>Snímek 1</dc:title>
</cp:coreProperties>
</file>