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ADE-FA1C-4E23-871D-5924D5A4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42E-7BE9-4A00-85F6-EBBAB7D8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4FF-0151-4C59-9F66-4C0185B4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D0E-EE50-4D58-8C5E-96F913DA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FEA-6D5D-4E0F-B6E2-BE6D9BAA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E40-C44D-4226-880F-54964FEC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1DB-EAB4-4A7D-BB09-93076963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7BE-B28F-47F1-87BA-030990DE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D56-5586-4C32-BE00-1BDBD2ED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67B-11E6-4F89-A18E-8037CA53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CAA-10E7-4981-8BEC-7FFA51EC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3C8-97C1-4C4D-BE2F-9D5EFF6F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DC50-1D63-43CC-B706-ACC57E7350B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V2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VA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VRAK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V6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V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V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V10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V1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V1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VA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VA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VA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VA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VA5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Vladislav Navrátil</cp:lastModifiedBy>
  <dcterms:modified xsi:type="dcterms:W3CDTF">2013-11-30T19:00:13Z</dcterms:modified>
  <cp:revision>6</cp:revision>
  <dc:subject/>
  <dc:title>Snímek 1</dc:title>
</cp:coreProperties>
</file>