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5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5CF-2083-4616-B435-D7A7194B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ABD-FB6D-427B-8AE1-386ABEC2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C7B-A4F6-409B-8ABA-5DE461CA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31D-A2C2-4623-BF36-F35C15A2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39F-383F-4301-8F53-7019963C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6B2-69BF-43EE-9CD5-AD645EBE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A14-A0A0-4BE9-BE1B-C7647245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E07-96F7-4326-A69F-4B3DF2C2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EFF-59AD-47A2-98E1-6943F26B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2A3-C115-46F5-90E5-D73A64BB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656-F409-4F57-BFF6-BCC945E0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27B-41E7-45A9-B142-6317032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2496-DEFD-4E4C-A683-5F2966AC88C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712800"/>
            <a:ext cx="7869240" cy="5609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anotechnologie,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draví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Vladislav  Na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je vědní obor, který se zabývá cíle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m a využíváním struktur materiálů v měří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a nanometrů alespoň v jednom směru (0,1-1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rukčními prvky jsou molekuly a dokonce i 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68440"/>
            <a:ext cx="7867440" cy="5762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4. Příklady využití nano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1. Nanobiosen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ělý n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(8 „nosníků“, délka 5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řka 1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tloušťka 500 nm, rozteč 25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eriál: Si, potažený Ti a 20 nm vrstvičkou Au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lak spec. polyme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enzor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859280" y="3429000"/>
            <a:ext cx="31496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09080" cy="61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bakterií, virů a plísní (pomocí nanodrátů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rus měnívod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plynů pomocí nanotr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mechanická pe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elký Youngův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elektrická a tepel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ízká hus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ýznamné elektrokataly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biosen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notr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258920" y="1916280"/>
            <a:ext cx="34005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3480" y="260280"/>
            <a:ext cx="7653600" cy="6311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vantové tečky (klastry atomů CdSe, CdT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iologický výzkum molek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částice Si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adná vazba na nukleové kyseli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kc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ění molek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600800" cy="412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2200" y="568440"/>
            <a:ext cx="815652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uler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pětiúhe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20 šes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siče léků, možnost léčby HI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bakteriální účinky, po při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, K, Cs apod. mo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ravodivosti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ful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755640" y="1413000"/>
            <a:ext cx="4311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7840" y="423720"/>
            <a:ext cx="8227800" cy="6037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rob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ový princip spalovacích moto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 + 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O + Energie    MeO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Energ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51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568440"/>
            <a:ext cx="7940520" cy="585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57328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5768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3500280"/>
            <a:ext cx="2235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219640" y="3429000"/>
            <a:ext cx="2192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260280"/>
            <a:ext cx="7940520" cy="631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5. Nano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rubice – umělé svaly a nervy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hydroxyapatitu C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u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antáty, kost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Ag, A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– již staří Římané stoloval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bře, koloidní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če léků – fulerény, smektické tekuté krys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K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419640" y="4076640"/>
            <a:ext cx="2666880" cy="233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9120" y="568440"/>
            <a:ext cx="8085240" cy="5732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6.1. Nanotechnologie a léčba rak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é způsoby léčby rakov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chirurgic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di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enotoxická chem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spektivní způs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terapie (umožněna pokrokem v molekul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i, genetice a imunolog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umožní v blízké budou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at nádor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in vivo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ovat léky pří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nádoru a plně pochopit mechanismus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kov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568440"/>
            <a:ext cx="8085240" cy="5549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7. 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ozvoj nanotechnologií – další kvalit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ce v lidském poznávání, mno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aznější, než používání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lývání vědních oblastí (fyzika + chemie+bi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rozvoj nových interdiscipliárních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organizace školního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 + ch + b =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461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63972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404640"/>
            <a:ext cx="7147080" cy="357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a1004481" descr="Obr. 1."/>
          <p:cNvPicPr/>
          <p:nvPr/>
        </p:nvPicPr>
        <p:blipFill>
          <a:blip r:embed="rId2"/>
          <a:stretch/>
        </p:blipFill>
        <p:spPr>
          <a:xfrm>
            <a:off x="1116000" y="4149720"/>
            <a:ext cx="6686640" cy="215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chard Feynman: „There is plenty room at the botto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Californian Institut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. Nano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optika (nanofot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bio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medic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495440" cy="198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3120" y="352440"/>
            <a:ext cx="837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88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56844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360" y="1095480"/>
            <a:ext cx="8963280" cy="46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496800"/>
            <a:ext cx="77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8040" y="909720"/>
            <a:ext cx="8467920" cy="50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496800"/>
            <a:ext cx="808524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Nano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UV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ovrchová plazmov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M (Scaning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M (Transmission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 (Electron Tomogra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M (Scanning Prob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tg diagnostická tom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omografická scint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RI (Magnetic Resonance Ima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Hmotová spektrome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6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FM (Atomic Forc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antilever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55640" y="2492280"/>
            <a:ext cx="3630600" cy="22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kantik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2492280"/>
            <a:ext cx="3714840" cy="225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44:48Z</dcterms:created>
  <dc:creator>Vladislav Navrátil</dc:creator>
  <dc:description/>
  <dc:language>en-US</dc:language>
  <cp:lastModifiedBy>Vladislav Navrátil</cp:lastModifiedBy>
  <dcterms:modified xsi:type="dcterms:W3CDTF">2012-09-16T17:30:01Z</dcterms:modified>
  <cp:revision>36</cp:revision>
  <dc:subject/>
  <dc:title>Snímek 1</dc:title>
</cp:coreProperties>
</file>