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5.gif" ContentType="image/gif"/>
  <Override PartName="/ppt/media/image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1625-5BE8-4EB9-95BE-E053BA98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D5A0-1E37-4E41-9DD0-FF02405F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EFE5-197C-4932-81E9-BAF78100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2EAE-EA57-4223-BCC3-27407C9A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C57C-8DFA-498C-A8C1-3DF03F76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ED52-1446-47AA-AE36-5C24A45D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1742-EB35-4F90-856B-8D6C1607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5F28-9925-4F30-B787-9D82D143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CF58-5C80-41B7-A233-1E280C46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775-EA22-48DD-9CFE-A8226E98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7106-99BD-4DB2-BA94-5EB254D9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86C3-370E-4E85-BAA5-553B6458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3A08-D554-4A5B-AD22-4F411A00B96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3480" y="712800"/>
            <a:ext cx="7869240" cy="5609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Nanotechnologie,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draví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a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Monotype Corsiva"/>
              </a:rPr>
              <a:t>Vladislav  Navrá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Úv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echnologie je vědní obor, který se zabývá cílený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tvářením a využíváním struktur materiálů v měřít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kolika nanometrů alespoň v jednom směru (0,1-100 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strukčními prvky jsou molekuly a dokonce i a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92200" y="568440"/>
            <a:ext cx="7867440" cy="57621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4. Příklady využití nanotechnolo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1. Nanobiosenz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„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Umělý no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 (8 „nosníků“, délka 50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šířka 10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, tloušťka 500 nm, rozteč 25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teriál: Si, potažený Ti a 20 nm vrstvičkou Au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vlak spec. polymer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senzor" descr="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4859280" y="3429000"/>
            <a:ext cx="3149640" cy="222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333360"/>
            <a:ext cx="8209080" cy="6129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detekce bakterií, virů a plísní (pomocí nanodrátů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irus měnívodiv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detekce plynů pomocí nanotru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ysoká mechanická pe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elký Youngův modul pruž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ysoká elektrická a tepel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di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nízká hust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ýznamné elektrokataly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biosenz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nanotr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258920" y="1916280"/>
            <a:ext cx="3400560" cy="41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63480" y="260280"/>
            <a:ext cx="7653600" cy="6311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kvantové tečky (klastry atomů CdSe, CdTe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biologický výzkum molek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anočástice SiO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nadná vazba na nukleové kyselin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kce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řídění molek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635280" y="2421000"/>
            <a:ext cx="4600800" cy="4124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92200" y="568440"/>
            <a:ext cx="815652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uleré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 pětiúhelní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20 šestiúheln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nosiče léků, možnost léčby HIV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tibakteriální účinky, po při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, K, Cs apod. mož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pravodivosti,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ful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755640" y="1413000"/>
            <a:ext cx="431172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47840" y="423720"/>
            <a:ext cx="8227800" cy="6037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anorob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ový princip spalovacích motor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Me + O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O + Energie    MeO + H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+ Energi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 + H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03640" y="981000"/>
            <a:ext cx="35161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19120" y="568440"/>
            <a:ext cx="7940520" cy="5854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2573280" cy="174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03640" y="692280"/>
            <a:ext cx="2857680" cy="2352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1547640" y="3500280"/>
            <a:ext cx="2235240" cy="2068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5219640" y="3429000"/>
            <a:ext cx="21924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19120" y="260280"/>
            <a:ext cx="7940520" cy="63115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5. Nanomedic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rubice – umělé svaly a nervy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částice hydroxyapatitu Ca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PO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OH)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zub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lantáty, kosti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částice Ag, Ag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 – již staří Římané stolovali 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íbře, koloidní stří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siče léků – fulerény, smektické tekuté krys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K1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3419640" y="4076640"/>
            <a:ext cx="2666880" cy="2333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19120" y="568440"/>
            <a:ext cx="8085240" cy="57326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6.1. Nanotechnologie a léčba rakov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časné způsoby léčby rakov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chirurgická léč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adi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genotoxická chem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erspektivní způso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terapie (umožněna pokrokem v molekulár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logii, genetice a imunolog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echnologie umožní v blízké budouc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edovat nádor </a:t>
            </a:r>
            <a:r>
              <a:rPr b="0" lang="cs-CZ" sz="2400" spc="-1" strike="noStrike">
                <a:solidFill>
                  <a:srgbClr val="000000"/>
                </a:solidFill>
                <a:latin typeface="Monotype Corsiva"/>
              </a:rPr>
              <a:t>in vivo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pravovat léky pří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 nádoru a plně pochopit mechanismus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akov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19120" y="568440"/>
            <a:ext cx="8085240" cy="5549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7. Záv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ozvoj nanotechnologií – další kvalita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voluce v lidském poznávání, mno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raznější, než používání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plývání vědních oblastí (fyzika + chemie+biolog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rozvoj nových interdiscipliárních vě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eorganizace školního vzdělává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 + ch + b = SCI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9120" y="568440"/>
            <a:ext cx="8085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48720" cy="4615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9120" y="639720"/>
            <a:ext cx="801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900000" y="404640"/>
            <a:ext cx="7147080" cy="3575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6" name="a1004481" descr="Obr. 1."/>
          <p:cNvPicPr/>
          <p:nvPr/>
        </p:nvPicPr>
        <p:blipFill>
          <a:blip r:embed="rId2"/>
          <a:stretch/>
        </p:blipFill>
        <p:spPr>
          <a:xfrm>
            <a:off x="1116000" y="4149720"/>
            <a:ext cx="6686640" cy="215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549360"/>
            <a:ext cx="8136000" cy="59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ichard Feynman: „There is plenty room at the bottom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 Californian Institute of Techn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. Nanotech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che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elektro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optika (nanofoton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biotech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medic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1495440" cy="198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3120" y="352440"/>
            <a:ext cx="8372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05440" cy="5880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19120" y="568440"/>
            <a:ext cx="801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360" y="1095480"/>
            <a:ext cx="8963280" cy="466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9120" y="496800"/>
            <a:ext cx="772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38040" y="909720"/>
            <a:ext cx="8467920" cy="5038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9120" y="496800"/>
            <a:ext cx="8085240" cy="59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. Nanopří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luorescenční mikrosk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luorescenční UV mikrosk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Povrchová plazmov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amanova spektrosk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EM (Scaning Electron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EM (Transmission Electron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ET (Electron Tomograph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PM (Scanning Probe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tg diagnostická tomogra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omografická scinti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MRI (Magnetic Resonance Ima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Hmotová spektrometr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9120" y="568440"/>
            <a:ext cx="8085240" cy="5671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AFM (Atomic Force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kantilever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755640" y="2492280"/>
            <a:ext cx="3630600" cy="223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kantik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43280" y="2492280"/>
            <a:ext cx="3714840" cy="225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8:44:48Z</dcterms:created>
  <dc:creator>Vladislav Navrátil</dc:creator>
  <dc:description/>
  <dc:language>en-US</dc:language>
  <cp:lastModifiedBy>Vladislav Navrátil</cp:lastModifiedBy>
  <dcterms:modified xsi:type="dcterms:W3CDTF">2012-09-16T17:30:01Z</dcterms:modified>
  <cp:revision>36</cp:revision>
  <dc:subject/>
  <dc:title>Snímek 1</dc:title>
</cp:coreProperties>
</file>