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3CD9-963B-45C9-BC97-C551F6EF0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8C91-6379-4F00-823D-9D852136A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7FCD-DBA8-47A9-9AF4-4E642106E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16F7-6A3E-4801-997E-3D4AC4388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3825-CE1F-4744-899D-764348D6F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1FA3-2338-4220-B546-B38B4CAC1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07B3-0B4D-4BA8-9F15-2FEA123C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146F-D551-48A6-8888-0F59B4019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4873-1E3E-4055-8995-C997B5705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3D3D-2F1B-4305-8C24-00076D87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9A05-DAA5-4ACB-8D9E-CF3D0A6F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1A97-4812-407B-853F-6A7FD4A4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B7A3A-B994-407F-8BFE-371C2C0DB5C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6200" y="496800"/>
            <a:ext cx="8372520" cy="573300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pembův  j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cs-CZ" sz="2000" spc="-1" strike="noStrike">
                <a:solidFill>
                  <a:srgbClr val="000000"/>
                </a:solidFill>
                <a:latin typeface="Monotype Corsiva"/>
              </a:rPr>
              <a:t>Navrátil Vladislav, Jenišová Dagm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. Úv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2. Historie Mpembova jev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rasto Mpemba – Tanzá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mrzlina“ – mléko + cuk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r. Osborne (Univ. Dar es Sal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iž staří Řekové“, polévání kluziš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laboratorních podmínkách potvrzeno i nepotvrze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hybí přesné údaje o experimentálních podmínká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9120" y="476280"/>
            <a:ext cx="815652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mrzlina s tvarohem (Míš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00000" y="98100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19120" y="568440"/>
            <a:ext cx="808524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 x převařená destilovaná vo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95280" y="423720"/>
            <a:ext cx="835344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odní roztok NaCl (0,05 wt.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47840" y="496800"/>
            <a:ext cx="808488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odní roztok NaCl (1 wt.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47840" y="568440"/>
            <a:ext cx="830088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odní roztok NaCl (2 wt.%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47840" y="568440"/>
            <a:ext cx="815652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odní roztok NaCl (5 wt.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47840" y="496800"/>
            <a:ext cx="815652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odní roztok NaCl (10wt.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76200" y="496800"/>
            <a:ext cx="829944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eplé vody o 5 wt.% mén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39640" y="404640"/>
            <a:ext cx="801396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eplé vody o 12 wt.% mén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337520" cy="40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76200" y="423720"/>
            <a:ext cx="844380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eplé vody o 19 wt.% mén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971640" y="981000"/>
            <a:ext cx="733716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47840" y="496800"/>
            <a:ext cx="8084880" cy="609984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3. Možná teoretická vysvětl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Různá rychlost proudě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Chemické slože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Změna mikrostruktury (klastr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Přechlazení kapali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Menší množství teplejší kapaliny (vypařování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Protavení teplejší kapaliny do ledem pokryté podlož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4. Exper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plotní čidlo GMH (+ software GSOFT 305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razni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lystyrénová podlož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vě stejné plastové nádob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ůzné kapaliny (destilovaná voda, studniční vod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ůzně koncentrované roztoky NaCl a kyseliny askorbové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léko, mléko s cukrem, zmrzlina, at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47840" y="496800"/>
            <a:ext cx="830088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eplé vody o 38 wt.% mén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47840" y="496800"/>
            <a:ext cx="8227800" cy="588636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5. Závě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pembův jev nebyl pozorován ani na jedi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z proměřených kapal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edná se tedy zřejmě o fyzikální jev v pravé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lova smysl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ožná vysvětlen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protavení nádobky s teplejší kapalin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 ledu na dně mrazničk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menší množství teplejší kapaliny ve srovn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 kapalinou chladnější (dokázali jsme, ž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čí rozdíl v hmotnosti cca 10 wt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19120" y="639720"/>
            <a:ext cx="7940520" cy="54889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Děkujeme  za  pozor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47840" y="568440"/>
            <a:ext cx="822780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tilovaná vo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47840" y="568440"/>
            <a:ext cx="830088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niční vo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95280" y="568440"/>
            <a:ext cx="835344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odní roztok kyseliny askorbové (5wt.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47840" y="568440"/>
            <a:ext cx="8227800" cy="558036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léko neslaze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47840" y="496800"/>
            <a:ext cx="8227800" cy="585468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léko oslazené (10 wt.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47840" y="496800"/>
            <a:ext cx="822780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léko silně oslazené (30 wt.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47840" y="404640"/>
            <a:ext cx="830088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uská zmrzl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1T20:25:11Z</dcterms:created>
  <dc:creator>Vladislav Navrátil</dc:creator>
  <dc:description/>
  <dc:language>en-US</dc:language>
  <cp:lastModifiedBy>Vladislav Navrátil</cp:lastModifiedBy>
  <dcterms:modified xsi:type="dcterms:W3CDTF">2012-09-16T17:29:47Z</dcterms:modified>
  <cp:revision>25</cp:revision>
  <dc:subject/>
  <dc:title>Snímek 1</dc:title>
</cp:coreProperties>
</file>