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37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D15-5F52-4384-A7E9-F090A66A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713-FCAD-4403-BCB8-99DC4B1F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3D8-13AB-4849-80E7-010FB2B5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B32-84BF-4A9F-8BA9-C7BA17F8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33C-7210-416B-8D15-B1A90E00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833-7734-444B-AE2B-764A5131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372-F25F-47F1-81CC-9A64E743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CA3-FDD2-48C9-91CF-7B9C61E2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4C7-2212-470B-9DF4-F6D1668A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B70-3AA6-46CC-9478-CCD8BF1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122-0C4A-4714-98EF-9D14706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964-4597-4B52-B44E-0F096AFC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412C-AF89-4503-81E4-02507A8828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rincip_jaderne_naloz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443800" cy="61275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tastrofa v Černobylu a její dopa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dské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tom_struct1"/>
          <p:cNvPicPr/>
          <p:nvPr/>
        </p:nvPicPr>
        <p:blipFill>
          <a:blip r:embed="rId1"/>
          <a:stretch/>
        </p:blipFill>
        <p:spPr>
          <a:xfrm>
            <a:off x="4284720" y="1989000"/>
            <a:ext cx="3328920" cy="332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6" descr="atom_structure2_240x180"/>
          <p:cNvPicPr/>
          <p:nvPr/>
        </p:nvPicPr>
        <p:blipFill>
          <a:blip r:embed="rId2"/>
          <a:stretch/>
        </p:blipFill>
        <p:spPr>
          <a:xfrm>
            <a:off x="1042920" y="2997360"/>
            <a:ext cx="274176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357120" y="42876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UK_CH_346.jpg"/>
          <p:cNvPicPr/>
          <p:nvPr/>
        </p:nvPicPr>
        <p:blipFill>
          <a:blip r:embed="rId1"/>
          <a:stretch/>
        </p:blipFill>
        <p:spPr>
          <a:xfrm>
            <a:off x="900000" y="836640"/>
            <a:ext cx="71438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fruin4m.gif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23720"/>
            <a:ext cx="8353440" cy="60318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sledky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okamžiku katastrofy přítomno 4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 z nich zemřelo ihned na ozáření, 3 následkem výbu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utní nemoc z ozáření: 203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vakuováno 116 0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i 40 000 dětí trpí nemocemi štítné žlázy. Velký vzrůst případů anémie a leuk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Ukrajině bylo postiženo havárií asi 1,5 mil. Lidí. V Bělorusku žije asi 1,2 mil. Lidí n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ořeném územ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ituace u nás (bývalá ČSSR): Zlehčo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ěstnanci JE Dukovany měli pozitivní dozimetry když šli do práce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jména Cs (30 let) – houby, divo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 (8 d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az spotřeby a distribuce ovčího mléka a výrobků z ně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ravské mléko s aktivitou nad 1000 Bq/l pouze na dlouhozrající sý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exandr Juvč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85" descr="http://www.pavrda.cz/cernobyl/img/juvcenko.jpg"/>
          <p:cNvPicPr/>
          <p:nvPr/>
        </p:nvPicPr>
        <p:blipFill>
          <a:blip r:embed="rId1"/>
          <a:stretch/>
        </p:blipFill>
        <p:spPr>
          <a:xfrm>
            <a:off x="2843280" y="4437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ovéPole 1"/>
          <p:cNvSpPr/>
          <p:nvPr/>
        </p:nvSpPr>
        <p:spPr>
          <a:xfrm>
            <a:off x="428760" y="57168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724" descr="The spread of radiation and caesium across Europe"/>
          <p:cNvPicPr/>
          <p:nvPr/>
        </p:nvPicPr>
        <p:blipFill>
          <a:blip r:embed="rId1"/>
          <a:stretch/>
        </p:blipFill>
        <p:spPr>
          <a:xfrm>
            <a:off x="714240" y="1428840"/>
            <a:ext cx="7788240" cy="3714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47840" y="496800"/>
            <a:ext cx="8227800" cy="58842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Černobyl 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.12.2000 odstaven poslední blok JE – nezaměstnanost v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blok zakryt sarkofágem (cca 2 miliard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ě zóny – 10 km (zákaz vstu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30 km (zamoření 137Cs a 90Sr). Je zde obydlená vesnice (600 du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pjať je „mrtvým“ mě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roda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 člověka = p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voká prasata, vlci, jeleni, bobři, lišky, rys a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řábi, čápi černí, orlovci říční, orli mořš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rokázán vznik mu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vu došlo k poklesu počtu narozených mláď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zději – vyšší odolnost proti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87" descr="Tabule se jmenem elektrarny"/>
          <p:cNvPicPr/>
          <p:nvPr/>
        </p:nvPicPr>
        <p:blipFill>
          <a:blip r:embed="rId1"/>
          <a:stretch/>
        </p:blipFill>
        <p:spPr>
          <a:xfrm>
            <a:off x="900000" y="1052640"/>
            <a:ext cx="304488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10" descr="http://www.ecn.cz/ENV/Temelin/c11/Lenin.JPG"/>
          <p:cNvPicPr/>
          <p:nvPr/>
        </p:nvPicPr>
        <p:blipFill>
          <a:blip r:embed="rId2"/>
          <a:stretch/>
        </p:blipFill>
        <p:spPr>
          <a:xfrm>
            <a:off x="900000" y="357336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3" descr="chernobyl photos"/>
          <p:cNvPicPr/>
          <p:nvPr/>
        </p:nvPicPr>
        <p:blipFill>
          <a:blip r:embed="rId3"/>
          <a:stretch/>
        </p:blipFill>
        <p:spPr>
          <a:xfrm>
            <a:off x="4716360" y="1052640"/>
            <a:ext cx="3375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03120" y="352440"/>
            <a:ext cx="84456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73" descr="chernobyl photos"/>
          <p:cNvPicPr/>
          <p:nvPr/>
        </p:nvPicPr>
        <p:blipFill>
          <a:blip r:embed="rId1"/>
          <a:stretch/>
        </p:blipFill>
        <p:spPr>
          <a:xfrm>
            <a:off x="900000" y="981000"/>
            <a:ext cx="71866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76200" y="35244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6" descr="http://proatom.luksoft.cz/grafika/kone.png"/>
          <p:cNvPicPr/>
          <p:nvPr/>
        </p:nvPicPr>
        <p:blipFill>
          <a:blip r:embed="rId1"/>
          <a:stretch/>
        </p:blipFill>
        <p:spPr>
          <a:xfrm>
            <a:off x="539640" y="1844640"/>
            <a:ext cx="428652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6" descr="chernobyl photos"/>
          <p:cNvPicPr/>
          <p:nvPr/>
        </p:nvPicPr>
        <p:blipFill>
          <a:blip r:embed="rId2"/>
          <a:stretch/>
        </p:blipFill>
        <p:spPr>
          <a:xfrm>
            <a:off x="4932360" y="765000"/>
            <a:ext cx="36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3" descr="chernobyl photos"/>
          <p:cNvPicPr/>
          <p:nvPr/>
        </p:nvPicPr>
        <p:blipFill>
          <a:blip r:embed="rId1"/>
          <a:stretch/>
        </p:blipFill>
        <p:spPr>
          <a:xfrm>
            <a:off x="684360" y="620640"/>
            <a:ext cx="77230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4" descr="chernobyl photos"/>
          <p:cNvPicPr/>
          <p:nvPr/>
        </p:nvPicPr>
        <p:blipFill>
          <a:blip r:embed="rId1"/>
          <a:stretch/>
        </p:blipFill>
        <p:spPr>
          <a:xfrm>
            <a:off x="684360" y="836640"/>
            <a:ext cx="7723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8280360" cy="600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adioakti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čas rozp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tězová reakce                        Kritické množství, Atomová b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zar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635280" y="765000"/>
            <a:ext cx="2220840" cy="189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obrázek 38" descr="http://fyzika.jreichl.com/data/Mikro_4jaderka_soubory/image151.jpg"/>
          <p:cNvPicPr/>
          <p:nvPr/>
        </p:nvPicPr>
        <p:blipFill>
          <a:blip r:embed="rId2"/>
          <a:stretch/>
        </p:blipFill>
        <p:spPr>
          <a:xfrm>
            <a:off x="1258920" y="3716280"/>
            <a:ext cx="240336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obrázek 4" descr="http://upload.wikimedia.org/wikipedia/commons/thumb/4/41/Princip_jaderne_naloze.svg/180px-Princip_jaderne_naloz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257328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3120" y="4046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34" descr="chernobyl photos"/>
          <p:cNvPicPr/>
          <p:nvPr/>
        </p:nvPicPr>
        <p:blipFill>
          <a:blip r:embed="rId1"/>
          <a:stretch/>
        </p:blipFill>
        <p:spPr>
          <a:xfrm>
            <a:off x="684360" y="76500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47" descr="chernobyl photos"/>
          <p:cNvPicPr/>
          <p:nvPr/>
        </p:nvPicPr>
        <p:blipFill>
          <a:blip r:embed="rId2"/>
          <a:stretch/>
        </p:blipFill>
        <p:spPr>
          <a:xfrm>
            <a:off x="4716360" y="765000"/>
            <a:ext cx="3616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76200" y="42372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55" descr="chernobyl photos"/>
          <p:cNvPicPr/>
          <p:nvPr/>
        </p:nvPicPr>
        <p:blipFill>
          <a:blip r:embed="rId1"/>
          <a:stretch/>
        </p:blipFill>
        <p:spPr>
          <a:xfrm>
            <a:off x="755640" y="90792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51" descr="chernobyl photos"/>
          <p:cNvPicPr/>
          <p:nvPr/>
        </p:nvPicPr>
        <p:blipFill>
          <a:blip r:embed="rId2"/>
          <a:stretch/>
        </p:blipFill>
        <p:spPr>
          <a:xfrm>
            <a:off x="4643280" y="907920"/>
            <a:ext cx="3576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29" descr="chernobyl photos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1" descr="0223.jpg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rázek 1" descr="barji01.jpg"/>
          <p:cNvPicPr/>
          <p:nvPr/>
        </p:nvPicPr>
        <p:blipFill>
          <a:blip r:embed="rId1"/>
          <a:stretch/>
        </p:blipFill>
        <p:spPr>
          <a:xfrm>
            <a:off x="97164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1" descr="derevnya06.jpg"/>
          <p:cNvPicPr/>
          <p:nvPr/>
        </p:nvPicPr>
        <p:blipFill>
          <a:blip r:embed="rId1"/>
          <a:stretch/>
        </p:blipFill>
        <p:spPr>
          <a:xfrm>
            <a:off x="1187280" y="105264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ázek 1" descr="dom_bita01.jpg"/>
          <p:cNvPicPr/>
          <p:nvPr/>
        </p:nvPicPr>
        <p:blipFill>
          <a:blip r:embed="rId1"/>
          <a:stretch/>
        </p:blipFill>
        <p:spPr>
          <a:xfrm>
            <a:off x="971640" y="9079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1" descr="image51.jpg"/>
          <p:cNvPicPr/>
          <p:nvPr/>
        </p:nvPicPr>
        <p:blipFill>
          <a:blip r:embed="rId1"/>
          <a:stretch/>
        </p:blipFill>
        <p:spPr>
          <a:xfrm>
            <a:off x="1258920" y="1197000"/>
            <a:ext cx="6669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1" descr="kladbishe04.jpg"/>
          <p:cNvPicPr/>
          <p:nvPr/>
        </p:nvPicPr>
        <p:blipFill>
          <a:blip r:embed="rId1"/>
          <a:stretch/>
        </p:blipFill>
        <p:spPr>
          <a:xfrm>
            <a:off x="900000" y="692280"/>
            <a:ext cx="7189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ek 1" descr="kladbishe07.jpg"/>
          <p:cNvPicPr/>
          <p:nvPr/>
        </p:nvPicPr>
        <p:blipFill>
          <a:blip r:embed="rId1"/>
          <a:stretch/>
        </p:blipFill>
        <p:spPr>
          <a:xfrm>
            <a:off x="611280" y="6922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404640"/>
            <a:ext cx="8299440" cy="591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Jaderný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derá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21" descr="http://fyzika.jreichl.com/data/Mikro_4jaderka_soubory/image144.png"/>
          <p:cNvPicPr/>
          <p:nvPr/>
        </p:nvPicPr>
        <p:blipFill>
          <a:blip r:embed="rId1"/>
          <a:stretch/>
        </p:blipFill>
        <p:spPr>
          <a:xfrm>
            <a:off x="1763640" y="1197000"/>
            <a:ext cx="2678040" cy="483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obrázek 32" descr="http://fyzika.jreichl.com/data/Mikro_4jaderka_soubory/image156.jpg"/>
          <p:cNvPicPr/>
          <p:nvPr/>
        </p:nvPicPr>
        <p:blipFill>
          <a:blip r:embed="rId2"/>
          <a:stretch/>
        </p:blipFill>
        <p:spPr>
          <a:xfrm>
            <a:off x="4788000" y="1413000"/>
            <a:ext cx="331128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1" descr="kladbishe12.jpg"/>
          <p:cNvPicPr/>
          <p:nvPr/>
        </p:nvPicPr>
        <p:blipFill>
          <a:blip r:embed="rId1"/>
          <a:stretch/>
        </p:blipFill>
        <p:spPr>
          <a:xfrm>
            <a:off x="90000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1" descr="rasokha-1a_0003.jpg"/>
          <p:cNvPicPr/>
          <p:nvPr/>
        </p:nvPicPr>
        <p:blipFill>
          <a:blip r:embed="rId1"/>
          <a:stretch/>
        </p:blipFill>
        <p:spPr>
          <a:xfrm>
            <a:off x="900000" y="7650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essurizedWaterReactor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6200" y="42372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13" descr="Schema reaktoru RBMK"/>
          <p:cNvPicPr/>
          <p:nvPr/>
        </p:nvPicPr>
        <p:blipFill>
          <a:blip r:embed="rId1"/>
          <a:stretch/>
        </p:blipFill>
        <p:spPr>
          <a:xfrm>
            <a:off x="826920" y="1341360"/>
            <a:ext cx="7428240" cy="40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411120"/>
            <a:ext cx="8227800" cy="60670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hlcená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Gy (J/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kvivalentní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Sv (R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48000" y="836640"/>
          <a:ext cx="4319640" cy="5113440"/>
        </p:xfrm>
        <a:graphic>
          <a:graphicData uri="http://schemas.openxmlformats.org/drawingml/2006/table">
            <a:tbl>
              <a:tblPr/>
              <a:tblGrid>
                <a:gridCol w="2941560"/>
                <a:gridCol w="137808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pro pracovníka se záření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až 3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Kerali v Ind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Guapari v Brazíl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Ramsaru v Irá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stř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žalud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kyč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ovník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yvatelstvo v okolí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0,00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ty nadzvukovým letadlem Praha - U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596844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Katastrofa Černobylské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.4.1986 v 01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s: bude elektrický generátor, poháněný turbínou po uzavření páry schopen j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espoň 40s napájet čerpadlo chladícího zařízení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 tomu bylo třeba snížit výkon reaktoru. Pokles výkonu byl příliš prudk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. závažná chyba – vedoucí Djatlov rozkázal vysunout regulační ty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 závažná chyba – operátoři zablokovali havarijní sig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ktor pracoval, ale snížil se průtok chladící vody, teplota začala nekontrolovaně 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cí dráha pro havarijní tyče se zdeformovala. Tlaková pára odsunula 1000 t těžk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etonovou desku. Do reaktoru vnikl vzduch a ten spolu s vodní párou a grafitem vytvoř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k, který vybuchl a rozmetal do okolí palivo a 700 t radioaktivního hořícího graf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niklý požár byl s nasazením životů hasičů uhašen (vyzářeno asi 300 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dioaktivní mrak – Skandinávie – zpět nad Ukrajinu a Bělorusko – Polsko – ČSS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kousko – ČSSR – Polsko. Druhá větev – Bulhar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7.4. – evakuace městečka Pripj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likoptéry – 800 t dolomitu a karbidu bóru, 2400 t olova a 1800 t písku a jí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nský syndrom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bezpečí – termální  exploze (voda pod reaktorem) – sondy – tekutý dus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76200" y="49680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02" descr="Mapa reaktorů na území Evropy a Asie"/>
          <p:cNvPicPr/>
          <p:nvPr/>
        </p:nvPicPr>
        <p:blipFill>
          <a:blip r:embed="rId1"/>
          <a:stretch/>
        </p:blipFill>
        <p:spPr>
          <a:xfrm>
            <a:off x="1187280" y="1052640"/>
            <a:ext cx="684216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404640"/>
            <a:ext cx="85690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http://www.horackova.cz/pracezaku/wwwpages0708_5b/grafika_cejkaa/cernobyl1.jpg"/>
          <p:cNvPicPr/>
          <p:nvPr/>
        </p:nvPicPr>
        <p:blipFill>
          <a:blip r:embed="rId1"/>
          <a:stretch/>
        </p:blipFill>
        <p:spPr>
          <a:xfrm>
            <a:off x="468360" y="1628640"/>
            <a:ext cx="4138560" cy="28846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3" descr="http://www.volny.cz/kostka2000/reaktor2.jpg"/>
          <p:cNvPicPr/>
          <p:nvPr/>
        </p:nvPicPr>
        <p:blipFill>
          <a:blip r:embed="rId2"/>
          <a:stretch/>
        </p:blipFill>
        <p:spPr>
          <a:xfrm>
            <a:off x="4859280" y="765000"/>
            <a:ext cx="357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8:24:59Z</dcterms:created>
  <dc:creator>Vladislav Navrátil</dc:creator>
  <dc:description/>
  <dc:language>en-US</dc:language>
  <cp:lastModifiedBy>Vladislav Navrátil</cp:lastModifiedBy>
  <dcterms:modified xsi:type="dcterms:W3CDTF">2012-11-21T20:20:53Z</dcterms:modified>
  <cp:revision>27</cp:revision>
  <dc:subject/>
  <dc:title>Snímek 1</dc:title>
</cp:coreProperties>
</file>