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47E7-42F2-4B7A-B9D7-956EFBB1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D06F-18DD-4E69-BBAC-3879CC72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50D0-8471-43F9-B79B-7184B87D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CE98-BA1D-4AE5-9C34-C14AA3DE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5125-A119-4B1D-BE0E-04DD696D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8FEC-1269-4B1B-8CC7-B884585C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123B-E27B-420A-9034-DBA8F623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88BB-73E6-490A-9D25-20C2BD14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4999-2592-407B-8ECA-86277CC1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7FC4-6A20-4D5D-B07D-3EBED3A6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1A5-5942-473D-92FC-8A0E7026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1676-76E5-441E-A82F-C69662C1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0FDF-BCD3-4A57-99F9-E5AF350DD14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6200" y="496800"/>
            <a:ext cx="8372520" cy="573300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pembův  j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cs-CZ" sz="2000" spc="-1" strike="noStrike">
                <a:solidFill>
                  <a:srgbClr val="000000"/>
                </a:solidFill>
                <a:latin typeface="Monotype Corsiva"/>
              </a:rPr>
              <a:t>Navrátil Vladislav, Jenišová Dag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. Úv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Historie Mpembova je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rasto Mpemba – Tanzá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mrzlina“ – mléko + cuk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r. Osborne (Univ. Dar es Sal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ž staří Řekové“, polévání kluziš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laboratorních podmínkách potvrzeno i nepotvrz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ybí přesné údaje o experimentálních podmínk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9120" y="476280"/>
            <a:ext cx="815652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mrzlina s tvarohem (Míš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9120" y="568440"/>
            <a:ext cx="80852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x převařená destilovaná v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423720"/>
            <a:ext cx="83534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0,05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47840" y="496800"/>
            <a:ext cx="8084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1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7840" y="56844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2 wt.%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47840" y="568440"/>
            <a:ext cx="815652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5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47840" y="496800"/>
            <a:ext cx="815652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10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76200" y="496800"/>
            <a:ext cx="82994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5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404640"/>
            <a:ext cx="801396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12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337520" cy="40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76200" y="423720"/>
            <a:ext cx="844380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19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33716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47840" y="496800"/>
            <a:ext cx="8084880" cy="609984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. Možná teoretická vysvět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Různá rychlost proudě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Chemické slož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Změna mikrostruktury (klastr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řechlazení kapali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Menší množství teplejší kapaliny (vypařování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rotavení teplejší kapaliny do ledem pokryté podlož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4.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plotní čidlo GMH (+ software GSOFT 30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razn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lystyrénová podlož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vě stejné plastové nádob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ůzné kapaliny (destilovaná voda, studniční vo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ůzně koncentrované roztoky NaCl a kyseliny askorbové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léko, mléko s cukrem, zmrzlina,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47840" y="49680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38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47840" y="496800"/>
            <a:ext cx="8227800" cy="588636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5. Záv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pembův jev nebyl pozorován ani na jedi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 proměřených kapal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edná se tedy zřejmě o fyzikální jev v prav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a smys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žná vysvětle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rotavení nádobky s teplejší kapali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ledu na dně mrazničk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menší množství teplejší kapaliny ve srov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kapalinou chladnější (dokázali jsme, 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čí rozdíl v hmotnosti cca 10 wt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19120" y="639720"/>
            <a:ext cx="7940520" cy="54889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Děkujeme  za  pozo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7840" y="568440"/>
            <a:ext cx="822780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tilovaná v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7840" y="56844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niční v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568440"/>
            <a:ext cx="83534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dní roztok kyseliny askorbové (5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47840" y="568440"/>
            <a:ext cx="8227800" cy="558036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léko neslaz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47840" y="496800"/>
            <a:ext cx="8227800" cy="585468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léko oslazené (10 wt.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7840" y="496800"/>
            <a:ext cx="822780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léko silně oslazené (30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47840" y="40464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ská zmrzl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20:25:11Z</dcterms:created>
  <dc:creator>Vladislav Navrátil</dc:creator>
  <dc:description/>
  <dc:language>en-US</dc:language>
  <cp:lastModifiedBy>Vladislav Navrátil</cp:lastModifiedBy>
  <dcterms:modified xsi:type="dcterms:W3CDTF">2012-09-16T17:29:47Z</dcterms:modified>
  <cp:revision>25</cp:revision>
  <dc:subject/>
  <dc:title>Snímek 1</dc:title>
</cp:coreProperties>
</file>