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FACF-6F72-45D7-A191-806BFB327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AF33-5BC7-4933-9489-5BA93900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D292-64EB-4E0B-864B-6CCF7A2B7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CEDF-6444-412C-BEE4-31635B4A3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57A1-58EB-4C1F-BE33-7BA77211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7E92-8C52-4C71-99C3-EAEAABC5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0664-5B64-41EA-B25D-60E047EE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350B-7EC9-45C4-97B6-67942338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CB90-68EE-49F4-987B-A3B1FCF8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19C0-32AE-4862-9217-5EE5795E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9CAE-844D-441F-964B-BF201A88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FD5C-048D-4F79-B13F-93D340A3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CF2C-19AA-402E-ADEB-DE849CE2BCB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9120" y="189000"/>
            <a:ext cx="8013600" cy="6215760"/>
          </a:xfrm>
          <a:prstGeom prst="rect">
            <a:avLst/>
          </a:prstGeom>
          <a:solidFill>
            <a:srgbClr val="f0fda1">
              <a:alpha val="83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Získávání a měření nízkých tla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Jednotky tlaku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Pa = N / 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at = kp / cm2 = 0,9807.105 Pa (technická atmosfé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b = 105 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atm = 760 torr = 1,01325.105 Pa (fyzikální atmosfé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torr = 1,3332.102 Pa = tlak 1 mm sloupce H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0.1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ývě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odní a pístová vývě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692360" y="3213000"/>
          <a:ext cx="163836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3213000"/>
                    <a:ext cx="1638360" cy="312444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5" name="V2" descr=""/>
          <p:cNvPicPr/>
          <p:nvPr/>
        </p:nvPicPr>
        <p:blipFill>
          <a:blip r:embed="rId3">
            <a:lum contrast="66000"/>
          </a:blip>
          <a:stretch/>
        </p:blipFill>
        <p:spPr>
          <a:xfrm>
            <a:off x="4788000" y="3213000"/>
            <a:ext cx="2171520" cy="1800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47840" y="568440"/>
            <a:ext cx="8084880" cy="496980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Langmuirův – Dushmanův vakuoměr              Penningův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VA6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1125360"/>
            <a:ext cx="1940040" cy="3505320"/>
          </a:xfrm>
          <a:prstGeom prst="rect">
            <a:avLst/>
          </a:prstGeom>
          <a:ln w="0">
            <a:noFill/>
          </a:ln>
        </p:spPr>
      </p:pic>
      <p:pic>
        <p:nvPicPr>
          <p:cNvPr id="67" name="VRAK1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356000" y="2205000"/>
            <a:ext cx="3811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99560" y="568440"/>
            <a:ext cx="7605720" cy="55803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patková rotač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V6" descr=""/>
          <p:cNvPicPr/>
          <p:nvPr/>
        </p:nvPicPr>
        <p:blipFill>
          <a:blip r:embed="rId1">
            <a:biLevel thresh="50000"/>
            <a:lum contrast="100000"/>
          </a:blip>
          <a:stretch/>
        </p:blipFill>
        <p:spPr>
          <a:xfrm>
            <a:off x="2050920" y="1557360"/>
            <a:ext cx="4934160" cy="4054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92200" y="568440"/>
            <a:ext cx="78674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ývěva s kolujícím rotor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V7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1700280"/>
            <a:ext cx="6046920" cy="3454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19120" y="568440"/>
            <a:ext cx="7869240" cy="57531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ootsova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V9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843280" y="1484280"/>
            <a:ext cx="4228920" cy="407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92200" y="568440"/>
            <a:ext cx="78674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urbomolekulár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V10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4211640" y="1052640"/>
            <a:ext cx="1743120" cy="2047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4" name="V11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258920" y="3429000"/>
            <a:ext cx="6305400" cy="2333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19120" y="496800"/>
            <a:ext cx="80852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ifúz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ondenzační a getrovací vývěv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V1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556000" y="1052640"/>
            <a:ext cx="5035320" cy="4628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9120" y="496800"/>
            <a:ext cx="8156520" cy="594612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0.2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Měření nízkých tlak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acleodův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VA1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332000" y="1844640"/>
            <a:ext cx="2116080" cy="4164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9" name="VA2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3780000" y="2708280"/>
            <a:ext cx="4559040" cy="2558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63480" y="639720"/>
            <a:ext cx="7869240" cy="57531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bránové manome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VA3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971640" y="2133720"/>
            <a:ext cx="7359480" cy="206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19120" y="568440"/>
            <a:ext cx="8156520" cy="54874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olekulární vakuoměr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            Ionizační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VA4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907920"/>
            <a:ext cx="1485720" cy="4044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4" name="VA5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5364000" y="1628640"/>
            <a:ext cx="2732400" cy="3002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15:05:11Z</dcterms:created>
  <dc:creator>Vladislav Navrátil</dc:creator>
  <dc:description/>
  <dc:language>en-US</dc:language>
  <cp:lastModifiedBy>Vladislav Navrátil</cp:lastModifiedBy>
  <dcterms:modified xsi:type="dcterms:W3CDTF">2013-11-30T19:00:13Z</dcterms:modified>
  <cp:revision>6</cp:revision>
  <dc:subject/>
  <dc:title>Snímek 1</dc:title>
</cp:coreProperties>
</file>