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CBB-68D8-4F67-AE45-E461042F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294-2586-4490-AC2C-F113CDF5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587-139C-4899-9B66-466F0B93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2B8-FC86-4F83-8D44-C012CDF5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202-4459-49D5-A946-EFC5FDC5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E1B-5D37-4E38-95CD-23E14410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41D-168B-4FFD-8828-C5629E9F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C38-C0BA-4534-873D-D85EFC32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961-2A58-4567-BEE1-04B8364D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F7B-3249-446B-BBE0-3926B35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33C-10D0-4704-B5F6-78C35178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44E-0585-4BE6-BD04-73940C46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33B8-7CB9-4192-8CDE-ECD2FE9FC9E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atmospher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tour_images/total_ozone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47840" y="496800"/>
            <a:ext cx="8300880" cy="59767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onová díra a lidské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O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ch: 21%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zon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ý oxi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osféra-polu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osféra (9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štít proti UV zář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22" descr="http://www.theozonehole.com/images/Bonds.jpg"/>
          <p:cNvPicPr/>
          <p:nvPr/>
        </p:nvPicPr>
        <p:blipFill>
          <a:blip r:embed="rId1"/>
          <a:stretch/>
        </p:blipFill>
        <p:spPr>
          <a:xfrm>
            <a:off x="3995640" y="198900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Map of total ozone over the antarctic on October 4, 2004 with the area under 200 Dobson Units highlighted"/>
          <p:cNvPicPr/>
          <p:nvPr/>
        </p:nvPicPr>
        <p:blipFill>
          <a:blip r:embed="rId1"/>
          <a:stretch/>
        </p:blipFill>
        <p:spPr>
          <a:xfrm>
            <a:off x="2268360" y="836640"/>
            <a:ext cx="4927680" cy="532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682560"/>
            <a:ext cx="8424720" cy="57924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24" descr="http://www.atm.ch.cam.ac.uk/tour/tour_images/oct_ozone.gif"/>
          <p:cNvPicPr/>
          <p:nvPr/>
        </p:nvPicPr>
        <p:blipFill>
          <a:blip r:embed="rId1"/>
          <a:stretch/>
        </p:blipFill>
        <p:spPr>
          <a:xfrm>
            <a:off x="755640" y="1341360"/>
            <a:ext cx="76010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6200" y="352440"/>
            <a:ext cx="837252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freo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tremálně chemicky stabilní, v troposféře až v100 let (průhledný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ve vodě nerozpustný, neoxid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ohou dosáhnout stratosféry a tam za působení UV záření dochází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lytické řetězové reak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O + O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ý atom Cl „zničí“ asi 100 000 molekul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„řádí“ ve stratosfé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ca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tratosféry může odejít tak, že ClO vytvoří s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trát chloru ClO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 se ale může opět rozložit na volný chlór a dále šk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: Cl + CH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ne HCl a ta je dobře rozpustná ve v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35120" y="712800"/>
            <a:ext cx="772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1"/>
          <a:stretch/>
        </p:blipFill>
        <p:spPr>
          <a:xfrm>
            <a:off x="2340000" y="1197000"/>
            <a:ext cx="4728960" cy="44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519120" y="639720"/>
            <a:ext cx="822960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2"/>
          <a:stretch/>
        </p:blipFill>
        <p:spPr>
          <a:xfrm>
            <a:off x="2268360" y="1125360"/>
            <a:ext cx="5002560" cy="469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63480" y="189000"/>
            <a:ext cx="7940880" cy="64339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 Polární stratosférické mr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y před cca 100 lety ve výšce asi 20 km nad polár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tmi (jsou 10 – 100 km dlouhé a několik km tlus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jí se v zimě, kdy se zejména nad Antarktidou vytvoří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lární vír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ovaná masa chladného vzduchu, která teplo vyzař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nepřijímá (Slunce ji neohřívá). Teplota je velmi nízká, cca -8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e složitým chemickým reakcím, které mají za následek v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onové díry právě nad jižním pólem(nad severním též, ale v menší míř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2" descr="Photograph of a polar stratospheric cloud"/>
          <p:cNvPicPr/>
          <p:nvPr/>
        </p:nvPicPr>
        <p:blipFill>
          <a:blip r:embed="rId1"/>
          <a:stretch/>
        </p:blipFill>
        <p:spPr>
          <a:xfrm>
            <a:off x="2124000" y="3213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620640"/>
            <a:ext cx="5229360" cy="566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639720"/>
            <a:ext cx="8136000" cy="56721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 Ozonová díra a lidské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5 dramaticky narůstá výskyt rakoviny kůže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ustrálii (ale i v USA a Evrop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% poklesu koncentrace ozonu způsobí vzrůst UVB o 1 –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aždé procento UVB záření vzrůstá výskyt rakoviny kůže o cca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0 poklesla koncentrace ozonu cca o 10%, což by mě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ásledek nárůst případů rakoviny kůže o cca 20 –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nárůst byl ale 90%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řejmě se uplatňují i jiné faktory (delší průměrný věk,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kovina kůže se vyvíjí i více než 10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 Závěr (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opalovat se na prudkém slu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sit i v létě lehké oblečení a pokrývku hl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žívat ochranné kr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edovat zprávy o stavu ozonové vrst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052640"/>
            <a:ext cx="5689800" cy="49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http://www.atm.ch.cam.ac.uk/tour/tour_images/atmospher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663588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zonová vrstva - náčrt"/>
          <p:cNvPicPr/>
          <p:nvPr/>
        </p:nvPicPr>
        <p:blipFill>
          <a:blip r:embed="rId1"/>
          <a:stretch/>
        </p:blipFill>
        <p:spPr>
          <a:xfrm>
            <a:off x="1692360" y="112536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54936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Ozonová vrstva - náčrt"/>
          <p:cNvPicPr/>
          <p:nvPr/>
        </p:nvPicPr>
        <p:blipFill>
          <a:blip r:embed="rId2"/>
          <a:stretch/>
        </p:blipFill>
        <p:spPr>
          <a:xfrm>
            <a:off x="1835280" y="981000"/>
            <a:ext cx="5761080" cy="496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23" descr="http://www.theozonehole.com/images/uv_abc.gif"/>
          <p:cNvPicPr/>
          <p:nvPr/>
        </p:nvPicPr>
        <p:blipFill>
          <a:blip r:embed="rId1"/>
          <a:stretch/>
        </p:blipFill>
        <p:spPr>
          <a:xfrm>
            <a:off x="1692360" y="1052640"/>
            <a:ext cx="5668920" cy="48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56520" cy="58852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Vznik ozonu ve stratosfé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ření UVA, UVB, U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,1 – 0,4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 + O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řed U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VA dopadne na Z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26" descr="http://www.theozonehole.com/images/ozone.37.jpg"/>
          <p:cNvPicPr/>
          <p:nvPr/>
        </p:nvPicPr>
        <p:blipFill>
          <a:blip r:embed="rId1"/>
          <a:stretch/>
        </p:blipFill>
        <p:spPr>
          <a:xfrm>
            <a:off x="3419640" y="2133720"/>
            <a:ext cx="4735440" cy="37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329" descr="http://www.theozonehole.com/images/ozone.38.jpg"/>
          <p:cNvPicPr/>
          <p:nvPr/>
        </p:nvPicPr>
        <p:blipFill>
          <a:blip r:embed="rId1"/>
          <a:stretch/>
        </p:blipFill>
        <p:spPr>
          <a:xfrm>
            <a:off x="2050920" y="765000"/>
            <a:ext cx="4930920" cy="536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840" y="423720"/>
            <a:ext cx="8300880" cy="6007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Měření koncentrace oz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0 (Dobsonův UV spektro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DU odpovídá koncentraci 1ppb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satelitů od r.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Ozonová dí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pozorována 1985 (Britská expedice v Antarktid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pokrývá celou Antarktidu s přilehlými oblastmi (část Patag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26 milionů km2 (zatím největší byla v letech 200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rovnání: Rozloha Afriky je cca 30 milionů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září – den ozonu (16.9.1987 – podepsán Montrealský proto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ochraně ozonové vrst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y vzniku ozonové díry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ony (chlorofluorokarbony CFCs) – M. Molina a F.S. Row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nací plyn ve sprayích, ledničky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260280"/>
            <a:ext cx="8713800" cy="64033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http://www.atm.ch.cam.ac.uk/tour/tour_images/total_ozone.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2263680" cy="313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obrázek 362" descr="http://home.tiscali.cz/polarsection/Recovery.gif"/>
          <p:cNvPicPr/>
          <p:nvPr/>
        </p:nvPicPr>
        <p:blipFill>
          <a:blip r:embed="rId3"/>
          <a:stretch/>
        </p:blipFill>
        <p:spPr>
          <a:xfrm>
            <a:off x="2843280" y="1341360"/>
            <a:ext cx="5762520" cy="403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52:29Z</dcterms:created>
  <dc:creator>Vladislav Navrátil</dc:creator>
  <dc:description/>
  <dc:language>en-US</dc:language>
  <cp:lastModifiedBy>Vladislav Navrátil</cp:lastModifiedBy>
  <dcterms:modified xsi:type="dcterms:W3CDTF">2012-09-16T17:22:43Z</dcterms:modified>
  <cp:revision>21</cp:revision>
  <dc:subject/>
  <dc:title>Snímek 1</dc:title>
</cp:coreProperties>
</file>