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8.jpeg" ContentType="image/jpeg"/>
  <Override PartName="/ppt/media/image34.jpeg" ContentType="image/jpeg"/>
  <Override PartName="/ppt/media/image6.png" ContentType="image/png"/>
  <Override PartName="/ppt/media/image12.jpeg" ContentType="image/jpeg"/>
  <Override PartName="/ppt/media/image37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8.gif" ContentType="image/gif"/>
  <Override PartName="/ppt/media/image18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E73-1D14-4BB4-A263-74E7AA2D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C83-B8D7-493B-80FF-7899309D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173-5931-43E6-969F-8621BB8A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298-3DF7-481E-916A-95578C4F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4F5-BAC1-4EFA-967E-872D6AE7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048-AAC9-40FF-B1E2-F959C41B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EB9-C51A-49DF-87FF-DE451CF2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033-D811-4B07-8704-A2B02214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78A-2D76-48D3-A7F5-C3D60277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1A3-A89E-43D7-8795-131FC161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D9D-7146-4490-88B9-D6817EBF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36C-645D-4B1D-95A3-C71D5252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D2C3-73BE-44FD-AB3A-8397981B916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cs.wikipedia.org/wiki/Soubor:Princip_jaderne_naloze.sv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76200" y="352440"/>
            <a:ext cx="8443800" cy="61275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atastrofa v Černobylu a její dopad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idské zdra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tom_struct1"/>
          <p:cNvPicPr/>
          <p:nvPr/>
        </p:nvPicPr>
        <p:blipFill>
          <a:blip r:embed="rId1"/>
          <a:stretch/>
        </p:blipFill>
        <p:spPr>
          <a:xfrm>
            <a:off x="4284720" y="1989000"/>
            <a:ext cx="3328920" cy="332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Picture 6" descr="atom_structure2_240x180"/>
          <p:cNvPicPr/>
          <p:nvPr/>
        </p:nvPicPr>
        <p:blipFill>
          <a:blip r:embed="rId2"/>
          <a:stretch/>
        </p:blipFill>
        <p:spPr>
          <a:xfrm>
            <a:off x="1042920" y="2997360"/>
            <a:ext cx="274176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ovéPole 2"/>
          <p:cNvSpPr/>
          <p:nvPr/>
        </p:nvSpPr>
        <p:spPr>
          <a:xfrm>
            <a:off x="357120" y="428760"/>
            <a:ext cx="8429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4" descr="UK_CH_346.jpg"/>
          <p:cNvPicPr/>
          <p:nvPr/>
        </p:nvPicPr>
        <p:blipFill>
          <a:blip r:embed="rId1"/>
          <a:stretch/>
        </p:blipFill>
        <p:spPr>
          <a:xfrm>
            <a:off x="900000" y="836640"/>
            <a:ext cx="714384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rázek 1" descr="fruin4m.gif"/>
          <p:cNvPicPr/>
          <p:nvPr/>
        </p:nvPicPr>
        <p:blipFill>
          <a:blip r:embed="rId1"/>
          <a:stretch/>
        </p:blipFill>
        <p:spPr>
          <a:xfrm>
            <a:off x="755640" y="76500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23720"/>
            <a:ext cx="8353440" cy="60318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sledky: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okamžiku katastrofy přítomno 4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 z nich zemřelo ihned na ozáření, 3 následkem výbuc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utní nemoc z ozáření: 203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vakuováno 116 0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si 40 000 dětí trpí nemocemi štítné žlázy. Velký vzrůst případů anémie a leukém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Ukrajině bylo postiženo havárií asi 1,5 mil. Lidí. V Bělorusku žije asi 1,2 mil. Lidí n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ořeném územ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ituace u nás (bývalá ČSSR): Zlehčo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ěstnanci JE Dukovany měli pozitivní dozimetry když šli do práce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ejména Cs (30 let) – houby, divoč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 (8 d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kaz spotřeby a distribuce ovčího mléka a výrobků z ně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ravské mléko s aktivitou nad 1000 Bq/l pouze na dlouhozrající sý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lexandr Juvčen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85" descr="http://www.pavrda.cz/cernobyl/img/juvcenko.jpg"/>
          <p:cNvPicPr/>
          <p:nvPr/>
        </p:nvPicPr>
        <p:blipFill>
          <a:blip r:embed="rId1"/>
          <a:stretch/>
        </p:blipFill>
        <p:spPr>
          <a:xfrm>
            <a:off x="2843280" y="443700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ovéPole 1"/>
          <p:cNvSpPr/>
          <p:nvPr/>
        </p:nvSpPr>
        <p:spPr>
          <a:xfrm>
            <a:off x="428760" y="571680"/>
            <a:ext cx="8215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724" descr="The spread of radiation and caesium across Europe"/>
          <p:cNvPicPr/>
          <p:nvPr/>
        </p:nvPicPr>
        <p:blipFill>
          <a:blip r:embed="rId1"/>
          <a:stretch/>
        </p:blipFill>
        <p:spPr>
          <a:xfrm>
            <a:off x="714240" y="1428840"/>
            <a:ext cx="7788240" cy="37148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47840" y="496800"/>
            <a:ext cx="8227800" cy="58842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 Černobyl d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.12.2000 odstaven poslední blok JE – nezaměstnanost v reg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. blok zakryt sarkofágem (cca 2 miliard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vě zóny – 10 km (zákaz vstup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30 km (zamoření 137Cs a 90Sr). Je zde obydlená vesnice (600 du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ipjať je „mrtvým“ mě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íroda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z člověka = poh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voká prasata, vlci, jeleni, bobři, lišky, rys a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řábi, čápi černí, orlovci říční, orli mořš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prokázán vznik mu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prvu došlo k poklesu počtu narozených mláď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zději – vyšší odolnost proti zá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87" descr="Tabule se jmenem elektrarny"/>
          <p:cNvPicPr/>
          <p:nvPr/>
        </p:nvPicPr>
        <p:blipFill>
          <a:blip r:embed="rId1"/>
          <a:stretch/>
        </p:blipFill>
        <p:spPr>
          <a:xfrm>
            <a:off x="900000" y="1052640"/>
            <a:ext cx="3044880" cy="228420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10" descr="http://www.ecn.cz/ENV/Temelin/c11/Lenin.JPG"/>
          <p:cNvPicPr/>
          <p:nvPr/>
        </p:nvPicPr>
        <p:blipFill>
          <a:blip r:embed="rId2"/>
          <a:stretch/>
        </p:blipFill>
        <p:spPr>
          <a:xfrm>
            <a:off x="900000" y="3573360"/>
            <a:ext cx="3591000" cy="249552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13" descr="chernobyl photos"/>
          <p:cNvPicPr/>
          <p:nvPr/>
        </p:nvPicPr>
        <p:blipFill>
          <a:blip r:embed="rId3"/>
          <a:stretch/>
        </p:blipFill>
        <p:spPr>
          <a:xfrm>
            <a:off x="4716360" y="1052640"/>
            <a:ext cx="33750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03120" y="352440"/>
            <a:ext cx="84456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ázek 73" descr="chernobyl photos"/>
          <p:cNvPicPr/>
          <p:nvPr/>
        </p:nvPicPr>
        <p:blipFill>
          <a:blip r:embed="rId1"/>
          <a:stretch/>
        </p:blipFill>
        <p:spPr>
          <a:xfrm>
            <a:off x="900000" y="981000"/>
            <a:ext cx="71866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76200" y="35244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rázek 6" descr="http://proatom.luksoft.cz/grafika/kone.png"/>
          <p:cNvPicPr/>
          <p:nvPr/>
        </p:nvPicPr>
        <p:blipFill>
          <a:blip r:embed="rId1"/>
          <a:stretch/>
        </p:blipFill>
        <p:spPr>
          <a:xfrm>
            <a:off x="539640" y="1844640"/>
            <a:ext cx="4286520" cy="301464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26" descr="chernobyl photos"/>
          <p:cNvPicPr/>
          <p:nvPr/>
        </p:nvPicPr>
        <p:blipFill>
          <a:blip r:embed="rId2"/>
          <a:stretch/>
        </p:blipFill>
        <p:spPr>
          <a:xfrm>
            <a:off x="4932360" y="765000"/>
            <a:ext cx="363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33" descr="chernobyl photos"/>
          <p:cNvPicPr/>
          <p:nvPr/>
        </p:nvPicPr>
        <p:blipFill>
          <a:blip r:embed="rId1"/>
          <a:stretch/>
        </p:blipFill>
        <p:spPr>
          <a:xfrm>
            <a:off x="684360" y="620640"/>
            <a:ext cx="77230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54" descr="chernobyl photos"/>
          <p:cNvPicPr/>
          <p:nvPr/>
        </p:nvPicPr>
        <p:blipFill>
          <a:blip r:embed="rId1"/>
          <a:stretch/>
        </p:blipFill>
        <p:spPr>
          <a:xfrm>
            <a:off x="684360" y="836640"/>
            <a:ext cx="77230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404640"/>
            <a:ext cx="8280360" cy="600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adioaktiv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ločas rozp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etězová reakce                        Kritické množství, Atomová bom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zar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635280" y="765000"/>
            <a:ext cx="2220840" cy="189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obrázek 38" descr="http://fyzika.jreichl.com/data/Mikro_4jaderka_soubory/image151.jpg"/>
          <p:cNvPicPr/>
          <p:nvPr/>
        </p:nvPicPr>
        <p:blipFill>
          <a:blip r:embed="rId2"/>
          <a:stretch/>
        </p:blipFill>
        <p:spPr>
          <a:xfrm>
            <a:off x="1258920" y="3716280"/>
            <a:ext cx="2403360" cy="22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" name="obrázek 4" descr="http://upload.wikimedia.org/wikipedia/commons/thumb/4/41/Princip_jaderne_naloze.svg/180px-Princip_jaderne_naloze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716280"/>
            <a:ext cx="257328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03120" y="4046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ázek 34" descr="chernobyl photos"/>
          <p:cNvPicPr/>
          <p:nvPr/>
        </p:nvPicPr>
        <p:blipFill>
          <a:blip r:embed="rId1"/>
          <a:stretch/>
        </p:blipFill>
        <p:spPr>
          <a:xfrm>
            <a:off x="684360" y="76500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87" name="obrázek 47" descr="chernobyl photos"/>
          <p:cNvPicPr/>
          <p:nvPr/>
        </p:nvPicPr>
        <p:blipFill>
          <a:blip r:embed="rId2"/>
          <a:stretch/>
        </p:blipFill>
        <p:spPr>
          <a:xfrm>
            <a:off x="4716360" y="765000"/>
            <a:ext cx="36165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76200" y="42372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55" descr="chernobyl photos"/>
          <p:cNvPicPr/>
          <p:nvPr/>
        </p:nvPicPr>
        <p:blipFill>
          <a:blip r:embed="rId1"/>
          <a:stretch/>
        </p:blipFill>
        <p:spPr>
          <a:xfrm>
            <a:off x="755640" y="90792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obrázek 51" descr="chernobyl photos"/>
          <p:cNvPicPr/>
          <p:nvPr/>
        </p:nvPicPr>
        <p:blipFill>
          <a:blip r:embed="rId2"/>
          <a:stretch/>
        </p:blipFill>
        <p:spPr>
          <a:xfrm>
            <a:off x="4643280" y="907920"/>
            <a:ext cx="357696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ázek 29" descr="chernobyl photos"/>
          <p:cNvPicPr/>
          <p:nvPr/>
        </p:nvPicPr>
        <p:blipFill>
          <a:blip r:embed="rId1"/>
          <a:stretch/>
        </p:blipFill>
        <p:spPr>
          <a:xfrm>
            <a:off x="971640" y="1052640"/>
            <a:ext cx="71294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1" descr="0223.jpg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rázek 1" descr="barji01.jpg"/>
          <p:cNvPicPr/>
          <p:nvPr/>
        </p:nvPicPr>
        <p:blipFill>
          <a:blip r:embed="rId1"/>
          <a:stretch/>
        </p:blipFill>
        <p:spPr>
          <a:xfrm>
            <a:off x="97164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ázek 1" descr="derevnya06.jpg"/>
          <p:cNvPicPr/>
          <p:nvPr/>
        </p:nvPicPr>
        <p:blipFill>
          <a:blip r:embed="rId1"/>
          <a:stretch/>
        </p:blipFill>
        <p:spPr>
          <a:xfrm>
            <a:off x="1187280" y="1052640"/>
            <a:ext cx="6286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rázek 1" descr="dom_bita01.jpg"/>
          <p:cNvPicPr/>
          <p:nvPr/>
        </p:nvPicPr>
        <p:blipFill>
          <a:blip r:embed="rId1"/>
          <a:stretch/>
        </p:blipFill>
        <p:spPr>
          <a:xfrm>
            <a:off x="971640" y="90792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rázek 1" descr="image51.jpg"/>
          <p:cNvPicPr/>
          <p:nvPr/>
        </p:nvPicPr>
        <p:blipFill>
          <a:blip r:embed="rId1"/>
          <a:stretch/>
        </p:blipFill>
        <p:spPr>
          <a:xfrm>
            <a:off x="1258920" y="1197000"/>
            <a:ext cx="66690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rázek 1" descr="kladbishe04.jpg"/>
          <p:cNvPicPr/>
          <p:nvPr/>
        </p:nvPicPr>
        <p:blipFill>
          <a:blip r:embed="rId1"/>
          <a:stretch/>
        </p:blipFill>
        <p:spPr>
          <a:xfrm>
            <a:off x="900000" y="692280"/>
            <a:ext cx="718992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rázek 1" descr="kladbishe07.jpg"/>
          <p:cNvPicPr/>
          <p:nvPr/>
        </p:nvPicPr>
        <p:blipFill>
          <a:blip r:embed="rId1"/>
          <a:stretch/>
        </p:blipFill>
        <p:spPr>
          <a:xfrm>
            <a:off x="611280" y="692280"/>
            <a:ext cx="73342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95280" y="404640"/>
            <a:ext cx="8299440" cy="591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 Jaderný re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oderáto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21" descr="http://fyzika.jreichl.com/data/Mikro_4jaderka_soubory/image144.png"/>
          <p:cNvPicPr/>
          <p:nvPr/>
        </p:nvPicPr>
        <p:blipFill>
          <a:blip r:embed="rId1"/>
          <a:stretch/>
        </p:blipFill>
        <p:spPr>
          <a:xfrm>
            <a:off x="1763640" y="1197000"/>
            <a:ext cx="2678040" cy="483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" name="obrázek 32" descr="http://fyzika.jreichl.com/data/Mikro_4jaderka_soubory/image156.jpg"/>
          <p:cNvPicPr/>
          <p:nvPr/>
        </p:nvPicPr>
        <p:blipFill>
          <a:blip r:embed="rId2"/>
          <a:stretch/>
        </p:blipFill>
        <p:spPr>
          <a:xfrm>
            <a:off x="4788000" y="1413000"/>
            <a:ext cx="3311280" cy="409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rázek 1" descr="kladbishe12.jpg"/>
          <p:cNvPicPr/>
          <p:nvPr/>
        </p:nvPicPr>
        <p:blipFill>
          <a:blip r:embed="rId1"/>
          <a:stretch/>
        </p:blipFill>
        <p:spPr>
          <a:xfrm>
            <a:off x="90000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rázek 1" descr="rasokha-1a_0003.jpg"/>
          <p:cNvPicPr/>
          <p:nvPr/>
        </p:nvPicPr>
        <p:blipFill>
          <a:blip r:embed="rId1"/>
          <a:stretch/>
        </p:blipFill>
        <p:spPr>
          <a:xfrm>
            <a:off x="900000" y="765000"/>
            <a:ext cx="7143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PressurizedWaterReactor"/>
          <p:cNvPicPr/>
          <p:nvPr/>
        </p:nvPicPr>
        <p:blipFill>
          <a:blip r:embed="rId1"/>
          <a:stretch/>
        </p:blipFill>
        <p:spPr>
          <a:xfrm>
            <a:off x="971640" y="1413000"/>
            <a:ext cx="71438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76200" y="42372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113" descr="Schema reaktoru RBMK"/>
          <p:cNvPicPr/>
          <p:nvPr/>
        </p:nvPicPr>
        <p:blipFill>
          <a:blip r:embed="rId1"/>
          <a:stretch/>
        </p:blipFill>
        <p:spPr>
          <a:xfrm>
            <a:off x="826920" y="1341360"/>
            <a:ext cx="7428240" cy="407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68360" y="411120"/>
            <a:ext cx="8227800" cy="60670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hlcená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Gy (J/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kvivalentní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Sv (R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48000" y="836640"/>
          <a:ext cx="4319640" cy="5113440"/>
        </p:xfrm>
        <a:graphic>
          <a:graphicData uri="http://schemas.openxmlformats.org/drawingml/2006/table">
            <a:tbl>
              <a:tblPr/>
              <a:tblGrid>
                <a:gridCol w="2941560"/>
                <a:gridCol w="137808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 pro pracovníka se záření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až 3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Kerali v Ind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Guapari v Brazíl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Ramsaru v Irá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stř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žalud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kyčl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ovník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obyvatelstvo v okolí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0,00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lety nadzvukovým letadlem Praha - U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476280"/>
            <a:ext cx="8064360" cy="596844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 Katastrofa Černobylské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.4.1986 v 01.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kus: bude elektrický generátor, poháněný turbínou po uzavření páry schopen ješ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espoň 40s napájet čerpadlo chladícího zařízení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 tomu bylo třeba snížit výkon reaktoru. Pokles výkonu byl příliš prudk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. závažná chyba – vedoucí Djatlov rozkázal vysunout regulační tyč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. závažná chyba – operátoři zablokovali havarijní sig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aktor pracoval, ale snížil se průtok chladící vody, teplota začala nekontrolovaně rů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cí dráha pro havarijní tyče se zdeformovala. Tlaková pára odsunula 1000 t těžk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etonovou desku. Do reaktoru vnikl vzduch a ten spolu s vodní párou a grafitem vytvoř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k, který vybuchl a rozmetal do okolí palivo a 700 t radioaktivního hořícího grafi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zniklý požár byl s nasazením životů hasičů uhašen (vyzářeno asi 300 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dioaktivní mrak – Skandinávie – zpět nad Ukrajinu a Bělorusko – Polsko – ČSSR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kousko – ČSSR – Polsko. Druhá větev – Bulharsk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7.4. – evakuace městečka Pripja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likoptéry – 800 t dolomitu a karbidu bóru, 2400 t olova a 1800 t písku a jí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„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ínský syndrom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bezpečí – termální  exploze (voda pod reaktorem) – sondy – tekutý dusí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76200" y="49680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102" descr="Mapa reaktorů na území Evropy a Asie"/>
          <p:cNvPicPr/>
          <p:nvPr/>
        </p:nvPicPr>
        <p:blipFill>
          <a:blip r:embed="rId1"/>
          <a:stretch/>
        </p:blipFill>
        <p:spPr>
          <a:xfrm>
            <a:off x="1187280" y="1052640"/>
            <a:ext cx="6842160" cy="50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404640"/>
            <a:ext cx="85690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ázek 2" descr="http://www.horackova.cz/pracezaku/wwwpages0708_5b/grafika_cejkaa/cernobyl1.jpg"/>
          <p:cNvPicPr/>
          <p:nvPr/>
        </p:nvPicPr>
        <p:blipFill>
          <a:blip r:embed="rId1"/>
          <a:stretch/>
        </p:blipFill>
        <p:spPr>
          <a:xfrm>
            <a:off x="468360" y="1628640"/>
            <a:ext cx="4138560" cy="28846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3" descr="http://www.volny.cz/kostka2000/reaktor2.jpg"/>
          <p:cNvPicPr/>
          <p:nvPr/>
        </p:nvPicPr>
        <p:blipFill>
          <a:blip r:embed="rId2"/>
          <a:stretch/>
        </p:blipFill>
        <p:spPr>
          <a:xfrm>
            <a:off x="4859280" y="765000"/>
            <a:ext cx="35704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8:24:59Z</dcterms:created>
  <dc:creator>Vladislav Navrátil</dc:creator>
  <dc:description/>
  <dc:language>en-US</dc:language>
  <cp:lastModifiedBy>Vladislav Navrátil</cp:lastModifiedBy>
  <dcterms:modified xsi:type="dcterms:W3CDTF">2012-11-21T20:20:53Z</dcterms:modified>
  <cp:revision>27</cp:revision>
  <dc:subject/>
  <dc:title>Snímek 1</dc:title>
</cp:coreProperties>
</file>