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6886-6BDB-4DC5-8270-6B055F69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B77-5A48-4062-8F80-00E1B14E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4EBE-B4E8-44AD-86E8-2F76918B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A29-107F-4158-8CE0-5A6EE207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844-4B5D-47F7-B180-30C2E794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027E-6027-4F53-A02D-301026EA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464-A0AB-45AF-AD01-2B126882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ADC-3156-450D-9C25-0D3DD413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18CF-9603-4987-AA07-134493C1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B92-150B-4DC2-82DE-25DAB959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EE52-B1BE-4683-9BC0-670ECA41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691-AED9-473D-8338-FDC7A5D0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DD9B-BA2D-436B-BB49-B8D37D66F26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atmosphere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tm.ch.cam.ac.uk/tour/tour_images/total_ozone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47840" y="496800"/>
            <a:ext cx="8300880" cy="59767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zonová díra a lidské zdr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O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duch: 21%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zon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ý oxi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oposféra-polu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osféra (9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štít proti UV zář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322" descr="http://www.theozonehole.com/images/Bonds.jpg"/>
          <p:cNvPicPr/>
          <p:nvPr/>
        </p:nvPicPr>
        <p:blipFill>
          <a:blip r:embed="rId1"/>
          <a:stretch/>
        </p:blipFill>
        <p:spPr>
          <a:xfrm>
            <a:off x="3995640" y="1989000"/>
            <a:ext cx="379116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1" descr="Map of total ozone over the antarctic on October 4, 2004 with the area under 200 Dobson Units highlighted"/>
          <p:cNvPicPr/>
          <p:nvPr/>
        </p:nvPicPr>
        <p:blipFill>
          <a:blip r:embed="rId1"/>
          <a:stretch/>
        </p:blipFill>
        <p:spPr>
          <a:xfrm>
            <a:off x="2268360" y="836640"/>
            <a:ext cx="4927680" cy="5324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24000" y="682560"/>
            <a:ext cx="8424720" cy="57924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ázek 224" descr="http://www.atm.ch.cam.ac.uk/tour/tour_images/oct_ozone.gif"/>
          <p:cNvPicPr/>
          <p:nvPr/>
        </p:nvPicPr>
        <p:blipFill>
          <a:blip r:embed="rId1"/>
          <a:stretch/>
        </p:blipFill>
        <p:spPr>
          <a:xfrm>
            <a:off x="755640" y="1341360"/>
            <a:ext cx="7601040" cy="39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376200" y="352440"/>
            <a:ext cx="837252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astnosti freon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extremálně chemicky stabilní, v troposféře až v100 let (průhledný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eční záření, ve vodě nerozpustný, neoxidu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mohou dosáhnout stratosféry a tam za působení UV záření dochází 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atalytické řetězové reak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O + O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l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ý atom Cl „zničí“ asi 100 000 molekul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„řádí“ ve stratosféř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ca 2 ro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tratosféry může odejít tak, že ClO vytvoří s 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itrát chloru ClON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 se ale může opět rozložit na volný chlór a dále škod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: Cl + CH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ne HCl a ta je dobře rozpustná ve vod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735120" y="712800"/>
            <a:ext cx="7724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1"/>
          <a:stretch/>
        </p:blipFill>
        <p:spPr>
          <a:xfrm>
            <a:off x="2340000" y="1197000"/>
            <a:ext cx="4728960" cy="444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519120" y="639720"/>
            <a:ext cx="822960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ázek 304" descr="http://upload.wikimedia.org/wikipedia/commons/thumb/d/d5/Sources_of_stratospheric_chlorine.png/280px-Sources_of_stratospheric_chlorine.png"/>
          <p:cNvPicPr/>
          <p:nvPr/>
        </p:nvPicPr>
        <p:blipFill>
          <a:blip r:embed="rId2"/>
          <a:stretch/>
        </p:blipFill>
        <p:spPr>
          <a:xfrm>
            <a:off x="2268360" y="1125360"/>
            <a:ext cx="5002560" cy="469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663480" y="189000"/>
            <a:ext cx="7940880" cy="64339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5. Polární stratosférické mra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y před cca 100 lety ve výšce asi 20 km nad polárn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astmi (jsou 10 – 100 km dlouhé a několik km tlusté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rmují se v zimě, kdy se zejména nad Antarktidou vytvoří tz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lární vír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zolovaná masa chladného vzduchu, která teplo vyzařu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e nepřijímá (Slunce ji neohřívá). Teplota je velmi nízká, cca -80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chází ke složitým chemickým reakcím, které mají za následek vz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onové díry právě nad jižním pólem(nad severním též, ale v menší míře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obrázek 2" descr="Photograph of a polar stratospheric cloud"/>
          <p:cNvPicPr/>
          <p:nvPr/>
        </p:nvPicPr>
        <p:blipFill>
          <a:blip r:embed="rId1"/>
          <a:stretch/>
        </p:blipFill>
        <p:spPr>
          <a:xfrm>
            <a:off x="2124000" y="3213000"/>
            <a:ext cx="4923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76200" y="352440"/>
            <a:ext cx="8372520" cy="612900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050920" y="620640"/>
            <a:ext cx="5229360" cy="5668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639720"/>
            <a:ext cx="8136000" cy="56721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6. Ozonová díra a lidské zdra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5 dramaticky narůstá výskyt rakoviny kůže zejmé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ustrálii (ale i v USA a Evrop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% poklesu koncentrace ozonu způsobí vzrůst UVB o 1 –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aždé procento UVB záření vzrůstá výskyt rakoviny kůže o cca 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70 poklesla koncentrace ozonu cca o 10%, což by mě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následek nárůst případů rakoviny kůže o cca 20 – 4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nárůst byl ale 90%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řejmě se uplatňují i jiné faktory (delší průměrný věk, apo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akovina kůže se vyvíjí i více než 10 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. Závěr (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eopalovat se na prudkém slu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Nosit i v létě lehké oblečení a pokrývku hl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užívat ochranné kr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ledovat zprávy o stavu ozonové vrst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47640" y="1052640"/>
            <a:ext cx="5689800" cy="49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47840" y="49680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obrázek 3" descr="http://www.atm.ch.cam.ac.uk/tour/tour_images/atmosphere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557360"/>
            <a:ext cx="6635880" cy="38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Ozonová vrstva - náčrt"/>
          <p:cNvPicPr/>
          <p:nvPr/>
        </p:nvPicPr>
        <p:blipFill>
          <a:blip r:embed="rId1"/>
          <a:stretch/>
        </p:blipFill>
        <p:spPr>
          <a:xfrm>
            <a:off x="1692360" y="1125360"/>
            <a:ext cx="5761080" cy="4969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84360" y="549360"/>
            <a:ext cx="801180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Ozonová vrstva - náčrt"/>
          <p:cNvPicPr/>
          <p:nvPr/>
        </p:nvPicPr>
        <p:blipFill>
          <a:blip r:embed="rId2"/>
          <a:stretch/>
        </p:blipFill>
        <p:spPr>
          <a:xfrm>
            <a:off x="1835280" y="981000"/>
            <a:ext cx="5761080" cy="4969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rázek 323" descr="http://www.theozonehole.com/images/uv_abc.gif"/>
          <p:cNvPicPr/>
          <p:nvPr/>
        </p:nvPicPr>
        <p:blipFill>
          <a:blip r:embed="rId1"/>
          <a:stretch/>
        </p:blipFill>
        <p:spPr>
          <a:xfrm>
            <a:off x="1692360" y="1052640"/>
            <a:ext cx="5668920" cy="4859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39640" y="549360"/>
            <a:ext cx="8156520" cy="58852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Vznik ozonu ve stratosfé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ření UVA, UVB, U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0,1 – 0,4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 + O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 +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chrana před U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VA dopadne na Ze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326" descr="http://www.theozonehole.com/images/ozone.37.jpg"/>
          <p:cNvPicPr/>
          <p:nvPr/>
        </p:nvPicPr>
        <p:blipFill>
          <a:blip r:embed="rId1"/>
          <a:stretch/>
        </p:blipFill>
        <p:spPr>
          <a:xfrm>
            <a:off x="3419640" y="2133720"/>
            <a:ext cx="4735440" cy="3706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329" descr="http://www.theozonehole.com/images/ozone.38.jpg"/>
          <p:cNvPicPr/>
          <p:nvPr/>
        </p:nvPicPr>
        <p:blipFill>
          <a:blip r:embed="rId1"/>
          <a:stretch/>
        </p:blipFill>
        <p:spPr>
          <a:xfrm>
            <a:off x="2050920" y="765000"/>
            <a:ext cx="4930920" cy="5369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47840" y="423720"/>
            <a:ext cx="8300880" cy="600768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Měření koncentrace ozo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roku 1920 (Dobsonův UV spektrome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DU odpovídá koncentraci 1ppb O</a:t>
            </a: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satelitů od r.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Ozonová dí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rvé pozorována 1985 (Britská expedice v Antarktid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pokrývá celou Antarktidu s přilehlými oblastmi (část Patagon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loha 26 milionů km2 (zatím největší byla v letech 2000-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rovnání: Rozloha Afriky je cca 30 milionů k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 září – den ozonu (16.9.1987 – podepsán Montrealský proto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ochraně ozonové vrstv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činy vzniku ozonové díry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ony (chlorofluorokarbony CFCs) – M. Molina a F.S. Row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nací plyn ve sprayích, ledničky, at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260280"/>
            <a:ext cx="8713800" cy="6403320"/>
          </a:xfrm>
          <a:prstGeom prst="rect">
            <a:avLst/>
          </a:prstGeom>
          <a:solidFill>
            <a:srgbClr val="a4fa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rázek 4" descr="http://www.atm.ch.cam.ac.uk/tour/tour_images/total_ozone.s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773360"/>
            <a:ext cx="2263680" cy="3133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9" name="obrázek 362" descr="http://home.tiscali.cz/polarsection/Recovery.gif"/>
          <p:cNvPicPr/>
          <p:nvPr/>
        </p:nvPicPr>
        <p:blipFill>
          <a:blip r:embed="rId3"/>
          <a:stretch/>
        </p:blipFill>
        <p:spPr>
          <a:xfrm>
            <a:off x="2843280" y="1341360"/>
            <a:ext cx="5762520" cy="403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8:52:29Z</dcterms:created>
  <dc:creator>Vladislav Navrátil</dc:creator>
  <dc:description/>
  <dc:language>en-US</dc:language>
  <cp:lastModifiedBy>Vladislav Navrátil</cp:lastModifiedBy>
  <dcterms:modified xsi:type="dcterms:W3CDTF">2012-09-16T17:22:43Z</dcterms:modified>
  <cp:revision>21</cp:revision>
  <dc:subject/>
  <dc:title>Snímek 1</dc:title>
</cp:coreProperties>
</file>