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1.gif" ContentType="image/gif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B4A-88CE-4C7F-8122-A218DC0F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ABD-6179-4711-939C-BE553A76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465-1EDF-4803-B99A-3D583120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81C7-A437-44D1-95D5-9BF1952A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CF36-79B7-483C-B8F2-613D6215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D5ED-BA65-4B2A-8FD1-CFB7C7E7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718C-1E0B-4D1A-96DF-24F1CA71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1A7-CFBD-4E95-93BC-6E167992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ACC3-A8F0-474D-8107-55D0A787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F8E-8EEA-4384-919A-AA0CF48F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D700-4281-40E6-813F-84F12BAE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9CF8-F7B1-4126-BB2B-9B27DECC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9A95-2DAE-4F9D-99A0-505075C9BA7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f.mff.cuni.cz/veletrh/sbornik/Veletrh_02/02_27_Trna.html" TargetMode="External"/><Relationship Id="rId3" Type="http://schemas.openxmlformats.org/officeDocument/2006/relationships/hyperlink" Target="http://www-ucjf.troja.mff.cuni.cz/dolejsi/fkn/fkn3-9/fkn3-9.htm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lak a jeho měření</a:t>
            </a:r>
            <a:br>
              <a:rPr sz="40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tmosférický t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atm"/>
          <p:cNvPicPr/>
          <p:nvPr/>
        </p:nvPicPr>
        <p:blipFill>
          <a:blip r:embed="rId2"/>
          <a:stretch/>
        </p:blipFill>
        <p:spPr>
          <a:xfrm>
            <a:off x="2627280" y="2637000"/>
            <a:ext cx="367344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170028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duch byl dlouho pokládán za „nehmotnou a bez tížnou látku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ce 1644 navrhl italský fyzik Torricelli pok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kazoval jím, že vzduch není nehmotný, ale že na něj působí sí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 vyvolává atmosférický t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nto pokus byl nazván později „TORRICELLIHO POKUS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torricrs"/>
          <p:cNvPicPr/>
          <p:nvPr/>
        </p:nvPicPr>
        <p:blipFill>
          <a:blip r:embed="rId2"/>
          <a:stretch/>
        </p:blipFill>
        <p:spPr>
          <a:xfrm>
            <a:off x="6443640" y="1413000"/>
            <a:ext cx="2205000" cy="3533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6516720" y="5300640"/>
            <a:ext cx="2232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n Evangelista Torric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08 - 16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4000" y="33300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n Evangelista Torricel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3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rricelliho pok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rricelli vzal 1 metr dlouhou skleněnou trubici, na jednom konci zatave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lnil ji rtutí a uzavřel zát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k trubici obrátil dnem vzhůru a ponořil do nádoby se rt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tku odstran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9" descr="tor1"/>
          <p:cNvPicPr/>
          <p:nvPr/>
        </p:nvPicPr>
        <p:blipFill>
          <a:blip r:embed="rId2"/>
          <a:stretch/>
        </p:blipFill>
        <p:spPr>
          <a:xfrm>
            <a:off x="5292720" y="2276640"/>
            <a:ext cx="3311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5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orricelliho pok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itá část rtuti vytekla, pod zataveným koncem se vytvořilo vzduchoprázd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naklánění trubice se vždy hladina ustálila ve výšce přibližně 750 mm nad volným povrchem rtuti v nádob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toriceli"/>
          <p:cNvPicPr/>
          <p:nvPr/>
        </p:nvPicPr>
        <p:blipFill>
          <a:blip r:embed="rId2"/>
          <a:stretch/>
        </p:blipFill>
        <p:spPr>
          <a:xfrm>
            <a:off x="2627280" y="4005360"/>
            <a:ext cx="345744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 zabránilo rtuti, aby nevytekla všech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„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íla“ vzduchu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ůsobící na volný povrch hladiny rtuti v nádob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eboli atmosférick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lak působící na volný povrch rt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rtuť ve skleněné trubici působí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lak hydrostatick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660033"/>
                </a:solidFill>
                <a:uFillTx/>
                <a:latin typeface="Arial"/>
              </a:rPr>
              <a:t>Hladina rtuťového sloupce klesá až k vyrovnání obou tlaků, a to atmosférického a hydrostatické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tálí se na hodnotě 750 mm nad povrc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7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počet atmosférického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stejný jako hydrostatický tlak rt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načíme jej   …..  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áme hodnotu hydrostatického tlaku 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upce rt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 = 750 mm = 0,7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(rtuti) = 13 600 kg/m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g = 10 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h .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.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0,75 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3 600 .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 = 102 kP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a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=  p</a:t>
            </a:r>
            <a:r>
              <a:rPr b="0" lang="cs-CZ" sz="2400" spc="-1" strike="noStrike" baseline="-25000">
                <a:solidFill>
                  <a:srgbClr val="cc0000"/>
                </a:solidFill>
                <a:latin typeface="Arial"/>
              </a:rPr>
              <a:t>h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 = 102 kPa ……. ATMOSFÉRICKÝ TL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4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9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4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Je atmosférický tlak vždy a všude stejný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327640" cy="518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í, jeho velikost je závislá na nadmořské výšce, denní době, teplotě vzduchu,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získáš aktuální údaje o atmosférickém tlak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edpovědích počas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ádí se v hektopaskalech (hP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na hekto znamená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kPa = 10 h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 hPa = 100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Největší atmosférický tl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je u hladiny moř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33"/>
                </a:solidFill>
                <a:latin typeface="Arial"/>
              </a:rPr>
              <a:t>se stoupající nadmořskou výšk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0033"/>
                </a:solidFill>
                <a:latin typeface="Arial"/>
              </a:rPr>
              <a:t>tlak kles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mount_everest"/>
          <p:cNvPicPr/>
          <p:nvPr/>
        </p:nvPicPr>
        <p:blipFill>
          <a:blip r:embed="rId2"/>
          <a:stretch/>
        </p:blipFill>
        <p:spPr>
          <a:xfrm>
            <a:off x="6084720" y="4076640"/>
            <a:ext cx="2695680" cy="2011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ocean"/>
          <p:cNvPicPr/>
          <p:nvPr/>
        </p:nvPicPr>
        <p:blipFill>
          <a:blip r:embed="rId3"/>
          <a:stretch/>
        </p:blipFill>
        <p:spPr>
          <a:xfrm>
            <a:off x="6084720" y="1484280"/>
            <a:ext cx="27370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1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1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6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1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4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2" dur="500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5" dur="500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tmosférický tlak ve výšká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590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vysokým pohořím je tloušťka atmosféry menší než v nížin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zde i nižší tlak vzdu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rolezci vědí, že ve výškách od 3 000 m se hůře dýchá ( do plic se při nižším tlaku vzduchu dostane méně kyslí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výstupu nad 6 000 m je dobré mít kyslíkový přístr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horolezec"/>
          <p:cNvPicPr/>
          <p:nvPr/>
        </p:nvPicPr>
        <p:blipFill>
          <a:blip r:embed="rId2"/>
          <a:stretch/>
        </p:blipFill>
        <p:spPr>
          <a:xfrm>
            <a:off x="6156360" y="2060640"/>
            <a:ext cx="2601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ěření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 je jednou ze základních fyzikálních veličin v techn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stavovou veličinou, která určuje stav lá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chny tekutiny v kapalném nebo plynném skupenství působí určitým tlakem na stěny nádoby, ve které jsou uzavřeny ,nebo působí na stěny tělesa do nich ponořené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kou tlaku je pascal (P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scal je tlak, který vyvolává síla jednoho newtonu rovnoměrně rozložená na rovinné ploše s obsahem jednoho čtverečního metru, kolmé ke směru sí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raktické použití v technické praxi je jednotka 1 Pa velmi malá, proto používáme jednotky násobné kPa, MP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hlediska vyjádření můžeme tlak udávat vůči dvěma vztažným hodnotám, absolutní tlakové nule a atmosférickému tla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dle tohoto kritéria můžeme hovořit 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tlaku absolutní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přetla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podtlak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·      tlaku diferenčním (rozdílové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dnotky (staré i současn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finice tlaku :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scal: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 Pa = N.m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atmosféra: 1 at = kp.c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torr:                     1 mm Hg    (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=13545,87 kg.m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fyzikální atmosféra: 1 atm = 760 to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bar:                     1 b = 100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Pa =   1,02 . 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t.   1 at = 0,9801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torr =  1,3332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b = 1,3332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 = 1,35951 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atm = 1,01325.10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a = 1,01325 b = 1,0332 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at =    0,9807 b = 0,9807 Pa = 0,9678 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 1 b =     750,07 tor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ozděleni tlakomě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měření tlaku se využívá různých fyzikálních principů, které se liší podle charakteru převodu tlaku na výstupní signá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řiče tlaku (tlakoměry) můžeme rozdělit podle několika hledisek.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le rozsahu měření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manometry pro měření přetlak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  barometry pro měření tlaků ovzduš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vakuometry pro měření velkých podtlak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 diferenční ( rozdílový ) tlakoměr pro měření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tlakových rozdíl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·       manovakuometry pro měření přetlaků a podtlak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1116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gdeburské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loko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2707920"/>
            <a:ext cx="8147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tto von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ő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cke, starosta města Magdeburgu, v roce 1654 předvedl dramatický experiment, ve kterém ukázal „sílu vakua“ a dokázal existenci atmosféry Zem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ő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cke spojil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dvě duté měděné polokoul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 úchyty o průměru 51 cm (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gdeburské polokoul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 a ze vzniklé dutiny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vypumpoval vzdu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polok"/>
          <p:cNvPicPr/>
          <p:nvPr/>
        </p:nvPicPr>
        <p:blipFill>
          <a:blip r:embed="rId2"/>
          <a:srcRect l="9331" t="0" r="5787" b="0"/>
          <a:stretch/>
        </p:blipFill>
        <p:spPr>
          <a:xfrm>
            <a:off x="5292720" y="260280"/>
            <a:ext cx="309564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le fyzikálního principu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Kapalinov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jsou založeny na účinku hydrostatického tlaku, který vyvozuje tlakoměrná kapal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silovým účink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ěření tlaku se převádí na měření síly, jejíž účinky jsou vyvažovány např. závažím či pruži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ormač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ěřený tlak způsobuje pružnou deformaci tlakoměrného členu. Velikost deformace je úměrná hodnotě měřeného tla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ktric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yužívají principu tlakové závislosti některých elektrických veli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le stupně přes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 provoz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kontrol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   - o třídu přesnější než provoz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laborator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 - bývají nejpřesnějš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lakoměry se silovým účink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pístového tlakoměru je podstatnou součástí píst přesného průřezu, umístěný ve válci (obr.1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 na píst se přenáší obvykle olejem, kterým je celý systém tlakoměru vyplně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íla, vzniklá působením měřeného tlaku na píst, je kompenzována tíhou pístu a závaž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vnováhy sil se dosáhne v okamžiku, kdy se píst nepohybuje ve směru os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sah měření pístovými tlakoměry je od 0,05 do 2 000 MPa a i ví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2"/>
          <a:stretch/>
        </p:blipFill>
        <p:spPr>
          <a:xfrm>
            <a:off x="3851280" y="3933720"/>
            <a:ext cx="126360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ormační tlakom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incip funkce deformačních tlakoměrů je založen na pružné deformaci, a tím i na změně geometrického tvaru vhodných tlakoměrných prvků, vlivem působení měřeného tlak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častěji používanými deformačními prvky jsou Bourdonova trubice, membrána, krabice a vlnovec (obr. 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formační prvky se zhotovují z uhlíkových a niklových ocelí, z mosazi, z fosforového a beryliového bronzu a dalších vhodných slit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2"/>
          <a:stretch/>
        </p:blipFill>
        <p:spPr>
          <a:xfrm>
            <a:off x="1700280" y="4208400"/>
            <a:ext cx="5743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roje k měření tl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rometr = rtuťový tlakoměr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strojen na základě Torricelliho pokusu: skleněná trubička se rtutí otevřeným koncem přechází do otevřené baň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rtur_tlak"/>
          <p:cNvPicPr/>
          <p:nvPr/>
        </p:nvPicPr>
        <p:blipFill>
          <a:blip r:embed="rId2"/>
          <a:srcRect l="0" t="1754" r="11890" b="4576"/>
          <a:stretch/>
        </p:blipFill>
        <p:spPr>
          <a:xfrm>
            <a:off x="971640" y="2349360"/>
            <a:ext cx="942840" cy="4104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A4aneroi"/>
          <p:cNvPicPr/>
          <p:nvPr/>
        </p:nvPicPr>
        <p:blipFill>
          <a:blip r:embed="rId3"/>
          <a:srcRect l="0" t="9321" r="22475" b="18687"/>
          <a:stretch/>
        </p:blipFill>
        <p:spPr>
          <a:xfrm>
            <a:off x="2987640" y="3500280"/>
            <a:ext cx="2606760" cy="2232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998160" y="5805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ku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495960" y="292428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učička na stup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635280" y="2349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e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5584320" y="3789360"/>
            <a:ext cx="312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užné zvlněné víčko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hnutí se m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změnou atmosféric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la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yb se přenese na ručič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škom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lakoměr může pracovat i jako výškom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ívá toho, že atmosférický tlak klesá s rostoucí výš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na tlaku se převádí na změnu nadmořské výš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vyskomer"/>
          <p:cNvPicPr/>
          <p:nvPr/>
        </p:nvPicPr>
        <p:blipFill>
          <a:blip r:embed="rId2"/>
          <a:stretch/>
        </p:blipFill>
        <p:spPr>
          <a:xfrm>
            <a:off x="2771640" y="3645000"/>
            <a:ext cx="2700360" cy="2808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8"/>
          <p:cNvSpPr/>
          <p:nvPr/>
        </p:nvSpPr>
        <p:spPr>
          <a:xfrm>
            <a:off x="5490720" y="460044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škoměr v leta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p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Tlak vzduc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 zemský povrch nazýváme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atmosférický tla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značka 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cs-CZ" sz="3200" spc="-1" strike="noStrike" baseline="-25000">
                <a:solidFill>
                  <a:srgbClr val="cc0000"/>
                </a:solidFill>
                <a:latin typeface="Arial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ický tlak určujeme pomocí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hydrostatického tlaku rtu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ický tlak měříme </a:t>
            </a:r>
            <a:r>
              <a:rPr b="0" lang="cs-CZ" sz="3200" spc="-1" strike="noStrike">
                <a:solidFill>
                  <a:srgbClr val="660033"/>
                </a:solidFill>
                <a:latin typeface="Arial"/>
              </a:rPr>
              <a:t>rtuťovými tlakoměry (barometry) nebo aneroid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ho hodnota je přibližně </a:t>
            </a:r>
            <a:r>
              <a:rPr b="0" lang="cs-CZ" sz="3200" spc="-1" strike="noStrike">
                <a:solidFill>
                  <a:srgbClr val="660033"/>
                </a:solidFill>
                <a:latin typeface="Arial"/>
              </a:rPr>
              <a:t>100 k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ná hodnota závisí na počasí a nadmořské výš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ku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scalův zákon pro kapaliny a ply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o dokáže vzd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injek"/>
          <p:cNvPicPr/>
          <p:nvPr/>
        </p:nvPicPr>
        <p:blipFill>
          <a:blip r:embed="rId4"/>
          <a:srcRect l="7151" t="0" r="0" b="0"/>
          <a:stretch/>
        </p:blipFill>
        <p:spPr>
          <a:xfrm>
            <a:off x="5076720" y="3357720"/>
            <a:ext cx="1924200" cy="295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pascal"/>
          <p:cNvPicPr/>
          <p:nvPr/>
        </p:nvPicPr>
        <p:blipFill>
          <a:blip r:embed="rId5"/>
          <a:stretch/>
        </p:blipFill>
        <p:spPr>
          <a:xfrm>
            <a:off x="1547640" y="3357720"/>
            <a:ext cx="1737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gdeburské poloko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k nechal zapřáhnout ke každé polokouli 4 páry koní a ukazoval, že ani 16 koní není schopno od sebe polokoule oddělit. Poté, co nechal do dutiny opět vniknout vzduch, se od sebe obě polokoule oddělily samovol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kázal, že obě polokoule nebyly k sobě pevně připoutány vzduchoprázdnem, ale že </a:t>
            </a:r>
            <a:r>
              <a:rPr b="0" lang="cs-CZ" sz="2400" spc="-1" strike="noStrike">
                <a:solidFill>
                  <a:srgbClr val="cc0000"/>
                </a:solidFill>
                <a:latin typeface="Arial"/>
              </a:rPr>
              <a:t>polokoule držel u sebe tlak okolního vzduch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magd"/>
          <p:cNvPicPr/>
          <p:nvPr/>
        </p:nvPicPr>
        <p:blipFill>
          <a:blip r:embed="rId2"/>
          <a:stretch/>
        </p:blipFill>
        <p:spPr>
          <a:xfrm>
            <a:off x="1476360" y="4005360"/>
            <a:ext cx="63356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mosférický tl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lověk zahrabaný pískem na pláži na sobě cítí tíhovou sílu pí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  námi j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tmosféra,složená z atomů a molek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Na všechny působí tíhová sí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ledkem tíhové síly je značný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lak vzduc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- působí na předměty i na n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to tlak nazývám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tmosférick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pisek"/>
          <p:cNvPicPr/>
          <p:nvPr/>
        </p:nvPicPr>
        <p:blipFill>
          <a:blip r:embed="rId2"/>
          <a:stretch/>
        </p:blipFill>
        <p:spPr>
          <a:xfrm>
            <a:off x="1835280" y="2276640"/>
            <a:ext cx="46083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8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170028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a působí na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každý čtverečný centimet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emského povrchu takovou silou, jako kdyby na něm bylo položeno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závaží 1 kg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kilo"/>
          <p:cNvPicPr/>
          <p:nvPr/>
        </p:nvPicPr>
        <p:blipFill>
          <a:blip r:embed="rId2"/>
          <a:stretch/>
        </p:blipFill>
        <p:spPr>
          <a:xfrm>
            <a:off x="6227640" y="1628640"/>
            <a:ext cx="17100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č si atmosférický tlak neuvědom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laková síla atmosféry na povrch lidského těla je obrovs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hadneme-li obsah povrchu člověka na 1 m</a:t>
            </a:r>
            <a:r>
              <a:rPr b="0" lang="cs-CZ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je celková tlaková síla atmosféry       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100 000 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Stejně velký tlak je však i uvnitř lidského těl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to jsou síly působící na pokožku stejně velké, mají opačný směr, </a:t>
            </a:r>
            <a:r>
              <a:rPr b="0" lang="cs-CZ" sz="3200" spc="-1" strike="noStrike">
                <a:solidFill>
                  <a:srgbClr val="cc0000"/>
                </a:solidFill>
                <a:latin typeface="Arial"/>
              </a:rPr>
              <a:t>výslednice je tedy nulov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Kdy si přítomnost atmosférického tlaku uvědomuj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eme-li autem dlouho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do kopce nebo z kop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cítíme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tlak v uších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něco nás nutí polyk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 něco je převažující </a:t>
            </a:r>
            <a:r>
              <a:rPr b="0" lang="cs-CZ" sz="2800" spc="-1" strike="noStrike">
                <a:solidFill>
                  <a:srgbClr val="cc0000"/>
                </a:solidFill>
                <a:latin typeface="Arial"/>
              </a:rPr>
              <a:t>tlaková síl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evnitř nebo zven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ykáním obě síly vyrovnává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veď další příklad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ny tlaku při jízdě ve výtahu, při přistávání letadla,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letadlo"/>
          <p:cNvPicPr/>
          <p:nvPr/>
        </p:nvPicPr>
        <p:blipFill>
          <a:blip r:embed="rId2"/>
          <a:stretch/>
        </p:blipFill>
        <p:spPr>
          <a:xfrm>
            <a:off x="6588000" y="4437000"/>
            <a:ext cx="21528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4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4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k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906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lníme prázdnou sklenici od marmelády po okraj vod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třihnutý tvrdý papír (větší než okraj sklenice) přiložíme na vodní hladinu tak, aby pod ním nebyla žádná vzduchová bub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umyvadlem otočí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č voda nevyteč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kadinka2"/>
          <p:cNvPicPr/>
          <p:nvPr/>
        </p:nvPicPr>
        <p:blipFill>
          <a:blip r:embed="rId2"/>
          <a:srcRect l="2323" t="1837" r="984" b="1837"/>
          <a:stretch/>
        </p:blipFill>
        <p:spPr>
          <a:xfrm>
            <a:off x="5940360" y="2060640"/>
            <a:ext cx="3024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světlen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da nevyteč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ože tlak vzduchu, který působí na papír zvenku, je větší než hydrostatický tlak uvnitř sklen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8:13:03Z</dcterms:created>
  <dc:creator>Liba</dc:creator>
  <dc:description/>
  <dc:language>en-US</dc:language>
  <cp:lastModifiedBy>Vladislav Navrátil</cp:lastModifiedBy>
  <dcterms:modified xsi:type="dcterms:W3CDTF">2013-11-30T18:43:51Z</dcterms:modified>
  <cp:revision>57</cp:revision>
  <dc:subject/>
  <dc:title>Atmosférický tlak a jeho měření</dc:title>
</cp:coreProperties>
</file>