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5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43B-AD1D-4C0D-8020-2B5532E5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ED7-2734-409F-8EA4-8DCD0534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35F-046E-4C5C-8321-6B0864B0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EE6-DE51-4A75-866B-C875FE99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562-E693-453D-B07D-B90974E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A25E-6A25-433F-9078-95444986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AE31-27B8-4CDF-958A-0BA1B2C7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0C3A-3034-4431-9847-20E7C026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D6B-E93F-47EF-8109-4431624F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37AD-BCED-459F-AF92-20965270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D0D2-63CF-497A-B566-A634D3C5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CAC-D0DA-42DA-9C25-9E771C36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9F03-0344-4AC3-9FF6-DC0A1623B3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3480" y="712800"/>
            <a:ext cx="7869240" cy="5609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Nanotechnologie, </a:t>
            </a:r>
            <a:r>
              <a:rPr b="1" lang="cs-CZ" sz="2800" spc="-1" strike="noStrike">
                <a:solidFill>
                  <a:srgbClr val="000000"/>
                </a:solidFill>
                <a:latin typeface="Comic Sans MS"/>
              </a:rPr>
              <a:t>zdraví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a šk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Monotype Corsiva"/>
              </a:rPr>
              <a:t>Vladislav  Navrá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Úv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je vědní obor, který se zabývá cílený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tvářením a využíváním struktur materiálů v měří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kolika nanometrů alespoň v jednom směru (0,1-1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rukčními prvky jsou molekuly a dokonce i 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2200" y="568440"/>
            <a:ext cx="7867440" cy="5762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4. Příklady využití nano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.1. Nanobiosen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„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ělý no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 (8 „nosníků“, délka 5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šířka 10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, tloušťka 500 nm, rozteč 250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teriál: Si, potažený Ti a 20 nm vrstvičkou Au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vlak spec. polyme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enzor" descr=""/>
          <p:cNvPicPr/>
          <p:nvPr/>
        </p:nvPicPr>
        <p:blipFill>
          <a:blip r:embed="rId1">
            <a:lum contrast="100000"/>
          </a:blip>
          <a:stretch/>
        </p:blipFill>
        <p:spPr>
          <a:xfrm>
            <a:off x="4859280" y="3429000"/>
            <a:ext cx="3149640" cy="22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9640" y="333360"/>
            <a:ext cx="8209080" cy="6129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bakterií, virů a plísní (pomocí nanodrátů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rus měnívodiv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detekce plynů pomocí nanotru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mechanická pev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elký Youngův modul pruž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ysoká elektrická a tepel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div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nízká hust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významné elektrokataly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biosenz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nanotr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1258920" y="1916280"/>
            <a:ext cx="34005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63480" y="260280"/>
            <a:ext cx="7653600" cy="6311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kvantové tečky (klastry atomů CdSe, CdT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biologický výzkum molek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částice Si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nadná vazba na nukleové kyselin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tekce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řídění molek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635280" y="2421000"/>
            <a:ext cx="4600800" cy="4124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2200" y="568440"/>
            <a:ext cx="815652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uler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5 pětiúhelní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 20 šestiúhelní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(nosiče léků, možnost léčby HIV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ntibakteriální účinky, po přid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, K, Cs apod. mož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upravodivosti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ful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755640" y="1413000"/>
            <a:ext cx="43117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7840" y="423720"/>
            <a:ext cx="8227800" cy="6037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anorob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nový princip spalovacích moto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Me + O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O + Energie    MeO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Energi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e + H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3640" y="981000"/>
            <a:ext cx="3516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19120" y="568440"/>
            <a:ext cx="7940520" cy="5854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2573280" cy="174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2857680" cy="2352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1547640" y="3500280"/>
            <a:ext cx="2235240" cy="2068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5219640" y="3429000"/>
            <a:ext cx="21924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9120" y="260280"/>
            <a:ext cx="7940520" cy="63115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5. Nanomedic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rubice – umělé svaly a nervy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hydroxyapatitu Ca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P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OH)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zu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lantáty, kosti, 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částice Ag, Ag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– již staří Římané stolovali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íbře, koloidní stří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siče léků – fulerény, smektické tekuté kryst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K1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3419640" y="4076640"/>
            <a:ext cx="2666880" cy="2333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9120" y="568440"/>
            <a:ext cx="8085240" cy="5732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6.1. Nanotechnologie a léčba rako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asné způsoby léčby rakov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chirurgic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di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genotoxická chem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spektivní způs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terapie (umožněna pokrokem v molekulár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logii, genetice a imunolog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notechnologie umožní v blízké budouc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edovat nádor </a:t>
            </a:r>
            <a:r>
              <a:rPr b="0" lang="cs-CZ" sz="2400" spc="-1" strike="noStrike">
                <a:solidFill>
                  <a:srgbClr val="000000"/>
                </a:solidFill>
                <a:latin typeface="Monotype Corsiva"/>
              </a:rPr>
              <a:t>in vivo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ovat léky pří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 nádoru a plně pochopit mechanismus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kov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19120" y="568440"/>
            <a:ext cx="8085240" cy="5549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7. 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ozvoj nanotechnologií – další kvalita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voluce v lidském poznávání, mno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raznější, než používání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lývání vědních oblastí (fyzika + chemie+biolog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rozvoj nových interdiscipliárních vě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eorganizace školního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 + ch + b = SCI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48720" cy="4615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63972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r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900000" y="404640"/>
            <a:ext cx="7147080" cy="3575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6" name="a1004481" descr="Obr. 1."/>
          <p:cNvPicPr/>
          <p:nvPr/>
        </p:nvPicPr>
        <p:blipFill>
          <a:blip r:embed="rId2"/>
          <a:stretch/>
        </p:blipFill>
        <p:spPr>
          <a:xfrm>
            <a:off x="1116000" y="4149720"/>
            <a:ext cx="6686640" cy="2155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549360"/>
            <a:ext cx="813600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chard Feynman: „There is plenty room at the botto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Californian Institute of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2. Nanotechn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che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elektro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optika (nanofoton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biotechnolo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 nanomedicí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1495440" cy="1981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3120" y="352440"/>
            <a:ext cx="837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5440" cy="5880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19120" y="568440"/>
            <a:ext cx="801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360" y="1095480"/>
            <a:ext cx="8963280" cy="4667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496800"/>
            <a:ext cx="7724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8040" y="909720"/>
            <a:ext cx="8467920" cy="5038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496800"/>
            <a:ext cx="8085240" cy="59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3. Nanopří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Fluorescenční UV mikrosk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Povrchová plazmov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amanova spektrosko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EM (Scaning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EM (Transmission Electron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ET (Electron Tomograp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PM (Scanning Prob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Rtg diagnostická tomograf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Tomografická scinti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MRI (Magnetic Resonance Ima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Hmotová spektromet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671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AFM (Atomic Force Microsco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kantilever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755640" y="2492280"/>
            <a:ext cx="3630600" cy="223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kantik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43280" y="2492280"/>
            <a:ext cx="3714840" cy="225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8:44:48Z</dcterms:created>
  <dc:creator>Vladislav Navrátil</dc:creator>
  <dc:description/>
  <dc:language>en-US</dc:language>
  <cp:lastModifiedBy>Vladislav Navrátil</cp:lastModifiedBy>
  <dcterms:modified xsi:type="dcterms:W3CDTF">2012-09-16T17:30:01Z</dcterms:modified>
  <cp:revision>36</cp:revision>
  <dc:subject/>
  <dc:title>Snímek 1</dc:title>
</cp:coreProperties>
</file>