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8.jpeg" ContentType="image/jpeg"/>
  <Override PartName="/ppt/media/image34.jpeg" ContentType="image/jpeg"/>
  <Override PartName="/ppt/media/image6.png" ContentType="image/png"/>
  <Override PartName="/ppt/media/image12.jpeg" ContentType="image/jpeg"/>
  <Override PartName="/ppt/media/image37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8.gif" ContentType="image/gif"/>
  <Override PartName="/ppt/media/image18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B2D-8A36-4F1C-9700-2BE7DBFE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1B7-AE7E-4063-B198-A0D2D89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C5D-1E98-4F2F-8780-EDE6C6A6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311-DB49-429D-A3D9-A5D5697F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164-4FD0-4600-9BC1-53893167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02FF-4E34-4DB3-821C-DDC92EDB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E0C-AD34-4232-9A29-5740C66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46F-4701-4D2B-8E55-682AD2FB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3E0-0540-4CA7-B776-CA6D54F6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07C6-5F4F-4AA0-9198-3471D13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D5A1-E532-412A-B467-536922BB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C812-3CD1-46B8-8623-57CA4067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B8E-6F93-4114-99BB-7A315671FE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cs.wikipedia.org/wiki/Soubor:Princip_jaderne_naloze.svg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76200" y="352440"/>
            <a:ext cx="8443800" cy="61275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atastrofa v Černobylu a její dopad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idské zdra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tom_struct1"/>
          <p:cNvPicPr/>
          <p:nvPr/>
        </p:nvPicPr>
        <p:blipFill>
          <a:blip r:embed="rId1"/>
          <a:stretch/>
        </p:blipFill>
        <p:spPr>
          <a:xfrm>
            <a:off x="4284720" y="1989000"/>
            <a:ext cx="3328920" cy="332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Picture 6" descr="atom_structure2_240x180"/>
          <p:cNvPicPr/>
          <p:nvPr/>
        </p:nvPicPr>
        <p:blipFill>
          <a:blip r:embed="rId2"/>
          <a:stretch/>
        </p:blipFill>
        <p:spPr>
          <a:xfrm>
            <a:off x="1042920" y="2997360"/>
            <a:ext cx="2741760" cy="205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ovéPole 2"/>
          <p:cNvSpPr/>
          <p:nvPr/>
        </p:nvSpPr>
        <p:spPr>
          <a:xfrm>
            <a:off x="357120" y="428760"/>
            <a:ext cx="8429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4" descr="UK_CH_346.jpg"/>
          <p:cNvPicPr/>
          <p:nvPr/>
        </p:nvPicPr>
        <p:blipFill>
          <a:blip r:embed="rId1"/>
          <a:stretch/>
        </p:blipFill>
        <p:spPr>
          <a:xfrm>
            <a:off x="900000" y="836640"/>
            <a:ext cx="71438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rázek 1" descr="fruin4m.gif"/>
          <p:cNvPicPr/>
          <p:nvPr/>
        </p:nvPicPr>
        <p:blipFill>
          <a:blip r:embed="rId1"/>
          <a:stretch/>
        </p:blipFill>
        <p:spPr>
          <a:xfrm>
            <a:off x="755640" y="76500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423720"/>
            <a:ext cx="8353440" cy="60318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ásledky: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okamžiku katastrofy přítomno 4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 z nich zemřelo ihned na ozáření, 3 následkem výbuc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kutní nemoc z ozáření: 203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vakuováno 116 000 lid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si 40 000 dětí trpí nemocemi štítné žlázy. Velký vzrůst případů anémie a leukém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a Ukrajině bylo postiženo havárií asi 1,5 mil. Lidí. V Bělorusku žije asi 1,2 mil. Lidí n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ořeném územ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ituace u nás (bývalá ČSSR): Zlehčo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městnanci JE Dukovany měli pozitivní dozimetry když šli do práce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ejména Cs (30 let) – houby, divoč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 (8 d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ákaz spotřeby a distribuce ovčího mléka a výrobků z ně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ravské mléko s aktivitou nad 1000 Bq/l pouze na dlouhozrající sý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exandr Juvčen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85" descr="http://www.pavrda.cz/cernobyl/img/juvcenko.jpg"/>
          <p:cNvPicPr/>
          <p:nvPr/>
        </p:nvPicPr>
        <p:blipFill>
          <a:blip r:embed="rId1"/>
          <a:stretch/>
        </p:blipFill>
        <p:spPr>
          <a:xfrm>
            <a:off x="2843280" y="443700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ovéPole 1"/>
          <p:cNvSpPr/>
          <p:nvPr/>
        </p:nvSpPr>
        <p:spPr>
          <a:xfrm>
            <a:off x="428760" y="57168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724" descr="The spread of radiation and caesium across Europe"/>
          <p:cNvPicPr/>
          <p:nvPr/>
        </p:nvPicPr>
        <p:blipFill>
          <a:blip r:embed="rId1"/>
          <a:stretch/>
        </p:blipFill>
        <p:spPr>
          <a:xfrm>
            <a:off x="714240" y="1428840"/>
            <a:ext cx="7788240" cy="37148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47840" y="496800"/>
            <a:ext cx="8227800" cy="58842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 Černobyl d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.12.2000 odstaven poslední blok JE – nezaměstnanost v reg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4. blok zakryt sarkofágem (cca 2 miliard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vě zóny – 10 km (zákaz vstup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- 30 km (zamoření 137Cs a 90Sr). Je zde obydlená vesnice (600 du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ipjať je „mrtvým“ mě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íroda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ez člověka = poh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ivoká prasata, vlci, jeleni, bobři, lišky, rys a 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řábi, čápi černí, orlovci říční, orli mořš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prokázán vznik mut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vu došlo k poklesu počtu narozených mláď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zději – vyšší odolnost proti zá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ázek 87" descr="Tabule se jmenem elektrarny"/>
          <p:cNvPicPr/>
          <p:nvPr/>
        </p:nvPicPr>
        <p:blipFill>
          <a:blip r:embed="rId1"/>
          <a:stretch/>
        </p:blipFill>
        <p:spPr>
          <a:xfrm>
            <a:off x="900000" y="1052640"/>
            <a:ext cx="3044880" cy="2284200"/>
          </a:xfrm>
          <a:prstGeom prst="rect">
            <a:avLst/>
          </a:prstGeom>
          <a:ln w="0">
            <a:noFill/>
          </a:ln>
        </p:spPr>
      </p:pic>
      <p:pic>
        <p:nvPicPr>
          <p:cNvPr id="74" name="obrázek 10" descr="http://www.ecn.cz/ENV/Temelin/c11/Lenin.JPG"/>
          <p:cNvPicPr/>
          <p:nvPr/>
        </p:nvPicPr>
        <p:blipFill>
          <a:blip r:embed="rId2"/>
          <a:stretch/>
        </p:blipFill>
        <p:spPr>
          <a:xfrm>
            <a:off x="900000" y="3573360"/>
            <a:ext cx="3591000" cy="249552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13" descr="chernobyl photos"/>
          <p:cNvPicPr/>
          <p:nvPr/>
        </p:nvPicPr>
        <p:blipFill>
          <a:blip r:embed="rId3"/>
          <a:stretch/>
        </p:blipFill>
        <p:spPr>
          <a:xfrm>
            <a:off x="4716360" y="1052640"/>
            <a:ext cx="33750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03120" y="352440"/>
            <a:ext cx="84456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ázek 73" descr="chernobyl photos"/>
          <p:cNvPicPr/>
          <p:nvPr/>
        </p:nvPicPr>
        <p:blipFill>
          <a:blip r:embed="rId1"/>
          <a:stretch/>
        </p:blipFill>
        <p:spPr>
          <a:xfrm>
            <a:off x="900000" y="981000"/>
            <a:ext cx="71866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76200" y="35244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obrázek 6" descr="http://proatom.luksoft.cz/grafika/kone.png"/>
          <p:cNvPicPr/>
          <p:nvPr/>
        </p:nvPicPr>
        <p:blipFill>
          <a:blip r:embed="rId1"/>
          <a:stretch/>
        </p:blipFill>
        <p:spPr>
          <a:xfrm>
            <a:off x="539640" y="1844640"/>
            <a:ext cx="4286520" cy="301464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26" descr="chernobyl photos"/>
          <p:cNvPicPr/>
          <p:nvPr/>
        </p:nvPicPr>
        <p:blipFill>
          <a:blip r:embed="rId2"/>
          <a:stretch/>
        </p:blipFill>
        <p:spPr>
          <a:xfrm>
            <a:off x="4932360" y="765000"/>
            <a:ext cx="36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33" descr="chernobyl photos"/>
          <p:cNvPicPr/>
          <p:nvPr/>
        </p:nvPicPr>
        <p:blipFill>
          <a:blip r:embed="rId1"/>
          <a:stretch/>
        </p:blipFill>
        <p:spPr>
          <a:xfrm>
            <a:off x="684360" y="620640"/>
            <a:ext cx="77230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03120" y="3524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ázek 54" descr="chernobyl photos"/>
          <p:cNvPicPr/>
          <p:nvPr/>
        </p:nvPicPr>
        <p:blipFill>
          <a:blip r:embed="rId1"/>
          <a:stretch/>
        </p:blipFill>
        <p:spPr>
          <a:xfrm>
            <a:off x="684360" y="836640"/>
            <a:ext cx="77230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404640"/>
            <a:ext cx="8280360" cy="600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adioaktiv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očas rozpa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etězová reakce                        Kritické množství, Atomová bom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zar4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635280" y="765000"/>
            <a:ext cx="2220840" cy="1890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obrázek 38" descr="http://fyzika.jreichl.com/data/Mikro_4jaderka_soubory/image151.jpg"/>
          <p:cNvPicPr/>
          <p:nvPr/>
        </p:nvPicPr>
        <p:blipFill>
          <a:blip r:embed="rId2"/>
          <a:stretch/>
        </p:blipFill>
        <p:spPr>
          <a:xfrm>
            <a:off x="1258920" y="3716280"/>
            <a:ext cx="2403360" cy="224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7" name="obrázek 4" descr="http://upload.wikimedia.org/wikipedia/commons/thumb/4/41/Princip_jaderne_naloze.svg/180px-Princip_jaderne_naloze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3716280"/>
            <a:ext cx="2573280" cy="218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03120" y="404640"/>
            <a:ext cx="851688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ázek 34" descr="chernobyl photos"/>
          <p:cNvPicPr/>
          <p:nvPr/>
        </p:nvPicPr>
        <p:blipFill>
          <a:blip r:embed="rId1"/>
          <a:stretch/>
        </p:blipFill>
        <p:spPr>
          <a:xfrm>
            <a:off x="684360" y="76500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87" name="obrázek 47" descr="chernobyl photos"/>
          <p:cNvPicPr/>
          <p:nvPr/>
        </p:nvPicPr>
        <p:blipFill>
          <a:blip r:embed="rId2"/>
          <a:stretch/>
        </p:blipFill>
        <p:spPr>
          <a:xfrm>
            <a:off x="4716360" y="765000"/>
            <a:ext cx="36165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76200" y="423720"/>
            <a:ext cx="844380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ázek 55" descr="chernobyl photos"/>
          <p:cNvPicPr/>
          <p:nvPr/>
        </p:nvPicPr>
        <p:blipFill>
          <a:blip r:embed="rId1"/>
          <a:stretch/>
        </p:blipFill>
        <p:spPr>
          <a:xfrm>
            <a:off x="755640" y="907920"/>
            <a:ext cx="35226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obrázek 51" descr="chernobyl photos"/>
          <p:cNvPicPr/>
          <p:nvPr/>
        </p:nvPicPr>
        <p:blipFill>
          <a:blip r:embed="rId2"/>
          <a:stretch/>
        </p:blipFill>
        <p:spPr>
          <a:xfrm>
            <a:off x="4643280" y="907920"/>
            <a:ext cx="357696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obrázek 29" descr="chernobyl photos"/>
          <p:cNvPicPr/>
          <p:nvPr/>
        </p:nvPicPr>
        <p:blipFill>
          <a:blip r:embed="rId1"/>
          <a:stretch/>
        </p:blipFill>
        <p:spPr>
          <a:xfrm>
            <a:off x="971640" y="1052640"/>
            <a:ext cx="7129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1" descr="0223.jpg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rázek 1" descr="barji01.jpg"/>
          <p:cNvPicPr/>
          <p:nvPr/>
        </p:nvPicPr>
        <p:blipFill>
          <a:blip r:embed="rId1"/>
          <a:stretch/>
        </p:blipFill>
        <p:spPr>
          <a:xfrm>
            <a:off x="97164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rázek 1" descr="derevnya06.jpg"/>
          <p:cNvPicPr/>
          <p:nvPr/>
        </p:nvPicPr>
        <p:blipFill>
          <a:blip r:embed="rId1"/>
          <a:stretch/>
        </p:blipFill>
        <p:spPr>
          <a:xfrm>
            <a:off x="1187280" y="1052640"/>
            <a:ext cx="6286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rázek 1" descr="dom_bita01.jpg"/>
          <p:cNvPicPr/>
          <p:nvPr/>
        </p:nvPicPr>
        <p:blipFill>
          <a:blip r:embed="rId1"/>
          <a:stretch/>
        </p:blipFill>
        <p:spPr>
          <a:xfrm>
            <a:off x="971640" y="90792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rázek 1" descr="image51.jpg"/>
          <p:cNvPicPr/>
          <p:nvPr/>
        </p:nvPicPr>
        <p:blipFill>
          <a:blip r:embed="rId1"/>
          <a:stretch/>
        </p:blipFill>
        <p:spPr>
          <a:xfrm>
            <a:off x="1258920" y="1197000"/>
            <a:ext cx="66690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Obrázek 1" descr="kladbishe04.jpg"/>
          <p:cNvPicPr/>
          <p:nvPr/>
        </p:nvPicPr>
        <p:blipFill>
          <a:blip r:embed="rId1"/>
          <a:stretch/>
        </p:blipFill>
        <p:spPr>
          <a:xfrm>
            <a:off x="900000" y="692280"/>
            <a:ext cx="7189920" cy="53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Obrázek 1" descr="kladbishe07.jpg"/>
          <p:cNvPicPr/>
          <p:nvPr/>
        </p:nvPicPr>
        <p:blipFill>
          <a:blip r:embed="rId1"/>
          <a:stretch/>
        </p:blipFill>
        <p:spPr>
          <a:xfrm>
            <a:off x="611280" y="692280"/>
            <a:ext cx="733428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95280" y="404640"/>
            <a:ext cx="8299440" cy="591516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. Jaderný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Moderáto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ázek 21" descr="http://fyzika.jreichl.com/data/Mikro_4jaderka_soubory/image144.png"/>
          <p:cNvPicPr/>
          <p:nvPr/>
        </p:nvPicPr>
        <p:blipFill>
          <a:blip r:embed="rId1"/>
          <a:stretch/>
        </p:blipFill>
        <p:spPr>
          <a:xfrm>
            <a:off x="1763640" y="1197000"/>
            <a:ext cx="2678040" cy="4832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0" name="obrázek 32" descr="http://fyzika.jreichl.com/data/Mikro_4jaderka_soubory/image156.jpg"/>
          <p:cNvPicPr/>
          <p:nvPr/>
        </p:nvPicPr>
        <p:blipFill>
          <a:blip r:embed="rId2"/>
          <a:stretch/>
        </p:blipFill>
        <p:spPr>
          <a:xfrm>
            <a:off x="4788000" y="1413000"/>
            <a:ext cx="3311280" cy="4098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rázek 1" descr="kladbishe12.jpg"/>
          <p:cNvPicPr/>
          <p:nvPr/>
        </p:nvPicPr>
        <p:blipFill>
          <a:blip r:embed="rId1"/>
          <a:stretch/>
        </p:blipFill>
        <p:spPr>
          <a:xfrm>
            <a:off x="900000" y="62064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rázek 1" descr="rasokha-1a_0003.jpg"/>
          <p:cNvPicPr/>
          <p:nvPr/>
        </p:nvPicPr>
        <p:blipFill>
          <a:blip r:embed="rId1"/>
          <a:stretch/>
        </p:blipFill>
        <p:spPr>
          <a:xfrm>
            <a:off x="900000" y="765000"/>
            <a:ext cx="7143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PressurizedWaterReactor"/>
          <p:cNvPicPr/>
          <p:nvPr/>
        </p:nvPicPr>
        <p:blipFill>
          <a:blip r:embed="rId1"/>
          <a:stretch/>
        </p:blipFill>
        <p:spPr>
          <a:xfrm>
            <a:off x="971640" y="1413000"/>
            <a:ext cx="71438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76200" y="42372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ázek 113" descr="Schema reaktoru RBMK"/>
          <p:cNvPicPr/>
          <p:nvPr/>
        </p:nvPicPr>
        <p:blipFill>
          <a:blip r:embed="rId1"/>
          <a:stretch/>
        </p:blipFill>
        <p:spPr>
          <a:xfrm>
            <a:off x="826920" y="1341360"/>
            <a:ext cx="7428240" cy="4071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68360" y="411120"/>
            <a:ext cx="8227800" cy="60670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hlcená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Gy (J/k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Ekvivalentní dáv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 Sv (R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348000" y="836640"/>
          <a:ext cx="4319640" cy="5113440"/>
        </p:xfrm>
        <a:graphic>
          <a:graphicData uri="http://schemas.openxmlformats.org/drawingml/2006/table">
            <a:tbl>
              <a:tblPr/>
              <a:tblGrid>
                <a:gridCol w="2941560"/>
                <a:gridCol w="1378080"/>
              </a:tblGrid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 pro pracovníka se záření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až 3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Kerali v Ind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Guapari v Brazíl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írodní radiační pozadí občana Ramsaru v Irá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stř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žalud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G kyčl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 mS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covník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obyvatelstvo v okolí JE Dukovany obdrž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0,005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lety nadzvukovým letadlem Praha - U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8 mSv/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11280" y="476280"/>
            <a:ext cx="8064360" cy="596844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. Katastrofa Černobylské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8.4.1986 v 01.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kus: bude elektrický generátor, poháněný turbínou po uzavření páry schopen ješ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lespoň 40s napájet čerpadlo chladícího zařízení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 tomu bylo třeba snížit výkon reaktoru. Pokles výkonu byl příliš prudk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1. závažná chyba – vedoucí Djatlov rozkázal vysunout regulační tyč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. závažná chyba – operátoři zablokovali havarijní sig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eaktor pracoval, ale snížil se průtok chladící vody, teplota začala nekontrolovaně růs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cí dráha pro havarijní tyče se zdeformovala. Tlaková pára odsunula 1000 t těžk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betonovou desku. Do reaktoru vnikl vzduch a ten spolu s vodní párou a grafitem vytvoř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dík, který vybuchl a rozmetal do okolí palivo a 700 t radioaktivního hořícího grafi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zniklý požár byl s nasazením životů hasičů uhašen (vyzářeno asi 300 S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dioaktivní mrak – Skandinávie – zpět nad Ukrajinu a Bělorusko – Polsko – ČSSR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Rakousko – ČSSR – Polsko. Druhá větev – Bulharsk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27.4. – evakuace městečka Pripja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elikoptéry – 800 t dolomitu a karbidu bóru, 2400 t olova a 1800 t písku a jíl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„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Čínský syndrom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bezpečí – termální  exploze (voda pod reaktorem) – sondy – tekutý dusí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76200" y="496800"/>
            <a:ext cx="837252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ázek 102" descr="Mapa reaktorů na území Evropy a Asie"/>
          <p:cNvPicPr/>
          <p:nvPr/>
        </p:nvPicPr>
        <p:blipFill>
          <a:blip r:embed="rId1"/>
          <a:stretch/>
        </p:blipFill>
        <p:spPr>
          <a:xfrm>
            <a:off x="1187280" y="1052640"/>
            <a:ext cx="6842160" cy="50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404640"/>
            <a:ext cx="8569080" cy="5854680"/>
          </a:xfrm>
          <a:prstGeom prst="rect">
            <a:avLst/>
          </a:prstGeom>
          <a:solidFill>
            <a:srgbClr val="a6f8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ázek 2" descr="http://www.horackova.cz/pracezaku/wwwpages0708_5b/grafika_cejkaa/cernobyl1.jpg"/>
          <p:cNvPicPr/>
          <p:nvPr/>
        </p:nvPicPr>
        <p:blipFill>
          <a:blip r:embed="rId1"/>
          <a:stretch/>
        </p:blipFill>
        <p:spPr>
          <a:xfrm>
            <a:off x="468360" y="1628640"/>
            <a:ext cx="4138560" cy="28846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3" descr="http://www.volny.cz/kostka2000/reaktor2.jpg"/>
          <p:cNvPicPr/>
          <p:nvPr/>
        </p:nvPicPr>
        <p:blipFill>
          <a:blip r:embed="rId2"/>
          <a:stretch/>
        </p:blipFill>
        <p:spPr>
          <a:xfrm>
            <a:off x="4859280" y="765000"/>
            <a:ext cx="357048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1T18:24:59Z</dcterms:created>
  <dc:creator>Vladislav Navrátil</dc:creator>
  <dc:description/>
  <dc:language>en-US</dc:language>
  <cp:lastModifiedBy>Vladislav Navrátil</cp:lastModifiedBy>
  <dcterms:modified xsi:type="dcterms:W3CDTF">2012-11-21T20:20:53Z</dcterms:modified>
  <cp:revision>27</cp:revision>
  <dc:subject/>
  <dc:title>Snímek 1</dc:title>
</cp:coreProperties>
</file>