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857-B034-444A-ACDD-A3209602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AA0-4745-4CF4-B62E-1177CB31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0E8-BA08-43F7-8A72-52DD69FA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719-8C97-4D3D-A3D2-BBC85FC1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A774-02DB-4094-AA58-F01529D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625-65A2-4E08-B818-1FB79FB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125F-050B-4EFC-9749-BD00DB0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517-DE37-4A39-A2CC-6686A6E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6ED-4F21-4A76-8110-C74203E1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6DA-5C12-4D45-A0AD-7E00A47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9B6-5F56-461B-A310-9A9AA72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D4C-E607-46CC-BE04-CDB6B42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311-EAEC-4572-ABFE-A9217A965E9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13-11-30T19:00:13Z</dcterms:modified>
  <cp:revision>6</cp:revision>
  <dc:subject/>
  <dc:title>Snímek 1</dc:title>
</cp:coreProperties>
</file>