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8C1-14AC-4633-BE3B-8F28D6851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E62-2412-4C7D-9365-A1C4B436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084-01D2-4EA1-B863-2FF9217F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2FE-822E-4E1B-98B2-72C62EEA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F0E-C172-401E-A6DC-1BE4789F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926-264F-4B79-AEEC-70DE40AB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3DDD-5BCA-4D93-BE3F-2C23283C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C7A-E6A0-4983-A69C-0747ECA7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5BD-9EBC-4FC7-812F-BFC75D75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B4B-5780-4A15-A146-E108F4FD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CFF-F04D-47F0-BD10-5FDE91AD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830-02D1-4A37-BBD7-5C66E643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7CA-03B2-429F-BEF3-ED38796D49F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6200" y="496800"/>
            <a:ext cx="8372520" cy="573300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pembův  j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cs-CZ" sz="2000" spc="-1" strike="noStrike">
                <a:solidFill>
                  <a:srgbClr val="000000"/>
                </a:solidFill>
                <a:latin typeface="Monotype Corsiva"/>
              </a:rPr>
              <a:t>Navrátil Vladislav, Jenišová Dag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Úv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Historie Mpembova je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rasto Mpemba – Tanzá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rzlina“ – mléko + cuk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. Osborne (Univ. Dar es Sal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taří Řekové“, polévání kluzi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laboratorních podmínkách potvrzeno i nepotvrz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ybí přesné údaje o experimentálních podmínk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7628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mrzlina s tvarohem (Míš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9120" y="568440"/>
            <a:ext cx="80852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x převařená 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95280" y="42372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0,0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7840" y="496800"/>
            <a:ext cx="8084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2 wt.%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5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47840" y="496800"/>
            <a:ext cx="815652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odní roztok NaCl (10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76200" y="496800"/>
            <a:ext cx="8299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5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404640"/>
            <a:ext cx="801396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2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337520" cy="40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76200" y="423720"/>
            <a:ext cx="8443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19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733716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7840" y="496800"/>
            <a:ext cx="8084880" cy="609984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Možná teoretická vysvět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Různá rychlost proudě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Chemické slož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Změna mikrostruktury (klast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řechlazení kapali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enší množství teplejší kapaliny (vypařování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rotavení teplejší kapaliny do ledem pokryté podlož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plotní čidlo GMH (+ software GSOFT 30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razn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ystyrénová podlož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stejné plastové nádob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é kapaliny (destilovaná voda, studniční vo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ůzně koncentrované roztoky NaCl a kyseliny askorbové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léko, mléko s cukrem, zmrzlina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7840" y="49680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eplé vody o 38 wt.% mé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47840" y="496800"/>
            <a:ext cx="8227800" cy="5886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 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pembův jev nebyl pozorován ani na jedi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proměřených kapa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edná se tedy zřejmě o fyzikální jev v prav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smys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á vysvětle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rotavení nádobky s teplejší kapal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ledu na dně mraznič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enší množství teplejší kapaliny ve srovn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kapalinou chladnější (dokázali jsme, 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čí rozdíl v hmotnosti cca 10 wt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19120" y="639720"/>
            <a:ext cx="7940520" cy="54889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Děkujeme  za 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tilovaná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5684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niční vo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568440"/>
            <a:ext cx="835344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dní roztok kyseliny askorbové (5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840" y="568440"/>
            <a:ext cx="8227800" cy="558036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léko neslaz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léko oslazené (10 wt.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496800"/>
            <a:ext cx="822780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léko silně oslazené (30 wt.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7840" y="404640"/>
            <a:ext cx="8300880" cy="5823720"/>
          </a:xfrm>
          <a:prstGeom prst="rect">
            <a:avLst/>
          </a:prstGeom>
          <a:solidFill>
            <a:srgbClr val="66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ská zmrzl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337520" cy="4060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20:25:11Z</dcterms:created>
  <dc:creator>Vladislav Navrátil</dc:creator>
  <dc:description/>
  <dc:language>en-US</dc:language>
  <cp:lastModifiedBy>Vladislav Navrátil</cp:lastModifiedBy>
  <dcterms:modified xsi:type="dcterms:W3CDTF">2012-09-16T17:29:47Z</dcterms:modified>
  <cp:revision>25</cp:revision>
  <dc:subject/>
  <dc:title>Snímek 1</dc:title>
</cp:coreProperties>
</file>