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5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F1D-5C2E-4DFE-896D-C1FA3C33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DE4-BB7F-4EC9-B4EB-8D16E38A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1CE-94AB-4286-94A1-A977B12C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191-D799-42BC-83EC-5EC07721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21D-6815-4EFE-AABC-0B7105EF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2DB-11E0-49FF-A0EF-C6CBF4E2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08C-2913-43B0-9F4A-58A9BEFB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C63-95B7-41D0-87D2-00A9F36E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0B1-474E-4D15-8C02-1FA085D8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F8B-1A3C-44CF-93D8-CA8F5FD9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ECB-8F57-49FB-866A-72C8F2D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30E-DC3A-4F13-8B05-F9B1586E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C2D6-71F2-4641-AED3-C20CE98BB3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712800"/>
            <a:ext cx="7869240" cy="5609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anotechnologie,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draví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Vladislav  Navrá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je vědní obor, který se zabývá cílen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ářením a využíváním struktur materiálů v měří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olika nanometrů alespoň v jednom směru (0,1-10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rukčními prvky jsou molekuly a dokonce i 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2200" y="568440"/>
            <a:ext cx="7867440" cy="5762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4. Příklady využití nano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1. Nanobiosen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„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ělý no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 (8 „nosníků“, délka 5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řka 1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tloušťka 500 nm, rozteč 25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teriál: Si, potažený Ti a 20 nm vrstvičkou Au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lak spec. polyme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enzor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4859280" y="3429000"/>
            <a:ext cx="3149640" cy="22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8209080" cy="6129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bakterií, virů a plísní (pomocí nanodrátů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irus měnívodiv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plynů pomocí nanotru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mechanická pe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elký Youngův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elektrická a tepel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nízká hust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ýznamné elektrokataly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biosenz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nanotr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258920" y="1916280"/>
            <a:ext cx="34005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63480" y="260280"/>
            <a:ext cx="7653600" cy="6311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vantové tečky (klastry atomů CdSe, CdT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biologický výzkum molek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částice Si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nadná vazba na nukleové kyseli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kc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řídění molek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4600800" cy="412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2200" y="568440"/>
            <a:ext cx="815652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uler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pětiúhel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20 šesti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osiče léků, možnost léčby HI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bakteriální účinky, po při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, K, Cs apod. mo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pravodivosti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ful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755640" y="1413000"/>
            <a:ext cx="4311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7840" y="423720"/>
            <a:ext cx="8227800" cy="6037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rob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ový princip spalovacích moto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e + 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O + Energie    MeO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Energ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3516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9120" y="568440"/>
            <a:ext cx="7940520" cy="585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57328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285768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547640" y="3500280"/>
            <a:ext cx="2235240" cy="206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219640" y="3429000"/>
            <a:ext cx="2192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9120" y="260280"/>
            <a:ext cx="7940520" cy="631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5. Nanomedic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rubice – umělé svaly a nervy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hydroxyapatitu Ca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u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lantáty, kosti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Ag, A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– již staří Římané stolovali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bře, koloidní stří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siče léků – fulerény, smektické tekuté krys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K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419640" y="4076640"/>
            <a:ext cx="2666880" cy="233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9120" y="568440"/>
            <a:ext cx="8085240" cy="5732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6.1. Nanotechnologie a léčba rak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asné způsoby léčby rakov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chirurgic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di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genotoxická chem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spektivní způs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terapie (umožněna pokrokem v molekul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logii, genetice a imunolog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umožní v blízké budou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edovat nádor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in vivo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ravovat léky pří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nádoru a plně pochopit mechanismus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kov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568440"/>
            <a:ext cx="8085240" cy="5549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7. 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ozvoj nanotechnologií – další kvalit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voluce v lidském poznávání, mno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aznější, než používání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lývání vědních oblastí (fyzika + chemie+biolog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rozvoj nových interdiscipliárních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eorganizace školního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 + ch + b = SC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4615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63972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404640"/>
            <a:ext cx="7147080" cy="357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a1004481" descr="Obr. 1."/>
          <p:cNvPicPr/>
          <p:nvPr/>
        </p:nvPicPr>
        <p:blipFill>
          <a:blip r:embed="rId2"/>
          <a:stretch/>
        </p:blipFill>
        <p:spPr>
          <a:xfrm>
            <a:off x="1116000" y="4149720"/>
            <a:ext cx="6686640" cy="215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chard Feynman: „There is plenty room at the botto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Californian Institute of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. Nano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ch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elekt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optika (nanofoto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bio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medic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1495440" cy="198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3120" y="352440"/>
            <a:ext cx="837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05440" cy="588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56844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360" y="1095480"/>
            <a:ext cx="8963280" cy="46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496800"/>
            <a:ext cx="77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8040" y="909720"/>
            <a:ext cx="8467920" cy="503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496800"/>
            <a:ext cx="808524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Nano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UV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Povrchová plazmov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EM (Scaning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EM (Transmission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ET (Electron Tomograp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M (Scanning Prob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tg diagnostická tom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omografická scinti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RI (Magnetic Resonance Ima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Hmotová spektromet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6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AFM (Atomic Forc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antilever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55640" y="2492280"/>
            <a:ext cx="3630600" cy="223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kantik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43280" y="2492280"/>
            <a:ext cx="3714840" cy="225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8:44:48Z</dcterms:created>
  <dc:creator>Vladislav Navrátil</dc:creator>
  <dc:description/>
  <dc:language>en-US</dc:language>
  <cp:lastModifiedBy>Vladislav Navrátil</cp:lastModifiedBy>
  <dcterms:modified xsi:type="dcterms:W3CDTF">2012-09-16T17:30:01Z</dcterms:modified>
  <cp:revision>36</cp:revision>
  <dc:subject/>
  <dc:title>Snímek 1</dc:title>
</cp:coreProperties>
</file>