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F6B-92FF-4C60-8592-CA36D1FE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EA1-451E-406B-87FD-CC97C4D9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6DE-BE43-4296-A5D9-3024BB70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81F-00C1-45BE-B963-F6CC3EE3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6E7-648B-4D8E-A5AD-A621EFB4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CA4-E557-4D45-8F70-3B66F002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420-46C3-42F8-8E96-E8ED904D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6A3-25FF-4384-B158-2D678864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360-7D01-4A66-ADB3-67E28DE4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561-6A1C-4A8D-B713-55461A84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FE3-1605-488F-A860-07CDFAA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91F-66EA-4614-895B-C38485B6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EFF5-B813-4425-9445-009F2DFB348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496800"/>
            <a:ext cx="8372520" cy="5733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pembův  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Monotype Corsiva"/>
              </a:rPr>
              <a:t>Navrátil Vladislav, Jenišová Dag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Historie Mpembova je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asto Mpemba – Tanzá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rzlina“ – mléko + cuk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. Osborne (Univ. Dar es Sal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taří Řekové“, polévání kluz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laboratorních podmínkách potvrzeno i nepotvrz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í přesné údaje o experimentálních podmín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7628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mrzlina s tvarohem (Míš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x převařená 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42372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0,0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7840" y="496800"/>
            <a:ext cx="8084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2 wt.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0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200" y="496800"/>
            <a:ext cx="8299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5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801396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2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3752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6200" y="423720"/>
            <a:ext cx="8443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9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33716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7840" y="496800"/>
            <a:ext cx="8084880" cy="60998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Možná teoretická vysvět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ůzná rychlost proud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Chemické slož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měna mikrostruktury (klas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echlazení kapal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enší množství teplejší kapaliny (vypařov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tavení teplejší kapaliny do ledem pokryté podlož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lotní čidlo GMH (+ software GSOFT 30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razn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styrénová podlo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stejné plastové nádob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é kapaliny (destilovaná voda, studniční 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ě koncentrované roztoky NaCl a kyseliny askorbov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léko, mléko s cukrem, zmrzlina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7840" y="49680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38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7840" y="496800"/>
            <a:ext cx="8227800" cy="588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 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pembův jev nebyl pozorován ani na jed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proměřených ka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dná se tedy zřejmě o fyzikální jev v prav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smy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á vysvětl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tavení nádobky s teplejší kapal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ledu na dně mraznič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enší množství teplejší kapaliny ve srov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kapalinou chladnější (dokázali jsme, 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čí rozdíl v hmotnosti cca 10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19120" y="639720"/>
            <a:ext cx="7940520" cy="54889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ěkujeme  za 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niční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6844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dní roztok kyseliny askorbové (5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840" y="568440"/>
            <a:ext cx="8227800" cy="5580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éko neslaz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 oslazené (10 wt.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49680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o silně oslazené (30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7840" y="4046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ká zmrz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20:25:11Z</dcterms:created>
  <dc:creator>Vladislav Navrátil</dc:creator>
  <dc:description/>
  <dc:language>en-US</dc:language>
  <cp:lastModifiedBy>Vladislav Navrátil</cp:lastModifiedBy>
  <dcterms:modified xsi:type="dcterms:W3CDTF">2012-09-16T17:29:47Z</dcterms:modified>
  <cp:revision>25</cp:revision>
  <dc:subject/>
  <dc:title>Snímek 1</dc:title>
</cp:coreProperties>
</file>