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5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2A0-76A3-47CF-94BE-87E05B52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FCB-F569-461E-8AC0-A87C8747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5B9-8C96-4C0D-B41E-1D6EF0D6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EC0-B280-4733-B261-3EFC152F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060-9F50-425E-AC57-CC63E12D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E1F-1D77-4651-9595-29F4F4D0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F17-9AC0-4D8D-8F04-5307A428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937-B2F4-499C-A6D9-358FE100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D32-089F-42B9-9C4B-9368529C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A71-223E-4B57-81AD-C96A739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D4A-4D6A-4CFF-85B6-B65F0392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FB9-9136-41D3-8E74-A8D0B3FC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8F53-8EE3-452D-9ADD-4EC2C57BB9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480" y="712800"/>
            <a:ext cx="7869240" cy="5609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anotechnologie,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draví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Monotype Corsiva"/>
              </a:rPr>
              <a:t>Vladislav  Navrá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je vědní obor, který se zabývá cílen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ářením a využíváním struktur materiálů v měří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olika nanometrů alespoň v jednom směru (0,1-100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rukčními prvky jsou molekuly a dokonce i 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2200" y="568440"/>
            <a:ext cx="7867440" cy="5762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4. Příklady využití nano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1. Nanobiosen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„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ělý no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 (8 „nosníků“, délka 5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řka 1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tloušťka 500 nm, rozteč 25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teriál: Si, potažený Ti a 20 nm vrstvičkou Au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lak spec. polyme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enzor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4859280" y="3429000"/>
            <a:ext cx="3149640" cy="22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8209080" cy="6129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bakterií, virů a plísní (pomocí nanodrátů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irus měnívodiv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plynů pomocí nanotru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mechanická pe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elký Youngův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elektrická a tepel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d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nízká hust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ýznamné elektrokataly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biosenz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nanotr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258920" y="1916280"/>
            <a:ext cx="34005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63480" y="260280"/>
            <a:ext cx="7653600" cy="6311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kvantové tečky (klastry atomů CdSe, CdT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biologický výzkum molek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částice Si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nadná vazba na nukleové kyselin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kc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řídění molek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4600800" cy="4124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2200" y="568440"/>
            <a:ext cx="815652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uler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pětiúhel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20 šestiúhe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osiče léků, možnost léčby HI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bakteriální účinky, po při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, K, Cs apod. mo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pravodivosti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ful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755640" y="1413000"/>
            <a:ext cx="4311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7840" y="423720"/>
            <a:ext cx="8227800" cy="6037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rob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ový princip spalovacích moto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e + 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O + Energie    MeO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Energ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3516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9120" y="568440"/>
            <a:ext cx="7940520" cy="585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573280" cy="174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2857680" cy="235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547640" y="3500280"/>
            <a:ext cx="2235240" cy="206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5219640" y="3429000"/>
            <a:ext cx="2192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9120" y="260280"/>
            <a:ext cx="7940520" cy="63115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5. Nanomedic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rubice – umělé svaly a nervy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hydroxyapatitu Ca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u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lantáty, kosti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Ag, A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– již staří Římané stolovali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bře, koloidní stří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siče léků – fulerény, smektické tekuté krys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K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419640" y="4076640"/>
            <a:ext cx="2666880" cy="233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9120" y="568440"/>
            <a:ext cx="8085240" cy="5732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6.1. Nanotechnologie a léčba rak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časné způsoby léčby rakov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chirurgic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di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genotoxická chem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spektivní způs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terapie (umožněna pokrokem v molekul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logii, genetice a imunolog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umožní v blízké budou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edovat nádor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in vivo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ravovat léky pří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 nádoru a plně pochopit mechanismus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kov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568440"/>
            <a:ext cx="8085240" cy="5549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7. Záv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ozvoj nanotechnologií – další kvalit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voluce v lidském poznávání, mno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aznější, než používání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lývání vědních oblastí (fyzika + chemie+biolog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rozvoj nových interdiscipliárních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eorganizace školního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 + ch + b = SC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4615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63972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404640"/>
            <a:ext cx="7147080" cy="357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a1004481" descr="Obr. 1."/>
          <p:cNvPicPr/>
          <p:nvPr/>
        </p:nvPicPr>
        <p:blipFill>
          <a:blip r:embed="rId2"/>
          <a:stretch/>
        </p:blipFill>
        <p:spPr>
          <a:xfrm>
            <a:off x="1116000" y="4149720"/>
            <a:ext cx="6686640" cy="215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49360"/>
            <a:ext cx="813600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chard Feynman: „There is plenty room at the botto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Californian Institute of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. Nano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ch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elektr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optika (nanofoto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bio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medic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1495440" cy="198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3120" y="352440"/>
            <a:ext cx="837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05440" cy="588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56844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360" y="1095480"/>
            <a:ext cx="8963280" cy="46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496800"/>
            <a:ext cx="77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8040" y="909720"/>
            <a:ext cx="8467920" cy="5038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496800"/>
            <a:ext cx="808524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Nano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UV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Povrchová plazmov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EM (Scaning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EM (Transmission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ET (Electron Tomograp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M (Scanning Prob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tg diagnostická tom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omografická scinti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MRI (Magnetic Resonance Ima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Hmotová spektromet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6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AFM (Atomic Forc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kantilever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55640" y="2492280"/>
            <a:ext cx="3630600" cy="223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kantik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43280" y="2492280"/>
            <a:ext cx="3714840" cy="225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8:44:48Z</dcterms:created>
  <dc:creator>Vladislav Navrátil</dc:creator>
  <dc:description/>
  <dc:language>en-US</dc:language>
  <cp:lastModifiedBy>Vladislav Navrátil</cp:lastModifiedBy>
  <dcterms:modified xsi:type="dcterms:W3CDTF">2012-09-16T17:30:01Z</dcterms:modified>
  <cp:revision>36</cp:revision>
  <dc:subject/>
  <dc:title>Snímek 1</dc:title>
</cp:coreProperties>
</file>