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066-6CB9-4F21-8385-1F8BA716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B28-8130-400B-81D6-96EDB600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7DA-25B3-4DDF-BBD2-9FD84BD3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6E93-6BEF-4712-A650-9A06EED4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D55F-9D43-4E31-A769-AFB1CE62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981-45D2-42D2-BB7A-16115EB3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3F0-9CA2-406D-8BF6-CB23E244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B4B-0278-4599-A839-03601FFE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E35-2E4F-4E9C-A5CC-0A292144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FC1-085A-4F3B-8FAD-A57F01DA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E1E-9914-4DC0-A2A3-9ACD8E14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036-C481-4620-90E1-4944C275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3DE1-3420-4CEF-A34C-FECB832CD07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120" y="189000"/>
            <a:ext cx="8013600" cy="6215760"/>
          </a:xfrm>
          <a:prstGeom prst="rect">
            <a:avLst/>
          </a:prstGeom>
          <a:solidFill>
            <a:srgbClr val="f0fda1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ískávání a měření nízkých tl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Jednotky tla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Pa = N /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 = kp / cm2 = 0,9807.105 Pa (technická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b = 105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m = 760 torr = 1,01325.105 Pa (fyzikální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torr = 1,3332.102 Pa = tlak 1 mm sloupce H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vě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dní a pístová vývě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92360" y="3213000"/>
          <a:ext cx="1638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1638360" cy="3124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V2" descr="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788000" y="3213000"/>
            <a:ext cx="2171520" cy="18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084880" cy="496980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ngmuirův – Dushmanův vakuoměr              Penning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VA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125360"/>
            <a:ext cx="19400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VRAK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56000" y="2205000"/>
            <a:ext cx="381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9560" y="568440"/>
            <a:ext cx="7605720" cy="55803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patková rotač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V6" descr="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2050920" y="1557360"/>
            <a:ext cx="4934160" cy="405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ývěva s kolujícím rot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V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700280"/>
            <a:ext cx="6046920" cy="34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9120" y="56844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otsova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V9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43280" y="1484280"/>
            <a:ext cx="4228920" cy="407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bomolekulár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V10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11640" y="1052640"/>
            <a:ext cx="1743120" cy="204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V1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3429000"/>
            <a:ext cx="63054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úz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denzační a getrovací vývě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V1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56000" y="1052640"/>
            <a:ext cx="5035320" cy="46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96800"/>
            <a:ext cx="8156520" cy="594612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ěření nízkých tl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cleod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VA1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32000" y="1844640"/>
            <a:ext cx="2116080" cy="416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VA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780000" y="2708280"/>
            <a:ext cx="4559040" cy="255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63480" y="63972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ránové man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VA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2133720"/>
            <a:ext cx="7359480" cy="206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9120" y="568440"/>
            <a:ext cx="8156520" cy="54874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lekulární vakuomě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Ionizační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VA4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907920"/>
            <a:ext cx="1485720" cy="40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VA5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1628640"/>
            <a:ext cx="2732400" cy="300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5:05:11Z</dcterms:created>
  <dc:creator>Vladislav Navrátil</dc:creator>
  <dc:description/>
  <dc:language>en-US</dc:language>
  <cp:lastModifiedBy>Vladislav Navrátil</cp:lastModifiedBy>
  <dcterms:modified xsi:type="dcterms:W3CDTF">2013-11-30T19:00:13Z</dcterms:modified>
  <cp:revision>6</cp:revision>
  <dc:subject/>
  <dc:title>Snímek 1</dc:title>
</cp:coreProperties>
</file>