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D60-14E3-49F3-B874-D44EA056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BF0-4BD5-446F-9764-2BC2992E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D62-7FD1-4D0F-818D-853733BC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FEC-891D-4A03-8048-27C67278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42F-EF38-4B40-8368-1BF1F2A3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44C-19FC-416B-82FD-81E29DBB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2A5-10B5-4CC0-9380-FBC830B9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07C-A68D-44B3-A87C-876158C7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024-8795-4506-9579-90E96005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EC3-AD7B-4D78-B70C-137BE0C4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13C-A4D6-40B1-9E67-0CD87B25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F14-A2B0-4005-B855-FBD7F9F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7D1B-4BBA-41D1-9804-AF8DE0B1BF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496800"/>
            <a:ext cx="8372520" cy="5733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pembův  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Monotype Corsiva"/>
              </a:rPr>
              <a:t>Navrátil Vladislav, Jenišová Dag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Historie Mpembova j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asto Mpemba – Tanz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rzlina“ – mléko + cu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. Osborne (Univ. Dar es Sal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taří Řekové“, polévání kluz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laboratorních podmínkách potvrzeno i nepotvrz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přesné údaje o experimentálních podmín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7628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rzlina s tvarohem (Míš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x převařená 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2372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0,0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840" y="496800"/>
            <a:ext cx="8084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2 wt.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0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200" y="496800"/>
            <a:ext cx="8299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5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801396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2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3752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6200" y="423720"/>
            <a:ext cx="8443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9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3716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840" y="496800"/>
            <a:ext cx="8084880" cy="60998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Možná teoretická vysvět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ůzná rychlost proud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Chemické slo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měna mikrostruktury (klas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chlazení kapa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množství teplejší kapaliny (vypařov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tavení teplejší kapaliny do ledem pokryté podlož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otní čidlo GMH (+ software GSOFT 30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azn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styrénová podlo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stejné plastové nádo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é kapaliny (destilovaná voda, studniční 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ě koncentrované roztoky NaCl a kyseliny askorbov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éko, mléko s cukrem, zmrzlina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7840" y="49680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38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7840" y="496800"/>
            <a:ext cx="8227800" cy="588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 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pembův jev nebyl pozorován ani na jed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proměřených ka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dná se tedy zřejmě o fyzikální jev v prav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smy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á vysvět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tavení nádobky s teplejší kapal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du na dně mraznič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enší množství teplejší kapaliny ve s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kapalinou chladnější (dokáza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čí rozdíl v hmotnosti cca 10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9120" y="639720"/>
            <a:ext cx="7940520" cy="54889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ěkujeme  za 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ničn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6844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dní roztok kyseliny askorbové (5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568440"/>
            <a:ext cx="8227800" cy="558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éko nesla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 oslazené (10 wt.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49680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 silně oslazené (30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7840" y="4046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ká zmrz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25:11Z</dcterms:created>
  <dc:creator>Vladislav Navrátil</dc:creator>
  <dc:description/>
  <dc:language>en-US</dc:language>
  <cp:lastModifiedBy>Vladislav Navrátil</cp:lastModifiedBy>
  <dcterms:modified xsi:type="dcterms:W3CDTF">2012-09-16T17:29:47Z</dcterms:modified>
  <cp:revision>25</cp:revision>
  <dc:subject/>
  <dc:title>Snímek 1</dc:title>
</cp:coreProperties>
</file>