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BEE-DD3F-45C5-ADB8-3351F8A3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33D-1DF3-4BC7-B90E-8DA71048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1FB-0522-4689-ABAA-D5E7ADE8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6C6-5609-4043-8C15-CA944A82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B20-18E5-4CA0-9C98-8E9DF635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817-515D-41C2-9A00-D49022C2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1BE-5DED-4ABB-A1D7-DCAE88F3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0F9-1167-493C-B22B-257A7EFF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7AC-ECA3-43A0-BD11-8507B44C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855-07C3-4E66-81D0-1591DBC0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385-F3AD-4159-8ACE-C83FEFE3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1BC-77F3-47CF-9FEB-90BFC1B2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D560-159C-4E3C-80DF-4A92CD0198C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f.mff.cuni.cz/veletrh/sbornik/Veletrh_02/02_27_Trna.html" TargetMode="External"/><Relationship Id="rId3" Type="http://schemas.openxmlformats.org/officeDocument/2006/relationships/hyperlink" Target="http://www-ucjf.troja.mff.cuni.cz/dolejsi/fkn/fkn3-9/fkn3-9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lak a jeho měření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tm"/>
          <p:cNvPicPr/>
          <p:nvPr/>
        </p:nvPicPr>
        <p:blipFill>
          <a:blip r:embed="rId2"/>
          <a:stretch/>
        </p:blipFill>
        <p:spPr>
          <a:xfrm>
            <a:off x="2627280" y="2637000"/>
            <a:ext cx="36734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uch byl dlouho pokládán za „nehmotnou a bez tížnou látk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ce 1644 navrhl italský fyzik Torricelli po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azoval jím, že vzduch není nehmotný, ale že na něj působí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 vyvolává 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pokus byl nazván později „TORRICELLIHO POKUS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torricrs"/>
          <p:cNvPicPr/>
          <p:nvPr/>
        </p:nvPicPr>
        <p:blipFill>
          <a:blip r:embed="rId2"/>
          <a:stretch/>
        </p:blipFill>
        <p:spPr>
          <a:xfrm>
            <a:off x="6443640" y="1413000"/>
            <a:ext cx="2205000" cy="3533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516720" y="530064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08 - 16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4000" y="333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rricelli vzal 1 metr dlouhou skleněnou trubici, na jednom konci zatave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il ji rtutí a uzavřel zát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k trubici obrátil dnem vzhůru a ponořil do nádoby se rt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tku odstra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tor1"/>
          <p:cNvPicPr/>
          <p:nvPr/>
        </p:nvPicPr>
        <p:blipFill>
          <a:blip r:embed="rId2"/>
          <a:stretch/>
        </p:blipFill>
        <p:spPr>
          <a:xfrm>
            <a:off x="5292720" y="2276640"/>
            <a:ext cx="3311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tá část rtuti vytekla, pod zataveným koncem se vytvořilo vzduchoprázd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naklánění trubice se vždy hladina ustálila ve výšce přibližně 750 mm nad volným povrchem rtuti v nádo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toriceli"/>
          <p:cNvPicPr/>
          <p:nvPr/>
        </p:nvPicPr>
        <p:blipFill>
          <a:blip r:embed="rId2"/>
          <a:stretch/>
        </p:blipFill>
        <p:spPr>
          <a:xfrm>
            <a:off x="2627280" y="4005360"/>
            <a:ext cx="345744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 zabránilo rtuti, aby nevytekla všech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íla“ vzduchu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ůsobící na volný povrch hladiny rtuti v nádob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eboli atmosférick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lak působící na volný povrch rt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rtuť ve skleněné trubici působí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hydrostatick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Hladina rtuťového sloupce klesá až k vyrovnání obou tlaků, a to atmosférického a hydrostati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álí se na hodnotě 750 mm nad povr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počet atmosférického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stejný jako hydrostatický tlak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ačíme jej   …..  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áme hodnotu hydrostatického tlaku 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pce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 = 750 mm = 0,7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(rtuti) = 13 600 kg/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 = 10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h 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.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0,75 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3 600 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=  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……. ATMOSFÉRICKÝ TL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4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9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e atmosférický tlak vždy a všude stejn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327640" cy="518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, jeho velikost je závislá na nadmořské výšce, denní době, teplotě vzduchu,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získáš aktuální údaje o atmosférickém tla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edpovědích počas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í se v hektopaskalech (h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na hekto znamená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kPa = 10 h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hPa = 100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Největší atmosférický tl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je u hladiny moř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se stoupající nadmořskou výšk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tlak kles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mount_everest"/>
          <p:cNvPicPr/>
          <p:nvPr/>
        </p:nvPicPr>
        <p:blipFill>
          <a:blip r:embed="rId2"/>
          <a:stretch/>
        </p:blipFill>
        <p:spPr>
          <a:xfrm>
            <a:off x="6084720" y="4076640"/>
            <a:ext cx="2695680" cy="2011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ocean"/>
          <p:cNvPicPr/>
          <p:nvPr/>
        </p:nvPicPr>
        <p:blipFill>
          <a:blip r:embed="rId3"/>
          <a:stretch/>
        </p:blipFill>
        <p:spPr>
          <a:xfrm>
            <a:off x="6084720" y="1484280"/>
            <a:ext cx="27370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1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1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4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2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5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tmosférický tlak ve výšk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vysokým pohořím je tloušťka atmosféry menší než v níži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zde i nižší tlak vzdu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rolezci vědí, že ve výškách od 3 000 m se hůře dýchá ( do plic se při nižším tlaku vzduchu dostane méně kyslí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výstupu nad 6 000 m je dobré mít kyslíkový přístr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orolezec"/>
          <p:cNvPicPr/>
          <p:nvPr/>
        </p:nvPicPr>
        <p:blipFill>
          <a:blip r:embed="rId2"/>
          <a:stretch/>
        </p:blipFill>
        <p:spPr>
          <a:xfrm>
            <a:off x="6156360" y="2060640"/>
            <a:ext cx="2601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je jednou ze základních fyzikálních veličin v techn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stavovou veličinou, která určuje stav lá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ny tekutiny v kapalném nebo plynném skupenství působí určitým tlakem na stěny nádoby, ve které jsou uzavřeny ,nebo působí na stěny tělesa do nich ponořené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kou tlaku je pascal (P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scal je tlak, který vyvolává síla jednoho newtonu rovnoměrně rozložená na rovinné ploše s obsahem jednoho čtverečního metru, kolmé ke směru sí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raktické použití v technické praxi je jednotka 1 Pa velmi malá, proto používáme jednotky násobné kPa, MP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hlediska vyjádření můžeme tlak udávat vůči dvěma vztažným hodnotám, absolutní tlakové nule a atmosférickému tla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tohoto kritéria můžeme hovořit 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absolutní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ře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od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diferenčním (rozdílové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dnotky (staré i současn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finice tlaku :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scal: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 Pa = N.m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atmosféra: 1 at = kp.c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torr:                     1 mm Hg    (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13545,87 kg.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fyzikální atmosféra: 1 atm = 760 t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bar:                     1 b = 100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Pa =   1,02 . 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t.   1 at = 0,9801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torr = 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b =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35951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m = 1,01325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01325 b = 1,0332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 =    0,9807 b = 0,9807 Pa = 0,9678 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b =     750,07 tor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zděleni tlakomě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měření tlaku se využívá různých fyzikálních principů, které se liší podle charakteru převodu tlaku na výstupní signá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iče tlaku (tlakoměry) můžeme rozdělit podle několika hledisek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le rozsahu měře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manometry pro měření pře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  barometry pro měření tlaků ovzduš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vakuometry pro měření velkých pod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diferenční ( rozdílový ) tlakoměr pro měření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lakových rozdíl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 manovakuometry pro měření přetlaků a podtlak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116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deburské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loko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270792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to von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, starosta města Magdeburgu, v roce 1654 předvedl dramatický experiment, ve kterém ukázal „sílu vakua“ a dokázal existenci atmosféry Zem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 spojil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vě duté měděn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 úchyty o průměru 51 cm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a ze vzniklé dutiny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vypumpoval vzdu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olok"/>
          <p:cNvPicPr/>
          <p:nvPr/>
        </p:nvPicPr>
        <p:blipFill>
          <a:blip r:embed="rId2"/>
          <a:srcRect l="9331" t="0" r="5787" b="0"/>
          <a:stretch/>
        </p:blipFill>
        <p:spPr>
          <a:xfrm>
            <a:off x="5292720" y="260280"/>
            <a:ext cx="30956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fyzikálního principu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Kapali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sou založeny na účinku hydrostatického tlaku, který vyvozuje tlakoměrná kapa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silovým účink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í tlaku se převádí na měření síly, jejíž účinky jsou vyvažovány např. závažím či pruži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ormač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ý tlak způsobuje pružnou deformaci tlakoměrného členu. Velikost deformace je úměrná hodnotě měřeného tla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ic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yužívají principu tlakové závislosti některých elektrických veli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stupně přes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 provoz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kontrol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 - o třídu přesnější než provoz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laborator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- bývají nejpřesnějš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lakoměry se silovým účink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pístového tlakoměru je podstatnou součástí píst přesného průřezu, umístěný ve válci (obr.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na píst se přenáší obvykle olejem, kterým je celý systém tlakoměru vyplně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íla, vzniklá působením měřeného tlaku na píst, je kompenzována tíhou pístu a závaž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ováhy sil se dosáhne v okamžiku, kdy se píst nepohybuje ve směru os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sah měření pístovými tlakoměry je od 0,05 do 2 000 MPa a i ví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2"/>
          <a:stretch/>
        </p:blipFill>
        <p:spPr>
          <a:xfrm>
            <a:off x="3851280" y="3933720"/>
            <a:ext cx="126360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ormační tlakom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ncip funkce deformačních tlakoměrů je založen na pružné deformaci, a tím i na změně geometrického tvaru vhodných tlakoměrných prvků, vlivem působení měřeného tla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častěji používanými deformačními prvky jsou Bourdonova trubice, membrána, krabice a vlnovec (obr. 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ormační prvky se zhotovují z uhlíkových a niklových ocelí, z mosazi, z fosforového a beryliového bronzu a dalších vhodných sli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2"/>
          <a:stretch/>
        </p:blipFill>
        <p:spPr>
          <a:xfrm>
            <a:off x="1700280" y="4208400"/>
            <a:ext cx="574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roje k 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ometr = rtuťový tlakoměr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strojen na základě Torricelliho pokusu: skleněná trubička se rtutí otevřeným koncem přechází do otevřené ba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rtur_tlak"/>
          <p:cNvPicPr/>
          <p:nvPr/>
        </p:nvPicPr>
        <p:blipFill>
          <a:blip r:embed="rId2"/>
          <a:srcRect l="0" t="1754" r="11890" b="4576"/>
          <a:stretch/>
        </p:blipFill>
        <p:spPr>
          <a:xfrm>
            <a:off x="971640" y="2349360"/>
            <a:ext cx="942840" cy="410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4aneroi"/>
          <p:cNvPicPr/>
          <p:nvPr/>
        </p:nvPicPr>
        <p:blipFill>
          <a:blip r:embed="rId3"/>
          <a:srcRect l="0" t="9321" r="22475" b="18687"/>
          <a:stretch/>
        </p:blipFill>
        <p:spPr>
          <a:xfrm>
            <a:off x="2987640" y="3500280"/>
            <a:ext cx="2606760" cy="2232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998160" y="5805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ku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495960" y="29242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čička na stup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635280" y="2349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5584320" y="3789360"/>
            <a:ext cx="312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užné zvlněné víčko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hnutí se m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změnou atmosfé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yb se přenese na ručič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škom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lakoměr může pracovat i jako výškom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á toho, že atmosférický tlak klesá s rostoucí výš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a tlaku se převádí na změnu nadmořské vý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vyskomer"/>
          <p:cNvPicPr/>
          <p:nvPr/>
        </p:nvPicPr>
        <p:blipFill>
          <a:blip r:embed="rId2"/>
          <a:stretch/>
        </p:blipFill>
        <p:spPr>
          <a:xfrm>
            <a:off x="2771640" y="3645000"/>
            <a:ext cx="2700360" cy="2808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490720" y="460044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škoměr v leta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p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 zemský povrch nazýváme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atmosférický tla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načka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32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určujeme pomocí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hydrostatického tlaku rtu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měříme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rtuťovými tlakoměry (barometry) nebo aneroid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ho hodnota je přibližně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100 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ná hodnota závisí na počasí a nadmořské výš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scalův zákon pro kapaliny a ply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 dokáže vz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njek"/>
          <p:cNvPicPr/>
          <p:nvPr/>
        </p:nvPicPr>
        <p:blipFill>
          <a:blip r:embed="rId4"/>
          <a:srcRect l="7151" t="0" r="0" b="0"/>
          <a:stretch/>
        </p:blipFill>
        <p:spPr>
          <a:xfrm>
            <a:off x="5076720" y="3357720"/>
            <a:ext cx="192420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pascal"/>
          <p:cNvPicPr/>
          <p:nvPr/>
        </p:nvPicPr>
        <p:blipFill>
          <a:blip r:embed="rId5"/>
          <a:stretch/>
        </p:blipFill>
        <p:spPr>
          <a:xfrm>
            <a:off x="1547640" y="3357720"/>
            <a:ext cx="1737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k nechal zapřáhnout ke každé polokouli 4 páry koní a ukazoval, že ani 16 koní není schopno od sebe polokoule oddělit. Poté, co nechal do dutiny opět vniknout vzduch, se od sebe obě polokoule oddělily samovo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kázal, že obě polokoule nebyly k sobě pevně připoutány vzduchoprázdnem, ale že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olokoule držel u sebe tlak okolního vzduch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magd"/>
          <p:cNvPicPr/>
          <p:nvPr/>
        </p:nvPicPr>
        <p:blipFill>
          <a:blip r:embed="rId2"/>
          <a:stretch/>
        </p:blipFill>
        <p:spPr>
          <a:xfrm>
            <a:off x="1476360" y="4005360"/>
            <a:ext cx="63356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lověk zahrabaný pískem na pláži na sobě cítí tíhovou sílu pí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  námi j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a,složená z atomů a molek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a všechny působí tíhová sí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ledkem tíhové síly je značný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působí na předměty i na n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tlak nazývám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ick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isek"/>
          <p:cNvPicPr/>
          <p:nvPr/>
        </p:nvPicPr>
        <p:blipFill>
          <a:blip r:embed="rId2"/>
          <a:stretch/>
        </p:blipFill>
        <p:spPr>
          <a:xfrm>
            <a:off x="1835280" y="2276640"/>
            <a:ext cx="4608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působí na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každý čtverečný centimet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emského povrchu takovou silou, jako kdyby na něm bylo položeno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závaží 1 k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kilo"/>
          <p:cNvPicPr/>
          <p:nvPr/>
        </p:nvPicPr>
        <p:blipFill>
          <a:blip r:embed="rId2"/>
          <a:stretch/>
        </p:blipFill>
        <p:spPr>
          <a:xfrm>
            <a:off x="6227640" y="1628640"/>
            <a:ext cx="1710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č si atmosférický tlak ne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laková síla atmosféry na povrch lidského těla je obrovs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hadneme-li obsah povrchu člověka na 1 m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je celková tlaková síla atmosféry      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100 000 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Stejně velký tlak je však i uvnitř lidského tě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to jsou síly působící na pokožku stejně velké, mají opačný směr,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výslednice je tedy nulov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y si přítomnost atmosférického tlaku 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eme-li autem dlouho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o kopce nebo z kop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cítíme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 v uší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něco nás nutí poly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něco je převažující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ová síl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evnitř nebo zven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káním obě síly vyrovnává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 další přík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y tlaku při jízdě ve výtahu, při přistávání letadla,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letadlo"/>
          <p:cNvPicPr/>
          <p:nvPr/>
        </p:nvPicPr>
        <p:blipFill>
          <a:blip r:embed="rId2"/>
          <a:stretch/>
        </p:blipFill>
        <p:spPr>
          <a:xfrm>
            <a:off x="6588000" y="4437000"/>
            <a:ext cx="2152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90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íme prázdnou sklenici od marmelády po okraj vod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třihnutý tvrdý papír (větší než okraj sklenice) přiložíme na vodní hladinu tak, aby pod ním nebyla žádná vzduchová bub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umyvadlem otoč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č voda nevyteč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kadinka2"/>
          <p:cNvPicPr/>
          <p:nvPr/>
        </p:nvPicPr>
        <p:blipFill>
          <a:blip r:embed="rId2"/>
          <a:srcRect l="2323" t="1837" r="984" b="1837"/>
          <a:stretch/>
        </p:blipFill>
        <p:spPr>
          <a:xfrm>
            <a:off x="5940360" y="2060640"/>
            <a:ext cx="3024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světle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a nevyteč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že tlak vzduchu, který působí na papír zvenku, je větší než hydrostatický tlak uvnitř skle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8:13:03Z</dcterms:created>
  <dc:creator>Liba</dc:creator>
  <dc:description/>
  <dc:language>en-US</dc:language>
  <cp:lastModifiedBy>Vladislav Navrátil</cp:lastModifiedBy>
  <dcterms:modified xsi:type="dcterms:W3CDTF">2013-11-30T18:43:51Z</dcterms:modified>
  <cp:revision>57</cp:revision>
  <dc:subject/>
  <dc:title>Atmosférický tlak a jeho měření</dc:title>
</cp:coreProperties>
</file>