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8C3-762C-4265-B3D4-52F62B4E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111-AB0D-4617-9E9A-83CCC5E2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1F3-1551-471E-8FF4-D4E8A4F8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26D-C3E3-4798-9EF7-5BEEC565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E02-BC54-45E2-A3FC-2FCC76DA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0E3-BA8D-4B72-A05D-03F7811A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003-8ADB-4267-9213-1FB30335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CAC-A6FE-4680-AD4A-D82210BE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33A-C577-4B3E-A299-088A8BF2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242-2C05-4375-95DA-B528D019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4C8-1B3B-4B12-9AC9-36147B42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143-B6C5-4FF7-8194-492886FD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A740-950D-41C2-9C43-63D8B410D51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13-11-30T19:00:13Z</dcterms:modified>
  <cp:revision>6</cp:revision>
  <dc:subject/>
  <dc:title>Snímek 1</dc:title>
</cp:coreProperties>
</file>