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D02-1A75-467F-8A5C-3F2CFCEE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F2B-8ADA-4010-A595-C03258A8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8D9-F067-4375-A49E-3CAF89E9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1F9E-C7D5-45FE-B3FB-19894EE5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020-64F6-41FD-AF52-B3EA9628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428A-B113-4BEC-A0D9-DE33164B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A0F-8764-4911-A309-9B7E670B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4E0D-A45D-4516-8762-505B2AC3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1CA-414E-4AC8-B0B6-58202086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421E-C138-4255-8BD3-BFAF6E36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D70C-4EE8-4911-9AF6-27358150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A51-FF84-4F07-AB95-2345C5EA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DF00-8F15-49B3-BC86-3148F61379A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tm.ch.cam.ac.uk/tour/atmosphere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tm.ch.cam.ac.uk/tour/tour_images/total_ozone.gif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47840" y="496800"/>
            <a:ext cx="8300880" cy="59767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zonová díra a lidské zdra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O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uch: 21%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Ozon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lný oxi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oposféra-polu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eční záření, 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tosféra (9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štít proti UV zář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322" descr="http://www.theozonehole.com/images/Bonds.jpg"/>
          <p:cNvPicPr/>
          <p:nvPr/>
        </p:nvPicPr>
        <p:blipFill>
          <a:blip r:embed="rId1"/>
          <a:stretch/>
        </p:blipFill>
        <p:spPr>
          <a:xfrm>
            <a:off x="3995640" y="1989000"/>
            <a:ext cx="379116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47840" y="49680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1" descr="Map of total ozone over the antarctic on October 4, 2004 with the area under 200 Dobson Units highlighted"/>
          <p:cNvPicPr/>
          <p:nvPr/>
        </p:nvPicPr>
        <p:blipFill>
          <a:blip r:embed="rId1"/>
          <a:stretch/>
        </p:blipFill>
        <p:spPr>
          <a:xfrm>
            <a:off x="2268360" y="836640"/>
            <a:ext cx="4927680" cy="532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24000" y="682560"/>
            <a:ext cx="8424720" cy="579240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ázek 224" descr="http://www.atm.ch.cam.ac.uk/tour/tour_images/oct_ozone.gif"/>
          <p:cNvPicPr/>
          <p:nvPr/>
        </p:nvPicPr>
        <p:blipFill>
          <a:blip r:embed="rId1"/>
          <a:stretch/>
        </p:blipFill>
        <p:spPr>
          <a:xfrm>
            <a:off x="755640" y="1341360"/>
            <a:ext cx="760104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76200" y="352440"/>
            <a:ext cx="837252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nosti freon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extremálně chemicky stabilní, v troposféře až v100 let (průhledný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eční záření, ve vodě nerozpustný, neoxidu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ohou dosáhnout stratosféry a tam za působení UV záření dochází 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atalytické řetězové reak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l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lO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O + O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l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ždý atom Cl „zničí“ asi 100 000 molekul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„řádí“ ve stratosfé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ca 2 r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e stratosféry může odejít tak, že ClO vytvoří s 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itrát chloru ClO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 se ale může opět rozložit na volný chlór a dále škod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: Cl + CH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znikne HCl a ta je dobře rozpustná ve vo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735120" y="712800"/>
            <a:ext cx="772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ázek 304" descr="http://upload.wikimedia.org/wikipedia/commons/thumb/d/d5/Sources_of_stratospheric_chlorine.png/280px-Sources_of_stratospheric_chlorine.png"/>
          <p:cNvPicPr/>
          <p:nvPr/>
        </p:nvPicPr>
        <p:blipFill>
          <a:blip r:embed="rId1"/>
          <a:stretch/>
        </p:blipFill>
        <p:spPr>
          <a:xfrm>
            <a:off x="2340000" y="1197000"/>
            <a:ext cx="4728960" cy="444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519120" y="639720"/>
            <a:ext cx="8229600" cy="55803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304" descr="http://upload.wikimedia.org/wikipedia/commons/thumb/d/d5/Sources_of_stratospheric_chlorine.png/280px-Sources_of_stratospheric_chlorine.png"/>
          <p:cNvPicPr/>
          <p:nvPr/>
        </p:nvPicPr>
        <p:blipFill>
          <a:blip r:embed="rId2"/>
          <a:stretch/>
        </p:blipFill>
        <p:spPr>
          <a:xfrm>
            <a:off x="2268360" y="1125360"/>
            <a:ext cx="5002560" cy="469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63480" y="189000"/>
            <a:ext cx="7940880" cy="64339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5. Polární stratosférické mra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y před cca 100 lety ve výšce asi 20 km nad polární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astmi (jsou 10 – 100 km dlouhé a několik km tlusté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ují se v zimě, kdy se zejména nad Antarktidou vytvoří tz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lární vír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zolovaná masa chladného vzduchu, která teplo vyzařu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e nepřijímá (Slunce ji neohřívá). Teplota je velmi nízká, cca -80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chází ke složitým chemickým reakcím, které mají za následek vz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onové díry právě nad jižním pólem(nad severním též, ale v menší míře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obrázek 2" descr="Photograph of a polar stratospheric cloud"/>
          <p:cNvPicPr/>
          <p:nvPr/>
        </p:nvPicPr>
        <p:blipFill>
          <a:blip r:embed="rId1"/>
          <a:stretch/>
        </p:blipFill>
        <p:spPr>
          <a:xfrm>
            <a:off x="2124000" y="3213000"/>
            <a:ext cx="4923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76200" y="352440"/>
            <a:ext cx="8372520" cy="612900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050920" y="620640"/>
            <a:ext cx="5229360" cy="5668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68360" y="639720"/>
            <a:ext cx="8136000" cy="56721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6. Ozonová díra a lidské zdra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75 dramaticky narůstá výskyt rakoviny kůže zejmé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ustrálii (ale i v USA a Evrop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% poklesu koncentrace ozonu způsobí vzrůst UVB o 1 – 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každé procento UVB záření vzrůstá výskyt rakoviny kůže o cca 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70 poklesla koncentrace ozonu cca o 10%, což by mě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následek nárůst případů rakoviny kůže o cca 20 – 4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 nárůst byl ale 90%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řejmě se uplatňují i jiné faktory (delší průměrný věk, apo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akovina kůže se vyvíjí i více než 10 l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. Závěr (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eopalovat se na prudkém slu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osit i v létě lehké oblečení a pokrývku hl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užívat ochranné kré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ledovat zprávy o stavu ozonové vrst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519120" y="568440"/>
            <a:ext cx="786924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47640" y="1052640"/>
            <a:ext cx="5689800" cy="4910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447840" y="49680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obrázek 3" descr="http://www.atm.ch.cam.ac.uk/tour/tour_images/atmospher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557360"/>
            <a:ext cx="663588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Ozonová vrstva - náčrt"/>
          <p:cNvPicPr/>
          <p:nvPr/>
        </p:nvPicPr>
        <p:blipFill>
          <a:blip r:embed="rId1"/>
          <a:stretch/>
        </p:blipFill>
        <p:spPr>
          <a:xfrm>
            <a:off x="1692360" y="1125360"/>
            <a:ext cx="5761080" cy="4969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84360" y="54936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Ozonová vrstva - náčrt"/>
          <p:cNvPicPr/>
          <p:nvPr/>
        </p:nvPicPr>
        <p:blipFill>
          <a:blip r:embed="rId2"/>
          <a:stretch/>
        </p:blipFill>
        <p:spPr>
          <a:xfrm>
            <a:off x="1835280" y="981000"/>
            <a:ext cx="5761080" cy="496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92200" y="639720"/>
            <a:ext cx="7867440" cy="55803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323" descr="http://www.theozonehole.com/images/uv_abc.gif"/>
          <p:cNvPicPr/>
          <p:nvPr/>
        </p:nvPicPr>
        <p:blipFill>
          <a:blip r:embed="rId1"/>
          <a:stretch/>
        </p:blipFill>
        <p:spPr>
          <a:xfrm>
            <a:off x="1692360" y="1052640"/>
            <a:ext cx="5668920" cy="485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39640" y="549360"/>
            <a:ext cx="8156520" cy="58852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Vznik ozonu ve stratosfé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ření UVA, UVB, U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0,1 – 0,4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 + O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chrana před U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UVA dopadne na Ze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326" descr="http://www.theozonehole.com/images/ozone.37.jpg"/>
          <p:cNvPicPr/>
          <p:nvPr/>
        </p:nvPicPr>
        <p:blipFill>
          <a:blip r:embed="rId1"/>
          <a:stretch/>
        </p:blipFill>
        <p:spPr>
          <a:xfrm>
            <a:off x="3419640" y="2133720"/>
            <a:ext cx="4735440" cy="370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329" descr="http://www.theozonehole.com/images/ozone.38.jpg"/>
          <p:cNvPicPr/>
          <p:nvPr/>
        </p:nvPicPr>
        <p:blipFill>
          <a:blip r:embed="rId1"/>
          <a:stretch/>
        </p:blipFill>
        <p:spPr>
          <a:xfrm>
            <a:off x="2050920" y="765000"/>
            <a:ext cx="4930920" cy="5369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47840" y="423720"/>
            <a:ext cx="8300880" cy="6007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 Měření koncentrace ozo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20 (Dobsonův UV spektromet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DU odpovídá koncentraci 1ppb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satelitů od r. 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 Ozonová dí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rvé pozorována 1985 (Britská expedice v Antarktid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pokrývá celou Antarktidu s přilehlými oblastmi (část Patagon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oha 26 milionů km2 (zatím největší byla v letech 2000-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orovnání: Rozloha Afriky je cca 30 milionů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 září – den ozonu (16.9.1987 – podepsán Montrealský protok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ochraně ozonové vrstv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činy vzniku ozonové díry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ony (chlorofluorokarbony CFCs) – M. Molina a F.S. Row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hnací plyn ve sprayích, ledničky,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50920" y="260280"/>
            <a:ext cx="8713800" cy="64033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4" descr="http://www.atm.ch.cam.ac.uk/tour/tour_images/total_ozone.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773360"/>
            <a:ext cx="2263680" cy="313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9" name="obrázek 362" descr="http://home.tiscali.cz/polarsection/Recovery.gif"/>
          <p:cNvPicPr/>
          <p:nvPr/>
        </p:nvPicPr>
        <p:blipFill>
          <a:blip r:embed="rId3"/>
          <a:stretch/>
        </p:blipFill>
        <p:spPr>
          <a:xfrm>
            <a:off x="2843280" y="1341360"/>
            <a:ext cx="5762520" cy="403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8:52:29Z</dcterms:created>
  <dc:creator>Vladislav Navrátil</dc:creator>
  <dc:description/>
  <dc:language>en-US</dc:language>
  <cp:lastModifiedBy>Vladislav Navrátil</cp:lastModifiedBy>
  <dcterms:modified xsi:type="dcterms:W3CDTF">2012-09-16T17:22:43Z</dcterms:modified>
  <cp:revision>21</cp:revision>
  <dc:subject/>
  <dc:title>Snímek 1</dc:title>
</cp:coreProperties>
</file>