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18.png" ContentType="image/png"/>
  <Override PartName="/ppt/media/image6.png" ContentType="image/png"/>
  <Override PartName="/ppt/media/image29.png" ContentType="image/png"/>
  <Override PartName="/ppt/media/image8.png" ContentType="image/png"/>
  <Override PartName="/ppt/media/image9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12.png" ContentType="image/png"/>
  <Override PartName="/ppt/media/image16.png" ContentType="image/png"/>
  <Override PartName="/ppt/media/image13.gif" ContentType="image/gif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6F0-AE21-4845-9146-85037C1B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623-845A-44BC-9C9E-89BBAC2A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38E6-244C-412E-B651-C3CB9DE2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C31-1BE5-4E5D-9C8C-36CE3021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CEA4-C396-4B1D-8126-EBD08C4E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7672-FF62-4232-A758-5CF69EC0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9E3C-0193-4475-BB17-0A77237A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BAB9-84C9-4B25-8CBB-9953E66F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1FD6-CA33-450C-A923-B970C028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AE53-1C0D-4D58-A645-859C323B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5C6-5E1F-4FD3-9DE4-F60CA17D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5B3-4441-493F-B971-FEC8415E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7C3E-EF1D-40E3-A3B8-7D9C4E86733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19120" y="639720"/>
            <a:ext cx="8156520" cy="625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cs-CZ" sz="4000" spc="-1" strike="noStrike">
                <a:solidFill>
                  <a:srgbClr val="000000"/>
                </a:solidFill>
                <a:latin typeface="Monotype Corsiva"/>
              </a:rPr>
              <a:t>Letem   Světem  (Vesmírem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obrázek 17" descr="http://upload.wikimedia.org/wikipedia/commons/thumb/2/2e/Jupiter_Earth_Comparison.png/200px-Jupiter_Earth_Comparison.png"/>
          <p:cNvPicPr/>
          <p:nvPr/>
        </p:nvPicPr>
        <p:blipFill>
          <a:blip r:embed="rId1"/>
          <a:stretch/>
        </p:blipFill>
        <p:spPr>
          <a:xfrm>
            <a:off x="1403280" y="1125360"/>
            <a:ext cx="626904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" name="obrázek 19" descr="http://upload.wikimedia.org/wikipedia/commons/thumb/0/09/Saturn-cassini-March-27-2004.jpg/200px-Saturn-cassini-March-27-2004.jpg"/>
          <p:cNvPicPr/>
          <p:nvPr/>
        </p:nvPicPr>
        <p:blipFill>
          <a:blip r:embed="rId1"/>
          <a:stretch/>
        </p:blipFill>
        <p:spPr>
          <a:xfrm>
            <a:off x="1403280" y="981000"/>
            <a:ext cx="63914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76200" y="496800"/>
            <a:ext cx="8228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3" name="obrázek 244" descr="Asteroid Ida"/>
          <p:cNvPicPr/>
          <p:nvPr/>
        </p:nvPicPr>
        <p:blipFill>
          <a:blip r:embed="rId1"/>
          <a:stretch/>
        </p:blipFill>
        <p:spPr>
          <a:xfrm>
            <a:off x="1476360" y="981000"/>
            <a:ext cx="61498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592200" y="712800"/>
            <a:ext cx="7940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5" name="obrázek 25" descr="http://upload.wikimedia.org/wikipedia/commons/thumb/1/14/Comet_Hale_Bopp.jpg/200px-Comet_Hale_Bopp.jpg"/>
          <p:cNvPicPr/>
          <p:nvPr/>
        </p:nvPicPr>
        <p:blipFill>
          <a:blip r:embed="rId1"/>
          <a:stretch/>
        </p:blipFill>
        <p:spPr>
          <a:xfrm>
            <a:off x="1116000" y="1052640"/>
            <a:ext cx="6885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447840" y="368280"/>
            <a:ext cx="8227800" cy="59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stroje a jednotky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astronomická jednotka (cca 150 000 000 km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větelný rok = 9,46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arsek = 3,262 ly = 206 265 AU = 3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2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g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 = 2,997 924 580 .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300 M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k (pozemský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gonometrie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matika, přírodní věd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14400" y="533520"/>
            <a:ext cx="7407360" cy="5518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přírodní zákony a jevy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interakce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RAVITAČNÍ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LEKTROMAGNETICK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LAB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ILN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wtonův zákon všeobecné gravitace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2895480" y="4800600"/>
                <a:ext cx="194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κ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600120"/>
            <a:ext cx="8696160" cy="649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lektromagnetické  záření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povahy spíše vlnové)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0" name="Picture 3" descr="spektrum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80880" y="1600200"/>
            <a:ext cx="83822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19120" y="439560"/>
            <a:ext cx="8156520" cy="5760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ktroskopie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2" name="Picture 5" descr="Light_dispersion_conceptual"/>
          <p:cNvPicPr/>
          <p:nvPr/>
        </p:nvPicPr>
        <p:blipFill>
          <a:blip r:embed="rId1"/>
          <a:stretch/>
        </p:blipFill>
        <p:spPr>
          <a:xfrm>
            <a:off x="1835280" y="1916280"/>
            <a:ext cx="600696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58920" y="260280"/>
            <a:ext cx="860580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dinkový model               Rutherfordův model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rovnání Bohrova 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ého model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hrův model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4" name="Picture 3" descr="fm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476280"/>
            <a:ext cx="2098800" cy="2116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rut"/>
          <p:cNvPicPr/>
          <p:nvPr/>
        </p:nvPicPr>
        <p:blipFill>
          <a:blip r:embed="rId2">
            <a:lum contrast="90000"/>
          </a:blip>
          <a:stretch/>
        </p:blipFill>
        <p:spPr>
          <a:xfrm>
            <a:off x="2771640" y="476280"/>
            <a:ext cx="2860920" cy="215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fm1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84360" y="3573360"/>
            <a:ext cx="2065320" cy="2264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fm2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5867280" y="476280"/>
            <a:ext cx="29876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47840" y="520560"/>
            <a:ext cx="82278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obrázek 49" descr="http://www-hep2.fzu.cz/adventure/images/quark_chartf.gif"/>
          <p:cNvPicPr/>
          <p:nvPr/>
        </p:nvPicPr>
        <p:blipFill>
          <a:blip r:embed="rId1"/>
          <a:stretch/>
        </p:blipFill>
        <p:spPr>
          <a:xfrm>
            <a:off x="1908000" y="692280"/>
            <a:ext cx="5855040" cy="182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obrázek 106" descr="http://fyzika.jreichl.com/data/Mikro_5detekce_soubory/image243.png"/>
          <p:cNvPicPr/>
          <p:nvPr/>
        </p:nvPicPr>
        <p:blipFill>
          <a:blip r:embed="rId2"/>
          <a:stretch/>
        </p:blipFill>
        <p:spPr>
          <a:xfrm>
            <a:off x="1476360" y="2852640"/>
            <a:ext cx="6048360" cy="3333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nik, vývoj a stavba vesmír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 flipH="1">
            <a:off x="762120" y="1828800"/>
            <a:ext cx="7619760" cy="4117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.A. Ambarcumja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lověk se liší od vepřů mimo jiné tím, že občas zvedá hlavu a dívá se na hvězdy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orges Lemaitre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ývoj kosmu lze srovnat s ohňostrojem, který jsme zastihli v okamžiku, kdy už končí: několik žhavých uhlíků, popel a dým. Stojíme na chladném popelu, vidíme pomalu vyhasínající Slunce a snažíme se oživit minulé velkolepé počátky světů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47840" y="511200"/>
            <a:ext cx="8084880" cy="545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ření gam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2" name="Picture 5" descr="180px-Gammadecay-1"/>
          <p:cNvPicPr/>
          <p:nvPr/>
        </p:nvPicPr>
        <p:blipFill>
          <a:blip r:embed="rId1"/>
          <a:stretch/>
        </p:blipFill>
        <p:spPr>
          <a:xfrm>
            <a:off x="2771640" y="1773360"/>
            <a:ext cx="3429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pplerův je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4" name="Picture 5" descr="doppleruv jev"/>
          <p:cNvPicPr/>
          <p:nvPr/>
        </p:nvPicPr>
        <p:blipFill>
          <a:blip r:embed="rId1"/>
          <a:stretch/>
        </p:blipFill>
        <p:spPr>
          <a:xfrm>
            <a:off x="1332000" y="2205000"/>
            <a:ext cx="6431040" cy="258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5" descr="Doppler"/>
          <p:cNvPicPr/>
          <p:nvPr/>
        </p:nvPicPr>
        <p:blipFill>
          <a:blip r:embed="rId1"/>
          <a:stretch/>
        </p:blipFill>
        <p:spPr>
          <a:xfrm>
            <a:off x="1908000" y="1125360"/>
            <a:ext cx="5029200" cy="2514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6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26920" y="4437000"/>
          <a:ext cx="7129800" cy="1341360"/>
        </p:xfrm>
        <a:graphic>
          <a:graphicData uri="http://schemas.openxmlformats.org/drawingml/2006/table">
            <a:tbl>
              <a:tblPr/>
              <a:tblGrid>
                <a:gridCol w="2851200"/>
                <a:gridCol w="1427400"/>
                <a:gridCol w="2851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b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frekvence, kterou zjistí pozorovatel, vůči kterému je zdroj v klidu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frekvence, kterou zjistí pozorovatel, vůči kterému se zdroj pohybuje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 zdroje vůči pozorovateli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, jakou se šíří vlněn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0" name="Picture 126" descr="1-14"/>
          <p:cNvPicPr/>
          <p:nvPr/>
        </p:nvPicPr>
        <p:blipFill>
          <a:blip r:embed="rId2"/>
          <a:stretch/>
        </p:blipFill>
        <p:spPr>
          <a:xfrm>
            <a:off x="5435640" y="4508640"/>
            <a:ext cx="1533600" cy="40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7" descr="1-13"/>
          <p:cNvPicPr/>
          <p:nvPr/>
        </p:nvPicPr>
        <p:blipFill>
          <a:blip r:embed="rId3"/>
          <a:stretch/>
        </p:blipFill>
        <p:spPr>
          <a:xfrm>
            <a:off x="1692360" y="4437000"/>
            <a:ext cx="15429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24000" y="404640"/>
            <a:ext cx="8424720" cy="6192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plerovský rud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dý a modr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ktrálních čar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unce          Superkupa BAS 11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3" name="obrázek 1" descr="http://upload.wikimedia.org/wikipedia/commons/thumb/1/14/Redshift.png/200px-Redshift.png"/>
          <p:cNvPicPr/>
          <p:nvPr/>
        </p:nvPicPr>
        <p:blipFill>
          <a:blip r:embed="rId1"/>
          <a:stretch/>
        </p:blipFill>
        <p:spPr>
          <a:xfrm>
            <a:off x="755640" y="1197000"/>
            <a:ext cx="2541600" cy="4484520"/>
          </a:xfrm>
          <a:prstGeom prst="rect">
            <a:avLst/>
          </a:prstGeom>
          <a:ln w="0">
            <a:noFill/>
          </a:ln>
        </p:spPr>
      </p:pic>
      <p:pic>
        <p:nvPicPr>
          <p:cNvPr id="94" name="obrázek 3" descr="http://upload.wikimedia.org/wikipedia/commons/thumb/e/e4/Redshift_blueshift.svg/200px-Redshift_blueshift.svg.png"/>
          <p:cNvPicPr/>
          <p:nvPr/>
        </p:nvPicPr>
        <p:blipFill>
          <a:blip r:embed="rId2"/>
          <a:stretch/>
        </p:blipFill>
        <p:spPr>
          <a:xfrm>
            <a:off x="4284720" y="2276640"/>
            <a:ext cx="3811680" cy="238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03120" y="376200"/>
            <a:ext cx="8229600" cy="5854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éseauxův – Olbersův paradox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26: „proč je obloha tmavá“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 i J.Kepler (1610): „Ať se podíváme kamkoliv do Vesmíru, vždy vidíme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jakou hvězdu. Ve skutečnosti je ale obloha tmavá“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Vesmír není statický (Newtonův), ale rozpíná se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důsledku toho se vzdálené galaxie stanou infračervenými, tedy pro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 neviditelnými. Celá obloha sice září ze všech směrů, al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nových délkách 10 000 krát delších, než je viditelné světlo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to světlo hvězd, al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liktní zář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 dob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osmologické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kombinace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 byl Vesmír 300 000 let starý a žhavý jako povr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ce. V té době skutečně zářila celá obloha jako pokrytá Slun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té doby se vlnové délky světla rozepnuly (roztáhly), neboť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ína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ý Vesmír. Ze světla je dnes mikrovlnné záření  z cel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ohy (reliktní záření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76200" y="404640"/>
            <a:ext cx="829944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mologický rudý posuv, Olbersův paradox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7" name="obrázek 68" descr="Olbersův paradox"/>
          <p:cNvPicPr/>
          <p:nvPr/>
        </p:nvPicPr>
        <p:blipFill>
          <a:blip r:embed="rId1"/>
          <a:stretch/>
        </p:blipFill>
        <p:spPr>
          <a:xfrm>
            <a:off x="2268360" y="1628640"/>
            <a:ext cx="4286520" cy="428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47840" y="368280"/>
            <a:ext cx="8227800" cy="6157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ychlost světla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. Galile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. Roem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. Foucolt</a:t>
            </a: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5" descr="Jupiter s měsíci, Země a Slunce"/>
          <p:cNvPicPr/>
          <p:nvPr/>
        </p:nvPicPr>
        <p:blipFill>
          <a:blip r:embed="rId1"/>
          <a:stretch/>
        </p:blipFill>
        <p:spPr>
          <a:xfrm>
            <a:off x="4427640" y="981000"/>
            <a:ext cx="1904760" cy="190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Picture 6" descr="Princip Foucaultova rotujícího zrcadla"/>
          <p:cNvPicPr/>
          <p:nvPr/>
        </p:nvPicPr>
        <p:blipFill>
          <a:blip r:embed="rId2"/>
          <a:stretch/>
        </p:blipFill>
        <p:spPr>
          <a:xfrm>
            <a:off x="4427640" y="3500280"/>
            <a:ext cx="3504960" cy="2181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76200" y="115920"/>
            <a:ext cx="8228160" cy="6616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Jak to všechno začalo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Starý zákon, První Mojžíšova kniha (Genesis)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Monotype Corsiva"/>
              </a:rPr>
              <a:t>Na počátku stvořil Bůh nebe a zemi. Země byla pustá a prázdná a nad propastnou tůní byla tma. Ale nad vodami vznášel se Duch Bož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vební kameny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a – veškeré organické a anorganické látky, skládající se z molekul (které se dále skládají z atomů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 mrtvé i živé je složeno z atomů 92 prvků (navíc je 12 umělý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ost, že jakákoliv hmota je složena z atomů – společný rys všech objektů na Zemi i v celém Vesmíru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kaz – spektroskopie (ale i přímo – Apollo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omy – jádro + obal (jádro kladné, obal záporný). r ~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 –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měř veškerá hmotnost j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rnko rýže – nejhořejší řady fotbalového stadionu. Slunce – Pluto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: protony + neutrony.Protony se silně odpuzují, musí tedy existovat silné přitažlivé (jaderné) síly, přítomné pouz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y – nikoliv dráhy, lépe elektronový mrak. Dráhy lze užít kvůli názornosti.Celkem 7 elektronových slupek, do každé se vejde maximálně 2.n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elektronů ( 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, 7)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.I. Mendělejev a Lothar Meyer – periodická tabulka prvk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lekuly – vazby (V d W, iontová, kovová, kovalentní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spekt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 (up a down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03120" y="33336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znik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minulosti – různé modely. Většinou jako neměnný (materialisté), nebo stvořený Boh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časný názor (dokázaný) na vznik a vývoj Vesmíru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g Ban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(Velký Třesk) – asi před 14 miliardami let. Od tohoto okamžiku se vyvíjí prostor a čas, Vesmír se rozpín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nevíme proč to „bouchlo“ a co se dělo do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té době neplatily nám známé fyzikální zákony (snad to rozřeší experimenty na novém Collideru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á mechanika odpovídá na otázky co se dělo mezi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 – 1 s po B.B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tuto dobu se „inflační Vesmír“ rozrostl z bodového zárodku do Vesmíru o průměru asi 100000 miliard k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ště přesnější představy máme o době od 1 s do dneška (tzv. „Standardní kosmologický model“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již platí nám známé fyzikální zákon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okamžiku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 po BB jsou si kosmologové celkem jisti, že jejich modely jsou správn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Vesmíru již zavládla naprostá symetrie. Při teplotě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 se Vesmír skládá z extrémně horkého plazmatu, složeného z částic a antičástic těžkých bosonů X, kvarků a gluonů, které se navzájem stále přeměňují. Vesmír se stále rozpíná a teplota poklesla asi na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. Při této teplotě se přestaly tvořit supertěžké částice a bosony X se začaly rozpadat na kvark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33360"/>
            <a:ext cx="858996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dochází k velké záhadě: symetricky by se měly rozpadat bosony X a antibosony X na stejné množství kvarků a antikvarků a mělo by dojít k jejich anihilaci na fotony. Místo toho nastala nerovnováh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a asi 10 miliard kvarků vzniklo 10 miliard – 1 antikvar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ž teplota klesla na 10 000 miliard K, nemohly kvarky a antikvarky existovat jako samostatné částice a utvořily se z nich protony a neutrony a antiprotony a antineutrony (opět je ale vždy na každých 10 milard párů částice – antičástice o jednu antičástici méně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oklesu teploty na 1000 miliard K došlo ke vzájemné anihilaci částic a antičástic a vznikly fotony a hmotné částice. Uvědomme si, že veškerá hmota ve Vesmíru vznikla z protonů a neutronů, které byly navíc !! Za svou existenci vděčíme právě této malé nesymetrii. Bez ní by byl Vesmír bez hmoty a tedy i bez života. To vše trvalo jenom asi 1/10 000 sekundy !!. Tak rychlý proces už nikdy dále ve Vesmíru nebyl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máme rovnováhu mezi protony a neutrony. Ty se navzájem přeměňují jedny v druhé, tak jako je tomu v současné době v jádrech atomů (ta však zatím neexistují). V důsledku rozpínání Vesmíru teplota dále poklesla na asi 10 miliard K. Symetrie se opět trochu narušila – neutrony jsou o trochu těžší, než protony a proto je třeba na přeměnu n → p trochu více energie, než naopak. Proto je také protonů poněkud více, než neutronů. Stále ale ještě nevznikají jádra atomů – vysoce energetické fotony to nedovolí, jakékoliv spojení ihned naruš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549360"/>
            <a:ext cx="8209080" cy="5792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" name="obrázek 47" descr="http://www.damtp.cam.ac.uk/user/gr/public/images/gal_M83.gif"/>
          <p:cNvPicPr/>
          <p:nvPr/>
        </p:nvPicPr>
        <p:blipFill>
          <a:blip r:embed="rId1"/>
          <a:stretch/>
        </p:blipFill>
        <p:spPr>
          <a:xfrm>
            <a:off x="1908000" y="907920"/>
            <a:ext cx="53262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31840" y="18900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i 1 s po BB už je na jeden neutron asi 6 protonů a po 2,5 minutách, kdy poklesla teplota na 1 miliardu K, je poměr n : p = 1 : 7. Až nyní začínají vznikat jádra deuteria, skládající se ze dvou nukleonů. To je tzv.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imordiální nukleosynté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děje v dalších minutách? Vesmír se stává obrovským termojaderným reaktorem, ve kterém začínají vznikat jádra prvních tří prvků v Mendělejevově periodické soustavě prvků (MPS) – H, He, Li. Jak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+ n → D,         D + D → T, nebo  He3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 + He3 → He,  nebo D + T → He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 + He → Li7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ím se ve Vesmíru spotřebovaly všechny neutrony na výstavbu atomových jader. Je tam 75%H, 24% He, 0,001% He3, 0,002% D a 0,00000001% Li7. V mezihvězdných oblacích a vzdálených hvězdách je tomu tak dodnes (spektroskopi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stále jde jenom o jádra, elektrony se zatím u nich neudržely díky energetickým fotonům. Hmota ve Vesmíru je tedy typickým plazmatem – kladná jádra a záporné elektron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panze stále pokračuje a asi po 200 letech má Vesmír teplotu asi 150 000 K. Atomy se stále netvoří! Teprve po 400 000 letech poklesla teplota na 3000 K a začala tzv. rekombinace, která trvala dalších 40 000 let, než všechna jádra našla své partnery. Teprve po této době začíná „život“ Vesmíru (Je-li celý vývoj Vesmíru 1 den, je toto 2,5 s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03120" y="295200"/>
            <a:ext cx="8372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znik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těchto cca 400 000 letech od BB je ve Vesmíru zejména vodík a helium ( a trochu Li). Kromě toho je tam asi 10 miliard fotonů na každý stavební kámen atomu. Ale žádný další prvek (a těch je dnes 92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í – začaly vznikat shluky galaxií a to mohla udělat pouze gravitace. Tím, že se elektrony připojily k jádrům došlo k „vyčištění“ prostoru a fotony se od hmoty osvobodily. Vzniklo tím tzv. záření kosmického pozadí, které dnes přijímáme ze všech směrů. Z něho se dozvíme, jak Vesmír vypadal před 40 000 lety po BB. Pozorování potvrzují, že již tehdy existovaly „ostrůvky“ hustší hmoty ve Vesmíru – zárodky hvězd. Vzniklo tehdy asi 100 miliard sluncí (hvězd). Pomáhala při tom tzv. „temná hmota“. Ta je zatím záhadou, víme o ní, že interaguje pouze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ravitač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Tyto hvězdy se stále gravitačně zahušťovaly, až tlak uvnitř nich dosáhl 200 miliard atm. A teplota 15 milionů K. V tom okamžiku se zapálila termojaderná reakce (hvězdy první generac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Těžké prvk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a protony jsou od sebe elektrostaticky odpuzovány. Ale při vysoké teplotě (15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) a tlaku 200 miliard atm se vodíková jádra srážejí tak prudce, že překonají elektrostatickou odpudivou sílu a dostanou se do oblasti silné jaderné interakce, která je přitažliv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76200" y="295200"/>
            <a:ext cx="8372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fáze – tzv. hoření vodíku: ze 4 protonů vznikne He jádro. Ve Slunci tak „shoří“ každou sekundu 700 milionů tun vodíku na 695 tun He. Zbývajících 5 milionů tun se promění ve fotony a neutrina. Vše ovšem závisí na hmotnosti hvězdy v době, kdy začal hořet vodík. Označme hmotnost Slunce M: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hvězd s m ≈ 1 M trvá hoření vodíku asi 8 – 10 miliard let. Je-li m ≈ 100 M se všechen vodík spálí už za 1 milion let. Hvězdy s m ≈ 0,1  hoří až 1000 miliard let, což je více, než je současné stáří Vesmír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vodíku začne hořet He (teplota ale musí být větší, asi 100 milionů K). Vzniká uhlík a následně kyslík, Ne, Mg, Si. Uhlík je „vyplavován“ na povrch hvězdy a roznášen hvězdnými větry do prostoru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říve, před vznikem hvězd nemohl vznikat např. C, neboť látka byla řidší. Aby vzniklo jádro C, musí vzniknout ze dvou jader He jádro Be a teprve s dalším jádrem He vzniká jádro C. Jádro Be je však nestabilní a ihned se zase rozpadá zpět ne He. Jenom když je látka hustá, jako je tomu ve hvězdě, sežene jádro Be „třetího do party“ a vznikne jádro C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stane dále?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záleží opět na hmotnosti hvězdy. Je-li m ≤ 8M, zbude z hvězdy jádro, složené z C a O (bílý trpaslík), které má povrchovou teplotu cca 4000 K a už se od něj nedá nic čeka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03120" y="189000"/>
            <a:ext cx="8372520" cy="6403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vězdy s m ≥ 8M zanikají dramatičtěji. Zprvu je to sice stejné, pouze s tím rozdílem, že se H a He spálí za několik málo milionů let. Velká hvězda, složená z uhlíku dosáhne teploty až 700 milionů K a začne hořet uhlík. Teplota se dále zvyšuje, až při asi 1 miliardě K začne hořet neon a vzniká Mg, Si, a S. Od 2 miliard K začne hořet kyslík a vzniká Si a S a při teplotě 3 miliardy K začne hořet Si a vzniká Fe a Ni. Doba hoření je stále kratší, O hoři jeden rok, Fe a Ni vznikají pouze několik hodin. Železem a Ni to ale konč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ale vznikají těžší prvky? Jádra lehčích prvků (např.Fe) zachytí neutron, nebo i více, ten se změní na proton a začíná narůstat hmotnost jádra. To vzniká několikrát po sobě a začne vznikat Ag, Au, atd. Je to tzv. s-proces (slow). Ve velmi hustých a horkých plynech částic (např. expandující obal supernovy) je chytání neutronů mnohem rychlejší – tzv. r-proces (rapid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 takové velké hvězdy se nepředstavitelně smrští, uniká z něj velké množství neutrin, tím chladne a ještě více se smršťuje. Zbylé elektrony se srazí s protony a vznikne superhusté neutronové jádro a další neutrina. Dochází ke zhroucení hvězdy díky vlastní gravitaci, hvězda se roztrhne a vše je vyvrženo do prostoru. Energie tohoto procesu je tak velká, že zbytek hvězdy září jako 100 miliard hvězd naší galaxie dohromady (supernova II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konec zbude jenom neutronová hvězda o průměru několika desítek km. Jej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áží jako všichni lidé na Zemi dohromady. Vyvržený oblak obsahuje všechny prvky MPS. Když se z nich vytvoří nové hvězdy nebo planety, obsahují již těžké prvky. V mezihvězdném prostoru mohou být i dosti složité molekuly (reakce díky vysoceenergetickému záření – opak: ničení těchto molekul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447840" y="333360"/>
            <a:ext cx="8372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286000" y="1716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2502000" y="1932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obrázek 65" descr="http://www.damtp.cam.ac.uk/user/gr/public/images/deep_field_small.gif"/>
          <p:cNvPicPr/>
          <p:nvPr/>
        </p:nvPicPr>
        <p:blipFill>
          <a:blip r:embed="rId3"/>
          <a:stretch/>
        </p:blipFill>
        <p:spPr>
          <a:xfrm>
            <a:off x="684360" y="1557360"/>
            <a:ext cx="796428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333360"/>
            <a:ext cx="8209080" cy="6250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hrnutí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ivot“ hvězd závisí na jejich hmotnosti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řítkem je hmotnost Slunce M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i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07 M  nedojde k zažehnutí termonukleární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ak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1 M se prakticky nezměnily, velmi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šetří energií a budou žít stamiliony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000 K ). Bílí trpaslí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 M žijí jenom necelou miliardu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70 M žijí jenom asi 10 000 let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00 000 K ). Modří veleobř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: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6000 K (uvnitř 14 milionů K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uctová hvězd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nik hvěz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éně hmotné hvězdy – gravitace rozdrtí atomy („skořápky“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ysoká hustota – krabička zápalek váží několik tun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Jsou to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bílí trpaslíci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stanou se jimi hvězdy s m &lt; 1,2 M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aždá 10. hvězda v naší galaxii je bílým trpaslík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431640"/>
            <a:ext cx="8280360" cy="42087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 tak skončí za 6 miliard let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d tím pohltí Merkur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nuši a možná i Zemi, načež se zhroutí na B.T.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elká část hvězd –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dvojhvězd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ochází k odsávání vodíku k B.T., znovuzapálen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ermojaderné reakce – „odfouknutí“ slupky – 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U hvězd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,2 M ještě větší zhroucení (i v jádre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rabička zápalek – hmotnost Lomnického štítu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tzv.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neutronové hvězdy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pět přijímají vodík – Super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lmi hmotné hvězdy – zhroutí se natolik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e z nich nemůže světlo vyjít ven (supergravitace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hroucený prostoročas –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Černé dír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39640" y="404640"/>
            <a:ext cx="8207640" cy="58852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esmír za jeden de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14 miliard let = 1 den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 – Velký třes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6 ps – vznik jader , H a H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 s – vznik atom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0 m – vytvoření chuchvalců vesmírné lát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5 m – Vznik galaxií a hvězd. Největší žijí několi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inut. Vznik všech prvků Mend. soustav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znik velkých černých děr – kvasa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5 ráno – Vznik Mléčné dráhy s hvězdami druhé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enera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6 hod.- Vznik Slunce a plan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7 hod.- Vznik jednobuněčného života na Zem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 hod.- První mnohobuněční tvorov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40m – Vznik veleještě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3m – Zánik veleještěrů, vznik savc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8m30s – Pračlověk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2ms před půlnocí – začátek letopočt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šechny významné objevy nejsou starší, než 1 ms.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" name="obrázek 48" descr="http://www.damtp.cam.ac.uk/user/gr/public/images/gal_Milky.gif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50608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9" name="obrázek 53" descr="http://www.damtp.cam.ac.uk/user/gr/public/images/gal_M87.gif"/>
          <p:cNvPicPr/>
          <p:nvPr/>
        </p:nvPicPr>
        <p:blipFill>
          <a:blip r:embed="rId1"/>
          <a:stretch/>
        </p:blipFill>
        <p:spPr>
          <a:xfrm>
            <a:off x="826920" y="1268280"/>
            <a:ext cx="731700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19120" y="47628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1" name="obrázek 54" descr="http://www.damtp.cam.ac.uk/user/gr/public/images/gal_somb.gif"/>
          <p:cNvPicPr/>
          <p:nvPr/>
        </p:nvPicPr>
        <p:blipFill>
          <a:blip r:embed="rId1"/>
          <a:stretch/>
        </p:blipFill>
        <p:spPr>
          <a:xfrm>
            <a:off x="900000" y="981000"/>
            <a:ext cx="73170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76200" y="56844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3" name="obrázek 61" descr="http://www.damtp.cam.ac.uk/user/gr/public/images/gal_fornax.gif"/>
          <p:cNvPicPr/>
          <p:nvPr/>
        </p:nvPicPr>
        <p:blipFill>
          <a:blip r:embed="rId1"/>
          <a:stretch/>
        </p:blipFill>
        <p:spPr>
          <a:xfrm>
            <a:off x="1547640" y="765000"/>
            <a:ext cx="6150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76200" y="49680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obrázek 64" descr="http://www.damtp.cam.ac.uk/user/gr/public/images/gh150.gif"/>
          <p:cNvPicPr/>
          <p:nvPr/>
        </p:nvPicPr>
        <p:blipFill>
          <a:blip r:embed="rId1"/>
          <a:stretch/>
        </p:blipFill>
        <p:spPr>
          <a:xfrm>
            <a:off x="1979640" y="620640"/>
            <a:ext cx="53434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519120" y="56844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obrázek 11" descr="http://upload.wikimedia.org/wikipedia/commons/thumb/6/6f/Earth_Eastern_Hemisphere.jpg/200px-Earth_Eastern_Hemisphere.jpg"/>
          <p:cNvPicPr/>
          <p:nvPr/>
        </p:nvPicPr>
        <p:blipFill>
          <a:blip r:embed="rId1"/>
          <a:stretch/>
        </p:blipFill>
        <p:spPr>
          <a:xfrm>
            <a:off x="2050920" y="907920"/>
            <a:ext cx="51325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1:57:00Z</dcterms:created>
  <dc:creator>Vladislav Navrátil</dc:creator>
  <dc:description/>
  <dc:language>en-US</dc:language>
  <cp:lastModifiedBy>navratil</cp:lastModifiedBy>
  <dcterms:modified xsi:type="dcterms:W3CDTF">2012-02-20T11:02:47Z</dcterms:modified>
  <cp:revision>30</cp:revision>
  <dc:subject/>
  <dc:title>Snímek 1</dc:title>
</cp:coreProperties>
</file>