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jpeg" ContentType="image/jpe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619C-4FB7-4F19-9035-06CA4783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7BDB-C88A-4E07-9A06-3C5C06CD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AEFD-E664-43F4-8CB4-970E9AAAB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4DDE-4B55-48CF-AE04-B0106134A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F35A-AA83-4CCA-A6D1-725BC013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D67D-D687-49CD-8BCE-283DE228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E6CA-401E-4403-8DCD-A3D13DFB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C647-C62A-445A-B869-814B7719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D9B5-987A-4FCB-9DE9-2380681A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0922-87B9-4421-A4CA-B9495554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9E8A-CB10-4562-A0C1-2A6ADF5C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FC5D-CEAF-4F2B-9C3C-C1B51A01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A7DF-20A6-4236-A490-D9100FD3429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60280"/>
            <a:ext cx="8785440" cy="587664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ematický  popis zpevnění sli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Navrátil Vladislav, Novotná Jiř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Úv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. léta 20. století – objev dislokací, nástup fyzikálních met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684360" y="3860640"/>
            <a:ext cx="2257200" cy="18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564000" y="3933720"/>
          <a:ext cx="2036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3933720"/>
                    <a:ext cx="2036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4">
            <a:lum contrast="24000"/>
          </a:blip>
          <a:stretch/>
        </p:blipFill>
        <p:spPr>
          <a:xfrm>
            <a:off x="6156360" y="3933720"/>
            <a:ext cx="209376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92200" y="404640"/>
            <a:ext cx="7867440" cy="585468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ttrellův – Bilbyho potenciá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148360" y="1125360"/>
                <a:ext cx="161604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y</m:t>
                                    </m:r>
                                  </m:num>
                                  <m:den>
                                    <m:r>
                                      <m:t xml:space="preserve">w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643280" y="2637000"/>
                <a:ext cx="36133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3</m:t>
                        </m:r>
                      </m:sup>
                    </m:sSup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21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971640" y="1125360"/>
            <a:ext cx="340812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19120" y="639720"/>
            <a:ext cx="8156520" cy="558036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826920" y="1052640"/>
            <a:ext cx="7615440" cy="46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92200" y="568440"/>
            <a:ext cx="8012160" cy="524484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Děkujeme za poz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19120" y="423720"/>
            <a:ext cx="8013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6200" y="423720"/>
            <a:ext cx="8516880" cy="612828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Interakce dislokací s atomy příměsí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(předp.: atomy příměsí v klid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Elastická rozměrová interak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684360" y="2133720"/>
            <a:ext cx="3444840" cy="4039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4427640" y="2565360"/>
            <a:ext cx="4186080" cy="3309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17680" y="468360"/>
            <a:ext cx="8169120" cy="588744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1600200" y="1066680"/>
            <a:ext cx="5916600" cy="4730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404640"/>
            <a:ext cx="8424720" cy="597492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loměr atomu mat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loměr atomu příměs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issonovo čís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polárních souřadnicí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403280" y="907920"/>
                <a:ext cx="29736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f>
                      <m:num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979640" y="1557360"/>
                <a:ext cx="20808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979640" y="2060640"/>
                <a:ext cx="18396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435640" y="907920"/>
                <a:ext cx="8240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r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979640" y="2492280"/>
                <a:ext cx="20160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476360" y="3573360"/>
                <a:ext cx="57862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ν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ν</m:t>
                            </m:r>
                            <m:r>
                              <m:t xml:space="preserve">)</m:t>
                            </m:r>
                          </m:den>
                        </m:f>
                        <m:f>
                          <m:num>
                            <m:r>
                              <m:t xml:space="preserve">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de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547640" y="4797360"/>
                <a:ext cx="49165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ν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ν</m:t>
                        </m:r>
                      </m:den>
                    </m:f>
                    <m:f>
                      <m:num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de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47840" y="496800"/>
            <a:ext cx="8300880" cy="588528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lastická modulová intera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Kritické skluzové napětí substitučních tuhých rozto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leisc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971640" y="1341360"/>
                <a:ext cx="1814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042920" y="2492280"/>
                <a:ext cx="148608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´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90000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500720" y="1989000"/>
                <a:ext cx="25588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η</m:t>
                        </m:r>
                      </m:e>
                      <m:sup>
                        <m:r>
                          <m:t xml:space="preserve">´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η</m:t>
                                </m:r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6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843280" y="4221000"/>
            <a:ext cx="4479840" cy="15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0920" y="404640"/>
            <a:ext cx="8227800" cy="612900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islokace neohebn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slokace ohebná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e                               a                  pro h.d. a                  pro š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abu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916360" y="836640"/>
                <a:ext cx="14857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den>
                    </m:f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916360" y="1916280"/>
                <a:ext cx="158724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60</m:t>
                        </m:r>
                      </m:den>
                    </m:f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3</m:t>
                        </m:r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187280" y="2852640"/>
                <a:ext cx="1544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´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δ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348000" y="2924280"/>
                <a:ext cx="7095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364000" y="2924280"/>
                <a:ext cx="7988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2771640" y="3429000"/>
            <a:ext cx="429732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68360" y="476280"/>
            <a:ext cx="8424720" cy="603612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islokace „cítí“ příměsi na jistou vzdálenos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e      je materiálová konstanta a                                    (      je  číseln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stan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věření: slitiny Cd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 velmi nízkých tep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476360" y="1268280"/>
                <a:ext cx="164484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4</m:t>
                        </m:r>
                        <m:r>
                          <m:t xml:space="preserve">3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187280" y="2060640"/>
                <a:ext cx="2588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284720" y="1989000"/>
                <a:ext cx="19288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η</m:t>
                        </m:r>
                      </m:e>
                      <m:sup>
                        <m:sSup>
                          <m:e>
                            <m:r>
                              <m:t xml:space="preserve">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516720" y="2060640"/>
                <a:ext cx="301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98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505320" y="2590920"/>
            <a:ext cx="527184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76200" y="496800"/>
            <a:ext cx="8443800" cy="615960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pelně aktivovaná plastická deformace sli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chanická stavová rovnice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ukturní fak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ředpoklad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ktivační paramet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metrický význam aktivační plochy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708360" y="1844640"/>
                <a:ext cx="1270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τ</m:t>
                    </m:r>
                    <m:r>
                      <m:t xml:space="preserve">,</m:t>
                    </m:r>
                    <m:limUpp>
                      <m:e>
                        <m:r>
                          <m:t xml:space="preserve">ε</m:t>
                        </m:r>
                      </m:e>
                      <m:lim/>
                    </m:limUpp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867280" y="1989000"/>
                <a:ext cx="20808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195640" y="2492280"/>
                <a:ext cx="100332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τ</m:t>
                        </m:r>
                      </m:e>
                      <m:sup/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771640" y="3213000"/>
                <a:ext cx="22417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/>
                        </m:sSubSup>
                      </m:num>
                      <m:den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den>
                    </m:f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p>
                          <m:e>
                            <m:r>
                              <m:t xml:space="preserve">τ</m:t>
                            </m:r>
                          </m:e>
                          <m:sup/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771640" y="4076640"/>
                <a:ext cx="18860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Sup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/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/>
                            </m:sSubSup>
                          </m:den>
                        </m:f>
                      </m:num>
                      <m:den>
                        <m:sSup>
                          <m:e>
                            <m:r>
                              <m:t xml:space="preserve">Δτ</m:t>
                            </m:r>
                          </m:e>
                          <m:sup/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003640" y="5516640"/>
                <a:ext cx="8096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47840" y="496800"/>
            <a:ext cx="8227800" cy="5610960"/>
          </a:xfrm>
          <a:prstGeom prst="rect">
            <a:avLst/>
          </a:prstGeom>
          <a:solidFill>
            <a:srgbClr val="a5f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plotní závislost aktivační plo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parabolický tvar překáž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1763640" y="1844640"/>
            <a:ext cx="5334120" cy="2346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916360" y="4292640"/>
                <a:ext cx="324324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3</m:t>
                        </m:r>
                      </m:sup>
                    </m:sSup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08:21:24Z</dcterms:created>
  <dc:creator>Vladislav Navrátil</dc:creator>
  <dc:description/>
  <dc:language>en-US</dc:language>
  <cp:lastModifiedBy>Vladislav Navrátil</cp:lastModifiedBy>
  <dcterms:modified xsi:type="dcterms:W3CDTF">2013-11-24T15:56:49Z</dcterms:modified>
  <cp:revision>19</cp:revision>
  <dc:subject/>
  <dc:title>Snímek 1</dc:title>
</cp:coreProperties>
</file>