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jpeg" ContentType="image/jpe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5D8E-3A53-4F68-92E5-878E15912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C0D8-18C1-4587-9704-5AD95A3FF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61F9-F541-417D-B3AA-E3B8E0C2F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AC79-CAC2-4CC1-A0C7-FE2B5A825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7235-6F9B-48D1-8D06-9A3F1AA83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D710-8839-4A0F-A830-53697297B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D201-908B-48DD-BE64-B9CF70105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7766-F277-4464-8D7C-6728F881F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C560-0524-4B9C-B63F-3C5230912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982B-008C-4391-BC37-FDC6C7CE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86B0-E6D1-4A3E-AAA8-4371D3E2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6E20-8CEA-4F69-BDB5-AB5F7314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0C3CD-E737-44D9-BD2B-1440E30F800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260280"/>
            <a:ext cx="8785440" cy="587664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tematický  popis zpevnění slit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Monotype Corsiva"/>
              </a:rPr>
              <a:t>Navrátil Vladislav, Novotná Jiř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Úv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0. léta 20. století – objev dislokací, nástup fyzikálních met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684360" y="3860640"/>
            <a:ext cx="2257200" cy="18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564000" y="3933720"/>
          <a:ext cx="2036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64000" y="3933720"/>
                    <a:ext cx="2036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4">
            <a:lum contrast="24000"/>
          </a:blip>
          <a:stretch/>
        </p:blipFill>
        <p:spPr>
          <a:xfrm>
            <a:off x="6156360" y="3933720"/>
            <a:ext cx="2093760" cy="19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92200" y="404640"/>
            <a:ext cx="7867440" cy="585468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ttrellův – Bilbyho potenciá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148360" y="1125360"/>
                <a:ext cx="1616040" cy="101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y</m:t>
                                    </m:r>
                                  </m:num>
                                  <m:den>
                                    <m:r>
                                      <m:t xml:space="preserve">w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643280" y="2637000"/>
                <a:ext cx="361332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/>
                    </m:sSup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num>
                      <m:den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den>
                    </m:f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3</m:t>
                        </m:r>
                      </m:sup>
                    </m:sSup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21" name="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971640" y="1125360"/>
            <a:ext cx="340812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19120" y="639720"/>
            <a:ext cx="8156520" cy="558036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826920" y="1052640"/>
            <a:ext cx="7615440" cy="46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92200" y="568440"/>
            <a:ext cx="8012160" cy="524484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Děkujeme za pozor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19120" y="423720"/>
            <a:ext cx="80136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6200" y="423720"/>
            <a:ext cx="8516880" cy="612828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Interakce dislokací s atomy příměsí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(předp.: atomy příměsí v klid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Elastická rozměrová interak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>
            <a:lum contrast="60000"/>
          </a:blip>
          <a:stretch/>
        </p:blipFill>
        <p:spPr>
          <a:xfrm>
            <a:off x="684360" y="2133720"/>
            <a:ext cx="3444840" cy="4039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2">
            <a:lum contrast="48000"/>
          </a:blip>
          <a:stretch/>
        </p:blipFill>
        <p:spPr>
          <a:xfrm>
            <a:off x="4427640" y="2565360"/>
            <a:ext cx="4186080" cy="33098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17680" y="468360"/>
            <a:ext cx="8169120" cy="588744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>
            <a:lum contrast="60000"/>
          </a:blip>
          <a:stretch/>
        </p:blipFill>
        <p:spPr>
          <a:xfrm>
            <a:off x="1600200" y="1066680"/>
            <a:ext cx="5916600" cy="4730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24000" y="404640"/>
            <a:ext cx="8424720" cy="597492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oloměr atomu mat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oloměr atomu příměs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oissonovo čís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 polárních souřadnicíc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403280" y="907920"/>
                <a:ext cx="297360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ν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ν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f>
                      <m:num>
                        <m:r>
                          <m:t xml:space="preserve">y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979640" y="1557360"/>
                <a:ext cx="20808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979640" y="2060640"/>
                <a:ext cx="183960" cy="19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5435640" y="907920"/>
                <a:ext cx="8240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r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979640" y="2492280"/>
                <a:ext cx="201600" cy="2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1476360" y="3573360"/>
                <a:ext cx="57862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ν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ν</m:t>
                            </m:r>
                            <m:r>
                              <m:t xml:space="preserve">)</m:t>
                            </m:r>
                          </m:den>
                        </m:f>
                        <m:f>
                          <m:num>
                            <m:r>
                              <m:t xml:space="preserve">G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b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3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de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547640" y="4797360"/>
                <a:ext cx="491652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π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ν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ν</m:t>
                        </m:r>
                      </m:den>
                    </m:f>
                    <m:f>
                      <m:num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δ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de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on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δ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47840" y="496800"/>
            <a:ext cx="8300880" cy="588528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lastická modulová interak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Kritické skluzové napětí substitučních tuhých rozto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leisc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971640" y="1341360"/>
                <a:ext cx="18144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num>
                      <m:den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π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ν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042920" y="2492280"/>
                <a:ext cx="148608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η</m:t>
                            </m:r>
                          </m:e>
                          <m:sup>
                            <m:r>
                              <m:t xml:space="preserve">´</m:t>
                            </m:r>
                          </m:sup>
                        </m:sSup>
                      </m:num>
                      <m:den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90000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4500720" y="1989000"/>
                <a:ext cx="255888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η</m:t>
                        </m:r>
                      </m:e>
                      <m:sup>
                        <m:r>
                          <m:t xml:space="preserve">´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η</m:t>
                                </m:r>
                              </m:e>
                            </m: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η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6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843280" y="4221000"/>
            <a:ext cx="4479840" cy="15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50920" y="404640"/>
            <a:ext cx="8227800" cy="612900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islokace neohebn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islokace ohebná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de                               a                  pro h.d. a                  pro š.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Labus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916360" y="836640"/>
                <a:ext cx="148572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den>
                    </m:f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916360" y="1916280"/>
                <a:ext cx="158724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60</m:t>
                        </m:r>
                      </m:den>
                    </m:f>
                    <m:sSubSup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F</m:t>
                        </m:r>
                      </m:sub>
                      <m:sup>
                        <m:r>
                          <m:t xml:space="preserve">3</m:t>
                        </m:r>
                        <m:r>
                          <m:t xml:space="preserve">2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187280" y="2852640"/>
                <a:ext cx="1544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η</m:t>
                            </m:r>
                          </m:e>
                          <m:sup>
                            <m:r>
                              <m:t xml:space="preserve">´</m:t>
                            </m:r>
                          </m:sup>
                        </m:sSup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δ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348000" y="2924280"/>
                <a:ext cx="70956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5364000" y="2924280"/>
                <a:ext cx="79884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8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2771640" y="3429000"/>
            <a:ext cx="429732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68360" y="476280"/>
            <a:ext cx="8424720" cy="603612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islokace „cítí“ příměsi na jistou vzdálenos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de      je materiálová konstanta a                                    (      je  číselná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nstan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věření: slitiny Cd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 velmi nízkých tep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476360" y="1268280"/>
                <a:ext cx="164484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t xml:space="preserve">4</m:t>
                        </m:r>
                        <m:r>
                          <m:t xml:space="preserve">3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187280" y="2060640"/>
                <a:ext cx="25884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284720" y="1989000"/>
                <a:ext cx="192888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η</m:t>
                        </m:r>
                      </m:e>
                      <m:sup>
                        <m:sSup>
                          <m:e>
                            <m:r>
                              <m:t xml:space="preserve">´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δ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6516720" y="2060640"/>
                <a:ext cx="3016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98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3505320" y="2590920"/>
            <a:ext cx="527184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76200" y="496800"/>
            <a:ext cx="8443800" cy="615960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epelně aktivovaná plastická deformace slit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chanická stavová rovnice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ukturní fak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ředpoklad: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ktivační paramet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metrický význam aktivační plochy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3708360" y="1844640"/>
                <a:ext cx="1270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τ</m:t>
                    </m:r>
                    <m:r>
                      <m:t xml:space="preserve">,</m:t>
                    </m:r>
                    <m:limUpp>
                      <m:e>
                        <m:r>
                          <m:t xml:space="preserve">ε</m:t>
                        </m:r>
                      </m:e>
                      <m:lim/>
                    </m:limUpp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5867280" y="1989000"/>
                <a:ext cx="208080" cy="2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195640" y="2492280"/>
                <a:ext cx="100332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τ</m:t>
                        </m:r>
                      </m:e>
                      <m:sup/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771640" y="3213000"/>
                <a:ext cx="22417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Sup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/>
                        </m:sSubSup>
                      </m:num>
                      <m:den>
                        <m:sSubSup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/>
                        </m:sSubSup>
                      </m:den>
                    </m:f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p>
                          <m:e>
                            <m:r>
                              <m:t xml:space="preserve">τ</m:t>
                            </m:r>
                          </m:e>
                          <m:sup/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771640" y="4076640"/>
                <a:ext cx="188604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/>
                    </m:sSup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f>
                      <m:num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sSubSup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/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/>
                            </m:sSubSup>
                          </m:den>
                        </m:f>
                      </m:num>
                      <m:den>
                        <m:sSup>
                          <m:e>
                            <m:r>
                              <m:t xml:space="preserve">Δτ</m:t>
                            </m:r>
                          </m:e>
                          <m:sup/>
                        </m:sSup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5003640" y="5516640"/>
                <a:ext cx="80964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t xml:space="preserve">l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47840" y="496800"/>
            <a:ext cx="8227800" cy="561096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eplotní závislost aktivační plo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parabolický tvar překáž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>
            <a:lum contrast="54000"/>
          </a:blip>
          <a:stretch/>
        </p:blipFill>
        <p:spPr>
          <a:xfrm>
            <a:off x="1763640" y="1844640"/>
            <a:ext cx="5334120" cy="23464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2916360" y="4292640"/>
                <a:ext cx="324324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/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num>
                      <m:den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den>
                    </m:f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3</m:t>
                        </m:r>
                      </m:sup>
                    </m:sSup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7T08:21:24Z</dcterms:created>
  <dc:creator>Vladislav Navrátil</dc:creator>
  <dc:description/>
  <dc:language>en-US</dc:language>
  <cp:lastModifiedBy>Vladislav Navrátil</cp:lastModifiedBy>
  <dcterms:modified xsi:type="dcterms:W3CDTF">2013-11-24T15:56:49Z</dcterms:modified>
  <cp:revision>19</cp:revision>
  <dc:subject/>
  <dc:title>Snímek 1</dc:title>
</cp:coreProperties>
</file>