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F32-2A5E-4A97-8A89-D94A3BC9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1AC-712C-46CD-B9B4-B405B460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5D0-7975-432F-B582-32CBE951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F06-58FB-4EDB-B7EE-52093E3B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26A-3A92-4142-8407-2DCBEA54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E64-11ED-43F3-B57A-BE9F1E13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1C8-5BE0-4942-B3BF-1AD582C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165-7292-43EA-8483-4204880E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F5C-B536-4C9A-AD5F-0BA140D5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EFC-2DE0-4D08-BA0E-609FC10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077-EC9D-45CE-A965-93261BE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1CE-55B0-4C90-9C7D-9A027784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3530-7DD9-43C1-8353-22D908BD8C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58766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matický  popis zpevnění sl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Navrátil Vladislav, Novotná Jiř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léta 20. století – objev dislokací, nástup fyzikálních met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3860640"/>
            <a:ext cx="2257200" cy="18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64000" y="3933720"/>
          <a:ext cx="2036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203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156360" y="3933720"/>
            <a:ext cx="2093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2200" y="404640"/>
            <a:ext cx="7867440" cy="58546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trellův – Bilbyho potenciá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1125360"/>
                <a:ext cx="1616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w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3280" y="2637000"/>
                <a:ext cx="3613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71640" y="1125360"/>
            <a:ext cx="340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9120" y="639720"/>
            <a:ext cx="8156520" cy="55803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26920" y="1052640"/>
            <a:ext cx="76154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2200" y="568440"/>
            <a:ext cx="8012160" cy="52448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42372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200" y="423720"/>
            <a:ext cx="8516880" cy="6128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terakce dislokací s atomy příměs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ředp.: atomy příměsí v kli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lastická rozměrová intera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4360" y="2133720"/>
            <a:ext cx="3444840" cy="403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427640" y="2565360"/>
            <a:ext cx="4186080" cy="330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7680" y="468360"/>
            <a:ext cx="8169120" cy="58874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066680"/>
            <a:ext cx="5916600" cy="47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424720" cy="59749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mat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přímě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issonovo čí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lárních souřadn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907920"/>
                <a:ext cx="2973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1557360"/>
                <a:ext cx="208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79640" y="2060640"/>
                <a:ext cx="183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35640" y="907920"/>
                <a:ext cx="824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2016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76360" y="3573360"/>
                <a:ext cx="57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47640" y="4797360"/>
                <a:ext cx="4916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300880" cy="5885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astická modul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itické skluzové napětí substitučních tuhých rozt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le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71640" y="1341360"/>
                <a:ext cx="18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42920" y="2492280"/>
                <a:ext cx="148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00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00720" y="1989000"/>
                <a:ext cx="255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4221000"/>
            <a:ext cx="447984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04640"/>
            <a:ext cx="8227800" cy="61290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neoheb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ohebná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                         a                  pro h.d. a                  pro š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16360" y="836640"/>
                <a:ext cx="14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16360" y="1916280"/>
                <a:ext cx="158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</m:den>
                    </m:f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87280" y="2852640"/>
                <a:ext cx="1544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92428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64000" y="2924280"/>
                <a:ext cx="798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7164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76280"/>
            <a:ext cx="8424720" cy="60361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„cítí“ příměsi na jistou vzdále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je materiálová konstanta a                                    (      je  čísel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: slitiny Cd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elmi nízkých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76360" y="1268280"/>
                <a:ext cx="1644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7280" y="2060640"/>
                <a:ext cx="258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84720" y="1989000"/>
                <a:ext cx="1928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sSup>
                          <m:e>
                            <m:r>
                              <m:t xml:space="preserve">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16720" y="2060640"/>
                <a:ext cx="30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05320" y="2590920"/>
            <a:ext cx="52718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496800"/>
            <a:ext cx="8443800" cy="61596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elně aktivovaná plastická deformace sl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ká stavová rovnic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ní f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edpoklad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ační 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ký význam aktivační ploch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08360" y="1844640"/>
                <a:ext cx="127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ε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1989000"/>
                <a:ext cx="2080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95640" y="2492280"/>
                <a:ext cx="1003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τ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71640" y="3213000"/>
                <a:ext cx="2241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τ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1640" y="4076640"/>
                <a:ext cx="1886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Δτ</m:t>
                            </m:r>
                          </m:e>
                          <m:sup/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516640"/>
                <a:ext cx="8096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7840" y="496800"/>
            <a:ext cx="8227800" cy="56109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závislost aktivační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arabolický tvar překá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1844640"/>
            <a:ext cx="5334120" cy="234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16360" y="4292640"/>
                <a:ext cx="3243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21:24Z</dcterms:created>
  <dc:creator>Vladislav Navrátil</dc:creator>
  <dc:description/>
  <dc:language>en-US</dc:language>
  <cp:lastModifiedBy>Vladislav Navrátil</cp:lastModifiedBy>
  <dcterms:modified xsi:type="dcterms:W3CDTF">2013-11-24T15:56:49Z</dcterms:modified>
  <cp:revision>19</cp:revision>
  <dc:subject/>
  <dc:title>Snímek 1</dc:title>
</cp:coreProperties>
</file>