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18.png" ContentType="image/png"/>
  <Override PartName="/ppt/media/image6.png" ContentType="image/png"/>
  <Override PartName="/ppt/media/image29.png" ContentType="image/png"/>
  <Override PartName="/ppt/media/image8.png" ContentType="image/png"/>
  <Override PartName="/ppt/media/image9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30.png" ContentType="image/png"/>
  <Override PartName="/ppt/media/image12.png" ContentType="image/png"/>
  <Override PartName="/ppt/media/image16.png" ContentType="image/png"/>
  <Override PartName="/ppt/media/image13.gif" ContentType="image/gif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7.png" ContentType="image/png"/>
  <Override PartName="/ppt/media/image20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D8ED-CF32-4C98-88ED-ED39EA7DF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F018-1BF4-4D32-A103-E4009E5F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0FF2-7FFF-485E-AAAC-87CEFD085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3264-CF4A-41FD-B77B-D49C0E84C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E385-5235-4827-86E4-D3C768D6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BF29-B239-4413-8001-49BB78E0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E417-6158-4DF6-990F-E94AE804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717F-ACC1-467E-BAD6-49E5B5D0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E9FF-A8A9-41F1-BE8F-9776C2C9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BF44-1EC3-46AB-8F21-19EC46EF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04C4-E17C-46F3-8E69-AD2C7A67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1D72-8F39-4823-8AF7-F482294C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4D61-568E-4927-8F2A-ED8340250F4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19120" y="639720"/>
            <a:ext cx="8156520" cy="6250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cs-CZ" sz="4000" spc="-1" strike="noStrike">
                <a:solidFill>
                  <a:srgbClr val="000000"/>
                </a:solidFill>
                <a:latin typeface="Monotype Corsiva"/>
              </a:rPr>
              <a:t>Letem   Světem  (Vesmírem)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519120" y="568440"/>
            <a:ext cx="808524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9" name="obrázek 17" descr="http://upload.wikimedia.org/wikipedia/commons/thumb/2/2e/Jupiter_Earth_Comparison.png/200px-Jupiter_Earth_Comparison.png"/>
          <p:cNvPicPr/>
          <p:nvPr/>
        </p:nvPicPr>
        <p:blipFill>
          <a:blip r:embed="rId1"/>
          <a:stretch/>
        </p:blipFill>
        <p:spPr>
          <a:xfrm>
            <a:off x="1403280" y="1125360"/>
            <a:ext cx="626904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519120" y="568440"/>
            <a:ext cx="801360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1" name="obrázek 19" descr="http://upload.wikimedia.org/wikipedia/commons/thumb/0/09/Saturn-cassini-March-27-2004.jpg/200px-Saturn-cassini-March-27-2004.jpg"/>
          <p:cNvPicPr/>
          <p:nvPr/>
        </p:nvPicPr>
        <p:blipFill>
          <a:blip r:embed="rId1"/>
          <a:stretch/>
        </p:blipFill>
        <p:spPr>
          <a:xfrm>
            <a:off x="1403280" y="981000"/>
            <a:ext cx="639144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376200" y="496800"/>
            <a:ext cx="822816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3" name="obrázek 244" descr="Asteroid Ida"/>
          <p:cNvPicPr/>
          <p:nvPr/>
        </p:nvPicPr>
        <p:blipFill>
          <a:blip r:embed="rId1"/>
          <a:stretch/>
        </p:blipFill>
        <p:spPr>
          <a:xfrm>
            <a:off x="1476360" y="981000"/>
            <a:ext cx="614988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592200" y="712800"/>
            <a:ext cx="7940520" cy="5580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5" name="obrázek 25" descr="http://upload.wikimedia.org/wikipedia/commons/thumb/1/14/Comet_Hale_Bopp.jpg/200px-Comet_Hale_Bopp.jpg"/>
          <p:cNvPicPr/>
          <p:nvPr/>
        </p:nvPicPr>
        <p:blipFill>
          <a:blip r:embed="rId1"/>
          <a:stretch/>
        </p:blipFill>
        <p:spPr>
          <a:xfrm>
            <a:off x="1116000" y="1052640"/>
            <a:ext cx="688500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447840" y="368280"/>
            <a:ext cx="8227800" cy="5915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ástroje a jednotky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astronomická jednotka (cca 150 000 000 km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světelný rok = 9,46 Pm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c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parsek = 3,262 ly = 206 265 AU = 3 Pm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2.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kg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 = 2,997 924 580 .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.s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 300 Mm.s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k (pozemský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igonometrie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tematika, přírodní vědy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914400" y="533520"/>
            <a:ext cx="7407360" cy="55188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Základní přírodní zákony a jevy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Základní interakce: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RAVITAČNÍ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ELEKTROMAGNETICKÁ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LABÁ JADERNÁ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ILNÁ JADERNÁ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Newtonův zákon všeobecné gravitace: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3"/>
              <p:cNvSpPr txBox="1"/>
              <p:nvPr/>
            </p:nvSpPr>
            <p:spPr>
              <a:xfrm>
                <a:off x="2895480" y="4800600"/>
                <a:ext cx="19432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κ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228600" y="600120"/>
            <a:ext cx="8696160" cy="64944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lektromagnetické  záření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povahy spíše vlnové)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0" name="Picture 3" descr="spektrum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80880" y="1600200"/>
            <a:ext cx="8382240" cy="495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519120" y="439560"/>
            <a:ext cx="8156520" cy="5760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ektroskopie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2" name="Picture 5" descr="Light_dispersion_conceptual"/>
          <p:cNvPicPr/>
          <p:nvPr/>
        </p:nvPicPr>
        <p:blipFill>
          <a:blip r:embed="rId1"/>
          <a:stretch/>
        </p:blipFill>
        <p:spPr>
          <a:xfrm>
            <a:off x="1835280" y="1916280"/>
            <a:ext cx="6006960" cy="37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58920" y="260280"/>
            <a:ext cx="860580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udinkový model               Rutherfordův model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rovnání Bohrova a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antového modelu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ohrův model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4" name="Picture 3" descr="fm3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68360" y="476280"/>
            <a:ext cx="2098800" cy="2116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rut"/>
          <p:cNvPicPr/>
          <p:nvPr/>
        </p:nvPicPr>
        <p:blipFill>
          <a:blip r:embed="rId2">
            <a:lum contrast="90000"/>
          </a:blip>
          <a:stretch/>
        </p:blipFill>
        <p:spPr>
          <a:xfrm>
            <a:off x="2771640" y="476280"/>
            <a:ext cx="2860920" cy="2158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fm1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684360" y="3573360"/>
            <a:ext cx="2065320" cy="2264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fm2"/>
          <p:cNvPicPr/>
          <p:nvPr/>
        </p:nvPicPr>
        <p:blipFill>
          <a:blip r:embed="rId4">
            <a:lum contrast="42000"/>
          </a:blip>
          <a:stretch/>
        </p:blipFill>
        <p:spPr>
          <a:xfrm>
            <a:off x="5867280" y="476280"/>
            <a:ext cx="298764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447840" y="520560"/>
            <a:ext cx="822780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arky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9" name="obrázek 49" descr="http://www-hep2.fzu.cz/adventure/images/quark_chartf.gif"/>
          <p:cNvPicPr/>
          <p:nvPr/>
        </p:nvPicPr>
        <p:blipFill>
          <a:blip r:embed="rId1"/>
          <a:stretch/>
        </p:blipFill>
        <p:spPr>
          <a:xfrm>
            <a:off x="1908000" y="692280"/>
            <a:ext cx="5855040" cy="1827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0" name="obrázek 106" descr="http://fyzika.jreichl.com/data/Mikro_5detekce_soubory/image243.png"/>
          <p:cNvPicPr/>
          <p:nvPr/>
        </p:nvPicPr>
        <p:blipFill>
          <a:blip r:embed="rId2"/>
          <a:stretch/>
        </p:blipFill>
        <p:spPr>
          <a:xfrm>
            <a:off x="1476360" y="2852640"/>
            <a:ext cx="6048360" cy="3333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znik, vývoj a stavba vesmíru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 flipH="1">
            <a:off x="762120" y="1828800"/>
            <a:ext cx="7619760" cy="41173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.A. Ambarcumja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lověk se liší od vepřů mimo jiné tím, že občas zvedá hlavu a dívá se na hvězdy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eorges Lemaitre: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ývoj kosmu lze srovnat s ohňostrojem, který jsme zastihli v okamžiku, kdy už končí: několik žhavých uhlíků, popel a dým. Stojíme na chladném popelu, vidíme pomalu vyhasínající Slunce a snažíme se oživit minulé velkolepé počátky světů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447840" y="511200"/>
            <a:ext cx="8084880" cy="5455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áření gama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2" name="Picture 5" descr="180px-Gammadecay-1"/>
          <p:cNvPicPr/>
          <p:nvPr/>
        </p:nvPicPr>
        <p:blipFill>
          <a:blip r:embed="rId1"/>
          <a:stretch/>
        </p:blipFill>
        <p:spPr>
          <a:xfrm>
            <a:off x="2771640" y="1773360"/>
            <a:ext cx="34290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447840" y="368280"/>
            <a:ext cx="8156520" cy="59432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opplerův jev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4" name="Picture 5" descr="doppleruv jev"/>
          <p:cNvPicPr/>
          <p:nvPr/>
        </p:nvPicPr>
        <p:blipFill>
          <a:blip r:embed="rId1"/>
          <a:stretch/>
        </p:blipFill>
        <p:spPr>
          <a:xfrm>
            <a:off x="1332000" y="2205000"/>
            <a:ext cx="6431040" cy="2587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447840" y="368280"/>
            <a:ext cx="8156520" cy="59432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6" name="Picture 5" descr="Doppler"/>
          <p:cNvPicPr/>
          <p:nvPr/>
        </p:nvPicPr>
        <p:blipFill>
          <a:blip r:embed="rId1"/>
          <a:stretch/>
        </p:blipFill>
        <p:spPr>
          <a:xfrm>
            <a:off x="1908000" y="1125360"/>
            <a:ext cx="5029200" cy="2514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6"/>
          <p:cNvSpPr/>
          <p:nvPr/>
        </p:nvSpPr>
        <p:spPr>
          <a:xfrm>
            <a:off x="0" y="275904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8" name="Rectangle 109"/>
          <p:cNvSpPr/>
          <p:nvPr/>
        </p:nvSpPr>
        <p:spPr>
          <a:xfrm>
            <a:off x="0" y="275904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826920" y="4437000"/>
          <a:ext cx="7129800" cy="1341360"/>
        </p:xfrm>
        <a:graphic>
          <a:graphicData uri="http://schemas.openxmlformats.org/drawingml/2006/table">
            <a:tbl>
              <a:tblPr/>
              <a:tblGrid>
                <a:gridCol w="2851200"/>
                <a:gridCol w="1427400"/>
                <a:gridCol w="28512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b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frekvence, kterou zjistí pozorovatel, vůči kterému je zdroj v klidu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1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frekvence, kterou zjistí pozorovatel, vůči kterému se zdroj pohybuje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rychlost zdroje vůči pozorovateli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rychlost, jakou se šíří vlněn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90" name="Picture 126" descr="1-14"/>
          <p:cNvPicPr/>
          <p:nvPr/>
        </p:nvPicPr>
        <p:blipFill>
          <a:blip r:embed="rId2"/>
          <a:stretch/>
        </p:blipFill>
        <p:spPr>
          <a:xfrm>
            <a:off x="5435640" y="4508640"/>
            <a:ext cx="1533600" cy="409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7" descr="1-13"/>
          <p:cNvPicPr/>
          <p:nvPr/>
        </p:nvPicPr>
        <p:blipFill>
          <a:blip r:embed="rId3"/>
          <a:stretch/>
        </p:blipFill>
        <p:spPr>
          <a:xfrm>
            <a:off x="1692360" y="4437000"/>
            <a:ext cx="154296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24000" y="404640"/>
            <a:ext cx="8424720" cy="6192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pplerovský rudý posuv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udý a modrý posuv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ektrálních čar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unce          Superkupa BAS 11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3" name="obrázek 1" descr="http://upload.wikimedia.org/wikipedia/commons/thumb/1/14/Redshift.png/200px-Redshift.png"/>
          <p:cNvPicPr/>
          <p:nvPr/>
        </p:nvPicPr>
        <p:blipFill>
          <a:blip r:embed="rId1"/>
          <a:stretch/>
        </p:blipFill>
        <p:spPr>
          <a:xfrm>
            <a:off x="755640" y="1197000"/>
            <a:ext cx="2541600" cy="4484520"/>
          </a:xfrm>
          <a:prstGeom prst="rect">
            <a:avLst/>
          </a:prstGeom>
          <a:ln w="0">
            <a:noFill/>
          </a:ln>
        </p:spPr>
      </p:pic>
      <p:pic>
        <p:nvPicPr>
          <p:cNvPr id="94" name="obrázek 3" descr="http://upload.wikimedia.org/wikipedia/commons/thumb/e/e4/Redshift_blueshift.svg/200px-Redshift_blueshift.svg.png"/>
          <p:cNvPicPr/>
          <p:nvPr/>
        </p:nvPicPr>
        <p:blipFill>
          <a:blip r:embed="rId2"/>
          <a:stretch/>
        </p:blipFill>
        <p:spPr>
          <a:xfrm>
            <a:off x="4284720" y="2276640"/>
            <a:ext cx="3811680" cy="2381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303120" y="376200"/>
            <a:ext cx="8229600" cy="58543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héseauxův – Olbersův paradox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26: „proč je obloha tmavá“?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ž i J.Kepler (1610): „Ať se podíváme kamkoliv do Vesmíru, vždy vidíme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ějakou hvězdu. Ve skutečnosti je ale obloha tmavá“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utečný Vesmír není statický (Newtonův), ale rozpíná se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důsledku toho se vzdálené galaxie stanou infračervenými, tedy pro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s neviditelnými. Celá obloha sice září ze všech směrů, ale n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lnových délkách 10 000 krát delších, než je viditelné světlo hvězd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ní to světlo hvězd, ale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eliktní zář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z dob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kosmologické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ekombinace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y byl Vesmír 300 000 let starý a žhavý jako povr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unce. V té době skutečně zářila celá obloha jako pokrytá Slunci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té doby se vlnové délky světla rozepnuly (roztáhly), neboť s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pínal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elý Vesmír. Ze světla je dnes mikrovlnné záření  z celé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lohy (reliktní záření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76200" y="404640"/>
            <a:ext cx="829944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smologický rudý posuv, Olbersův paradox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7" name="obrázek 68" descr="Olbersův paradox"/>
          <p:cNvPicPr/>
          <p:nvPr/>
        </p:nvPicPr>
        <p:blipFill>
          <a:blip r:embed="rId1"/>
          <a:stretch/>
        </p:blipFill>
        <p:spPr>
          <a:xfrm>
            <a:off x="2268360" y="1628640"/>
            <a:ext cx="4286520" cy="4286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447840" y="368280"/>
            <a:ext cx="8227800" cy="61574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ychlost světla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. Galilei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. Roemer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   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. Foucolt</a:t>
            </a: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9" name="Picture 5" descr="Jupiter s měsíci, Země a Slunce"/>
          <p:cNvPicPr/>
          <p:nvPr/>
        </p:nvPicPr>
        <p:blipFill>
          <a:blip r:embed="rId1"/>
          <a:stretch/>
        </p:blipFill>
        <p:spPr>
          <a:xfrm>
            <a:off x="4427640" y="981000"/>
            <a:ext cx="1904760" cy="1905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0" name="Picture 6" descr="Princip Foucaultova rotujícího zrcadla"/>
          <p:cNvPicPr/>
          <p:nvPr/>
        </p:nvPicPr>
        <p:blipFill>
          <a:blip r:embed="rId2"/>
          <a:stretch/>
        </p:blipFill>
        <p:spPr>
          <a:xfrm>
            <a:off x="4427640" y="3500280"/>
            <a:ext cx="3504960" cy="2181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376200" y="115920"/>
            <a:ext cx="8228160" cy="66164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2. Jak to všechno začalo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Starý zákon, První Mojžíšova kniha (Genesis)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Monotype Corsiva"/>
              </a:rPr>
              <a:t>Na počátku stvořil Bůh nebe a zemi. Země byla pustá a prázdná a nad propastnou tůní byla tma. Ale nad vodami vznášel se Duch Boží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avební kameny Vesmíru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mota – veškeré organické a anorganické látky, skládající se z molekul (které se dále skládají z atomů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še mrtvé i živé je složeno z atomů 92 prvků (navíc je 12 umělých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utečnost, že jakákoliv hmota je složena z atomů – společný rys všech objektů na Zemi i v celém Vesmíru</a:t>
            </a: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ůkaz – spektroskopie (ale i přímo – Apollo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tomy – jádro + obal (jádro kladné, obal záporný). r ~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1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m –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m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éměř veškerá hmotnost je v jádř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zrnko rýže – nejhořejší řady fotbalového stadionu. Slunce – Pluto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ádro: protony + neutrony.Protony se silně odpuzují, musí tedy existovat silné přitažlivé (jaderné) síly, přítomné pouze v jádř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lektrony – nikoliv dráhy, lépe elektronový mrak. Dráhy lze užít kvůli názornosti.Celkem 7 elektronových slupek, do každé se vejde maximálně 2.n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elektronů ( n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1, 7) 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.I. Mendělejev a Lothar Meyer – periodická tabulka prvků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lekuly – vazby (V d W, iontová, kovová, kovalentní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 spekter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arky (up a down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303120" y="333360"/>
            <a:ext cx="851688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znik Vesmíru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minulosti – různé modely. Většinou jako neměnný (materialisté), nebo stvořený Bohem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časný názor (dokázaný) na vznik a vývoj Vesmíru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g Bang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(Velký Třesk) – asi před 14 miliardami let. Od tohoto okamžiku se vyvíjí prostor a čas, Vesmír se rozpíná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tím nevíme proč to „bouchlo“ a co se dělo do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35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té době neplatily nám známé fyzikální zákony (snad to rozřeší experimenty na novém Collideru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antová mechanika odpovídá na otázky co se dělo mezi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35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 – 1 s po B.B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 tuto dobu se „inflační Vesmír“ rozrostl z bodového zárodku do Vesmíru o průměru asi 100000 miliard km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ště přesnější představy máme o době od 1 s do dneška (tzv. „Standardní kosmologický model“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e již platí nám známé fyzikální zákony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okamžiku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35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 po BB jsou si kosmologové celkem jisti, že jejich modely jsou správné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 Vesmíru již zavládla naprostá symetrie. Při teplotě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 se Vesmír skládá z extrémně horkého plazmatu, složeného z částic a antičástic těžkých bosonů X, kvarků a gluonů, které se navzájem stále přeměňují. Vesmír se stále rozpíná a teplota poklesla asi na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. Při této teplotě se přestaly tvořit supertěžké částice a bosony X se začaly rozpadat na kvarky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303120" y="333360"/>
            <a:ext cx="858996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yní dochází k velké záhadě: symetricky by se měly rozpadat bosony X a antibosony X na stejné množství kvarků a antikvarků a mělo by dojít k jejich anihilaci na fotony. Místo toho nastala nerovnováh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na asi 10 miliard kvarků vzniklo 10 miliard – 1 antikvar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yž teplota klesla na 10 000 miliard K, nemohly kvarky a antikvarky existovat jako samostatné částice a utvořily se z nich protony a neutrony a antiprotony a antineutrony (opět je ale vždy na každých 10 milard párů částice – antičástice o jednu antičástici méně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 poklesu teploty na 1000 miliard K došlo ke vzájemné anihilaci částic a antičástic a vznikly fotony a hmotné částice. Uvědomme si, že veškerá hmota ve Vesmíru vznikla z protonů a neutronů, které byly navíc !! Za svou existenci vděčíme právě této malé nesymetrii. Bez ní by byl Vesmír bez hmoty a tedy i bez života. To vše trvalo jenom asi 1/10 000 sekundy !!. Tak rychlý proces už nikdy dále ve Vesmíru nebyl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yní máme rovnováhu mezi protony a neutrony. Ty se navzájem přeměňují jedny v druhé, tak jako je tomu v současné době v jádrech atomů (ta však zatím neexistují). V důsledku rozpínání Vesmíru teplota dále poklesla na asi 10 miliard K. Symetrie se opět trochu narušila – neutrony jsou o trochu těžší, než protony a proto je třeba na přeměnu n → p trochu více energie, než naopak. Proto je také protonů poněkud více, než neutronů. Stále ale ještě nevznikají jádra atomů – vysoce energetické fotony to nedovolí, jakékoliv spojení ihned naruší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95280" y="549360"/>
            <a:ext cx="8209080" cy="57924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5" name="obrázek 47" descr="http://www.damtp.cam.ac.uk/user/gr/public/images/gal_M83.gif"/>
          <p:cNvPicPr/>
          <p:nvPr/>
        </p:nvPicPr>
        <p:blipFill>
          <a:blip r:embed="rId1"/>
          <a:stretch/>
        </p:blipFill>
        <p:spPr>
          <a:xfrm>
            <a:off x="1908000" y="907920"/>
            <a:ext cx="532620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231840" y="189000"/>
            <a:ext cx="851688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si 1 s po BB už je na jeden neutron asi 6 protonů a po 2,5 minutách, kdy poklesla teplota na 1 miliardu K, je poměr n : p = 1 : 7. Až nyní začínají vznikat jádra deuteria, skládající se ze dvou nukleonů. To je tzv.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rimordiální nukleosynté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 se děje v dalších minutách? Vesmír se stává obrovským termojaderným reaktorem, ve kterém začínají vznikat jádra prvních tří prvků v Mendělejevově periodické soustavě prvků (MPS) – H, He, Li. Jak?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 + n → D,         D + D → T, nebo  He3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 + He3 → He,  nebo D + T → He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 + He → Li7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ím se ve Vesmíru spotřebovaly všechny neutrony na výstavbu atomových jader. Je tam 75%H, 24% He, 0,001% He3, 0,002% D a 0,00000001% Li7. V mezihvězdných oblacích a vzdálených hvězdách je tomu tak dodnes (spektroskopie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tím stále jde jenom o jádra, elektrony se zatím u nich neudržely díky energetickým fotonům. Hmota ve Vesmíru je tedy typickým plazmatem – kladná jádra a záporné elektron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xpanze stále pokračuje a asi po 200 letech má Vesmír teplotu asi 150 000 K. Atomy se stále netvoří! Teprve po 400 000 letech poklesla teplota na 3000 K a začala tzv. rekombinace, která trvala dalších 40 000 let, než všechna jádra našla své partnery. Teprve po této době začíná „život“ Vesmíru (Je-li celý vývoj Vesmíru 1 den, je toto 2,5 s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303120" y="295200"/>
            <a:ext cx="8372520" cy="5580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Vznik hvězd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 těchto cca 400 000 letech od BB je ve Vesmíru zejména vodík a helium ( a trochu Li). Kromě toho je tam asi 10 miliard fotonů na každý stavební kámen atomu. Ale žádný další prvek (a těch je dnes 92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orování – začaly vznikat shluky galaxií a to mohla udělat pouze gravitace. Tím, že se elektrony připojily k jádrům došlo k „vyčištění“ prostoru a fotony se od hmoty osvobodily. Vzniklo tím tzv. záření kosmického pozadí, které dnes přijímáme ze všech směrů. Z něho se dozvíme, jak Vesmír vypadal před 40 000 lety po BB. Pozorování potvrzují, že již tehdy existovaly „ostrůvky“ hustší hmoty ve Vesmíru – zárodky hvězd. Vzniklo tehdy asi 100 miliard sluncí (hvězd). Pomáhala při tom tzv. „temná hmota“. Ta je zatím záhadou, víme o ní, že interaguje pouze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gravitačn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 Tyto hvězdy se stále gravitačně zahušťovaly, až tlak uvnitř nich dosáhl 200 miliard atm. A teplota 15 milionů K. V tom okamžiku se zapálila termojaderná reakce (hvězdy první generace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Těžké prvk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va protony jsou od sebe elektrostaticky odpuzovány. Ale při vysoké teplotě (15.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) a tlaku 200 miliard atm se vodíková jádra srážejí tak prudce, že překonají elektrostatickou odpudivou sílu a dostanou se do oblasti silné jaderné interakce, která je přitažlivá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376200" y="295200"/>
            <a:ext cx="837252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vní fáze – tzv. hoření vodíku: ze 4 protonů vznikne He jádro. Ve Slunci tak „shoří“ každou sekundu 700 milionů tun vodíku na 695 tun He. Zbývajících 5 milionů tun se promění ve fotony a neutrina. Vše ovšem závisí na hmotnosti hvězdy v době, kdy začal hořet vodík. Označme hmotnost Slunce M: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hvězd s m ≈ 1 M trvá hoření vodíku asi 8 – 10 miliard let. Je-li m ≈ 100 M se všechen vodík spálí už za 1 milion let. Hvězdy s m ≈ 0,1  hoří až 1000 miliard let, což je více, než je současné stáří Vesmíru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 vodíku začne hořet He (teplota ale musí být větší, asi 100 milionů K). Vzniká uhlík a následně kyslík, Ne, Mg, Si. Uhlík je „vyplavován“ na povrch hvězdy a roznášen hvězdnými větry do prostoru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Dříve, před vznikem hvězd nemohl vznikat např. C, neboť látka byla řidší. Aby vzniklo jádro C, musí vzniknout ze dvou jader He jádro Be a teprve s dalším jádrem He vzniká jádro C. Jádro Be je však nestabilní a ihned se zase rozpadá zpět ne He. Jenom když je látka hustá, jako je tomu ve hvězdě, sežene jádro Be „třetího do party“ a vznikne jádro C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 se stane dále?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o záleží opět na hmotnosti hvězdy. Je-li m ≤ 8M, zbude z hvězdy jádro, složené z C a O (bílý trpaslík), které má povrchovou teplotu cca 4000 K a už se od něj nedá nic čekat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303120" y="189000"/>
            <a:ext cx="8372520" cy="64033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vězdy s m ≥ 8M zanikají dramatičtěji. Zprvu je to sice stejné, pouze s tím rozdílem, že se H a He spálí za několik málo milionů let. Velká hvězda, složená z uhlíku dosáhne teploty až 700 milionů K a začne hořet uhlík. Teplota se dále zvyšuje, až při asi 1 miliardě K začne hořet neon a vzniká Mg, Si, a S. Od 2 miliard K začne hořet kyslík a vzniká Si a S a při teplotě 3 miliardy K začne hořet Si a vzniká Fe a Ni. Doba hoření je stále kratší, O hoři jeden rok, Fe a Ni vznikají pouze několik hodin. Železem a Ni to ale končí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k ale vznikají těžší prvky? Jádra lehčích prvků (např.Fe) zachytí neutron, nebo i více, ten se změní na proton a začíná narůstat hmotnost jádra. To vzniká několikrát po sobě a začne vznikat Ag, Au, atd. Je to tzv. s-proces (slow). Ve velmi hustých a horkých plynech částic (např. expandující obal supernovy) je chytání neutronů mnohem rychlejší – tzv. r-proces (rapid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ádro takové velké hvězdy se nepředstavitelně smrští, uniká z něj velké množství neutrin, tím chladne a ještě více se smršťuje. Zbylé elektrony se srazí s protony a vznikne superhusté neutronové jádro a další neutrina. Dochází ke zhroucení hvězdy díky vlastní gravitaci, hvězda se roztrhne a vše je vyvrženo do prostoru. Energie tohoto procesu je tak velká, že zbytek hvězdy září jako 100 miliard hvězd naší galaxie dohromady (supernova II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konec zbude jenom neutronová hvězda o průměru několika desítek km. Její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 cm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áží jako všichni lidé na Zemi dohromady. Vyvržený oblak obsahuje všechny prvky MPS. Když se z nich vytvoří nové hvězdy nebo planety, obsahují již těžké prvky. V mezihvězdném prostoru mohou být i dosti složité molekuly (reakce díky vysoceenergetickému záření – opak: ničení těchto molekul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447840" y="333360"/>
            <a:ext cx="837216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2286000" y="17161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2502000" y="19321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1" name="obrázek 65" descr="http://www.damtp.cam.ac.uk/user/gr/public/images/deep_field_small.gif"/>
          <p:cNvPicPr/>
          <p:nvPr/>
        </p:nvPicPr>
        <p:blipFill>
          <a:blip r:embed="rId3"/>
          <a:stretch/>
        </p:blipFill>
        <p:spPr>
          <a:xfrm>
            <a:off x="684360" y="1557360"/>
            <a:ext cx="7964280" cy="38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95280" y="333360"/>
            <a:ext cx="8209080" cy="62506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hrnutí: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Život“ hvězd závisí na jejich hmotnosti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ěřítkem je hmotnost Slunce M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ři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0,07 M  nedojde k zažehnutí termonukleární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reakc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Hvězdy s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0,1 M se prakticky nezměnily, velmi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šetří energií a budou žít stamiliony let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( T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2000 K ). Bílí trpaslíci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Hvězdy s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2 M žijí jenom necelou miliardu let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Hvězdy s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70 M žijí jenom asi 10 000 let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( T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100 000 K ). Modří veleobři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lunce: T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6000 K (uvnitř 14 milionů K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tuctová hvězda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Zánik hvěz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Méně hmotné hvězdy – gravitace rozdrtí atomy („skořápky“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ysoká hustota – krabička zápalek váží několik tun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Jsou to </a:t>
            </a: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bílí trpaslíci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(stanou se jimi hvězdy s m &lt; 1,2 M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aždá 10. hvězda v naší galaxii je bílým trpaslíkem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24000" y="431640"/>
            <a:ext cx="8280360" cy="42087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lunce tak skončí za 6 miliard let (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ed tím pohltí Merkur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enuši a možná i Zemi, načež se zhroutí na B.T.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elká část hvězd – </a:t>
            </a: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dvojhvězd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Dochází k odsávání vodíku k B.T., znovuzapálení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termojaderné reakce – „odfouknutí“ slupky – Nova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U hvězd s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1,2 M ještě větší zhroucení (i v jádrech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rabička zápalek – hmotnost Lomnického štítu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(tzv. </a:t>
            </a: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neutronové hvězdy 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Opět přijímají vodík – Supernova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lmi hmotné hvězdy – zhroutí se natolik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že z nich nemůže světlo vyjít ven (supergravitace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hroucený prostoročas –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Černé dír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539640" y="404640"/>
            <a:ext cx="8207640" cy="58852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Vesmír za jeden den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14 miliard let = 1 den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0 – Velký třesk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36 ps – vznik jader , H a H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2 s – vznik atomů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30 m – vytvoření chuchvalců vesmírné látky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45 m – Vznik galaxií a hvězd. Největší žijí několik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minut. Vznik všech prvků Mend. soustav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znik velkých černých děr – kvasarů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5 ráno – Vznik Mléčné dráhy s hvězdami druhé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generac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16 hod.- Vznik Slunce a planet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17 hod.- Vznik jednobuněčného života na Zemi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3 hod.- První mnohobuněční tvorové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3h40m – Vznik veleještěrů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3h53m – Zánik veleještěrů, vznik savců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3h58m30s – Pračlověk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12ms před půlnocí – začátek letopočtu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šechny významné objevy nejsou starší, než 1 ms.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447840" y="496800"/>
            <a:ext cx="830088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7" name="obrázek 48" descr="http://www.damtp.cam.ac.uk/user/gr/public/images/gal_Milky.gif"/>
          <p:cNvPicPr/>
          <p:nvPr/>
        </p:nvPicPr>
        <p:blipFill>
          <a:blip r:embed="rId1"/>
          <a:stretch/>
        </p:blipFill>
        <p:spPr>
          <a:xfrm>
            <a:off x="971640" y="981000"/>
            <a:ext cx="7208640" cy="506088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19120" y="568440"/>
            <a:ext cx="801360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9" name="obrázek 53" descr="http://www.damtp.cam.ac.uk/user/gr/public/images/gal_M87.gif"/>
          <p:cNvPicPr/>
          <p:nvPr/>
        </p:nvPicPr>
        <p:blipFill>
          <a:blip r:embed="rId1"/>
          <a:stretch/>
        </p:blipFill>
        <p:spPr>
          <a:xfrm>
            <a:off x="826920" y="1268280"/>
            <a:ext cx="731700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519120" y="476280"/>
            <a:ext cx="815652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1" name="obrázek 54" descr="http://www.damtp.cam.ac.uk/user/gr/public/images/gal_somb.gif"/>
          <p:cNvPicPr/>
          <p:nvPr/>
        </p:nvPicPr>
        <p:blipFill>
          <a:blip r:embed="rId1"/>
          <a:stretch/>
        </p:blipFill>
        <p:spPr>
          <a:xfrm>
            <a:off x="900000" y="981000"/>
            <a:ext cx="731700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76200" y="568440"/>
            <a:ext cx="829944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3" name="obrázek 61" descr="http://www.damtp.cam.ac.uk/user/gr/public/images/gal_fornax.gif"/>
          <p:cNvPicPr/>
          <p:nvPr/>
        </p:nvPicPr>
        <p:blipFill>
          <a:blip r:embed="rId1"/>
          <a:stretch/>
        </p:blipFill>
        <p:spPr>
          <a:xfrm>
            <a:off x="1547640" y="765000"/>
            <a:ext cx="615024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76200" y="496800"/>
            <a:ext cx="829944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5" name="obrázek 64" descr="http://www.damtp.cam.ac.uk/user/gr/public/images/gh150.gif"/>
          <p:cNvPicPr/>
          <p:nvPr/>
        </p:nvPicPr>
        <p:blipFill>
          <a:blip r:embed="rId1"/>
          <a:stretch/>
        </p:blipFill>
        <p:spPr>
          <a:xfrm>
            <a:off x="1979640" y="620640"/>
            <a:ext cx="534348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519120" y="568440"/>
            <a:ext cx="815652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7" name="obrázek 11" descr="http://upload.wikimedia.org/wikipedia/commons/thumb/6/6f/Earth_Eastern_Hemisphere.jpg/200px-Earth_Eastern_Hemisphere.jpg"/>
          <p:cNvPicPr/>
          <p:nvPr/>
        </p:nvPicPr>
        <p:blipFill>
          <a:blip r:embed="rId1"/>
          <a:stretch/>
        </p:blipFill>
        <p:spPr>
          <a:xfrm>
            <a:off x="2050920" y="907920"/>
            <a:ext cx="513252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1:57:00Z</dcterms:created>
  <dc:creator>Vladislav Navrátil</dc:creator>
  <dc:description/>
  <dc:language>en-US</dc:language>
  <cp:lastModifiedBy>navratil</cp:lastModifiedBy>
  <dcterms:modified xsi:type="dcterms:W3CDTF">2012-02-20T11:02:47Z</dcterms:modified>
  <cp:revision>30</cp:revision>
  <dc:subject/>
  <dc:title>Snímek 1</dc:title>
</cp:coreProperties>
</file>