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47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2B53-8E1E-4C1C-973A-8103DD1BF3B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6F46-2781-4F21-9587-DEC57027B30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A96F-4279-47BB-AB2D-0395076485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EA0F-C69E-44B9-B55B-E9EB42BF41B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C9FA-E600-4C8D-B224-AAC64177012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2162-D25A-4618-93E2-2684B77E0AA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9E6A-AE4A-40E9-886C-F18005D2B51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1ADC-4771-4C89-948D-58E70E23625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FCA2-A2F6-4A83-ADA0-1C8053C427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462D-E421-447C-8584-25FA425B6E2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758C-BD14-4656-ADB2-F4D60B6C6A8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F72E-7E86-4AD3-B3C2-91932479DE7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B9E0-D120-48A0-A4CD-CE41E6921F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B5B1-8852-410A-AD21-A16A3885A9E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7259-9D3D-455B-8E34-A294F364B3A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7277-34FF-4750-A8DB-FDC79DD5E17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0A4F-9077-492A-8A29-335A99C0CC9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33DE-5D2C-4747-A2F2-25473BD007A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3D15-03D2-4AE7-A079-EDFAC0A21F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AAD0-DFAE-44F2-847E-C60EC58103C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7550-912B-4AD6-9B45-5EC6916769C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A99C-FF2C-4874-A90D-09A3B96F796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E950-17CF-4A1E-93C7-43BA671E24A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78DF-D7B5-4E94-B440-8779A0C32A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C9BD-3F6F-4FE4-A84F-D8E2A445298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AA3C-2251-4D95-8F27-649B2E97D5A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AE6C-5B96-4857-B649-60917EFAAA0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1D7D-A556-4626-A466-4789510B198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79B9-EBB0-4886-A876-3D4BBCD7BE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703-C7D2-467A-BB06-3A2ABF2B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400-7B01-4E3F-8038-A7AC8C07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430F-E634-4433-9A1E-7DC834AA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090-6E05-43A8-A2BA-AB515BB7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BDB6-94EF-442E-8889-9E968097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9C59-26C4-40C9-BB6E-D3D159D0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A83F-D062-4BF2-9EFE-72DE38E1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69F6-3870-4CB1-924D-E6FC812D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1CEC-DA8D-4FFD-878D-4904EA40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F3D2-995B-46F1-87AF-DDE33BF0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451E-E77E-4E39-BDA5-B20CC87A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E61-6CDA-4E29-9BFA-8A31E878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F671-1F52-4D97-BE7E-48D2A139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75A7-1683-47FC-903B-ACC71492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22B4-4903-4366-B9C1-F3028694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3C5C-CECB-421E-BD14-061454CF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98FD-FB91-49E6-B1E1-82F0201B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4F0-74C9-4E3D-AD70-999A92B4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E57-E9D2-49AC-A685-6D9E57D5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78D-0DF2-494C-8CF6-98CEF934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D5F-4354-454C-A3FE-3A06D79B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981-7CA2-4DD1-B662-44667A5F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DA1-FB9C-4A96-A96A-A74141CE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DC9-2802-4FAA-8AA3-DEC6CF2F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463F-3341-48BB-ADB3-9E0F7F2136F9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3C60-96E1-4CC4-AD3C-FF27DC1F860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270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 Sběr údajů…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2400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…………………………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popula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380880" y="2238480"/>
            <a:ext cx="6095520" cy="2942640"/>
            <a:chOff x="380880" y="2238480"/>
            <a:chExt cx="6095520" cy="2942640"/>
          </a:xfrm>
        </p:grpSpPr>
        <p:grpSp>
          <p:nvGrpSpPr>
            <p:cNvPr id="337" name="Group 7"/>
            <p:cNvGrpSpPr/>
            <p:nvPr/>
          </p:nvGrpSpPr>
          <p:grpSpPr>
            <a:xfrm>
              <a:off x="1115280" y="2348640"/>
              <a:ext cx="5361120" cy="2832480"/>
              <a:chOff x="1115280" y="2348640"/>
              <a:chExt cx="5361120" cy="2832480"/>
            </a:xfrm>
          </p:grpSpPr>
          <p:graphicFrame>
            <p:nvGraphicFramePr>
              <p:cNvPr id="338" name="Object 8"/>
              <p:cNvGraphicFramePr/>
              <p:nvPr/>
            </p:nvGraphicFramePr>
            <p:xfrm>
              <a:off x="1115280" y="2348640"/>
              <a:ext cx="5215680" cy="228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9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5280" y="2348640"/>
                        <a:ext cx="5215680" cy="22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0" name="Text Box 9"/>
              <p:cNvSpPr/>
              <p:nvPr/>
            </p:nvSpPr>
            <p:spPr>
              <a:xfrm>
                <a:off x="5634720" y="4575240"/>
                <a:ext cx="841680" cy="60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347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348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349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352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355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358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361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364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367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370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373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376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379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382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385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388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391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394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397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400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eece1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406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407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408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411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414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417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420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423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426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429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432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435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438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441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444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447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450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453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456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459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 diskrétní náhodné proměn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teré mohou nabývat pouze dvou hodnot ( např. ano, 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(100 %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výpočtu se používá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binomick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1 –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479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481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482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483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486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489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492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495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498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501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504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507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510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513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516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519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522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525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528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531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534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6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Object 2"/>
          <p:cNvGraphicFramePr/>
          <p:nvPr/>
        </p:nvGraphicFramePr>
        <p:xfrm>
          <a:off x="4191120" y="3533760"/>
          <a:ext cx="495288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33760"/>
                    <a:ext cx="4952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544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děpodobnost narození dívky je 0,4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,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kretiza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last Oxfor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í 1851 – 1943, tj. 1116 měsíců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Suchý měsí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617 měsíců  hodnocených jako suché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499 – vlhké měsí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oissonovo rozdělení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pro rozdělení …………………… příp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zimní bouřka, výskyt mutace apod.).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 = 0,001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337320" y="594360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, že neobsahuje albína, je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lbína, je  ………………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statistika „umí“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Další rozdělení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 z křivky lze např. vyčíst…………………………………………………………………………………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zv.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TextovéPole 10" descr=""/>
          <p:cNvPicPr/>
          <p:nvPr/>
        </p:nvPicPr>
        <p:blipFill>
          <a:blip r:embed="rId1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  <p:sp>
        <p:nvSpPr>
          <p:cNvPr id="600" name="TextovéPole 11"/>
          <p:cNvSpPr/>
          <p:nvPr/>
        </p:nvSpPr>
        <p:spPr>
          <a:xfrm>
            <a:off x="3135960" y="333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načr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hady paramet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základní soubo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tatistický 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výběrov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náhodný výbě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reprezentativnost výbě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prost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oblastní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ystematick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1f497d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atistický soubor s norm rozdělením (X, 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me-li výběr o rozsahu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   od x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j.  v intervalu s krajními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x-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, x+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koeficient spolehlivosti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9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hladinu význam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05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ze použít intervaly spolehlivosti  nap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5 % (μ + - 1,960σ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9 % (μ + - 2,576σ), tj. širší! inter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itickém o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dchylky od průměru  za význam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ování statistických hypoté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jak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ověřit předpokl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o charakteristikách statistických souborů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Je  soubor A reprezentativním výběrem ze souboru B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Do jaké míry se soubory shodují v rozdělení četností, podle aritm. průměru, podle směrodatné odchylky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2421000" y="100476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5332680" y="9907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2884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dělení četností souborů A , 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228600" y="25560"/>
          <a:ext cx="495288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560"/>
                    <a:ext cx="495288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3"/>
          <p:cNvGraphicFramePr/>
          <p:nvPr/>
        </p:nvGraphicFramePr>
        <p:xfrm>
          <a:off x="3505320" y="1066680"/>
          <a:ext cx="5333760" cy="36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066680"/>
                    <a:ext cx="53337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vi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. stanovte hladinu významnosti pro porovnání souborů na 95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. formulujte nulovou hypotézu pro shodu soubor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. porovnejte  shodnost rozložení  četností souboru pro Brno – venkov se souborem pro ČR pomocí testu CHÍ – kvadrát ( CHITE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. Testujte významnost rozdílu rozptylů souborů pomocí F –testu (f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. Testujte významnost rozdílu pomocí T - testu.( t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.  Přijměte nebo odmítněte nulovou hypotéz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itest 0,99 ftest 0,958 t test  0,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1128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24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TISTICKÁ HYPOTÉZ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poklad: průměrná výška studentek PdF MU je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shodn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růměrnou výškou žen ve věku 20 - 25 let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NULOVÁ HYPOTÉ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Průměry obou souborů jsou shod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íme hladinu význam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př. 5% , tj.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0,05, tj. (  pravděpodobností 95 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plikace testovacího krité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výsledek testování významný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le výsledku přijmeme nebo odmítneme nulovou hypoté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podmiňuje změna prvku x změnu prvku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p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tahy teplota a nadm. výš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rážky a odtok v povo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áha a výška člově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Jednostran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zájem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upně závis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Funkč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pevno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apř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atistick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Korelač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Calibri"/>
              </a:rPr>
              <a:t>např.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relační závisl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rčení těsnosti korelační závis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jak těsný je vztah mezi výškou a hmotností člově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Korela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Regresní čár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ňuje ……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a pásy spolehlivosti pro lineární regresní závisl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lem regresní přímky lze sestroj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terý určuje pro vybrané 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 lineární reg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4508280"/>
            <a:ext cx="90835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Časové řady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Bazické a řetězové  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Z - diagram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časová řady –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000" spc="-1" strike="noStrike">
                <a:solidFill>
                  <a:srgbClr val="1f497d"/>
                </a:solidFill>
                <a:latin typeface="Calibri"/>
              </a:rPr>
              <a:t>statistick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časov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tistická řada upořádan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dle 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časová řada=………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…………</a:t>
            </a: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estavování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at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ás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dlouhá časová období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……………………………………………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…………………………………………………………………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ejné jednot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OKAMŽIKOV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y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znaku k určitému okamžik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Calibri"/>
              </a:rPr>
              <a:t>nap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INTERV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a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v interval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př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ožadavek stejného interval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  ekonomických ukaza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cíle analýz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jistit  hlavní rysy průběhu časových řad a analyzovat 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průběhu  časové řa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tacionár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 tren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periodickým opakováním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 výkyv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bez  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výky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Calibri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írůst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absolutní přírůst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………………………………………………………………………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relativní přírůst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tězové a bazické inde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bazický inde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řetězový index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koeficient růstu )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louzavé úhr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vláštní typ součtové čá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hodné pro porovnávání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dvou či více  řa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odnot za po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obě následující obdob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olísá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ročního chodu sráž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tup viz. např. skripta Brázdil. a kol. str. 1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668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669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671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3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674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676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8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679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681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684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686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8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689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691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3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694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696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8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699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701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704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706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709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711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714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5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716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8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719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721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3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724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726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729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0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731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734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5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736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8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739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741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744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746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749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751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3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754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756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8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759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761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764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5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766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8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769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771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774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776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8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779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781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3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784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786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8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789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791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3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794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796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8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799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801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804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5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806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8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809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811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3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814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816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8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819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821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824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826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8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829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0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831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3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834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836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8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839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841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3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844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846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8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849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851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3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854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856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8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859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861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3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864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865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6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867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870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872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4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875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6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877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880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882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4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885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887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9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890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1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892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4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895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897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900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1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902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4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905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907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9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910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912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4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915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6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917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920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922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4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925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927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29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RAFICKÉ ZNÁZORNĚ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…………………………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…………………………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čá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 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společné bod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Z - diagramu( tj. spol. hodno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rcRect l="7954" t="17559" r="16447" b="18297"/>
          <a:stretch/>
        </p:blipFill>
        <p:spPr>
          <a:xfrm>
            <a:off x="0" y="765000"/>
            <a:ext cx="86691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9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y a pís. zkou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rava na test  - pojmy viz. uč.  Materiály na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ís. zkouška,vždy min jedna přípravná otázka ke st. zkouš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Bc otáz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pište vývoj a pojetí statistiky. Objasněte základní kroky statistických šetření a vymezte následující pojmy: hromadný jev, statistický soubor, statistická jednotka, statistický zna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6) Popište a vysvětlete rozdělení četností (absolutní, relativní, kumulované) statistických jevů jejich grafické znázornění a uveďte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7) Uveďte příklady grafické znázornění statistických informací (grafy, sítě, statistické mapy) a na konkrétních příkladech doložte jejich náležitos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8) Přehledně představte základní míry úrovně (střední hodnoty), variability, asymetrie a špičatosti. Vysvětlete jejich význam a doložte nákres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9) Popište teoretická rozdělení náhodných veličin (Gaussovo, binomické a Pearsonovo rozdělení). S využitím nákresů popište a interpretujte význam normálního rozdělení. Uveďte další příklady jiných rozděl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) Vysvětlete a popište statistické závislosti náhodných veličin (korelace regrese, korelační koeficient). Uveďte konkrétní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1) Popište obecné principy statistického testování (základní kroky, hypotézy, teorie a druhy testů) a uveďte příklady geografických aplikací. Vysvětlete, proč se formuluje nulová hypotéza, co je hladina významnosti a jak se nulové hypotézy mohou ověř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2) Vysvětlete pojem časové řady a uveďte jejich hlavní rysy. S pomocí náčrtu objasněte tendence časových řad. Uveďte příklad využití řetězových a bazických indexů – doložte příkladem výpočt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kázky části otázek  k pís. zk.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e: Literatura viz. IS, učební texty na IS :historie a Thinking G.,),  zápisy z přednášek, cviče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24000" y="980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primární data a napište  hlavní zdroje primárních dat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sekundární data,  napište   hlavní zdroje sekundárních dat 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Čím se geografové zabývají?( Na jakých pracovních pozicích a  s jakým obsahem pracovní činnosti.)Udejte min dva konkrétní příklady a vysvětlete, jak využívají své odbornosti geografa a znalosti geografických konceptů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á fáze vědeckého výzkumu a stručně je popišteDefinujte systém,  objasněte  s využitím  náčrtu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teré dovednosti patří pod pojem „geografické myšlení“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typické geografické otázky, které jsou potřebné pro správnou výuku zeměpisu a rozvoj geografického myšlení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geografi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Zařaďte geografii do  souboru věd. Definujte objekt studia geografie a předmět studia geograf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a vymezte objekt studia geografie a předmět studia geografie.  Dejte do souvislosti předmět  studia geografie  a typické geografické otázk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ystém geografických věd – napište  strukturovaný výčet či  nakreslete schém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tručně popište nejstarší etapu vývoje statistik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dy se o statistice objevují první zprávy? Které činnosti se k ní vztahoval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Co bylo obsahem politické aritmetik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k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Hromadný jev, udejte min. dva konkrétní příklad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a následně definujte či vysvětlete dvě základní pojetí statistiky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pište základní  etapy statistického zpracování 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ou jednotku včetně vymezení. Uveďte  jeden konkrétní příklad  vymezení statistické jednotk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znak, napište základní  členění  st. znaků, uveďte vždy  u každé dílčí skupiny  min. jeden příkla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soubor, napište základní typy st. souborů,  uveďte k nim vhodné příklad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jednorozměrný a vícerozměrn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 základní a výběrov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základní a reprezentativní.  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í typy grafů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trojúhelníkovou síť  pro hodnocení nejvyššího dosaženého vzdělání   a vyznačte  v ní  obec A s podíly obyvatel se základním vzděláním 30 %, se středním 50,% a vysokoškolským 20% a obec B  s podíly (10 %, 60 %, 40%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, pro které jevy lze použít kruhovou siť. Uveďte min. dva pří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kruhovou  síť pro znázornění průměrných srážek na  met. stanici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artogram a kartodiagram, uveďte  vhodné příklady pro jejich  využití , objasněte, kdy je vhodné použít kartogram a kdy kartodia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A další…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Veselý obličej 4"/>
          <p:cNvSpPr/>
          <p:nvPr/>
        </p:nvSpPr>
        <p:spPr>
          <a:xfrm>
            <a:off x="392436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rdce 5"/>
          <p:cNvSpPr/>
          <p:nvPr/>
        </p:nvSpPr>
        <p:spPr>
          <a:xfrm>
            <a:off x="6084720" y="5157720"/>
            <a:ext cx="914400" cy="914400"/>
          </a:xfrm>
          <a:custGeom>
            <a:avLst/>
            <a:gdLst>
              <a:gd name="textAreaLeft" fmla="*/ 152280 w 914400"/>
              <a:gd name="textAreaRight" fmla="*/ 762120 w 914400"/>
              <a:gd name="textAreaTop" fmla="*/ 228600 h 914400"/>
              <a:gd name="textAreaBottom" fmla="*/ 609840 h 914400"/>
            </a:gdLst>
            <a:ahLst/>
            <a:rect l="textAreaLeft" t="textAreaTop" r="textAreaRight" b="textAreaBottom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unce 6"/>
          <p:cNvSpPr/>
          <p:nvPr/>
        </p:nvSpPr>
        <p:spPr>
          <a:xfrm>
            <a:off x="1763640" y="1557360"/>
            <a:ext cx="1224000" cy="115092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200"/>
            </a:br>
            <a:br>
              <a:rPr sz="2200"/>
            </a:br>
            <a:br>
              <a:rPr sz="29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11280" y="48690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 je tak nekonečně dlouhá 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…………………………………………………………………………………………………………………………………………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. jednotka – občan, novorozenec, byt,  rodinný  dům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je to 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vymezují ………………………………………………………………………………………………………..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hodný znak – 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………………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..znaky – váha, délka, jméno, národnost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– (např. měř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zváž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tj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………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..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ne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(výpočtem)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znaky odvozené)  tj. ………….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Nastudovat z Thinking Geography – uč. materiá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57200" y="152388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0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-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:identifikační zna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 .…………. základního souboru. Je vytvořen ze…………………………., vybraných podle určitého hlediska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kud zkoumaný výběr dobře odráží ……………………………………. celého zkoumaného souboru, nazýváme jej reprezentativním výběr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7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200" spc="-1" strike="noStrike" u="sng">
                <a:solidFill>
                  <a:srgbClr val="ffc000"/>
                </a:solidFill>
                <a:uFillTx/>
                <a:latin typeface="Calibri"/>
              </a:rPr>
              <a:t>statistika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definic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pojetí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Graf – defi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ákladní prv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grafického znázorně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.Název, příp. podnáz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.vlastní kres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.stupnice a  její popis (rovnoměrná,  nerovnoměrn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legenda/klí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5.zdroj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světlivky, poznám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 – ukáz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y graf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chém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strukturu a vztahy jevu či proce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ia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kvantitativní údaje o soubo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upcový, bodový, plošný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rostorové rozložení prvku v podkladové map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ché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iagra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iagram_ - věkové složení obyv., tzv.pyramida živ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chylka od průměrné teploty na Ze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Statistická map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užití grafických papí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ři studiu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Graf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usnadňuje vynášení prvků do graf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ilimetrov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lologaritm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dvou sítí – rovnoměrné a logaritmic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ravděpodobnostní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rovnoměrné a pravděpodobnostní stup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t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rojúhelníková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půdní dru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ůda A:: 50 % jílu, 25% hlíny, 25%, pí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916200" y="6248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žď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terpretac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romadných jev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ítě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uhová (radiální) 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grafické znázorňován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pakujících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 jevů, struktury je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ční cho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tepl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ět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arto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lošně znázorněna statistická dat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.………….. hranic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………………..hrani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artodiagram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o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iagramy vložené do mapové kost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tvoří dílčí územní cel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jich údaje se vztahují n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celé území jednotk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de le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rozdíl od metody lokalizovaných diagramu – údaj vztahující se k urč. bodu – např. chod roční  srážek  na meteorolog. stani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diagramy (sloupce, věkové pyramidy apod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. znač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metody analýzy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intenzit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jevu v pros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značková metoda (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bodová metoda (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př. 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struktur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 jevu v prost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užití …………………………….. graf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pouze strukturu vyjádříme výsečovými grafy se stejným 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strukturu a  velikost celku ( …………………………………………………………………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ležitosti statistické m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Obsah map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údaje tvo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Název map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ze i název hlavní a vedlejš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apový rámec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– „vlastní mapa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ěřítko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 číselné, grafické nebo slovní for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Legend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OZOR na intervaly, na barevnou šká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Autoř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větle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Documents and Settings\svatonova\Dokumenty\STATISTIKA\JARO_07\mapa304.jpg"/>
          <p:cNvPicPr/>
          <p:nvPr/>
        </p:nvPicPr>
        <p:blipFill>
          <a:blip r:embed="rId2"/>
          <a:stretch/>
        </p:blipFill>
        <p:spPr>
          <a:xfrm>
            <a:off x="506520" y="952560"/>
            <a:ext cx="86374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romadný jev ve statis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2"/>
          <p:cNvSpPr/>
          <p:nvPr/>
        </p:nvSpPr>
        <p:spPr>
          <a:xfrm>
            <a:off x="611280" y="1341360"/>
            <a:ext cx="685800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tj.:…………………………………………….. jevy, 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……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..formě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…………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převoditelné n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romadné jevy –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studenti dopíší další příklady ( např. viz. statistické ročenky)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zolinie – konstrukce a vlas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linie – 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ávají se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etodou prostorové interpolace hodnot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ynesených do graf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ynulé č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……………., izo………………., v…………….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strukce izolinie  - přík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bsolutní, relativní kumulované čet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etn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očet ……………………určité hodnoty v souboru,                      frekvence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……………………. prvků  s určitými  hodnotami statistického znaku, obvykle pro nespojité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kupinové 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-  počty prvků s hodnotami statistického znaku, které patří do určitého ………………………………, obvykle pro spojité hodn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kupinové 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třídím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 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terval – hranice, dolní a horní mez, šířka  (dél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zása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mezené hranice pro jednoznačné zařazení prv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vykl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šíř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iměřený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interval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e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umulovaná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62"/>
          <p:cNvSpPr/>
          <p:nvPr/>
        </p:nvSpPr>
        <p:spPr>
          <a:xfrm>
            <a:off x="604440" y="422280"/>
            <a:ext cx="47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kázka – příklad váha 1novorozenců v J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znázornění rozdělení četnos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šířka sloupce – šířka interval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ka sloupce - čet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lygo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pojnicový diagra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ty četnosti se vynáší ke středům interva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ára kumulovaných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………………………………………………………………………………………………..k horní hranici interv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histogram – věkové složení obyvatelstva, věková struktura, pyramida živo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úrovně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tzv. střed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symetrie a špiča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……………………………………………..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 jednorozměrného statistického souboru používáme   čast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řední hodnoty umožňuj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rovnávání soubor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+ vážený aritm. průměr, geometrický průměr, harmonický průmě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stř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 a kvant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geografický medi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1125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jčastěji používaná st. charakterist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ne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růmě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jedno a více  vrcholová rozdělení četnost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ypický aritm. průměr – 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typický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ážený 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 výpočtu množství srážek  v povodí – váha – plocha územ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klimatologii – výpočet denního průměru teplot ze tří mě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……………………….. hodnota kvantitativního znaku ve studovaném soubo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 především u souboru nespojitých velič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ální interval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interval zahrnující ……………………………. počet jednotek, závisí však na stanovení hranic interva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dělení  s více mody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lymodální rozdě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stř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tzv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rostřední  hodnot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o prvek řady uspořádané v neklesajícím pořadí ………………………………..í), který ji dělí na dvě poloviny, které mají menší a větší hodnotu zna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OR: 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soubor je třeba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zorce určují .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řadí  prvku (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kolikátý prvek t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je,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Calibri"/>
              </a:rPr>
              <a:t>hodnota prvku je 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 řadu s lichým počtem prvků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řadu o sudém počtu je medián průměr z hodnot mezi prvkem na (…………………………………..) mís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atistika – dva významy - dvě poje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………………………………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udělám si statistiku …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dián je kvantil dělící soubor na dvě poloviny dle předch. pravi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rtily – ., 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25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 x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75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c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ercent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ntily obecně široké použití ve statistice a v geograf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cký 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eografický medián je čára dělící …………………….kde se jev vyskytuje tak, aby hodnota jevu byla v obou plochách stej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pty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=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dnoduch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éhá ……………………………… hodnotám, které mohou být i chyb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á odchylka je definována jako ……………………………………………………………………………………………….od vybrané střední hodnoty (tj. od aritmetického průměru, mediánu, modu apo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kvar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c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cen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di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. jako aritmetický průměr absolutních hodnot ……………………………………………………………………………………………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raxi vhodná pouze pro malé soub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ptyl a směrodatná odchyl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důležitější charakteristiky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ptyl s</a:t>
            </a:r>
            <a:r>
              <a:rPr b="1" lang="cs-CZ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odatná odchyl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ruhou odmocnina rozpty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častou používanou relativní mírou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souměrnosti ………………………………tvaru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 rozděle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ra šikmosti pro souměrné rozdělení je n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nesouměrné je kladná nebo zápor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TISTIKA jako vědní disciplí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tatistika popisná: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matematická statistika: 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špičatosti ( míry špičatosti)  jsou čísla charakterizující ……………………………… prvků souboru v …………………………….určité hodnoty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arl Friedrich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Gaus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1777-185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grafické znázorně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sah sou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blíží k  nekonečnu + náhodná veličina je spojit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frekvenční funkce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/ hustota pravděpodob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umulativní relativní četnost tj. součtová čára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distribuční 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/ Gaussovo, Laplaceovo- Gausso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24000" y="1989000"/>
            <a:ext cx="624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ovéPole 5"/>
          <p:cNvSpPr/>
          <p:nvPr/>
        </p:nvSpPr>
        <p:spPr>
          <a:xfrm flipH="1">
            <a:off x="944640" y="47242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9480" y="25336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Činnost 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402920" y="765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ovéPole 4"/>
          <p:cNvSpPr/>
          <p:nvPr/>
        </p:nvSpPr>
        <p:spPr>
          <a:xfrm>
            <a:off x="2560320" y="23493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Načrtni  o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křivka a osa x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ymezují plochu 100%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j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ze stanovit pravděpodobn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s nimiž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eží hodnoty v určitém intervalu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ranice intervalu tvoří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ásobky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normálním rozděle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68, 27% hodnot 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5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9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Vypočítejte  hranice intervalu hodnot výšky , ve kterých  se nacház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A)6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B) 9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C)99%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příslušné popu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841680" y="45720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dán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7T19:22:58Z</dcterms:modified>
  <cp:revision>116</cp:revision>
  <dc:subject/>
  <dc:title>Prezentace aplikace PowerPoint</dc:title>
</cp:coreProperties>
</file>