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4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3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15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50.png" ContentType="image/png"/>
  <Override PartName="/ppt/media/image48.wmf" ContentType="image/x-wmf"/>
  <Override PartName="/ppt/media/image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25.png" ContentType="image/png"/>
  <Override PartName="/ppt/media/image6.png" ContentType="image/png"/>
  <Override PartName="/ppt/media/image36.png" ContentType="image/png"/>
  <Override PartName="/ppt/media/image31.png" ContentType="image/png"/>
  <Override PartName="/ppt/media/image29.wmf" ContentType="image/x-wmf"/>
  <Override PartName="/ppt/media/image60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24.png" ContentType="image/png"/>
  <Override PartName="/ppt/media/image16.jpeg" ContentType="image/jpeg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10.png" ContentType="image/png"/>
  <Override PartName="/ppt/media/image47.png" ContentType="image/png"/>
  <Override PartName="/ppt/media/image30.png" ContentType="image/png"/>
  <Override PartName="/ppt/media/image35.png" ContentType="image/png"/>
  <Override PartName="/ppt/media/image38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2.png" ContentType="image/png"/>
  <Override PartName="/ppt/media/image53.png" ContentType="image/png"/>
  <Override PartName="/ppt/media/image55.png" ContentType="image/png"/>
  <Override PartName="/ppt/media/image5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  <p:sldId id="425" r:id="rId175"/>
    <p:sldId id="426" r:id="rId1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slide" Target="slides/slide170.xml"/><Relationship Id="rId176" Type="http://schemas.openxmlformats.org/officeDocument/2006/relationships/slide" Target="slides/slide171.xml"/><Relationship Id="rId1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9E33-57D6-4E09-A29A-CAF16B2E333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0E30-0C02-4471-8816-AAD9DC012A0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7BA1-8960-4290-9A9E-19FE0486608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A8C4-8E4C-44D6-9781-F9693880A8D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6D96-813C-4E38-AAF3-49BBF1DE96F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9B30-DB48-4568-B7F1-107C7B6B5CB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3A11-88D0-44A2-B212-FE0BF7ED484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D58C-D6D4-42DE-8D71-F2E44B62D44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ACF2-004A-47D6-95E3-AA07EF4E940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AD94-915C-4BAF-A69F-837BD14AF92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0018-EB4E-4B50-B05F-BAF460AA0E3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DDE6-7AEF-4926-A1ED-F88F4BC0814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C4D8-91BF-4DE8-BC7A-574A7ACDB73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6AAF-B648-4BD4-A393-711539FD36D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B531-37C4-41AC-89BB-81D8A4D5CEE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AF3F-5487-474A-8189-BE34B9AA86A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DF2D-41AC-455F-B0F3-9110E5A51C7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5266-F286-49BF-864D-5B251CC104E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0463-0A29-4557-9D0D-1ACF0FA990A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6DC5-7B5F-4E15-A755-FB9770DEF42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4091-8AB0-4211-88DC-4236A1404F7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FE38-E2F4-495F-AA26-5A8AF249ADD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BF34-F219-462F-9538-4DA6059A570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73C9-06EA-4709-BD33-B89506FD5DA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11EB-9528-4441-83AA-F4381D0F82B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6D00-851E-4627-8357-E11C7EF4179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EFE2-421F-4225-A2C9-4D249617CA0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E2E-AB49-46D3-95BB-59821EC7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896-1110-4583-9849-C990D652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B39-AD72-44CE-8079-B61C1748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0EF-DF1B-4DD0-A3A0-CA82D9CD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EFFC-112C-4CB3-84AC-658574F8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91B6-5282-4A1C-84DF-B19887D0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A505-FED0-40A0-A9AA-3B1DA0CF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5EC6-EF8D-412A-9ED6-F4228AE5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46D3-8154-42FD-B36B-C0B0F2BE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DFED-C503-4866-8DDA-D3107E1B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AC7A-5325-4956-AA7F-0BF5E811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5A53-206F-4BC5-91C0-C4DBDF93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7A13-3DA7-402A-BC7B-1FD031DA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839B-1568-41F1-B0E8-CE553DFE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C707-2805-4386-82C9-E8C7EFEF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B48C-0510-4AE4-BC38-68572C95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6002-6B8D-4DF9-B281-9F79D9BD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E5D4C-C1A2-4FEC-8001-17CD7AA0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0A129-1C19-44BC-BCFA-1DD7EEA2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8F4F6-642D-4B91-AB8A-5DA965AD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33ACE-B9CE-4B33-99DC-3627077B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4CBFB-961D-4D44-B027-61A85107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C12-E950-4E57-A55B-BD4DDB2B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B07FA-F1AE-4490-8CA4-8B408366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C9414-28B8-473A-8445-6E2D5BDA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BFF2A-9550-4D5E-A0B0-9ED5690E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169FD-ACBD-469F-84E1-949B2A2C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8C157-5565-47BD-9905-0C5A8278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F52C1-4B5E-4885-850D-552AAFB2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A7DC-003F-458B-A99D-D0FCF38B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C41-EC92-46F9-99A6-F25851BE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32C-9F3C-4D4F-8986-0E0787B1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37C-C433-4F4C-A689-6AA8D766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1A5-839C-47E2-B63F-9B7F01C4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52D-EE3F-4BA6-84D3-969C2A5C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31A-3F3E-4994-BCDC-0FF20847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54DE-EFE7-4F01-9613-51D587A2D35B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0C2B-07ED-4F95-ABC9-79BB148ADE5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C1AC-E139-4BFC-AFC7-897EF61F9C4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9640" y="270828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/ Sběr úda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eriodicita sběr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24000" y="39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spořádání, sumariza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počet charakteristik, měření závislostí, srovnávání, měření dynami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tabulkové či grafické vyjádření a slovní zhodnocení výsledků předcházejících etap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ormální rozdělení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80880" y="2529000"/>
            <a:ext cx="624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Picture 9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4500720" y="3068640"/>
            <a:ext cx="4352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8920" y="4437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Picture 4" descr="C:\Documents and Settings\svatonova\Dokumenty\STATISTIKA\JARO_07\normalní podle smer_odchylek.gif"/>
          <p:cNvPicPr/>
          <p:nvPr/>
        </p:nvPicPr>
        <p:blipFill>
          <a:blip r:embed="rId1"/>
          <a:stretch/>
        </p:blipFill>
        <p:spPr>
          <a:xfrm>
            <a:off x="1619280" y="549360"/>
            <a:ext cx="4960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49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křivka a osa x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ymezují plochu 100%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ze stanovit pravděpodobnost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s nimiž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eží hodnoty v určitém intervalu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ranice intervalu tvoří průměr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a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ásobky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Picture 1028" descr="C:\Documents and Settings\svatonova\Dokumenty\STATISTIKA\JARO_07\IQ_normální rozdělení.jpg"/>
          <p:cNvPicPr/>
          <p:nvPr/>
        </p:nvPicPr>
        <p:blipFill>
          <a:blip r:embed="rId1"/>
          <a:stretch/>
        </p:blipFill>
        <p:spPr>
          <a:xfrm>
            <a:off x="152280" y="762120"/>
            <a:ext cx="8991720" cy="5199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029"/>
          <p:cNvSpPr/>
          <p:nvPr/>
        </p:nvSpPr>
        <p:spPr>
          <a:xfrm>
            <a:off x="1901880" y="22860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Normální rozdělení pro I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30"/>
          <p:cNvSpPr/>
          <p:nvPr/>
        </p:nvSpPr>
        <p:spPr>
          <a:xfrm>
            <a:off x="1523880" y="6095880"/>
            <a:ext cx="9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eb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031"/>
          <p:cNvSpPr/>
          <p:nvPr/>
        </p:nvSpPr>
        <p:spPr>
          <a:xfrm>
            <a:off x="152280" y="601992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mbec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032"/>
          <p:cNvSpPr/>
          <p:nvPr/>
        </p:nvSpPr>
        <p:spPr>
          <a:xfrm>
            <a:off x="2437920" y="60199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hká 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033"/>
          <p:cNvSpPr/>
          <p:nvPr/>
        </p:nvSpPr>
        <p:spPr>
          <a:xfrm>
            <a:off x="4037400" y="6095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ůmě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034"/>
          <p:cNvSpPr/>
          <p:nvPr/>
        </p:nvSpPr>
        <p:spPr>
          <a:xfrm>
            <a:off x="5485680" y="60199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nikajíc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035"/>
          <p:cNvSpPr/>
          <p:nvPr/>
        </p:nvSpPr>
        <p:spPr>
          <a:xfrm>
            <a:off x="7375680" y="58816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enia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036"/>
          <p:cNvSpPr/>
          <p:nvPr/>
        </p:nvSpPr>
        <p:spPr>
          <a:xfrm>
            <a:off x="0" y="6461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dioci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754524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Q (v bodech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peň inteligen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nto zkoumaných případů (v 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éně než 2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oci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- 4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bec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 - 6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 - 7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zv. lehká 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 - 8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 - 10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0 - 11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0 - 13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ynikajíc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a ví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a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ě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ů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79898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Obdélník 3"/>
          <p:cNvSpPr/>
          <p:nvPr/>
        </p:nvSpPr>
        <p:spPr>
          <a:xfrm>
            <a:off x="324000" y="5157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 hranice intervalu hodnot výšky , ve kterých  se nacház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A)68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B) 9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C)99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slušné popu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837720" y="457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949560" y="4149720"/>
            <a:ext cx="51944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d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vděpodobnost, že výška nabude hodnoty menší nebo rovné 93 cm, je vyjádřena hodnotou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ribuční funkc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93) pro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arametry normálního rozdělení 102;4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" name="Picture 4" descr="C:\Documents and Settings\Svatonova\Dokumenty\STATISTIKA\JARO_06\PRÍKLAD1.bmp"/>
          <p:cNvPicPr/>
          <p:nvPr/>
        </p:nvPicPr>
        <p:blipFill>
          <a:blip r:embed="rId1"/>
          <a:stretch/>
        </p:blipFill>
        <p:spPr>
          <a:xfrm>
            <a:off x="533520" y="2133720"/>
            <a:ext cx="7727760" cy="41274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5"/>
          <p:cNvSpPr/>
          <p:nvPr/>
        </p:nvSpPr>
        <p:spPr>
          <a:xfrm>
            <a:off x="664200" y="6289560"/>
            <a:ext cx="87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dpověď: 2,27 % chlapců ve věku 3,5 – 4 roky je menších než 93 c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pula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   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eze pro 50 %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žské pop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1243080" y="2622600"/>
            <a:ext cx="2414160" cy="1263240"/>
            <a:chOff x="1243080" y="2622600"/>
            <a:chExt cx="2414160" cy="1263240"/>
          </a:xfrm>
        </p:grpSpPr>
        <p:sp>
          <p:nvSpPr>
            <p:cNvPr id="487" name="Line 5"/>
            <p:cNvSpPr/>
            <p:nvPr/>
          </p:nvSpPr>
          <p:spPr>
            <a:xfrm>
              <a:off x="1243080" y="3808800"/>
              <a:ext cx="22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6"/>
            <p:cNvSpPr/>
            <p:nvPr/>
          </p:nvSpPr>
          <p:spPr>
            <a:xfrm>
              <a:off x="305388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7"/>
            <p:cNvSpPr/>
            <p:nvPr/>
          </p:nvSpPr>
          <p:spPr>
            <a:xfrm>
              <a:off x="154476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0" name="Group 8"/>
            <p:cNvGrpSpPr/>
            <p:nvPr/>
          </p:nvGrpSpPr>
          <p:grpSpPr>
            <a:xfrm>
              <a:off x="1393920" y="2622600"/>
              <a:ext cx="2263320" cy="1166040"/>
              <a:chOff x="1393920" y="2622600"/>
              <a:chExt cx="2263320" cy="1166040"/>
            </a:xfrm>
          </p:grpSpPr>
          <p:sp>
            <p:nvSpPr>
              <p:cNvPr id="491" name="Freeform 9"/>
              <p:cNvSpPr/>
              <p:nvPr/>
            </p:nvSpPr>
            <p:spPr>
              <a:xfrm>
                <a:off x="1393920" y="3055320"/>
                <a:ext cx="1810800" cy="631800"/>
              </a:xfrm>
              <a:custGeom>
                <a:avLst/>
                <a:gdLst>
                  <a:gd name="textAreaLeft" fmla="*/ 0 w 1810800"/>
                  <a:gd name="textAreaRight" fmla="*/ 1811160 w 1810800"/>
                  <a:gd name="textAreaTop" fmla="*/ 0 h 631800"/>
                  <a:gd name="textAreaBottom" fmla="*/ 632160 h 6318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19963"/>
                    </a:moveTo>
                    <a:lnTo>
                      <a:pt x="1250" y="16259"/>
                    </a:lnTo>
                    <a:lnTo>
                      <a:pt x="1889" y="14444"/>
                    </a:lnTo>
                    <a:lnTo>
                      <a:pt x="2500" y="12630"/>
                    </a:lnTo>
                    <a:lnTo>
                      <a:pt x="3139" y="10926"/>
                    </a:lnTo>
                    <a:lnTo>
                      <a:pt x="3741" y="9259"/>
                    </a:lnTo>
                    <a:lnTo>
                      <a:pt x="4380" y="7704"/>
                    </a:lnTo>
                    <a:lnTo>
                      <a:pt x="4991" y="6222"/>
                    </a:lnTo>
                    <a:lnTo>
                      <a:pt x="5315" y="5556"/>
                    </a:lnTo>
                    <a:lnTo>
                      <a:pt x="5630" y="4889"/>
                    </a:lnTo>
                    <a:lnTo>
                      <a:pt x="5917" y="4296"/>
                    </a:lnTo>
                    <a:lnTo>
                      <a:pt x="6241" y="3667"/>
                    </a:lnTo>
                    <a:lnTo>
                      <a:pt x="6556" y="3148"/>
                    </a:lnTo>
                    <a:lnTo>
                      <a:pt x="6880" y="2630"/>
                    </a:lnTo>
                    <a:lnTo>
                      <a:pt x="7167" y="2148"/>
                    </a:lnTo>
                    <a:lnTo>
                      <a:pt x="7491" y="1741"/>
                    </a:lnTo>
                    <a:lnTo>
                      <a:pt x="7806" y="1333"/>
                    </a:lnTo>
                    <a:lnTo>
                      <a:pt x="8130" y="1000"/>
                    </a:lnTo>
                    <a:lnTo>
                      <a:pt x="8417" y="704"/>
                    </a:lnTo>
                    <a:lnTo>
                      <a:pt x="8731" y="444"/>
                    </a:lnTo>
                    <a:lnTo>
                      <a:pt x="9056" y="259"/>
                    </a:lnTo>
                    <a:lnTo>
                      <a:pt x="9380" y="111"/>
                    </a:lnTo>
                    <a:lnTo>
                      <a:pt x="9667" y="37"/>
                    </a:lnTo>
                    <a:lnTo>
                      <a:pt x="9981" y="0"/>
                    </a:lnTo>
                    <a:lnTo>
                      <a:pt x="10306" y="74"/>
                    </a:lnTo>
                    <a:lnTo>
                      <a:pt x="10620" y="185"/>
                    </a:lnTo>
                    <a:lnTo>
                      <a:pt x="10972" y="407"/>
                    </a:lnTo>
                    <a:lnTo>
                      <a:pt x="11296" y="741"/>
                    </a:lnTo>
                    <a:lnTo>
                      <a:pt x="11648" y="1111"/>
                    </a:lnTo>
                    <a:lnTo>
                      <a:pt x="12000" y="1556"/>
                    </a:lnTo>
                    <a:lnTo>
                      <a:pt x="12352" y="2074"/>
                    </a:lnTo>
                    <a:lnTo>
                      <a:pt x="12731" y="2667"/>
                    </a:lnTo>
                    <a:lnTo>
                      <a:pt x="13093" y="3296"/>
                    </a:lnTo>
                    <a:lnTo>
                      <a:pt x="13444" y="3963"/>
                    </a:lnTo>
                    <a:lnTo>
                      <a:pt x="13824" y="4667"/>
                    </a:lnTo>
                    <a:lnTo>
                      <a:pt x="14176" y="5444"/>
                    </a:lnTo>
                    <a:lnTo>
                      <a:pt x="14907" y="7037"/>
                    </a:lnTo>
                    <a:lnTo>
                      <a:pt x="15620" y="8741"/>
                    </a:lnTo>
                    <a:lnTo>
                      <a:pt x="16324" y="10481"/>
                    </a:lnTo>
                    <a:lnTo>
                      <a:pt x="16991" y="12185"/>
                    </a:lnTo>
                    <a:lnTo>
                      <a:pt x="17602" y="13852"/>
                    </a:lnTo>
                    <a:lnTo>
                      <a:pt x="17917" y="14667"/>
                    </a:lnTo>
                    <a:lnTo>
                      <a:pt x="18204" y="15444"/>
                    </a:lnTo>
                    <a:lnTo>
                      <a:pt x="18463" y="16185"/>
                    </a:lnTo>
                    <a:lnTo>
                      <a:pt x="18750" y="16889"/>
                    </a:lnTo>
                    <a:lnTo>
                      <a:pt x="19009" y="17519"/>
                    </a:lnTo>
                    <a:lnTo>
                      <a:pt x="19231" y="18148"/>
                    </a:lnTo>
                    <a:lnTo>
                      <a:pt x="19454" y="18704"/>
                    </a:lnTo>
                    <a:lnTo>
                      <a:pt x="19648" y="19185"/>
                    </a:lnTo>
                    <a:lnTo>
                      <a:pt x="19843" y="19630"/>
                    </a:lnTo>
                    <a:lnTo>
                      <a:pt x="20000" y="1996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Line 10"/>
              <p:cNvSpPr/>
              <p:nvPr/>
            </p:nvSpPr>
            <p:spPr>
              <a:xfrm flipH="1">
                <a:off x="2601000" y="2622600"/>
                <a:ext cx="1056240" cy="84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Line 11"/>
              <p:cNvSpPr/>
              <p:nvPr/>
            </p:nvSpPr>
            <p:spPr>
              <a:xfrm flipH="1">
                <a:off x="1591200" y="3043440"/>
                <a:ext cx="405720" cy="74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4" name="Line 12"/>
            <p:cNvSpPr/>
            <p:nvPr/>
          </p:nvSpPr>
          <p:spPr>
            <a:xfrm flipH="1">
              <a:off x="1886760" y="3043440"/>
              <a:ext cx="4125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13"/>
            <p:cNvSpPr/>
            <p:nvPr/>
          </p:nvSpPr>
          <p:spPr>
            <a:xfrm flipH="1">
              <a:off x="2200680" y="3043440"/>
              <a:ext cx="399960" cy="75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14"/>
            <p:cNvSpPr/>
            <p:nvPr/>
          </p:nvSpPr>
          <p:spPr>
            <a:xfrm flipH="1">
              <a:off x="2515320" y="3254400"/>
              <a:ext cx="387000" cy="5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15"/>
            <p:cNvSpPr/>
            <p:nvPr/>
          </p:nvSpPr>
          <p:spPr>
            <a:xfrm flipH="1">
              <a:off x="2799000" y="3465000"/>
              <a:ext cx="25488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Text Box 16"/>
          <p:cNvSpPr/>
          <p:nvPr/>
        </p:nvSpPr>
        <p:spPr>
          <a:xfrm>
            <a:off x="3643200" y="23274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370800" y="426708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ledáme dolní a horní meze  intervalu ( hodnot IQ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e které se bude nacházet 50%  mužské populace, tj 1. a 3. kvart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2286000" y="28195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2347920" y="2403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Object 3"/>
          <p:cNvGraphicFramePr/>
          <p:nvPr/>
        </p:nvGraphicFramePr>
        <p:xfrm>
          <a:off x="0" y="2133720"/>
          <a:ext cx="5992920" cy="37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5992920" cy="37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5"/>
          <p:cNvGraphicFramePr/>
          <p:nvPr/>
        </p:nvGraphicFramePr>
        <p:xfrm>
          <a:off x="3809880" y="228600"/>
          <a:ext cx="4972320" cy="31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28600"/>
                    <a:ext cx="49723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Text Box 6"/>
          <p:cNvSpPr/>
          <p:nvPr/>
        </p:nvSpPr>
        <p:spPr>
          <a:xfrm>
            <a:off x="6018480" y="4038480"/>
            <a:ext cx="262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parametr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aného normální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 popul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á IQ v interval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98,6 a 109,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45720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2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304920" y="762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xcel, statistická funkce inverzní k e Gauss. - NORMI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Group 6"/>
          <p:cNvGrpSpPr/>
          <p:nvPr/>
        </p:nvGrpSpPr>
        <p:grpSpPr>
          <a:xfrm>
            <a:off x="380880" y="2209680"/>
            <a:ext cx="6095520" cy="2971800"/>
            <a:chOff x="380880" y="2209680"/>
            <a:chExt cx="6095520" cy="2971800"/>
          </a:xfrm>
        </p:grpSpPr>
        <p:grpSp>
          <p:nvGrpSpPr>
            <p:cNvPr id="512" name="Group 7"/>
            <p:cNvGrpSpPr/>
            <p:nvPr/>
          </p:nvGrpSpPr>
          <p:grpSpPr>
            <a:xfrm>
              <a:off x="1147320" y="2209680"/>
              <a:ext cx="5329080" cy="2971800"/>
              <a:chOff x="1147320" y="2209680"/>
              <a:chExt cx="5329080" cy="2971800"/>
            </a:xfrm>
          </p:grpSpPr>
          <p:graphicFrame>
            <p:nvGraphicFramePr>
              <p:cNvPr id="513" name="Object 8"/>
              <p:cNvGraphicFramePr/>
              <p:nvPr/>
            </p:nvGraphicFramePr>
            <p:xfrm>
              <a:off x="1147320" y="2209680"/>
              <a:ext cx="5215680" cy="2283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4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7320" y="2209680"/>
                        <a:ext cx="5215680" cy="228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5" name="Text Box 9"/>
              <p:cNvSpPr/>
              <p:nvPr/>
            </p:nvSpPr>
            <p:spPr>
              <a:xfrm>
                <a:off x="5634720" y="4575600"/>
                <a:ext cx="841680" cy="60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6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522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523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524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527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530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533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536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539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542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545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548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551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554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557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560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563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566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569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572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575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7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581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582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583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586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589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592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595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598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601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604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607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610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613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616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619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622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625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628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631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634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6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835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statistika „umí“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0920" y="2019240"/>
            <a:ext cx="8458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v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struk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é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v čase nebo prost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diskrétní náhodné proměnné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mohou nabývat pouze dvou hodnot ( např. ano, 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+q = 1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(100 %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výpočtu se používá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nomický rozv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1 –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1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2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3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654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5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656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657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658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0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661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3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664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6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667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9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670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673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676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679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682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685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7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688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0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691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694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6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697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9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700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703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5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706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8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709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1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4038480" y="3073320"/>
          <a:ext cx="533412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073320"/>
                    <a:ext cx="5334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6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8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719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avděpodobnost narození dívky je 0,4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Picture 5" descr="\begin{displaymath}\ensuremath{\mathrm{P}} (k = 3) = {8 \choose 3} 0{,}49^3 \cdo...&#10;...\cdot2\cdot1} \cdot 0{,}118 \cdot&#10;0{,}035 = 0{,}23. \ \Diamond&#10;\end{displaymath}"/>
          <p:cNvPicPr/>
          <p:nvPr/>
        </p:nvPicPr>
        <p:blipFill>
          <a:blip r:embed="rId1"/>
          <a:stretch/>
        </p:blipFill>
        <p:spPr>
          <a:xfrm>
            <a:off x="228600" y="2895480"/>
            <a:ext cx="8610480" cy="91620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-14400" y="4114800"/>
            <a:ext cx="910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ěpodobnost, že v rodině s 8 dětmi jsou tři dívk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0,23, tj. 23 %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,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retiza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last Oxfor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dobí 1851 – 1943, tj. 1116 měsíců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Suchý měsí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617 měsíců  hodnocených jako such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499 – vlhké měsí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617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0,5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9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2" name="Object 2"/>
          <p:cNvGraphicFramePr/>
          <p:nvPr/>
        </p:nvGraphicFramePr>
        <p:xfrm>
          <a:off x="6300720" y="620640"/>
          <a:ext cx="2548080" cy="471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620640"/>
                    <a:ext cx="254808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49" name="Object 2"/>
          <p:cNvGraphicFramePr/>
          <p:nvPr/>
        </p:nvGraphicFramePr>
        <p:xfrm>
          <a:off x="4500720" y="260280"/>
          <a:ext cx="4389120" cy="21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60280"/>
                    <a:ext cx="43891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1" name="Picture 4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6913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1219320" y="762120"/>
          <a:ext cx="6858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6858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79280" y="2349360"/>
            <a:ext cx="8202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adekvátn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číselné úd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statečně rozsáhlý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soubor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í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 datech přítom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měnlivos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ariabilita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oissonovo rozděl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o rozdělení vzácných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zimní bouřka, výskyt mutace apod.).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 = 0,001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2" name="Object 2"/>
          <p:cNvGraphicFramePr/>
          <p:nvPr/>
        </p:nvGraphicFramePr>
        <p:xfrm>
          <a:off x="2819520" y="1523880"/>
          <a:ext cx="60195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60195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Text Box 5"/>
          <p:cNvSpPr/>
          <p:nvPr/>
        </p:nvSpPr>
        <p:spPr>
          <a:xfrm>
            <a:off x="300240" y="594360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vděpodobnost, že neobsahuje albína, je 90,47 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2514600" y="1066680"/>
          <a:ext cx="66294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66294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lbína, je  9 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cc66"/>
                </a:solidFill>
                <a:latin typeface="Arial"/>
              </a:rPr>
              <a:t>Další rozdělení</a:t>
            </a:r>
            <a:br>
              <a:rPr sz="6000"/>
            </a:b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arsonova křivka III. ty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z křivky lze např. vyčíst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avděpodobnost  se kterou bude hodnota sledovaného statistického znaku dosaž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zv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čára překro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08"/>
          <p:cNvGrpSpPr/>
          <p:nvPr/>
        </p:nvGrpSpPr>
        <p:grpSpPr>
          <a:xfrm>
            <a:off x="0" y="1197000"/>
            <a:ext cx="8759880" cy="6172200"/>
            <a:chOff x="0" y="1197000"/>
            <a:chExt cx="8759880" cy="6172200"/>
          </a:xfrm>
        </p:grpSpPr>
        <p:grpSp>
          <p:nvGrpSpPr>
            <p:cNvPr id="778" name="Group 73"/>
            <p:cNvGrpSpPr/>
            <p:nvPr/>
          </p:nvGrpSpPr>
          <p:grpSpPr>
            <a:xfrm>
              <a:off x="0" y="1197000"/>
              <a:ext cx="1760760" cy="608400"/>
              <a:chOff x="0" y="1197000"/>
              <a:chExt cx="1760760" cy="608400"/>
            </a:xfrm>
          </p:grpSpPr>
          <p:sp>
            <p:nvSpPr>
              <p:cNvPr id="779" name="Rectangle 72"/>
              <p:cNvSpPr/>
              <p:nvPr/>
            </p:nvSpPr>
            <p:spPr>
              <a:xfrm>
                <a:off x="0" y="1197000"/>
                <a:ext cx="176076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Rectangle 4"/>
              <p:cNvSpPr/>
              <p:nvPr/>
            </p:nvSpPr>
            <p:spPr>
              <a:xfrm>
                <a:off x="208800" y="1197000"/>
                <a:ext cx="13424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Group 75"/>
            <p:cNvGrpSpPr/>
            <p:nvPr/>
          </p:nvGrpSpPr>
          <p:grpSpPr>
            <a:xfrm>
              <a:off x="1762200" y="1197000"/>
              <a:ext cx="2616120" cy="608400"/>
              <a:chOff x="1762200" y="1197000"/>
              <a:chExt cx="2616120" cy="608400"/>
            </a:xfrm>
          </p:grpSpPr>
          <p:sp>
            <p:nvSpPr>
              <p:cNvPr id="782" name="Rectangle 74"/>
              <p:cNvSpPr/>
              <p:nvPr/>
            </p:nvSpPr>
            <p:spPr>
              <a:xfrm>
                <a:off x="176220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Rectangle 5"/>
              <p:cNvSpPr/>
              <p:nvPr/>
            </p:nvSpPr>
            <p:spPr>
              <a:xfrm>
                <a:off x="197280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77"/>
            <p:cNvGrpSpPr/>
            <p:nvPr/>
          </p:nvGrpSpPr>
          <p:grpSpPr>
            <a:xfrm>
              <a:off x="4379760" y="1197000"/>
              <a:ext cx="1762200" cy="608400"/>
              <a:chOff x="4379760" y="1197000"/>
              <a:chExt cx="1762200" cy="608400"/>
            </a:xfrm>
          </p:grpSpPr>
          <p:sp>
            <p:nvSpPr>
              <p:cNvPr id="785" name="Rectangle 76"/>
              <p:cNvSpPr/>
              <p:nvPr/>
            </p:nvSpPr>
            <p:spPr>
              <a:xfrm>
                <a:off x="4379760" y="1197000"/>
                <a:ext cx="17622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Rectangle 6"/>
              <p:cNvSpPr/>
              <p:nvPr/>
            </p:nvSpPr>
            <p:spPr>
              <a:xfrm>
                <a:off x="4590360" y="1197000"/>
                <a:ext cx="13406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79"/>
            <p:cNvGrpSpPr/>
            <p:nvPr/>
          </p:nvGrpSpPr>
          <p:grpSpPr>
            <a:xfrm>
              <a:off x="6143760" y="1197000"/>
              <a:ext cx="2616120" cy="608400"/>
              <a:chOff x="6143760" y="1197000"/>
              <a:chExt cx="2616120" cy="608400"/>
            </a:xfrm>
          </p:grpSpPr>
          <p:sp>
            <p:nvSpPr>
              <p:cNvPr id="788" name="Rectangle 78"/>
              <p:cNvSpPr/>
              <p:nvPr/>
            </p:nvSpPr>
            <p:spPr>
              <a:xfrm>
                <a:off x="614376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Rectangle 7"/>
              <p:cNvSpPr/>
              <p:nvPr/>
            </p:nvSpPr>
            <p:spPr>
              <a:xfrm>
                <a:off x="635256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Group 81"/>
            <p:cNvGrpSpPr/>
            <p:nvPr/>
          </p:nvGrpSpPr>
          <p:grpSpPr>
            <a:xfrm>
              <a:off x="0" y="1805400"/>
              <a:ext cx="1760760" cy="347760"/>
              <a:chOff x="0" y="1805400"/>
              <a:chExt cx="1760760" cy="347760"/>
            </a:xfrm>
          </p:grpSpPr>
          <p:sp>
            <p:nvSpPr>
              <p:cNvPr id="791" name="Rectangle 8"/>
              <p:cNvSpPr/>
              <p:nvPr/>
            </p:nvSpPr>
            <p:spPr>
              <a:xfrm>
                <a:off x="208800" y="18054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Rectangle 80"/>
              <p:cNvSpPr/>
              <p:nvPr/>
            </p:nvSpPr>
            <p:spPr>
              <a:xfrm>
                <a:off x="0" y="18054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83"/>
            <p:cNvGrpSpPr/>
            <p:nvPr/>
          </p:nvGrpSpPr>
          <p:grpSpPr>
            <a:xfrm>
              <a:off x="1762200" y="1805400"/>
              <a:ext cx="2616120" cy="347760"/>
              <a:chOff x="1762200" y="1805400"/>
              <a:chExt cx="2616120" cy="347760"/>
            </a:xfrm>
          </p:grpSpPr>
          <p:sp>
            <p:nvSpPr>
              <p:cNvPr id="794" name="Rectangle 9"/>
              <p:cNvSpPr/>
              <p:nvPr/>
            </p:nvSpPr>
            <p:spPr>
              <a:xfrm>
                <a:off x="197280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Rectangle 82"/>
              <p:cNvSpPr/>
              <p:nvPr/>
            </p:nvSpPr>
            <p:spPr>
              <a:xfrm>
                <a:off x="176220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85"/>
            <p:cNvGrpSpPr/>
            <p:nvPr/>
          </p:nvGrpSpPr>
          <p:grpSpPr>
            <a:xfrm>
              <a:off x="4379760" y="1805400"/>
              <a:ext cx="1762200" cy="347760"/>
              <a:chOff x="4379760" y="1805400"/>
              <a:chExt cx="1762200" cy="347760"/>
            </a:xfrm>
          </p:grpSpPr>
          <p:sp>
            <p:nvSpPr>
              <p:cNvPr id="797" name="Rectangle 10"/>
              <p:cNvSpPr/>
              <p:nvPr/>
            </p:nvSpPr>
            <p:spPr>
              <a:xfrm>
                <a:off x="4590360" y="18054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Rectangle 84"/>
              <p:cNvSpPr/>
              <p:nvPr/>
            </p:nvSpPr>
            <p:spPr>
              <a:xfrm>
                <a:off x="4379760" y="18054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87"/>
            <p:cNvGrpSpPr/>
            <p:nvPr/>
          </p:nvGrpSpPr>
          <p:grpSpPr>
            <a:xfrm>
              <a:off x="6143760" y="1805400"/>
              <a:ext cx="2616120" cy="347760"/>
              <a:chOff x="6143760" y="1805400"/>
              <a:chExt cx="2616120" cy="347760"/>
            </a:xfrm>
          </p:grpSpPr>
          <p:sp>
            <p:nvSpPr>
              <p:cNvPr id="800" name="Rectangle 11"/>
              <p:cNvSpPr/>
              <p:nvPr/>
            </p:nvSpPr>
            <p:spPr>
              <a:xfrm>
                <a:off x="635256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Rectangle 86"/>
              <p:cNvSpPr/>
              <p:nvPr/>
            </p:nvSpPr>
            <p:spPr>
              <a:xfrm>
                <a:off x="614376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89"/>
            <p:cNvGrpSpPr/>
            <p:nvPr/>
          </p:nvGrpSpPr>
          <p:grpSpPr>
            <a:xfrm>
              <a:off x="0" y="2153160"/>
              <a:ext cx="1760760" cy="347400"/>
              <a:chOff x="0" y="2153160"/>
              <a:chExt cx="1760760" cy="347400"/>
            </a:xfrm>
          </p:grpSpPr>
          <p:sp>
            <p:nvSpPr>
              <p:cNvPr id="803" name="Rectangle 12"/>
              <p:cNvSpPr/>
              <p:nvPr/>
            </p:nvSpPr>
            <p:spPr>
              <a:xfrm>
                <a:off x="208800" y="215316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Rectangle 88"/>
              <p:cNvSpPr/>
              <p:nvPr/>
            </p:nvSpPr>
            <p:spPr>
              <a:xfrm>
                <a:off x="0" y="215316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Group 91"/>
            <p:cNvGrpSpPr/>
            <p:nvPr/>
          </p:nvGrpSpPr>
          <p:grpSpPr>
            <a:xfrm>
              <a:off x="1762200" y="2153160"/>
              <a:ext cx="2616120" cy="347400"/>
              <a:chOff x="1762200" y="2153160"/>
              <a:chExt cx="2616120" cy="347400"/>
            </a:xfrm>
          </p:grpSpPr>
          <p:sp>
            <p:nvSpPr>
              <p:cNvPr id="806" name="Rectangle 13"/>
              <p:cNvSpPr/>
              <p:nvPr/>
            </p:nvSpPr>
            <p:spPr>
              <a:xfrm>
                <a:off x="197280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Rectangle 90"/>
              <p:cNvSpPr/>
              <p:nvPr/>
            </p:nvSpPr>
            <p:spPr>
              <a:xfrm>
                <a:off x="176220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93"/>
            <p:cNvGrpSpPr/>
            <p:nvPr/>
          </p:nvGrpSpPr>
          <p:grpSpPr>
            <a:xfrm>
              <a:off x="4379760" y="2153160"/>
              <a:ext cx="1762200" cy="347400"/>
              <a:chOff x="4379760" y="2153160"/>
              <a:chExt cx="1762200" cy="347400"/>
            </a:xfrm>
          </p:grpSpPr>
          <p:sp>
            <p:nvSpPr>
              <p:cNvPr id="809" name="Rectangle 14"/>
              <p:cNvSpPr/>
              <p:nvPr/>
            </p:nvSpPr>
            <p:spPr>
              <a:xfrm>
                <a:off x="4590360" y="215316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Rectangle 92"/>
              <p:cNvSpPr/>
              <p:nvPr/>
            </p:nvSpPr>
            <p:spPr>
              <a:xfrm>
                <a:off x="4379760" y="215316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95"/>
            <p:cNvGrpSpPr/>
            <p:nvPr/>
          </p:nvGrpSpPr>
          <p:grpSpPr>
            <a:xfrm>
              <a:off x="6143760" y="2153160"/>
              <a:ext cx="2616120" cy="347400"/>
              <a:chOff x="6143760" y="2153160"/>
              <a:chExt cx="2616120" cy="347400"/>
            </a:xfrm>
          </p:grpSpPr>
          <p:sp>
            <p:nvSpPr>
              <p:cNvPr id="812" name="Rectangle 15"/>
              <p:cNvSpPr/>
              <p:nvPr/>
            </p:nvSpPr>
            <p:spPr>
              <a:xfrm>
                <a:off x="635256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6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Rectangle 94"/>
              <p:cNvSpPr/>
              <p:nvPr/>
            </p:nvSpPr>
            <p:spPr>
              <a:xfrm>
                <a:off x="614376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97"/>
            <p:cNvGrpSpPr/>
            <p:nvPr/>
          </p:nvGrpSpPr>
          <p:grpSpPr>
            <a:xfrm>
              <a:off x="0" y="2500920"/>
              <a:ext cx="1760760" cy="347400"/>
              <a:chOff x="0" y="2500920"/>
              <a:chExt cx="1760760" cy="347400"/>
            </a:xfrm>
          </p:grpSpPr>
          <p:sp>
            <p:nvSpPr>
              <p:cNvPr id="815" name="Rectangle 16"/>
              <p:cNvSpPr/>
              <p:nvPr/>
            </p:nvSpPr>
            <p:spPr>
              <a:xfrm>
                <a:off x="208800" y="2500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Rectangle 96"/>
              <p:cNvSpPr/>
              <p:nvPr/>
            </p:nvSpPr>
            <p:spPr>
              <a:xfrm>
                <a:off x="0" y="2500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99"/>
            <p:cNvGrpSpPr/>
            <p:nvPr/>
          </p:nvGrpSpPr>
          <p:grpSpPr>
            <a:xfrm>
              <a:off x="1762200" y="2500920"/>
              <a:ext cx="2616120" cy="347400"/>
              <a:chOff x="1762200" y="2500920"/>
              <a:chExt cx="2616120" cy="347400"/>
            </a:xfrm>
          </p:grpSpPr>
          <p:sp>
            <p:nvSpPr>
              <p:cNvPr id="818" name="Rectangle 17"/>
              <p:cNvSpPr/>
              <p:nvPr/>
            </p:nvSpPr>
            <p:spPr>
              <a:xfrm>
                <a:off x="197280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Rectangle 98"/>
              <p:cNvSpPr/>
              <p:nvPr/>
            </p:nvSpPr>
            <p:spPr>
              <a:xfrm>
                <a:off x="176220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101"/>
            <p:cNvGrpSpPr/>
            <p:nvPr/>
          </p:nvGrpSpPr>
          <p:grpSpPr>
            <a:xfrm>
              <a:off x="4379760" y="2500920"/>
              <a:ext cx="1762200" cy="347400"/>
              <a:chOff x="4379760" y="2500920"/>
              <a:chExt cx="1762200" cy="347400"/>
            </a:xfrm>
          </p:grpSpPr>
          <p:sp>
            <p:nvSpPr>
              <p:cNvPr id="821" name="Rectangle 18"/>
              <p:cNvSpPr/>
              <p:nvPr/>
            </p:nvSpPr>
            <p:spPr>
              <a:xfrm>
                <a:off x="4590360" y="2500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Rectangle 100"/>
              <p:cNvSpPr/>
              <p:nvPr/>
            </p:nvSpPr>
            <p:spPr>
              <a:xfrm>
                <a:off x="4379760" y="2500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103"/>
            <p:cNvGrpSpPr/>
            <p:nvPr/>
          </p:nvGrpSpPr>
          <p:grpSpPr>
            <a:xfrm>
              <a:off x="6143760" y="2500920"/>
              <a:ext cx="2616120" cy="347400"/>
              <a:chOff x="6143760" y="2500920"/>
              <a:chExt cx="2616120" cy="347400"/>
            </a:xfrm>
          </p:grpSpPr>
          <p:sp>
            <p:nvSpPr>
              <p:cNvPr id="824" name="Rectangle 19"/>
              <p:cNvSpPr/>
              <p:nvPr/>
            </p:nvSpPr>
            <p:spPr>
              <a:xfrm>
                <a:off x="635256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Rectangle 102"/>
              <p:cNvSpPr/>
              <p:nvPr/>
            </p:nvSpPr>
            <p:spPr>
              <a:xfrm>
                <a:off x="614376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105"/>
            <p:cNvGrpSpPr/>
            <p:nvPr/>
          </p:nvGrpSpPr>
          <p:grpSpPr>
            <a:xfrm>
              <a:off x="0" y="2848320"/>
              <a:ext cx="1760760" cy="347760"/>
              <a:chOff x="0" y="2848320"/>
              <a:chExt cx="1760760" cy="347760"/>
            </a:xfrm>
          </p:grpSpPr>
          <p:sp>
            <p:nvSpPr>
              <p:cNvPr id="827" name="Rectangle 20"/>
              <p:cNvSpPr/>
              <p:nvPr/>
            </p:nvSpPr>
            <p:spPr>
              <a:xfrm>
                <a:off x="208800" y="284832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Rectangle 104"/>
              <p:cNvSpPr/>
              <p:nvPr/>
            </p:nvSpPr>
            <p:spPr>
              <a:xfrm>
                <a:off x="0" y="284832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107"/>
            <p:cNvGrpSpPr/>
            <p:nvPr/>
          </p:nvGrpSpPr>
          <p:grpSpPr>
            <a:xfrm>
              <a:off x="1762200" y="2848320"/>
              <a:ext cx="2616120" cy="347760"/>
              <a:chOff x="1762200" y="2848320"/>
              <a:chExt cx="2616120" cy="347760"/>
            </a:xfrm>
          </p:grpSpPr>
          <p:sp>
            <p:nvSpPr>
              <p:cNvPr id="830" name="Rectangle 21"/>
              <p:cNvSpPr/>
              <p:nvPr/>
            </p:nvSpPr>
            <p:spPr>
              <a:xfrm>
                <a:off x="197280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Rectangle 106"/>
              <p:cNvSpPr/>
              <p:nvPr/>
            </p:nvSpPr>
            <p:spPr>
              <a:xfrm>
                <a:off x="176220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109"/>
            <p:cNvGrpSpPr/>
            <p:nvPr/>
          </p:nvGrpSpPr>
          <p:grpSpPr>
            <a:xfrm>
              <a:off x="4379760" y="2848320"/>
              <a:ext cx="1762200" cy="347760"/>
              <a:chOff x="4379760" y="2848320"/>
              <a:chExt cx="1762200" cy="347760"/>
            </a:xfrm>
          </p:grpSpPr>
          <p:sp>
            <p:nvSpPr>
              <p:cNvPr id="833" name="Rectangle 22"/>
              <p:cNvSpPr/>
              <p:nvPr/>
            </p:nvSpPr>
            <p:spPr>
              <a:xfrm>
                <a:off x="4590360" y="284832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Rectangle 108"/>
              <p:cNvSpPr/>
              <p:nvPr/>
            </p:nvSpPr>
            <p:spPr>
              <a:xfrm>
                <a:off x="4379760" y="284832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11"/>
            <p:cNvGrpSpPr/>
            <p:nvPr/>
          </p:nvGrpSpPr>
          <p:grpSpPr>
            <a:xfrm>
              <a:off x="6143760" y="2848320"/>
              <a:ext cx="2616120" cy="347760"/>
              <a:chOff x="6143760" y="2848320"/>
              <a:chExt cx="2616120" cy="347760"/>
            </a:xfrm>
          </p:grpSpPr>
          <p:sp>
            <p:nvSpPr>
              <p:cNvPr id="836" name="Rectangle 23"/>
              <p:cNvSpPr/>
              <p:nvPr/>
            </p:nvSpPr>
            <p:spPr>
              <a:xfrm>
                <a:off x="635256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,7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Rectangle 110"/>
              <p:cNvSpPr/>
              <p:nvPr/>
            </p:nvSpPr>
            <p:spPr>
              <a:xfrm>
                <a:off x="614376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113"/>
            <p:cNvGrpSpPr/>
            <p:nvPr/>
          </p:nvGrpSpPr>
          <p:grpSpPr>
            <a:xfrm>
              <a:off x="0" y="3196440"/>
              <a:ext cx="1760760" cy="347400"/>
              <a:chOff x="0" y="3196440"/>
              <a:chExt cx="1760760" cy="347400"/>
            </a:xfrm>
          </p:grpSpPr>
          <p:sp>
            <p:nvSpPr>
              <p:cNvPr id="839" name="Rectangle 24"/>
              <p:cNvSpPr/>
              <p:nvPr/>
            </p:nvSpPr>
            <p:spPr>
              <a:xfrm>
                <a:off x="208800" y="31964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Rectangle 112"/>
              <p:cNvSpPr/>
              <p:nvPr/>
            </p:nvSpPr>
            <p:spPr>
              <a:xfrm>
                <a:off x="0" y="31964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115"/>
            <p:cNvGrpSpPr/>
            <p:nvPr/>
          </p:nvGrpSpPr>
          <p:grpSpPr>
            <a:xfrm>
              <a:off x="1762200" y="3196440"/>
              <a:ext cx="2616120" cy="347400"/>
              <a:chOff x="1762200" y="3196440"/>
              <a:chExt cx="2616120" cy="347400"/>
            </a:xfrm>
          </p:grpSpPr>
          <p:sp>
            <p:nvSpPr>
              <p:cNvPr id="842" name="Rectangle 25"/>
              <p:cNvSpPr/>
              <p:nvPr/>
            </p:nvSpPr>
            <p:spPr>
              <a:xfrm>
                <a:off x="197280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Rectangle 114"/>
              <p:cNvSpPr/>
              <p:nvPr/>
            </p:nvSpPr>
            <p:spPr>
              <a:xfrm>
                <a:off x="176220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117"/>
            <p:cNvGrpSpPr/>
            <p:nvPr/>
          </p:nvGrpSpPr>
          <p:grpSpPr>
            <a:xfrm>
              <a:off x="4379760" y="3196440"/>
              <a:ext cx="1762200" cy="347400"/>
              <a:chOff x="4379760" y="3196440"/>
              <a:chExt cx="1762200" cy="347400"/>
            </a:xfrm>
          </p:grpSpPr>
          <p:sp>
            <p:nvSpPr>
              <p:cNvPr id="845" name="Rectangle 26"/>
              <p:cNvSpPr/>
              <p:nvPr/>
            </p:nvSpPr>
            <p:spPr>
              <a:xfrm>
                <a:off x="4590360" y="31964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Rectangle 116"/>
              <p:cNvSpPr/>
              <p:nvPr/>
            </p:nvSpPr>
            <p:spPr>
              <a:xfrm>
                <a:off x="4379760" y="31964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Group 119"/>
            <p:cNvGrpSpPr/>
            <p:nvPr/>
          </p:nvGrpSpPr>
          <p:grpSpPr>
            <a:xfrm>
              <a:off x="6143760" y="3196440"/>
              <a:ext cx="2616120" cy="347400"/>
              <a:chOff x="6143760" y="3196440"/>
              <a:chExt cx="2616120" cy="347400"/>
            </a:xfrm>
          </p:grpSpPr>
          <p:sp>
            <p:nvSpPr>
              <p:cNvPr id="848" name="Rectangle 27"/>
              <p:cNvSpPr/>
              <p:nvPr/>
            </p:nvSpPr>
            <p:spPr>
              <a:xfrm>
                <a:off x="635256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3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Rectangle 118"/>
              <p:cNvSpPr/>
              <p:nvPr/>
            </p:nvSpPr>
            <p:spPr>
              <a:xfrm>
                <a:off x="614376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21"/>
            <p:cNvGrpSpPr/>
            <p:nvPr/>
          </p:nvGrpSpPr>
          <p:grpSpPr>
            <a:xfrm>
              <a:off x="0" y="3544200"/>
              <a:ext cx="1760760" cy="347400"/>
              <a:chOff x="0" y="3544200"/>
              <a:chExt cx="1760760" cy="347400"/>
            </a:xfrm>
          </p:grpSpPr>
          <p:sp>
            <p:nvSpPr>
              <p:cNvPr id="851" name="Rectangle 28"/>
              <p:cNvSpPr/>
              <p:nvPr/>
            </p:nvSpPr>
            <p:spPr>
              <a:xfrm>
                <a:off x="208800" y="35442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Rectangle 120"/>
              <p:cNvSpPr/>
              <p:nvPr/>
            </p:nvSpPr>
            <p:spPr>
              <a:xfrm>
                <a:off x="0" y="35442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Group 123"/>
            <p:cNvGrpSpPr/>
            <p:nvPr/>
          </p:nvGrpSpPr>
          <p:grpSpPr>
            <a:xfrm>
              <a:off x="1762200" y="3544200"/>
              <a:ext cx="2616120" cy="347400"/>
              <a:chOff x="1762200" y="3544200"/>
              <a:chExt cx="2616120" cy="347400"/>
            </a:xfrm>
          </p:grpSpPr>
          <p:sp>
            <p:nvSpPr>
              <p:cNvPr id="854" name="Rectangle 29"/>
              <p:cNvSpPr/>
              <p:nvPr/>
            </p:nvSpPr>
            <p:spPr>
              <a:xfrm>
                <a:off x="197280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Rectangle 122"/>
              <p:cNvSpPr/>
              <p:nvPr/>
            </p:nvSpPr>
            <p:spPr>
              <a:xfrm>
                <a:off x="176220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125"/>
            <p:cNvGrpSpPr/>
            <p:nvPr/>
          </p:nvGrpSpPr>
          <p:grpSpPr>
            <a:xfrm>
              <a:off x="4379760" y="3544200"/>
              <a:ext cx="1762200" cy="347400"/>
              <a:chOff x="4379760" y="3544200"/>
              <a:chExt cx="1762200" cy="347400"/>
            </a:xfrm>
          </p:grpSpPr>
          <p:sp>
            <p:nvSpPr>
              <p:cNvPr id="857" name="Rectangle 30"/>
              <p:cNvSpPr/>
              <p:nvPr/>
            </p:nvSpPr>
            <p:spPr>
              <a:xfrm>
                <a:off x="4590360" y="35442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Rectangle 124"/>
              <p:cNvSpPr/>
              <p:nvPr/>
            </p:nvSpPr>
            <p:spPr>
              <a:xfrm>
                <a:off x="4379760" y="35442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Group 127"/>
            <p:cNvGrpSpPr/>
            <p:nvPr/>
          </p:nvGrpSpPr>
          <p:grpSpPr>
            <a:xfrm>
              <a:off x="6143760" y="3544200"/>
              <a:ext cx="2616120" cy="347400"/>
              <a:chOff x="6143760" y="3544200"/>
              <a:chExt cx="2616120" cy="347400"/>
            </a:xfrm>
          </p:grpSpPr>
          <p:sp>
            <p:nvSpPr>
              <p:cNvPr id="860" name="Rectangle 31"/>
              <p:cNvSpPr/>
              <p:nvPr/>
            </p:nvSpPr>
            <p:spPr>
              <a:xfrm>
                <a:off x="635256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Rectangle 126"/>
              <p:cNvSpPr/>
              <p:nvPr/>
            </p:nvSpPr>
            <p:spPr>
              <a:xfrm>
                <a:off x="614376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Group 129"/>
            <p:cNvGrpSpPr/>
            <p:nvPr/>
          </p:nvGrpSpPr>
          <p:grpSpPr>
            <a:xfrm>
              <a:off x="0" y="3891600"/>
              <a:ext cx="1760760" cy="347760"/>
              <a:chOff x="0" y="3891600"/>
              <a:chExt cx="1760760" cy="347760"/>
            </a:xfrm>
          </p:grpSpPr>
          <p:sp>
            <p:nvSpPr>
              <p:cNvPr id="863" name="Rectangle 32"/>
              <p:cNvSpPr/>
              <p:nvPr/>
            </p:nvSpPr>
            <p:spPr>
              <a:xfrm>
                <a:off x="208800" y="38916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Rectangle 128"/>
              <p:cNvSpPr/>
              <p:nvPr/>
            </p:nvSpPr>
            <p:spPr>
              <a:xfrm>
                <a:off x="0" y="38916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Group 131"/>
            <p:cNvGrpSpPr/>
            <p:nvPr/>
          </p:nvGrpSpPr>
          <p:grpSpPr>
            <a:xfrm>
              <a:off x="1762200" y="3891600"/>
              <a:ext cx="2616120" cy="347760"/>
              <a:chOff x="1762200" y="3891600"/>
              <a:chExt cx="2616120" cy="347760"/>
            </a:xfrm>
          </p:grpSpPr>
          <p:sp>
            <p:nvSpPr>
              <p:cNvPr id="866" name="Rectangle 33"/>
              <p:cNvSpPr/>
              <p:nvPr/>
            </p:nvSpPr>
            <p:spPr>
              <a:xfrm>
                <a:off x="197280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,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Rectangle 130"/>
              <p:cNvSpPr/>
              <p:nvPr/>
            </p:nvSpPr>
            <p:spPr>
              <a:xfrm>
                <a:off x="176220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133"/>
            <p:cNvGrpSpPr/>
            <p:nvPr/>
          </p:nvGrpSpPr>
          <p:grpSpPr>
            <a:xfrm>
              <a:off x="4379760" y="3891600"/>
              <a:ext cx="1762200" cy="347760"/>
              <a:chOff x="4379760" y="3891600"/>
              <a:chExt cx="1762200" cy="347760"/>
            </a:xfrm>
          </p:grpSpPr>
          <p:sp>
            <p:nvSpPr>
              <p:cNvPr id="869" name="Rectangle 34"/>
              <p:cNvSpPr/>
              <p:nvPr/>
            </p:nvSpPr>
            <p:spPr>
              <a:xfrm>
                <a:off x="4590360" y="38916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Rectangle 132"/>
              <p:cNvSpPr/>
              <p:nvPr/>
            </p:nvSpPr>
            <p:spPr>
              <a:xfrm>
                <a:off x="4379760" y="38916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135"/>
            <p:cNvGrpSpPr/>
            <p:nvPr/>
          </p:nvGrpSpPr>
          <p:grpSpPr>
            <a:xfrm>
              <a:off x="6143760" y="3891600"/>
              <a:ext cx="2616120" cy="347760"/>
              <a:chOff x="6143760" y="3891600"/>
              <a:chExt cx="2616120" cy="347760"/>
            </a:xfrm>
          </p:grpSpPr>
          <p:sp>
            <p:nvSpPr>
              <p:cNvPr id="872" name="Rectangle 35"/>
              <p:cNvSpPr/>
              <p:nvPr/>
            </p:nvSpPr>
            <p:spPr>
              <a:xfrm>
                <a:off x="635256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Rectangle 134"/>
              <p:cNvSpPr/>
              <p:nvPr/>
            </p:nvSpPr>
            <p:spPr>
              <a:xfrm>
                <a:off x="614376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137"/>
            <p:cNvGrpSpPr/>
            <p:nvPr/>
          </p:nvGrpSpPr>
          <p:grpSpPr>
            <a:xfrm>
              <a:off x="0" y="4239720"/>
              <a:ext cx="1760760" cy="347400"/>
              <a:chOff x="0" y="4239720"/>
              <a:chExt cx="1760760" cy="347400"/>
            </a:xfrm>
          </p:grpSpPr>
          <p:sp>
            <p:nvSpPr>
              <p:cNvPr id="875" name="Rectangle 36"/>
              <p:cNvSpPr/>
              <p:nvPr/>
            </p:nvSpPr>
            <p:spPr>
              <a:xfrm>
                <a:off x="208800" y="42397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Rectangle 136"/>
              <p:cNvSpPr/>
              <p:nvPr/>
            </p:nvSpPr>
            <p:spPr>
              <a:xfrm>
                <a:off x="0" y="42397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139"/>
            <p:cNvGrpSpPr/>
            <p:nvPr/>
          </p:nvGrpSpPr>
          <p:grpSpPr>
            <a:xfrm>
              <a:off x="1762200" y="4239720"/>
              <a:ext cx="2616120" cy="347400"/>
              <a:chOff x="1762200" y="4239720"/>
              <a:chExt cx="2616120" cy="347400"/>
            </a:xfrm>
          </p:grpSpPr>
          <p:sp>
            <p:nvSpPr>
              <p:cNvPr id="878" name="Rectangle 37"/>
              <p:cNvSpPr/>
              <p:nvPr/>
            </p:nvSpPr>
            <p:spPr>
              <a:xfrm>
                <a:off x="197280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Rectangle 138"/>
              <p:cNvSpPr/>
              <p:nvPr/>
            </p:nvSpPr>
            <p:spPr>
              <a:xfrm>
                <a:off x="176220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141"/>
            <p:cNvGrpSpPr/>
            <p:nvPr/>
          </p:nvGrpSpPr>
          <p:grpSpPr>
            <a:xfrm>
              <a:off x="4379760" y="4239720"/>
              <a:ext cx="1762200" cy="347400"/>
              <a:chOff x="4379760" y="4239720"/>
              <a:chExt cx="1762200" cy="347400"/>
            </a:xfrm>
          </p:grpSpPr>
          <p:sp>
            <p:nvSpPr>
              <p:cNvPr id="881" name="Rectangle 38"/>
              <p:cNvSpPr/>
              <p:nvPr/>
            </p:nvSpPr>
            <p:spPr>
              <a:xfrm>
                <a:off x="4590360" y="42397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Rectangle 140"/>
              <p:cNvSpPr/>
              <p:nvPr/>
            </p:nvSpPr>
            <p:spPr>
              <a:xfrm>
                <a:off x="4379760" y="42397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143"/>
            <p:cNvGrpSpPr/>
            <p:nvPr/>
          </p:nvGrpSpPr>
          <p:grpSpPr>
            <a:xfrm>
              <a:off x="6143760" y="4239720"/>
              <a:ext cx="2616120" cy="347400"/>
              <a:chOff x="6143760" y="4239720"/>
              <a:chExt cx="2616120" cy="347400"/>
            </a:xfrm>
          </p:grpSpPr>
          <p:sp>
            <p:nvSpPr>
              <p:cNvPr id="884" name="Rectangle 39"/>
              <p:cNvSpPr/>
              <p:nvPr/>
            </p:nvSpPr>
            <p:spPr>
              <a:xfrm>
                <a:off x="635256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Rectangle 142"/>
              <p:cNvSpPr/>
              <p:nvPr/>
            </p:nvSpPr>
            <p:spPr>
              <a:xfrm>
                <a:off x="614376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145"/>
            <p:cNvGrpSpPr/>
            <p:nvPr/>
          </p:nvGrpSpPr>
          <p:grpSpPr>
            <a:xfrm>
              <a:off x="0" y="4587120"/>
              <a:ext cx="1760760" cy="347400"/>
              <a:chOff x="0" y="4587120"/>
              <a:chExt cx="1760760" cy="347400"/>
            </a:xfrm>
          </p:grpSpPr>
          <p:sp>
            <p:nvSpPr>
              <p:cNvPr id="887" name="Rectangle 40"/>
              <p:cNvSpPr/>
              <p:nvPr/>
            </p:nvSpPr>
            <p:spPr>
              <a:xfrm>
                <a:off x="208800" y="45871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Rectangle 144"/>
              <p:cNvSpPr/>
              <p:nvPr/>
            </p:nvSpPr>
            <p:spPr>
              <a:xfrm>
                <a:off x="0" y="45871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147"/>
            <p:cNvGrpSpPr/>
            <p:nvPr/>
          </p:nvGrpSpPr>
          <p:grpSpPr>
            <a:xfrm>
              <a:off x="1762200" y="4587120"/>
              <a:ext cx="2616120" cy="347400"/>
              <a:chOff x="1762200" y="4587120"/>
              <a:chExt cx="2616120" cy="347400"/>
            </a:xfrm>
          </p:grpSpPr>
          <p:sp>
            <p:nvSpPr>
              <p:cNvPr id="890" name="Rectangle 41"/>
              <p:cNvSpPr/>
              <p:nvPr/>
            </p:nvSpPr>
            <p:spPr>
              <a:xfrm>
                <a:off x="197280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Rectangle 146"/>
              <p:cNvSpPr/>
              <p:nvPr/>
            </p:nvSpPr>
            <p:spPr>
              <a:xfrm>
                <a:off x="176220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149"/>
            <p:cNvGrpSpPr/>
            <p:nvPr/>
          </p:nvGrpSpPr>
          <p:grpSpPr>
            <a:xfrm>
              <a:off x="4379760" y="4587120"/>
              <a:ext cx="1762200" cy="347400"/>
              <a:chOff x="4379760" y="4587120"/>
              <a:chExt cx="1762200" cy="347400"/>
            </a:xfrm>
          </p:grpSpPr>
          <p:sp>
            <p:nvSpPr>
              <p:cNvPr id="893" name="Rectangle 42"/>
              <p:cNvSpPr/>
              <p:nvPr/>
            </p:nvSpPr>
            <p:spPr>
              <a:xfrm>
                <a:off x="4590360" y="45871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Rectangle 148"/>
              <p:cNvSpPr/>
              <p:nvPr/>
            </p:nvSpPr>
            <p:spPr>
              <a:xfrm>
                <a:off x="4379760" y="45871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Group 151"/>
            <p:cNvGrpSpPr/>
            <p:nvPr/>
          </p:nvGrpSpPr>
          <p:grpSpPr>
            <a:xfrm>
              <a:off x="6143760" y="4587120"/>
              <a:ext cx="2616120" cy="347400"/>
              <a:chOff x="6143760" y="4587120"/>
              <a:chExt cx="2616120" cy="347400"/>
            </a:xfrm>
          </p:grpSpPr>
          <p:sp>
            <p:nvSpPr>
              <p:cNvPr id="896" name="Rectangle 43"/>
              <p:cNvSpPr/>
              <p:nvPr/>
            </p:nvSpPr>
            <p:spPr>
              <a:xfrm>
                <a:off x="635256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3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Rectangle 150"/>
              <p:cNvSpPr/>
              <p:nvPr/>
            </p:nvSpPr>
            <p:spPr>
              <a:xfrm>
                <a:off x="614376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153"/>
            <p:cNvGrpSpPr/>
            <p:nvPr/>
          </p:nvGrpSpPr>
          <p:grpSpPr>
            <a:xfrm>
              <a:off x="0" y="4934880"/>
              <a:ext cx="1760760" cy="347760"/>
              <a:chOff x="0" y="4934880"/>
              <a:chExt cx="1760760" cy="347760"/>
            </a:xfrm>
          </p:grpSpPr>
          <p:sp>
            <p:nvSpPr>
              <p:cNvPr id="899" name="Rectangle 44"/>
              <p:cNvSpPr/>
              <p:nvPr/>
            </p:nvSpPr>
            <p:spPr>
              <a:xfrm>
                <a:off x="208800" y="493488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Rectangle 152"/>
              <p:cNvSpPr/>
              <p:nvPr/>
            </p:nvSpPr>
            <p:spPr>
              <a:xfrm>
                <a:off x="0" y="493488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155"/>
            <p:cNvGrpSpPr/>
            <p:nvPr/>
          </p:nvGrpSpPr>
          <p:grpSpPr>
            <a:xfrm>
              <a:off x="1762200" y="4934880"/>
              <a:ext cx="2616120" cy="347760"/>
              <a:chOff x="1762200" y="4934880"/>
              <a:chExt cx="2616120" cy="347760"/>
            </a:xfrm>
          </p:grpSpPr>
          <p:sp>
            <p:nvSpPr>
              <p:cNvPr id="902" name="Rectangle 45"/>
              <p:cNvSpPr/>
              <p:nvPr/>
            </p:nvSpPr>
            <p:spPr>
              <a:xfrm>
                <a:off x="197280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Rectangle 154"/>
              <p:cNvSpPr/>
              <p:nvPr/>
            </p:nvSpPr>
            <p:spPr>
              <a:xfrm>
                <a:off x="176220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157"/>
            <p:cNvGrpSpPr/>
            <p:nvPr/>
          </p:nvGrpSpPr>
          <p:grpSpPr>
            <a:xfrm>
              <a:off x="4379760" y="4934880"/>
              <a:ext cx="1762200" cy="347760"/>
              <a:chOff x="4379760" y="4934880"/>
              <a:chExt cx="1762200" cy="347760"/>
            </a:xfrm>
          </p:grpSpPr>
          <p:sp>
            <p:nvSpPr>
              <p:cNvPr id="905" name="Rectangle 46"/>
              <p:cNvSpPr/>
              <p:nvPr/>
            </p:nvSpPr>
            <p:spPr>
              <a:xfrm>
                <a:off x="4590360" y="493488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Rectangle 156"/>
              <p:cNvSpPr/>
              <p:nvPr/>
            </p:nvSpPr>
            <p:spPr>
              <a:xfrm>
                <a:off x="4379760" y="493488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Group 159"/>
            <p:cNvGrpSpPr/>
            <p:nvPr/>
          </p:nvGrpSpPr>
          <p:grpSpPr>
            <a:xfrm>
              <a:off x="6143760" y="4934880"/>
              <a:ext cx="2616120" cy="347760"/>
              <a:chOff x="6143760" y="4934880"/>
              <a:chExt cx="2616120" cy="347760"/>
            </a:xfrm>
          </p:grpSpPr>
          <p:sp>
            <p:nvSpPr>
              <p:cNvPr id="908" name="Rectangle 47"/>
              <p:cNvSpPr/>
              <p:nvPr/>
            </p:nvSpPr>
            <p:spPr>
              <a:xfrm>
                <a:off x="635256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Rectangle 158"/>
              <p:cNvSpPr/>
              <p:nvPr/>
            </p:nvSpPr>
            <p:spPr>
              <a:xfrm>
                <a:off x="614376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Group 161"/>
            <p:cNvGrpSpPr/>
            <p:nvPr/>
          </p:nvGrpSpPr>
          <p:grpSpPr>
            <a:xfrm>
              <a:off x="0" y="5282640"/>
              <a:ext cx="1760760" cy="347400"/>
              <a:chOff x="0" y="5282640"/>
              <a:chExt cx="1760760" cy="347400"/>
            </a:xfrm>
          </p:grpSpPr>
          <p:sp>
            <p:nvSpPr>
              <p:cNvPr id="911" name="Rectangle 48"/>
              <p:cNvSpPr/>
              <p:nvPr/>
            </p:nvSpPr>
            <p:spPr>
              <a:xfrm>
                <a:off x="208800" y="52826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Rectangle 160"/>
              <p:cNvSpPr/>
              <p:nvPr/>
            </p:nvSpPr>
            <p:spPr>
              <a:xfrm>
                <a:off x="0" y="52826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163"/>
            <p:cNvGrpSpPr/>
            <p:nvPr/>
          </p:nvGrpSpPr>
          <p:grpSpPr>
            <a:xfrm>
              <a:off x="1762200" y="5282640"/>
              <a:ext cx="2616120" cy="347400"/>
              <a:chOff x="1762200" y="5282640"/>
              <a:chExt cx="2616120" cy="347400"/>
            </a:xfrm>
          </p:grpSpPr>
          <p:sp>
            <p:nvSpPr>
              <p:cNvPr id="914" name="Rectangle 49"/>
              <p:cNvSpPr/>
              <p:nvPr/>
            </p:nvSpPr>
            <p:spPr>
              <a:xfrm>
                <a:off x="197280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Rectangle 162"/>
              <p:cNvSpPr/>
              <p:nvPr/>
            </p:nvSpPr>
            <p:spPr>
              <a:xfrm>
                <a:off x="176220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165"/>
            <p:cNvGrpSpPr/>
            <p:nvPr/>
          </p:nvGrpSpPr>
          <p:grpSpPr>
            <a:xfrm>
              <a:off x="4379760" y="5282640"/>
              <a:ext cx="1762200" cy="347400"/>
              <a:chOff x="4379760" y="5282640"/>
              <a:chExt cx="1762200" cy="347400"/>
            </a:xfrm>
          </p:grpSpPr>
          <p:sp>
            <p:nvSpPr>
              <p:cNvPr id="917" name="Rectangle 50"/>
              <p:cNvSpPr/>
              <p:nvPr/>
            </p:nvSpPr>
            <p:spPr>
              <a:xfrm>
                <a:off x="4590360" y="52826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Rectangle 164"/>
              <p:cNvSpPr/>
              <p:nvPr/>
            </p:nvSpPr>
            <p:spPr>
              <a:xfrm>
                <a:off x="4379760" y="52826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167"/>
            <p:cNvGrpSpPr/>
            <p:nvPr/>
          </p:nvGrpSpPr>
          <p:grpSpPr>
            <a:xfrm>
              <a:off x="6143760" y="5282640"/>
              <a:ext cx="2616120" cy="347400"/>
              <a:chOff x="6143760" y="5282640"/>
              <a:chExt cx="2616120" cy="347400"/>
            </a:xfrm>
          </p:grpSpPr>
          <p:sp>
            <p:nvSpPr>
              <p:cNvPr id="920" name="Rectangle 51"/>
              <p:cNvSpPr/>
              <p:nvPr/>
            </p:nvSpPr>
            <p:spPr>
              <a:xfrm>
                <a:off x="635256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Rectangle 166"/>
              <p:cNvSpPr/>
              <p:nvPr/>
            </p:nvSpPr>
            <p:spPr>
              <a:xfrm>
                <a:off x="614376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169"/>
            <p:cNvGrpSpPr/>
            <p:nvPr/>
          </p:nvGrpSpPr>
          <p:grpSpPr>
            <a:xfrm>
              <a:off x="0" y="5630400"/>
              <a:ext cx="1760760" cy="347400"/>
              <a:chOff x="0" y="5630400"/>
              <a:chExt cx="1760760" cy="347400"/>
            </a:xfrm>
          </p:grpSpPr>
          <p:sp>
            <p:nvSpPr>
              <p:cNvPr id="923" name="Rectangle 52"/>
              <p:cNvSpPr/>
              <p:nvPr/>
            </p:nvSpPr>
            <p:spPr>
              <a:xfrm>
                <a:off x="208800" y="56304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Rectangle 168"/>
              <p:cNvSpPr/>
              <p:nvPr/>
            </p:nvSpPr>
            <p:spPr>
              <a:xfrm>
                <a:off x="0" y="56304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Group 171"/>
            <p:cNvGrpSpPr/>
            <p:nvPr/>
          </p:nvGrpSpPr>
          <p:grpSpPr>
            <a:xfrm>
              <a:off x="1762200" y="5630400"/>
              <a:ext cx="2616120" cy="347400"/>
              <a:chOff x="1762200" y="5630400"/>
              <a:chExt cx="2616120" cy="347400"/>
            </a:xfrm>
          </p:grpSpPr>
          <p:sp>
            <p:nvSpPr>
              <p:cNvPr id="926" name="Rectangle 53"/>
              <p:cNvSpPr/>
              <p:nvPr/>
            </p:nvSpPr>
            <p:spPr>
              <a:xfrm>
                <a:off x="197280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Rectangle 170"/>
              <p:cNvSpPr/>
              <p:nvPr/>
            </p:nvSpPr>
            <p:spPr>
              <a:xfrm>
                <a:off x="176220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Group 173"/>
            <p:cNvGrpSpPr/>
            <p:nvPr/>
          </p:nvGrpSpPr>
          <p:grpSpPr>
            <a:xfrm>
              <a:off x="4379760" y="5630400"/>
              <a:ext cx="1762200" cy="347400"/>
              <a:chOff x="4379760" y="5630400"/>
              <a:chExt cx="1762200" cy="347400"/>
            </a:xfrm>
          </p:grpSpPr>
          <p:sp>
            <p:nvSpPr>
              <p:cNvPr id="929" name="Rectangle 54"/>
              <p:cNvSpPr/>
              <p:nvPr/>
            </p:nvSpPr>
            <p:spPr>
              <a:xfrm>
                <a:off x="4590360" y="56304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Rectangle 172"/>
              <p:cNvSpPr/>
              <p:nvPr/>
            </p:nvSpPr>
            <p:spPr>
              <a:xfrm>
                <a:off x="4379760" y="56304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175"/>
            <p:cNvGrpSpPr/>
            <p:nvPr/>
          </p:nvGrpSpPr>
          <p:grpSpPr>
            <a:xfrm>
              <a:off x="6143760" y="5630400"/>
              <a:ext cx="2616120" cy="347400"/>
              <a:chOff x="6143760" y="5630400"/>
              <a:chExt cx="2616120" cy="347400"/>
            </a:xfrm>
          </p:grpSpPr>
          <p:sp>
            <p:nvSpPr>
              <p:cNvPr id="932" name="Rectangle 55"/>
              <p:cNvSpPr/>
              <p:nvPr/>
            </p:nvSpPr>
            <p:spPr>
              <a:xfrm>
                <a:off x="635256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,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Rectangle 174"/>
              <p:cNvSpPr/>
              <p:nvPr/>
            </p:nvSpPr>
            <p:spPr>
              <a:xfrm>
                <a:off x="614376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177"/>
            <p:cNvGrpSpPr/>
            <p:nvPr/>
          </p:nvGrpSpPr>
          <p:grpSpPr>
            <a:xfrm>
              <a:off x="0" y="5978160"/>
              <a:ext cx="1760760" cy="347760"/>
              <a:chOff x="0" y="5978160"/>
              <a:chExt cx="1760760" cy="347760"/>
            </a:xfrm>
          </p:grpSpPr>
          <p:sp>
            <p:nvSpPr>
              <p:cNvPr id="935" name="Rectangle 56"/>
              <p:cNvSpPr/>
              <p:nvPr/>
            </p:nvSpPr>
            <p:spPr>
              <a:xfrm>
                <a:off x="208800" y="597816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Rectangle 176"/>
              <p:cNvSpPr/>
              <p:nvPr/>
            </p:nvSpPr>
            <p:spPr>
              <a:xfrm>
                <a:off x="0" y="597816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179"/>
            <p:cNvGrpSpPr/>
            <p:nvPr/>
          </p:nvGrpSpPr>
          <p:grpSpPr>
            <a:xfrm>
              <a:off x="1762200" y="5978160"/>
              <a:ext cx="2616120" cy="347760"/>
              <a:chOff x="1762200" y="5978160"/>
              <a:chExt cx="2616120" cy="347760"/>
            </a:xfrm>
          </p:grpSpPr>
          <p:sp>
            <p:nvSpPr>
              <p:cNvPr id="938" name="Rectangle 57"/>
              <p:cNvSpPr/>
              <p:nvPr/>
            </p:nvSpPr>
            <p:spPr>
              <a:xfrm>
                <a:off x="197280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7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Rectangle 178"/>
              <p:cNvSpPr/>
              <p:nvPr/>
            </p:nvSpPr>
            <p:spPr>
              <a:xfrm>
                <a:off x="176220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181"/>
            <p:cNvGrpSpPr/>
            <p:nvPr/>
          </p:nvGrpSpPr>
          <p:grpSpPr>
            <a:xfrm>
              <a:off x="4379760" y="5978160"/>
              <a:ext cx="1762200" cy="347760"/>
              <a:chOff x="4379760" y="5978160"/>
              <a:chExt cx="1762200" cy="347760"/>
            </a:xfrm>
          </p:grpSpPr>
          <p:sp>
            <p:nvSpPr>
              <p:cNvPr id="941" name="Rectangle 58"/>
              <p:cNvSpPr/>
              <p:nvPr/>
            </p:nvSpPr>
            <p:spPr>
              <a:xfrm>
                <a:off x="4590360" y="597816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Rectangle 180"/>
              <p:cNvSpPr/>
              <p:nvPr/>
            </p:nvSpPr>
            <p:spPr>
              <a:xfrm>
                <a:off x="4379760" y="597816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183"/>
            <p:cNvGrpSpPr/>
            <p:nvPr/>
          </p:nvGrpSpPr>
          <p:grpSpPr>
            <a:xfrm>
              <a:off x="6143760" y="5978160"/>
              <a:ext cx="2616120" cy="347760"/>
              <a:chOff x="6143760" y="5978160"/>
              <a:chExt cx="2616120" cy="347760"/>
            </a:xfrm>
          </p:grpSpPr>
          <p:sp>
            <p:nvSpPr>
              <p:cNvPr id="944" name="Rectangle 59"/>
              <p:cNvSpPr/>
              <p:nvPr/>
            </p:nvSpPr>
            <p:spPr>
              <a:xfrm>
                <a:off x="635256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Rectangle 182"/>
              <p:cNvSpPr/>
              <p:nvPr/>
            </p:nvSpPr>
            <p:spPr>
              <a:xfrm>
                <a:off x="614376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185"/>
            <p:cNvGrpSpPr/>
            <p:nvPr/>
          </p:nvGrpSpPr>
          <p:grpSpPr>
            <a:xfrm>
              <a:off x="0" y="6325920"/>
              <a:ext cx="1760760" cy="347400"/>
              <a:chOff x="0" y="6325920"/>
              <a:chExt cx="1760760" cy="347400"/>
            </a:xfrm>
          </p:grpSpPr>
          <p:sp>
            <p:nvSpPr>
              <p:cNvPr id="947" name="Rectangle 60"/>
              <p:cNvSpPr/>
              <p:nvPr/>
            </p:nvSpPr>
            <p:spPr>
              <a:xfrm>
                <a:off x="208800" y="6325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Rectangle 184"/>
              <p:cNvSpPr/>
              <p:nvPr/>
            </p:nvSpPr>
            <p:spPr>
              <a:xfrm>
                <a:off x="0" y="6325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187"/>
            <p:cNvGrpSpPr/>
            <p:nvPr/>
          </p:nvGrpSpPr>
          <p:grpSpPr>
            <a:xfrm>
              <a:off x="1762200" y="6325920"/>
              <a:ext cx="2616120" cy="347400"/>
              <a:chOff x="1762200" y="6325920"/>
              <a:chExt cx="2616120" cy="347400"/>
            </a:xfrm>
          </p:grpSpPr>
          <p:sp>
            <p:nvSpPr>
              <p:cNvPr id="950" name="Rectangle 61"/>
              <p:cNvSpPr/>
              <p:nvPr/>
            </p:nvSpPr>
            <p:spPr>
              <a:xfrm>
                <a:off x="197280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Rectangle 186"/>
              <p:cNvSpPr/>
              <p:nvPr/>
            </p:nvSpPr>
            <p:spPr>
              <a:xfrm>
                <a:off x="176220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189"/>
            <p:cNvGrpSpPr/>
            <p:nvPr/>
          </p:nvGrpSpPr>
          <p:grpSpPr>
            <a:xfrm>
              <a:off x="4379760" y="6325920"/>
              <a:ext cx="1762200" cy="347400"/>
              <a:chOff x="4379760" y="6325920"/>
              <a:chExt cx="1762200" cy="347400"/>
            </a:xfrm>
          </p:grpSpPr>
          <p:sp>
            <p:nvSpPr>
              <p:cNvPr id="953" name="Rectangle 62"/>
              <p:cNvSpPr/>
              <p:nvPr/>
            </p:nvSpPr>
            <p:spPr>
              <a:xfrm>
                <a:off x="4590360" y="6325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Rectangle 188"/>
              <p:cNvSpPr/>
              <p:nvPr/>
            </p:nvSpPr>
            <p:spPr>
              <a:xfrm>
                <a:off x="4379760" y="6325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191"/>
            <p:cNvGrpSpPr/>
            <p:nvPr/>
          </p:nvGrpSpPr>
          <p:grpSpPr>
            <a:xfrm>
              <a:off x="6143760" y="6325920"/>
              <a:ext cx="2616120" cy="347400"/>
              <a:chOff x="6143760" y="6325920"/>
              <a:chExt cx="2616120" cy="347400"/>
            </a:xfrm>
          </p:grpSpPr>
          <p:sp>
            <p:nvSpPr>
              <p:cNvPr id="956" name="Rectangle 63"/>
              <p:cNvSpPr/>
              <p:nvPr/>
            </p:nvSpPr>
            <p:spPr>
              <a:xfrm>
                <a:off x="635256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Rectangle 190"/>
              <p:cNvSpPr/>
              <p:nvPr/>
            </p:nvSpPr>
            <p:spPr>
              <a:xfrm>
                <a:off x="614376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193"/>
            <p:cNvGrpSpPr/>
            <p:nvPr/>
          </p:nvGrpSpPr>
          <p:grpSpPr>
            <a:xfrm>
              <a:off x="0" y="6673680"/>
              <a:ext cx="1760760" cy="347400"/>
              <a:chOff x="0" y="6673680"/>
              <a:chExt cx="1760760" cy="347400"/>
            </a:xfrm>
          </p:grpSpPr>
          <p:sp>
            <p:nvSpPr>
              <p:cNvPr id="959" name="Rectangle 64"/>
              <p:cNvSpPr/>
              <p:nvPr/>
            </p:nvSpPr>
            <p:spPr>
              <a:xfrm>
                <a:off x="208800" y="667368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Rectangle 192"/>
              <p:cNvSpPr/>
              <p:nvPr/>
            </p:nvSpPr>
            <p:spPr>
              <a:xfrm>
                <a:off x="0" y="667368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195"/>
            <p:cNvGrpSpPr/>
            <p:nvPr/>
          </p:nvGrpSpPr>
          <p:grpSpPr>
            <a:xfrm>
              <a:off x="1762200" y="6673680"/>
              <a:ext cx="2616120" cy="347400"/>
              <a:chOff x="1762200" y="6673680"/>
              <a:chExt cx="2616120" cy="347400"/>
            </a:xfrm>
          </p:grpSpPr>
          <p:sp>
            <p:nvSpPr>
              <p:cNvPr id="962" name="Rectangle 65"/>
              <p:cNvSpPr/>
              <p:nvPr/>
            </p:nvSpPr>
            <p:spPr>
              <a:xfrm>
                <a:off x="197280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Rectangle 194"/>
              <p:cNvSpPr/>
              <p:nvPr/>
            </p:nvSpPr>
            <p:spPr>
              <a:xfrm>
                <a:off x="176220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197"/>
            <p:cNvGrpSpPr/>
            <p:nvPr/>
          </p:nvGrpSpPr>
          <p:grpSpPr>
            <a:xfrm>
              <a:off x="4379760" y="6673680"/>
              <a:ext cx="1762200" cy="347400"/>
              <a:chOff x="4379760" y="6673680"/>
              <a:chExt cx="1762200" cy="347400"/>
            </a:xfrm>
          </p:grpSpPr>
          <p:sp>
            <p:nvSpPr>
              <p:cNvPr id="965" name="Rectangle 66"/>
              <p:cNvSpPr/>
              <p:nvPr/>
            </p:nvSpPr>
            <p:spPr>
              <a:xfrm>
                <a:off x="4590360" y="667368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Rectangle 196"/>
              <p:cNvSpPr/>
              <p:nvPr/>
            </p:nvSpPr>
            <p:spPr>
              <a:xfrm>
                <a:off x="4379760" y="667368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99"/>
            <p:cNvGrpSpPr/>
            <p:nvPr/>
          </p:nvGrpSpPr>
          <p:grpSpPr>
            <a:xfrm>
              <a:off x="6143760" y="6673680"/>
              <a:ext cx="2616120" cy="347400"/>
              <a:chOff x="6143760" y="6673680"/>
              <a:chExt cx="2616120" cy="347400"/>
            </a:xfrm>
          </p:grpSpPr>
          <p:sp>
            <p:nvSpPr>
              <p:cNvPr id="968" name="Rectangle 67"/>
              <p:cNvSpPr/>
              <p:nvPr/>
            </p:nvSpPr>
            <p:spPr>
              <a:xfrm>
                <a:off x="635256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Rectangle 198"/>
              <p:cNvSpPr/>
              <p:nvPr/>
            </p:nvSpPr>
            <p:spPr>
              <a:xfrm>
                <a:off x="614376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201"/>
            <p:cNvGrpSpPr/>
            <p:nvPr/>
          </p:nvGrpSpPr>
          <p:grpSpPr>
            <a:xfrm>
              <a:off x="0" y="7021440"/>
              <a:ext cx="1760760" cy="347760"/>
              <a:chOff x="0" y="7021440"/>
              <a:chExt cx="1760760" cy="347760"/>
            </a:xfrm>
          </p:grpSpPr>
          <p:sp>
            <p:nvSpPr>
              <p:cNvPr id="971" name="Rectangle 68"/>
              <p:cNvSpPr/>
              <p:nvPr/>
            </p:nvSpPr>
            <p:spPr>
              <a:xfrm>
                <a:off x="208800" y="702144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Rectangle 200"/>
              <p:cNvSpPr/>
              <p:nvPr/>
            </p:nvSpPr>
            <p:spPr>
              <a:xfrm>
                <a:off x="0" y="702144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203"/>
            <p:cNvGrpSpPr/>
            <p:nvPr/>
          </p:nvGrpSpPr>
          <p:grpSpPr>
            <a:xfrm>
              <a:off x="1762200" y="7021440"/>
              <a:ext cx="2616120" cy="347760"/>
              <a:chOff x="1762200" y="7021440"/>
              <a:chExt cx="2616120" cy="347760"/>
            </a:xfrm>
          </p:grpSpPr>
          <p:sp>
            <p:nvSpPr>
              <p:cNvPr id="974" name="Rectangle 69"/>
              <p:cNvSpPr/>
              <p:nvPr/>
            </p:nvSpPr>
            <p:spPr>
              <a:xfrm>
                <a:off x="197280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Rectangle 202"/>
              <p:cNvSpPr/>
              <p:nvPr/>
            </p:nvSpPr>
            <p:spPr>
              <a:xfrm>
                <a:off x="176220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205"/>
            <p:cNvGrpSpPr/>
            <p:nvPr/>
          </p:nvGrpSpPr>
          <p:grpSpPr>
            <a:xfrm>
              <a:off x="4379760" y="7021440"/>
              <a:ext cx="1762200" cy="347760"/>
              <a:chOff x="4379760" y="7021440"/>
              <a:chExt cx="1762200" cy="347760"/>
            </a:xfrm>
          </p:grpSpPr>
          <p:sp>
            <p:nvSpPr>
              <p:cNvPr id="977" name="Rectangle 70"/>
              <p:cNvSpPr/>
              <p:nvPr/>
            </p:nvSpPr>
            <p:spPr>
              <a:xfrm>
                <a:off x="4590360" y="702144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Rectangle 204"/>
              <p:cNvSpPr/>
              <p:nvPr/>
            </p:nvSpPr>
            <p:spPr>
              <a:xfrm>
                <a:off x="4379760" y="702144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207"/>
            <p:cNvGrpSpPr/>
            <p:nvPr/>
          </p:nvGrpSpPr>
          <p:grpSpPr>
            <a:xfrm>
              <a:off x="6143760" y="7021440"/>
              <a:ext cx="2616120" cy="347760"/>
              <a:chOff x="6143760" y="7021440"/>
              <a:chExt cx="2616120" cy="347760"/>
            </a:xfrm>
          </p:grpSpPr>
          <p:sp>
            <p:nvSpPr>
              <p:cNvPr id="980" name="Rectangle 71"/>
              <p:cNvSpPr/>
              <p:nvPr/>
            </p:nvSpPr>
            <p:spPr>
              <a:xfrm>
                <a:off x="635256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Rectangle 206"/>
              <p:cNvSpPr/>
              <p:nvPr/>
            </p:nvSpPr>
            <p:spPr>
              <a:xfrm>
                <a:off x="614376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3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488000" cy="4659120"/>
          </a:xfrm>
          <a:prstGeom prst="rect">
            <a:avLst/>
          </a:prstGeom>
          <a:ln w="0">
            <a:noFill/>
          </a:ln>
        </p:spPr>
      </p:pic>
      <p:sp>
        <p:nvSpPr>
          <p:cNvPr id="984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1" name="TextovéPole 10" descr=""/>
          <p:cNvPicPr/>
          <p:nvPr/>
        </p:nvPicPr>
        <p:blipFill>
          <a:blip r:embed="rId2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hady paramet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základní soubo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tatistický 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běrov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náhodný výb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reprezentativnost výbě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valita výb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rost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s opakováním a bez opak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oblastní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výběr z každé dílčí části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ystematick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odle pravidla, které nesouvisí se sledovaným znakem, např. sledovaný znak - počet obyvatel obce, seřadit obce podle abecedy a vybrat vždy každou pátou obec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ý soubor s norm rozdělením (X, 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042920" y="1981080"/>
            <a:ext cx="74152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ázek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Oboustranný test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1" name="Picture 1" descr="\begin{figure}&#10;\centering&#10;\fbox{\includegraphics[clip, width=\sirka]{eps/g28.eps}}\end{figure}"/>
          <p:cNvPicPr/>
          <p:nvPr/>
        </p:nvPicPr>
        <p:blipFill>
          <a:blip r:embed="rId1"/>
          <a:stretch/>
        </p:blipFill>
        <p:spPr>
          <a:xfrm>
            <a:off x="826920" y="2637000"/>
            <a:ext cx="5832720" cy="4032000"/>
          </a:xfrm>
          <a:prstGeom prst="rect">
            <a:avLst/>
          </a:prstGeom>
          <a:ln w="0">
            <a:noFill/>
          </a:ln>
        </p:spPr>
      </p:pic>
      <p:sp>
        <p:nvSpPr>
          <p:cNvPr id="1002" name="Rectangle 2"/>
          <p:cNvSpPr/>
          <p:nvPr/>
        </p:nvSpPr>
        <p:spPr>
          <a:xfrm>
            <a:off x="4481640" y="-351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vedeme-li výběr o rozsahu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   od x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j.  v intervalu s krajními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x-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, x+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koeficient spolehlivosti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9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hladinu význam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05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4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ze použít intervaly spolehlivosti  nap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5 % (μ + - 1,960σ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9 % (μ + - 2,576σ), tj. širší!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itickém o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dchylky od průměru  za význam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podmiňuje změna prvku x změnu prvku 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tahy teplota a nadm. výš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ážky a odtok v povo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áha a výška člově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nezávislá hodnot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jednoho stat. soubor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miňuje hodnotu 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druhého stat.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ájem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lze rozlišit závisl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nezávislou promě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upně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ev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apř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relač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. pro určitou  těl výšku existuje více hodnot hmotnosti, které budou mít normální rozdělen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různým výškám odpovídají hmotnosti s normálním rozdělením, ale s různým průmě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. Pro 170 cm existuje norm. rozdělení hmotností o průměru 68 kg, pro 180 cm opět normální rozdělení hmotností s průměrem 76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relač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ení těsnosti korelační závis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jak těsný je vztah mezi výškou a hmotností člově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Korela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druh závislosti mezi prvky dvou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Regresní čár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ňuje graficky tuto  korelační závis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a pásy spolehlivosti pro lineární regres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lem regresní přímky lze sestroj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interval spolehliv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ý určuje pro vybrané 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 lineární regre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5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27" name="Object 2"/>
          <p:cNvGraphicFramePr/>
          <p:nvPr/>
        </p:nvGraphicFramePr>
        <p:xfrm>
          <a:off x="609480" y="30492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777240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458200" cy="506268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2" name="Object 2"/>
          <p:cNvGraphicFramePr/>
          <p:nvPr/>
        </p:nvGraphicFramePr>
        <p:xfrm>
          <a:off x="684360" y="47628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72400" cy="3878280"/>
                  </a:xfrm>
                  <a:prstGeom prst="rect">
                    <a:avLst/>
                  </a:prstGeom>
                  <a:ln w="9360">
                    <a:solidFill>
                      <a:srgbClr val="66ff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4" name="Line 9"/>
          <p:cNvSpPr/>
          <p:nvPr/>
        </p:nvSpPr>
        <p:spPr>
          <a:xfrm flipH="1">
            <a:off x="2556000" y="1916280"/>
            <a:ext cx="4876560" cy="16002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Časové řady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Bazické a řetězové  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Z - diagram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časová řady – základní poj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tatistick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sloupnos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 znak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pořádaný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le určitého hledi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á řada upořádaná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le čas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časová řada=dynamická=chronologická = vývoj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estavování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držovat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ásady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dlouhá časová obdob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 přepočet na „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standardizovaný“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Times New Roman"/>
              </a:rPr>
              <a:t>měsíc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e 3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dny, přepočet na  počet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dný počet pracovních d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 měsíc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shodná 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loh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povod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řá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oku,  administrativní jednot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ejné jednot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OKAMŽIKOV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y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naku k určitému okamžik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např. počet obyvatel ČR k 31.12.  2000, 2001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INTERVA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a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 interval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denní úhrn srážek, průměrná denní teplota, měsíční těžb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ožadavek stejného interval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 ekonomických ukazatel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nalýza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cíle analýz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jistit  hlavní rysy průběhu časových řad a analyzovat 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průběhu  časové řa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tacionár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 tren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eriodickým opakováním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výkyvů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bez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ýky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Times New Roman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růst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absolutní přírůste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zdíl hodnot  po sobě následujících  ( „druhá“ – „ první“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relativní přírůs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tězové a bazické index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bazický inde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vní „ základní „ hodnota časové řa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 k jedné základní ( bazické) hodno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řetězový index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koeficient růstu 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v procentech po sobě následujících hodn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měny  např. z měsíce na měsíc“ – řetěze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Klouzavé úhr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vláštní typ součtov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hodné pro porovnávání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dvou či více  řa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odnot za po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obě následující obdob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olís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očního chodu sráž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tup viz. např. skripta Brázdil. a kol. str. 1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1053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1054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5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1056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8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1059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0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1061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3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1064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5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1066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8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1069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0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3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1074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5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1076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8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1079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0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1081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3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1084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5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1086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8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1089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0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1091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3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1094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5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1096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8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1099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0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1101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3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1104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5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1106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8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1109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0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1111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3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1114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5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1116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8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1119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0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1121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1124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5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1126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8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1129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0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1131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3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1134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5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1136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8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1139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0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1141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3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1144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5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1146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8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1149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0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1151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3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1154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5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1156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8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1159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0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1161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3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1164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5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1166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8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1169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0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1171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1174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5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1176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8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1179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0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1181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3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1184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5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1186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8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1189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0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1191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3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1194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5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1196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1199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0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1201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3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1204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5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1206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8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1209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0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1211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3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1214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5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1216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8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1219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0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1221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3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1224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5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1226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8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1229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0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1231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3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1234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5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1236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8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1239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0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1241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3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1244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5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1246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48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1249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1250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1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1252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4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1255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6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1257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9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1260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1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1262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4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1265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6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1267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9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1270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1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1272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4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1275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6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1277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9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1280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1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1282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4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1285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6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1287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9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1290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1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1292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4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1295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6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1297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9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1300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1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1302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4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1305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6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1307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9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1310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11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1312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14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FICKÉ ZNÁZORNĚ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běžných hodno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oučtová čá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klouzavých úhrn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polečné bo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 - diagramu( tj. spol. hodno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chozí bod součtové č. a řady běžných hod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ední hodnota součtové čáry a poslední hodnota klouzavého úhr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1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2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3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ůsobení velkého množství příčin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11280" y="4869000"/>
            <a:ext cx="670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 kvalita vody – chem. složení, emise, produkce odpadů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městnanos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novorozenecká úmrtnost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HMOTNOST NOVOROZENÝCH DĚ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tížení osob hlukem…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 -  je tak nekonečně dlouhá ……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 t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rčitý jev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č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v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který je předmětem statistického šetření a pro který se zjišťují údaj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ěcného, časového, prostorového.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CO, KDY, K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. jednotka – občan, novorozenec, rodina, dům,, obec,výrobní podni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je to určitá vlastnost statistické jednotky, kterou se snažíme postihnu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ymezují příslušnost statistické jednotky k určitému statistickému souboru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oměnlivé (variabilní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shodný znak – novoroze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proměnlivé znaky – váha, délka, jméno, národnost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943600" y="0"/>
            <a:ext cx="275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at. jednot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ovorozene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ísto narození: 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atum: 30.9.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hlaví:mu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árodnost:česk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élka v cm: 5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– (např. měř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zváž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t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………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..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e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ýpočtem)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znaky odvozené)  tj. ………….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7200" y="1523880"/>
            <a:ext cx="8458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kupina statistických jednot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ejného dru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(věcně, prostorově a časově vymezený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shodné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identifikační znaky</a:t>
            </a:r>
            <a:r>
              <a:rPr b="0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ledované znak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 Novorozenci v Č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 novoroze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 váha, živý, pohla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 a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 podmnožinou základního souboru. Je vytvořen ze statistických jednotek, vybraných podle určitého hlediska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Jihomoravském kra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kud zkoumaný výběr dobře odráží strukturu celého zkoumaného souboru, nazýváme jej reprezentativním výběre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šetř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růzkum volebních výsledků, people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 u="sng">
                <a:solidFill>
                  <a:srgbClr val="ffc000"/>
                </a:solidFill>
                <a:uFillTx/>
                <a:latin typeface="Times New Roman"/>
              </a:rPr>
              <a:t>statistik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defini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pojet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af – defin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prv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grafického znázorn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.Název, příp. podnáze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.vlastní kres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.stupnice a  její popis (rovnoměrná,  nerovnoměr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.legenda/klí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.zdroj úda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světlivky, poznámk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 – ukáz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4" name="Picture 5" descr="G:\STATISTIKA\graf_vyrez_2.GIF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548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ypy graf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ché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strukturu a vztahy jevu či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a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kvantitativní údaje o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loupcový, bodový, plošný at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 map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rostorové rozložení prvku v podkladové map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ché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C:\Documents and Settings\svatonova\Dokumenty\ZPand Enviro\schema_propojení.gif"/>
          <p:cNvPicPr/>
          <p:nvPr/>
        </p:nvPicPr>
        <p:blipFill>
          <a:blip r:embed="rId1"/>
          <a:stretch/>
        </p:blipFill>
        <p:spPr>
          <a:xfrm>
            <a:off x="1447920" y="2286000"/>
            <a:ext cx="5736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iagram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1028" descr="C:\Documents and Settings\svatonova\Dokumenty\ZPand Enviro\investice_zp.gif"/>
          <p:cNvPicPr/>
          <p:nvPr/>
        </p:nvPicPr>
        <p:blipFill>
          <a:blip r:embed="rId1"/>
          <a:stretch/>
        </p:blipFill>
        <p:spPr>
          <a:xfrm>
            <a:off x="380880" y="1600200"/>
            <a:ext cx="8058240" cy="5257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Diagram_ - věkové složení obyv., tzv.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457200" y="1371600"/>
            <a:ext cx="8077320" cy="4900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chylka od průměrné teploty na Zem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1" name="Zástupný symbol pro obsah 3" descr="140let-teplota.gif"/>
          <p:cNvPicPr/>
          <p:nvPr/>
        </p:nvPicPr>
        <p:blipFill>
          <a:blip r:embed="rId1"/>
          <a:stretch/>
        </p:blipFill>
        <p:spPr>
          <a:xfrm>
            <a:off x="214200" y="1714680"/>
            <a:ext cx="84456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3" name="Zástupný symbol pro obsah 3" descr="jazyk.gif"/>
          <p:cNvPicPr/>
          <p:nvPr/>
        </p:nvPicPr>
        <p:blipFill>
          <a:blip r:embed="rId1"/>
          <a:stretch/>
        </p:blipFill>
        <p:spPr>
          <a:xfrm>
            <a:off x="357120" y="525600"/>
            <a:ext cx="835812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Zástupný symbol pro obsah 3" descr="svet2050.gif"/>
          <p:cNvPicPr/>
          <p:nvPr/>
        </p:nvPicPr>
        <p:blipFill>
          <a:blip r:embed="rId1"/>
          <a:stretch/>
        </p:blipFill>
        <p:spPr>
          <a:xfrm>
            <a:off x="3857760" y="0"/>
            <a:ext cx="5000400" cy="3743280"/>
          </a:xfrm>
          <a:prstGeom prst="rect">
            <a:avLst/>
          </a:prstGeom>
          <a:ln w="0">
            <a:noFill/>
          </a:ln>
        </p:spPr>
      </p:pic>
      <p:pic>
        <p:nvPicPr>
          <p:cNvPr id="236" name="Zástupný symbol pro obsah 3" descr="svet1998.gif"/>
          <p:cNvPicPr/>
          <p:nvPr/>
        </p:nvPicPr>
        <p:blipFill>
          <a:blip r:embed="rId2"/>
          <a:stretch/>
        </p:blipFill>
        <p:spPr>
          <a:xfrm>
            <a:off x="214200" y="3114720"/>
            <a:ext cx="50007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á map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G:\STATISTIKA\k5.gif"/>
          <p:cNvPicPr/>
          <p:nvPr/>
        </p:nvPicPr>
        <p:blipFill>
          <a:blip r:embed="rId1"/>
          <a:stretch/>
        </p:blipFill>
        <p:spPr>
          <a:xfrm>
            <a:off x="1600200" y="1600200"/>
            <a:ext cx="5315040" cy="4629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žď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rpretac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romadných jevů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užití grafických papí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i studiu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raf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snadňuje vynášení prvků do graf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ilimetrov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lologaritm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dvou sítí – rovnoměrné a logaritmick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avděpodobnostní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rovnoměrné a pravděpodobnostní stup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ojúhelníková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půdní dru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ůda A:: 50 % jílu, 25% hlíny, 25%, pís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. Vzdělá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 flipH="1">
            <a:off x="1828800" y="4800600"/>
            <a:ext cx="12952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124080" y="4800600"/>
            <a:ext cx="12193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828800" y="64008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955440" y="624852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310640" y="62136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2438280" y="55627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8"/>
          <p:cNvSpPr/>
          <p:nvPr/>
        </p:nvSpPr>
        <p:spPr>
          <a:xfrm flipH="1">
            <a:off x="3657240" y="55627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0"/>
          <p:cNvSpPr/>
          <p:nvPr/>
        </p:nvSpPr>
        <p:spPr>
          <a:xfrm flipV="1">
            <a:off x="3124080" y="5943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3352680" y="6019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2666880" y="5105520"/>
            <a:ext cx="838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3276720" y="55627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uhová (radiální) 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grafické znázorňován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akujících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jevů, struktury je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ční cho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epl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ět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statistická mapa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arto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lošně znázorněna statistická da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grafickými hranice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metrickými hranice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rtodiagram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agramy vložené do mapové kost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ou tvoří dílčí územní cel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údaje se vztahují n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elé území jednot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de lež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rozdíl od metody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lokalizovaných diagram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údaj vztahující se k urč. bodu – např. chod roční  srážek  na meteorolog. stanic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ojnicové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loupcové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agramy (sloupce, věkové pyramidy apod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geometrické znač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metody analýzy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tenzit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jevu v prostor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značková metoda (velikost značky odpovídá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 bodová metoda (počet prvků….velikost jevů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např. šrafování- hustota obyv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uktur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jevu v prost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ití výsečových graf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pouze strukturu vyjádříme výsečovými grafy se stejným polomě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strukturu a  velikost celku ( výsečový graf + velikost poloměru odp.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Obdélník 4"/>
          <p:cNvSpPr/>
          <p:nvPr/>
        </p:nvSpPr>
        <p:spPr>
          <a:xfrm>
            <a:off x="1116000" y="549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Grafické metody analýzy geografick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romadný jev ve statist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Obdélník 2"/>
          <p:cNvSpPr/>
          <p:nvPr/>
        </p:nvSpPr>
        <p:spPr>
          <a:xfrm>
            <a:off x="539640" y="2708280"/>
            <a:ext cx="685800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tj. jevy, 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nt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l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voditelné 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íseln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romadné jevy – příkl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 souboru lidí hromadný jev:věk osob, váha, dosažené vzdělání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…studenti dopíší další příklady ( např. viz. statistické ročenky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áležitosti statistické map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sah map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 údaje tvoř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 map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ze i název hlavní a vedlejš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pový rámec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– „vlastní mapa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ěřítko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 číselné, grafické nebo slovní form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Legend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POZOR na intervaly, na barevnou šká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utoř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533520" y="533520"/>
            <a:ext cx="8305200" cy="6153840"/>
            <a:chOff x="533520" y="533520"/>
            <a:chExt cx="8305200" cy="6153840"/>
          </a:xfrm>
        </p:grpSpPr>
        <p:sp>
          <p:nvSpPr>
            <p:cNvPr id="288" name="Rectangle 5"/>
            <p:cNvSpPr/>
            <p:nvPr/>
          </p:nvSpPr>
          <p:spPr>
            <a:xfrm>
              <a:off x="533520" y="533520"/>
              <a:ext cx="8305200" cy="60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9" name="Picture 4" descr="KARTOGRAM1"/>
            <p:cNvPicPr/>
            <p:nvPr/>
          </p:nvPicPr>
          <p:blipFill>
            <a:blip r:embed="rId1"/>
            <a:stretch/>
          </p:blipFill>
          <p:spPr>
            <a:xfrm>
              <a:off x="882720" y="1270440"/>
              <a:ext cx="6994440" cy="54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Text Box 7"/>
          <p:cNvSpPr/>
          <p:nvPr/>
        </p:nvSpPr>
        <p:spPr>
          <a:xfrm>
            <a:off x="1143000" y="609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2" name="Picture 3" descr="k5"/>
          <p:cNvPicPr/>
          <p:nvPr/>
        </p:nvPicPr>
        <p:blipFill>
          <a:blip r:embed="rId1"/>
          <a:stretch/>
        </p:blipFill>
        <p:spPr>
          <a:xfrm>
            <a:off x="2195640" y="1150920"/>
            <a:ext cx="6553080" cy="5707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11430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4" name="Přímá spojovací šipka 6"/>
          <p:cNvCxnSpPr/>
          <p:nvPr/>
        </p:nvCxnSpPr>
        <p:spPr>
          <a:xfrm flipV="1">
            <a:off x="1403280" y="2636640"/>
            <a:ext cx="3385440" cy="86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5" name="Přímá spojovací šipka 7"/>
          <p:cNvCxnSpPr/>
          <p:nvPr/>
        </p:nvCxnSpPr>
        <p:spPr>
          <a:xfrm flipV="1">
            <a:off x="1267920" y="2997000"/>
            <a:ext cx="4025160" cy="58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6" name="Přímá spojovací šipka 9"/>
          <p:cNvCxnSpPr/>
          <p:nvPr/>
        </p:nvCxnSpPr>
        <p:spPr>
          <a:xfrm>
            <a:off x="1332000" y="3573360"/>
            <a:ext cx="662544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7" name="Přímá spojovací šipka 13"/>
          <p:cNvCxnSpPr/>
          <p:nvPr/>
        </p:nvCxnSpPr>
        <p:spPr>
          <a:xfrm flipV="1">
            <a:off x="1258920" y="2924280"/>
            <a:ext cx="4682160" cy="57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8" name="Přímá spojovací šipka 16"/>
          <p:cNvCxnSpPr/>
          <p:nvPr/>
        </p:nvCxnSpPr>
        <p:spPr>
          <a:xfrm>
            <a:off x="1116000" y="3428640"/>
            <a:ext cx="547272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0" name="Group 6"/>
          <p:cNvGrpSpPr/>
          <p:nvPr/>
        </p:nvGrpSpPr>
        <p:grpSpPr>
          <a:xfrm>
            <a:off x="395280" y="990720"/>
            <a:ext cx="8457840" cy="5866920"/>
            <a:chOff x="395280" y="990720"/>
            <a:chExt cx="8457840" cy="5866920"/>
          </a:xfrm>
        </p:grpSpPr>
        <p:sp>
          <p:nvSpPr>
            <p:cNvPr id="301" name="Rectangle 5"/>
            <p:cNvSpPr/>
            <p:nvPr/>
          </p:nvSpPr>
          <p:spPr>
            <a:xfrm>
              <a:off x="395280" y="990720"/>
              <a:ext cx="8457840" cy="58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2" name="Picture 4" descr="kARTOGRAM2"/>
            <p:cNvPicPr/>
            <p:nvPr/>
          </p:nvPicPr>
          <p:blipFill>
            <a:blip r:embed="rId1"/>
            <a:stretch/>
          </p:blipFill>
          <p:spPr>
            <a:xfrm>
              <a:off x="490320" y="1095120"/>
              <a:ext cx="7980840" cy="565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ovéPole 5"/>
          <p:cNvSpPr/>
          <p:nvPr/>
        </p:nvSpPr>
        <p:spPr>
          <a:xfrm>
            <a:off x="1042920" y="2602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studenti  samostat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57200" y="914400"/>
            <a:ext cx="7238520" cy="5486040"/>
            <a:chOff x="457200" y="914400"/>
            <a:chExt cx="7238520" cy="5486040"/>
          </a:xfrm>
        </p:grpSpPr>
        <p:sp>
          <p:nvSpPr>
            <p:cNvPr id="306" name="Rectangle 5"/>
            <p:cNvSpPr/>
            <p:nvPr/>
          </p:nvSpPr>
          <p:spPr>
            <a:xfrm>
              <a:off x="457200" y="914400"/>
              <a:ext cx="7238520" cy="54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Picture 4" descr="KARTOGRAM3"/>
            <p:cNvPicPr/>
            <p:nvPr/>
          </p:nvPicPr>
          <p:blipFill>
            <a:blip r:embed="rId1"/>
            <a:stretch/>
          </p:blipFill>
          <p:spPr>
            <a:xfrm>
              <a:off x="618480" y="1589400"/>
              <a:ext cx="6742800" cy="45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7"/>
          <p:cNvSpPr/>
          <p:nvPr/>
        </p:nvSpPr>
        <p:spPr>
          <a:xfrm>
            <a:off x="1143000" y="304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6"/>
          <p:cNvGrpSpPr/>
          <p:nvPr/>
        </p:nvGrpSpPr>
        <p:grpSpPr>
          <a:xfrm>
            <a:off x="1835280" y="1125360"/>
            <a:ext cx="6705000" cy="5410080"/>
            <a:chOff x="1835280" y="1125360"/>
            <a:chExt cx="6705000" cy="5410080"/>
          </a:xfrm>
        </p:grpSpPr>
        <p:sp>
          <p:nvSpPr>
            <p:cNvPr id="310" name="Rectangle 5"/>
            <p:cNvSpPr/>
            <p:nvPr/>
          </p:nvSpPr>
          <p:spPr>
            <a:xfrm>
              <a:off x="1835280" y="1125360"/>
              <a:ext cx="6621840" cy="54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1" name="Picture 4" descr="kompoz9"/>
            <p:cNvPicPr/>
            <p:nvPr/>
          </p:nvPicPr>
          <p:blipFill>
            <a:blip r:embed="rId1"/>
            <a:stretch/>
          </p:blipFill>
          <p:spPr>
            <a:xfrm>
              <a:off x="1946520" y="1219680"/>
              <a:ext cx="6593760" cy="512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Text Box 7"/>
          <p:cNvSpPr/>
          <p:nvPr/>
        </p:nvSpPr>
        <p:spPr>
          <a:xfrm>
            <a:off x="250920" y="549360"/>
            <a:ext cx="3124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Jak byla vymezena st. jednotk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Vel .stupnice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Barevnost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4" descr="C:\Documents and Settings\svatonova\Dokumenty\STATISTIKA\JARO_07\mapa202.jpg"/>
          <p:cNvPicPr/>
          <p:nvPr/>
        </p:nvPicPr>
        <p:blipFill>
          <a:blip r:embed="rId1"/>
          <a:stretch/>
        </p:blipFill>
        <p:spPr>
          <a:xfrm>
            <a:off x="0" y="757080"/>
            <a:ext cx="884088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4" descr="C:\Documents and Settings\svatonova\Dokumenty\STATISTIKA\JARO_07\mapa306.jpg"/>
          <p:cNvPicPr/>
          <p:nvPr/>
        </p:nvPicPr>
        <p:blipFill>
          <a:blip r:embed="rId1"/>
          <a:stretch/>
        </p:blipFill>
        <p:spPr>
          <a:xfrm>
            <a:off x="0" y="714240"/>
            <a:ext cx="9064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4" descr="C:\Documents and Settings\svatonova\Dokumenty\STATISTIKA\JARO_07\mapa304.jpg"/>
          <p:cNvPicPr/>
          <p:nvPr/>
        </p:nvPicPr>
        <p:blipFill>
          <a:blip r:embed="rId1"/>
          <a:stretch/>
        </p:blipFill>
        <p:spPr>
          <a:xfrm>
            <a:off x="0" y="190440"/>
            <a:ext cx="97534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zolinie – konstrukce a vlas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inie – čáry, které v grafu spojují body se stejnou intenzitou (velikostí, hodnotou) jev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ískávají se 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todou prostorové interpolace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nesených do graf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ynul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bary, izotermy, vrstevnice at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strukce izolinie  - 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67652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oumá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hromadn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v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abývá se proměnlivými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ariabilní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lastnost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uje s čí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oužívá výpočetní technik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bsolutní, relativní kumulované 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et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očet výskytu určité hodnoty v souboru,                      frekvence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počty prvků  s určitými  hodnotami statistického znaku, obvykle pro nespojité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kupinové 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-  počty prvků s hodnotami statistického znaku, které patří do určitého intervalu, obvykle pro spojité hodno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kupinové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třídím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terval – hranice, dolní a horní mez, šířka  (dél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zás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é hranice pro jednoznačné zařazení prvk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vyk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á šíř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měřený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če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nterval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v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díl četností na rozsahu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umulovaná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s hodnotami menšími nebo rovny horní hranici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62"/>
          <p:cNvSpPr/>
          <p:nvPr/>
        </p:nvSpPr>
        <p:spPr>
          <a:xfrm>
            <a:off x="604800" y="42228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ukázka – příklad váha 50 novorozenců v JM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lyg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ára kumulovaných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loup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šířka sloupce – šířka intervalu, výška sloupce - čet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lygo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pojni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odnoty četnosti se vynáší ke středům interva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Čára kumulovaných četnost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histogram – věkové složení obyvatelstva, věková struktura, 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6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250920" y="1646280"/>
            <a:ext cx="85914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ka – dva významy - dvě poje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dní disciplí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aktická č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udělám si statistiku …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4" descr="C:\Documents and Settings\svatonova\Dokumenty\STATISTIKA\JARO_06\cviceni_jaro 2006\pyramida_1946.gif"/>
          <p:cNvPicPr/>
          <p:nvPr/>
        </p:nvPicPr>
        <p:blipFill>
          <a:blip r:embed="rId1"/>
          <a:stretch/>
        </p:blipFill>
        <p:spPr>
          <a:xfrm>
            <a:off x="228600" y="0"/>
            <a:ext cx="3290760" cy="3429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:\Documents and Settings\svatonova\Dokumenty\STATISTIKA\JARO_06\cviceni_jaro 2006\pyramida_2003.gif"/>
          <p:cNvPicPr/>
          <p:nvPr/>
        </p:nvPicPr>
        <p:blipFill>
          <a:blip r:embed="rId2"/>
          <a:stretch/>
        </p:blipFill>
        <p:spPr>
          <a:xfrm>
            <a:off x="3809880" y="152280"/>
            <a:ext cx="5193000" cy="5410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svatonova\Dokumenty\STATISTIKA\JARO_06\cviceni_jaro 2006\pyramida_1985.gif"/>
          <p:cNvPicPr/>
          <p:nvPr/>
        </p:nvPicPr>
        <p:blipFill>
          <a:blip r:embed="rId3"/>
          <a:stretch/>
        </p:blipFill>
        <p:spPr>
          <a:xfrm>
            <a:off x="380880" y="3429000"/>
            <a:ext cx="314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7724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6858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úrov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tzv. 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symetrie a špičat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cxnSp>
        <p:nvCxnSpPr>
          <p:cNvPr id="360" name="Přímá spojovací šipka 4"/>
          <p:cNvCxnSpPr/>
          <p:nvPr/>
        </p:nvCxnSpPr>
        <p:spPr>
          <a:xfrm flipV="1">
            <a:off x="6084360" y="1341360"/>
            <a:ext cx="1367640" cy="1440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1" name="TextovéPole 5"/>
          <p:cNvSpPr/>
          <p:nvPr/>
        </p:nvSpPr>
        <p:spPr>
          <a:xfrm>
            <a:off x="7451640" y="54936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Popisná statist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sto jednotlivých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jednorozměrného statistického souboru používáme   často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řední hodnoty umožňuj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rovnávání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prům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+ vážený aritm. průměr, geometrický průměr, harmonický průmě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stř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án a kva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ografický medi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častěji používaná st.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ům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jedno a více  vrcholová rozdělení četnos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pický aritm. průměr – jednovrcholové rozdělení četností + blízký nejčetnější hodno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ážený 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počtu množství srážek  v povodí – váha – ploch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klimatologii – výpočet denního průměru teplot ze tří měř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od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nejčetnější hodnota kvantitativního znaku ve studovaném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namný především u souboru nespojitých velič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ální interv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interval zahrnující největší počet jednotek, závisí však na stanovení hranic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dělení  s více mody –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lymodální rozděl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statistika popisn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tematická statistik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STATISTIKA jako vědní disciplín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stř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zv.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střední  hodno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prvek řady uspořádané v neklesajícím pořadí ( od nejm. po největší), který ji dělí na dvě poloviny, které mají menší a větší hodnotu zna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: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oubor je třeba vždy uspořá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řadí  prvku (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kolikátý prvek to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je, hodnota prvku je medián!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ují vzorc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 řadu s lichým počtem prvků (n+1)/2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řadu o sudém počtu je medián průměr z hodnot mezi prvkem na (n/2) a (n/2+1) mís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edián je kvantil dělící soubor na dvě poloviny dle předch. pravi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n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rtily – na čtvrtiny, 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, 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75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y obecně široké použití ve statistice a v geograf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eografický 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ografický medián je čára dělící plochu, kde se jev vyskytuje tak, aby hodnota jevu byla v obou plochách stej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varia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rozp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ov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t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koe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rozpě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=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noduchá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éhá extrémním hodnotám, které mohou být i chyb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ůměrn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á odchylka je definována jako aritmetický průměr odchylek  jednotlivých hodnot znaku od vybrané střední hodnoty (tj. od aritmetického průměru, mediánu, modu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ov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kvar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difer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. jako aritmetický průměr absolutních hodnot všech možných rozdílů jednotlivých hodnot sledovaného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praxi vhodná pouze pro malé sou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ptyl a směrodatná odchyl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důležitější charakteristiky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ptyl s</a:t>
            </a:r>
            <a:r>
              <a:rPr b="1" lang="cs-CZ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cs-CZ" sz="3200" spc="-1" strike="noStrike" baseline="30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odatná odchyl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ruhou odmocnina rozpty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09480" y="2533680"/>
            <a:ext cx="8001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Činnost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tatistická evidence ( např. sběr údajů, třídění, sumarizace apod.), 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která tuto evidenci provádí (např. ČSÚ, ministerstva aj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uhrn údajů o nějaké skutečnosti (statistika nezaměstna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ročenka meteorologických pozorová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td.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koefici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častou používanou relativní mírou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souměrnosti tvaru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 rozděle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a šikmosti pro souměrné rozdělení je n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nesouměrné je kladná nebo zápor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icture 4" descr="C:\Documents and Settings\svatonova\Dokumenty\Obrázky\as1.bmp"/>
          <p:cNvPicPr/>
          <p:nvPr/>
        </p:nvPicPr>
        <p:blipFill>
          <a:blip r:embed="rId1"/>
          <a:stretch/>
        </p:blipFill>
        <p:spPr>
          <a:xfrm>
            <a:off x="304920" y="1295280"/>
            <a:ext cx="3132000" cy="2365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Documents and Settings\svatonova\Dokumenty\Obrázky\as3_klad.bmp"/>
          <p:cNvPicPr/>
          <p:nvPr/>
        </p:nvPicPr>
        <p:blipFill>
          <a:blip r:embed="rId2"/>
          <a:stretch/>
        </p:blipFill>
        <p:spPr>
          <a:xfrm>
            <a:off x="5943600" y="4191120"/>
            <a:ext cx="3200400" cy="2160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C:\Documents and Settings\svatonova\Dokumenty\Obrázky\as2_zap.bmp"/>
          <p:cNvPicPr/>
          <p:nvPr/>
        </p:nvPicPr>
        <p:blipFill>
          <a:blip r:embed="rId3"/>
          <a:stretch/>
        </p:blipFill>
        <p:spPr>
          <a:xfrm>
            <a:off x="3429000" y="2514600"/>
            <a:ext cx="2925720" cy="216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1523880" y="3429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1752480" y="3429000"/>
            <a:ext cx="1219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133720" y="3505320"/>
            <a:ext cx="167616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špičatosti ( míry špičatosti)  jsou čísla charakterizující koncentraci prvků souboru v blízkosti určité hodnoty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Picture 4" descr="C:\Documents and Settings\svatonova\Dokumenty\Obrázky\spicatost.bmp"/>
          <p:cNvPicPr/>
          <p:nvPr/>
        </p:nvPicPr>
        <p:blipFill>
          <a:blip r:embed="rId1"/>
          <a:stretch/>
        </p:blipFill>
        <p:spPr>
          <a:xfrm>
            <a:off x="1143000" y="2057400"/>
            <a:ext cx="4952880" cy="36385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arl Friedrich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Gauss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1777-185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nespojitá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grafické znázorně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sah sou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blíží k  nekonečnu + náhodná veličina je spoji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frekvenční funkce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/ hustota pravděpodob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umulativní relativní četnost tj. součtová čára 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distribuční funk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, Laplaceovo- Gaussov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Picture 6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2268360" y="4437000"/>
            <a:ext cx="3524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9T08:51:18Z</dcterms:modified>
  <cp:revision>114</cp:revision>
  <dc:subject/>
  <dc:title>Prezentace aplikace PowerPoint</dc:title>
</cp:coreProperties>
</file>