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785E-78FE-402E-94BD-67772ECF3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62D7-1303-4B74-8294-E01264408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ECB3-7352-4AF9-8BD4-F093AF6AC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312D-1B0B-424B-B65D-4893891B9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505CA-5E2A-48AA-A9F2-971A814C9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1C2EA-E5F9-4D36-BB69-40242B1F4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7AFCE-F9B9-4B50-82C1-AB3CE9CC7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B968D-EF16-4C61-9D63-978DE92F1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C4DDA-509C-4793-A845-64B5DE9F8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58F73-994D-4AC0-90A0-F2396987A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CB414-F916-49F1-8FC8-F877A418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9390-712C-4E21-8B69-041CCBF75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27CA5-1502-4706-BD98-F03D69FB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2379B-A52D-4AAD-A8FD-F42812005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BD1E8-826B-461A-A691-5A0877237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FE4A4-E7DB-421D-ABCF-9EB510DA7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2AFE0-6AF0-434D-872F-912954F2D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0F3E3-1CE4-4C25-A18A-94551185F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BC704-06AD-45A4-8474-5AB41785E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D9C05-E62A-47C3-96C8-96E1D875C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235C3-ECEB-40FC-AF87-953AADD97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04955-6E96-4B3B-B20F-45260F511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5D9E-6CD1-45CA-84DC-5FC63A5EA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09DDB-9C08-4FC2-8EDA-007AD42D9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AACDB-1436-440C-820C-3300EA1A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7F579-DDEB-410B-8212-2F0EB0C4B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1E0D4-F395-4342-91EF-DAA9092A1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568F3-4E8D-413D-B075-697047F6D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66295-6CE8-4753-A828-03702F812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041C6-748D-4BA1-BC94-B88213319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5EBF3-FB7F-4E27-AE42-27CE68DE4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704CC-523B-4532-9D29-771F31F54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FC6A5-6E14-4749-AD39-EFCE94CCC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7448-3B24-44B9-A8C9-8F31E9649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98311-D28A-467E-ABDF-A69F9B67E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5AAC6-A913-4436-B494-822377CEA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CAEB1-87FC-4601-9F4E-47BBDEC62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29AEE-EFB4-4273-B4A3-984DCEE0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A41AA-2F67-4C0D-ADE2-59853956A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7B636-7E7C-4094-B1D6-68494C61F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C1F2E-C8AC-4291-8159-EDC5B8EA8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2D2BD-72BC-4D2A-997A-C9FAEA7F3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15C49-D980-414D-BB68-BCD249908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F7CB98-28E3-408E-97FE-501866C0F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9CE6-1CA7-4764-BBE8-373C7B581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C12A6-64C6-40D3-AAD6-9F3D47369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25914A-36ED-471B-9475-AA3AAADEA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75482-9A92-4F27-BE95-7A49892C2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88284-1E70-4F5B-A8EA-A9B29D532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21D59-FE97-42C4-9BFD-CA4C7E36B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B2ACB9-3128-4FDF-B4B4-685477AB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CD039-3C5C-4329-B012-31DD84030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8D219-834E-4E55-944A-66F87450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3922E-8E5E-4BFD-BAAA-20ABCF37B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935C1C-8270-471C-88FA-3AB72A92C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0000-7DB4-42EF-B1FF-564A80357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5EB1FC-3955-42EC-937C-D05B0765A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D4E1D8-0621-451B-B979-7C392DF63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C885F5-5DB4-48B3-B91A-65B1A8C90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E31677-DF2C-416B-845A-044DAB909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43AA40-AC35-48B3-BF1B-99AB25C83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BBF017-F788-4FF8-9704-3E5F05079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2E1810-10C8-4AE6-8EEB-A41095BC6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91D078-BFAA-4F11-9FF6-7A52DEFA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59F089-DF3B-4FA8-A800-2057B34FE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1F758E-4C34-41D1-B748-ACFF253BC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DA96-6776-4749-BB12-8BA2EF0B8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708226-12C7-4097-8F2F-9FCAB8E36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59CDA2-FF91-406F-B764-9D9312E04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22F008-C7FC-4E78-87FE-2F0635B17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682AF6-8361-420D-AAD3-959D7FDA9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C8F699-ECA4-4A6C-BAB0-B3682FA58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89D1E5-C1E6-4CD4-8F0A-73593B67F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1400C5-B9C2-42AF-85A1-D5723FB0D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C9F01B-EDFC-4A3B-8BFF-C7AE5723D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33F51D-256D-452D-9F17-1276F5F5E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05D6D1-556B-4E54-B64F-4DD70A7E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51E6-9532-46C4-ABB1-E334AF853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427DD3-AE59-4B6A-89A3-EC365001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0A3C6D-D074-471D-9D87-FAFB7AA1F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B9E7D0-7F55-47F3-8C9F-F486BC5CF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152E67-9B3F-4AED-99A5-052583281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D7D018-1096-4B49-8913-01DABAF38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4FC2-0317-413C-B0A1-CBB49934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Obdélník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Obdélník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Obdélník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Obdélník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Obdélník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Obdélník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Obdélník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Obdélník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eeece1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59173-C132-4E1B-A919-6D670A550A1C}" type="slidenum">
              <a:rPr b="0" lang="cs-CZ" sz="1200" spc="-1" strike="noStrike">
                <a:solidFill>
                  <a:srgbClr val="eeece1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Obdélník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Obdélník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Obdélník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Obdélník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Obdélník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Obdélník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Obdélník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bdélník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bdélník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eeece1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198B1-5230-446D-ABB3-ACC405533983}" type="slidenum">
              <a:rPr b="0" lang="cs-CZ" sz="1200" spc="-1" strike="noStrike">
                <a:solidFill>
                  <a:srgbClr val="eeece1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Obdélník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Obdélník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Obdélník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Obdélník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Obdélník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Obdélník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Obdélník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Obdélník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Obdélník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Volný tvar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c0504d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Volný tvar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c0504d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Volný tvar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2d58a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Volný tvar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Volný tvar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Volný tvar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Volný tvar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Volný tvar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Volný tvar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Volný tvar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Volný tvar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Volný tvar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Volný tvar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Volný tvar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Volný tvar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2d58a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Obdélník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2d58a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Obdélník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Obdélník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Obdélník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Obdélník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Obdélník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eeece1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B2D2C-12EA-44F4-8052-2CEE424D039A}" type="slidenum">
              <a:rPr b="0" lang="cs-CZ" sz="1200" spc="-1" strike="noStrike">
                <a:solidFill>
                  <a:srgbClr val="eeece1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eeece1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7F400-DF87-4005-9B4D-FAF360A6BA54}" type="slidenum">
              <a:rPr b="0" lang="cs-CZ" sz="1200" spc="-1" strike="noStrike">
                <a:solidFill>
                  <a:srgbClr val="eeece1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Obdélník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2d58a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Obdélník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Obdélník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Obdélník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Obdélník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Obdélník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Obdélník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Obdélník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Obdélník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Obdélník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eeece1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1DC2F-396F-4DEA-8853-41658F93BF01}" type="slidenum">
              <a:rPr b="0" lang="cs-CZ" sz="1200" spc="-1" strike="noStrike">
                <a:solidFill>
                  <a:srgbClr val="eeece1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eeece1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A0CAA-A810-4299-8728-B2F3457E2245}" type="slidenum">
              <a:rPr b="0" lang="cs-CZ" sz="1200" spc="-1" strike="noStrike">
                <a:solidFill>
                  <a:srgbClr val="eeece1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Obdélník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Obdélník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Obdélník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Obdélník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Obdélník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Obdélník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Obdélník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Obdélník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Obdélník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Obdélník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římá spojovací čára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Skupina 19"/>
          <p:cNvGrpSpPr/>
          <p:nvPr/>
        </p:nvGrpSpPr>
        <p:grpSpPr>
          <a:xfrm>
            <a:off x="8516880" y="1217520"/>
            <a:ext cx="128520" cy="131400"/>
            <a:chOff x="8516880" y="1217520"/>
            <a:chExt cx="128520" cy="131400"/>
          </a:xfrm>
        </p:grpSpPr>
        <p:sp>
          <p:nvSpPr>
            <p:cNvPr id="316" name="Přímá spojovací čára 20"/>
            <p:cNvSpPr/>
            <p:nvPr/>
          </p:nvSpPr>
          <p:spPr>
            <a:xfrm>
              <a:off x="8575920" y="1217520"/>
              <a:ext cx="694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Přímá spojovací čára 23"/>
            <p:cNvSpPr/>
            <p:nvPr/>
          </p:nvSpPr>
          <p:spPr>
            <a:xfrm>
              <a:off x="8516880" y="1282680"/>
              <a:ext cx="982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Přímá spojovací čára 24"/>
            <p:cNvSpPr/>
            <p:nvPr/>
          </p:nvSpPr>
          <p:spPr>
            <a:xfrm flipV="1">
              <a:off x="8575920" y="1282320"/>
              <a:ext cx="694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Skupina 25"/>
          <p:cNvGrpSpPr/>
          <p:nvPr/>
        </p:nvGrpSpPr>
        <p:grpSpPr>
          <a:xfrm>
            <a:off x="8669160" y="1370160"/>
            <a:ext cx="128880" cy="131400"/>
            <a:chOff x="8669160" y="1370160"/>
            <a:chExt cx="128880" cy="131400"/>
          </a:xfrm>
        </p:grpSpPr>
        <p:sp>
          <p:nvSpPr>
            <p:cNvPr id="320" name="Přímá spojovací čára 26"/>
            <p:cNvSpPr/>
            <p:nvPr/>
          </p:nvSpPr>
          <p:spPr>
            <a:xfrm>
              <a:off x="8728200" y="1370160"/>
              <a:ext cx="698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Přímá spojovací čára 27"/>
            <p:cNvSpPr/>
            <p:nvPr/>
          </p:nvSpPr>
          <p:spPr>
            <a:xfrm>
              <a:off x="8669160" y="1435320"/>
              <a:ext cx="986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Přímá spojovací čára 28"/>
            <p:cNvSpPr/>
            <p:nvPr/>
          </p:nvSpPr>
          <p:spPr>
            <a:xfrm flipV="1">
              <a:off x="8728200" y="1434960"/>
              <a:ext cx="698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Skupina 29"/>
          <p:cNvGrpSpPr/>
          <p:nvPr/>
        </p:nvGrpSpPr>
        <p:grpSpPr>
          <a:xfrm>
            <a:off x="8321760" y="1473120"/>
            <a:ext cx="128520" cy="131400"/>
            <a:chOff x="8321760" y="1473120"/>
            <a:chExt cx="128520" cy="131400"/>
          </a:xfrm>
        </p:grpSpPr>
        <p:sp>
          <p:nvSpPr>
            <p:cNvPr id="324" name="Přímá spojovací čára 30"/>
            <p:cNvSpPr/>
            <p:nvPr/>
          </p:nvSpPr>
          <p:spPr>
            <a:xfrm>
              <a:off x="8380800" y="1473120"/>
              <a:ext cx="694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Přímá spojovací čára 31"/>
            <p:cNvSpPr/>
            <p:nvPr/>
          </p:nvSpPr>
          <p:spPr>
            <a:xfrm>
              <a:off x="8321760" y="1538280"/>
              <a:ext cx="982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Přímá spojovací čára 32"/>
            <p:cNvSpPr/>
            <p:nvPr/>
          </p:nvSpPr>
          <p:spPr>
            <a:xfrm flipV="1">
              <a:off x="8380800" y="1537920"/>
              <a:ext cx="694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eeece1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02C12-7350-4DDC-A532-EC6E1B4F6641}" type="slidenum">
              <a:rPr b="0" lang="cs-CZ" sz="1200" spc="-1" strike="noStrike">
                <a:solidFill>
                  <a:srgbClr val="eeece1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90560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Obsah přednášky</a:t>
            </a:r>
            <a:br>
              <a:rPr sz="4000"/>
            </a:b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Věda * Geografie jako věda</a:t>
            </a:r>
            <a:br>
              <a:rPr sz="4000"/>
            </a:b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971640" y="2286000"/>
            <a:ext cx="763272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Věda,  její  definice, vývoj věd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Vědecký výzkum, systémový přístup, modelování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Geografie vědou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Thinking and working geographicall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Členění geografie na dílčí disciplín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Vědy a jejich dělení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Vědy se liší objektem studia, předmětem studia, metodami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Podle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Corbel"/>
              </a:rPr>
              <a:t>metod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 se vědy dělí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01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formální (matematika a logika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01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přírodní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01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humanitní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Podle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Corbel"/>
              </a:rPr>
              <a:t>stupně obecnosti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01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teoretické a aplikované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42960" y="1000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f4f1da"/>
                </a:solidFill>
                <a:latin typeface="Consolas"/>
              </a:rPr>
              <a:t>Vývoj vědy</a:t>
            </a:r>
            <a:endParaRPr b="0" lang="en-US" sz="38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706320" y="1351080"/>
            <a:ext cx="571824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8"/>
          <p:cNvSpPr/>
          <p:nvPr/>
        </p:nvSpPr>
        <p:spPr>
          <a:xfrm>
            <a:off x="1371600" y="34290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Geocentrická  teor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9"/>
          <p:cNvSpPr/>
          <p:nvPr/>
        </p:nvSpPr>
        <p:spPr>
          <a:xfrm>
            <a:off x="3505320" y="403848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Heliocentrická  teor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onsolas"/>
              </a:rPr>
              <a:t>Dějiny vědy jsou posety odloženými hypotézami</a:t>
            </a:r>
            <a:br>
              <a:rPr sz="3200"/>
            </a:br>
            <a:r>
              <a:rPr b="0" lang="cs-CZ" sz="3200" spc="-1" strike="noStrike">
                <a:solidFill>
                  <a:srgbClr val="ffffff"/>
                </a:solidFill>
                <a:latin typeface="Consolas"/>
              </a:rPr>
              <a:t>  překonanými teoriemi i platnými teoriemi</a:t>
            </a:r>
            <a:endParaRPr b="0" lang="en-US" sz="32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96" name="Text Box 13"/>
          <p:cNvSpPr/>
          <p:nvPr/>
        </p:nvSpPr>
        <p:spPr>
          <a:xfrm>
            <a:off x="1480320" y="2174760"/>
            <a:ext cx="18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Země je ploch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14"/>
          <p:cNvSpPr/>
          <p:nvPr/>
        </p:nvSpPr>
        <p:spPr>
          <a:xfrm>
            <a:off x="2998080" y="2860560"/>
            <a:ext cx="175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Země je kulat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15"/>
          <p:cNvSpPr/>
          <p:nvPr/>
        </p:nvSpPr>
        <p:spPr>
          <a:xfrm>
            <a:off x="1046520" y="5029200"/>
            <a:ext cx="465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Wegenerova teorie kontinentálního drift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Kuhn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42960" y="2428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98520" indent="-33228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T. S. Kuhn přinesl přesvědčivé argumenty i o tom, že 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Corbel"/>
              </a:rPr>
              <a:t>pokrok vědeckého poznání není přímočarý</a:t>
            </a: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nýbrž že je čas od času přerušován 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Corbel"/>
              </a:rPr>
              <a:t>zásadními zvraty – vědeckými revolucemi, </a:t>
            </a: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při nichž dochází k revizi samotných základů dosavadního vědění. Vědecké poznání nesměřuje k nějaké jediné Pravdě o světě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Corbel"/>
              </a:rPr>
              <a:t>Paradigma – vědecká revoluce – nové paradigma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17480" indent="-277200">
              <a:spcBef>
                <a:spcPts val="49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orbel"/>
              </a:rPr>
              <a:t>Podrobněji čas. Vesmír 9/2008,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17480" indent="-277200">
              <a:spcBef>
                <a:spcPts val="49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orbel"/>
              </a:rPr>
              <a:t>KnihaT.S. Kuhn: Koperníkovská revoluce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01" name="Obrázek 3" descr="uvod_kuhn.jpg"/>
          <p:cNvPicPr/>
          <p:nvPr/>
        </p:nvPicPr>
        <p:blipFill>
          <a:blip r:embed="rId1"/>
          <a:stretch/>
        </p:blipFill>
        <p:spPr>
          <a:xfrm>
            <a:off x="6643800" y="571680"/>
            <a:ext cx="2071440" cy="180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PARADIGMA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1066680" y="2101680"/>
            <a:ext cx="7772400" cy="10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49200" indent="-291240">
              <a:lnSpc>
                <a:spcPct val="8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ffffff"/>
                </a:solidFill>
                <a:latin typeface="Corbel"/>
              </a:rPr>
              <a:t>určitý vědecký styl dané epochy či vědeckého společenství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349200" indent="-291240">
              <a:lnSpc>
                <a:spcPct val="8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ffffff"/>
                </a:solidFill>
                <a:latin typeface="Corbel"/>
              </a:rPr>
              <a:t>souhrn všeobecně uznávaných teoretických a metodologických předpokladů, postupů v určité etapě vývoje vědeckého bádání</a:t>
            </a:r>
            <a:r>
              <a:rPr b="1" lang="cs-CZ" sz="21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349200" indent="-291240">
              <a:lnSpc>
                <a:spcPct val="8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Vývoj vědy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teorie T.S. Kuhna o proměně věd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paradigma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vědecká revoluc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nové paradigm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6" name="Rectangle 6"/>
          <p:cNvSpPr/>
          <p:nvPr/>
        </p:nvSpPr>
        <p:spPr>
          <a:xfrm>
            <a:off x="7772400" y="4724280"/>
            <a:ext cx="380880" cy="190512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7" name="Group 10"/>
          <p:cNvGrpSpPr/>
          <p:nvPr/>
        </p:nvGrpSpPr>
        <p:grpSpPr>
          <a:xfrm>
            <a:off x="5181480" y="1676520"/>
            <a:ext cx="2210040" cy="3047760"/>
            <a:chOff x="5181480" y="1676520"/>
            <a:chExt cx="2210040" cy="3047760"/>
          </a:xfrm>
        </p:grpSpPr>
        <p:sp>
          <p:nvSpPr>
            <p:cNvPr id="408" name="Rectangle 5"/>
            <p:cNvSpPr/>
            <p:nvPr/>
          </p:nvSpPr>
          <p:spPr>
            <a:xfrm>
              <a:off x="5181480" y="1676520"/>
              <a:ext cx="381240" cy="304776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orbe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Rectangle 7"/>
            <p:cNvSpPr/>
            <p:nvPr/>
          </p:nvSpPr>
          <p:spPr>
            <a:xfrm>
              <a:off x="5791320" y="4572000"/>
              <a:ext cx="160020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orbel"/>
                </a:rPr>
                <a:t>V 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Vědecký výzkum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12" name="Picture 2" descr="G:\ocean\teory.jpg"/>
          <p:cNvPicPr/>
          <p:nvPr/>
        </p:nvPicPr>
        <p:blipFill>
          <a:blip r:embed="rId1"/>
          <a:srcRect l="0" t="0" r="0" b="21416"/>
          <a:stretch/>
        </p:blipFill>
        <p:spPr>
          <a:xfrm>
            <a:off x="1116000" y="1270080"/>
            <a:ext cx="650088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hypotéza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Hypotéza, domněnka, předpoklad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výchozí, dosud ale neprokázané tvrzení, které se předkládá na zkoušku k ověření (experimentem, zkušeností)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Pracovní hypotézy ukazují další cestu vědeckého zkoumání, mohou se stát základem vědecké teorie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000080" y="92844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f4f1da"/>
                </a:solidFill>
                <a:latin typeface="Consolas"/>
              </a:rPr>
              <a:t>teorie</a:t>
            </a:r>
            <a:endParaRPr b="0" lang="en-US" sz="38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71680" y="1642680"/>
            <a:ext cx="7772400" cy="112068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 fontScale="98000"/>
          </a:bodyPr>
          <a:p>
            <a:pPr marL="52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Řádně  doložené objasnění některého přírodního (sociálního) jevu, které zahrnuje fakta, zevšeobecněné zákony, logické  dedukce a otestované dílčí hypotézy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7" name="TextovéPole 3"/>
          <p:cNvSpPr/>
          <p:nvPr/>
        </p:nvSpPr>
        <p:spPr>
          <a:xfrm>
            <a:off x="714240" y="3000240"/>
            <a:ext cx="592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Teorie není dohad  nebo tušení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ale vysvětlení vycházející z rozsáhlého pozorování , experimentů a tvořivých úva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ovéPole 4"/>
          <p:cNvSpPr/>
          <p:nvPr/>
        </p:nvSpPr>
        <p:spPr>
          <a:xfrm>
            <a:off x="1034640" y="4572000"/>
            <a:ext cx="415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Příklady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heliocentrická teorie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teorie deskové tektoniky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teorie evolučního vývoje organism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071720" y="128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Systémové  paradigma </a:t>
            </a:r>
            <a:br>
              <a:rPr sz="4000"/>
            </a:b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teorie systémů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výchozí předpoklady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každý dílčí prvek je součástí většího celku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tedy i každý objekt  se složen z menších částí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1" name="AutoShape 4"/>
          <p:cNvSpPr/>
          <p:nvPr/>
        </p:nvSpPr>
        <p:spPr>
          <a:xfrm>
            <a:off x="4284720" y="3213000"/>
            <a:ext cx="457200" cy="4572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1834920" y="2492280"/>
            <a:ext cx="3516120" cy="12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4bd97"/>
                </a:solidFill>
                <a:latin typeface="Corbel"/>
              </a:rPr>
              <a:t>Co je to věda?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title"/>
          </p:nvPr>
        </p:nvSpPr>
        <p:spPr>
          <a:xfrm>
            <a:off x="1371240" y="1483920"/>
            <a:ext cx="55767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Je geografie vědou?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Systém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systém - </a:t>
            </a: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skupina objektů propojená vazbami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počet objektů i vazeb systému   je konečný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objekty i vazby ( vzájemné vztahy) lze zkou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objekty jsou uspořádány hierarchick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Systémový přístup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vědecky zjednodušuje</a:t>
            </a: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 realitu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odhaluje hlubší strukturovanou podstatu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Model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Model - zjednodušené zobrazení systému , není se systémem či původním objektem, který systém popisuje shodný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590560" y="25905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4f1da"/>
                </a:solidFill>
                <a:latin typeface="Consolas"/>
              </a:rPr>
              <a:t>Geografie</a:t>
            </a:r>
            <a:endParaRPr b="0" lang="en-US" sz="6000" spc="-1" strike="noStrike">
              <a:solidFill>
                <a:srgbClr val="f4f1da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Geografie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je  založena na schopnosti geograficky myslet –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tj. jasně formulovat nejrůznější prostorové vlastnosti geografických jevů ,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chopnost systematicky třídit, analyzovat, aplikovat geografické teorie, provádět syntézy, realizovat modely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není encyklopedická znalost geografických objektů a jejich prostorová lokalizace (jak je často prezentováno ve školské praxi, tj. 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ne jen KDE to je, ale i PROČ to tam je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Thinking geography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826920" y="1413000"/>
            <a:ext cx="75614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02840" indent="-3355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Chapter  1 – Thinking and working geographicall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24680" indent="-28008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Why do geographers  ask  question?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975240" indent="-223920">
              <a:spcBef>
                <a:spcPts val="601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Skills -  understanding  the spatial  concepts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75240" indent="-223920">
              <a:spcBef>
                <a:spcPts val="601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24680" indent="-28008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How do geographers  gather  data?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975240" indent="-223920">
              <a:spcBef>
                <a:spcPts val="601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(primary data sources and secondary data sources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24680" indent="-28008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Writin geographical report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975240" indent="-223920">
              <a:spcBef>
                <a:spcPts val="601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Table of conten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24680" indent="-28008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What do geographers do?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1680" y="115920"/>
            <a:ext cx="854064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4f1da"/>
                </a:solidFill>
                <a:latin typeface="Consolas"/>
              </a:rPr>
              <a:t>  </a:t>
            </a:r>
            <a:r>
              <a:rPr b="0" lang="cs-CZ" sz="3400" spc="-1" strike="noStrike">
                <a:solidFill>
                  <a:srgbClr val="f4f1da"/>
                </a:solidFill>
                <a:latin typeface="Consolas"/>
              </a:rPr>
              <a:t>Pro správné pochopení výuky zeměpisu (geografie) je nutné naučit se klást zeměpisné (geografické) otázky:</a:t>
            </a:r>
            <a:endParaRPr b="0" lang="en-US" sz="34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87138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Corbel"/>
              </a:rPr>
              <a:t>Kde to je?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Corbel"/>
              </a:rPr>
              <a:t>Jaké to je?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Corbel"/>
              </a:rPr>
              <a:t>Proč je to tam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Corbel"/>
              </a:rPr>
              <a:t>Jak to vzniklo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Corbel"/>
              </a:rPr>
              <a:t>Jaký to má vliv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Corbel"/>
              </a:rPr>
              <a:t>Jak by to mělo být uzpůsobeno k vzájemnému užitku člověka a přírody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Geografie a její definice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buClr>
                <a:srgbClr val="c4bd9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4bd97"/>
                </a:solidFill>
                <a:latin typeface="Arial"/>
                <a:ea typeface="Arial"/>
              </a:rPr>
              <a:t>Geografie  je vědu zkoumající zákonitosti vývoje  krajinné sféry a jejích objektů, zvláště vztahy územní diferenciace a integrac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4bd97"/>
                </a:solidFill>
                <a:latin typeface="Arial"/>
                <a:ea typeface="Arial"/>
              </a:rPr>
              <a:t> </a:t>
            </a:r>
            <a:r>
              <a:rPr b="1" lang="cs-CZ" sz="2400" spc="-1" strike="noStrike">
                <a:solidFill>
                  <a:srgbClr val="c4bd97"/>
                </a:solidFill>
                <a:latin typeface="Arial"/>
                <a:ea typeface="Arial"/>
              </a:rPr>
              <a:t>geografie je vědou studující prostorové rozšíření jevů  v krajinné sféře Země, jejich vzájemnou interakci a vývoj v čase. (Wikipedia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Corbel"/>
              </a:rPr>
              <a:t>Úkol: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Corbel"/>
              </a:rPr>
              <a:t>vyhledejte ještě min. dvě definice geografie od různých autorů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Zařazení geografie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Geografie je vědou na rozhranní věd přírodních a společenských,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skupina věd o Zemi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soubor metod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objekt studia příp. předmět studia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71600" y="164304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f4f1da"/>
                </a:solidFill>
                <a:latin typeface="Consolas"/>
              </a:rPr>
              <a:t>Objekt geografie a předmět geografie </a:t>
            </a:r>
            <a:endParaRPr b="0" lang="en-US" sz="38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40" name="TextovéPole 3"/>
          <p:cNvSpPr/>
          <p:nvPr/>
        </p:nvSpPr>
        <p:spPr>
          <a:xfrm>
            <a:off x="838800" y="4581360"/>
            <a:ext cx="7067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orbel"/>
              </a:rPr>
              <a:t>Předmětem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 geografie jso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funkční </a:t>
            </a:r>
            <a:r>
              <a:rPr b="0" lang="cs-CZ" sz="2800" spc="-1" strike="noStrike">
                <a:solidFill>
                  <a:srgbClr val="ff0000"/>
                </a:solidFill>
                <a:latin typeface="Corbel"/>
              </a:rPr>
              <a:t>analýza vztahů a vaze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mezi jednotlivými. složkami </a:t>
            </a:r>
            <a:r>
              <a:rPr b="0" i="1" lang="cs-CZ" sz="2800" spc="-1" strike="noStrike">
                <a:solidFill>
                  <a:srgbClr val="ffffff"/>
                </a:solidFill>
                <a:latin typeface="Corbel"/>
              </a:rPr>
              <a:t>krajinné sfé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ovéPole 4"/>
          <p:cNvSpPr/>
          <p:nvPr/>
        </p:nvSpPr>
        <p:spPr>
          <a:xfrm flipH="1">
            <a:off x="826920" y="3284640"/>
            <a:ext cx="77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orbel"/>
              </a:rPr>
              <a:t>Objektem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 studia geografie je </a:t>
            </a:r>
            <a:r>
              <a:rPr b="0" lang="cs-CZ" sz="2800" spc="-1" strike="noStrike">
                <a:solidFill>
                  <a:srgbClr val="ff0000"/>
                </a:solidFill>
                <a:latin typeface="Corbel"/>
              </a:rPr>
              <a:t>krajinná sfé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071720" y="12855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f4f1da"/>
                </a:solidFill>
                <a:latin typeface="Consolas"/>
              </a:rPr>
              <a:t>Definice vědy</a:t>
            </a:r>
            <a:endParaRPr b="0" lang="en-US" sz="38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706320" y="1351080"/>
            <a:ext cx="571824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1980720" y="3276720"/>
            <a:ext cx="4496040" cy="2178000"/>
          </a:xfrm>
          <a:prstGeom prst="rect">
            <a:avLst/>
          </a:prstGeom>
          <a:gradFill rotWithShape="0">
            <a:gsLst>
              <a:gs pos="0">
                <a:srgbClr val="253c57"/>
              </a:gs>
              <a:gs pos="50000">
                <a:srgbClr val="4f81bd"/>
              </a:gs>
              <a:gs pos="100000">
                <a:srgbClr val="253c57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cs-CZ" sz="3000" spc="-1" strike="noStrike">
                <a:solidFill>
                  <a:srgbClr val="000000"/>
                </a:solidFill>
                <a:latin typeface="Corbel"/>
              </a:rPr>
              <a:t>krajinná sfér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4f1da"/>
                </a:solidFill>
                <a:latin typeface="Consolas"/>
              </a:rPr>
              <a:t>Přehled systému geografických věd</a:t>
            </a:r>
            <a:endParaRPr b="0" lang="en-US" sz="32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2438280" y="4038480"/>
            <a:ext cx="1143000" cy="381240"/>
          </a:xfrm>
          <a:prstGeom prst="rect">
            <a:avLst/>
          </a:prstGeom>
          <a:gradFill rotWithShape="0">
            <a:gsLst>
              <a:gs pos="0">
                <a:srgbClr val="78cb6f"/>
              </a:gs>
              <a:gs pos="50000">
                <a:srgbClr val="385e33"/>
              </a:gs>
              <a:gs pos="100000">
                <a:srgbClr val="78cb6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rbel"/>
              </a:rPr>
              <a:t>FZ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6"/>
          <p:cNvSpPr/>
          <p:nvPr/>
        </p:nvSpPr>
        <p:spPr>
          <a:xfrm>
            <a:off x="4038480" y="4038480"/>
            <a:ext cx="1219320" cy="381240"/>
          </a:xfrm>
          <a:prstGeom prst="rect">
            <a:avLst/>
          </a:prstGeom>
          <a:gradFill rotWithShape="0">
            <a:gsLst>
              <a:gs pos="0">
                <a:srgbClr val="28345b"/>
              </a:gs>
              <a:gs pos="50000">
                <a:srgbClr val="5670c4"/>
              </a:gs>
              <a:gs pos="100000">
                <a:srgbClr val="28345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rbel"/>
              </a:rPr>
              <a:t>S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8"/>
          <p:cNvSpPr/>
          <p:nvPr/>
        </p:nvSpPr>
        <p:spPr>
          <a:xfrm>
            <a:off x="838080" y="1447920"/>
            <a:ext cx="7391520" cy="914400"/>
          </a:xfrm>
          <a:prstGeom prst="rect">
            <a:avLst/>
          </a:prstGeom>
          <a:gradFill rotWithShape="0">
            <a:gsLst>
              <a:gs pos="0">
                <a:srgbClr val="7ec53d"/>
              </a:gs>
              <a:gs pos="100000">
                <a:srgbClr val="3a5b1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rbel"/>
              </a:rPr>
              <a:t>kartografie a geoinformati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rbel"/>
              </a:rPr>
              <a:t>obecná k, tematická k., GIS, DPZ, GPS, fotogrammetrie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Rectangle 9"/>
          <p:cNvSpPr/>
          <p:nvPr/>
        </p:nvSpPr>
        <p:spPr>
          <a:xfrm>
            <a:off x="457200" y="2819520"/>
            <a:ext cx="2133720" cy="685800"/>
          </a:xfrm>
          <a:prstGeom prst="rect">
            <a:avLst/>
          </a:prstGeom>
          <a:gradFill rotWithShape="0">
            <a:gsLst>
              <a:gs pos="0">
                <a:srgbClr val="385e33"/>
              </a:gs>
              <a:gs pos="100000">
                <a:srgbClr val="78cb6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Vědy o  fzg. komplexu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obecná fyzická geog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paleogeog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10"/>
          <p:cNvSpPr/>
          <p:nvPr/>
        </p:nvSpPr>
        <p:spPr>
          <a:xfrm>
            <a:off x="228600" y="3962520"/>
            <a:ext cx="2133720" cy="1828800"/>
          </a:xfrm>
          <a:prstGeom prst="rect">
            <a:avLst/>
          </a:prstGeom>
          <a:solidFill>
            <a:srgbClr val="78cb6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Vědy  fzg.složká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geomorfolog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klimatolog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hydrogeografie a oceanog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pedogeogf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biogeog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geografie přír. zdrojů“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Rectangle 11"/>
          <p:cNvSpPr/>
          <p:nvPr/>
        </p:nvSpPr>
        <p:spPr>
          <a:xfrm>
            <a:off x="5562720" y="2514600"/>
            <a:ext cx="3124080" cy="1219320"/>
          </a:xfrm>
          <a:prstGeom prst="rect">
            <a:avLst/>
          </a:prstGeom>
          <a:gradFill rotWithShape="0">
            <a:gsLst>
              <a:gs pos="0">
                <a:srgbClr val="28345b"/>
              </a:gs>
              <a:gs pos="100000">
                <a:srgbClr val="5670c4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Corbel"/>
              </a:rPr>
              <a:t>Vědy o sg. komplex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obecná socioekonomická geog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historická geog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Rectangle 12"/>
          <p:cNvSpPr/>
          <p:nvPr/>
        </p:nvSpPr>
        <p:spPr>
          <a:xfrm>
            <a:off x="5486400" y="3733920"/>
            <a:ext cx="3657600" cy="1447560"/>
          </a:xfrm>
          <a:prstGeom prst="rect">
            <a:avLst/>
          </a:prstGeom>
          <a:solidFill>
            <a:srgbClr val="5670c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Corbel"/>
              </a:rPr>
              <a:t>Vědy o sg.složká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g. obyvatel,  g. sí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g. průmyslu, g. zemědělství, g. doprav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g. služeb, g. rekre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g. vědy a kultu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Rectangle 14"/>
          <p:cNvSpPr/>
          <p:nvPr/>
        </p:nvSpPr>
        <p:spPr>
          <a:xfrm>
            <a:off x="1905120" y="5486400"/>
            <a:ext cx="2286000" cy="914400"/>
          </a:xfrm>
          <a:prstGeom prst="rect">
            <a:avLst/>
          </a:prstGeom>
          <a:gradFill rotWithShape="0">
            <a:gsLst>
              <a:gs pos="0">
                <a:srgbClr val="253c57"/>
              </a:gs>
              <a:gs pos="100000">
                <a:srgbClr val="4f81bd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Corbel"/>
              </a:rPr>
              <a:t>Vědy o regione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regionální geog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politická geog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Rectangle 16"/>
          <p:cNvSpPr/>
          <p:nvPr/>
        </p:nvSpPr>
        <p:spPr>
          <a:xfrm>
            <a:off x="4191120" y="5181480"/>
            <a:ext cx="2743200" cy="1676520"/>
          </a:xfrm>
          <a:prstGeom prst="rect">
            <a:avLst/>
          </a:prstGeom>
          <a:gradFill rotWithShape="0">
            <a:gsLst>
              <a:gs pos="0">
                <a:srgbClr val="253c57"/>
              </a:gs>
              <a:gs pos="100000">
                <a:srgbClr val="4f81bd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Corbel"/>
              </a:rPr>
              <a:t>Vědy o systémech a věd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nauka o krajin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geoekolog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planetární geog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teoretická geog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 </a:t>
            </a: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Geosféra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geosféra - koncentrická vrstva Země – prostor se specifickým výskytem určitých jevů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Corbel"/>
              </a:rPr>
              <a:t>z řeckého „sfaira „– koule, zeměkoule, globus, přeneseně i jako prostor např. sféra zájmů apod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Geosféry Země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Země vnitřní struktura  - vrstvy lišící se hustotou a složení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„</a:t>
            </a: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slupky cibule“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rotace – uspořádání od nejhustšího po nejřidší, od jádra se železa, niklu a síry po atmosféru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pevná část, tekutá část a plynná čás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Geosféry Země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Země vnitřní struktura  - vrstvy lišící se hustotou a složení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„</a:t>
            </a: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slupky cibule“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rotace – uspořádání od nejhustšího po nejřidší, od jádra se železa, niklu a síry po atmosféru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pevná část, tekutá část a plynná čás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Geosféry Země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06800" indent="-3391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Corbel"/>
              </a:rPr>
              <a:t>Homogenní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Corbel"/>
              </a:rPr>
              <a:t>Litosféra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, tj. kamenný obal Země – zemský kůra a spodní část zemského pláště ( pod ním je již plastická astenosféra) ( - 100 km až 8,8 km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Corbel"/>
              </a:rPr>
              <a:t>Hydrosféra 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(-4 km až 0 km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Corbel"/>
              </a:rPr>
              <a:t>Atmosféra 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(0  až 40 tisíc km, řadu dílčích vrstev, t, s, m, i, t, e – z.k.) , pozn. hranice zemské korony je považována za hranici planety Země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Geosféry Země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Corbel"/>
              </a:rPr>
              <a:t>Heterogenní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Pedosfér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biosfér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antroposféra, sociosfér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Definice krajinné sféry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tenká heterogenní geosféra kolem pevného povrchu Země, která je  geosystémem nejvyššího řádu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Krajinná sféra a její hranice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je vymezena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Mohorovičičovou vrstvou diskontinuity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tropopauzou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ke krajinné sféře náleží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část litosféry - zemská kůra: pevninská a oceánská, hydrosféra a kryosféra, pedosféra, biosféra, antroposféra a troposfér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Mocnost krajinné sféry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krajinná sféra – její „tloušťka“?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cca 30 km,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Země - od zemského jádra po horní hranici atmosféry – více než 46 tisíc k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0000"/>
                </a:solidFill>
                <a:latin typeface="Corbel"/>
              </a:rPr>
              <a:t>Úkol:jakým dílem je vertikální mocnost krajinné sféry vůči celé Zemi?“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krajinná sféra  -  jediná známá sféra života ve vesmíru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ovéPole 1"/>
          <p:cNvSpPr/>
          <p:nvPr/>
        </p:nvSpPr>
        <p:spPr>
          <a:xfrm>
            <a:off x="1128600" y="2133720"/>
            <a:ext cx="676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orbel"/>
              </a:rPr>
              <a:t>Statistické metody  v geografii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Věda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Věda je </a:t>
            </a: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nepřetržitý proces lidského poznávání </a:t>
            </a: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přírody, společnosti, člověka, lidského myšlení a kultury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1371600" y="33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39800" indent="-28584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systematické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racionální 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a metodické vyvozování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zobecňování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1219320" y="1341360"/>
            <a:ext cx="637704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cs-CZ" sz="3200" spc="-1" strike="noStrike">
                <a:solidFill>
                  <a:srgbClr val="ff3300"/>
                </a:solidFill>
                <a:latin typeface="Consolas"/>
              </a:rPr>
              <a:t>Věda: na základě </a:t>
            </a:r>
            <a:r>
              <a:rPr b="0" lang="cs-CZ" sz="3200" spc="-1" strike="noStrike" u="sng">
                <a:solidFill>
                  <a:srgbClr val="ff3300"/>
                </a:solidFill>
                <a:uFillTx/>
                <a:latin typeface="Consolas"/>
              </a:rPr>
              <a:t>abstraktního myšlení a teoretické činnosti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78" name="Text Box 4"/>
          <p:cNvSpPr/>
          <p:nvPr/>
        </p:nvSpPr>
        <p:spPr>
          <a:xfrm>
            <a:off x="6858000" y="3886200"/>
            <a:ext cx="1574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nový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poznatk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AutoShape 5"/>
          <p:cNvSpPr/>
          <p:nvPr/>
        </p:nvSpPr>
        <p:spPr>
          <a:xfrm>
            <a:off x="6248520" y="3657600"/>
            <a:ext cx="533160" cy="1600200"/>
          </a:xfrm>
          <a:custGeom>
            <a:avLst/>
            <a:gdLst>
              <a:gd name="textAreaLeft" fmla="*/ 0 w 533160"/>
              <a:gd name="textAreaRight" fmla="*/ 192600 w 53316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Rectangle 6"/>
          <p:cNvSpPr/>
          <p:nvPr/>
        </p:nvSpPr>
        <p:spPr>
          <a:xfrm>
            <a:off x="1332000" y="1628640"/>
            <a:ext cx="6480000" cy="151308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TextovéPole 6"/>
          <p:cNvSpPr/>
          <p:nvPr/>
        </p:nvSpPr>
        <p:spPr>
          <a:xfrm>
            <a:off x="2050920" y="476280"/>
            <a:ext cx="63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3300"/>
                </a:solidFill>
                <a:latin typeface="Corbel"/>
              </a:rPr>
              <a:t>Věda versus lidské poznává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Věda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Věda nastoluje požadavek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2600" spc="-1" strike="noStrike" u="sng">
                <a:solidFill>
                  <a:srgbClr val="ffffff"/>
                </a:solidFill>
                <a:uFillTx/>
                <a:latin typeface="Corbel"/>
              </a:rPr>
              <a:t>obecného poznání</a:t>
            </a: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, na základě něhož lze v nepřehledném světě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ffffff"/>
                </a:solidFill>
                <a:uFillTx/>
                <a:latin typeface="Corbel"/>
              </a:rPr>
              <a:t>oddělit podstatné od nepodstatného 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a určit </a:t>
            </a:r>
            <a:r>
              <a:rPr b="0" lang="cs-CZ" sz="2600" spc="-1" strike="noStrike" u="sng">
                <a:solidFill>
                  <a:srgbClr val="ffffff"/>
                </a:solidFill>
                <a:uFillTx/>
                <a:latin typeface="Corbel"/>
              </a:rPr>
              <a:t>obecně platné zákony</a:t>
            </a: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tyto zákony dovolují  předvídat, předpovědi modelovat atd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Základní metody vědy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vědecké pozorování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analýz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syntéz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indukc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dedukc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3300"/>
                </a:solidFill>
                <a:latin typeface="Corbel"/>
              </a:rPr>
              <a:t>Úkol – definice  jmenovaných metod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785520" y="928800"/>
            <a:ext cx="83581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Od novověku je </a:t>
            </a: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věda založena </a:t>
            </a: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na představě </a:t>
            </a: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zákonitého (a matematizovatelného) chování skutečnosti,</a:t>
            </a: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která se odhaluje </a:t>
            </a: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hypotézou</a:t>
            </a: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,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ověřuje </a:t>
            </a: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experimentem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zobecňuje </a:t>
            </a: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v teorii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Věda v euroamerické civilizaci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v euroamerické společnosti je od 17.st. privilegována věda oproti jiným formám poznání (mimovědní poznání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6T07:54:08Z</dcterms:created>
  <dc:creator>Svatonova</dc:creator>
  <dc:description/>
  <dc:language>en-US</dc:language>
  <cp:lastModifiedBy>Svatonova</cp:lastModifiedBy>
  <dcterms:modified xsi:type="dcterms:W3CDTF">2011-09-27T08:29:16Z</dcterms:modified>
  <cp:revision>37</cp:revision>
  <dc:subject/>
  <dc:title>Pedagogická fakulta   </dc:title>
</cp:coreProperties>
</file>