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F84F-749A-4F25-9E23-4EABE4AD9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1615-3B0E-4331-9449-15C22DCEA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3135-5FB8-4CDE-B000-4C1772AAF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F5A4-B9F6-4A69-A2A0-2ADF247A9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BEFD-4805-4688-A74D-5D4B9F6AC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5216-7B74-44F9-9C4C-EF7D9AA38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0FD3-5372-4F1E-B866-10FD38E4A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360F-26DA-42DE-A635-A0AC9ADF7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B7B8-04BF-4055-BE05-24C46EC31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2C40-A5CB-429B-890E-5B4134010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D543-DF4C-4654-AF2C-22F876656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B223-253A-4DD6-8895-9CA4937E0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D4D8-F41E-40EC-A928-C00DDD26B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3573-89E4-47CE-AA2C-5CBFA2896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EC55-C57F-4E17-B69C-0AC3D585E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5220-3AC1-4A3D-B603-3C0229AB5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00BE-0191-474B-9983-03CBC2BC3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451F-CF60-4B1F-AC3D-6B23C4514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7946-926B-4BA8-8C34-BE26FC29A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DF3D-E1FA-4EC2-B3FC-F28F9EEAD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4C7D-6261-43F4-B517-84C550AE4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C928-FEA5-4B67-9554-3FCD22C33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0F7C-77D9-4A9C-9D63-38FFF45A6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2C61-4986-40B5-96FF-E0625B87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E403-7BC1-47BE-A058-3CEE60D8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0C1-AF16-47C3-AF03-11195CB9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51CC-68FC-499B-A47D-60EA6107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7F5-5338-484B-A3C0-61E8EAF2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25A-8790-41C6-9B3D-7E31EA33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704-1C97-4896-BB2C-95D002A9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0CB-E0CE-4F0C-B4EF-B9367082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9F8-A1D2-4861-8091-818E5D0D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D6E8-740C-4146-ABDB-9A977D75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DF3-B48D-48D2-AE3A-EC2600B6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BA0-2209-4491-91AE-8924C0EA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1039-453C-428F-AC5D-D244280FF0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poklady cestovního ruch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12000" y="5516640"/>
            <a:ext cx="294480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98989"/>
                </a:solidFill>
                <a:latin typeface="Calibri"/>
              </a:rPr>
              <a:t>Geografie nevýrobní sfé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98989"/>
                </a:solidFill>
                <a:latin typeface="Calibri"/>
              </a:rPr>
              <a:t>Přednáška č.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98989"/>
                </a:solidFill>
                <a:latin typeface="Calibri"/>
              </a:rPr>
              <a:t>© 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Marketingové turistické obla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400" y="1071720"/>
            <a:ext cx="828036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Obrázek 7" descr="turisticke_oblasti.jpg"/>
          <p:cNvPicPr/>
          <p:nvPr/>
        </p:nvPicPr>
        <p:blipFill>
          <a:blip r:embed="rId1"/>
          <a:stretch/>
        </p:blipFill>
        <p:spPr>
          <a:xfrm>
            <a:off x="0" y="887400"/>
            <a:ext cx="9144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8960" y="333000"/>
            <a:ext cx="8429760" cy="4762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Rajonizace CR v Č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20908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= zařazení regionů / rajony, oblasti / do čtyř kategorií podle vhodnosti pro C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I.   - mezinárodní význam (Praha, NP, UNESCO, ZČ lázně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II.  - národní význam (Říp, hrady , zámky, lázně, CHKO …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III. - oblastní význam (Nechanice, Králův Dvůr, Svitavy …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IV. - lokální význam  (kostely, chr.naleziště, městská muzea …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hodnotící faktory - přírodní podmínky (hory, lesy, vodní plochy…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- výsledky lidské činnosti (kult-hist., lázně, přehrady…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- vybavenost (ubyt., strav., lanovky, půjčovny,+služby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- dopravní předpoklady = realizační předpoklad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- negativní faktory (ceny, kriminalita, hmyz, ŽP 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2040" y="404280"/>
            <a:ext cx="8229600" cy="4762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I. kategor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20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raha, Český Krumlov, Brno + další památky UNESC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árodní parky - KRNA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-  Šumav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-  Podyj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-  České Švýcarsk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Lázně (ZČ, Teplice, Luhačovice, Libveda, Velichovky, Jánské Lázně apod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Jeseník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alašsko + Besky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UNESC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360360"/>
            <a:ext cx="8229600" cy="6206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II. kategor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ušnohoř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eský rá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ihočeské rybní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řivoklátsk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lní Vlt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izerské h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sáza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M vrchov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rlické h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oravský k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0" y="1268280"/>
            <a:ext cx="40388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šuma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rní Vlt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řední Vlt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. Středohoř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ál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ílé Karpa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621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III. kategor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7520" y="1420920"/>
            <a:ext cx="40388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užické h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ksy a okol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krkonoš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Broumovsk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ělnick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Horní Stře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tříbrsk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Český 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aplick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Brd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8160" y="1413000"/>
            <a:ext cx="40384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áborsk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elezné h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vodí Orl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rahanská vrchov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hřib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ováck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hodsk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Frýdlantsk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Šlukn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ďánický 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Ivančick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9040" y="404280"/>
            <a:ext cx="8229600" cy="621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IV. kategor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15720" y="1341360"/>
            <a:ext cx="85359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= pouze atraktivity lokálního význa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aroboleslavsk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Džbá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Boskovick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Kounick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Hrotovick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j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rolínání a nejednotnost v zařazení do III. a IV. kategori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61440" y="1196640"/>
            <a:ext cx="4262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287d"/>
                </a:solidFill>
                <a:latin typeface="Calibri"/>
              </a:rPr>
              <a:t>12 památek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96969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Brn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96969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eský Krumlov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96969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olašov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96969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roměří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96969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utná Hor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96969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ednicko-valtický areá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96969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itomyš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96969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lomou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96969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h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96969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lč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96969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řebíč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96969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Žďár nad Sázavou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11280" y="347400"/>
            <a:ext cx="7827840" cy="64764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amátky UNESCO v Č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4626"/>
          <p:cNvPicPr/>
          <p:nvPr/>
        </p:nvPicPr>
        <p:blipFill>
          <a:blip r:embed="rId1"/>
          <a:stretch/>
        </p:blipFill>
        <p:spPr>
          <a:xfrm>
            <a:off x="7642080" y="189000"/>
            <a:ext cx="1260720" cy="920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9"/>
          <p:cNvSpPr/>
          <p:nvPr/>
        </p:nvSpPr>
        <p:spPr>
          <a:xfrm>
            <a:off x="4235400" y="1512720"/>
            <a:ext cx="426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9144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287d"/>
                </a:solidFill>
                <a:latin typeface="Calibri"/>
                <a:ea typeface="Arial"/>
              </a:rPr>
              <a:t>6 biosférických oblast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Třeboň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Dolní Mor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NP a CHKO Šum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KRN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Křivokláts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Bíle Karpa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8760" y="1125360"/>
            <a:ext cx="8655120" cy="31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ovácký verbuňk (200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snické masopustní obchůzky a masky na Hlinecku (20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kolnictví – umění chovu dravců, jejich ochrany, výcviku a lovu s nimi (20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ízda králů – zařazena v listopadu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24000" y="388800"/>
            <a:ext cx="7827840" cy="64800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hmotné dědictví UNESCO v Č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4626"/>
          <p:cNvPicPr/>
          <p:nvPr/>
        </p:nvPicPr>
        <p:blipFill>
          <a:blip r:embed="rId1"/>
          <a:stretch/>
        </p:blipFill>
        <p:spPr>
          <a:xfrm>
            <a:off x="7527960" y="260280"/>
            <a:ext cx="1260360" cy="920880"/>
          </a:xfrm>
          <a:prstGeom prst="rect">
            <a:avLst/>
          </a:prstGeom>
          <a:ln w="0">
            <a:noFill/>
          </a:ln>
        </p:spPr>
      </p:pic>
      <p:sp>
        <p:nvSpPr>
          <p:cNvPr id="88" name="Zástupný symbol pro zápatí 3"/>
          <p:cNvSpPr/>
          <p:nvPr/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Calibri"/>
              </a:rPr>
              <a:t>PedF, katedra geograf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2F92-2A9A-40FC-94E8-3DEDE85DA368}" type="slidenum">
              <a:rPr b="0" lang="cs-CZ" sz="1200" spc="-1" strike="noStrike">
                <a:solidFill>
                  <a:srgbClr val="9696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Slovácký Verbuňk. "/>
          <p:cNvPicPr/>
          <p:nvPr/>
        </p:nvPicPr>
        <p:blipFill>
          <a:blip r:embed="rId2"/>
          <a:stretch/>
        </p:blipFill>
        <p:spPr>
          <a:xfrm>
            <a:off x="0" y="4508640"/>
            <a:ext cx="3530520" cy="2349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Skupina sokolníků s jestřáby před lovem"/>
          <p:cNvPicPr/>
          <p:nvPr/>
        </p:nvPicPr>
        <p:blipFill>
          <a:blip r:embed="rId3"/>
          <a:stretch/>
        </p:blipFill>
        <p:spPr>
          <a:xfrm>
            <a:off x="3514680" y="4559400"/>
            <a:ext cx="3457800" cy="22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hudba.proglas.cz/res/data/044/005081_05_031415.jpg"/>
          <p:cNvPicPr/>
          <p:nvPr/>
        </p:nvPicPr>
        <p:blipFill>
          <a:blip r:embed="rId4"/>
          <a:stretch/>
        </p:blipFill>
        <p:spPr>
          <a:xfrm>
            <a:off x="5778360" y="4560840"/>
            <a:ext cx="3365640" cy="22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ůvodcovské služby v C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633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růvodcovské služb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(v organizovaném C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44320" y="1844640"/>
            <a:ext cx="823428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le“ průvodce – prostředník, poskytuj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formace, řeší mimořádné situace,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olečník, autorita, kontroluje, podnikat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ypy průvodců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vedoucí zájezdu (tour manag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průvodce zájezdu (tour escort) - pend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882720" y="0"/>
          <a:ext cx="6700680" cy="65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2720" y="0"/>
                    <a:ext cx="6700680" cy="65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74640" y="76464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turistický průvodce (tourist gui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specializovaný průvod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. horský průvod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 sportovní instruk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. odborný průvod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4. animá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pobytový delegát (local representa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tlumočník-překladat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402840"/>
            <a:ext cx="7772400" cy="5778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ostavení a činnost 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09560" y="17982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Klasifikace CK podl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ostavení v distribučním proces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- touroperátor (cestovní kancelář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- prodejce, zprostředkovatel (cestovní agentur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Zaměření nabízených zájezd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- všeobecné 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- specializované 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23880" y="1177920"/>
            <a:ext cx="7772400" cy="52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 hlediska geografickéh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mácí (po území Č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hraniční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jezdový (outgo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íjezdový (incom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 hlediska časovéh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átkodobé (do 4 dnů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louhodobé (delší než 4 dn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 hlediska tematického zaměř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kreač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ulturně-poznáva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rtovní a turistick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stavy a veletr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láštní tematick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incentivní a kongreso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ázeňsk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oveck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722160" y="402840"/>
            <a:ext cx="7772400" cy="57780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Rozdělení zájezd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859280" y="1125360"/>
            <a:ext cx="396072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 hlediska použitého dopravního prostřed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autokar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vla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lete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vlastním dopravním prostřed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lod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ostatní druhy dopr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kombinovaná přepr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125000"/>
            <a:ext cx="4317840" cy="556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Z hlediska ročních období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letní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zimní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mimosezonní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Z hlediska způsobu jejich příprav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standardní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forfaitový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Z hlediska obsahové náplně zájezdu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obytov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oznávací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Kombinovan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Hvězdicové – vyjíždí se z místa ubytování, několik nocí na místě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722160" y="402840"/>
            <a:ext cx="7772400" cy="57780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Rozdělení zájezd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219640" y="1125360"/>
            <a:ext cx="3456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Z hlediska použitého dopravního prostřed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- autokarov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- vlakov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- leteck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- vlastním dopravním prostředk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- lod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- ostatní druhy doprav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- kombinovaná přeprav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050920" cy="9079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 obrázkům přidejte jejich název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9" descr="zelena-hor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24000" y="0"/>
            <a:ext cx="2808360" cy="193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Trosky"/>
          <p:cNvPicPr/>
          <p:nvPr/>
        </p:nvPicPr>
        <p:blipFill>
          <a:blip r:embed="rId3"/>
          <a:stretch/>
        </p:blipFill>
        <p:spPr>
          <a:xfrm>
            <a:off x="5076720" y="0"/>
            <a:ext cx="2556000" cy="1724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TCZ004106_1"/>
          <p:cNvPicPr/>
          <p:nvPr/>
        </p:nvPicPr>
        <p:blipFill>
          <a:blip r:embed="rId4"/>
          <a:stretch/>
        </p:blipFill>
        <p:spPr>
          <a:xfrm>
            <a:off x="3492360" y="4437000"/>
            <a:ext cx="2629080" cy="197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TOM106c709fb7_Jested_2006"/>
          <p:cNvPicPr/>
          <p:nvPr/>
        </p:nvPicPr>
        <p:blipFill>
          <a:blip r:embed="rId5"/>
          <a:stretch/>
        </p:blipFill>
        <p:spPr>
          <a:xfrm>
            <a:off x="0" y="1413000"/>
            <a:ext cx="2519280" cy="189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pustevny"/>
          <p:cNvPicPr/>
          <p:nvPr/>
        </p:nvPicPr>
        <p:blipFill>
          <a:blip r:embed="rId6"/>
          <a:stretch/>
        </p:blipFill>
        <p:spPr>
          <a:xfrm>
            <a:off x="7273800" y="1125360"/>
            <a:ext cx="1870200" cy="2492640"/>
          </a:xfrm>
          <a:prstGeom prst="rect">
            <a:avLst/>
          </a:prstGeom>
          <a:ln w="0">
            <a:noFill/>
          </a:ln>
        </p:spPr>
      </p:pic>
      <p:pic>
        <p:nvPicPr>
          <p:cNvPr id="111" name="Obrázek 12" descr="vyziti-bouzov-v.jpg"/>
          <p:cNvPicPr/>
          <p:nvPr/>
        </p:nvPicPr>
        <p:blipFill>
          <a:blip r:embed="rId7"/>
          <a:stretch/>
        </p:blipFill>
        <p:spPr>
          <a:xfrm>
            <a:off x="0" y="3500280"/>
            <a:ext cx="2400480" cy="1800360"/>
          </a:xfrm>
          <a:prstGeom prst="rect">
            <a:avLst/>
          </a:prstGeom>
          <a:ln w="0">
            <a:noFill/>
          </a:ln>
        </p:spPr>
      </p:pic>
      <p:pic>
        <p:nvPicPr>
          <p:cNvPr id="112" name="Obrázek 13" descr="Třebíč,bazilika sv.Prokopa.jpg"/>
          <p:cNvPicPr/>
          <p:nvPr/>
        </p:nvPicPr>
        <p:blipFill>
          <a:blip r:embed="rId8"/>
          <a:stretch/>
        </p:blipFill>
        <p:spPr>
          <a:xfrm>
            <a:off x="2195640" y="227664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113" name="Obrázek 14" descr="objectivesnap_objectivesnap_74_1147597910.jpg"/>
          <p:cNvPicPr/>
          <p:nvPr/>
        </p:nvPicPr>
        <p:blipFill>
          <a:blip r:embed="rId9"/>
          <a:stretch/>
        </p:blipFill>
        <p:spPr>
          <a:xfrm>
            <a:off x="4500720" y="2060640"/>
            <a:ext cx="2663640" cy="211464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5" descr="vary1.jpg"/>
          <p:cNvPicPr/>
          <p:nvPr/>
        </p:nvPicPr>
        <p:blipFill>
          <a:blip r:embed="rId10"/>
          <a:stretch/>
        </p:blipFill>
        <p:spPr>
          <a:xfrm>
            <a:off x="826920" y="5149800"/>
            <a:ext cx="2530800" cy="1708200"/>
          </a:xfrm>
          <a:prstGeom prst="rect">
            <a:avLst/>
          </a:prstGeom>
          <a:ln w="0">
            <a:noFill/>
          </a:ln>
        </p:spPr>
      </p:pic>
      <p:pic>
        <p:nvPicPr>
          <p:cNvPr id="115" name="Obrázek 16" descr="detail-titulni.jpg"/>
          <p:cNvPicPr/>
          <p:nvPr/>
        </p:nvPicPr>
        <p:blipFill>
          <a:blip r:embed="rId11"/>
          <a:stretch/>
        </p:blipFill>
        <p:spPr>
          <a:xfrm>
            <a:off x="6134040" y="4857840"/>
            <a:ext cx="3009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formační zdroj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SÚ – ročenk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www.mmr.cz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www.czechtourism.cz (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ttp://www.czechtourism.cz/pro-studenty/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www.kudyznudy.cz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www.czech.cz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www.mkcr.cz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www.cestovni-ruch.cz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3720" y="1557360"/>
            <a:ext cx="8142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lima (podnebí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hydrologické poměr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reliéf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geologi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flora a fau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platňují se zejména v plošně rozsáhlých areálech, mají stacionární, do jisté míry i konstantní charakter, čímž vytvářejí předpoklad pro regionalizaci cestovního ruch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11280" y="333000"/>
            <a:ext cx="7827840" cy="647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okalizační předpoklady - přírod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1120" y="1125000"/>
            <a:ext cx="8142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ají většinou charakter stálých objektů (hrady, zámky, divadla) nebo jednorázových akcí (festivaly, koncerty, náboženské slavnosti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ezi velmi významné představitele této skupiny patří památky (i přírodní) zařazené do kulturního (případně přírodního) světového dědictví lidstva a zapsané do seznamu UNESC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 seznamu světového dědictví UNESCO je po posledním zasedání World Heritage Committee </a:t>
            </a:r>
            <a:r>
              <a:rPr b="0" lang="cs-CZ" sz="2600" spc="-1" strike="noStrike">
                <a:solidFill>
                  <a:srgbClr val="948a54"/>
                </a:solidFill>
                <a:latin typeface="Calibri"/>
              </a:rPr>
              <a:t>690 míst (529 kulturních, 138 přírodních a 23 kombinovaných lokalit)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11280" y="333000"/>
            <a:ext cx="7827840" cy="647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Lokalizační předpoklady – Kulturně-historick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8160" y="1266480"/>
            <a:ext cx="8142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Objektiv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např. vnitropolitická situace, ekonomické předpoklady, demografické skutečnosti, kvalita životního prostředí …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Subjektiv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řada psychologických pohnutek, kterými je ovlivňováno rozhodování jednotlivce nebo skupiny obyvatel k účasti na cestovním ruchu a k výběru lokality pro cestovní ruch. Velkou roli zde hraje reklama, propagace, zkušenost, módnost apod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11280" y="333000"/>
            <a:ext cx="7827840" cy="647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Selektivní předpokla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8160" y="1195200"/>
            <a:ext cx="8142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Realizační fakto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mají dominující postavení pro konečnou fázi uskutečňování cestovního ruch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í danou oblast dosáhnout (doprava) a využít (ubytovací a stravovací zařízení, případně zábavná a sportovní). Svojí kapacitou tvoří nabídkový strop pro využití lokalizačních podmín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11280" y="333000"/>
            <a:ext cx="7827840" cy="64764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Realizační předpokla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ajonizace cestovního ruch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Rajonizace cestovního ruch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400" y="1071720"/>
            <a:ext cx="828036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Regiony (destinace) cestovního ruchu jsou vymezovány z hlediska prostorového uspořádání typových atraktivit a aktivit cestovního ruchu v území (potenciálu krajiny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Turistické regiony, oblasti a lokality (středisko cestovního ruchu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Regiony s mezinárodním, celostátním nebo regionálním význam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Historický vývoj: poslední komplexní rajonizace v ČR je z roku 1981 (Rajonizace cestovního ruchu ČS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Marketingová rajonizace: 1999 (aktualizace 201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Marketingové turistické regio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400" y="1071720"/>
            <a:ext cx="828036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Obrázek 1" descr=""/>
          <p:cNvPicPr/>
          <p:nvPr/>
        </p:nvPicPr>
        <p:blipFill>
          <a:blip r:embed="rId1"/>
          <a:stretch/>
        </p:blipFill>
        <p:spPr>
          <a:xfrm>
            <a:off x="324000" y="939960"/>
            <a:ext cx="84247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8:16:52Z</dcterms:created>
  <dc:creator>Svobodova</dc:creator>
  <dc:description/>
  <dc:language>en-US</dc:language>
  <cp:lastModifiedBy>Svobodova</cp:lastModifiedBy>
  <dcterms:modified xsi:type="dcterms:W3CDTF">2011-11-28T08:08:57Z</dcterms:modified>
  <cp:revision>13</cp:revision>
  <dc:subject/>
  <dc:title>Snímek 1</dc:title>
</cp:coreProperties>
</file>