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3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AA3-ECAC-46B9-9F79-0B7D7ABC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458-E09B-4978-808A-F3D44CCE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2D4-33F9-4A0E-9A30-4205DA49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2F0-10CD-4E85-8C45-73A7D8B3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272-05BC-47FB-AAF3-BBEBED1E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940-DC66-46D9-8065-2841856E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C91-B373-449F-BD32-87A59F7B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2CD-E6A5-4DC0-8FA3-D451C7E5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17B-8790-4EA0-93B9-D3C9083C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53B-3A6C-4A58-BF5F-4DEDDA83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CD2-DF54-465C-90B9-F2ADDE20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F09-02D6-4D66-B187-373B3267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7D02-63FF-4916-AB01-88B82832ED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http://foto.mapy.cz/original?id=51098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e služeb – obchod (se zaměření na trendy v maloobchodě)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80000" y="5661000"/>
            <a:ext cx="33768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98989"/>
                </a:solidFill>
                <a:latin typeface="Calibri"/>
              </a:rPr>
              <a:t>Geografie nevýrobní sfé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98989"/>
                </a:solidFill>
                <a:latin typeface="Calibri"/>
              </a:rPr>
              <a:t>Přednáška č. 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98989"/>
                </a:solidFill>
                <a:latin typeface="Calibri"/>
              </a:rPr>
              <a:t>© H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F:\Obrázky\Geo fotky\Brno Shopping park\PA300001.JPG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F:\Obrázky\Geo fotky\PB080066.JPG"/>
          <p:cNvPicPr/>
          <p:nvPr/>
        </p:nvPicPr>
        <p:blipFill>
          <a:blip r:embed="rId2"/>
          <a:stretch/>
        </p:blipFill>
        <p:spPr>
          <a:xfrm>
            <a:off x="0" y="4130640"/>
            <a:ext cx="36352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uper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amoobsluha potravin širokého sortimentu s prodejní plochou 200 – 400 m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bízí obvykle i základní druhy nepotravinářského zboží denní potře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okalizace v místech větší koncentrace osob – nádraží, letiště, odpočívadla u dálnic, benzínky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P7295412"/>
          <p:cNvPicPr/>
          <p:nvPr/>
        </p:nvPicPr>
        <p:blipFill>
          <a:blip r:embed="rId1"/>
          <a:stretch/>
        </p:blipFill>
        <p:spPr>
          <a:xfrm>
            <a:off x="5651640" y="350028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benzina_ivancice"/>
          <p:cNvPicPr/>
          <p:nvPr/>
        </p:nvPicPr>
        <p:blipFill>
          <a:blip r:embed="rId2"/>
          <a:stretch/>
        </p:blipFill>
        <p:spPr>
          <a:xfrm>
            <a:off x="3132000" y="4437000"/>
            <a:ext cx="2926080" cy="219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23992_vitani_415"/>
          <p:cNvPicPr/>
          <p:nvPr/>
        </p:nvPicPr>
        <p:blipFill>
          <a:blip r:embed="rId3"/>
          <a:stretch/>
        </p:blipFill>
        <p:spPr>
          <a:xfrm>
            <a:off x="0" y="4005360"/>
            <a:ext cx="31194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upermark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elkoprodejna s plným sortimentem zboží využívající formu samoobsluhy doplněnou o několik obslužných úseků (lahůdky, maso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lní velikostní hranice je 400 m2, horní 2500 m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čet  druhů zboží: 5–10 ti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ažují potraviny, nižší podíl průmyslového zboží je rozhodujícím kritériem pro odlišení od ostatních typů prodej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okalizace širok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8" descr="Albert-04"/>
          <p:cNvPicPr/>
          <p:nvPr/>
        </p:nvPicPr>
        <p:blipFill>
          <a:blip r:embed="rId1"/>
          <a:stretch/>
        </p:blipFill>
        <p:spPr>
          <a:xfrm>
            <a:off x="4859280" y="4322880"/>
            <a:ext cx="3816360" cy="253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76_3"/>
          <p:cNvPicPr/>
          <p:nvPr/>
        </p:nvPicPr>
        <p:blipFill>
          <a:blip r:embed="rId2"/>
          <a:stretch/>
        </p:blipFill>
        <p:spPr>
          <a:xfrm>
            <a:off x="1027080" y="4329000"/>
            <a:ext cx="35449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ypermark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tší, s větším zastoupením prodeje nepotravinářského zbož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boží nevyžadující obslu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vní hypermarket vznikl v r. 1963 ve Francii (Carrefou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voj urychlila potřeba prodejních ploch pro nové druhy nepotravinářského zboží náročného na výstavní plochu, ale i vysoké nájemné ve měste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okalizace – na okrajích i mimo mě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á jednotka nabízející na jedné ploše potravinářské i nepotravinářské zboží denní i občasné poptávky výhradně formou samoobslu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ikost: min. 2 500 m2. obvykle 15–20 tis. 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 srovnání s obchodními domy vyžadují 2x větší prodejní plochy, ale 4x méně spolupracovníků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30–60 % úroveň nákla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žné zaměstnávat pracovníky s nižší kvalifikací a snižovat podíl mzdových nákla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platnění v rámci regionálních nákupních ce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292720" y="992160"/>
            <a:ext cx="3524400" cy="5678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novysmichov.eu/img/fotky_obchodu/9_DSC_0611.jpg"/>
          <p:cNvPicPr/>
          <p:nvPr/>
        </p:nvPicPr>
        <p:blipFill>
          <a:blip r:embed="rId2"/>
          <a:stretch/>
        </p:blipFill>
        <p:spPr>
          <a:xfrm>
            <a:off x="971640" y="3500280"/>
            <a:ext cx="4224240" cy="3168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ypermarket-tesco--decin-pb_1_tesco-decin_ext_3"/>
          <p:cNvPicPr/>
          <p:nvPr/>
        </p:nvPicPr>
        <p:blipFill>
          <a:blip r:embed="rId3"/>
          <a:stretch/>
        </p:blipFill>
        <p:spPr>
          <a:xfrm>
            <a:off x="179280" y="0"/>
            <a:ext cx="41767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lnosortimentní obchodní do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vní již v 1. pol. 19. stol. Ve Fran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dejní plocha: 10–20 tis. 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iroký a poměrně hluboký sortiment a zboží (až 200 tis. polož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áročnost provozu a sortimentní politiky se odráží ve středních a vyšších cená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okalizace: centra měst a regionální nákupní centra, kde tvoží tzv. magn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1174057509-v"/>
          <p:cNvPicPr/>
          <p:nvPr/>
        </p:nvPicPr>
        <p:blipFill>
          <a:blip r:embed="rId1"/>
          <a:stretch/>
        </p:blipFill>
        <p:spPr>
          <a:xfrm>
            <a:off x="5148360" y="3933720"/>
            <a:ext cx="2193840" cy="292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obchodni-dum-kotvba"/>
          <p:cNvPicPr/>
          <p:nvPr/>
        </p:nvPicPr>
        <p:blipFill>
          <a:blip r:embed="rId2"/>
          <a:stretch/>
        </p:blipFill>
        <p:spPr>
          <a:xfrm>
            <a:off x="1332000" y="393372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ecializované obchodní do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rientace na nepotravinářské zboží, resp. jeho část, nejčastěji na odívání a spojené služ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. velikost 1500 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a prodeje – kombinované – pultový prodej, volný výběr i samoobsluh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okalizace: centra měst, čtvrťové i obvodové vybavenosti, regionální nákupní cent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9" descr="obchod_havirska"/>
          <p:cNvPicPr/>
          <p:nvPr/>
        </p:nvPicPr>
        <p:blipFill>
          <a:blip r:embed="rId1"/>
          <a:stretch/>
        </p:blipFill>
        <p:spPr>
          <a:xfrm>
            <a:off x="971640" y="4221000"/>
            <a:ext cx="3327480" cy="2451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prior"/>
          <p:cNvPicPr/>
          <p:nvPr/>
        </p:nvPicPr>
        <p:blipFill>
          <a:blip r:embed="rId2"/>
          <a:stretch/>
        </p:blipFill>
        <p:spPr>
          <a:xfrm>
            <a:off x="4500720" y="3645000"/>
            <a:ext cx="4070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borné (specializované) velkoprodej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rtiment velkých ucelených souborů nepotravinářského zboží, zejména druhy s velkou obrátk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amoobslužná forma prode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vážně jednopodlaž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ižší cenová hladina díky sortimentnímu zaměření a nižším cenovým nákladů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ikost od 600 do několika tisíc 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ikea[1]"/>
          <p:cNvPicPr/>
          <p:nvPr/>
        </p:nvPicPr>
        <p:blipFill>
          <a:blip r:embed="rId1"/>
          <a:stretch/>
        </p:blipFill>
        <p:spPr>
          <a:xfrm>
            <a:off x="6456240" y="3645000"/>
            <a:ext cx="2495520" cy="18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binary[1]"/>
          <p:cNvPicPr/>
          <p:nvPr/>
        </p:nvPicPr>
        <p:blipFill>
          <a:blip r:embed="rId2"/>
          <a:stretch/>
        </p:blipFill>
        <p:spPr>
          <a:xfrm>
            <a:off x="322200" y="4437000"/>
            <a:ext cx="2881440" cy="201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00240l"/>
          <p:cNvPicPr/>
          <p:nvPr/>
        </p:nvPicPr>
        <p:blipFill>
          <a:blip r:embed="rId3"/>
          <a:stretch/>
        </p:blipFill>
        <p:spPr>
          <a:xfrm>
            <a:off x="3319560" y="4437000"/>
            <a:ext cx="29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Diskontní prodejn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rvní u USA ve 30. letech (hard discont – velmi omezený rozsah zboří za velmi nízké ceny x soft discon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Nemají stabilní sortiment zboží, nabízejí zboží, po kterém je právě poptávka s vysokou obrátkou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Samoobslužná forma prodeje, zboží přímo z palet a stohů – snížení podílu práce při prodeji -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nižší cenová hladin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Objekty prodejen jsou jednoduše řešené a striktně účelové. Zřizovány na levných pozemcích v okrajových částech měst. Vybavení – regály, palety aj. Chybí výkladní skříně a průhledy do místností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Zboží je nakupováno ve velkém přímo u výrobc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rodejní doba prodloužená, provoz i o víkendu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ttp://www.podborany.net/media/obrazky/penny_market_cr_denik-hp_top.jpg"/>
          <p:cNvPicPr/>
          <p:nvPr/>
        </p:nvPicPr>
        <p:blipFill>
          <a:blip r:embed="rId1"/>
          <a:stretch/>
        </p:blipFill>
        <p:spPr>
          <a:xfrm>
            <a:off x="1979640" y="4653000"/>
            <a:ext cx="302904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lustrační foto"/>
          <p:cNvPicPr/>
          <p:nvPr/>
        </p:nvPicPr>
        <p:blipFill>
          <a:blip r:embed="rId2"/>
          <a:stretch/>
        </p:blipFill>
        <p:spPr>
          <a:xfrm>
            <a:off x="5433840" y="4137120"/>
            <a:ext cx="34657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kupní cent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vní centra v USA v 50. letech 20. st. Největší v současnosti jsou v USA a Kanad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ocha sto až několik tisíc 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mbinace desítek i stovek služeb – obsahují super-, hypermarkety a obchodní domy. Plochy pro zábavu a uspokojení. Plochy jsou pronajímány. Orientace na zákazník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Vnitroměstská NC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lokace v centru měst a vnitřním měst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Okrajová NC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vznikají na perifériích měst, dostatek plochy pro rozvo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říve byly páteří nákupních center obchody s potravin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ě nový trend – fungují jako společenská a zábavní centra = nákupní centr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3 gener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ákupní centr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1 genera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super- nebo hypermarket s minimem specializovaných jednot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ákupní centr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2 genera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širší škála specializovaných obchodů, restaurace, čistírny, hlídání dětí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960" indent="-273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entrum Olympia Brno"/>
          <p:cNvPicPr/>
          <p:nvPr/>
        </p:nvPicPr>
        <p:blipFill>
          <a:blip r:embed="rId1"/>
          <a:stretch/>
        </p:blipFill>
        <p:spPr>
          <a:xfrm>
            <a:off x="2484360" y="1557360"/>
            <a:ext cx="4032360" cy="25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Documents and Settings\Jozef\Dokumenty\Obrázky\SPI1bd4c2_nakupy1.jpg"/>
          <p:cNvPicPr/>
          <p:nvPr/>
        </p:nvPicPr>
        <p:blipFill>
          <a:blip r:embed="rId2"/>
          <a:stretch/>
        </p:blipFill>
        <p:spPr>
          <a:xfrm>
            <a:off x="4595760" y="4149720"/>
            <a:ext cx="4548240" cy="270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Brno-Campus Square 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164120"/>
            <a:ext cx="4500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48428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ZCZYRBA, Z. Geografie obchodu -  se zaměřením na současné trendy v maloobchodu. Olomouc: PřF UPOL, 2006. s. 4 –25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Obrázek 3" descr="Szczyrba.jpg"/>
          <p:cNvPicPr/>
          <p:nvPr/>
        </p:nvPicPr>
        <p:blipFill>
          <a:blip r:embed="rId1"/>
          <a:stretch/>
        </p:blipFill>
        <p:spPr>
          <a:xfrm>
            <a:off x="6732720" y="1700280"/>
            <a:ext cx="16779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Jozef\Dokumenty\My Scans\2009-03 (III)\ScannedImage-47.jpg"/>
          <p:cNvPicPr/>
          <p:nvPr/>
        </p:nvPicPr>
        <p:blipFill>
          <a:blip r:embed="rId1"/>
          <a:stretch/>
        </p:blipFill>
        <p:spPr>
          <a:xfrm>
            <a:off x="1476360" y="0"/>
            <a:ext cx="67183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Životní cyklus maloobchod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notlivé typy maloobchodních prodejen procházejí etapami životního cyklu maloobcho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ypotéza maloobchodního okruhu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M. McNaire, 50. léta) – tradiční druhy maloobchodů obvykle nabízejí svým zákazníkům mnoho služeb a určují ceny zboží tak, aby pokryly své náklady. To vytváří příležitost pro vznik nových druhů maloobchodního prodeje – např. obchody s levným zbožím, které se tolik neorientují na služby a ceny svých výrobků stanovují jiným způsob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Volný tvar 14"/>
          <p:cNvSpPr/>
          <p:nvPr/>
        </p:nvSpPr>
        <p:spPr>
          <a:xfrm>
            <a:off x="1363680" y="4317840"/>
            <a:ext cx="5224320" cy="2192400"/>
          </a:xfrm>
          <a:custGeom>
            <a:avLst/>
            <a:gdLst/>
            <a:ahLst/>
            <a:rect l="l" t="t" r="r" b="b"/>
            <a:pathLst>
              <a:path w="3614057" h="2191656">
                <a:moveTo>
                  <a:pt x="0" y="2053771"/>
                </a:moveTo>
                <a:cubicBezTo>
                  <a:pt x="264885" y="2122713"/>
                  <a:pt x="529771" y="2191656"/>
                  <a:pt x="885371" y="1850571"/>
                </a:cubicBezTo>
                <a:cubicBezTo>
                  <a:pt x="1240971" y="1509486"/>
                  <a:pt x="1678819" y="0"/>
                  <a:pt x="2133600" y="7257"/>
                </a:cubicBezTo>
                <a:cubicBezTo>
                  <a:pt x="2588381" y="14514"/>
                  <a:pt x="3101219" y="954314"/>
                  <a:pt x="3614057" y="1894114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6"/>
          <p:cNvSpPr/>
          <p:nvPr/>
        </p:nvSpPr>
        <p:spPr>
          <a:xfrm>
            <a:off x="2484360" y="6381720"/>
            <a:ext cx="47516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8"/>
          <p:cNvSpPr/>
          <p:nvPr/>
        </p:nvSpPr>
        <p:spPr>
          <a:xfrm flipV="1">
            <a:off x="2484360" y="4005000"/>
            <a:ext cx="0" cy="2376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19"/>
          <p:cNvSpPr/>
          <p:nvPr/>
        </p:nvSpPr>
        <p:spPr>
          <a:xfrm>
            <a:off x="2559600" y="6381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Přímá spojovací šipka 24"/>
          <p:cNvCxnSpPr/>
          <p:nvPr/>
        </p:nvCxnSpPr>
        <p:spPr>
          <a:xfrm>
            <a:off x="3059280" y="6597720"/>
            <a:ext cx="289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Obdélník 25"/>
          <p:cNvSpPr/>
          <p:nvPr/>
        </p:nvSpPr>
        <p:spPr>
          <a:xfrm rot="16200000">
            <a:off x="1789560" y="5783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Přímá spojovací šipka 26"/>
          <p:cNvCxnSpPr/>
          <p:nvPr/>
        </p:nvCxnSpPr>
        <p:spPr>
          <a:xfrm flipV="1">
            <a:off x="2340000" y="5229000"/>
            <a:ext cx="2160" cy="2880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Přímá spojovací čára 29"/>
          <p:cNvSpPr/>
          <p:nvPr/>
        </p:nvSpPr>
        <p:spPr>
          <a:xfrm>
            <a:off x="3348000" y="4005360"/>
            <a:ext cx="0" cy="237636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římá spojovací čára 30"/>
          <p:cNvSpPr/>
          <p:nvPr/>
        </p:nvSpPr>
        <p:spPr>
          <a:xfrm>
            <a:off x="4356000" y="4005360"/>
            <a:ext cx="0" cy="237636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římá spojovací čára 31"/>
          <p:cNvSpPr/>
          <p:nvPr/>
        </p:nvSpPr>
        <p:spPr>
          <a:xfrm>
            <a:off x="5292720" y="4005360"/>
            <a:ext cx="0" cy="237636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Volný tvar 38"/>
          <p:cNvSpPr/>
          <p:nvPr/>
        </p:nvSpPr>
        <p:spPr>
          <a:xfrm>
            <a:off x="1084320" y="3789360"/>
            <a:ext cx="5935680" cy="2190600"/>
          </a:xfrm>
          <a:custGeom>
            <a:avLst/>
            <a:gdLst/>
            <a:ahLst/>
            <a:rect l="l" t="t" r="r" b="b"/>
            <a:pathLst>
              <a:path w="3614057" h="2191656">
                <a:moveTo>
                  <a:pt x="0" y="2053771"/>
                </a:moveTo>
                <a:cubicBezTo>
                  <a:pt x="264885" y="2122713"/>
                  <a:pt x="529771" y="2191656"/>
                  <a:pt x="885371" y="1850571"/>
                </a:cubicBezTo>
                <a:cubicBezTo>
                  <a:pt x="1240971" y="1509486"/>
                  <a:pt x="1678819" y="0"/>
                  <a:pt x="2133600" y="7257"/>
                </a:cubicBezTo>
                <a:cubicBezTo>
                  <a:pt x="2588381" y="14514"/>
                  <a:pt x="3101219" y="954314"/>
                  <a:pt x="3614057" y="1894114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římá spojovací čára 39"/>
          <p:cNvSpPr/>
          <p:nvPr/>
        </p:nvSpPr>
        <p:spPr>
          <a:xfrm>
            <a:off x="2484360" y="5661000"/>
            <a:ext cx="47516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2"/>
          <p:cNvSpPr/>
          <p:nvPr/>
        </p:nvSpPr>
        <p:spPr>
          <a:xfrm rot="16200000">
            <a:off x="2045880" y="45255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áze zavád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délník 33"/>
          <p:cNvSpPr/>
          <p:nvPr/>
        </p:nvSpPr>
        <p:spPr>
          <a:xfrm rot="16200000">
            <a:off x="3262680" y="43858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áze rů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34"/>
          <p:cNvSpPr/>
          <p:nvPr/>
        </p:nvSpPr>
        <p:spPr>
          <a:xfrm rot="16200000">
            <a:off x="4018680" y="44953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áze zra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35"/>
          <p:cNvSpPr/>
          <p:nvPr/>
        </p:nvSpPr>
        <p:spPr>
          <a:xfrm rot="16200000">
            <a:off x="4995360" y="4527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áze pokle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délník 40"/>
          <p:cNvSpPr/>
          <p:nvPr/>
        </p:nvSpPr>
        <p:spPr>
          <a:xfrm>
            <a:off x="4936320" y="414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tr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délník 41"/>
          <p:cNvSpPr/>
          <p:nvPr/>
        </p:nvSpPr>
        <p:spPr>
          <a:xfrm>
            <a:off x="4863600" y="53006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délník 42"/>
          <p:cNvSpPr/>
          <p:nvPr/>
        </p:nvSpPr>
        <p:spPr>
          <a:xfrm>
            <a:off x="24872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Životní cyklus maloobchod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2316240"/>
          <a:ext cx="8664480" cy="4224240"/>
        </p:xfrm>
        <a:graphic>
          <a:graphicData uri="http://schemas.openxmlformats.org/drawingml/2006/table">
            <a:tbl>
              <a:tblPr/>
              <a:tblGrid>
                <a:gridCol w="2166840"/>
                <a:gridCol w="2165400"/>
                <a:gridCol w="2166840"/>
                <a:gridCol w="2165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ruh maloobcho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dobí prudkého růs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ba od počátku do období zral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tapa životního cyk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íšené prodej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 – 184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chodní d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0 – 194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ralost (pokl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silkový obc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5 – 19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ralost (pokl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mark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5 – 196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ral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upní centr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 – 196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le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ral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chod s osobními počítač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0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ů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ový obc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5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ádění (rů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7" name="Obdélník 4"/>
          <p:cNvSpPr/>
          <p:nvPr/>
        </p:nvSpPr>
        <p:spPr>
          <a:xfrm>
            <a:off x="395280" y="134136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starších forem maloobchodu trvalo mnoho let, než dosáhly zralosti, avšak novější formy maloobchodu dosahují své zralosti mnohem dří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Geografická organizace maloobchodu – maloobchodní síť a její prostorové uspořádá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kladem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vozní jednot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bor obchodně provozních jednotek zaměřených na prodej zboží konečnému spotřebiteli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aloobchodní sí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cionární (stálá, základní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síť pevných stanovišť obchodně provozních jednotek fungující po celý r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mbulantní (sezónní, doplňková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tvořena jednotkami používanými pro nabídku při krátkodobém a místním navýšení poptávky (např. v rekreačních zónách, masových akcích apod.), doplňuje maloobchodní sí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Obrázek 3" descr="APG 4500 č.2.jpg"/>
          <p:cNvPicPr/>
          <p:nvPr/>
        </p:nvPicPr>
        <p:blipFill>
          <a:blip r:embed="rId1"/>
          <a:stretch/>
        </p:blipFill>
        <p:spPr>
          <a:xfrm>
            <a:off x="5364000" y="4140360"/>
            <a:ext cx="3467160" cy="2601720"/>
          </a:xfrm>
          <a:prstGeom prst="rect">
            <a:avLst/>
          </a:prstGeom>
          <a:ln w="0">
            <a:noFill/>
          </a:ln>
        </p:spPr>
      </p:pic>
      <p:sp>
        <p:nvSpPr>
          <p:cNvPr id="131" name="Obdélník 4"/>
          <p:cNvSpPr/>
          <p:nvPr/>
        </p:nvSpPr>
        <p:spPr>
          <a:xfrm>
            <a:off x="468360" y="41450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 hlediska typu osídlení, kde maloobchod půs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Urbanní síť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– v místě velmi koncentrované poptávky, formována jako širokosortimentní nabí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urální síť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– uspokojuje místně málo koncentrovanou poptávku a je spojena s vysokými náklady oběhu zbož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Geografická organizace maloobchodu – maloobchodní síť a její prostorové uspořádá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600200"/>
            <a:ext cx="849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Maloobchodní síť je podmíněna rozmístěním obyvatelstva v sídelní struktuř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Výskyt, kapacita a stupeň využití maloobchodních zařízení rostou s velikostí obce a její funkcí v sídelním systému (s růstem velikosti sídla roste i počet druhů v něm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Nadkoncentrace maloobchodních funkcí 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nad obytnými podmiňuje střediskové chování síd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ro formování prostorového uspořádání maloobchodní sítě platí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Relativní rovnoměrnost utváření a koncentrace maloobchodní sítě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Rovnováha mezi potenciálem koupěschopné poptávky a kapacitami maloobchodní sítě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rostorová koncentrace (zvyšování kapacity maloobchodní sítě v místech soustředěné poptávky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rovozní koncentrace (zvětšení průměrné velikosti jednotek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Sortimentní koncentrace a specializ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Komplexnost maloobchodní vybavenost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Každý stupeň by měl být komplexní – vyšší úroveň vybavenosti by měla uspokojovat poptávku i rozsahu nižšího stupně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Geografická organizace maloobchodu – maloobchodní síť a její prostorové uspořádá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Stupňovitost maloobchodní vybavenost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Hierarchie středisek maloobchodní vybavenost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Vnitřní hierarchická struktura sídel (rurální – 1stupňová, města – až 4 stupně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Stupně maloobchodní vybavenost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48600" indent="-1897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Okrsková (základní) vybavenost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– obsluha obytného okrsku nabídkou zboží denní potřeby a velmi časté poptávky (3–10 tis. obyv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48600" indent="-1897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Obvodová (sekundární) vybavenost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– ve větších městech, hl. tam, kde urbanistická koncepce města vytváří pro větší část města relativně velkou vzdálenost do centra (min. velikost obvodu 10–20 tis. obyv.); supermarket, prodej nepotr. zboží jako širokosortimentní nebo specializované jednotk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48600" indent="-1897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Čtvrťová (sektorová) vybavenost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– vzniká soustřeďováním jednotek ve velkoměstech při velkých vzdálenostech do centra nebo v případě, kdy je již městské centrum nepostačující; velkokapacitní prodejny, specializovaný obchodní dům, hypermarket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40 tis. obyv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48600" indent="-1897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Centrální vybavenost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– centrum uspokojuje v závislosti na velikosti města základní, častou i občasnou poptávku obyvatel, dojíždějících i návštěvníků; obchodní dům, specializované a úzce specializované jednotk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5992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ktuální trendy v maloobchod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aloobchod dlouho pokládán za lokální až regionální prvek = drobné podniká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2. pol. 20. stol. – internacionalizace (Z Evropa) – nová řešení rozložení obchodu – převaha velkoplošných prodej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Čs. – odlišný vývoj (supermarket neby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ývoj po r. 1989 – růst životní úrovně, změna nákupních zvyklostí, změna uspořádání maloobchod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oučasnost – konkurence obchodních firem, boj o zákazníka -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relativní snožování c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centrace obchodu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Koncentrace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= rozšiřování firem a jejich provozních jednotek, kdy narůstá váha těch největších jednotek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roces, který směřuje k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yšší efektivnosti provozních jednote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ětší rentabilitě (zisk na jednotku kapitálu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rozšíření vliv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rojevuje se jak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ncentrace obchodních struktur (fire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ncentrace provozních jednote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centrace obchodu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Koncentrace obchodních struktur (fi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Růst podílu prodejů realizovaných velkými firmam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ncentrace obchodu v 90. letech rostla expanzí jednotlivých firem i jejich </a:t>
            </a:r>
            <a:r>
              <a:rPr b="0" lang="cs-CZ" sz="2700" spc="-1" strike="noStrike" u="sng">
                <a:solidFill>
                  <a:srgbClr val="000000"/>
                </a:solidFill>
                <a:uFillTx/>
                <a:latin typeface="Calibri"/>
              </a:rPr>
              <a:t>fúzemi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(spojení firem) či </a:t>
            </a:r>
            <a:r>
              <a:rPr b="0" lang="cs-CZ" sz="2700" spc="-1" strike="noStrike" u="sng">
                <a:solidFill>
                  <a:srgbClr val="000000"/>
                </a:solidFill>
                <a:uFillTx/>
                <a:latin typeface="Calibri"/>
              </a:rPr>
              <a:t>akvizicemi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(odkup fire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Koncentrace provozních jednotek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Růst průměrné velikosti provozních maloobchodních jednotek (supermarkety -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hypermarkety -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 n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ákupní centr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obchodu,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341000"/>
            <a:ext cx="856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cho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činnost a institu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Obchod jako činnost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nákup a prodej zbož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Obchod jako instituc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subjekty zabývající se převážně obchodem. Subjekty, které nakupují zboží za účelem dalšího prodeje, bez jeho podstatnější úprav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chod se spotřebním zboží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B2C, bussines-to-consumer) – soubor zboží určený pro konečného individuálního spotřebitele (prodej potravin, odívání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chod se zbožím pro další podniká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B2B, business-to-busines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le velikosti a okruhu působ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nitřní obcho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celostátní a regionální tr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hraniční obcho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export a import zboží před hranice stá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le obchodních prostředníků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elkoobchod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podnik nakupující zboží ve velkém a ve velkém jej prodává maloobchodníkům, pohost. zařízením a drobným výrobců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aloobchod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podnik nakupující od velkoobchodu a prodává konečnému spotřeb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centrace obchodu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oncentrace probíhá i na úrovni sdružování maloobchodníků do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kooperací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(svaz, družstvo, dobrovolné řetězce),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franchisingových kooperací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(smluvně pevnější forma kooperace) nebo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aliancí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největších obchodních fir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Aliance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– 2 složk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družení velkých retailingových firem, aby z každé země byla zastoupena pouze 1sdružení velkých mezinárodních firem, které vytvořily centrálu pro zásobování dceřiných společností, pro tvorbu značek, výzkum trhů 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Nástroje ovlivňující koncentraci obchodu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íly v životní úrovni a nákupních zvyklostech: Evropa (V x Z), S Amerika, Austrálie vs. S a J Amerika, As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voj  ale směřuje ke stejnému standardu, ale s rozdílnou rychlostí změ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Vyspělé ze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soká organizační a provozní koncentrac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minantní nákupní centra a velké prodejní jednotk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peň nasycenosti vede k modernizaci a rozšiřování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osledních letech – zvyšování podílu diskontů na úkor hypermarketů a obch. dom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éně rozvinuté ze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ní role mezinárodních fi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átké období supermarketů, rozvoj hypermarketů a jiných velkoplošných prodej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Nástroje ovlivňující koncentraci obchodu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harakteristickým rysem koncentrace je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rozvoj diskon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mezený počet druhů zbož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razné snížení nákladů na obchodní zařízení, vybavení prodejen a počet zaměstnanc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trálně organizované nákupy levnějšího zboží (vlastní značk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rivátní značk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myslem je udržet věrnost zákazníků a dosáhnout tím dobrých konkurenčních pozic výběrem dodavatelů, kteří zajistí výhodné cenové podmínk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zvoj u diskontních cen i u kvalitních přesto cenově výhodných druhů zbož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Zástupný symbol pro obsah 3" descr="billa.jpg"/>
          <p:cNvPicPr/>
          <p:nvPr/>
        </p:nvPicPr>
        <p:blipFill>
          <a:blip r:embed="rId1"/>
          <a:srcRect l="14923" t="5147" r="15314" b="9916"/>
          <a:stretch/>
        </p:blipFill>
        <p:spPr>
          <a:xfrm>
            <a:off x="324000" y="2001960"/>
            <a:ext cx="1800000" cy="282888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4" descr="euroshopper.jpg"/>
          <p:cNvPicPr/>
          <p:nvPr/>
        </p:nvPicPr>
        <p:blipFill>
          <a:blip r:embed="rId2"/>
          <a:stretch/>
        </p:blipFill>
        <p:spPr>
          <a:xfrm>
            <a:off x="4643280" y="2001960"/>
            <a:ext cx="1818000" cy="2879640"/>
          </a:xfrm>
          <a:prstGeom prst="rect">
            <a:avLst/>
          </a:prstGeom>
          <a:ln w="0">
            <a:noFill/>
          </a:ln>
        </p:spPr>
      </p:pic>
      <p:pic>
        <p:nvPicPr>
          <p:cNvPr id="151" name="Obrázek 5" descr="spar.jpg"/>
          <p:cNvPicPr/>
          <p:nvPr/>
        </p:nvPicPr>
        <p:blipFill>
          <a:blip r:embed="rId3"/>
          <a:stretch/>
        </p:blipFill>
        <p:spPr>
          <a:xfrm>
            <a:off x="7020000" y="2001960"/>
            <a:ext cx="1724040" cy="2857320"/>
          </a:xfrm>
          <a:prstGeom prst="rect">
            <a:avLst/>
          </a:prstGeom>
          <a:ln w="0">
            <a:noFill/>
          </a:ln>
        </p:spPr>
      </p:pic>
      <p:pic>
        <p:nvPicPr>
          <p:cNvPr id="152" name="Obrázek 6" descr="tesco.jpg"/>
          <p:cNvPicPr/>
          <p:nvPr/>
        </p:nvPicPr>
        <p:blipFill>
          <a:blip r:embed="rId4"/>
          <a:srcRect l="24048" t="0" r="23868" b="0"/>
          <a:stretch/>
        </p:blipFill>
        <p:spPr>
          <a:xfrm>
            <a:off x="2484360" y="1857240"/>
            <a:ext cx="1612800" cy="309744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7"/>
          <p:cNvSpPr/>
          <p:nvPr/>
        </p:nvSpPr>
        <p:spPr>
          <a:xfrm>
            <a:off x="250920" y="509760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rob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Mlékárna Hli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8"/>
          <p:cNvSpPr/>
          <p:nvPr/>
        </p:nvSpPr>
        <p:spPr>
          <a:xfrm>
            <a:off x="2771640" y="509760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rob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Mlékárna Pragolak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9"/>
          <p:cNvSpPr/>
          <p:nvPr/>
        </p:nvSpPr>
        <p:spPr>
          <a:xfrm>
            <a:off x="4572000" y="50976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rob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Ahold Czech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0"/>
          <p:cNvSpPr/>
          <p:nvPr/>
        </p:nvSpPr>
        <p:spPr>
          <a:xfrm>
            <a:off x="6948360" y="51703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rob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Mlékárna Hli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rázek 11" descr="albert.jpg"/>
          <p:cNvPicPr/>
          <p:nvPr/>
        </p:nvPicPr>
        <p:blipFill>
          <a:blip r:embed="rId5"/>
          <a:stretch/>
        </p:blipFill>
        <p:spPr>
          <a:xfrm>
            <a:off x="5003640" y="415800"/>
            <a:ext cx="181008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Obrázek 12" descr="clever-panak.gif"/>
          <p:cNvPicPr/>
          <p:nvPr/>
        </p:nvPicPr>
        <p:blipFill>
          <a:blip r:embed="rId6"/>
          <a:stretch/>
        </p:blipFill>
        <p:spPr>
          <a:xfrm>
            <a:off x="468360" y="20016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3" descr="Spar_10.jpg"/>
          <p:cNvPicPr/>
          <p:nvPr/>
        </p:nvPicPr>
        <p:blipFill>
          <a:blip r:embed="rId7"/>
          <a:stretch/>
        </p:blipFill>
        <p:spPr>
          <a:xfrm>
            <a:off x="7308720" y="920880"/>
            <a:ext cx="1409760" cy="237960"/>
          </a:xfrm>
          <a:prstGeom prst="rect">
            <a:avLst/>
          </a:prstGeom>
          <a:ln w="0">
            <a:noFill/>
          </a:ln>
        </p:spPr>
      </p:pic>
      <p:pic>
        <p:nvPicPr>
          <p:cNvPr id="160" name="Obrázek 14" descr="tesco.gif"/>
          <p:cNvPicPr/>
          <p:nvPr/>
        </p:nvPicPr>
        <p:blipFill>
          <a:blip r:embed="rId8"/>
          <a:stretch/>
        </p:blipFill>
        <p:spPr>
          <a:xfrm>
            <a:off x="2484360" y="631800"/>
            <a:ext cx="1905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centrace obchodu a její prostorové aspek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2. sv. v. – zajištění dostatku nákupních možností pro obyvatele zem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60. léta – usměrňování intenzivního rozvoje obchodu (pomocí územních plánů měst a region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tavba nákupních center na okrajích měst doplňována výstavbou nových nákupních center, pasáží a obchodních ulic v centrech velkých mě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mezení výstavby dáno vysokou koncentra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vitalizace starých průmyslových areálů (Vaňkovk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gulační role vlád – zákonem stanoveny otevírací doby (neděle, svátky zavřen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Obrázek 3" descr="omega.jpg"/>
          <p:cNvPicPr/>
          <p:nvPr/>
        </p:nvPicPr>
        <p:blipFill>
          <a:blip r:embed="rId1"/>
          <a:stretch/>
        </p:blipFill>
        <p:spPr>
          <a:xfrm>
            <a:off x="179280" y="4365720"/>
            <a:ext cx="2880000" cy="192564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4" descr="vankovka2.jpg"/>
          <p:cNvPicPr/>
          <p:nvPr/>
        </p:nvPicPr>
        <p:blipFill>
          <a:blip r:embed="rId2"/>
          <a:stretch/>
        </p:blipFill>
        <p:spPr>
          <a:xfrm>
            <a:off x="5499000" y="4508640"/>
            <a:ext cx="3645000" cy="2089080"/>
          </a:xfrm>
          <a:prstGeom prst="rect">
            <a:avLst/>
          </a:prstGeom>
          <a:ln w="0">
            <a:noFill/>
          </a:ln>
        </p:spPr>
      </p:pic>
      <p:pic>
        <p:nvPicPr>
          <p:cNvPr id="165" name="Obrázek 5" descr="historie4_X.jpg"/>
          <p:cNvPicPr/>
          <p:nvPr/>
        </p:nvPicPr>
        <p:blipFill>
          <a:blip r:embed="rId3"/>
          <a:stretch/>
        </p:blipFill>
        <p:spPr>
          <a:xfrm>
            <a:off x="3214800" y="4508640"/>
            <a:ext cx="29415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nacionalizace obchod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= geografická rozpínavost retalingových společností, od 70. l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omácí trhy jsou malé, aby mohly firmy ekonomicky rů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ledání jiných teritorií, díky omezené absorpci domácích trh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Existence protimonopolních zákonů v řadě zem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90. léta – mezikontinentální přesuny retailingových aktiv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ternacionalizace je důsledkem nejen obchodní snahy firem, ale i příznivého klimatu globalizace spotřebních a kulturně-společenských podmínek a požadavků obyvat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nacionalizace obchodu – strategie fir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Multinacionální strategie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– rozšiřování aktivit do cizích zemí s důsledným přizpůsobením sortimentu, služeb i chování na trhu místním podmínkám (vysoké náklady, limitující firmu v cenově agresivnějším prosazování se na trh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Globální strategie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– uplatňování vlastní koncepce na trzích, ignorují národní a místní rozdíly (nízké náklady), ekonomicky nejvhodnější 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Transnacionální strategie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– jednotná strategie s respektováním zásadních zvláštností národních trhů a lokálních podmín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grace v obchod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 u="sng">
                <a:solidFill>
                  <a:srgbClr val="000000"/>
                </a:solidFill>
                <a:uFillTx/>
                <a:latin typeface="Calibri"/>
              </a:rPr>
              <a:t>Sdružování obchodních firem za účelem získání konkurenčních výhod </a:t>
            </a: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(nižší ceny při velkých odběrech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alibri"/>
              </a:rPr>
              <a:t>Vysoce integrované obchodní firmy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společnosti s velkým počtem jednotek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 vlastník, 1 řízení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Vznik postupně z malých firem rozšiřováním vlastní činnosti, fúzemi, akvizicem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Často vlastní velkoobchodní sklady, autodoprava, výrobní závody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Znaky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Centrální řízení, vysoké využití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Nákup a skladování centrálně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Společný marketing, reklama a řízení c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Vlastní značkové zboží (privátní značky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grace v obchod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Obchodní koopera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Snaha soukromých vlastníků nebo menších společností sdružit se, aby získali stejné výhody jako integrované podnik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Racionalizace nákupu (za nízké ceny) a prodej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 u="sng">
                <a:solidFill>
                  <a:srgbClr val="000000"/>
                </a:solidFill>
                <a:uFillTx/>
                <a:latin typeface="Calibri"/>
              </a:rPr>
              <a:t>Vertikální kooperace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– koncentrace na principu dodavatel – odběrat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900" spc="-1" strike="noStrike">
                <a:solidFill>
                  <a:srgbClr val="000000"/>
                </a:solidFill>
                <a:latin typeface="Calibri"/>
              </a:rPr>
              <a:t>Nákupní družstva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– centrála musí usilovat o kvalitní zásobování a zajištění výhodných c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900" spc="-1" strike="noStrike">
                <a:solidFill>
                  <a:srgbClr val="000000"/>
                </a:solidFill>
                <a:latin typeface="Calibri"/>
              </a:rPr>
              <a:t>Dobrovolné řetězce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– prodejny fungují nezávisle na řetězci ve vlastnictví jednotlivých majitelů, nevýhodou je fluktuace členů (SPA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900" spc="-1" strike="noStrike">
                <a:solidFill>
                  <a:srgbClr val="000000"/>
                </a:solidFill>
                <a:latin typeface="Calibri"/>
              </a:rPr>
              <a:t>Franchizingový řetězec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– franchisor (dodavatel systému) na základě dlouhodobého smluvního spojení poskytuje samostatnému kooperačnímu partnerovi za úhradu právo nabízet zboží a služby za použití názvu firmy, značky zboží, charakteristického vybavení prodejny…, v současné době preferováno jako hlavní prostředek existence malých a středních obchodních fir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grace v obchod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Obchodní koopera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900" spc="-1" strike="noStrike">
                <a:solidFill>
                  <a:srgbClr val="000000"/>
                </a:solidFill>
                <a:latin typeface="Calibri"/>
              </a:rPr>
              <a:t>Nákupní centrály (Euro-kooperace)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 – spojení velkých firem z různých zemí s cílem získat výhodné zdroje nákupu, marketingové informace o možnostech vstupu na cizí trhy apo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Nakupují od velkých výrobců, pracují bez vlastních skladů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Zboží přenechávají členům za nákupní ceny, protože úhradu režijních nákladů řeší pomocí poplatků od výrobců za zajištěné a včasné úhrady cen zbož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Dělení na 3 základní typy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Euro-kooperace a jejich seskupení podle firemní orientace matk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Euro-kooperace a jejich seskupení podle již existujících několika velkých multinacionálních retailingových firem a přibírajících další firmy, většinou regionálního význam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Euro-kooperace ve starém pojetí velkonáku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Skupina 13"/>
          <p:cNvGrpSpPr/>
          <p:nvPr/>
        </p:nvGrpSpPr>
        <p:grpSpPr>
          <a:xfrm>
            <a:off x="900000" y="3573360"/>
            <a:ext cx="1224000" cy="1368360"/>
            <a:chOff x="900000" y="3573360"/>
            <a:chExt cx="1224000" cy="1368360"/>
          </a:xfrm>
        </p:grpSpPr>
        <p:sp>
          <p:nvSpPr>
            <p:cNvPr id="177" name="Elipsa 3"/>
            <p:cNvSpPr/>
            <p:nvPr/>
          </p:nvSpPr>
          <p:spPr>
            <a:xfrm>
              <a:off x="900000" y="4581360"/>
              <a:ext cx="3603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Elipsa 4"/>
            <p:cNvSpPr/>
            <p:nvPr/>
          </p:nvSpPr>
          <p:spPr>
            <a:xfrm>
              <a:off x="1331640" y="4581360"/>
              <a:ext cx="3603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Elipsa 5"/>
            <p:cNvSpPr/>
            <p:nvPr/>
          </p:nvSpPr>
          <p:spPr>
            <a:xfrm>
              <a:off x="1763640" y="4581360"/>
              <a:ext cx="3603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Elipsa 6"/>
            <p:cNvSpPr/>
            <p:nvPr/>
          </p:nvSpPr>
          <p:spPr>
            <a:xfrm>
              <a:off x="971280" y="3573360"/>
              <a:ext cx="3603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Přímá spojovací čára 8"/>
            <p:cNvSpPr/>
            <p:nvPr/>
          </p:nvSpPr>
          <p:spPr>
            <a:xfrm flipH="1">
              <a:off x="1079280" y="3933720"/>
              <a:ext cx="72720" cy="647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Přímá spojovací čára 9"/>
            <p:cNvSpPr/>
            <p:nvPr/>
          </p:nvSpPr>
          <p:spPr>
            <a:xfrm>
              <a:off x="1187280" y="3860640"/>
              <a:ext cx="325440" cy="72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římá spojovací čára 11"/>
            <p:cNvSpPr/>
            <p:nvPr/>
          </p:nvSpPr>
          <p:spPr>
            <a:xfrm>
              <a:off x="1187280" y="3860640"/>
              <a:ext cx="757440" cy="72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elko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U spotřebního zboží se rozlišují následující druhy velkoobchodních činností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alibri"/>
              </a:rPr>
              <a:t>Dodávkový </a:t>
            </a: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– nejobvyklejší, udržují se zásoby ve skladě a zboží se rozváží na základě objednávk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alibri"/>
              </a:rPr>
              <a:t>Agenturní-traťový </a:t>
            </a: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– nezajišťuje fyzický pohyb zboží před sklad, ale organizuje dodávky z výroby či od jiným velkých dodavatel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alibri"/>
              </a:rPr>
              <a:t>Samoobslužný</a:t>
            </a: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 – systém Cash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&amp; Carr</a:t>
            </a: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y (C+C) – menší odběry autem zákazníka (Makro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alibri"/>
              </a:rPr>
              <a:t>Regálový </a:t>
            </a: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– maloobchodník prodává ve vymezené části prodejny (v regálech) sortiment, o který se stará velkoobchodní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alibri"/>
              </a:rPr>
              <a:t>Prodejní sklady </a:t>
            </a: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– prodej pro živnostníky, maloobchodníky, velké firmy i konečného spotřebitele (např. sklady stavebních materiálů, řeziva…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grace v obchod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Horizontální kooperace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spolupráce obchodních firem ve stejné úrovni logistického pohybu zboží v určité lokalitě s cílem zvýšit přitažlivost obchodního mí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měřeno na reklamu dané lok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jvyšší formou horizontální kooperace je obchodní d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jtypičtější formou horizontální kooperace jsou nákupní cent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vé technologie v obchod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vádění informačních systém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řízení maloobchodního prodeje umožnilo s využitím  technologi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árových kódů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voj velkoplošných prodej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lším krokem byl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ntegrace prodejen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střednictvím informačních systémů pro centrální řízení prode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ledkem j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výšení efektivnosti maloobchodního prode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vé technologie v obchod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Elektronický obchod B2B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= business-to-busines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Elektronické přenosy dat mezi jednotlivými články dodavatelského řetězce (objednávky, faktury…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Obchodní firmy s B2B zdokonalují metody založené na principu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Calibri"/>
              </a:rPr>
              <a:t>just-in-tim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B2C = business-to-consum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Elektronické obchodován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4 úrovně zralosti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Calibri"/>
              </a:rPr>
              <a:t>Broadcast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– zpřístupnění informací pro spotřebitele elektronickými inf. Kanály (internet…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Calibri"/>
              </a:rPr>
              <a:t>Interact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 – možnost interaktivní komunikace se zákazník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Calibri"/>
              </a:rPr>
              <a:t>Transact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 – možnost realizace obchodních transakc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Calibri"/>
              </a:rPr>
              <a:t>Integrace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 – zapojení obchodníka do virtuální obchodní sítě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Elektronická logistika, RF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Zajištění distribuce zboží prostřednictvím některého z elektronických komunikačních prostředků, např. internet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Levné, okamžit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Nabízí nové služby – sledování balíčku on-line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Pro logistiku důležitá technologie ECP (Electronic Product Code) a technologie RFID (Radio Frecvency Identification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ECP – digitální číslo na balení označující výrobce, výrobek, verzi a sé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Identifikační systém se skládá z rádiových čipů RFID ze čteček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EPD posílá informace ze čteček do softwaru do zbožního hospodářství a logistik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RFID umožňuje vyhledat každou položku zbož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Umožňuje existenci pokladen bez pokladníc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irtuální prodej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alistická 3D ani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užití pro výzkum chování nakupujících, místa prodeje a testované prodej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Elektronické plat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é bankovni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e ba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net ba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GMS ba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Zástupný symbol pro obsah 5" descr="292093-original1-2yxst.jpg"/>
          <p:cNvPicPr/>
          <p:nvPr/>
        </p:nvPicPr>
        <p:blipFill>
          <a:blip r:embed="rId1"/>
          <a:stretch/>
        </p:blipFill>
        <p:spPr>
          <a:xfrm>
            <a:off x="5003640" y="692280"/>
            <a:ext cx="3745080" cy="2663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rcRect l="9741" t="0" r="38876" b="4027"/>
          <a:stretch/>
        </p:blipFill>
        <p:spPr>
          <a:xfrm>
            <a:off x="324000" y="333360"/>
            <a:ext cx="4143240" cy="6191280"/>
          </a:xfrm>
          <a:prstGeom prst="rect">
            <a:avLst/>
          </a:prstGeom>
          <a:ln w="0">
            <a:noFill/>
          </a:ln>
        </p:spPr>
      </p:pic>
      <p:sp>
        <p:nvSpPr>
          <p:cNvPr id="195" name="Obdélník 4"/>
          <p:cNvSpPr/>
          <p:nvPr/>
        </p:nvSpPr>
        <p:spPr>
          <a:xfrm>
            <a:off x="1836360" y="736560"/>
            <a:ext cx="1308600" cy="3373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. 10.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ázek 6" descr="202237-free1-epd73.jpg"/>
          <p:cNvPicPr/>
          <p:nvPr/>
        </p:nvPicPr>
        <p:blipFill>
          <a:blip r:embed="rId3"/>
          <a:stretch/>
        </p:blipFill>
        <p:spPr>
          <a:xfrm>
            <a:off x="5580000" y="3716280"/>
            <a:ext cx="2676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vé pojmy v obchodě Č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ut-of-centre, out-of-town, edge-of-centr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obchody na okrajích měst, vystavěné na zelené lo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ákupní uli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USA 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wer centre/retail park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malá specializovaná střediska se širokým sortimentem, diskontním zaměřením a snadnou dostupností u dáln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Evropě 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actory outlet centr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diskontně zaměřené prodejny jednotlivých výrobních podni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all junkies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osoby, které jsou téměř neustále a pravidelně přítomny v obchodním centru, tj. vyskytují se zde každý den a někdy i v dopoledních hodin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asifikace nákupního ch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onvenience shopping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menší obchody supermarketového typu, avšak s menší plochou, výhodou je dobrá poloha, dobrá dostupnost a dlouhá otevírací do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un shopping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návštěva nákupních center jako cíl rodinného výle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sonal/fashion shopping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prohlížení výkladů a porovnávání sortimentu (nákupní pasáže, centra mě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isure shopping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rekreační nakupování (atraktivní nákupní centra, factory outl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cidental shopping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charakteristické pro dojíždějící a často cestující osoby, drobné nákupy na dopravních terminál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ologie českých nakupující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Ekonom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- mobilní, náročný, ale cenově citlivý zákazník, nízká konzervativnost, nakupuje méně často a ve větším objemu (rodina s dětmi), preference kvalitních prodejen s širokou nabídko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obilní pragmatik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mobilní, cenově citlivý, ale nenáročný – nakupuje ve velkém za rozumné ceny, díky mobilitě nakupuje racionálně ale ve velkém objem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Náročný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mobilní, ale ne cenově orientovaný, klidně jsou do vzdálenější prodejny, když se jedná o kvalitnější, často kupuje neplánované výrobky, důraz na placení kartou a mimořádná nedůvěra ke zlevněnému a akčnímu zboží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korysý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– nízká cenová citlivost, nízká náročnost, vysoká impulzivita, nevěří slevám a má druhou nejvyšší mobilitu p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Komunikativní hospodyně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nemobilní, cenově citlivý, náročný, důraz na věrnostní systém, dostupnost prodejen veřejnou dopravou, důraz na personál, málo impulzivní, vysoce konzervativ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etřivý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– nemobilní, cenově necitlivý, náročný, využívání slevových akcí – pak koupí i větší objem zboží, nejnižší impulzivi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hodlný oportunista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nemobilní, cenově necitlivý, náročný, nevěří reklam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Nenáročný konzervativec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nemobilní, cenově necitlivý, nenáročný, upřednostňuje menší prodejny, necestuje za nákupy a nakupuje v menších objemech, nakupuje co nejkratší dobu, reklamu a nesleduje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alo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říve spojován spíše s drobným podnikáním, geografický rozměr lokální až regionální. Po 2. sv. v. – nové trendy, uplatňování progresivních prodejních jednotek, výrazná koncentr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lad změ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ůst příjmů obyvat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ces nákupu a prodeje je stále více určován odběrate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elikost obchodních firem a komplexní řešení pohybu zboží –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etailing =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zinárodně chápaný maloobchod plně vybavený logistickým zázemím a vysoce kvalifikovaným informačním systémem s profesionálním managemen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Dělení maloobchod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loobchod realizovaný v síti prodejen (store reta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loobchod realizovaný mimo prodejní síť (non store reta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alo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oobchod realizovaný v síti prodej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travinářský maloobc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potravinářsk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oobchod realizovaný mimo prodejní sí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dej v automat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mý prod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mý mark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 – Evro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členění se používá kombinace kritéri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rtimentní specializ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ikost prodej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vozní charak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lavní typ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zce specializované prodej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míšené prodej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nosortimentní obchodní do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ecializované obchodní do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uperety (potravinářská samoobsluh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upermark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ypermark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ecializované (odborné) velkoprodej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iskontní prodej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57360"/>
            <a:ext cx="497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Specializované a úzce specializované prodejn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Rozdíl v šíři a hloubce sortiment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Specializované prodejny – sortiment úzký a hlubok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Úzce specializované prodejny – sortiment výrazně úzký a velmi hluboký, spojen se škálou potřebných služeb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Cenové relace ve srovnání s ostatními prodejnami vyšš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soké nároky na odbornost personál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Lokalizace zejména v centrech měst, nákupních centre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Orientace převážně na nepotravinářské zbož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prodejna_obuvi"/>
          <p:cNvPicPr/>
          <p:nvPr/>
        </p:nvPicPr>
        <p:blipFill>
          <a:blip r:embed="rId1"/>
          <a:stretch/>
        </p:blipFill>
        <p:spPr>
          <a:xfrm>
            <a:off x="5532480" y="1484280"/>
            <a:ext cx="3360600" cy="25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488a3aaf6b9e1b1655b50100"/>
          <p:cNvPicPr/>
          <p:nvPr/>
        </p:nvPicPr>
        <p:blipFill>
          <a:blip r:embed="rId2"/>
          <a:stretch/>
        </p:blipFill>
        <p:spPr>
          <a:xfrm>
            <a:off x="5508720" y="4137120"/>
            <a:ext cx="338436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typy maloobchodních jedno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Smíšené prodejn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otraviny i nepotraviny, sortiment široký, ale mělký – zboží pro běžné potřeb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alá frekvence poptávky, ale nutnost blízkosti prodeje k zákazníkovi -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 vysoké náklady i cen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Umístění na venkově a v okrajových částech mě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v-smisene_zbozi"/>
          <p:cNvPicPr/>
          <p:nvPr/>
        </p:nvPicPr>
        <p:blipFill>
          <a:blip r:embed="rId1"/>
          <a:stretch/>
        </p:blipFill>
        <p:spPr>
          <a:xfrm>
            <a:off x="4643280" y="3645000"/>
            <a:ext cx="440712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608"/>
          <p:cNvPicPr/>
          <p:nvPr/>
        </p:nvPicPr>
        <p:blipFill>
          <a:blip r:embed="rId2"/>
          <a:stretch/>
        </p:blipFill>
        <p:spPr>
          <a:xfrm>
            <a:off x="108000" y="3645000"/>
            <a:ext cx="43783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5:17:11Z</dcterms:created>
  <dc:creator>klokan</dc:creator>
  <dc:description/>
  <dc:language>en-US</dc:language>
  <cp:lastModifiedBy>Svobodova</cp:lastModifiedBy>
  <dcterms:modified xsi:type="dcterms:W3CDTF">2013-10-21T07:20:58Z</dcterms:modified>
  <cp:revision>91</cp:revision>
  <dc:subject/>
  <dc:title>Geografie dopravy – úvod a základní pojmy.</dc:title>
</cp:coreProperties>
</file>