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BE1E-DBD9-4179-9720-80CDEED066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C11A-3510-4904-BED6-AD586373BE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4811-C9ED-4AC6-9E53-DEA3113BE6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EB43-4468-48F0-9D70-C52ED8A24E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5F06-93E8-4105-8736-D5825911E7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843C-1D3D-4475-A2E5-1881946DC4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DC21-DD7B-4DFC-AAC3-84F9977687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A491-7B86-469A-AC28-7C0B19621B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76A8-3419-4F7B-B774-BAF73F2441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1527-6B4C-4E02-9213-9BE65C79B4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279-42E2-4770-A4DB-1F0040E8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B57-9DCB-42F8-B8C4-D713ECA5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463-40FB-4923-AC3F-957EE2C2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89E-5C9E-487F-86D0-EE7C608F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9511-4B4E-4349-871E-A84687D1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0E6C-28C2-4ED4-994C-E307A2AD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0724-D4AA-4787-8032-4BDA0C52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92AA-90CC-4DE5-B3DA-5FD3ACE7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BB3E-0BA4-4D05-A483-7A9E3C89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3E22-0F8B-4E85-BB5E-B791D7B2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06A9-7A4C-4781-8861-52E62063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D37-447B-45EB-AA8C-14231DB7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6A18-7CA0-4470-83F4-33853DAC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00D5-26B4-44DE-8733-1CE59FD6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D11D-D729-4606-B4CE-01792116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AB0A-FE1A-49AC-AF46-48BCB6AB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5504-B040-4147-9F94-58740786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50DD8-ED17-4FF7-B3F4-A042A9EB9C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397BC-3F56-4482-A75A-E512C34F3D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17085-B2EE-4E9A-A87C-6350650C52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BBD7B-0E57-4CAD-89E9-E31072A45F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3FE86-10B5-4CE9-8BF1-D5F2EC7C05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156-9A6C-4289-BACB-CD4BD6C0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19FF4-B6C6-4415-AC75-C649C87592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5B34B-41C2-43F3-B53A-404D256709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3EA29-4A88-4264-A7D5-56A808A85D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93734-ADF8-4DC2-B859-555FA714BA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8D665-D15C-4FAE-82D0-A98D97A44C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05999-1E1E-4A34-A7C1-2AF2BF4D02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19237-424C-478F-B4A5-EA070D66C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842-4476-43C6-B508-B2411379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AEA-44EE-45B5-BAC1-BF61486C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F7D-4348-42C1-B6EA-E73B3EC8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609-A3C4-4D58-97AA-304FB5F4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7F1-2B4E-4DB6-8508-9A7D419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30F-3407-4274-ABA1-421B3183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BEFF-51F7-4667-9333-921F4419FA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34EF-2177-4533-B97C-14B652E741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PedF, katedra geograf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E1DA-DAD1-4139-95F9-CA543E8240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2735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e služeb –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eřejný sektor 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(školství, zdravotnictví, veřejná správa…) 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s. komerční sektor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580000" y="5661000"/>
            <a:ext cx="33768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98989"/>
                </a:solidFill>
                <a:latin typeface="Calibri"/>
              </a:rPr>
              <a:t>Geografie nevýrobní sfé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98989"/>
                </a:solidFill>
                <a:latin typeface="Calibri"/>
              </a:rPr>
              <a:t>Přednáška č. 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98989"/>
                </a:solidFill>
                <a:latin typeface="Calibri"/>
              </a:rPr>
              <a:t>© H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57610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angal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ižní Ind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International Tech park – rozdělený do 6 částí (Discoverer, Creator, Innovator, Explorer, Inventor, Navigator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obočky: IBM, Sanyo, Delphi, GM, GE, Sharp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hongguanc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eking, Čín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80. léta – založení Chinese Academy of Scienc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Rozděleno na 7 parků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Sídlo Lenovo (IBM), Microsoft, Sun, Siemens, NE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usk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Silicon Forest poblíž Novosibirsku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Rostoucí význam, chce konkurovat Indii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obočky IBM, Inte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94E7-780D-4809-A322-E75787B8A7BE}" type="slidenum">
              <a:rPr b="0" lang="cs-CZ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ázek 4" descr="800px-Panorama_eve.jpg"/>
          <p:cNvPicPr/>
          <p:nvPr/>
        </p:nvPicPr>
        <p:blipFill>
          <a:blip r:embed="rId1"/>
          <a:stretch/>
        </p:blipFill>
        <p:spPr>
          <a:xfrm>
            <a:off x="5940360" y="1125360"/>
            <a:ext cx="3203640" cy="150516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5" descr="techpark.jpg"/>
          <p:cNvPicPr/>
          <p:nvPr/>
        </p:nvPicPr>
        <p:blipFill>
          <a:blip r:embed="rId2"/>
          <a:stretch/>
        </p:blipFill>
        <p:spPr>
          <a:xfrm>
            <a:off x="6012000" y="3141720"/>
            <a:ext cx="3132000" cy="969840"/>
          </a:xfrm>
          <a:prstGeom prst="rect">
            <a:avLst/>
          </a:prstGeom>
          <a:ln w="0">
            <a:noFill/>
          </a:ln>
        </p:spPr>
      </p:pic>
      <p:pic>
        <p:nvPicPr>
          <p:cNvPr id="151" name="Obrázek 6" descr="800px-Akademgorodok_Airphoto.jpg"/>
          <p:cNvPicPr/>
          <p:nvPr/>
        </p:nvPicPr>
        <p:blipFill>
          <a:blip r:embed="rId3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381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edmond (U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Stát Washingt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Sídla: Microsoft, Nintend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eading (U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obočky: Microsoft, Oracl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la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Sídlo: Télefonic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obočka: NOKIA, IBM, FUJITSU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umamoto (Ja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Sídla: NEC, FUJISU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A261-1D41-414B-A381-4D0C8EA32245}" type="slidenum">
              <a:rPr b="0" lang="cs-CZ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Obrázek 4" descr="800px-Microsoft_sign_closeup.jpg"/>
          <p:cNvPicPr/>
          <p:nvPr/>
        </p:nvPicPr>
        <p:blipFill>
          <a:blip r:embed="rId1"/>
          <a:stretch/>
        </p:blipFill>
        <p:spPr>
          <a:xfrm>
            <a:off x="3995640" y="0"/>
            <a:ext cx="2800440" cy="21002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Oracle_at_Thames_Valley_Park.jpg"/>
          <p:cNvPicPr/>
          <p:nvPr/>
        </p:nvPicPr>
        <p:blipFill>
          <a:blip r:embed="rId2"/>
          <a:stretch/>
        </p:blipFill>
        <p:spPr>
          <a:xfrm>
            <a:off x="5796000" y="1484280"/>
            <a:ext cx="2727360" cy="2044800"/>
          </a:xfrm>
          <a:prstGeom prst="rect">
            <a:avLst/>
          </a:prstGeom>
          <a:ln w="0">
            <a:noFill/>
          </a:ln>
        </p:spPr>
      </p:pic>
      <p:pic>
        <p:nvPicPr>
          <p:cNvPr id="156" name="Obrázek 6" descr="797px-PTA7.jpg"/>
          <p:cNvPicPr/>
          <p:nvPr/>
        </p:nvPicPr>
        <p:blipFill>
          <a:blip r:embed="rId3"/>
          <a:stretch/>
        </p:blipFill>
        <p:spPr>
          <a:xfrm>
            <a:off x="4356000" y="3284640"/>
            <a:ext cx="2538360" cy="1911240"/>
          </a:xfrm>
          <a:prstGeom prst="rect">
            <a:avLst/>
          </a:prstGeom>
          <a:ln w="0">
            <a:noFill/>
          </a:ln>
        </p:spPr>
      </p:pic>
      <p:pic>
        <p:nvPicPr>
          <p:cNvPr id="157" name="Obrázek 7" descr="techno.jpg"/>
          <p:cNvPicPr/>
          <p:nvPr/>
        </p:nvPicPr>
        <p:blipFill>
          <a:blip r:embed="rId4"/>
          <a:stretch/>
        </p:blipFill>
        <p:spPr>
          <a:xfrm>
            <a:off x="6210360" y="4925880"/>
            <a:ext cx="29336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50920" y="476280"/>
          <a:ext cx="8640720" cy="5608440"/>
        </p:xfrm>
        <a:graphic>
          <a:graphicData uri="http://schemas.openxmlformats.org/drawingml/2006/table">
            <a:tbl>
              <a:tblPr/>
              <a:tblGrid>
                <a:gridCol w="4854600"/>
                <a:gridCol w="1414440"/>
                <a:gridCol w="237168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ŽBY (bil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LKOVÉ POŘA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wlet Pack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1,6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national Business 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1,4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,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ro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,2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jit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,7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,9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ic Data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,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,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n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,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,2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ustek Comp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,2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nta Comp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5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er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339"/>
          <p:cNvSpPr/>
          <p:nvPr/>
        </p:nvSpPr>
        <p:spPr>
          <a:xfrm>
            <a:off x="5508720" y="630864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droj:money.cn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333000"/>
            <a:ext cx="56638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HEWLET PACK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znik 1939, Bill Hewlet a David Packar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2002 koupě f. Compaq (tím se stal leaderem v I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ídlo: Silicon Valle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Tržby: 91,6 bil. USD, 156 tisíc zaměstnanců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roba hardwaru (tiskárny, pc, notebooky), servery, zálohování da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BM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(International business machin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znik 188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2004 koupě Lenovo (jen hardwar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ídlo: Armonk, New Yor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Tržby: 91,4 bil. USD, 356 tisíc zaměstnanců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avedl první PC v 80. letech, software od Microsoft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D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znik 1984, Michael De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ídlo: Rock Round, Tex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Tržby: 55,9 bil. USD, 90 tisíc zaměstnanců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roba PC, síťové komponenty, PDA, softwa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ell jako první nabízel Pc s Linux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Obrázek 3" descr="12-hewlett-packard.jpg"/>
          <p:cNvPicPr/>
          <p:nvPr/>
        </p:nvPicPr>
        <p:blipFill>
          <a:blip r:embed="rId1"/>
          <a:stretch/>
        </p:blipFill>
        <p:spPr>
          <a:xfrm>
            <a:off x="6197760" y="404640"/>
            <a:ext cx="2946240" cy="171792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4" descr="ibm.jpg"/>
          <p:cNvPicPr/>
          <p:nvPr/>
        </p:nvPicPr>
        <p:blipFill>
          <a:blip r:embed="rId2"/>
          <a:stretch/>
        </p:blipFill>
        <p:spPr>
          <a:xfrm>
            <a:off x="6372360" y="2349360"/>
            <a:ext cx="2506680" cy="1665360"/>
          </a:xfrm>
          <a:prstGeom prst="rect">
            <a:avLst/>
          </a:prstGeom>
          <a:ln w="0">
            <a:noFill/>
          </a:ln>
        </p:spPr>
      </p:pic>
      <p:pic>
        <p:nvPicPr>
          <p:cNvPr id="163" name="Obrázek 5" descr="dell.jpg"/>
          <p:cNvPicPr/>
          <p:nvPr/>
        </p:nvPicPr>
        <p:blipFill>
          <a:blip r:embed="rId3"/>
          <a:stretch/>
        </p:blipFill>
        <p:spPr>
          <a:xfrm>
            <a:off x="6167520" y="436572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4610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znik 1975, Bill Gates a Paul All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Sídlo: Redmond (USA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Tržby: 51,1 bil USD, 79 tisíc zaměstnanců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Dominantní postavení na trhu OS a kancelářských softwarů (Office, Windows, Visual Studio, I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Soudní spory kvůli monopolnímu postavení na trhu (např. propojování Windows media player s Windows a tím podpora vlastních formátů hudby             a videa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znik 1976, Steve Job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Sídlo: Silicon Vall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Tržby: 24 bil. USD, 18 tisíc zaměstnanců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roba počítačů Mac s vlastním softwarem, přehravače iPod a telefony iPhon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Obrázek 4" descr="campus_aerial_1_web.jpg"/>
          <p:cNvPicPr/>
          <p:nvPr/>
        </p:nvPicPr>
        <p:blipFill>
          <a:blip r:embed="rId1"/>
          <a:stretch/>
        </p:blipFill>
        <p:spPr>
          <a:xfrm>
            <a:off x="5219640" y="765000"/>
            <a:ext cx="3740040" cy="249264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5" descr="applehq.jpg"/>
          <p:cNvPicPr/>
          <p:nvPr/>
        </p:nvPicPr>
        <p:blipFill>
          <a:blip r:embed="rId2"/>
          <a:stretch/>
        </p:blipFill>
        <p:spPr>
          <a:xfrm>
            <a:off x="5003640" y="3860640"/>
            <a:ext cx="397512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5400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znik:  199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ídlo: Silicon Valle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ržby: 10,6 bil. USD, 16 tisíc zaměstnanc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jvětší světový vyhledávač, probíhá na něm 48% vyhledáván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užívá operační systém Linux, doplňky k vyhledávači: Google Analytics, Google Adwords, Gmail, Google earth, Google map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znik 199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ídlo: Silicon Valle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ržby: 6,7 bil USD, 14 tisíc zaměstnanc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Webové portály, vyhledáván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rcRect l="1473" t="17440" r="27065" b="27195"/>
          <a:stretch/>
        </p:blipFill>
        <p:spPr>
          <a:xfrm>
            <a:off x="611280" y="2349360"/>
            <a:ext cx="3967200" cy="2457720"/>
          </a:xfrm>
          <a:prstGeom prst="rect">
            <a:avLst/>
          </a:prstGeom>
          <a:ln w="0">
            <a:noFill/>
          </a:ln>
        </p:spPr>
      </p:pic>
      <p:pic>
        <p:nvPicPr>
          <p:cNvPr id="169" name="Obrázek 6" descr="tn-resize.jpg"/>
          <p:cNvPicPr/>
          <p:nvPr/>
        </p:nvPicPr>
        <p:blipFill>
          <a:blip r:embed="rId2"/>
          <a:stretch/>
        </p:blipFill>
        <p:spPr>
          <a:xfrm>
            <a:off x="5003640" y="2133720"/>
            <a:ext cx="360072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Obrázek 7" descr="yahoo-resize.jpg"/>
          <p:cNvPicPr/>
          <p:nvPr/>
        </p:nvPicPr>
        <p:blipFill>
          <a:blip r:embed="rId3"/>
          <a:stretch/>
        </p:blipFill>
        <p:spPr>
          <a:xfrm>
            <a:off x="5364000" y="4795920"/>
            <a:ext cx="297360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460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Amaz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znik: 199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ídlo: Seatt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ržby: 10,71 bil. USD, 14 tisíc zaměstnanc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edna z prvních společností prodávajících přes internet, původně prodej knih, dnes téměř všech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3" descr="ebay-resize.jpg"/>
          <p:cNvPicPr/>
          <p:nvPr/>
        </p:nvPicPr>
        <p:blipFill>
          <a:blip r:embed="rId1"/>
          <a:stretch/>
        </p:blipFill>
        <p:spPr>
          <a:xfrm>
            <a:off x="611280" y="364500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73" name="Obrázek 4" descr="1491608687_5a3f6b001a.jpg"/>
          <p:cNvPicPr/>
          <p:nvPr/>
        </p:nvPicPr>
        <p:blipFill>
          <a:blip r:embed="rId2"/>
          <a:stretch/>
        </p:blipFill>
        <p:spPr>
          <a:xfrm>
            <a:off x="5051520" y="260280"/>
            <a:ext cx="3841560" cy="2881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5"/>
          <p:cNvSpPr/>
          <p:nvPr/>
        </p:nvSpPr>
        <p:spPr>
          <a:xfrm>
            <a:off x="5003640" y="3645000"/>
            <a:ext cx="3889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B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  <a:ea typeface="Arial"/>
              </a:rPr>
              <a:t>Vznik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  <a:ea typeface="Arial"/>
              </a:rPr>
              <a:t>Sídlo: Silicon Val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  <a:ea typeface="Arial"/>
              </a:rPr>
              <a:t>Tržby: 4 bil USD, 12 tisíc zaměstnanc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  <a:ea typeface="Arial"/>
              </a:rPr>
              <a:t>Největší internetový aukční portál, dnes ve 28 zemích, vlastní Skype, platební systém Payp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2960" y="475920"/>
            <a:ext cx="782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Interne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34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Základní komunikační nástroj konce 20.  a zač. 21. století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Většina ekonomických aktivit se přesouvá do </a:t>
            </a: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elektronického prostoru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= „smrt vzdálenosti“ či „smrt měst“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Na Internet jsou ekonomické aktivity vázané ve 4 úrovních služeb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poskytovatelé infrastruktury – telekomunikační společnosti, provideři, provozovatelé základních datových dálnic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poskytovatelé aplikací – vývojáři software, transakčních aplikací, apod.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internetoví zprostředkovatelé (internet intermediaries) – aktivity vydělávající na poplatcích, doménách, internetové reklamě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internetová komerce – společnosti provozující internetový obchod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088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 řečtiny logistikon = důmysl; logos = slovo, pravidlo, zák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znik v armádě – potřeba organizovat zásobování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tarověké Řecko, Řím, Byzancie – první náznaky (Logistikas – důstojník, odpovědný za zásobování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ovodobé válečnictví – zásobování front potravinami, střelivem, zbraněmi, lidm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32960" y="549000"/>
            <a:ext cx="782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ogistik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26680" y="1483920"/>
            <a:ext cx="80773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0. léta v USA – přechod logistiky do obchodu za účelem minimalizace náklad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0. léta v USA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“Organizace, plánování, řízení a uskutečňování toku zboží, počínaje vývojem a nákupem a konče výrobou a distribucí podle objednávky zákazníka tak, aby byly splněny všechny požadavky k trhu při minimálních nákladech a minimálních kapitálových výdajích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Logistika zajišťuje nákladově efektivní časově podmíněné rozmisťování podnikových zdrojů v prostoru a umožňuje dosažení konkurenční výhody prostřednictvím úrovně služeb poskytovaných zákazníkům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nalogie úspěšného vojenského model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732960" y="549000"/>
            <a:ext cx="782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Moderní“ logistik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ktorové vyme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ektorových vymezení se v teorii vyskytuje celá řada, podle různých autorů lze dělit národní hospodářství do tří nebo čtyř sektorů na základě jednoho nebo více kritéri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Švédský ekonom Pestoff rozděluje národní hospodářství na čtyři sektory, a to na základě tří kritéri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le kritéria financování provozu a rozvoje na sektor ziskový a neziskový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le kritéria vlastnictví na sektor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kromý a veřejný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le míry formalizace na sektor formální a neformáln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32960" y="404640"/>
            <a:ext cx="78282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ust–in-time (JI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70. letech několik japonských firem v čele s Toyota Motor                         Corporation vypracovalo nový přístup k řízení zásob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ladním rysem je výrazné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nížení skladovaných součást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v celém výrobním systé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sné plánování a koordinace dodávek  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díly a dodávky jsou na místě ve správném množství a kvalitě přesně tehdy, když jich bylo ve výrobě nebo montáži zapotřeb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Předpoklady existen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geografická koncentra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rychlá doprava vyžaduje časově krátkou a nekomplikovanou dopravu v rámci výrobního cykl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ulové defekt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 musí být zajištěno dodržování kvalitativních standardů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síť subdodavatel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počet dodavatelů může být relativně nízký, ovšem vázaný dlouhodobými kontrakt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sdílený výzkum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řetězec vyžaduje přenos know-how a výzkumnou spolupráci mezi dodavateli a finálními zpracovate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stabilizovaná pracovní síl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je nutné zabránit jakýmkoli výpadkům v důsledku nedostatku pracovní síly či např. stáv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Obrázek 6" descr="Just_In_Time_Poster_L.jpg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32960" y="333000"/>
            <a:ext cx="782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nban („štítek“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3760" y="111456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ruhý japonský přístup umožňující firmám efektivnější plánování výroby a řízení záso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 boxům, dávkám, policím nebo paletám zásob ve výrobním procesu jsou připojeny štítky nebo kartičky. Pokud během montáže dojde k vyčerpání dávky, vrátí se její 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ANBAN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do provozního oddělení, odkud je okamžitě zajištěna expedice další dávk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tože je v systému udržován konstantní počet dávek, značně se zjednoduší koordinace, plánování a řízení záso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Obrázek 4" descr="e-Kanban_engl.jpg"/>
          <p:cNvPicPr/>
          <p:nvPr/>
        </p:nvPicPr>
        <p:blipFill>
          <a:blip r:embed="rId1"/>
          <a:stretch/>
        </p:blipFill>
        <p:spPr>
          <a:xfrm>
            <a:off x="1835280" y="3573360"/>
            <a:ext cx="52387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2960" y="333000"/>
            <a:ext cx="782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alší „vychytávky“ z oblasti říz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3760" y="1114200"/>
            <a:ext cx="82342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irst in, first out (FIFO)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co přijde na sklad první je prvně odbaveno, další čeká dokud první není dokonče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aizen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filozofie a postupy při zlepšování procesů ve výrobě a to zejména ve strojírenství a řízení podniků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vně realizován v japonských firmách                                                             po  2. světové vál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ět základních elementů Kaize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Týmová prá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sobní disciplí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soká morál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roužky kva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lepšovací návrh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5" descr="391px-Data_Queue.svg.png"/>
          <p:cNvPicPr/>
          <p:nvPr/>
        </p:nvPicPr>
        <p:blipFill>
          <a:blip r:embed="rId1"/>
          <a:stretch/>
        </p:blipFill>
        <p:spPr>
          <a:xfrm>
            <a:off x="4932360" y="1484280"/>
            <a:ext cx="3240000" cy="1824120"/>
          </a:xfrm>
          <a:prstGeom prst="rect">
            <a:avLst/>
          </a:prstGeom>
          <a:ln w="0">
            <a:noFill/>
          </a:ln>
        </p:spPr>
      </p:pic>
      <p:pic>
        <p:nvPicPr>
          <p:cNvPr id="190" name="Obrázek 6" descr="speedy-kaizen-20.jpg"/>
          <p:cNvPicPr/>
          <p:nvPr/>
        </p:nvPicPr>
        <p:blipFill>
          <a:blip r:embed="rId2"/>
          <a:stretch/>
        </p:blipFill>
        <p:spPr>
          <a:xfrm>
            <a:off x="5364000" y="3876840"/>
            <a:ext cx="316872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0720" y="259920"/>
            <a:ext cx="7827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ogistika zahrnuj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266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lad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ipulac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řepravní ba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prav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íze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raden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xl-7-"/>
          <p:cNvPicPr/>
          <p:nvPr/>
        </p:nvPicPr>
        <p:blipFill>
          <a:blip r:embed="rId1"/>
          <a:stretch/>
        </p:blipFill>
        <p:spPr>
          <a:xfrm>
            <a:off x="3780000" y="98100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054080" y="4149720"/>
            <a:ext cx="7827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ogistické služ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délník 6"/>
          <p:cNvSpPr/>
          <p:nvPr/>
        </p:nvSpPr>
        <p:spPr>
          <a:xfrm>
            <a:off x="3456000" y="4941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ln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urýrní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e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ogistické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etadlo-tap-air-portugal"/>
          <p:cNvPicPr/>
          <p:nvPr/>
        </p:nvPicPr>
        <p:blipFill>
          <a:blip r:embed="rId2"/>
          <a:stretch/>
        </p:blipFill>
        <p:spPr>
          <a:xfrm>
            <a:off x="324000" y="4437000"/>
            <a:ext cx="28558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elní služb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68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stavování celních prohlášení pro dovoz, vývoz a tranzi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ompletní zpracování a vyplňování dalších celních dokladů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pracování celních dokladů pro uskladnění a správu zboží v celních skladech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radenská činnost k celním předpisům EU, při dovozu           a vývozu zboží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4" descr="714848-stop-padelkum"/>
          <p:cNvPicPr/>
          <p:nvPr/>
        </p:nvPicPr>
        <p:blipFill>
          <a:blip r:embed="rId1"/>
          <a:stretch/>
        </p:blipFill>
        <p:spPr>
          <a:xfrm>
            <a:off x="5219640" y="1557360"/>
            <a:ext cx="36943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urýrní a expresní dopra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eprava zásilek většinou menších rozměrů s důrazem na časovou efektivit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měření firem zejména na oblast velkých měst – Praha, Brno (doprava do několika hodi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elká nabídka pracovních mí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essenger Service, E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http://www.messenger.cz/CR/static/stuff/izr8b.jpg"/>
          <p:cNvPicPr/>
          <p:nvPr/>
        </p:nvPicPr>
        <p:blipFill>
          <a:blip r:embed="rId1"/>
          <a:stretch/>
        </p:blipFill>
        <p:spPr>
          <a:xfrm>
            <a:off x="6300720" y="2492280"/>
            <a:ext cx="2557440" cy="1668600"/>
          </a:xfrm>
          <a:prstGeom prst="rect">
            <a:avLst/>
          </a:prstGeom>
          <a:ln w="0">
            <a:noFill/>
          </a:ln>
        </p:spPr>
      </p:pic>
      <p:sp>
        <p:nvSpPr>
          <p:cNvPr id="203" name="Obdélník 5"/>
          <p:cNvSpPr/>
          <p:nvPr/>
        </p:nvSpPr>
        <p:spPr>
          <a:xfrm>
            <a:off x="3168720" y="4395960"/>
            <a:ext cx="57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ediční firmy vystupují na trhu jako podnikatelské subjekty, které přepravu zboží uskutečňují vlastními dopravními prostředky, nebo prostřednictvím sítě smluvních autodopravc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prava i přeprav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757080" y="3645000"/>
            <a:ext cx="782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pe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287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jvětší světové fir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ups"/>
          <p:cNvPicPr/>
          <p:nvPr/>
        </p:nvPicPr>
        <p:blipFill>
          <a:blip r:embed="rId1"/>
          <a:stretch/>
        </p:blipFill>
        <p:spPr>
          <a:xfrm>
            <a:off x="6948360" y="1413000"/>
            <a:ext cx="1533600" cy="1944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tnt_logo"/>
          <p:cNvPicPr/>
          <p:nvPr/>
        </p:nvPicPr>
        <p:blipFill>
          <a:blip r:embed="rId2"/>
          <a:stretch/>
        </p:blipFill>
        <p:spPr>
          <a:xfrm>
            <a:off x="2411280" y="1989000"/>
            <a:ext cx="3168720" cy="1597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dhllogo"/>
          <p:cNvPicPr/>
          <p:nvPr/>
        </p:nvPicPr>
        <p:blipFill>
          <a:blip r:embed="rId3"/>
          <a:stretch/>
        </p:blipFill>
        <p:spPr>
          <a:xfrm>
            <a:off x="701640" y="1197000"/>
            <a:ext cx="5083200" cy="7207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609480" y="335772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České fir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cdcargo-thumb"/>
          <p:cNvPicPr/>
          <p:nvPr/>
        </p:nvPicPr>
        <p:blipFill>
          <a:blip r:embed="rId4"/>
          <a:stretch/>
        </p:blipFill>
        <p:spPr>
          <a:xfrm>
            <a:off x="611280" y="4508640"/>
            <a:ext cx="1942920" cy="933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logo-eps"/>
          <p:cNvPicPr/>
          <p:nvPr/>
        </p:nvPicPr>
        <p:blipFill>
          <a:blip r:embed="rId5"/>
          <a:stretch/>
        </p:blipFill>
        <p:spPr>
          <a:xfrm>
            <a:off x="3995640" y="43657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logo-geis-ii-thumb"/>
          <p:cNvPicPr/>
          <p:nvPr/>
        </p:nvPicPr>
        <p:blipFill>
          <a:blip r:embed="rId6"/>
          <a:stretch/>
        </p:blipFill>
        <p:spPr>
          <a:xfrm>
            <a:off x="6012000" y="4797360"/>
            <a:ext cx="1800000" cy="1622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pplsmall"/>
          <p:cNvPicPr/>
          <p:nvPr/>
        </p:nvPicPr>
        <p:blipFill>
          <a:blip r:embed="rId7"/>
          <a:stretch/>
        </p:blipFill>
        <p:spPr>
          <a:xfrm>
            <a:off x="1403280" y="5805360"/>
            <a:ext cx="26654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2960" y="333000"/>
            <a:ext cx="782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ankovnictví a peněžnictví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1330200"/>
            <a:ext cx="727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stituce, která poskytuje finanční služ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činností je shromažďování dočasně volných peněžních prostředků, které formou úvěru dává k dispozici a nastavováním úroku zhodnocuj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možňuje pohyb peněz v ekonomi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prostředkovává využití dočasně volných zdroj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vozování je regulováno státem                                            (v ČR ČNB a MF Č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Zástupný symbol pro číslo snímku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C2E4-636F-414E-BAD5-FB4A86CEC467}" type="slidenum">
              <a:rPr b="0" lang="cs-CZ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ttp://www.csas.cz/banka/content/inet/internet/cs/tisk_budova.jpg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81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Česká pojišťovna"/>
          <p:cNvPicPr/>
          <p:nvPr/>
        </p:nvPicPr>
        <p:blipFill>
          <a:blip r:embed="rId2"/>
          <a:stretch/>
        </p:blipFill>
        <p:spPr>
          <a:xfrm>
            <a:off x="5245200" y="3933720"/>
            <a:ext cx="38988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2960" y="404640"/>
            <a:ext cx="78282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ublic Private Partnership (PP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532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Spolupráce veřejného a soukromého sektoru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zniklé za účelem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Calibri"/>
              </a:rPr>
              <a:t>využití zdrojů a schopností soukromého sektoru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 při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Calibri"/>
              </a:rPr>
              <a:t>zajištění veřejné infrastruktury nebo veřejných služeb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PP projekty zvyšují kvalitu i efektivnost veřejných služeb včetně výkonu státní správy a urychlují realizaci významných infrastrukturních projektů s pozitivním dopadem na rozvoj ekonomik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Typickými příklady realizace formou PPP jsou projekty v následujících oborech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Dopravní infrastruktura – dálnice, tunely, mosty, rychlodráh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Administrativní případně ubytovací kapacity – úřady, soudy, ubytovny, administrativní prostory, vězn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Zdravotnictví – nemocn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ství – univerzitní komplexy, studentské koleje, ško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Obrana – výzbroj, speciální infrastruktur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Utility – vodárenstv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Obrázek 4" descr="p3 partnership.gif"/>
          <p:cNvPicPr/>
          <p:nvPr/>
        </p:nvPicPr>
        <p:blipFill>
          <a:blip r:embed="rId1"/>
          <a:stretch/>
        </p:blipFill>
        <p:spPr>
          <a:xfrm>
            <a:off x="6804000" y="4341960"/>
            <a:ext cx="191124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statou úspěšného projektu PPP je předpoklad, že většího přínosu pro veřejný sektor (v poměru k jím vynaloženým prostředkům) může být dosaženo využitím schopností a zkušeností soukromého sektoru a rozdělením rizik mezi zúčastněné strany tak, že každá strana nese takové riziko, které dokáže nejlépe řídi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ínosy PP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17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Zachování kontroly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PPP umožňuje veřejnému sektoru se plně věnovat tomu, co umí nejlépe a realizaci infrastrukturních projektů přenechává soukromému sektoru, aniž nad nimi ztrácí kontrol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17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Kvalita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– veřejný sektor získává vyšší kvalitu veřejných služeb za vynaložení stejných nebo nižších nákladů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17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Přenos rizik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PPP přenáší podstatná rizika na soukromý sektor, smluvní dokumentace jasně rozděluje zodpovědnosti za náklady a rizika mezi oba sektory tak, že každý sektor nese takovou zodpovědnost, kterou dokáže nejlépe řídi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17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Efektivní realizace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PPP umožňuje realizaci infrastrukturních projektů dříve, rychleji a bez rizika překračování rozpočtu pro veřejný sekt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17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Transparentnost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– jedná se o jednu kvalifikovaně provedenou veřejnou soutěž – projekt se nedělí na velké množství menších zakázek obvyklých za dobu trvání projekt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17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Oboustranná výhodnost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projekty PPP musí být výhodné oboustranně pro veřejný i soukromý sekt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17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Motiva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– soukromý sektor je motivován možností dlouhodobých příjmů. Ty ovšem získá pouze při dodržování přísných smluvních podmínek o kvalitě dodané služb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733320" y="404640"/>
            <a:ext cx="7828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ublic Private Partnership (PP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rcRect l="22412" t="12421" r="29724" b="6250"/>
          <a:stretch/>
        </p:blipFill>
        <p:spPr>
          <a:xfrm>
            <a:off x="1042920" y="49320"/>
            <a:ext cx="712944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eřejný sek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41264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eřejný sekt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je specifickou součástí ekonomiky, je součástí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sektoru služeb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neboli 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erciárního sektor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asto zaměňován s pojmem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eřejné služb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eřejný sektor je ta část N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terá zabezpečuje veřejné statky kolektivní spotřeby pro obyvatelstvo na neziskovém principu (školství, nemocnice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terá je financována z finančních prostředků zejména v soustavě veřejných rozpočt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terá je řízena veřejnou správ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 jejíž produkci se rozhoduje veřejnou volb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terá podléhá veřejné kont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Jádrem veřejného sektoru je 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eřejná správ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, kterou tvoří soustava úřadů s centrální nebo územní působností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romě veřejné správy tvoří veřejný sektor další organizace 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financované z veřejných prostředků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, které poskytují 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eřejné služby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(např. nemocnice, školy, domy sociální péče, atd.). 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 soukromého sektoru se veřejný sektor liší především tím, že 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není založen na ziskovém principu</a:t>
            </a:r>
            <a:r>
              <a:rPr b="0" i="1" lang="cs-CZ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ale finanční prostředky na své fungování získává z veřejných rozpočtů, které jsou naplňovány prostřednictvím da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eřejný sek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483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větví 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eřejných služeb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jsou následující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šeobecné veřejné služby (veřejná správa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bra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eřejný pořádek a bezpečn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Ekonomické záležitos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chrana životního prostřed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Bydlení a společenská infrastruktur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drav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kreace, kultura a náboženstv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zdělává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Sociální věc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eřejný sek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erční sektor/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 založen na ziskovém principu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rnu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T 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ogist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pr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něžnictví a bankovni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2960" y="404640"/>
            <a:ext cx="78282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T služby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342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ční a komunikační technologie a systémy (osobní počítač, elektronická pošta, mobilní telefon, internet    a další počítačově propojené sítě, webové stránky, elektronické obchodování, systém elektronické výměny dat a další firemní procesy související s elektronickým přenosem dat pomocí informačních a komunikačních technologií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IT služby v EU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48520" indent="-452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Největší trh se vzdělaným obyvatelstvem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48520" indent="-452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Vysoká úroveň infrastruktury a služeb I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48520" indent="-452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65 % lidí využívá interne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48520" indent="-452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1,5 mobilního čísla na obyvatel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48520" indent="-452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13 světových širokopásmových linek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48520" indent="-452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Velký počet nových, rychle rostoucích firem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48520" indent="-452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Nárůst slučování a akvizicí firem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lavní technologické parky svě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320" y="1412640"/>
            <a:ext cx="8491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Simplified Arabic Fixed"/>
              </a:rPr>
              <a:t>Silicon Va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Simplified Arabic Fixed"/>
              </a:rPr>
              <a:t>Nejjižnější část pobřeží v Kaliforni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Simplified Arabic Fixed"/>
              </a:rPr>
              <a:t>Název vznikl 1971, kdy si všimli velké koncentrace výrobců zabývajícími se křemíkovými mikročipy                    a počítač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Simplified Arabic Fixed"/>
              </a:rPr>
              <a:t>Skládá se z 19 sídel, hlavní město: San Jo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Simplified Arabic Fixed"/>
              </a:rPr>
              <a:t>Sídlí zde: Adobe, Apple, Ebay, Google, HP, Intel, Logitech, Oracle, Sun Microsystems, Yahoo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Simplified Arabic Fixed"/>
              </a:rPr>
              <a:t>Sídlí zde také Stanford univerzity, odkud se často rekrutují zakladatelé velkých firem (Bill Gates, Paul Allen,…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t1.gstatic.com/images?q=tbn:ANd9GcSDxQZQsHKvHPSAgGrbXKfgCfzJLwbmoe9qMklYZHTCCEOrChju"/>
          <p:cNvPicPr/>
          <p:nvPr/>
        </p:nvPicPr>
        <p:blipFill>
          <a:blip r:embed="rId1"/>
          <a:stretch/>
        </p:blipFill>
        <p:spPr>
          <a:xfrm>
            <a:off x="5396040" y="4365720"/>
            <a:ext cx="3747960" cy="24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5:17:11Z</dcterms:created>
  <dc:creator>klokan</dc:creator>
  <dc:description/>
  <dc:language>en-US</dc:language>
  <cp:lastModifiedBy>Svobodova</cp:lastModifiedBy>
  <dcterms:modified xsi:type="dcterms:W3CDTF">2012-10-02T08:24:34Z</dcterms:modified>
  <cp:revision>82</cp:revision>
  <dc:subject/>
  <dc:title>Geografie dopravy – úvod a základní pojmy.</dc:title>
</cp:coreProperties>
</file>