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9FB-C5C6-438F-8885-0F6E2D0E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6B2-6743-4232-B1EA-5ACC5FFC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6FA-D8F0-4E65-ADDD-5013BD0A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359-C5C6-41FA-AE05-FC62F42B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5E7-7E98-4E00-9E52-B0193322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3C6-69B3-494C-A79B-72DC4F8A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A38-F4A7-48A0-AC37-4CAA88F6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3CD-7C8B-4AE2-8DB7-1B517129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19B-1F75-4FFB-A7CF-AEACDC80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11C-F36B-40B8-8E7F-A5919E2A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11E-FBCF-4F0D-AEAD-7AAE3ED9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A24-A0C5-41DB-AF67-F74FA738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65E6-F400-4151-87BF-37116F561B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is.zcu.cz/studium/dbg2/Materialy/html/ch15.html" TargetMode="External"/><Relationship Id="rId2" Type="http://schemas.openxmlformats.org/officeDocument/2006/relationships/hyperlink" Target="http://people.hofstra.edu/geotrans/index.html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s.muni.cz/do/1499/el/estud/fi/js10/grafy/Grafy-text10.pdf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e dopravy – úvod, vývoj,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16720" y="5950080"/>
            <a:ext cx="247968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898989"/>
                </a:solidFill>
                <a:latin typeface="Calibri"/>
              </a:rPr>
              <a:t>© H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898989"/>
                </a:solidFill>
                <a:latin typeface="Calibri"/>
              </a:rPr>
              <a:t>Geografie nevýrobní sfér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898989"/>
                </a:solidFill>
                <a:latin typeface="Calibri"/>
              </a:rPr>
              <a:t>Přenáška č. 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1) Studium dopravního fenomé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jstarší a nejtrvalejší výzkumné té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leněn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udium dopravních sít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naha popsat geografické uspořádání dopr. sítí (sítě jako celek, analýza spojení, výstavba transevropských sít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udium dopr. uzlů a dopr. terminál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hl. přístavní a letištní terminály, morfologie zařízení a jejich vývoj v čase, konkurence terminálů, hierarchie terminá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nalýza pravidelných služeb poskytovaných v osobní dopravě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základě jízdních a letových řádů – frekvence spojů a jejich prostorové uspořád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udium pohybu zbož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hledání struktur v rámci přepravních vztahů a proudů, využití model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udium pohybu osob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hledání struktur v rámci přepravních vztahů a proud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Calibri"/>
              </a:rPr>
              <a:t>2) Studium dopravy jakožto původce nebo spoluaktéra změn v geografickém prostoru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stavba a rozvoj dopravní sítě probíhá současně s procesy suburbanizace a hospodářského růs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o 70. let 20. stol. byla doprava považována za zásadní lokalizační fak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 průběhu 20. stol. – doprava považována za základní stimul nástupu globalizace, stala se nedílnou součástí ekonomického systému, v jehož rámci působí jako logistický prv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) Studium otázek spojených s trvalou udržitelností stávajícího dopravního systé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ž v 90. letech 20. stol. – doprava je významným spotřebitelem energie a zároveň největší tvůrce environmentálních problém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gativní vlivy nejsou rovnoměrně rozloženy mezi jednotlivé druhy dopravy – největší „škůdce“ je silniční dopra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ktuální směry výzkum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kud environmentální důvody povedou k redukci stávající formy a intenzity dopravy, jakým způsobem to ovlivni současné prostorové interakce a jaký nový geografický model jejich uspořádáním vznikn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 bude nový model geografie ekonomických a sociálních aktivit zabezpečen z hlediska dopravních potřeb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význam dopra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34136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Umožnění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překonávání bariér prostoru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, které vytváří „odpor prostředí“ – omezuje intenzitu, velikost, objem, schopnost dopravy mezi různými míst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Fyzické bariéry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vzdálenost, topografi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Společenské bariéry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administrativní rozdělení, rozdílná kvalita dopr. infrastruktur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Doprava vytváří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interakce (funkční vazby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Existence dopravních interakcí mezi různými místy geogr. prostoru vytváří tzv.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komplementaritu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= jev, v jehož rámci si různé ekonomicky a jinak odlišné oblasti vzájemně kompenzují své přebytky a nedostatky výměnou osob, zboží a služeb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Doprava je faktorem, který výrazně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formuje sídelní a hospodářské struktury světa 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(od lokální po globální úroveň; globalizace je důsledkem zvýšení rychlosti a poklesu výše dopravních nákladů) -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doprava je faktorem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strukturace a organizace prostoru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Lépe dostupná místa disponují určitou komparativní výhodou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Akcesibilita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(dostupnost) – množství příležitostí, které jsou z určitého místa dostupné do určité vzdálenosti nebo cestovní doby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Mobilita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schopnost pohybu / přesunu mezi různými míst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Když se vzdálenost mezi místy zvyšuje, stává se akcesibilita více závislou na schopnosti mobilit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cept dopravních náklad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pravní náklady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= peněžní vyjádření toho, co musí poskytovatel dopravy (dopravce) zaplatit, aby byla provedena přepra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Fix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pořizování vozidel, náklady na výstavbu tra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Provoz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náklady na přepravu zboží nebo oso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60. let dopravní náklady považovány za zásadní faktor vysvětlující rozdíly ve využití území a pro prostorovou lokalizaci ekonomických aktiv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 70. let – změna názoru – dopravní náklady jsou tak nízké (a dále klesají), že nemají pro lokalizaci činností žádný význ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časnost – obnovený zájem o dopravní nákla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cept dopravních náklad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280" y="1268280"/>
            <a:ext cx="540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ýše dopravních nákladů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visí n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Geografické podmínky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vzdálenost (čím větší, tím větší odpor prostoru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Vlastnosti přepravované komod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Rozsah a způsob přepravy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větší množství zboží obvykle snižuje jednotkové dopravní náklady (úspory z rozsahu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Energetická náročnost druhu do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Ne/vyrovnanost přepravních proudů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nevyrovnanost cenu zvyšuje, protože je třeba zahrnout i „prázdnou“ jízdu dopr. prostřed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Efektivita a kapacita dostupné dopravní infrastruktu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Uspořádání a vlastnosti trhu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z hlediska nastavení podmínek veřejné sféry (konkurenční a liberalizované prostředí vs. regulovaný tr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Specifika ceny jednotlivých druhů dopravy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která jsou dána odlišnými terminálními a vlastními přepravními náklady (námořní dopr. – vysoké terminální náklady, nízké přepravní náklady na jednotku x silniční dopr.  - nižší terminální, vysoké jednotkové přepravní náklad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5580000" y="2852640"/>
            <a:ext cx="3438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opravní náklady jako princip modelů land-use a lokalizačních teori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ízké dopravní náklady umožňují podle tradičních názorů funkční a výrobní specializaci regionů na činnosti, k nimž ve srovnání s jinými územími lepší předpokla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výrobních činností 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ecializace regionů (na pěstování plodin nebo výrobu urč. produkt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rcRect l="6614" t="22205" r="4535" b="13705"/>
          <a:stretch/>
        </p:blipFill>
        <p:spPr>
          <a:xfrm>
            <a:off x="1332000" y="3429000"/>
            <a:ext cx="6264360" cy="33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Johann Heinrich von Thü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vní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odel dopravními náklady formovaného zemědělského land-use v zázemí tržního mí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chodiskem je řada omezujících předpokladů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Existence pouze 1 izolovaného hosp. prosto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mogenní FG i SE podmínk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valita dopr. dostupnosti centra ze všech míst stejn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emědělci se chovají racionálně (základním cílem činnosti je dosažení optimálního výnosu – musí pěstovat pouze tu plodinu, která jim v jejich poloze / vzdálenosti od centra zaručuje nejvyšší zis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určité vzdálenosti od trhu pohltí součet dopravních a výrobních nákladů pro určitou plodinu veškerý možný zisk a její pěstování je od této vzdálenosti nerentabi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Řešením je pěstování jiné plodiny s odlišnými výrobními náklady i nižšími dopravními nákla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Zástupný symbol pro obsah 4" descr="thunen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418608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3" descr="vonthunen.gif"/>
          <p:cNvPicPr/>
          <p:nvPr/>
        </p:nvPicPr>
        <p:blipFill>
          <a:blip r:embed="rId2"/>
          <a:stretch/>
        </p:blipFill>
        <p:spPr>
          <a:xfrm>
            <a:off x="4397400" y="3500280"/>
            <a:ext cx="474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lfred We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orie popisující chování průmyslových podniků v závislosti na dopravních náklad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ální omezení model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mogenní FG i SE podmín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poklad pouze 1 finálního výrobku, který se přepravuje do 1 místa spotře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 mobilita pracovní sí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pravní náklady jsou funkcí hmotnosti zboží a přepravní vzdále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rmí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Ubikvitní surovin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vyskytují se všude v prostoru za stejnou cenu (voda, vzdu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Lokalizované surovin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nacházejí se pouze v omezeném počtu nalezišť (uhlí, rop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Suroviny  neztrácející hmotnost při zpracová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ropa při výrobě benzí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Suroviny ztrácející hmotnost při zpracová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energetické suroviny, které jsou spálen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UŠEK, V. a kol. Ekonomická a sociální geografie. Plzeň: Vyd. a nakl. Aleš Čeněk, 2008.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. 231–26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e dopravy. URL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is.zcu.cz/studium/dbg2/Materialy/html/ch15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eople.hofstra.edu/geotrans/index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lfred We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ílem, který podnik z lokalizačního hlediska sleduje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inimalizace dopravních náklad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ravidla pro lokalizac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Případ existence 1 zdroje surovin a jednoho tr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bikvitní – zpracování v místě spotřeby, přeprava by zvyšovala dopravní nákl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okalizovaná neztrácející hmotnost – zpracování v místě naleziště, trhu nebo na spojnici mezi ni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okalizovaná ztrácející hmotnost – zpracování v místě naleziště – snížení váhy a tím i dopr. nákl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Případ existence 2 zdrojů surovin a 1 tr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 lokalizované suroviny neztrácející hmotnost – lokalizace podniku v místě trhu (lokalizace do jednoho ze 2 nalezišť by náklady zvýšil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 lokalizované suroviny ztrácející hmotnost  - výroba uvnitř lokalizačního 3úhelní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ber se pokusil zapracovat do model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liv prostorové variability ceny prác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izotimy – linie spojující se stejnými dopravními náklady pro přepravu surovin z naleziště do místa zpracování a pro přepravu finálních produktů; izodapany – linie spojující místa se stejnými celkovými dopravními náklady)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a také vliv tzv. aglomeračních vý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římá spojovací čára 75"/>
          <p:cNvSpPr/>
          <p:nvPr/>
        </p:nvSpPr>
        <p:spPr>
          <a:xfrm flipH="1">
            <a:off x="5435640" y="4724280"/>
            <a:ext cx="504720" cy="1495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77"/>
          <p:cNvSpPr/>
          <p:nvPr/>
        </p:nvSpPr>
        <p:spPr>
          <a:xfrm>
            <a:off x="6372360" y="4724280"/>
            <a:ext cx="360360" cy="144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římá spojovací čára 88"/>
          <p:cNvSpPr/>
          <p:nvPr/>
        </p:nvSpPr>
        <p:spPr>
          <a:xfrm>
            <a:off x="5651640" y="6381720"/>
            <a:ext cx="86508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14"/>
          <p:cNvSpPr/>
          <p:nvPr/>
        </p:nvSpPr>
        <p:spPr>
          <a:xfrm>
            <a:off x="34920" y="213372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ípad existence 2 zdrojů surovin a 1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2 lokalizované suroviny neztrácející hmotnost – lokalizace podniku v místě trhu (lokalizace do jednoho ze 2 nalezišť by náklady zvýši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 lokalizované suroviny ztrácející hmotnost – výroba uvnitř lokalizačního 3úhel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13"/>
          <p:cNvSpPr/>
          <p:nvPr/>
        </p:nvSpPr>
        <p:spPr>
          <a:xfrm>
            <a:off x="250920" y="1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řípad existence 1 zdroje surovin a jednoho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Skupina 33"/>
          <p:cNvGrpSpPr/>
          <p:nvPr/>
        </p:nvGrpSpPr>
        <p:grpSpPr>
          <a:xfrm>
            <a:off x="2124000" y="692280"/>
            <a:ext cx="1943280" cy="1008000"/>
            <a:chOff x="2124000" y="692280"/>
            <a:chExt cx="1943280" cy="1008000"/>
          </a:xfrm>
        </p:grpSpPr>
        <p:sp>
          <p:nvSpPr>
            <p:cNvPr id="95" name="Obdélník 5"/>
            <p:cNvSpPr/>
            <p:nvPr/>
          </p:nvSpPr>
          <p:spPr>
            <a:xfrm>
              <a:off x="2990160" y="69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Elipsa 21"/>
            <p:cNvSpPr/>
            <p:nvPr/>
          </p:nvSpPr>
          <p:spPr>
            <a:xfrm>
              <a:off x="2124000" y="908280"/>
              <a:ext cx="431640" cy="432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ipsa 22"/>
            <p:cNvSpPr/>
            <p:nvPr/>
          </p:nvSpPr>
          <p:spPr>
            <a:xfrm>
              <a:off x="3635640" y="908280"/>
              <a:ext cx="431640" cy="432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římá spojovací čára 23"/>
            <p:cNvSpPr/>
            <p:nvPr/>
          </p:nvSpPr>
          <p:spPr>
            <a:xfrm>
              <a:off x="2555640" y="1124280"/>
              <a:ext cx="10796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ipsa 24"/>
            <p:cNvSpPr/>
            <p:nvPr/>
          </p:nvSpPr>
          <p:spPr>
            <a:xfrm>
              <a:off x="2124000" y="1268280"/>
              <a:ext cx="431640" cy="43200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Elipsa 25"/>
            <p:cNvSpPr/>
            <p:nvPr/>
          </p:nvSpPr>
          <p:spPr>
            <a:xfrm>
              <a:off x="2915640" y="1268280"/>
              <a:ext cx="431640" cy="43200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ipsa 26"/>
            <p:cNvSpPr/>
            <p:nvPr/>
          </p:nvSpPr>
          <p:spPr>
            <a:xfrm>
              <a:off x="3635640" y="1268280"/>
              <a:ext cx="431640" cy="43200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Obdélník 27"/>
          <p:cNvSpPr/>
          <p:nvPr/>
        </p:nvSpPr>
        <p:spPr>
          <a:xfrm>
            <a:off x="4572000" y="765000"/>
            <a:ext cx="25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pracování (Z) v místě naleziště (N), trhu (T) nebo na spojnici mezi nimi – dopravní náklady vžd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Skupina 52"/>
          <p:cNvGrpSpPr/>
          <p:nvPr/>
        </p:nvGrpSpPr>
        <p:grpSpPr>
          <a:xfrm>
            <a:off x="3780000" y="2421000"/>
            <a:ext cx="2016000" cy="1520640"/>
            <a:chOff x="3780000" y="2421000"/>
            <a:chExt cx="2016000" cy="1520640"/>
          </a:xfrm>
        </p:grpSpPr>
        <p:sp>
          <p:nvSpPr>
            <p:cNvPr id="104" name="Elipsa 28"/>
            <p:cNvSpPr/>
            <p:nvPr/>
          </p:nvSpPr>
          <p:spPr>
            <a:xfrm>
              <a:off x="3780000" y="2646000"/>
              <a:ext cx="432000" cy="431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bdélník 29"/>
            <p:cNvSpPr/>
            <p:nvPr/>
          </p:nvSpPr>
          <p:spPr>
            <a:xfrm>
              <a:off x="4502880" y="3294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Elipsa 30"/>
            <p:cNvSpPr/>
            <p:nvPr/>
          </p:nvSpPr>
          <p:spPr>
            <a:xfrm>
              <a:off x="5364000" y="2430000"/>
              <a:ext cx="432000" cy="431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římá spojovací čára 31"/>
            <p:cNvSpPr/>
            <p:nvPr/>
          </p:nvSpPr>
          <p:spPr>
            <a:xfrm flipV="1">
              <a:off x="4212000" y="2645640"/>
              <a:ext cx="115200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Elipsa 32"/>
            <p:cNvSpPr/>
            <p:nvPr/>
          </p:nvSpPr>
          <p:spPr>
            <a:xfrm>
              <a:off x="3780000" y="2934000"/>
              <a:ext cx="432000" cy="43164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Elipsa 34"/>
            <p:cNvSpPr/>
            <p:nvPr/>
          </p:nvSpPr>
          <p:spPr>
            <a:xfrm>
              <a:off x="5292000" y="3510000"/>
              <a:ext cx="432000" cy="431640"/>
            </a:xfrm>
            <a:prstGeom prst="ellipse">
              <a:avLst/>
            </a:prstGeom>
            <a:solidFill>
              <a:srgbClr val="e46c0a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římá spojovací čára 36"/>
            <p:cNvSpPr/>
            <p:nvPr/>
          </p:nvSpPr>
          <p:spPr>
            <a:xfrm>
              <a:off x="4212000" y="2942640"/>
              <a:ext cx="1143360" cy="639000"/>
            </a:xfrm>
            <a:prstGeom prst="line">
              <a:avLst/>
            </a:prstGeom>
            <a:ln w="93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bdélník 38"/>
            <p:cNvSpPr/>
            <p:nvPr/>
          </p:nvSpPr>
          <p:spPr>
            <a:xfrm>
              <a:off x="4655160" y="242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Skupina 53"/>
          <p:cNvGrpSpPr/>
          <p:nvPr/>
        </p:nvGrpSpPr>
        <p:grpSpPr>
          <a:xfrm>
            <a:off x="6372360" y="2349360"/>
            <a:ext cx="2303280" cy="1521000"/>
            <a:chOff x="6372360" y="2349360"/>
            <a:chExt cx="2303280" cy="1521000"/>
          </a:xfrm>
        </p:grpSpPr>
        <p:sp>
          <p:nvSpPr>
            <p:cNvPr id="113" name="Elipsa 39"/>
            <p:cNvSpPr/>
            <p:nvPr/>
          </p:nvSpPr>
          <p:spPr>
            <a:xfrm>
              <a:off x="6372360" y="2574360"/>
              <a:ext cx="431640" cy="432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bdélník 40"/>
            <p:cNvSpPr/>
            <p:nvPr/>
          </p:nvSpPr>
          <p:spPr>
            <a:xfrm>
              <a:off x="8174520" y="299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Elipsa 41"/>
            <p:cNvSpPr/>
            <p:nvPr/>
          </p:nvSpPr>
          <p:spPr>
            <a:xfrm>
              <a:off x="7956000" y="2358360"/>
              <a:ext cx="431640" cy="432000"/>
            </a:xfrm>
            <a:prstGeom prst="ellipse">
              <a:avLst/>
            </a:prstGeom>
            <a:solidFill>
              <a:srgbClr val="e46c0a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římá spojovací čára 42"/>
            <p:cNvSpPr/>
            <p:nvPr/>
          </p:nvSpPr>
          <p:spPr>
            <a:xfrm flipV="1">
              <a:off x="6804000" y="2574360"/>
              <a:ext cx="115164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Elipsa 43"/>
            <p:cNvSpPr/>
            <p:nvPr/>
          </p:nvSpPr>
          <p:spPr>
            <a:xfrm>
              <a:off x="8244000" y="2358360"/>
              <a:ext cx="431640" cy="43200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Elipsa 44"/>
            <p:cNvSpPr/>
            <p:nvPr/>
          </p:nvSpPr>
          <p:spPr>
            <a:xfrm>
              <a:off x="7884000" y="3438360"/>
              <a:ext cx="431640" cy="432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Přímá spojovací čára 45"/>
            <p:cNvSpPr/>
            <p:nvPr/>
          </p:nvSpPr>
          <p:spPr>
            <a:xfrm flipH="1">
              <a:off x="8099640" y="2727360"/>
              <a:ext cx="207000" cy="711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bdélník 46"/>
            <p:cNvSpPr/>
            <p:nvPr/>
          </p:nvSpPr>
          <p:spPr>
            <a:xfrm>
              <a:off x="7248240" y="234936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1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Přímá spojovací čára 50"/>
            <p:cNvSpPr/>
            <p:nvPr/>
          </p:nvSpPr>
          <p:spPr>
            <a:xfrm flipV="1">
              <a:off x="6804000" y="2646360"/>
              <a:ext cx="1151640" cy="216000"/>
            </a:xfrm>
            <a:prstGeom prst="line">
              <a:avLst/>
            </a:prstGeom>
            <a:ln w="93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Elipsa 55"/>
          <p:cNvSpPr/>
          <p:nvPr/>
        </p:nvSpPr>
        <p:spPr>
          <a:xfrm>
            <a:off x="5940360" y="4508640"/>
            <a:ext cx="432000" cy="43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ipsa 57"/>
          <p:cNvSpPr/>
          <p:nvPr/>
        </p:nvSpPr>
        <p:spPr>
          <a:xfrm>
            <a:off x="5219640" y="6165720"/>
            <a:ext cx="432000" cy="4320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římá spojovací čára 58"/>
          <p:cNvSpPr/>
          <p:nvPr/>
        </p:nvSpPr>
        <p:spPr>
          <a:xfrm flipH="1">
            <a:off x="5589360" y="5813280"/>
            <a:ext cx="414360" cy="41616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ipsa 59"/>
          <p:cNvSpPr/>
          <p:nvPr/>
        </p:nvSpPr>
        <p:spPr>
          <a:xfrm>
            <a:off x="5940360" y="5445000"/>
            <a:ext cx="432000" cy="43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ipsa 60"/>
          <p:cNvSpPr/>
          <p:nvPr/>
        </p:nvSpPr>
        <p:spPr>
          <a:xfrm>
            <a:off x="6516720" y="6165720"/>
            <a:ext cx="431640" cy="4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římá spojovací čára 61"/>
          <p:cNvSpPr/>
          <p:nvPr/>
        </p:nvSpPr>
        <p:spPr>
          <a:xfrm>
            <a:off x="6308640" y="5813280"/>
            <a:ext cx="271440" cy="41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římá spojovací čára 63"/>
          <p:cNvSpPr/>
          <p:nvPr/>
        </p:nvSpPr>
        <p:spPr>
          <a:xfrm flipV="1">
            <a:off x="6084720" y="4941720"/>
            <a:ext cx="0" cy="50328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římá spojovací čára 72"/>
          <p:cNvSpPr/>
          <p:nvPr/>
        </p:nvSpPr>
        <p:spPr>
          <a:xfrm flipV="1">
            <a:off x="6227640" y="4941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Calibri"/>
              </a:rPr>
              <a:t>Období marginalizace dopr. nákladů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70., 80. léta. 20. st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ůvod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kles dopravních nákladů a zrychlení dopravy (koncept časoprostorové konvergen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měna lokalizačních logiky výrobních podniků – pobočky umisťovány do  oblastí s nízkou cenou práce, řada činností z firem vyvedena a zajišťována prostřednictvím subdodáv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existuje jednoznačná vazba mezi investicemi do dopravy a ekonomickým rozvoj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pravní náklady jsou tak nízké, že nemají pro lokalizaci výroby žádný význ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Time-space mapa pro dostupnost Prahy individuální automobilovou doprav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ástupný symbol pro obsah 3" descr="time-space mapa dopravy ce.jpg"/>
          <p:cNvPicPr/>
          <p:nvPr/>
        </p:nvPicPr>
        <p:blipFill>
          <a:blip r:embed="rId1"/>
          <a:srcRect l="0" t="3615" r="0" b="3964"/>
          <a:stretch/>
        </p:blipFill>
        <p:spPr>
          <a:xfrm>
            <a:off x="539640" y="1539720"/>
            <a:ext cx="78487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nesance zájmu o dopravní ná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90. léta 20. stol., poč. 21. st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ůvod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rgumenty o poklesu významu dopr. nákladů částečně chyb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nožství a délka cest rostly přímo úměrně poklesu jednotkových dopr. nákladů (namísto regionálních vazeb, vytvoření vazeb globálních)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v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ý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tupnosti dopr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Infrastruktury a kvalitních dopr. služeb spíše narost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xternalizace vede k znejasnění výše dopr. nákladů –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ogistické náklad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hrnují i skladování, balení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e dopravy – úv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rava patří mezi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ákladní potřeby lidstv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především díky rozdílnému potenciálu krajin světa (lidé nenacházejí ve svém okolí všechno to, co potřebují k životu a jsou tedy nuceni přemisťovat své hmotné statky i sami sebe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vopočátek dopravy byl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hů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zhodující pro dopravu byl vynález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zději, překonávání spádů, změny směru, brzdění = technický pokr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ajina staví dopravním cestám překážky – nejmenší překonávání bariér nemusí znamenat nejkratší ces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ariéry jsou do jistých mezí překonatelné a překonávané – otázka, kolik chceme vynaložit finančních prostředk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e dopravy – úv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 současnosti dopravu řadíme také mezi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stěžejní odvětví ekonomiky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 kde působí především jako integrující faktor – činnost komerční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omocí dopravních cest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můžeme přemisťovat a přepravovat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lidi, hmotu, energii a informace (nadbytek komodity v místě A a nedostatek v místě B). Vlastní přemisťování je podmíněno existencí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azeb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– výrobních, distribučních, pracovních, informačních, mezilidských apo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i dopravě je možné využít i přírodní síly – voda, gravitace, zvíř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íky dopravě obecně stoupá využitelnost potenciálu krajin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pravu studují vědy geografické, technické, ekonomické , ale také společenské (např. sociologi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e dopravy – úv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4280"/>
            <a:ext cx="5554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osledních desetiletích velmi dynamický vývo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ěna rychlosti i kapacity dopravních prostřed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ěna organizace a prostorového uspořádání dopravního systé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ěna v jednotlivých druzích dopravy (železniční, silniční, vodní, letecká, potrubní) i v jejich vzájemné součin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prava je v současné době oporou současných prostorových a funkčních vztah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gativní dopady doprav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ŽP – znečištění, hluk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ociální důsledky – nehody, ztráty na životech, dopravní zácpy (kongesce)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vyvoj"/>
          <p:cNvPicPr/>
          <p:nvPr/>
        </p:nvPicPr>
        <p:blipFill>
          <a:blip r:embed="rId1"/>
          <a:srcRect l="7545" t="2485" r="4590" b="2994"/>
          <a:stretch/>
        </p:blipFill>
        <p:spPr>
          <a:xfrm>
            <a:off x="6084720" y="1628640"/>
            <a:ext cx="2729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prava, přeprava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bezprostřední uskutečňování dopravou realizovaných vztahů (vlastní transport osob nebo zboží) = užitečný efekt dopravy, velikost přepravy se měří v osobokilometrech/ tunokilometrech (když se něco veze, stává se doprava přepravo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pravní cesta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pás terénu spojující 2 koncové body, na němž se uskutečňuje dopra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eciální dopr. zařízení – silnice, železnic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hmotná podoba – letový koridor, plavební dráha v m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pravní bod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místa, v nichž se uskutečňuje nástup / výstup / přestup / nakládka / vykládka / překlád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pravní uzel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významnější dopravní bod, kde se stýká více dopravních c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pravní síť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soustava dopravních cest propojující jednotlivé dopravní uzly, po dopr. síti se pohybují dopravní prostředky, které zabezpěčují přeprav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eografie dopravy jako dílčí disciplína SE geograf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GD – dílčí geografická disciplína, která se zabývá pohyby nákladů, osob a informací, a to v širokém společenském i fyzicko-geografickém kontextu (Seidenglanz, 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rvald (1993) – předmětem studia GD jsou objekty, jevy a procesy související bezprostředně s dopravou, které jsou sledovány v prostoru a čase ve vzájemných interakcích s ostatními složkami krajinné sféry a také s lokalizovatelnými lidskými aktivitami a výtv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Geografové doprav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naha o vysvětle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storových vztah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zájem o dopravní sítě, které jsou hlavní oporou interak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pravní infrastruktur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zařízení a jiné prvky dopravních sítí (dopravní plochy jako součást landu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samostatnění GD jako dílčí disciplíny až ve 2. pol. 20. stol. – v souvislosti s rychle rostoucí mobilit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ie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vedena do GD v období oblíbenosti kvantitativních metod (60. lé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Řeší dopravní úloh po stránce formá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jm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kcesibilit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dostupnost dopravních bodů a uz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ektivit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spojitost, propojenost dopravní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eviatilit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míra odchylky dopravní cesty anebo dopravní sítě od nejkratší možné odchyl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zl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r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 teorie grafů patří neprázdná množina uzlů a hr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s.muni.cz/do/1499/el/estud/fi/js10/grafy/Grafy-text10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lipsa 3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4"/>
          <p:cNvSpPr/>
          <p:nvPr/>
        </p:nvSpPr>
        <p:spPr>
          <a:xfrm>
            <a:off x="2843280" y="4581360"/>
            <a:ext cx="216000" cy="21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5"/>
          <p:cNvSpPr/>
          <p:nvPr/>
        </p:nvSpPr>
        <p:spPr>
          <a:xfrm>
            <a:off x="5003640" y="4581360"/>
            <a:ext cx="216000" cy="21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6"/>
          <p:cNvSpPr/>
          <p:nvPr/>
        </p:nvSpPr>
        <p:spPr>
          <a:xfrm>
            <a:off x="6227640" y="4508640"/>
            <a:ext cx="216000" cy="21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římá spojovací čára 8"/>
          <p:cNvSpPr/>
          <p:nvPr/>
        </p:nvSpPr>
        <p:spPr>
          <a:xfrm flipV="1">
            <a:off x="5219640" y="4615920"/>
            <a:ext cx="100800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é přístupy v G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ium vlastního dopravního fenomé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ium dopravy jakožto původce nebo spoluaktéra změn v geografickém pros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ium otázek spojených s trvalou udržitelností stávajícího dopravního systé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8:19:53Z</dcterms:created>
  <dc:creator>Svobodova</dc:creator>
  <dc:description/>
  <dc:language>en-US</dc:language>
  <cp:lastModifiedBy>Svobodova</cp:lastModifiedBy>
  <dcterms:modified xsi:type="dcterms:W3CDTF">2011-10-24T07:16:58Z</dcterms:modified>
  <cp:revision>57</cp:revision>
  <dc:subject/>
  <dc:title>Geografie dopravy – úvod, vývoj, základní pojmy</dc:title>
</cp:coreProperties>
</file>