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DB3-49BC-4200-BB97-4114A0133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02CD-6221-4F20-ADFF-A9F90DD43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C6B-7F75-4956-86CE-8BF9B6C84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2093-E3A2-43BE-840B-467C654D9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9840-A3AF-4AD3-A306-EFCC27DAE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A11B-0DC7-4F7F-9EA8-72B54FC93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133E-9BAD-4AF2-BEB7-01EFE67B1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E4C-3E1A-4319-B5D0-DEB8D6A3C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2E1-E9D8-403A-97E0-6F665EC9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121-B4B2-437E-8215-4B477B947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112-F798-4E17-B684-EB28481B5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749D-2192-4C22-A545-CA067EB0E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49F-AFA9-431C-8849-ABF117890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F586-6560-4F8B-A1DA-7FD9F46A7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77B8-56E2-41F6-9221-4C457F45B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0CD6-A126-4752-B7EC-FF48A8F6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3D7-2B43-4A96-A057-37EFA732E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CED7-255E-47D9-AA46-F8CF58C4E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D11-061A-45A5-A23E-2422E1913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9A60-EB7A-4121-A94B-926215339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E4B-437E-4414-9BC6-E161DCAE9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365-B859-4CC7-8415-4B629CBFB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CA6-2746-40F6-86E2-531EB5A2F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3B5-250B-4A61-89FA-F61EEAC0E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22A7-0114-4FEE-BCF4-E32B87EF9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81D4-4F9A-4AF0-B489-484D6C38F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269-34C2-42E9-A7D0-3BB5FA567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698-C603-4D36-A3A0-DB5998968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8C2-F84D-404B-9F22-AAF655519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DA1-29D3-4794-82B8-268E0A177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59A-92F6-4A93-AA39-0A72BFA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C81-DE88-462C-A96A-D83447A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DDC-FBCC-4D06-B90A-35E7C30B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31D-E718-449B-9EC7-0139386E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F09-ADE5-4D82-B83E-88B9727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CCE-D020-4393-8D0D-1589024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834-A96B-45B5-A76B-E3C433C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327-53DF-4FAF-B663-49B1EFC4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D94-A15E-4DE7-B81C-FFC6312B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8AF-F611-4AA5-9A7D-16336EF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563-35D3-4297-AC0C-54CFF46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F00-40D1-425E-A1F4-381C8ED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D5B-66E4-42C9-AD92-EC93BDFD19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chodiska a rámec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estovního ruc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5300280"/>
            <a:ext cx="3305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Přednáška č.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2940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</a:rPr>
              <a:t>Ekonomické aspekty (vlivy) cestovního ruchu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zápatí 8"/>
          <p:cNvSpPr/>
          <p:nvPr/>
        </p:nvSpPr>
        <p:spPr>
          <a:xfrm>
            <a:off x="3059280" y="63817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Regionální rozvoj a pra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1403280" y="836640"/>
            <a:ext cx="5713560" cy="5805360"/>
            <a:chOff x="1403280" y="836640"/>
            <a:chExt cx="5713560" cy="5805360"/>
          </a:xfrm>
        </p:grpSpPr>
        <p:sp>
          <p:nvSpPr>
            <p:cNvPr id="98" name="Rectangle 3"/>
            <p:cNvSpPr/>
            <p:nvPr/>
          </p:nvSpPr>
          <p:spPr>
            <a:xfrm>
              <a:off x="1403280" y="836640"/>
              <a:ext cx="5713560" cy="58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1568160" y="1100160"/>
              <a:ext cx="538128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Calibri"/>
                </a:rPr>
                <a:t>Státní politika cestovního ruchu </a:t>
              </a:r>
              <a:r>
                <a:rPr b="0" lang="cs-CZ" sz="1400" spc="-1" strike="noStrike">
                  <a:solidFill>
                    <a:srgbClr val="000000"/>
                  </a:solidFill>
                  <a:latin typeface="Calibri"/>
                </a:rPr>
                <a:t>– státní propagace, mezistátní smlouvy, úmluvy, podpora spolupráce, věda, legislativa, nekomerční cestovní ru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3785760" y="1858320"/>
              <a:ext cx="1201320" cy="27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Daňový systé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616400" y="2053440"/>
              <a:ext cx="1097280" cy="57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Nabídka cestovního ruc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138480" y="2342520"/>
              <a:ext cx="1056240" cy="4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Trh cestovního ruc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4496400" y="2752200"/>
              <a:ext cx="2446920" cy="38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Fak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Zahraniční vztahy, mobilita, úroveň komunikací, systém dovolených a prázdnin, sociální, vzdělávací a zdravotní systé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Determinan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Disponibilní čas a příjmy, demografické charakteristiky, vzdělání, zdravotní sta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Mo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1. Regenerace – aktivní a pasivní rekreace, lázeňské a ozdravné poby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2. Poznávání – kultura, historie, věda, výzkum, rozvoj osobnosti, vzdělává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3. Kontakty, vazby – příbuzenstvo, přátelé, náboženství, obch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Motivační fak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Pull – přitahující do destinace (např. atraktivnost destina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Push – vytlačující rezidenta z místa bydliště (např. stav životního prostředí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1562040" y="4611960"/>
              <a:ext cx="1332000" cy="19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Atraktivity C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Infrastruktura C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Dostupnost mí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Fak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Politická situ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Ekonomická situ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Klimatické změ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Přírodní katastrof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2975040" y="3232800"/>
              <a:ext cx="1315080" cy="126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Fak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Transparentnost (přístup k informací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Legisl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Vlastnické vzta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5030280" y="2175120"/>
              <a:ext cx="163044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Poptávka cestovního ruc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AutoShape 12"/>
            <p:cNvCxnSpPr/>
            <p:nvPr/>
          </p:nvCxnSpPr>
          <p:spPr>
            <a:xfrm flipV="1">
              <a:off x="2125800" y="2626920"/>
              <a:ext cx="1080" cy="19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Text Box 13"/>
            <p:cNvSpPr/>
            <p:nvPr/>
          </p:nvSpPr>
          <p:spPr>
            <a:xfrm>
              <a:off x="1760400" y="3232800"/>
              <a:ext cx="773280" cy="11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Calibri"/>
                </a:rPr>
                <a:t>Produkt cestovního ruc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libri"/>
                </a:rPr>
                <a:t>Veřejný a soukromý sek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14"/>
            <p:cNvCxnSpPr/>
            <p:nvPr/>
          </p:nvCxnSpPr>
          <p:spPr>
            <a:xfrm>
              <a:off x="4004640" y="2130120"/>
              <a:ext cx="1080" cy="21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AutoShape 15"/>
            <p:cNvCxnSpPr/>
            <p:nvPr/>
          </p:nvCxnSpPr>
          <p:spPr>
            <a:xfrm>
              <a:off x="2713320" y="2432160"/>
              <a:ext cx="425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AutoShape 16"/>
            <p:cNvCxnSpPr/>
            <p:nvPr/>
          </p:nvCxnSpPr>
          <p:spPr>
            <a:xfrm flipH="1">
              <a:off x="4194720" y="2432160"/>
              <a:ext cx="835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17"/>
            <p:cNvCxnSpPr/>
            <p:nvPr/>
          </p:nvCxnSpPr>
          <p:spPr>
            <a:xfrm flipV="1">
              <a:off x="5636880" y="2605320"/>
              <a:ext cx="1080" cy="13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AutoShape 18"/>
            <p:cNvCxnSpPr/>
            <p:nvPr/>
          </p:nvCxnSpPr>
          <p:spPr>
            <a:xfrm>
              <a:off x="4295880" y="1580400"/>
              <a:ext cx="1080" cy="28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AutoShape 19"/>
            <p:cNvCxnSpPr/>
            <p:nvPr/>
          </p:nvCxnSpPr>
          <p:spPr>
            <a:xfrm>
              <a:off x="3310200" y="1577160"/>
              <a:ext cx="1080" cy="76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78544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</a:rPr>
              <a:t>Environmetální aspekty (vlivy) cestovního ruchu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i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sou příjmy ze vstupného do národních parků, jeskyň apod. použity na financování ochrany přírod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ně a poplatky (například daně z příjmů, poplatky za rybářský a lovecký lístek, lázeňské poplatky, pronájem rekreačních zařízení apod.) pomáhají financovat ochranu přírodních zdrojů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spívá k uznání důležitosti ochrany životního prostředí veřejností a k výchově místních obyvatel k jeho ochraně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sledkem atraktivity přírodního prostředí a přírodních zdrojů pro cestovní ruch je vytvoření národních parků, přírodních rezervací apod.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tváří pracovní příležitosti a tím může zabránit devastování přírodního prostředí místními obyvateli (například pytlačení, ilegální kácení lesů apod.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uluje počty návštěvníků v chráněných území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ga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dukce emisí, znečišťování vody či půdy v často velmi chráněných území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yšování míry eroze (míra sešlapu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Šíření nepůvodních a často velmi invazivních druhů rostlin a živočichů v místech C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měna kvalitního původního přírodního prostředí často až v urbanizovanou krajin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484280"/>
          <a:ext cx="8280360" cy="4392720"/>
        </p:xfrm>
        <a:graphic>
          <a:graphicData uri="http://schemas.openxmlformats.org/drawingml/2006/table">
            <a:tbl>
              <a:tblPr/>
              <a:tblGrid>
                <a:gridCol w="2689200"/>
                <a:gridCol w="2691000"/>
                <a:gridCol w="2900160"/>
              </a:tblGrid>
              <a:tr h="566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y cestovního ruc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y cestovního ruc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y cestovního ruc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08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místa 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ůvodu účastník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vlivu na platební bila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očtu účastník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délky tr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způsobu zabezpeč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způsobu financ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řevahy místa poby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věku účastník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kreač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ky orientovaný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ov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onomicky orientovaný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ky orientovaný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ntiv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vac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kovský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etržní a kongresový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eňský a rekreační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4480"/>
                          <a:tab algn="l" pos="146160"/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0" name="Obdélník 6"/>
          <p:cNvSpPr/>
          <p:nvPr/>
        </p:nvSpPr>
        <p:spPr>
          <a:xfrm>
            <a:off x="539640" y="4292640"/>
            <a:ext cx="2448000" cy="6426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má motivy účasti lidí na 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7"/>
          <p:cNvSpPr/>
          <p:nvPr/>
        </p:nvSpPr>
        <p:spPr>
          <a:xfrm>
            <a:off x="3203640" y="4292640"/>
            <a:ext cx="2448000" cy="14655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ření na uspokojování potřeb účastníka C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rou v úvahu způsob realizace 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élník 9"/>
          <p:cNvSpPr/>
          <p:nvPr/>
        </p:nvSpPr>
        <p:spPr>
          <a:xfrm>
            <a:off x="5940360" y="4292640"/>
            <a:ext cx="2448000" cy="1465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 aktiv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tovního ruchu majících konkrétní podobu a určitý svébytný 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8920" cy="648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ruhy C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místa real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domácí C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zahraniční C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) výjezdový – outgoing, pas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) tranzit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) příjezdový – incoming, akt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délky tr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krátkodobý (do čtyř přenoc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dlouhodobý (více než čtyři přenoc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rozložení během ro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celoroč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sezónní (letní, zim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797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způsobu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rganizovan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neorganizovan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příslušnosti účastníků ke skup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individuál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skupinov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způsobu financo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komerční (volný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sociální (vázaný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dle cílové skupi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84280" y="333000"/>
            <a:ext cx="8091360" cy="6476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ruhy C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960" y="189000"/>
            <a:ext cx="7772400" cy="573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ázeňský cestovní ru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640" y="836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Za účelem léčení, prevence či rehabilit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rodní léčivé zdroj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. přírodní vody -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a) minerál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b) termální prame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2. peloid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3. humidity (slatiny, rašelin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4. vřídelní plyny a eman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5. klima (moře, hory, jeskyně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12800" y="3716280"/>
            <a:ext cx="7754760" cy="5763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lužby lázeňského 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délník 6"/>
          <p:cNvSpPr/>
          <p:nvPr/>
        </p:nvSpPr>
        <p:spPr>
          <a:xfrm>
            <a:off x="684360" y="4437000"/>
            <a:ext cx="777528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dravotně-léčebné (proced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bytovací (lázeňské hotely, domy, penziony…)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ravovací  (režimové, nerežimové, doplňková za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ulturní, společenské a sporto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6480" y="189000"/>
            <a:ext cx="7772400" cy="635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ýznamné evropské l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SRN – Baden-Baden, Ga-P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Itálie – Ischia, Abano Terme, montecatini Term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Francie – Aix-les-Bains, Amélie les Bains-Palaida, Dax, Lourdes, Vichy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Maďarsko – Budapešť, Harkány, Héviz, Tapolc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Rakousko – Bad Ischl, Baden bei Wie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Slovensko – Bardejov, Piešťany, Tatranská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     Lomnica, Trenčianské Tepli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Švýcarsko – Baden, Davos, Svatý Mořic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ongresový C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součástí obchodního C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rovozuje se ve volném č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 % v měsících květen, červen, září, říjen, listop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ě trvá 4 d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významnější města kongresového C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říž, Brusel, Londýn, dále i Praha, Budape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493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pecifické formy C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3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R dětí a mláde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niorský 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nkovský CR (agroturismus, ekoturismus,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ekoagroturism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družný 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boženská (poutní) tu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vecký 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stský 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ykloturistika at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TENCIÁL rozvoje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imár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ro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ultur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ekundár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frastru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erciár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stit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ystém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ležité pojmy C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ktivní CR (incoming, příjezdový CR)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příjezdy návštěvníků do hostitelské země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mácí C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cestování a pobyty občana mimo místo jejich obvyklého pobytu za účelem využití volného času, realizace obchodu nebo profesních povinností nebo za jiným účelem, trvajícím ne déle než 1 rok a realizované kompletně ve vlastním stát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zinárodní (zahraniční) C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součet příjezdového cestovního ruchu všech zemí svě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bídka C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maximální množství produktů CR na trhu CR, které má určitý subjekt v úmyslu prodat za danou ce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ruhé bydlení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přechodné místo pobytu vlastníka či uživatele využívajícího tento objekt převážně k rekreačním účelů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rimární potenciál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071720"/>
            <a:ext cx="87138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tváří základní předpoklady pro návštěvnost sledovaného území, a to na základě vymezení dvou hlavních typů atraktivit cestovního ruch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elkové přírodní podmínky daného územ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dnocení potenciálu rekreačních plo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odové hodnocení více ukazatelů přírodní atraktivity území (zvláště chráněná území, lesní plochy, lázeňská území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dnocení z pohledu vhodnosti daného území pro určitou formu cestovního ruchu (sjezdové lyžování, turistika, atd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ulturně-historický předpoklad rozvoje C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dnocení koncentrace a četnosti památek a kulturních atraktivit (UNESCO, památkové rezervace a zóny, hrady, zámky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cení potenciálu rekreační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70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cení přírodní atraktivity územ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992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cení kulturně-historického potenciá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ekundární potenciál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071720"/>
            <a:ext cx="84582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řináší ekonomické zhodnocení přitažlivosti primárního potenciálu (společně s terciárním potenciálem), a to zejména prostřednictví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ákladní turistická infrastruktura a služ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bytovací zařízení a služb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travovací zařízení a služb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oprovodná turistická infrastruktura a služ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Infrastruktura kulturu, sport, volný ča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uristická dopravní infrastruktura a služb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k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rganizované akce (kulturní, sportovní, společenské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Základní turistická infrastruktura a služ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071720"/>
            <a:ext cx="84582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čet ubytovacích zařízení odráží význam cestovního ruchu v region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ákladní dělení ubytovacích zařízení je na hromadné a individuál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ákladní provozní jednotkou je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hotel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městské, tranzitní, rezidenční, kongresové) – zařízení s 10 a více pokoj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hotelová ubytovací zařízení jsou penzion, motel, botel, garni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valita zařízení je hlídána jejich certifikací (Hotel st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ákladní profesní organizace pro hotelnictví a gastronomii je Asociace hotelů a restaurací Č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rázek 7" descr="Obr.certifikace.jpg"/>
          <p:cNvPicPr/>
          <p:nvPr/>
        </p:nvPicPr>
        <p:blipFill>
          <a:blip r:embed="rId1"/>
          <a:stretch/>
        </p:blipFill>
        <p:spPr>
          <a:xfrm>
            <a:off x="8028000" y="3860640"/>
            <a:ext cx="9428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romadná ubytovací zařízení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12549" t="23130" r="11811" b="12303"/>
          <a:stretch/>
        </p:blipFill>
        <p:spPr>
          <a:xfrm>
            <a:off x="324000" y="1008000"/>
            <a:ext cx="8280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</a:rPr>
              <a:t>Individuální ubytovací zařízení (druhé bydlení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12549" t="25591" r="12180" b="11811"/>
          <a:stretch/>
        </p:blipFill>
        <p:spPr>
          <a:xfrm>
            <a:off x="263520" y="981000"/>
            <a:ext cx="838044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uristická doprovodná infrastrukt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tváří konečnou spokojenost hosta s destinací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ejména kulturní zařízení a objekty pro volný č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ypy kulturních zařízení: muzea, galerie, divadla, kin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dělení volnočasových zařízení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doorov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kryté haly, bazény atd.)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utdoorov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veškeré venkovní sportoviště, golf, lanová centra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6" descr="golf.jpg"/>
          <p:cNvPicPr/>
          <p:nvPr/>
        </p:nvPicPr>
        <p:blipFill>
          <a:blip r:embed="rId1"/>
          <a:stretch/>
        </p:blipFill>
        <p:spPr>
          <a:xfrm>
            <a:off x="6443640" y="3801960"/>
            <a:ext cx="2382840" cy="17877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7" descr="cyklo.jpg"/>
          <p:cNvPicPr/>
          <p:nvPr/>
        </p:nvPicPr>
        <p:blipFill>
          <a:blip r:embed="rId2"/>
          <a:stretch/>
        </p:blipFill>
        <p:spPr>
          <a:xfrm>
            <a:off x="2771640" y="4149720"/>
            <a:ext cx="3391200" cy="225756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9" descr="muzeum hasicu.jpg"/>
          <p:cNvPicPr/>
          <p:nvPr/>
        </p:nvPicPr>
        <p:blipFill>
          <a:blip r:embed="rId3"/>
          <a:stretch/>
        </p:blipFill>
        <p:spPr>
          <a:xfrm>
            <a:off x="324000" y="3935520"/>
            <a:ext cx="21650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ávštěvnost TOP 10 turistických cílů v Č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4429" t="20177" r="4429" b="15748"/>
          <a:stretch/>
        </p:blipFill>
        <p:spPr>
          <a:xfrm>
            <a:off x="117360" y="1052640"/>
            <a:ext cx="8890200" cy="51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ležité pojmy C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Odvětví CR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– část ekonomiky, jejíž funkcí je naplnění potřeb návštěvník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Pasivní CR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– souhrn cest, při nichž občané daného státu vyjíždějí jako účastníci CR za jeho hrani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Příměstská rekreace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– rekreace v zázemí měst, využívající díky dobré dostupnosti městskou veřejnou dopravu, pěšky nebo na kolech příměstské parky, rekreační zařízení, vodní plochy, lesy apo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Region CR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– území relativně homogenní z hlediska předpokladů pro realizace CR – typů atraktivit CR, dostupnosti, infrastruktury CR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Satelitní účet CR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– specifický meziodvětvový účet dávající přesnější ekonomický a sociální obraz o postavení CR v N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pravní turistická infrastrukt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1. způsob dopravení hosta do cílové destinace tzv. propojení zdrojové a cílové oblas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2. specifický typ dopravně-turistické infrastrukt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pěší a cykloturistiku (trasy, naučné stezky, hipostezky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imní sporty (vleky, lanovky, běžecké trasy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ecifické typy dopravních služeb (skibusy, cyklobusy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ama doprava může působit na návštěvníky i jako samostatný cíl cestovního ruchu (cruising, karavany…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Obrázek 10" descr="Lanovka_Petřín.jpg"/>
          <p:cNvPicPr/>
          <p:nvPr/>
        </p:nvPicPr>
        <p:blipFill>
          <a:blip r:embed="rId1"/>
          <a:stretch/>
        </p:blipFill>
        <p:spPr>
          <a:xfrm>
            <a:off x="-36360" y="4935600"/>
            <a:ext cx="2887560" cy="19224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11" descr="Parník.jpg"/>
          <p:cNvPicPr/>
          <p:nvPr/>
        </p:nvPicPr>
        <p:blipFill>
          <a:blip r:embed="rId2"/>
          <a:stretch/>
        </p:blipFill>
        <p:spPr>
          <a:xfrm>
            <a:off x="6516720" y="4373640"/>
            <a:ext cx="2597040" cy="1719360"/>
          </a:xfrm>
          <a:prstGeom prst="rect">
            <a:avLst/>
          </a:prstGeom>
          <a:ln w="0">
            <a:noFill/>
          </a:ln>
        </p:spPr>
      </p:pic>
      <p:pic>
        <p:nvPicPr>
          <p:cNvPr id="167" name="Obrázek 12" descr="hist.šalina.jpg"/>
          <p:cNvPicPr/>
          <p:nvPr/>
        </p:nvPicPr>
        <p:blipFill>
          <a:blip r:embed="rId3"/>
          <a:stretch/>
        </p:blipFill>
        <p:spPr>
          <a:xfrm>
            <a:off x="3417840" y="4653000"/>
            <a:ext cx="2594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rganizované akce v územ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71720"/>
            <a:ext cx="87138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znamný boom organizování akcí v destinacích C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lavní cíl akc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abavit hosta a připravit mu takový zážitek, aby se kvůli němu do destinace vrát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losvětový trend v návratu k autenticitě území a obnově historických tradic a sounáležit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kce různého charakteru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portovní, společenské, kultur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Obrázek 9" descr="jarmark.jpg"/>
          <p:cNvPicPr/>
          <p:nvPr/>
        </p:nvPicPr>
        <p:blipFill>
          <a:blip r:embed="rId1"/>
          <a:stretch/>
        </p:blipFill>
        <p:spPr>
          <a:xfrm>
            <a:off x="6330960" y="4076640"/>
            <a:ext cx="2813040" cy="19861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3" descr="vinarství.jpg"/>
          <p:cNvPicPr/>
          <p:nvPr/>
        </p:nvPicPr>
        <p:blipFill>
          <a:blip r:embed="rId2"/>
          <a:stretch/>
        </p:blipFill>
        <p:spPr>
          <a:xfrm>
            <a:off x="0" y="3573360"/>
            <a:ext cx="3246480" cy="2162160"/>
          </a:xfrm>
          <a:prstGeom prst="rect">
            <a:avLst/>
          </a:prstGeom>
          <a:ln w="0">
            <a:noFill/>
          </a:ln>
        </p:spPr>
      </p:pic>
      <p:pic>
        <p:nvPicPr>
          <p:cNvPr id="172" name="Obrázek 14" descr="colours.jpg"/>
          <p:cNvPicPr/>
          <p:nvPr/>
        </p:nvPicPr>
        <p:blipFill>
          <a:blip r:embed="rId3"/>
          <a:stretch/>
        </p:blipFill>
        <p:spPr>
          <a:xfrm>
            <a:off x="2771640" y="4424400"/>
            <a:ext cx="3672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rciární potenciál cestovního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Řídící instituce a subjekty cestovního ru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působy a systémy řízení rozvoje cestovního ru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užívané nástr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ové trendy v cestovním ru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potřebitelské trendy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uristé více upřednostňují kvalitu před kvantit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íce dovolených blíže k domo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stoucí význam mobilních a internetových technologi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leisure trips – kombinace „busin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eisur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stoucí význam value fo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naha o sebezdokonal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kologie a životní prostře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ulinář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6" descr="value-for-money.jpg"/>
          <p:cNvPicPr/>
          <p:nvPr/>
        </p:nvPicPr>
        <p:blipFill>
          <a:blip r:embed="rId1"/>
          <a:stretch/>
        </p:blipFill>
        <p:spPr>
          <a:xfrm>
            <a:off x="5940360" y="3933720"/>
            <a:ext cx="29527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ležité pojmy C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tředisko C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sídelní útvar, jehož hlavním funkčním využitím a ekonomických přínosem je C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urist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cestující, který se zdrží v navštíveném místě aspoň 24 hodin za účelem využití volného času a v tomto místě také přespí v hromadném nebo soukromém ubytovacím zaříz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držitelný C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CR, který dlouhodobě nenarušuje přírodní, kulturní a sociální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ýjezdový C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(outgoing)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CR obyvatel dané země, realizovaný cestou do jiných zemí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hraniční C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druh CR, při němž dochází k překročení státních hranic. Pojem je používán z pohledu daného státu a je vyjádřen jako souhrn příjezdového a výjezdového C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Základní vztahy v cestovním ruchu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236520" y="907920"/>
            <a:ext cx="8675640" cy="5257800"/>
            <a:chOff x="236520" y="907920"/>
            <a:chExt cx="8675640" cy="5257800"/>
          </a:xfrm>
        </p:grpSpPr>
        <p:sp>
          <p:nvSpPr>
            <p:cNvPr id="59" name="Text Box 17"/>
            <p:cNvSpPr/>
            <p:nvPr/>
          </p:nvSpPr>
          <p:spPr>
            <a:xfrm>
              <a:off x="236520" y="907920"/>
              <a:ext cx="8675640" cy="525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38840" y="3741120"/>
              <a:ext cx="8265240" cy="22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dvětví cestovního ruc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3123720" y="1514880"/>
              <a:ext cx="5207400" cy="94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ktivity cestujících os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mimo trvalé bydliště a zaměstnání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347040" y="1514880"/>
              <a:ext cx="1851120" cy="9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stující oso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návštěvníc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3"/>
            <p:cNvSpPr/>
            <p:nvPr/>
          </p:nvSpPr>
          <p:spPr>
            <a:xfrm>
              <a:off x="2295000" y="1796760"/>
              <a:ext cx="766080" cy="403560"/>
            </a:xfrm>
            <a:prstGeom prst="rightArrow">
              <a:avLst>
                <a:gd name="adj1" fmla="val 50000"/>
                <a:gd name="adj2" fmla="val 47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3321000" y="4298760"/>
              <a:ext cx="5207400" cy="15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ývoj, produkce, distribuce, poskytování a marketing produktů a služeb sloužících potřebám cestujících os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592560" y="4298760"/>
              <a:ext cx="1851480" cy="15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řejné, podnikatelské a neziskové subjek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0"/>
            <p:cNvSpPr/>
            <p:nvPr/>
          </p:nvSpPr>
          <p:spPr>
            <a:xfrm>
              <a:off x="2554560" y="4853880"/>
              <a:ext cx="648720" cy="403920"/>
            </a:xfrm>
            <a:prstGeom prst="rightArrow">
              <a:avLst>
                <a:gd name="adj1" fmla="val 50000"/>
                <a:gd name="adj2" fmla="val 474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3644280" y="2525760"/>
              <a:ext cx="346680" cy="1145520"/>
            </a:xfrm>
            <a:prstGeom prst="upDownArrow">
              <a:avLst>
                <a:gd name="adj1" fmla="val 50000"/>
                <a:gd name="adj2" fmla="val 657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5552280" y="2525760"/>
              <a:ext cx="346680" cy="1145520"/>
            </a:xfrm>
            <a:prstGeom prst="upDownArrow">
              <a:avLst>
                <a:gd name="adj1" fmla="val 50000"/>
                <a:gd name="adj2" fmla="val 657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7461360" y="2525760"/>
              <a:ext cx="346680" cy="1145520"/>
            </a:xfrm>
            <a:prstGeom prst="upDownArrow">
              <a:avLst>
                <a:gd name="adj1" fmla="val 50000"/>
                <a:gd name="adj2" fmla="val 657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liv cestovního ruchu na další odvětv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082520"/>
          <a:ext cx="3240000" cy="54262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3049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mý vl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ací zaříz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vovací zaříz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í kancelář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istická informační ce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0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tecká dopr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ční dopr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busová dopr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ájem automobil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ervi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cí sta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isluž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klu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ovní 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z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ad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ní památ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eňst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omínkové předmě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materiá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y, katalogy, tištěné průvod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ovní zaříz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16360" y="1123920"/>
          <a:ext cx="3313080" cy="523260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335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římý vl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7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průmy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roba potrav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roba náp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roba dopravních prostředk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roba pohonných hm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ěvní průmy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roba sportovních předmětů a potř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unikační sít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9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né služby obyvatelstv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ní sí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enst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75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inotvor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Odvětví cestovního ruchu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"/>
          <p:cNvGrpSpPr/>
          <p:nvPr/>
        </p:nvGrpSpPr>
        <p:grpSpPr>
          <a:xfrm>
            <a:off x="414360" y="985680"/>
            <a:ext cx="8315280" cy="5220000"/>
            <a:chOff x="414360" y="985680"/>
            <a:chExt cx="8315280" cy="5220000"/>
          </a:xfrm>
        </p:grpSpPr>
        <p:sp>
          <p:nvSpPr>
            <p:cNvPr id="77" name="Text Box 15"/>
            <p:cNvSpPr/>
            <p:nvPr/>
          </p:nvSpPr>
          <p:spPr>
            <a:xfrm>
              <a:off x="414360" y="985680"/>
              <a:ext cx="8315280" cy="52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dvětví cestovního ruch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3464280" y="4853880"/>
              <a:ext cx="22154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Kulturní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2044800" y="1494360"/>
              <a:ext cx="5054760" cy="185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polupráce v cestovním ruch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OCR, DSO, PPP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3708000" y="2673000"/>
              <a:ext cx="1728720" cy="121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odnikatelská sfé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1"/>
            <p:cNvSpPr/>
            <p:nvPr/>
          </p:nvSpPr>
          <p:spPr>
            <a:xfrm>
              <a:off x="6201720" y="1317600"/>
              <a:ext cx="1728360" cy="122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Neziskový sek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1212480" y="1317600"/>
              <a:ext cx="1728720" cy="122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řejná  správ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9"/>
            <p:cNvSpPr/>
            <p:nvPr/>
          </p:nvSpPr>
          <p:spPr>
            <a:xfrm>
              <a:off x="3464280" y="4020120"/>
              <a:ext cx="2215440" cy="67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portovní a volnočasové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6300720" y="5030640"/>
              <a:ext cx="2215440" cy="10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ční a podpůrné služby (TIC, různé subjekty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643320" y="4553640"/>
              <a:ext cx="22154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pravní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6300720" y="3200760"/>
              <a:ext cx="2215440" cy="168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stribuční a produktové služby (cestovní kanceláře, cestovní agentury, organizace cestovního ruchu, různé subjekty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"/>
            <p:cNvSpPr/>
            <p:nvPr/>
          </p:nvSpPr>
          <p:spPr>
            <a:xfrm>
              <a:off x="643320" y="3890160"/>
              <a:ext cx="22154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ravovací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643320" y="3200760"/>
              <a:ext cx="22154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Ubytovací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"/>
            <p:cNvSpPr/>
            <p:nvPr/>
          </p:nvSpPr>
          <p:spPr>
            <a:xfrm>
              <a:off x="643320" y="5216760"/>
              <a:ext cx="2215440" cy="84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provodné služby (obchod, občanské služby, finanční služby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"/>
            <p:cNvSpPr/>
            <p:nvPr/>
          </p:nvSpPr>
          <p:spPr>
            <a:xfrm>
              <a:off x="3464280" y="5516280"/>
              <a:ext cx="22154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statní služb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Sociální aspekty (vlivy) cestovního ruch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i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vytvářením pracovních míst a podporou sociálního rozvoje, přerozdělením příjmů, zmírňováním chudoby, což má za následek posilňování komunity v regionu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střednictvím kulturně – výchovné funkce cestovního ruchu, kdy se lidi kontaktují a vnitřně se navzájem obohacují, více si rozumí a ztrácejí předsudky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střednictvím funkce cestovního ruchu jako mírotvorného činitel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zvyšováním životního standardu místních obyvatel, kdy mohou využívat zařízení, vybudovaná pro návštěvníky regionu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střednictvím záchrany kulturních tradic, historie, tradičních řemesel apod.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zainteresováním místních obyvatel na ochraně přírodních a kulturních hodnot, stimulací jejich pocitu hrdosti na tradice a histori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ga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ozdělení společnosti (dualizaci) na dvě odlišné společensko-ekonomické skupin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Turistická iritace měřená tzv. iritačním indexem (euforie, apatie, znechucení, antagonismus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Akulturace prostředí (rychle a výrazně měnící se životní styl místní komunity a ztráta její autentičnosti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</a:rPr>
              <a:t>Ekonomické aspekty (vlivy) cestovního ruchu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i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lepšení aktivní platební bilance státu prostřednictvím příjezdového cestovního ruchu (tzv. neviditelný expo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nos daní a poplatků, které zvyšují příjmy do místních i státního rozpoč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pora rozvoje malého a středního podnikání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tváří a zvyšuje zaměstnanos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imulace investic do místní infrastruktury (vodovody, kanalizace, elektrifikace, telekomunikace, silniční a železniční sít, letiště) apod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voj oblasti služeb, které může využívat nejen návštěvník ale i místní obyvatel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gati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kryté náklady pro veřejný sektor a odčerpávání zisku mimo destina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konomická závislost místní komunity na rozvoji C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zónnost a s tím spojená přetíženost středisek C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znik turistických ghett a porušování genia lo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7:19:52Z</dcterms:created>
  <dc:creator>Svobodova</dc:creator>
  <dc:description/>
  <dc:language>en-US</dc:language>
  <cp:lastModifiedBy>Svobodova</cp:lastModifiedBy>
  <dcterms:modified xsi:type="dcterms:W3CDTF">2013-11-20T15:37:57Z</dcterms:modified>
  <cp:revision>22</cp:revision>
  <dc:subject/>
  <dc:title>Snímek 1</dc:title>
</cp:coreProperties>
</file>