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E52B-85EE-45D1-9A48-2D1B67B5A5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400A-7F06-479B-9A0F-37C51A424F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963-E7AB-4257-8C16-FA379F96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833-5378-48DF-A78D-4BF5B46F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65C-E0E5-42F8-81B9-66276904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190-96E0-43C9-9D58-6AD94209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6C1-227C-4141-95B2-567BFCA8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EE6-4332-4660-A13B-BC4121BE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536-5012-49C8-BB40-249366A8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291-AA16-4300-8BBE-EFD13BA8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801-6338-4610-B02E-CDB11E89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D58-CE62-4332-905D-D83C79C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701-C102-448D-BA79-EE53E24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C7E-9A1E-4D89-AF5F-339847DB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99AF-D288-4B7E-B2D6-B48AEC2FE4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e nevýrobní sféry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768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98989"/>
                </a:solidFill>
                <a:latin typeface="Calibri"/>
              </a:rPr>
              <a:t>Geografie nevýrobní sfé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98989"/>
                </a:solidFill>
                <a:latin typeface="Calibri"/>
              </a:rPr>
              <a:t>Přednáška č.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98989"/>
                </a:solidFill>
                <a:latin typeface="Calibri"/>
              </a:rPr>
              <a:t>© H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4176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y lokalizace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Obrázek 3" descr="nerudova-45.jpg"/>
          <p:cNvPicPr/>
          <p:nvPr/>
        </p:nvPicPr>
        <p:blipFill>
          <a:blip r:embed="rId1"/>
          <a:stretch/>
        </p:blipFill>
        <p:spPr>
          <a:xfrm>
            <a:off x="0" y="549360"/>
            <a:ext cx="3924360" cy="294156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4" descr="olympia-brno.jpg"/>
          <p:cNvPicPr/>
          <p:nvPr/>
        </p:nvPicPr>
        <p:blipFill>
          <a:blip r:embed="rId2"/>
          <a:stretch/>
        </p:blipFill>
        <p:spPr>
          <a:xfrm>
            <a:off x="4572000" y="54936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rcRect l="0" t="3563" r="1217" b="10797"/>
          <a:stretch/>
        </p:blipFill>
        <p:spPr>
          <a:xfrm>
            <a:off x="1547640" y="3716280"/>
            <a:ext cx="59770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ie sektor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Teorie sek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Clark 1940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ákladní koncepce hosp. rozvoje, která si všímala začínající transpozice služeb v sektorové struktuře N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nes jsou služby klíčovým ekonomickým sektorem N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 hlediska zaměstna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vorby HD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zhodující v mezinárodním obchod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efinice + klasifikace služeb – nejednotn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 pohledu teorie sektorů se ze třetího sektoru (terciéru) vyčleňují další 2 sektory: kvartér a kvintér (viz dá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ie tří sektor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znam služeb v ekonomice souvisí se strukturálními změnami v N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. B. G. Fischer – formulac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eorie tří sekto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uje příčiny a strukturální změny národních ekonom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ekonomika je složena ze 3 sekto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imární sekto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zemědělstv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ekundární sekto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 průmys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erciární sekto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služ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incipem teorie je pohled na to, jak dochází k hospodářskému rozvoji vlivem proměn a změn významu jednotlivých sektorů HN v č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jednotlivá časová období vývoje sledujeme dominanci jistého sektoru, zatímco ekonomická pozice ostatních sektorů je slabš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ě dochází k oslabování priméru (deagrarizace), poté rozvoji sekundéru a nejpozději k posilování tericéru (terciarizace) – tyto změny probíhají v etapá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kem změn jsou přesuny základních komponent výroby, tj. pracovní síly a kapit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ie tří sektor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tapy z hlediska transferu pracovních sil (Jean Fourasti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. etapa: primární společnosti, kde dominantní postavení má zemědělství, ve vyspělých státech je tato etapa již histori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. etapa: dominantní postavení ve společnosti a národním hospodářství má průmysl (na zaměstnanosti, produkci HDP), dochází k výrazným prostorovým změnám (urbaniza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3. etapa: terciární společ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délník 7"/>
          <p:cNvSpPr/>
          <p:nvPr/>
        </p:nvSpPr>
        <p:spPr>
          <a:xfrm>
            <a:off x="684360" y="5732640"/>
            <a:ext cx="439236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jové tendence a změny ve struktuře zaměstnanosti podle s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rázek 8" descr="Fourastie.png"/>
          <p:cNvPicPr/>
          <p:nvPr/>
        </p:nvPicPr>
        <p:blipFill>
          <a:blip r:embed="rId1"/>
          <a:stretch/>
        </p:blipFill>
        <p:spPr>
          <a:xfrm>
            <a:off x="5003640" y="3666960"/>
            <a:ext cx="3865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činy sektorových změ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Fischer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sektorové změny jsou vyvolány </a:t>
            </a:r>
            <a:r>
              <a:rPr b="0" lang="cs-CZ" sz="2200" spc="-1" strike="noStrike">
                <a:solidFill>
                  <a:srgbClr val="c0504d"/>
                </a:solidFill>
                <a:latin typeface="Calibri"/>
              </a:rPr>
              <a:t>změnami ve spotřebě a reálných příjmech ve společnost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které jsou přímo úměrné růstu životní úrovně obyvatelstva. Podle toho se těžiště poptávky přesouvá ze sféry základních hodnot (potraviny) k hodnotám trvalého užitku a nakonec ke službá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Clark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změny v sektorové struktuře NH </a:t>
            </a:r>
            <a:r>
              <a:rPr b="0" lang="cs-CZ" sz="2200" spc="-1" strike="noStrike">
                <a:solidFill>
                  <a:srgbClr val="c0504d"/>
                </a:solidFill>
                <a:latin typeface="Calibri"/>
              </a:rPr>
              <a:t>reagují diferencovaně v závislosti  na dynamice produktivity prác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nejmenší je v zemědělství, vyšší ve službách, nejvyšší v průmyslu. Nejvyšší dynamika hosp. rozvoje je výsledkem transferu pracovní síly ze sektoru zemědělství do sektoru průmyslu a vysoká absorpční schopnost pracovní síly v sektoru služeb je nepoměrně nižší ve vztahu k průmysl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Fourastié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hl. příčina sektorových změn spočívá </a:t>
            </a:r>
            <a:r>
              <a:rPr b="0" lang="cs-CZ" sz="2200" spc="-1" strike="noStrike">
                <a:solidFill>
                  <a:srgbClr val="c0504d"/>
                </a:solidFill>
                <a:latin typeface="Calibri"/>
              </a:rPr>
              <a:t>v technickém a technologickém pokro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dostatky 3-sektorového mode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1341000"/>
            <a:ext cx="856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 pohledu vývojových projekcí je 3-sektorový model zjednodušeným a nedostatečným schématem změn, kterými prochází světový hosp. systé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etapě globalizace svět. ekonomiky </a:t>
            </a:r>
            <a:r>
              <a:rPr b="0" lang="cs-CZ" sz="1800" spc="-1" strike="noStrike">
                <a:solidFill>
                  <a:srgbClr val="c0504d"/>
                </a:solidFill>
                <a:latin typeface="Calibri"/>
              </a:rPr>
              <a:t>se intervaly změn rychle zkracu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del není univerzální – platí zejména pro hosp. vyspělé země, které prošly plným cyklem od priméru přes sekundér k tercié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méně rozvinuté země příliš neplatí (založeny na agrárním sektoru, nízký stupeň terciarizace) – mezisektorové změny jsou pozvolnějš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některých státech (které mají např. ekonomiku založenou na CR – Bahamy…) úplně chybí industriální fá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4140360" y="3933720"/>
            <a:ext cx="45432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4 a 5 sektor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užby označované jako terciér se vlivem vývoje rychle mění 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rozrůstání terciárních aktivit a odvětvové diverzifikace sektoru služe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to byl 3-sektorový model nahrazen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delem 4 sek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poté i modelem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5 sektor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Terciární sektor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činnosti a služby s vysokým podíle méně kvalifikované prácovní síly (obchodní a osobní služby, maloobchod, pohostinství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vartérní sektor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vysoce specializované činnosti a služby s vysokými nároky na kvalifikovanou pracovní sílu (informační činnosti, finance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vintérní sektor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aktivity spojené s rozhodováním, interpretací myšlenek a informací, inovace – VaV, vysoký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konomický význam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V minulosti služby podceňovány – „statky, které neprodukují žádnou hodnotu“ (Adam Smith, 1776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K. Marx – rozdělení sektorů na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produktivní a neproduktivní 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toto pojetí přejala centrálně plánovaná ekonomika a výsledkem bylo podcenění celého sektoru služeb a jeho zaostávání za vývojem v tržních ekonomiká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Dynamický rozvoj služeb – 1. pol. 20. stol. – rozvoj dopravy a spoj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V současnosti – doprava a spoje, finanční a informační služby, podnikání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Rostoucí podíl služeb v ekonomice je dán změnam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Demografickými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prodlužování střední délky života, populační růst a zvyšující se podíl vzdělaného obyvatelstva, urbanizace a rozvoj měs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Společenskými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zvyšující se počet pracujících žen, růst příjmů domácností a tím i jejich životní úrovně, rozvoj telekomunikací, zvyšující ser mobilita obyvatel a růst zájmu o služby jako domácí práce, hlídání dětí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Ekonomickými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zvýšení životní úrovně obyv., rozvoj techniky a technologií, zvýšení produktivity práce, globalizace hospodářství a tím i zvyšující se poptávka po finančních a informačních službá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Calibri"/>
              </a:rPr>
              <a:t>Politicko-správními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 – zmenšující se podíl státního sektoru, hosp. integr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rciarizace H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erciariz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H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= intenzivní rozvoj sektoru služeb (terciér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konomický význam služeb spatřován v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Tvorbě HDP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zásadní pro tvorbu HDP jak u ekonomicky vyspělých zemí, tak u zemí rozvíjejících se (ve vyspělých zemích tvoří sektor služeb 60–70 % HDP i ví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Zaměstnanost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rozvoj služeb je spjat se zvyšujícím se podílem nově vytvořených pracovních mí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Mezinárodním obchod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– od 80. let 20. stol. se obchod se službami zvyšuje – export i import, obchod se službami je z více jak poloviny tvořen službami v CR a dopravo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 6" descr=""/>
          <p:cNvPicPr/>
          <p:nvPr/>
        </p:nvPicPr>
        <p:blipFill>
          <a:blip r:embed="rId1"/>
          <a:stretch/>
        </p:blipFill>
        <p:spPr>
          <a:xfrm>
            <a:off x="1828800" y="3852720"/>
            <a:ext cx="484020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efinice a klasifikace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ice služeb – negativní vymezení – všechno ostatní, co není možné zařadit do zemědělství nebo průmyslu; vše, co nesouvisí s materiální produ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tupy sektoru služeb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hmotné výrobk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é nemohou být skladovány, transportovány nebo vlastněny. Služby lze koupit, prodat, ale nelze je fyzicky uchop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, klasifikace – různorod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lužby existují ve sféře výroby, oběhu i spotře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blasti spotřeby mohou služby uspokojovat potřeby celé společnosti (bezpečnost, státní správa) =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služby veřejnos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/ nebo jednotlivců =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služby obyvatelstv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lužby obyvatelstv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lužby věcn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souvisejí s hmotnými statky, které se opravují a udržují (opravy, údržba) nebo se pomocí nich udržuje čistota a hygiena (čistírny, úklid) nebo se pomocí nich přemisťuje (doprava nákladn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lužby osob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slouží člověku bezprostředně (zdravotnictví, školství, kultura, osobní dopra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zczyrba, Z.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eografie služeb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 In: Toušek, V. a kol. Ekonomická a sociální geografie. Plzeň: Nakladatelství Aleš Čeněk, 2008. s. 271–29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efinice a klasifikace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48428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rekventované klasifikace, rozlišení </a:t>
            </a:r>
            <a:r>
              <a:rPr b="0" lang="cs-CZ" sz="1800" spc="-1" strike="noStrike">
                <a:solidFill>
                  <a:srgbClr val="c0504d"/>
                </a:solidFill>
                <a:latin typeface="Calibri"/>
              </a:rPr>
              <a:t>podle koncového uživatele a spotřebitele služeb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třební / spotřebitelsk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orientovány na koncového individuálního zákazníka, spotřebitele (maloobchod, CR… - geogr. subdisciplíny se zabývají např. tržními preferencemi obyvatel, změnami prostorových vzorců apo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ržní / pro podniká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1) výrobní služby (služby pro podniky), 2) dopravní a komunikační služ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eřejné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služby, které poskytuje či pomáhá financovat veřejný sektor – státní správa, obrana, politické str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lasifikace podle </a:t>
            </a:r>
            <a:r>
              <a:rPr b="0" lang="cs-CZ" sz="1800" spc="-1" strike="noStrike">
                <a:solidFill>
                  <a:srgbClr val="c0504d"/>
                </a:solidFill>
                <a:latin typeface="Calibri"/>
              </a:rPr>
              <a:t>dosažené úrovně civilizační vyspělos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ré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s hosp. rozvoje význam klesá nebo celkově upadá (některé řemeslné služb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mentár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doplňují proces industrializace (administrativa, finanční, dopravní, logistické služby), charakteristický je skokový růst v závislosti na dosaženém stupni tech. rozv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ové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rozvoj nastupuje s masovou spotřebou zboží a některých služeb (sport, zdraví, CR, informa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efinice a klasifikace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773360"/>
            <a:ext cx="324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lasifikace dle Singelmanna, 4 skupiny služeb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0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istribuč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např. obchodní služby, dopr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0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ýrob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peněžní služby, poradenstv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0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ociál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vzdělávání, zdravotnictví, soc. služ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0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sob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kadeřnictví, ubytování, strav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0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rcRect l="6295" t="7921" r="6295" b="10874"/>
          <a:stretch/>
        </p:blipFill>
        <p:spPr>
          <a:xfrm>
            <a:off x="3564000" y="2276640"/>
            <a:ext cx="5387760" cy="400500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7"/>
          <p:cNvSpPr/>
          <p:nvPr/>
        </p:nvSpPr>
        <p:spPr>
          <a:xfrm>
            <a:off x="3576240" y="18352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lenění dle </a:t>
            </a:r>
            <a:r>
              <a:rPr b="0" lang="cs-CZ" sz="1800" spc="-1" strike="noStrike">
                <a:solidFill>
                  <a:srgbClr val="c0504d"/>
                </a:solidFill>
                <a:latin typeface="Calibri"/>
              </a:rPr>
              <a:t>NA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8"/>
          <p:cNvSpPr/>
          <p:nvPr/>
        </p:nvSpPr>
        <p:spPr>
          <a:xfrm>
            <a:off x="3564000" y="3645000"/>
            <a:ext cx="5400720" cy="26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rendy v tercié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484280"/>
            <a:ext cx="849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poptávky po službách ze strany průmyslových podniků – reklama, marketing, VaV, strategické plán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xternalizace služ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vozování služeb z průmyslové výroby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vod – snižování nákladů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fragmentace firem na několik subjektů, z nichž část v průmyslu a část ve služb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Outsorcing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nákup služeb, např. účetnictví, úklid… externí fir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ímto procesem došlo k přesunu množství pracovníků ze sekundéru do služ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ímto způsobem vznikají různé typy ekonomických sí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ternalizace služeb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opak externaliz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ělé zvyšování podílu pracovníků v průmyslu, ti však nejsou součástí výrobního průmyslového proce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ca 30 % z celkového počtu pracovníků ve výrob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Uspořádání služeb v prost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1600200"/>
            <a:ext cx="662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hodující fakto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mografické – původně nejdůležitější, vysvětlení koncentrace služeb do populačních center; vyvolání dojížďky obyvatel za služb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rukturní – lokalizace určitých druhů služeb podle frekvence jejich využívání – rozdělení služeb na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áklad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šš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ejvyšš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lečensk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konomick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itick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echnologick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iference v čase a prosto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avá složená závorka 5"/>
          <p:cNvSpPr/>
          <p:nvPr/>
        </p:nvSpPr>
        <p:spPr>
          <a:xfrm>
            <a:off x="6659640" y="2205000"/>
            <a:ext cx="288720" cy="201600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2016000"/>
              <a:gd name="textAreaBottom" fmla="*/ 20088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8"/>
                </a:cubicBezTo>
                <a:lnTo>
                  <a:pt x="10800" y="10542"/>
                </a:lnTo>
                <a:cubicBezTo>
                  <a:pt x="10800" y="10671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8"/>
                </a:cubicBezTo>
                <a:lnTo>
                  <a:pt x="10800" y="21342"/>
                </a:lnTo>
                <a:cubicBezTo>
                  <a:pt x="10800" y="214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délník 6"/>
          <p:cNvSpPr/>
          <p:nvPr/>
        </p:nvSpPr>
        <p:spPr>
          <a:xfrm>
            <a:off x="7093080" y="2276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 pro teorii centrálních mí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avá složená závorka 7"/>
          <p:cNvSpPr/>
          <p:nvPr/>
        </p:nvSpPr>
        <p:spPr>
          <a:xfrm>
            <a:off x="2987640" y="4508640"/>
            <a:ext cx="289080" cy="64908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649080"/>
              <a:gd name="textAreaBottom" fmla="*/ 64188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1"/>
                  <a:pt x="10800" y="801"/>
                </a:cubicBezTo>
                <a:lnTo>
                  <a:pt x="10800" y="9999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1"/>
                  <a:pt x="10800" y="11601"/>
                </a:cubicBezTo>
                <a:lnTo>
                  <a:pt x="10800" y="20799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8"/>
          <p:cNvSpPr/>
          <p:nvPr/>
        </p:nvSpPr>
        <p:spPr>
          <a:xfrm>
            <a:off x="3564000" y="5013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služby fungující na základě poptávky podniků a pro podnik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avá složená závorka 9"/>
          <p:cNvSpPr/>
          <p:nvPr/>
        </p:nvSpPr>
        <p:spPr>
          <a:xfrm>
            <a:off x="3203640" y="5013360"/>
            <a:ext cx="288720" cy="64764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647640"/>
              <a:gd name="textAreaBottom" fmla="*/ 640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2"/>
                  <a:pt x="10800" y="803"/>
                </a:cubicBezTo>
                <a:lnTo>
                  <a:pt x="10800" y="9997"/>
                </a:lnTo>
                <a:cubicBezTo>
                  <a:pt x="10800" y="10399"/>
                  <a:pt x="16200" y="10800"/>
                  <a:pt x="21600" y="10800"/>
                </a:cubicBezTo>
                <a:cubicBezTo>
                  <a:pt x="16200" y="10800"/>
                  <a:pt x="10800" y="11202"/>
                  <a:pt x="10800" y="11603"/>
                </a:cubicBezTo>
                <a:lnTo>
                  <a:pt x="10800" y="20797"/>
                </a:lnTo>
                <a:cubicBezTo>
                  <a:pt x="10800" y="2119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11"/>
          <p:cNvSpPr/>
          <p:nvPr/>
        </p:nvSpPr>
        <p:spPr>
          <a:xfrm>
            <a:off x="3441600" y="458136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důležitější pro spotřební služ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bslužná střediska a metody jejich výbě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běr středisek na základě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atistických charakteristi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ymezení na základě údajů o funkci, kapacitě a využití služeb v sídl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užití běžně zjišťovaných stat. úřady nebo resortními soupi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běr středisek na základě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ynamických charakteristi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ymezení na základě velikosti obsluhovaného území, tj. na základě obslužných procesů mezi síd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užití dat o spádovosti obyvatelstva za obslužným vybavením sí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ýběr středisek na základě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statistických charakteristi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běr středis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druhů funkcí síd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řediskovost sídel určována na základě koncentrace druhů zařízení služeb v sídelních nebo podle výskytu specializovaných druhů zařízení (počet druhů zařízení obslužné sféry závisí na počtu obyvat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ce do 2 tis. obyv. jsou středisky výjimečně, obce nad 10 tis. téměř všech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přebytku významnosti síd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Přebytek významnost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rčuje střediskovost sídel na základě rozdílu mezi poskytovanými službami v sídle a potřebami obyvatel síd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rčení střediskovosti se opírá o ukazate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čet obslužných zaříz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pacita obslužných zaříz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bslužných zaříz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běr středisek na základě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dynamických charakteris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loženo hl. na údajích o spádovosti obyvatel za služb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užití pro výběr a hierarchické členění středis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užití pro určení rozsahu spádových území jednotlivých středis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užití pro zjištění intenzity vztahu střediska a jeho zázem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2 základní meto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nketární šetř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interakční mode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vlivu sfér na základě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anketárních 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 způsob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Anketa ve vybraných zařízeních obslužné sféry určitého středisk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 zjištění struktury spotřebitelů a motivace spád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Anketa ve všech sídlech zkoumané oblas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etodické problémy anket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ajištění reprezentativního vzorku, obvykle 1–2 % domácností zkoumaného územ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 rozsáhlých územích nelze takto stanovit, často realizace např. prostřednictvím obecních úřad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vlivu sfér na základě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rostorových interakčních mod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ravitační mod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tvořený na základě Newtonova gravitačního zák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pro vymezení spádových území obchodně obslužných středis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Interakce mezi dvěma středisky koncentrace obyvatelstva se mění přímo úměrně s počtem obyvatel těchto středisek a nepřímo úměrně se vzdáleností mezi ni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zději místo počtu obyvatel tzv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dukční proměnn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úroveň poptávky v sí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ná atraktivit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– úroveň nabídky v jiném sí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eillyho zákon maloobchodní gravit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2 města, která jsou středisky maloobchodu přitahují nakupující z okolních sídel přímo úměrně síle počtu obyvatel těchto měst a nepřímo úměrně síle vzdálenosti každého z těchto měst k okolním sídlů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dostatek – model nezahrnuje dopravní spojení, hustotu zalidnění, příjmovou diferenciaci obyvatel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hled do budouc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ůst významu sektoru služe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storová decentraliz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kračování lokalizace služeb v rámci periferně situovaných velkokapacitních obslužných center (nákupní centra, administrativní komplex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5" descr="az12.jpg"/>
          <p:cNvPicPr/>
          <p:nvPr/>
        </p:nvPicPr>
        <p:blipFill>
          <a:blip r:embed="rId1"/>
          <a:stretch/>
        </p:blipFill>
        <p:spPr>
          <a:xfrm>
            <a:off x="324000" y="4005360"/>
            <a:ext cx="347184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6" descr="olympie_small.jpg"/>
          <p:cNvPicPr/>
          <p:nvPr/>
        </p:nvPicPr>
        <p:blipFill>
          <a:blip r:embed="rId2"/>
          <a:stretch/>
        </p:blipFill>
        <p:spPr>
          <a:xfrm>
            <a:off x="3924360" y="4076640"/>
            <a:ext cx="4917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0"/>
          <p:cNvSpPr/>
          <p:nvPr/>
        </p:nvSpPr>
        <p:spPr>
          <a:xfrm>
            <a:off x="268200" y="333360"/>
            <a:ext cx="86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Základní charakteristiky významných služ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41520" y="1268280"/>
            <a:ext cx="781812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Dopra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Maloobch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stovní ru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eřejná sprá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IT služb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Logisti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ankovnictv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jišťovnictv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e služeb – úvod, základní pojmy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7640" y="980640"/>
            <a:ext cx="8785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ladá geografická disciplí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lužby za vývojem ostatních odvětv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vní práce o g. služeb v 30. letech 20. stole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Teorie centrálních míst (Christaller,  193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áklad pro g. služeb, g. sídel at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lužby jsou významným médiem reálně fungujících intersídelních vazeb, které rozřazují sídelní prostor do hierarchických úrovn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Takto lze vnímat územní obslužný systém za jeden funkční cele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c0504d"/>
                </a:solidFill>
                <a:latin typeface="Calibri"/>
              </a:rPr>
              <a:t>Základní princip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ierarchický princi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incip poklesu poptávky se vzdálenos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aždé obslužné středisko (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entrální místo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) vytváří a poskytuje zboží a služby (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entrální funkce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I idealizované homogenní rovině z hlediska hustoty zalidnění a dopravní dostupnosti je cena poskytovaného zboží a služeb diferencovaná pouze dopravními náklady, které se zvyšují se vzdáleností od centrálního mís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optávka klesá se vzdáleností a pro každé zboží lze sestrojit tzv. kužel poptávky – jehož promítnutím do území je kruhová obslužná obla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uhové oblasti nepokryjí celé území nebo vzniknou překryvy -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snaha o minimalizaci dopravních nákladů -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volba nejbližšího centrálního místa -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gt;v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nik pravidelné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6tiúhelníkové sítě obslužných oblas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christal7.gif"/>
          <p:cNvPicPr/>
          <p:nvPr/>
        </p:nvPicPr>
        <p:blipFill>
          <a:blip r:embed="rId1"/>
          <a:stretch/>
        </p:blipFill>
        <p:spPr>
          <a:xfrm>
            <a:off x="7062840" y="404640"/>
            <a:ext cx="1908000" cy="201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vod do geografie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vod do geografie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98100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hristallerova teorie předpokládá, že každé centrální místo vyššího řádu poskytuje rovněž zboží a služby všech nižších řád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kladem christallerovské koncepce je rozmístění obyvatelstva a 3-úrovňová struktura rozmístění služeb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ulačně největší města – obslužná střediska nejvyšší úrovně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ulačně středně velká města – obslužná střediska střední úrovn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ulačně nejmenší střediska – obslužná střediska lokální úrovn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0" r="0" b="48038"/>
          <a:stretch/>
        </p:blipFill>
        <p:spPr>
          <a:xfrm>
            <a:off x="1187280" y="3284640"/>
            <a:ext cx="7020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délník 3"/>
          <p:cNvSpPr/>
          <p:nvPr/>
        </p:nvSpPr>
        <p:spPr>
          <a:xfrm>
            <a:off x="684360" y="1150920"/>
            <a:ext cx="792000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ždé centrální místo je obklopeno 6 centry nejblíže nižšího řádu, umístěných ve vrcholech 6tiúhelníku jeho obslužné oblasti a obsluhuje 2 centrální místa nižšího řádu a 3 obslužné oblasti nižšího řádu 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íť K=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je organizována n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ákladě obslužného princi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šíření o dopravu 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íť K=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šížení na bázi administrativního principu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íť K=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Modifika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69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áh zbož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– minimální poptávka nutná k  existenci obchodního zařízení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hierarchie centrálních  míst vznikne jakýkoliv rozložením dostatečné poptá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69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69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rámci dynamického rozvoje služeb dochází k modifikaci rozložení služeb díky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 elasticitě spotřebitel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– dána užitím aut – nejbližší hierarchicky nadřazené středisko nemusí být jediným pro uspokojení potřeb obyvatel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vod do geografie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orie centrálních míst několikrát modifikována (Lösch 1940 –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eorie tržních zón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Haggett 1965…) – využití i v současné vědě a praxi –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haviorální přístup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= zkoumání chování spotřebitelů při výběru cílových míst, ve kterých nacházejí poptávané služ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eorie tržních z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azuje na to, že jde o uspořádání optimální pouze pro jedno zboží nebo služb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ierarchické uspořádání služeb je patrné i v rámci menších prostorových jednotek než jsou regiony (např. maloobchod velkých měs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489600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vod do geografie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8000" y="1196640"/>
            <a:ext cx="903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eorie centrálních míst i teorie tržních zón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loženy na těchto předpoklade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xistuje homogenní plochy s pravidelnou distribucí a kvalitou zemědělských podmínek a přírodních zdroj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e všech částech těchto ploch je hustota obyvatelstva stejná – tedy je stejná i volba zákazníků a nemění se ani technika výro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áklady na transport a hospodárnost se liší produkt od produ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 každého výrobku existuje specifická poptávková fun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pokládá se, že všichni výrobci se chovají racionál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kem obou uvedených modelů je, že jejich výsledky závisí na těžko splnitelném předpokladu rovnoměrného rozdělení zdrojů. Též náklady na transport se považují za stejné ve všech směrech. Nevýhodou modelů je i jejich statické pojet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5:17:11Z</dcterms:created>
  <dc:creator>klokan</dc:creator>
  <dc:description/>
  <dc:language>en-US</dc:language>
  <cp:lastModifiedBy>Svobodova</cp:lastModifiedBy>
  <dcterms:modified xsi:type="dcterms:W3CDTF">2013-09-18T11:22:06Z</dcterms:modified>
  <cp:revision>73</cp:revision>
  <dc:subject/>
  <dc:title>Geografie dopravy – úvod a základní pojmy.</dc:title>
</cp:coreProperties>
</file>