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14AD7-D776-4976-962A-D8CC110C6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BF637-F890-4405-9C49-AB2847FFC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332D6-1EBD-48F0-8366-6F057616C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80AA7-5497-4463-B5E4-167437E0E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7A694-B7DF-4E80-99C0-2F7CCE329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2D199-9240-42DA-88A1-A0F7FF1B4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9BCCD-AF90-4BB5-8E19-20E4D6DFB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C006E-F9BE-41CD-BEEB-73B9D8533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A11A8-B625-4FC5-9C92-B247F6B39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7876D-29F7-4804-AA2D-3799D532E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330F7-045E-4615-B359-D49DCF91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6C35E-AE8D-4F5D-94C4-67D0FB067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6DDB7-8B5C-434B-85DE-AC5944C7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2991B-B846-4AEA-8600-EF97BC69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2A5B2-2162-4809-8D88-DAE79796D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17A78-628A-4785-AD32-2689BCA85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886B0-78A9-40F9-AF7A-73301CF17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09343-9630-453A-89CD-9C27D5AEE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B9A2F-7715-48C6-BBA9-8B9212BF9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1B48D-4250-4C61-A16B-56DE339DC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16F3E-38C0-42F4-AF9E-95213665F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EA9CC-B009-493F-A92B-1BA46077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5290C-8798-45D2-A275-56C8490F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4A6F3-C2A5-4677-9DF3-15D63FA3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84DED-82EC-4936-8A00-4C7B60F22227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5C6B3-B8DC-4632-AF9B-10E4E8F08B3A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ffffff"/>
                </a:solidFill>
                <a:latin typeface="Arial"/>
              </a:rPr>
              <a:t>Výchovný poradce </a:t>
            </a:r>
            <a:br>
              <a:rPr sz="3500"/>
            </a:br>
            <a:r>
              <a:rPr b="1" lang="cs-CZ" sz="3500" spc="-1" strike="noStrike">
                <a:solidFill>
                  <a:srgbClr val="ffffff"/>
                </a:solidFill>
                <a:latin typeface="Arial"/>
              </a:rPr>
              <a:t>v systému poradenských služeb na základní škol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86421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ýchovný poradce v systému poradenských služeb – příklad dobré prax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avení výchovného poradce vyplývá             z organizačního řádu ško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innost výchovného poradce je dána náplní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áplň práce vyplývá z platné legislativy a           z potřeb ško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lavní oblasti činnosti jsou zakotveny ve statutu školního poradenského pracoviště (statut ŠPP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1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nkrétní činnosti výchovného poradce jsou na každý školní rok v plánu práce školního poradenského pracoviště, tento plán popisuje činnosti všech členů v jednotlivých oblastech, přílohou plánu je minimální preventivní program (plán práce ŠPP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chovný poradce píše na konci každého školního roku závěrečnou zprávu o činnosti školního poradenského pracoviště, ta se stává součástí závěrečné zprávy o činnosti školy (závěrečná zpráva ŠPP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000000"/>
                </a:solidFill>
                <a:uFillTx/>
                <a:latin typeface="Arial"/>
              </a:rPr>
              <a:t>Organizační struktura ško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člení školního poradenského pracoviště 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rganizační struktury škol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VEDENÍ ŠK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Organization Chart 38"/>
          <p:cNvGrpSpPr/>
          <p:nvPr/>
        </p:nvGrpSpPr>
        <p:grpSpPr>
          <a:xfrm>
            <a:off x="431640" y="3989520"/>
            <a:ext cx="8208360" cy="1799280"/>
            <a:chOff x="431640" y="3989520"/>
            <a:chExt cx="8208360" cy="1799280"/>
          </a:xfrm>
        </p:grpSpPr>
        <p:cxnSp>
          <p:nvCxnSpPr>
            <p:cNvPr id="113" name="_s1028"/>
            <p:cNvCxnSpPr>
              <a:stCxn id="114" idx="0"/>
              <a:endCxn id="115" idx="2"/>
            </p:cNvCxnSpPr>
            <p:nvPr/>
          </p:nvCxnSpPr>
          <p:spPr>
            <a:xfrm flipV="1" rot="16200000">
              <a:off x="5792040" y="3451680"/>
              <a:ext cx="360360" cy="2873520"/>
            </a:xfrm>
            <a:prstGeom prst="bentConnector3">
              <a:avLst>
                <a:gd name="adj1" fmla="val 318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6" name="_s1029"/>
            <p:cNvCxnSpPr>
              <a:stCxn id="117" idx="0"/>
              <a:endCxn id="115" idx="2"/>
            </p:cNvCxnSpPr>
            <p:nvPr/>
          </p:nvCxnSpPr>
          <p:spPr>
            <a:xfrm flipV="1">
              <a:off x="4536000" y="4708440"/>
              <a:ext cx="3600" cy="360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8" name="_s1030"/>
            <p:cNvCxnSpPr>
              <a:stCxn id="119" idx="0"/>
              <a:endCxn id="115" idx="2"/>
            </p:cNvCxnSpPr>
            <p:nvPr/>
          </p:nvCxnSpPr>
          <p:spPr>
            <a:xfrm flipH="1" flipV="1" rot="5400000">
              <a:off x="2919240" y="3452040"/>
              <a:ext cx="360360" cy="2873520"/>
            </a:xfrm>
            <a:prstGeom prst="bentConnector3">
              <a:avLst>
                <a:gd name="adj1" fmla="val 318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5" name="_s1031"/>
            <p:cNvSpPr/>
            <p:nvPr/>
          </p:nvSpPr>
          <p:spPr>
            <a:xfrm>
              <a:off x="3304440" y="3989520"/>
              <a:ext cx="2462400" cy="719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Ředitel škol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1032"/>
            <p:cNvSpPr/>
            <p:nvPr/>
          </p:nvSpPr>
          <p:spPr>
            <a:xfrm>
              <a:off x="431640" y="5069160"/>
              <a:ext cx="2462400" cy="719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ástupce ředitel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 1. stupe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033"/>
            <p:cNvSpPr/>
            <p:nvPr/>
          </p:nvSpPr>
          <p:spPr>
            <a:xfrm>
              <a:off x="3304440" y="5069160"/>
              <a:ext cx="2462400" cy="719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ástupce ředite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 2. stupe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034"/>
            <p:cNvSpPr/>
            <p:nvPr/>
          </p:nvSpPr>
          <p:spPr>
            <a:xfrm>
              <a:off x="6177600" y="5069160"/>
              <a:ext cx="2462400" cy="719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ýchovný porad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 vedoucí ŠPP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ŠKOLNÍ PORADENSKÉ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Organization Chart 3"/>
          <p:cNvGrpSpPr/>
          <p:nvPr/>
        </p:nvGrpSpPr>
        <p:grpSpPr>
          <a:xfrm>
            <a:off x="179280" y="1981080"/>
            <a:ext cx="8785080" cy="2671200"/>
            <a:chOff x="179280" y="1981080"/>
            <a:chExt cx="8785080" cy="2671200"/>
          </a:xfrm>
        </p:grpSpPr>
        <p:cxnSp>
          <p:nvCxnSpPr>
            <p:cNvPr id="122" name="_s2052"/>
            <p:cNvCxnSpPr>
              <a:stCxn id="123" idx="0"/>
              <a:endCxn id="124" idx="2"/>
            </p:cNvCxnSpPr>
            <p:nvPr/>
          </p:nvCxnSpPr>
          <p:spPr>
            <a:xfrm flipV="1" rot="16200000">
              <a:off x="6113160" y="1508040"/>
              <a:ext cx="534960" cy="3616920"/>
            </a:xfrm>
            <a:prstGeom prst="bentConnector3">
              <a:avLst>
                <a:gd name="adj1" fmla="val 2134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5" name="_s2053"/>
            <p:cNvCxnSpPr>
              <a:stCxn id="126" idx="0"/>
              <a:endCxn id="124" idx="2"/>
            </p:cNvCxnSpPr>
            <p:nvPr/>
          </p:nvCxnSpPr>
          <p:spPr>
            <a:xfrm flipV="1" rot="16200000">
              <a:off x="5210640" y="2410560"/>
              <a:ext cx="534960" cy="1811520"/>
            </a:xfrm>
            <a:prstGeom prst="bentConnector3">
              <a:avLst>
                <a:gd name="adj1" fmla="val 2134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7" name="_s2054"/>
            <p:cNvCxnSpPr>
              <a:stCxn id="128" idx="0"/>
              <a:endCxn id="124" idx="2"/>
            </p:cNvCxnSpPr>
            <p:nvPr/>
          </p:nvCxnSpPr>
          <p:spPr>
            <a:xfrm flipV="1" rot="16200000">
              <a:off x="4305960" y="3315240"/>
              <a:ext cx="534960" cy="2520"/>
            </a:xfrm>
            <a:prstGeom prst="bentConnector3">
              <a:avLst>
                <a:gd name="adj1" fmla="val 2134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9" name="_s2055"/>
            <p:cNvCxnSpPr>
              <a:stCxn id="130" idx="0"/>
              <a:endCxn id="124" idx="2"/>
            </p:cNvCxnSpPr>
            <p:nvPr/>
          </p:nvCxnSpPr>
          <p:spPr>
            <a:xfrm flipH="1" flipV="1" rot="5400000">
              <a:off x="3400200" y="2411640"/>
              <a:ext cx="534960" cy="1809720"/>
            </a:xfrm>
            <a:prstGeom prst="bentConnector3">
              <a:avLst>
                <a:gd name="adj1" fmla="val 2134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1" name="_s2056"/>
            <p:cNvCxnSpPr>
              <a:stCxn id="132" idx="0"/>
              <a:endCxn id="124" idx="2"/>
            </p:cNvCxnSpPr>
            <p:nvPr/>
          </p:nvCxnSpPr>
          <p:spPr>
            <a:xfrm flipH="1" flipV="1" rot="5400000">
              <a:off x="2496960" y="1508400"/>
              <a:ext cx="534960" cy="3616560"/>
            </a:xfrm>
            <a:prstGeom prst="bentConnector3">
              <a:avLst>
                <a:gd name="adj1" fmla="val 2134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4" name="_s2057"/>
            <p:cNvSpPr/>
            <p:nvPr/>
          </p:nvSpPr>
          <p:spPr>
            <a:xfrm>
              <a:off x="3795480" y="1981080"/>
              <a:ext cx="1550520" cy="10684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Výchovný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oradc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2058"/>
            <p:cNvSpPr/>
            <p:nvPr/>
          </p:nvSpPr>
          <p:spPr>
            <a:xfrm>
              <a:off x="179280" y="3583800"/>
              <a:ext cx="1550520" cy="10684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Školní speciální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edago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2059"/>
            <p:cNvSpPr/>
            <p:nvPr/>
          </p:nvSpPr>
          <p:spPr>
            <a:xfrm>
              <a:off x="1988280" y="3583800"/>
              <a:ext cx="1550520" cy="10684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Školní speciální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edagog - logope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2060"/>
            <p:cNvSpPr/>
            <p:nvPr/>
          </p:nvSpPr>
          <p:spPr>
            <a:xfrm>
              <a:off x="3797280" y="3583800"/>
              <a:ext cx="1550520" cy="10684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Školní metodik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revenc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2061"/>
            <p:cNvSpPr/>
            <p:nvPr/>
          </p:nvSpPr>
          <p:spPr>
            <a:xfrm>
              <a:off x="5606280" y="3583800"/>
              <a:ext cx="1550520" cy="10684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Školní psycholo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2062"/>
            <p:cNvSpPr/>
            <p:nvPr/>
          </p:nvSpPr>
          <p:spPr>
            <a:xfrm>
              <a:off x="7415640" y="3583800"/>
              <a:ext cx="1548720" cy="10684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Výchovný poradc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žáci s SVP + nadaní)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odmínky pro práci výchovného porad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edení školy má zájem o vytvoření fungujícího systému výchovného poradenství, je ochotno delegovat práva a povinnosti na VP a vytvářet mu podmínky pro jeho práci, podporovat jeho činnost (dávat důraz na plnění úkolů v této oblas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P je členem vedení školy, kde informuje           o činnosti v oblasti výchovného poradenství a podílí se na řešení nastalých problémových situací, některé řeší ve vlastní kompeten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esně formulované požadavky ŘŠ na VP – přesně stanovená pracovní náplň V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teriální zabezpečení činnosti VP – samostatná pracovna, prostor pro jednání se žáky, rodiči i učiteli, počítač, tiská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borná, pedagogická a osobnostní erudovanost výchovného porad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roblémy, se kterými jsem se potýka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sazování nových postupů v učitelském sboru, zajištění aby byl přístup učitelů k řešení zásadních problémů jednotný + zápisy z jedn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světlovaní novinek rodičovské veřej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ále větší časová náročnost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ále větší nároky na vedení administrati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asté změny v legislativě – nárůst počtu metodických pokynů, vyhlášek a nový školský zákon, časté novelizace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20:37:04Z</dcterms:created>
  <dc:creator>Uzivatel</dc:creator>
  <dc:description/>
  <dc:language>en-US</dc:language>
  <cp:lastModifiedBy>ION</cp:lastModifiedBy>
  <dcterms:modified xsi:type="dcterms:W3CDTF">2015-11-08T20:48:30Z</dcterms:modified>
  <cp:revision>90</cp:revision>
  <dc:subject/>
  <dc:title>Výchovný poradce  v systému poradenských služeb na ZŠ Rosice</dc:title>
</cp:coreProperties>
</file>