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DC390-2154-4223-A418-AEA24BB9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B82FD-69D7-4AF6-A8B5-9EB4884E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F698E-D735-4EBB-A261-A0EFAC66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3A15-7C12-4279-B297-ADB73CAE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6CE2-788B-49E9-AECD-7DD24ADE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6A88-377C-4408-8677-E050A742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7E53-4F46-4027-9E74-74EC0CD7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7A0F-92D7-4F2B-B0FA-87EA8525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465B-D524-4072-BF9B-4ECB7A02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5334-DE12-49E9-8500-69BE14EF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6873-6DD4-4183-8003-D05C6012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07AF7-1BBC-4C1D-876D-F5809FB5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6886-2233-4C93-8589-3528DB3B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9478-B81E-436C-9002-43C4399A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FCC0-20D7-4E60-A13F-EF56D416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18AB-1EEB-40CC-BE82-2912DF95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8EC0-3AE3-442E-9480-0FCA9518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B8985-D4C0-4E49-8E2F-1E41D422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3B1D-1BBA-4676-BD26-9FD2DFCF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1232-F3C2-4E10-BB14-0CB6DEEC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A59B1-3CD7-4DA6-9D66-22497452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EDA2-A30C-4DC8-A2F8-143CD16C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2F21A-D63B-406F-8A02-9D9ABB9D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3454-EA86-45A6-9F08-5D1D8A8C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D587-972E-4C1E-9A73-9262AAE44749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6890-6396-4D9A-9627-FF704EB277CD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ýchovný poradce </a:t>
            </a:r>
            <a:br>
              <a:rPr sz="3500"/>
            </a:b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 systému poradenských služeb na základní šk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chovný poradce v systému poradenských služeb – příklad dobré pr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výchovného poradce vyplývá             z organizačního řádu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 výchovného poradce je dána náplní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plň práce vyplývá z platné legislativy a           z potřeb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oblasti činnosti jsou zakotveny ve statutu školního poradenského pracoviště (statut ŠP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í činnosti výchovného poradce jsou na každý školní rok v plánu práce školního poradenského pracoviště, tento plán popisuje činnosti všech členů v jednotlivých oblastech, přílohou plánu je minimální preventivní program (plán práce ŠP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ný poradce píše na konci každého školního roku závěrečnou zprávu o činnosti školního poradenského pracoviště, ta se stává součástí závěrečné zprávy o činnosti školy (závěrečná zpráva ŠPP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Organizační struktura šk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člení školního poradenského pracoviště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struktury ško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EDENÍ ŠK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Organization Chart 38"/>
          <p:cNvGrpSpPr/>
          <p:nvPr/>
        </p:nvGrpSpPr>
        <p:grpSpPr>
          <a:xfrm>
            <a:off x="431640" y="3989520"/>
            <a:ext cx="8208360" cy="1799280"/>
            <a:chOff x="431640" y="3989520"/>
            <a:chExt cx="8208360" cy="1799280"/>
          </a:xfrm>
        </p:grpSpPr>
        <p:cxnSp>
          <p:nvCxnSpPr>
            <p:cNvPr id="113" name="_s1028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792040" y="3451680"/>
              <a:ext cx="360360" cy="2873520"/>
            </a:xfrm>
            <a:prstGeom prst="bentConnector3">
              <a:avLst>
                <a:gd name="adj1" fmla="val 31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9"/>
            <p:cNvCxnSpPr>
              <a:stCxn id="117" idx="0"/>
              <a:endCxn id="115" idx="2"/>
            </p:cNvCxnSpPr>
            <p:nvPr/>
          </p:nvCxnSpPr>
          <p:spPr>
            <a:xfrm flipV="1">
              <a:off x="4536000" y="4708440"/>
              <a:ext cx="3600" cy="36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30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2919240" y="3452040"/>
              <a:ext cx="360360" cy="2873520"/>
            </a:xfrm>
            <a:prstGeom prst="bentConnector3">
              <a:avLst>
                <a:gd name="adj1" fmla="val 31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31"/>
            <p:cNvSpPr/>
            <p:nvPr/>
          </p:nvSpPr>
          <p:spPr>
            <a:xfrm>
              <a:off x="3304440" y="398952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Ředitel ško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2"/>
            <p:cNvSpPr/>
            <p:nvPr/>
          </p:nvSpPr>
          <p:spPr>
            <a:xfrm>
              <a:off x="43164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ástupce ředite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 1. stupe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3"/>
            <p:cNvSpPr/>
            <p:nvPr/>
          </p:nvSpPr>
          <p:spPr>
            <a:xfrm>
              <a:off x="330444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ástupce ředit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 2. stupe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4"/>
            <p:cNvSpPr/>
            <p:nvPr/>
          </p:nvSpPr>
          <p:spPr>
            <a:xfrm>
              <a:off x="617760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chovný porad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vedoucí ŠP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ŠKOLNÍ PORADENSKÉ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179280" y="1981080"/>
            <a:ext cx="8785080" cy="2671200"/>
            <a:chOff x="179280" y="1981080"/>
            <a:chExt cx="8785080" cy="2671200"/>
          </a:xfrm>
        </p:grpSpPr>
        <p:cxnSp>
          <p:nvCxnSpPr>
            <p:cNvPr id="122" name="_s2052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6113160" y="1508040"/>
              <a:ext cx="534960" cy="36169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053"/>
            <p:cNvCxnSpPr>
              <a:stCxn id="126" idx="0"/>
              <a:endCxn id="124" idx="2"/>
            </p:cNvCxnSpPr>
            <p:nvPr/>
          </p:nvCxnSpPr>
          <p:spPr>
            <a:xfrm flipV="1" rot="16200000">
              <a:off x="5210640" y="2410560"/>
              <a:ext cx="534960" cy="18115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054"/>
            <p:cNvCxnSpPr>
              <a:stCxn id="128" idx="0"/>
              <a:endCxn id="124" idx="2"/>
            </p:cNvCxnSpPr>
            <p:nvPr/>
          </p:nvCxnSpPr>
          <p:spPr>
            <a:xfrm flipV="1" rot="16200000">
              <a:off x="4305960" y="3315240"/>
              <a:ext cx="534960" cy="25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055"/>
            <p:cNvCxnSpPr>
              <a:stCxn id="130" idx="0"/>
              <a:endCxn id="124" idx="2"/>
            </p:cNvCxnSpPr>
            <p:nvPr/>
          </p:nvCxnSpPr>
          <p:spPr>
            <a:xfrm flipH="1" flipV="1" rot="5400000">
              <a:off x="3400200" y="2411640"/>
              <a:ext cx="534960" cy="18097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2056"/>
            <p:cNvCxnSpPr>
              <a:stCxn id="132" idx="0"/>
              <a:endCxn id="124" idx="2"/>
            </p:cNvCxnSpPr>
            <p:nvPr/>
          </p:nvCxnSpPr>
          <p:spPr>
            <a:xfrm flipH="1" flipV="1" rot="5400000">
              <a:off x="2496960" y="1508400"/>
              <a:ext cx="534960" cy="361656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057"/>
            <p:cNvSpPr/>
            <p:nvPr/>
          </p:nvSpPr>
          <p:spPr>
            <a:xfrm>
              <a:off x="3795480" y="198108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ýchovný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rad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58"/>
            <p:cNvSpPr/>
            <p:nvPr/>
          </p:nvSpPr>
          <p:spPr>
            <a:xfrm>
              <a:off x="179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speciální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dag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9"/>
            <p:cNvSpPr/>
            <p:nvPr/>
          </p:nvSpPr>
          <p:spPr>
            <a:xfrm>
              <a:off x="1988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speciální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dagog - logope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60"/>
            <p:cNvSpPr/>
            <p:nvPr/>
          </p:nvSpPr>
          <p:spPr>
            <a:xfrm>
              <a:off x="3797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metodi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v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61"/>
            <p:cNvSpPr/>
            <p:nvPr/>
          </p:nvSpPr>
          <p:spPr>
            <a:xfrm>
              <a:off x="5606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psychol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62"/>
            <p:cNvSpPr/>
            <p:nvPr/>
          </p:nvSpPr>
          <p:spPr>
            <a:xfrm>
              <a:off x="7415640" y="3583800"/>
              <a:ext cx="15487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ýchovný porad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žáci s SVP + nadaní)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dmínky pro práci výchovného porad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dení školy má zájem o vytvoření fungujícího systému výchovného poradenství, je ochotno delegovat práva a povinnosti na VP a vytvářet mu podmínky pro jeho práci, podporovat jeho činnost (dávat důraz na plnění úkolů v této obla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 je členem vedení školy, kde informuje           o činnosti v oblasti výchovného poradenství a podílí se na řešení nastalých problémových situací, některé řeší ve vlastní kompet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sně formulované požadavky ŘŠ na VP – přesně stanovená pracovní náplň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riální zabezpečení činnosti VP – samostatná pracovna, prostor pro jednání se žáky, rodiči i učiteli, počítač, tiská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á, pedagogická a osobnostní erudovanost výchovného porad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blémy, se kterými jsem se potýka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azování nových postupů v učitelském sboru, zajištění aby byl přístup učitelů k řešení zásadních problémů jednotný + zápisy z jed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větlovaní novinek rodičovské veřej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časová náročnost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nároky na vedení administrat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té změny v legislativě – nárůst počtu metodických pokynů, vyhlášek a nový školský zákon, časté novelizac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5-11-08T20:48:30Z</dcterms:modified>
  <cp:revision>90</cp:revision>
  <dc:subject/>
  <dc:title>Výchovný poradce  v systému poradenských služeb na ZŠ Rosice</dc:title>
</cp:coreProperties>
</file>