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C60A-EB68-44A3-8420-E05A6D92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F019-C22F-463A-9E17-34A95E8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BB4F-4CAA-4404-8524-3FAC82B5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1AE1-2E2E-4A7B-B03F-3CAE043A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F675-5B40-40CA-BAE9-EE1E63F8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A9D4-213E-4BF3-AC78-5722D43B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07B-E829-41EB-ABD4-E77CB8ED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22CF-D81D-4530-B283-28506E66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0AFD-EBA9-4544-BC1E-180F4037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8E75-25A4-4F14-A042-6DAB0695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8A90-3224-469B-A9CC-7985B81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46635-8C42-421E-8CD7-2AD88D3F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6C97-4E98-4182-9B47-A72F2235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9298-D326-4E73-B072-93E1D3E2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B3C3-6031-4A77-94DC-C2809B34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2997-D79F-4878-9BE1-CA3B179F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EE19-A9FC-4DCC-BE89-4E2487C8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28B4-A1D2-4F8E-B103-4D281B4F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A83D8-13B4-4F5F-AFEE-AE62DD4A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669EE-5F11-48B8-8BF8-AC76CAE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C463-49BD-430C-8D50-02C55DBE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93510-7FBC-416B-A7B5-C06ECBA3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EF76-0A20-4A9D-8DA8-62BC0B1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C410-B74D-46D7-A485-D84C3820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5A86-D6E7-407A-B324-1199F315F15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3FBF-78DB-4E79-84CB-ACD46256D89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ýchovný poradce </a:t>
            </a:r>
            <a:br>
              <a:rPr sz="3500"/>
            </a:br>
            <a:r>
              <a:rPr b="1" lang="cs-CZ" sz="3500" spc="-1" strike="noStrike">
                <a:solidFill>
                  <a:srgbClr val="ffffff"/>
                </a:solidFill>
                <a:latin typeface="Arial"/>
              </a:rPr>
              <a:t>v systému poradenských služeb na základní šk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chovný poradce v systému poradenských služeb – příklad dobré pra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výchovného poradce vyplývá             z organizačního řádu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innost výchovného poradce je dána náp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plň práce vyplývá z platné legislativy a           z potřeb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oblasti činnosti jsou zakotveny ve statutu školního poradenského pracoviště (statut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činnosti výchovného poradce jsou na každý školní rok v plánu práce školního poradenského pracoviště, tento plán popisuje činnosti všech členů v jednotlivých oblastech, přílohou plánu je minimální preventivní program (plán práce ŠP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vný poradce píše na konci každého školního roku závěrečnou zprávu o činnosti školního poradenského pracoviště, ta se stává součástí závěrečné zprávy o činnosti školy (závěrečná zpráva ŠP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Organizační struktura ško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člení školního poradenského pracoviště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rganizační struktury ško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EDENÍ ŠK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Organization Chart 38"/>
          <p:cNvGrpSpPr/>
          <p:nvPr/>
        </p:nvGrpSpPr>
        <p:grpSpPr>
          <a:xfrm>
            <a:off x="431640" y="3989520"/>
            <a:ext cx="8208360" cy="1799280"/>
            <a:chOff x="431640" y="3989520"/>
            <a:chExt cx="8208360" cy="1799280"/>
          </a:xfrm>
        </p:grpSpPr>
        <p:cxnSp>
          <p:nvCxnSpPr>
            <p:cNvPr id="113" name="_s1028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792040" y="345168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1029"/>
            <p:cNvCxnSpPr>
              <a:stCxn id="117" idx="0"/>
              <a:endCxn id="115" idx="2"/>
            </p:cNvCxnSpPr>
            <p:nvPr/>
          </p:nvCxnSpPr>
          <p:spPr>
            <a:xfrm flipV="1">
              <a:off x="4536000" y="4708440"/>
              <a:ext cx="3600" cy="36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1030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919240" y="3452040"/>
              <a:ext cx="360360" cy="2873520"/>
            </a:xfrm>
            <a:prstGeom prst="bentConnector3">
              <a:avLst>
                <a:gd name="adj1" fmla="val 31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1031"/>
            <p:cNvSpPr/>
            <p:nvPr/>
          </p:nvSpPr>
          <p:spPr>
            <a:xfrm>
              <a:off x="3304440" y="398952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Ředitel ško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2"/>
            <p:cNvSpPr/>
            <p:nvPr/>
          </p:nvSpPr>
          <p:spPr>
            <a:xfrm>
              <a:off x="4316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1. stupe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3"/>
            <p:cNvSpPr/>
            <p:nvPr/>
          </p:nvSpPr>
          <p:spPr>
            <a:xfrm>
              <a:off x="330444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ástupce ředit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 2. stupe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4"/>
            <p:cNvSpPr/>
            <p:nvPr/>
          </p:nvSpPr>
          <p:spPr>
            <a:xfrm>
              <a:off x="6177600" y="5069160"/>
              <a:ext cx="2462400" cy="7196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vedoucí ŠP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ŠKOLNÍ PORADENSKÉ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179280" y="1981080"/>
            <a:ext cx="8785080" cy="2671200"/>
            <a:chOff x="179280" y="1981080"/>
            <a:chExt cx="8785080" cy="2671200"/>
          </a:xfrm>
        </p:grpSpPr>
        <p:cxnSp>
          <p:nvCxnSpPr>
            <p:cNvPr id="122" name="_s2052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6113160" y="1508040"/>
              <a:ext cx="534960" cy="36169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3"/>
            <p:cNvCxnSpPr>
              <a:stCxn id="126" idx="0"/>
              <a:endCxn id="124" idx="2"/>
            </p:cNvCxnSpPr>
            <p:nvPr/>
          </p:nvCxnSpPr>
          <p:spPr>
            <a:xfrm flipV="1" rot="16200000">
              <a:off x="5210640" y="2410560"/>
              <a:ext cx="534960" cy="1811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054"/>
            <p:cNvCxnSpPr>
              <a:stCxn id="128" idx="0"/>
              <a:endCxn id="124" idx="2"/>
            </p:cNvCxnSpPr>
            <p:nvPr/>
          </p:nvCxnSpPr>
          <p:spPr>
            <a:xfrm flipV="1" rot="16200000">
              <a:off x="4305960" y="3315240"/>
              <a:ext cx="534960" cy="25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055"/>
            <p:cNvCxnSpPr>
              <a:stCxn id="130" idx="0"/>
              <a:endCxn id="124" idx="2"/>
            </p:cNvCxnSpPr>
            <p:nvPr/>
          </p:nvCxnSpPr>
          <p:spPr>
            <a:xfrm flipH="1" flipV="1" rot="5400000">
              <a:off x="3400200" y="2411640"/>
              <a:ext cx="534960" cy="180972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2056"/>
            <p:cNvCxnSpPr>
              <a:stCxn id="132" idx="0"/>
              <a:endCxn id="124" idx="2"/>
            </p:cNvCxnSpPr>
            <p:nvPr/>
          </p:nvCxnSpPr>
          <p:spPr>
            <a:xfrm flipH="1" flipV="1" rot="5400000">
              <a:off x="2496960" y="1508400"/>
              <a:ext cx="534960" cy="3616560"/>
            </a:xfrm>
            <a:prstGeom prst="bentConnector3">
              <a:avLst>
                <a:gd name="adj1" fmla="val 2134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795480" y="198108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8"/>
            <p:cNvSpPr/>
            <p:nvPr/>
          </p:nvSpPr>
          <p:spPr>
            <a:xfrm>
              <a:off x="179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9"/>
            <p:cNvSpPr/>
            <p:nvPr/>
          </p:nvSpPr>
          <p:spPr>
            <a:xfrm>
              <a:off x="1988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speciální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dagog - logop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60"/>
            <p:cNvSpPr/>
            <p:nvPr/>
          </p:nvSpPr>
          <p:spPr>
            <a:xfrm>
              <a:off x="3797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metodi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v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61"/>
            <p:cNvSpPr/>
            <p:nvPr/>
          </p:nvSpPr>
          <p:spPr>
            <a:xfrm>
              <a:off x="5606280" y="3583800"/>
              <a:ext cx="15505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Školní psychol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062"/>
            <p:cNvSpPr/>
            <p:nvPr/>
          </p:nvSpPr>
          <p:spPr>
            <a:xfrm>
              <a:off x="7415640" y="3583800"/>
              <a:ext cx="1548720" cy="106848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Výchovný porad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žáci s SVP + nadaní)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odmínky pro práci výchovného porad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ní školy má zájem o vytvoření fungujícího systému výchovného poradenství, je ochotno delegovat práva a povinnosti na VP a vytvářet mu podmínky pro jeho práci, podporovat jeho činnost (dávat důraz na plnění úkolů v této obla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P je členem vedení školy, kde informuje           o činnosti v oblasti výchovného poradenství a podílí se na řešení nastalých problémových situací, některé řeší ve vlastní kompete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sně formulované požadavky ŘŠ na VP – přesně stanovená pracovní náplň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ní zabezpečení činnosti VP – samostatná pracovna, prostor pro jednání se žáky, rodiči i učiteli, počítač, tiská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á, pedagogická a osobnostní erudovanost výchovného porad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blémy, se kterými jsem se potýka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azování nových postupů v učitelském sboru, zajištění aby byl přístup učitelů k řešení zásadních problémů jednotný + zápisy z jed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větlovaní novinek rodičovské veřej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časová náročnost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ále větší nároky na vedení administrati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té změny v legislativě – nárůst počtu metodických pokynů, vyhlášek a nový školský zákon, časté novelizac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5-11-08T20:48:30Z</dcterms:modified>
  <cp:revision>90</cp:revision>
  <dc:subject/>
  <dc:title>Výchovný poradce  v systému poradenských služeb na ZŠ Rosice</dc:title>
</cp:coreProperties>
</file>