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F62931-E2F4-4086-8677-0844EA517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B6BBDB-B7A2-4576-BF15-C7CA5B16A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FE30AA-1833-455E-B985-EF59F48BF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6D074C-1DCF-4EAE-916A-CFBB90004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592DB-8A01-4B48-A93D-E368AA084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1F2BD-B0C5-44DA-8144-C82E4E9BF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2DE75-32F3-4415-9A99-C796A1AAC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1E5B3-DA65-4376-8CF3-697FDD91A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4EB35-ED46-4A2C-A75C-BB3607304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4B39A-D636-45AC-B9E7-A4E494A26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4773F-1083-4149-9191-149EAFF50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BA51A8-A8AC-4E6C-B6EB-2FC39E353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4C006-7BB8-4170-9962-866DA494A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43455-23AD-415E-BDE6-DBE5F713A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AA4EA-129A-4E5D-80A7-E6B08A3F9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15C07-AC9A-4771-8E9F-643A94F0D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3BD83-8759-4A5E-9944-5F182D43E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44C29D-E13B-46A2-AA37-3D2A85B9D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0E947B-EC6B-4212-92F6-5F8992E67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05B3A3-F1DA-459B-8D09-9A9F10FA4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ACA8A8-829E-42FF-8AFE-E724B782F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00D1E4-1C5A-450D-864A-16A432902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444670-28A2-4B91-AB22-53B8DB164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1AD2D-3967-4E82-AF94-88CF65010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EE375-7A1B-4ABB-B6DA-7724822AAEC5}" type="slidenum">
              <a:rPr b="0" lang="cs-CZ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D8D7A-57DE-4B9D-B5A9-4051FA9C55F7}" type="slidenum">
              <a:rPr b="0" lang="cs-CZ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500" spc="-1" strike="noStrike">
                <a:solidFill>
                  <a:srgbClr val="ffffff"/>
                </a:solidFill>
                <a:latin typeface="Arial"/>
              </a:rPr>
              <a:t>Výchovný poradce </a:t>
            </a:r>
            <a:br>
              <a:rPr sz="3500"/>
            </a:br>
            <a:r>
              <a:rPr b="1" lang="cs-CZ" sz="3500" spc="-1" strike="noStrike">
                <a:solidFill>
                  <a:srgbClr val="ffffff"/>
                </a:solidFill>
                <a:latin typeface="Arial"/>
              </a:rPr>
              <a:t>v systému poradenských služeb na základní škol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50920" y="476280"/>
            <a:ext cx="86421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ýchovný poradce v systému poradenských služeb – příklad dobré prax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stavení výchovného poradce vyplývá             z organizačního řádu ško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Činnost výchovného poradce je dána náplní prá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áplň práce vyplývá z platné legislativy a           z potřeb ško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lavní oblasti činnosti jsou zakotveny ve statutu školního poradenského pracoviště (statut ŠPP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517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onkrétní činnosti výchovného poradce jsou na každý školní rok v plánu práce školního poradenského pracoviště, tento plán popisuje činnosti všech členů v jednotlivých oblastech, přílohou plánu je minimální preventivní program (plán práce ŠPP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ýchovný poradce píše na konci každého školního roku závěrečnou zprávu o činnosti školního poradenského pracoviště, ta se stává součástí závěrečné zprávy o činnosti školy (závěrečná zpráva ŠPP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 u="sng">
                <a:solidFill>
                  <a:srgbClr val="000000"/>
                </a:solidFill>
                <a:uFillTx/>
                <a:latin typeface="Arial"/>
              </a:rPr>
              <a:t>Organizační struktura ško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86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ačlení školního poradenského pracoviště d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rganizační struktury škol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VEDENÍ ŠKO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Organization Chart 38"/>
          <p:cNvGrpSpPr/>
          <p:nvPr/>
        </p:nvGrpSpPr>
        <p:grpSpPr>
          <a:xfrm>
            <a:off x="431640" y="3989520"/>
            <a:ext cx="8208360" cy="1799280"/>
            <a:chOff x="431640" y="3989520"/>
            <a:chExt cx="8208360" cy="1799280"/>
          </a:xfrm>
        </p:grpSpPr>
        <p:cxnSp>
          <p:nvCxnSpPr>
            <p:cNvPr id="113" name="_s1028"/>
            <p:cNvCxnSpPr>
              <a:stCxn id="114" idx="0"/>
              <a:endCxn id="115" idx="2"/>
            </p:cNvCxnSpPr>
            <p:nvPr/>
          </p:nvCxnSpPr>
          <p:spPr>
            <a:xfrm flipV="1" rot="16200000">
              <a:off x="5792040" y="3451680"/>
              <a:ext cx="360360" cy="2873520"/>
            </a:xfrm>
            <a:prstGeom prst="bentConnector3">
              <a:avLst>
                <a:gd name="adj1" fmla="val 318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6" name="_s1029"/>
            <p:cNvCxnSpPr>
              <a:stCxn id="117" idx="0"/>
              <a:endCxn id="115" idx="2"/>
            </p:cNvCxnSpPr>
            <p:nvPr/>
          </p:nvCxnSpPr>
          <p:spPr>
            <a:xfrm flipV="1">
              <a:off x="4536000" y="4708440"/>
              <a:ext cx="3600" cy="360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8" name="_s1030"/>
            <p:cNvCxnSpPr>
              <a:stCxn id="119" idx="0"/>
              <a:endCxn id="115" idx="2"/>
            </p:cNvCxnSpPr>
            <p:nvPr/>
          </p:nvCxnSpPr>
          <p:spPr>
            <a:xfrm flipH="1" flipV="1" rot="5400000">
              <a:off x="2919240" y="3452040"/>
              <a:ext cx="360360" cy="2873520"/>
            </a:xfrm>
            <a:prstGeom prst="bentConnector3">
              <a:avLst>
                <a:gd name="adj1" fmla="val 318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15" name="_s1031"/>
            <p:cNvSpPr/>
            <p:nvPr/>
          </p:nvSpPr>
          <p:spPr>
            <a:xfrm>
              <a:off x="3304440" y="3989520"/>
              <a:ext cx="2462400" cy="71964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Ředitel škol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_s1032"/>
            <p:cNvSpPr/>
            <p:nvPr/>
          </p:nvSpPr>
          <p:spPr>
            <a:xfrm>
              <a:off x="431640" y="5069160"/>
              <a:ext cx="2462400" cy="71964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ástupce ředitel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ro 1. stupe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_s1033"/>
            <p:cNvSpPr/>
            <p:nvPr/>
          </p:nvSpPr>
          <p:spPr>
            <a:xfrm>
              <a:off x="3304440" y="5069160"/>
              <a:ext cx="2462400" cy="71964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ástupce ředite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ro 2. stupeň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_s1034"/>
            <p:cNvSpPr/>
            <p:nvPr/>
          </p:nvSpPr>
          <p:spPr>
            <a:xfrm>
              <a:off x="6177600" y="5069160"/>
              <a:ext cx="2462400" cy="71964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ýchovný porad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 vedoucí ŠPP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ŠKOLNÍ PORADENSKÉ PRACOVIŠ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Organization Chart 3"/>
          <p:cNvGrpSpPr/>
          <p:nvPr/>
        </p:nvGrpSpPr>
        <p:grpSpPr>
          <a:xfrm>
            <a:off x="179280" y="1981080"/>
            <a:ext cx="8785080" cy="2671200"/>
            <a:chOff x="179280" y="1981080"/>
            <a:chExt cx="8785080" cy="2671200"/>
          </a:xfrm>
        </p:grpSpPr>
        <p:cxnSp>
          <p:nvCxnSpPr>
            <p:cNvPr id="122" name="_s2052"/>
            <p:cNvCxnSpPr>
              <a:stCxn id="123" idx="0"/>
              <a:endCxn id="124" idx="2"/>
            </p:cNvCxnSpPr>
            <p:nvPr/>
          </p:nvCxnSpPr>
          <p:spPr>
            <a:xfrm flipV="1" rot="16200000">
              <a:off x="6113160" y="1508040"/>
              <a:ext cx="534960" cy="3616920"/>
            </a:xfrm>
            <a:prstGeom prst="bentConnector3">
              <a:avLst>
                <a:gd name="adj1" fmla="val 2134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5" name="_s2053"/>
            <p:cNvCxnSpPr>
              <a:stCxn id="126" idx="0"/>
              <a:endCxn id="124" idx="2"/>
            </p:cNvCxnSpPr>
            <p:nvPr/>
          </p:nvCxnSpPr>
          <p:spPr>
            <a:xfrm flipV="1" rot="16200000">
              <a:off x="5210640" y="2410560"/>
              <a:ext cx="534960" cy="1811520"/>
            </a:xfrm>
            <a:prstGeom prst="bentConnector3">
              <a:avLst>
                <a:gd name="adj1" fmla="val 2134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7" name="_s2054"/>
            <p:cNvCxnSpPr>
              <a:stCxn id="128" idx="0"/>
              <a:endCxn id="124" idx="2"/>
            </p:cNvCxnSpPr>
            <p:nvPr/>
          </p:nvCxnSpPr>
          <p:spPr>
            <a:xfrm flipV="1" rot="16200000">
              <a:off x="4305960" y="3315240"/>
              <a:ext cx="534960" cy="2520"/>
            </a:xfrm>
            <a:prstGeom prst="bentConnector3">
              <a:avLst>
                <a:gd name="adj1" fmla="val 2134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9" name="_s2055"/>
            <p:cNvCxnSpPr>
              <a:stCxn id="130" idx="0"/>
              <a:endCxn id="124" idx="2"/>
            </p:cNvCxnSpPr>
            <p:nvPr/>
          </p:nvCxnSpPr>
          <p:spPr>
            <a:xfrm flipH="1" flipV="1" rot="5400000">
              <a:off x="3400200" y="2411640"/>
              <a:ext cx="534960" cy="1809720"/>
            </a:xfrm>
            <a:prstGeom prst="bentConnector3">
              <a:avLst>
                <a:gd name="adj1" fmla="val 2134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1" name="_s2056"/>
            <p:cNvCxnSpPr>
              <a:stCxn id="132" idx="0"/>
              <a:endCxn id="124" idx="2"/>
            </p:cNvCxnSpPr>
            <p:nvPr/>
          </p:nvCxnSpPr>
          <p:spPr>
            <a:xfrm flipH="1" flipV="1" rot="5400000">
              <a:off x="2496960" y="1508400"/>
              <a:ext cx="534960" cy="3616560"/>
            </a:xfrm>
            <a:prstGeom prst="bentConnector3">
              <a:avLst>
                <a:gd name="adj1" fmla="val 21346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24" name="_s2057"/>
            <p:cNvSpPr/>
            <p:nvPr/>
          </p:nvSpPr>
          <p:spPr>
            <a:xfrm>
              <a:off x="3795480" y="1981080"/>
              <a:ext cx="1550520" cy="106848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Výchovný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poradc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_s2058"/>
            <p:cNvSpPr/>
            <p:nvPr/>
          </p:nvSpPr>
          <p:spPr>
            <a:xfrm>
              <a:off x="179280" y="3583800"/>
              <a:ext cx="1550520" cy="106848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Školní speciální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pedagog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_s2059"/>
            <p:cNvSpPr/>
            <p:nvPr/>
          </p:nvSpPr>
          <p:spPr>
            <a:xfrm>
              <a:off x="1988280" y="3583800"/>
              <a:ext cx="1550520" cy="106848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Školní speciální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pedagog - logoped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_s2060"/>
            <p:cNvSpPr/>
            <p:nvPr/>
          </p:nvSpPr>
          <p:spPr>
            <a:xfrm>
              <a:off x="3797280" y="3583800"/>
              <a:ext cx="1550520" cy="106848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Školní metodik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prevenc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_s2061"/>
            <p:cNvSpPr/>
            <p:nvPr/>
          </p:nvSpPr>
          <p:spPr>
            <a:xfrm>
              <a:off x="5606280" y="3583800"/>
              <a:ext cx="1550520" cy="106848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Školní psycholog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_s2062"/>
            <p:cNvSpPr/>
            <p:nvPr/>
          </p:nvSpPr>
          <p:spPr>
            <a:xfrm>
              <a:off x="7415640" y="3583800"/>
              <a:ext cx="1548720" cy="106848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Výchovný poradc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žáci s SVP + nadaní)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Podmínky pro práci výchovného porad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7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edení školy má zájem o vytvoření fungujícího systému výchovného poradenství, je ochotno delegovat práva a povinnosti na VP a vytvářet mu podmínky pro jeho práci, podporovat jeho činnost (dávat důraz na plnění úkolů v této oblast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P je členem vedení školy, kde informuje           o činnosti v oblasti výchovného poradenství a podílí se na řešení nastalých problémových situací, některé řeší ve vlastní kompeten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esně formulované požadavky ŘŠ na VP – přesně stanovená pracovní náplň V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ateriální zabezpečení činnosti VP – samostatná pracovna, prostor pro jednání se žáky, rodiči i učiteli, počítač, tiskár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borná, pedagogická a osobnostní erudovanost výchovného porad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Problémy, se kterými jsem se potýkal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sazování nových postupů v učitelském sboru, zajištění aby byl přístup učitelů k řešení zásadních problémů jednotný + zápisy z jedná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ysvětlovaní novinek rodičovské veřej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ále větší časová náročnost prá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ále větší nároky na vedení administrativ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časté změny v legislativě – nárůst počtu metodických pokynů, vyhlášek a nový školský zákon, časté novelizace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7T20:37:04Z</dcterms:created>
  <dc:creator>Uzivatel</dc:creator>
  <dc:description/>
  <dc:language>en-US</dc:language>
  <cp:lastModifiedBy>ION</cp:lastModifiedBy>
  <dcterms:modified xsi:type="dcterms:W3CDTF">2015-11-08T20:48:30Z</dcterms:modified>
  <cp:revision>90</cp:revision>
  <dc:subject/>
  <dc:title>Výchovný poradce  v systému poradenských služeb na ZŠ Rosice</dc:title>
</cp:coreProperties>
</file>