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7162A-2828-4543-8DF5-EB9B4EB24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3BBF9-BBC8-4A6F-BC78-54C1D5700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5C22C-3F37-464B-A680-63ED607CA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30A5D-74C2-4304-9911-04E2532DC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4650D-9F0C-4050-8B01-7FE14F649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3FBD7-F9CA-4B16-8C8B-98111581D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8043D-CEE1-469F-89D1-A5602CAD8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0BA81-1B5C-44C4-A73B-DE2D7455D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6EA84-802E-4B19-8A62-89B5B733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6ABF7-F474-4708-8FA7-9E3D35B10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6E7E9-B60A-4DB4-A4AD-6A9D7ACC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B85B2-DA5A-4E63-83A0-8EFAC1E9B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BBE7B-77DC-4C22-B361-99B34BCC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B509F-D333-4D5F-B449-EE36C3F2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3B0A7-D738-4541-BF23-46EE7329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6B4BF-EB6A-44EE-8642-C563CBFA2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9A45E-36E1-4AE4-AD75-668696A68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5DF4B-5E16-4693-8929-A6EFD984C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169DC-D916-463C-B82E-FD5FC8B34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052F8-2EDF-4C73-BA42-1B1833F85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08E9A-3A29-47F8-BCBF-CE6D0C65B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9EB22-74B0-4539-9639-11311606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10BC6-9C6F-47AF-8F1B-BA7A806F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42A56-7799-401E-96D3-0AAE1674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EBFE4-8F42-4E9C-8A92-683F9DFFAAA3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2894B-66F9-4162-BBCD-020311A709BE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 u="sng">
                <a:solidFill>
                  <a:srgbClr val="000000"/>
                </a:solidFill>
                <a:uFillTx/>
                <a:latin typeface="Arial"/>
              </a:rPr>
              <a:t>Program – 6. 11.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Arial"/>
              </a:rPr>
              <a:t>9.00 – 10.15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→ Oblasti činnosti výchovného poradce – péče o žáky se speciálními vzdělávacími potřebami – 2. část, péče o žáky nadané a žáky s neprospěche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10.15 – 10.30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 → přestávka </a:t>
            </a:r>
            <a:r>
              <a:rPr b="0" lang="cs-CZ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10.30 – 11.45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 → problémy spojené se školní docházkou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11.45 – 12.00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 → přestávka </a:t>
            </a:r>
            <a:r>
              <a:rPr b="0" lang="cs-CZ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Arial"/>
              </a:rPr>
              <a:t>12.00 – 13.00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→ kariérní poradenství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3. Oblast - řešení problémů spojených se školní docházk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 této oblasti patří řešení neomluvené absence a zvýšené omluvené abs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řešení neomluvené absen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je v souladu s metodickým pokynem k jednotnému postupu při uvolňování a omlouvání žáků z vyučování, prevenci a postihu záškoláctví, kázeňské postihy za neomluvenou absenci jsou přesně popsány ve školním řá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elice účinná je pro nás spolupráce s kurátorem pro mláde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od roku 2003 jsme se zabývali i zvýšenou omluvenou absenc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občas je za ní schované skryté záškoláctví, hlavním cílem v této oblasti je však prevence neprospěchu nebo zhoršování prospěchu, vedení žáků k povinnosti doplňovat si zameškané uč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kud absence přesáhne 100 hodin, vyvolá třídní učitel jednání buď sám nebo za přítomnosti výchovného poradce – vždy začíná jako preventivní pohovor, často vznikne prostor i pro řešení jiných problémů spojených se vzdělávání žá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 jednání o neomluvené i zvýšené omluvené absenci se vždy pořizuje zápis, jeho závěry jsou pro všechny strany závaz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šechny postupy a pravidla péče o žáky v této oblasti popisuje školní legislativa - Vnitřní předpis ZŠ Rosice pro řešení případů neomluvené absence a zvýšené omluvené abs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. Oblast - kariérní poraden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lavní úloha výchovného poradce → zprostředkovávání informací a administrativní činnosti, ne hodnocení a doporučování konkrétních středních šk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tenzivní práce je zaměřena na žáky 8. a 9. ročníků, potřebné informace míří i k zájemcům  o studium na víceletých gymnáziích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1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ůzkumy a návštěvy ve třídách - předání informací o typech škol, možnostech vzdělávání a následného uplatnění, organizaci přijímacího řízení, ap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formační nástěnky – informace o důležitých termínech, o přípravě k přijímacím zkouškám,    o typech škol, změnách v legislativě, vyplňování přihlášek, z úřadu práce, prezentace letáků ze škol, termíny dnů otevřených dveří, ap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prava podkladů na webové stránky ško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lánky do školního časopisu Rosník a místního časopisu Ro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rganizace Veletrhu středních škol na ZŠ Rosice – hlavní prezentační akce, možnost oslovit jak rodiče a žáky, tak zástupce středních šk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olupráce s náboráři pouze na této akci, výjimečně v rámci vyučování – narušování výu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ce organizačně náročná, ale velmi dobrá zpětná vaz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jišťování skupinových návštěv žáků v informačních a poradenských střediscích úřadu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rganizace vydávání zápisových lístků a jejich ev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rganizace podávání přihlášek – vydávání, kontrola, evidence, vrácení přihlášek žáků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hodnocování úspěšnosti přijímacího říz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dividuální konzultace pro žáky a rodič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5. Oblast - prevence a řešení závadového chování a sociálně patologických jev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blast prevence je hlavní náplní práce školního metodika prevence a podrobně je rozpracovaná v minimálním preventivním progr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ýchovný poradce se na této oblasti podílí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pravou a realizací adaptačního pobytu pro žáky 4. a 6. ročníků – kontakt se žáky → navázání pocitu vzájemné důvěry, lepší spolupráce se žáky při řešení případných problémů v budoucnu, odpočinek od „kancelářské práce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nzultace pro učitele a pomoc při řešení každodenních problémů – nekázeň žáků ve vyučování, problematická jednání s rodiči, ap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nzultace pro učitele při řešení problémů ve třídních kolektiv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dnávání hrubých přestupků proti školnímu řádu, podklady pro zápisy z jednání, účast na jednáních výchovné kom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olupráce s odborem sociální prevence – pokud škola vyčerpá všechny možnosti řešení problému a situace se nezlepší, má se kam obrátit (např. umísťování žáků na resocializační pobyty do středisek výchovné péč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 efektivnímu řešení závadového chování žáků je třeba, aby učitelé ve škole spolupracovali a sjednotili svoje postu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Základní   škola   Rosice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atut školního poradenského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Hlavní oblasti činnos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chova a vzdělávání žáků se specifickými vzdělávacími potřeba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éče o žáky nadané a žáky s neprospěc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blémy se školní docházkou – neomluvená a vysoká omluvená abs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iérní poradenství – profesní orientace žá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evence a řešení závadového chování a sociálně patologických jev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68000" y="691920"/>
            <a:ext cx="8218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 oblasti se vztahuje následující školní legislativa: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. Vnitřní předpis ZŠ Rosice ke sjednocení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dnocení a klasifikace ch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. Vnitřní předpis ZŠ Rosice k prevenci a řeš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šikanování mezi žá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3. Vnitřní předpis ZŠ Rosice pro post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 případě výskytu zneužívání, držení č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istribuce návykových lát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1. Oblast - výchova a vzdělávání žáků se specifickými vzdělávacími potřeba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zajišťování nebo zprostředkování diagnostiky speciálních vzdělávacích potřeb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→ koordinace vyšetření žáků ve školských poradenských zařízeních – vydávání dotazníků, kontrola jejich vyplnění, evidence, zajištění odeslání, evidence došlých zpráv, uložení hlavních závěrů do databáze, předání kopie zprávy z vyšetření 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todická pomoc při přípravě IVP pro integrované žáky – sledování vývoje legislativy, příprava podkladů pro tvorbu IVP – formulář a „kuchařka“ jak plán vytvoř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ntrola a evidence hotových IVP, vedení spisové dokument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íl na projednávání IVP s rodič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hodnocování efektivity – zpětná vazba od rodičů, třídních učitelů, případně učitelů jednotlivých předmětů i žáků, na základě vyhodnocení péče návrh odměn za péči o integrované žá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ůběžnou péči o tyto žáky zajišťují speciální pedagog a školní psycho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šechny postupy a pravidla péče o žáky s SVP popisuje školní legislativa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nitřní předpis ZŠ Rosice k integraci a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zdělávání žáků se speciálními vzdělávacím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třeba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. Vnitřní předpis ZŠ Rosice ke slovním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dnocení žáků se speciálními vzdělávacím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třeba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. Oblast - péče o nadané žáky a žáky      s neprospěc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ordinace vyhledávání žáků, jejichž vývoj a vzdělávání vyžadují zvláštní pozornost a přípravy návrhů na další péči o tyto žáky → vyhodnocování podnětů od TU, závěrů pedagogických r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ále větší pozornost je věnovaná mimořádně nadaným žákům – integrace mimořádně nadaných žáků a práce podle IV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 žáků s neprospěchem hledání příčin – nejčastěji nechuť žáků pracovat a plnit zadané úkoly – jako velmi účinné se ukázalo společné projednání problému za přítomnosti třídního učitele, vyučujícího problémového předmětu a zákonného zástupce za přítomnosti žá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dnání má povinnost vyvolat třídní učitel na konci 1. a 3. čtvrtletí pokud je žák z nějakého předmětu hodnocen 5 nebo 4 – 5, z jednání je vždy pořízen zápis, který podepíší všichni účastníci jedn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chovný poradce pouze eviduje zápisy z jednání a zasáhne pouze na žádost TU – např. pokud se současně projednává kázeňský problé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kud je příčinou jiný problém – např. rodinné problémy, špatné postavení v třídním kolektivu, nediagnostikované poruchy učení nebo chování apod. - pomáhá VP společně s třídním učitelem, případně zákonnými zástupci žáka, hledat řešen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1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šechny postupy a pravidla péče o žáky v této oblasti popisuje školní legislativa - Vnitřní předpis ZŠ Rosice k zajištění péče o žáky neprospívající a žáky mimořádně nada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20:37:04Z</dcterms:created>
  <dc:creator>Uzivatel</dc:creator>
  <dc:description/>
  <dc:language>en-US</dc:language>
  <cp:lastModifiedBy>ION</cp:lastModifiedBy>
  <dcterms:modified xsi:type="dcterms:W3CDTF">2015-11-08T20:54:29Z</dcterms:modified>
  <cp:revision>95</cp:revision>
  <dc:subject/>
  <dc:title>Výchovný poradce  v systému poradenských služeb na ZŠ Rosice</dc:title>
</cp:coreProperties>
</file>