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CE4D-4A60-472B-9610-365E5821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3D1E-1C88-429B-8B6A-F189D171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77B3-8B2A-4826-8F66-16B8E81B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9A84-C3DF-4C86-976D-98247098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D39C-7023-4F24-B64E-D32BBDF5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309B-E2B1-448E-916F-E20164E6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E070-63F0-4AD0-A819-98C95366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1F39-B2C7-43CC-8C29-5A975783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1473-019A-40D2-9CFB-D22FBFAA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DE29-DFC0-432C-A233-267DCBFF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2EA1-3579-43F9-8A5E-1D7CC94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BA9D-060E-4DC3-8537-F5471BA1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E620-5E3F-4EA6-81DD-EC77916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665-C3B1-427F-A15D-3EF9C88A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6FE2-6BA1-45E5-B493-0363F9F1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648-BEC4-48B7-9B7B-F54C7C11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C704-2E0E-4973-8D37-812DDFDA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EEA1-1CF1-401A-B5DA-BE87969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223D-0603-472E-82E7-4491734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9812-CEE9-4D75-AB77-9592278B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C6D7-7DE7-4C8C-8C24-4BB1681F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CCDE-2541-4542-B674-B7A1618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AE40-5594-4EB0-9F3B-8EAA26A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9A1E-2B19-403A-9157-C2C7A4B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4237-D35F-443A-9CDF-2B4902525B2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955-79F5-4601-8FA1-BA3EEBB75B2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6. 11.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Oblasti činnosti výchovného poradce – péče o žáky se speciálními vzdělávacími potřebami – 2. část, péče o žáky nadané a žáky s neprospěc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roblémy spojené se školní docházk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kariérní poradenst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Oblast - řešení problémů spojených se školní docház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této oblasti patří řešení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 neomluvené abs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 souladu s metodickým pokynem k jednotnému postupu při uvolňování a omlouvání žáků z vyučování, prevenci a postihu záškoláctví, kázeňské postihy za neomluvenou absenci jsou přesně popsány ve školním řá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ce účinná je pro nás spolupráce s kurátorem pro mláde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 roku 2003 jsme se zabývali i zvýšenou omluvenou absen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bčas je za ní schované skryté záškoláctví, hlavním cílem v této oblasti je však prevence neprospěchu nebo zhoršování prospěchu, vedení žáků k povinnosti doplňovat si zameškané uč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absence přesáhne 100 hodin, vyvolá třídní učitel jednání buď sám nebo za přítomnosti výchovného poradce – vždy začíná jako preventivní pohovor, často vznikne prostor i pro řešení jiných problémů spojených se vzdělávání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 jednání o neomluvené i zvýšené omluvené absenci se vždy pořizuje zápis, jeho závěry jsou pro všechny strany záva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pro řešení případů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. Oblast - kariér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loha výchovného poradce → zprostředkovávání informací a administrativní činnosti, ne hodnocení a doporučování konkrétních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 práce je zaměřena na žáky 8. a 9. ročníků, potřebné informace míří i k zájemcům  o studium na víceletých gymnázi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zkumy a návštěvy ve třídách - předání informací o typech škol, možnostech vzdělávání a následného uplatnění, organizaci přijímacího řízen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nástěnky – informace o důležitých termínech, o přípravě k přijímacím zkouškám,    o typech škol, změnách v legislativě, vyplňování přihlášek, z úřadu práce, prezentace letáků ze škol, termíny dnů otevřených dveř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podkladů na webové stránky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ánky do školního časopisu Rosník a místního časopisu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eletrhu středních škol na ZŠ Rosice – hlavní prezentační akce, možnost oslovit jak rodiče a žáky, tak zástupce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náboráři pouze na této akci, výjimečně v rámci vyučování – narušování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organizačně náročná, ale velmi dobrá zpětná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ování skupinových návštěv žáků v informačních a poradenských střediscích úřad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ydávání zápisových lístků a jejic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dávání přihlášek – vydávání, kontrola, evidence, vrácení přihlášek žá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úspěšnosti přijímac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viduální konzultace pro žáky a rodič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. Oblast - prevence a řešení závadového chování a sociálně patologických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 prevence je hlavní náplní práce školního metodika prevence a podrobně je rozpracovaná v minimálním preventivní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chovný poradce se na této oblasti podíl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ou a realizací adaptačního pobytu pro žáky 4. a 6. ročníků – kontakt se žáky → navázání pocitu vzájemné důvěry, lepší spolupráce se žáky při řešení případných problémů v budoucnu, odpočinek od „kancelářské prá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a pomoc při řešení každodenních problémů – nekázeň žáků ve vyučování, problematická jednání s rodiči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při řešení problémů ve třídních kolekt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dnávání hrubých přestupků proti školnímu řádu, podklady pro zápisy z jednání, účast na jednáních výchovn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odborem sociální prevence – pokud škola vyčerpá všechny možnosti řešení problému a situace se nezlepší, má se kam obrátit (např. umísťování žáků na resocializační pobyty do středisek výchovné péč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efektivnímu řešení závadového chování žáků je třeba, aby učitelé ve škole spolupracovali a sjednotili svoje po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  škola   Rosi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ut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Hlavní oblasti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a a vzdělávání žáků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žáky nadané a žáky s neprospě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e školní docházkou – neomluvená a vysoká omluvená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iérní poradenství – profesní orientace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 a řešení závadového chování a sociálně patologických jev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lasti se vztahuje následující školní legislativa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nitřní předpis ZŠ Rosice ke sjednocen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a klasifikace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 prevenci a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kanování mezi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nitřní předpis ZŠ Rosice pro pos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případě výskytu zneužívání, držení 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tribuce návykových lá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Oblast - výchova a vzdělávání žáků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ťování nebo zprostředkování diagnostiky speciálních vzdělávacích potř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oordinace vyšetření žáků ve školských poradenských zařízeních – vydávání dotazníků, kontrola jejich vyplnění, evidence, zajištění odeslání, evidence došlých zpráv, uložení hlavních závěrů do databáze, předání kopie zprávy z vyšetření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při přípravě IVP pro integrované žáky – sledování vývoje legislativy, příprava podkladů pro tvorbu IVP – formulář a „kuchařka“ jak plán vytvoř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evidence hotových IVP, vedení spisové dokument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na projednávání IVP s rod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efektivity – zpětná vazba od rodičů, třídních učitelů, případně učitelů jednotlivých předmětů i žáků, na základě vyhodnocení péče návrh odměn za péči o integrované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ou péči o tyto žáky zajišťují speciální pedagog a školní psych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s SVP popisuje školní legislativ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předpis ZŠ Rosice k integraci 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e slovním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Oblast - péče o nadané žáky a žáky      s neprospě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ce vyhledávání žáků, jejichž vývoj a vzdělávání vyžadují zvláštní pozornost a přípravy návrhů na další péči o tyto žáky → vyhodnocování podnětů od TU, závěrů pedagogických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pozornost je věnovaná mimořádně nadaným žákům – integrace mimořádně nadaných žáků a práce podle IV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žáků s neprospěchem hledání příčin – nejčastěji nechuť žáků pracovat a plnit zadané úkoly – jako velmi účinné se ukázalo společné projednání problému za přítomnosti třídního učitele, vyučujícího problémového předmětu a zákonného zástupce za přítomnosti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ní má povinnost vyvolat třídní učitel na konci 1. a 3. čtvrtletí pokud je žák z nějakého předmětu hodnocen 5 nebo 4 – 5, z jednání je vždy pořízen zápis, který podepíší všichni účastníci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ouze eviduje zápisy z jednání a zasáhne pouze na žádost TU – např. pokud se současně projednává kázeňský probl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říčinou jiný problém – např. rodinné problémy, špatné postavení v třídním kolektivu, nediagnostikované poruchy učení nebo chování apod. - pomáhá VP společně s třídním učitelem, případně zákonnými zástupci žáka, hledat řeš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k zajištění péče o žáky neprospívající a žáky mimořádně nad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54:29Z</dcterms:modified>
  <cp:revision>95</cp:revision>
  <dc:subject/>
  <dc:title>Výchovný poradce  v systému poradenských služeb na ZŠ Rosice</dc:title>
</cp:coreProperties>
</file>